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0597-DD8E-4295-BDA4-EA859AE4B3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D4F1-5446-49A9-8AD0-9C60C90D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1023-557E-45B7-A6CC-24028FD2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1CBE-C9CE-4054-BD4C-79AE939A41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1C3B-76E4-4658-8F9A-85F93307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EBA5-516D-4DA2-BA5D-C009F5B3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D11F-CFCA-4138-B3F7-CC9F71D7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AB24-9B10-49CA-9988-241F4F3B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DAF0-ED60-43BE-9828-B512E1D3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3720-CE19-44B5-AB45-25DD5A14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DECD-5AFC-44C3-AE69-CFFC1001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9749-0ACB-49F4-BB0F-C79B7B98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CC06-4331-4ED3-ACD6-95DCBE4C52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拟胆碱药和抗胆碱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胆碱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胆碱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完全拟胆碱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毛果芸香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iloca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：缩瞳 降低眼压 调节痉挛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点眼治疗青光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抗胆碱酯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易逆行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新斯的明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eostigm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重症肌无力、 术后腹胀气和尿潴留、 阵发性室上性心动过速、肌松药过量中毒解救、对抗阿拖品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吡斯的明、安具氯胺、加兰他敏、毒扁豆碱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难逆性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有机磷酸酯类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急性中毒表现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轻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为主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重度：除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，还有中枢神经系统症状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中毒解救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胆碱酯酶复活药：碘解磷定、氯解磷定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胆碱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阿托品类生物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阿托品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tro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东莨菪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和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</a:t>
            </a:r>
            <a:r>
              <a:rPr b="1" lang="en-US" sz="2800" spc="-1" strike="noStrike" baseline="-25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骨骼肌松弛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去极化型肌松药：琥珀胆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(scoline)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非去极化肌松药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筒箭毒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8:1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