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8A24E-9D47-44D5-AAEA-B99371F8D9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E99A3-6F38-4C41-B772-DA1A776B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CC72A-14AD-466C-BB01-ECEE8081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27E95-2B37-4DDC-82D7-1F7A3A9065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EB64-6ED8-47C8-A7D6-2E3DBC2C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DADF4-3897-41D3-B5BA-4409F24B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74AE-0D82-4096-B18B-EF084105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89EDD-C373-41E2-B32C-4A280858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0F60-90AF-46C0-887E-8DD0EF4A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2A295-5CF3-4A50-A29C-A2377D4C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FA2A9-1278-4E1D-B0CE-1035B30F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D3C7-B458-48B5-B4C6-1D4A5938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93E0-E964-4E28-9032-C34AFCAB1A5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56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效应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Times New Roman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的基本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基本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兴奋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选择性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在治疗剂量时，药物通常只选择性地对某一个或几个器官组织产生明显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的适应证取决于药物作用的选择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作用方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局部作用和吸收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直接作用和间接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临床效果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不良反应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副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毒性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变态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后遗效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继发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致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个体差异：个体之间对同一药物的反应可有明显差异称为药物作用的个体差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高敏性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耐受性（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toler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抗药性（耐药性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resist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量效关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剂量的概念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量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量反应和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量反应：药物效应凡能用具体数量来表示的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质反应：药物效应不能用数量表示，需用阴性或阳性、有或无来表示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指数：是用来估计一个药物安全性的指标，常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的比值表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机制和受体学说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从构效关系归纳作用机制的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细胞周围环境的理化条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参与或干扰细胞物质代谢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通过抑制或促进体内某些酶而起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细胞膜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体内生理递质激素的释放或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药物和受体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完全激动剂：药物与受体有较强的亲和力，并有较强的内在活性，能兴奋受体产生明显效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拮抗剂：药物与受体有较强的亲和力，没有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部分激动剂：药物与受体有亲和力，但只有弱的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相加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增强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对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06:2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