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1994E-43A4-4837-B318-5EDC9ED7F2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F3ED7-ACFF-4908-817C-03989C350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62605-6BEF-4703-805C-F3B20AE5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22AA5-14F4-4B2F-851F-D36467B6D0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6DE6F-6B3F-46E4-88B2-F319BFD99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BDE69-781B-4B40-A686-073D22B5D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443A4-243A-44AF-AADF-52BA58E87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DDE51-21B7-46D0-A6DA-55E6CECE2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11792-6DE3-4E5E-9073-ECB659FBC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3072B-ECC8-44C0-88CC-B60FF9EA9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B122D-D0DE-48C5-8F3D-C00A746FB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0CD9D-8900-4777-9064-FAA1565D4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C1334-9DD4-44FB-8663-A99C6E6226C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隶书"/>
              </a:rPr>
              <a:t>抗癫痫药和抗惊厥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br>
              <a:rPr sz="2800"/>
            </a:br>
            <a:r>
              <a:rPr b="1" lang="zh-CN" sz="2800" spc="-1" strike="noStrike">
                <a:solidFill>
                  <a:srgbClr val="969696"/>
                </a:solidFill>
                <a:latin typeface="华文新魏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Antiepilepsy Drugs and Anticonvulsa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755640" y="2276640"/>
            <a:ext cx="755964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抗癫痫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苯妥英钠是治疗癫痫强直</a:t>
            </a: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-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阵挛性发作（癫痫大发作）和局限性发作的首选药物。对精神运动发作亦有效，对失神小发作无效。静脉注射可治疗癫痫持续状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治疗外周神经痛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对三叉神经痛、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坐骨神经痛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有效，服药后疼痛减轻。该作用与稳定神经细胞膜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抗心律失常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见第二十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1322640" y="1556280"/>
            <a:ext cx="163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【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临床应用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4"/>
          <p:cNvSpPr/>
          <p:nvPr/>
        </p:nvSpPr>
        <p:spPr>
          <a:xfrm>
            <a:off x="826920" y="1989000"/>
            <a:ext cx="7632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本品呈碱性，口服后在消化道吸收。</a:t>
            </a:r>
            <a:r>
              <a:rPr b="0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静脉注射用于癫痫持续状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血浆蛋白结合率高（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85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％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90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％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肝代谢，约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%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原形由肾排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半衰期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2-24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小时，常规服药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6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天，可达稳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态血药浓度，有效血药浓度为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0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0μg/ml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r>
              <a:rPr b="0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1111680" y="1700280"/>
            <a:ext cx="163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体内过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611280" y="1268280"/>
            <a:ext cx="510516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隶书"/>
              </a:rPr>
              <a:t>不良反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和药疗监护须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611280" y="2133720"/>
            <a:ext cx="79246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胃肠道反应 恶心、呕吐、食欲缺乏、胃痛等。饭后服药，或以大量水送服可减轻反应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齿龈增生：长期应用能使齿龈增生，发生率约</a:t>
            </a: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40%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。此反应与部分药物从唾液排出，刺激胶原组织增生有关。注意口腔卫生可减轻此反应，经常按摩齿龈，可避免齿龈增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1" name="Picture 5" descr="20063815421111"/>
          <p:cNvPicPr/>
          <p:nvPr/>
        </p:nvPicPr>
        <p:blipFill>
          <a:blip r:embed="rId1"/>
          <a:stretch/>
        </p:blipFill>
        <p:spPr>
          <a:xfrm>
            <a:off x="4859280" y="4508640"/>
            <a:ext cx="2743200" cy="18968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10414874_432706"/>
          <p:cNvPicPr/>
          <p:nvPr/>
        </p:nvPicPr>
        <p:blipFill>
          <a:blip r:embed="rId2"/>
          <a:stretch/>
        </p:blipFill>
        <p:spPr>
          <a:xfrm>
            <a:off x="1763640" y="4508640"/>
            <a:ext cx="2795760" cy="17683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6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24000" y="2349000"/>
            <a:ext cx="861048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神经系统反应：较多见为头晕，剂量过大时出现眼球震颤、复视、发音障碍、共济失调。严重时可致精神错乱。调整剂量或停药后可消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．对造血系统的影响：长期用药可能因影响叶酸吸收和代谢而致巨幼细胞性贫血，也可引起粒细胞、血小板减少。罕见再生障碍性贫血。可用叶酸加维生素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B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  <a:ea typeface="隶书"/>
              </a:rPr>
              <a:t>12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防治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539640" y="1413000"/>
            <a:ext cx="5688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不良反应和药疗监护须知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755280" y="2349360"/>
            <a:ext cx="76201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过敏反应：皮疹常见。偶见剥脱性皮炎、系统性红斑狼疮，一旦出现这些反应，应立即停药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其他反应：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偶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致畸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，孕妇忌用。 本品为肝药酶诱导剂，可加速维生素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D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代谢失活，引起维生素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D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缺乏，而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软骨病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，故需同时服用钙剂和维生素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D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。对内分泌功能的影响可引起男性乳房增大、女性多毛症，故青少年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539640" y="1628640"/>
            <a:ext cx="568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不良反应和药疗监护须知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4"/>
          <p:cNvSpPr/>
          <p:nvPr/>
        </p:nvSpPr>
        <p:spPr>
          <a:xfrm>
            <a:off x="1204200" y="1557360"/>
            <a:ext cx="21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药物相互作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611280" y="2349360"/>
            <a:ext cx="7618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与苯妥英钠竞争血浆蛋白结合部位的药物</a:t>
            </a:r>
            <a:r>
              <a:rPr b="1" lang="zh-CN" sz="2400" spc="-1" strike="noStrike">
                <a:solidFill>
                  <a:srgbClr val="220ad4"/>
                </a:solidFill>
                <a:latin typeface="Arial"/>
                <a:ea typeface="隶书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丙戊酸钠、保泰松、磺胺类药物、水杨酸类、苯二氮卓类、口服抗凝血药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肝药酶抑制剂能提高苯妥英钠的血浓度</a:t>
            </a:r>
            <a:r>
              <a:rPr b="1" lang="zh-CN" sz="2400" spc="-1" strike="noStrike">
                <a:solidFill>
                  <a:srgbClr val="220ad4"/>
                </a:solidFill>
                <a:latin typeface="Arial"/>
                <a:ea typeface="隶书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氯霉素、异烟肼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肝药酶诱导剂可加速苯妥英钠的代谢</a:t>
            </a:r>
            <a:r>
              <a:rPr b="1" lang="zh-CN" sz="2400" spc="-1" strike="noStrike">
                <a:solidFill>
                  <a:srgbClr val="220ad4"/>
                </a:solidFill>
                <a:latin typeface="Arial"/>
                <a:ea typeface="隶书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苯巴比妥、卡马西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本身具有肝药酶诱导作用，能加速皮质类固醇、避孕药等的代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3284640"/>
            <a:ext cx="7696080" cy="207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作用特点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br>
              <a:rPr sz="2400"/>
            </a:b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既能抑制病灶异常放电，又能限制异常放电的扩散。</a:t>
            </a:r>
            <a:br>
              <a:rPr sz="2400"/>
            </a:b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对强直阵挛性发作、单纯部分性发作、发热惊厥、癫痫持续状态均有预防及治疗作用。对复杂部分性发作往往无效。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1187280" y="1844640"/>
            <a:ext cx="6481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苯巴比妥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phenobarbital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1187280" y="2133720"/>
            <a:ext cx="5472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又名鲁米那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(luminal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4433400" y="33336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611280" y="1700280"/>
            <a:ext cx="8064360" cy="23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体内过程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苯巴比妥呈弱酸性，难溶于水，口服吸收完全。约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5%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与血浆蛋白结合。苯巴比妥部分被代谢，部分以原形从尿中排出。血药浓度与剂量有密切关系，长期用药后血浆和脑中药物浓度相似，并保持稳定，</a:t>
            </a:r>
            <a:r>
              <a:rPr b="1" i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t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隶书"/>
                <a:ea typeface="隶书"/>
              </a:rPr>
              <a:t>1/2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为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90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小时。有效治疗浓度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0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0μg/ml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，中毒浓度为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0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60μg/ml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6804000" y="404640"/>
            <a:ext cx="203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苯巴比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539280" y="1267920"/>
            <a:ext cx="84250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不良反应和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神经毒性</a:t>
            </a: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:①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本药最常见的反应为嗜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         ②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兴奋多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         ③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眼球震颤，发音障碍及共济失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         ④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学习能力下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         ⑤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停药反应：情绪不稳、嗜睡、震颤、出汗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         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精神错乱、癫痫发作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血液系统：可致巨幼细胞贫血及凝血障碍。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查血象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少数病人有过敏反应：如皮疹、黄疸、高热、粒细胞缺乏、剥脱性皮炎。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停药</a:t>
            </a:r>
            <a:r>
              <a:rPr b="1" lang="zh-CN" sz="2400" spc="-1" strike="noStrike">
                <a:solidFill>
                  <a:srgbClr val="8ac8de"/>
                </a:solidFill>
                <a:latin typeface="隶书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骨骼肌：可致骨软化及佝偻病等。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补充钙片及维生素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D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对有严重的心、肺、肝、肾疾病的患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6804000" y="333360"/>
            <a:ext cx="203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苯巴比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药物相互作用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苯巴比妥可加强其他药物如抗组胺药、镇痛药、麻醉药及其他镇静催眠药等的中枢抑制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苯巴比妥是肝药酶的诱导剂，使许多药代谢加快，血浓度减少，如双香豆素、苯妥英钠，保泰松、氯丙嗪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丙戊酸钠、双硫醒、卡马西平和单胺氧化酶制剂可抑制苯巴比妥的代谢，使后者血浓度升高，延长药物作用，甚至产生中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6732720" y="333360"/>
            <a:ext cx="20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苯巴比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隶书"/>
              </a:rPr>
              <a:t>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隶书"/>
              </a:rPr>
              <a:t>学习内容和要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4000" y="1341000"/>
            <a:ext cx="7799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掌握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1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苯妥英钠、丙戊酸钠、乙琥胺、卡马西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平、苯巴比妥等抗癫痫作用特点、临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应用及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抗惊厥药硫酸镁药理作用、作用机制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熟悉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1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癫痫的发病机理及其分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各类抗癫痫药用药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了解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 1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抗癫痫药的临床应用原则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硫酸镁的不良反应和中毒的抢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395280" y="1916280"/>
            <a:ext cx="799308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又名去氧苯巴比妥、麦苏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√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扑米酮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在体内代谢转化为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苯巴比妥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苯乙基丙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二酰胺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药物原型和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个代谢产物均有抗癫痫作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用。疗效较高</a:t>
            </a:r>
            <a:r>
              <a:rPr b="0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一次给药后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小时血药浓度达高峰。半衰期约为（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2±6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）小时，血内浓度达到稳定状态的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间约需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天。有效血药浓度为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0μg/ml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主要用于强直阵挛性发作、单纯及复杂部分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发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590920" y="1371600"/>
            <a:ext cx="403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2050920" y="126828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扑米酮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primidon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6155640" y="33336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【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作用特点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乙琥胺能提高脑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GABA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的水平。主要用于小发作，特别是失神小发作，对肌阵挛及婴儿痉挛也有一些效果。对强直性阵挛性发作无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【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体内过程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口服吸收完全，达高峰浓度时间为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。在组织内均匀分布，但在脂肪组织内较少。乙琥胺在血浆内与蛋白结合极少，脑脊液内浓度与血浆浓度相似。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0%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20%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口服量以原型由尿排出，其余以代谢物形式排出。成人半衰期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60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，儿童平均为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30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。血浓度达稳态浓度约需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5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8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天。有效血药浓度为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0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00mg/ml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6082560" y="40464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2247480" y="1125360"/>
            <a:ext cx="39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乙琥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Ethosuximid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1958760" y="1268280"/>
            <a:ext cx="39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乙琥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Ethosuximid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900000" y="1628640"/>
            <a:ext cx="723924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【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不良反应和药疗监护须知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乙琥胺较安全，不良反应少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46ca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胃肠道反应最常见，恶心、呕吐、食欲缺乏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为中枢神经症状，有头晕、乏力、嗜睡、欣快、幻觉及注意力下降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偶有造血功能障碍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5812920" y="26028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4"/>
          <p:cNvSpPr/>
          <p:nvPr/>
        </p:nvSpPr>
        <p:spPr>
          <a:xfrm>
            <a:off x="2114640" y="1341360"/>
            <a:ext cx="45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卡马西平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Carbamazepin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755640" y="2060640"/>
            <a:ext cx="770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又名氨甲酰氮 、酰胺咪嗪，商品名：得理多（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tegretal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作用特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本药是亚氨基二苯乙烯的衍生物，作用机制尚未明确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可能与其抑制海马、网状结构、下丘脑和杏仁核的异常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放电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本药抗癫痫作用较广谱。最适合治疗复杂部分性发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作，也可用于对其它药无效的强直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-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阵挛性发作及各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部分性发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治疗三叉神经痛的效果优于苯妥英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有取代苯妥英钠趋势。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5962320" y="26028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5"/>
          <p:cNvSpPr/>
          <p:nvPr/>
        </p:nvSpPr>
        <p:spPr>
          <a:xfrm>
            <a:off x="755640" y="2133720"/>
            <a:ext cx="748836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体内过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卡马西平口服吸收不完全。服药后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2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血浆浓度达到最高峰，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70%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与血浆蛋白结合。脑中浓度与血浆中的浓度相等或后者稍高。半衰期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8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天。血浓度达到稳态浓度的时间需要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2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天。约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0%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以原型从尿中排出。有效血药浓度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4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0μg/ml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2041920" y="1413000"/>
            <a:ext cx="45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卡马西平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Carbamazepin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6148080" y="33336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4"/>
          <p:cNvSpPr/>
          <p:nvPr/>
        </p:nvSpPr>
        <p:spPr>
          <a:xfrm>
            <a:off x="5962320" y="40464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1825920" y="1268280"/>
            <a:ext cx="45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卡马西平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Carbamazepin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468360" y="2056320"/>
            <a:ext cx="8207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不良反应和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神经系统：头晕、嗜睡、视力模糊、复视或平衡障碍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引起共济失调，停药后可消失。老年人易出现精神症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状， 需注意观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血液系统：偶见粒细胞减少或增多、血小板减少、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生障碍性贫血。查血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胃肠道症状：食欲缺乏、  恶心及呕吐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皮肤反应：皮疹，一般不需停药。剥脱性皮炎较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见， 一旦发生需停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其他：有报道服用卡马西平可引起水中毒。本药对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有致畸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4"/>
          <p:cNvSpPr/>
          <p:nvPr/>
        </p:nvSpPr>
        <p:spPr>
          <a:xfrm>
            <a:off x="2110680" y="1413000"/>
            <a:ext cx="47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丙戊酸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sodium valpro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1116000" y="2133720"/>
            <a:ext cx="7201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又名癫痫灵，商品名：德巴金。早年作有机溶剂用，后发现其本身即具有抗惊厥作用，而且对大多数动物惊厥模型都有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6148080" y="33336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" name="Picture 8" descr=""/>
          <p:cNvPicPr/>
          <p:nvPr/>
        </p:nvPicPr>
        <p:blipFill>
          <a:blip r:embed="rId1"/>
          <a:stretch/>
        </p:blipFill>
        <p:spPr>
          <a:xfrm>
            <a:off x="2556000" y="4221000"/>
            <a:ext cx="39528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4"/>
          <p:cNvSpPr/>
          <p:nvPr/>
        </p:nvSpPr>
        <p:spPr>
          <a:xfrm>
            <a:off x="1894680" y="1197000"/>
            <a:ext cx="47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丙戊酸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sodium valpro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684360" y="1773360"/>
            <a:ext cx="777528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【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作用特点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46ca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不抑制病灶放电，但能阻止病灶异常放电的扩散。主要是竞争性抑制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γ-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氨基丁酸转氨酶的活性，从而提高脑内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GAB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的浓度。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脱羧酶              转氨酶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谷氨酸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GABA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琥珀酸半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丙戊酸钠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广谱抗癫痫药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。对各种类型癫痫均有不同程度疗效。它是大发作合并小发作时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首选药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对其他药物未能控制的顽固性癫痫亦有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4793760" y="33336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2987640" y="4076640"/>
            <a:ext cx="863640" cy="0"/>
          </a:xfrm>
          <a:prstGeom prst="line">
            <a:avLst/>
          </a:prstGeom>
          <a:ln w="255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Line 8"/>
          <p:cNvSpPr/>
          <p:nvPr/>
        </p:nvSpPr>
        <p:spPr>
          <a:xfrm>
            <a:off x="5003640" y="4076640"/>
            <a:ext cx="1152720" cy="0"/>
          </a:xfrm>
          <a:prstGeom prst="line">
            <a:avLst/>
          </a:prstGeom>
          <a:ln w="255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24000" y="2421000"/>
            <a:ext cx="861048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【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体内过程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口服吸收快，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血浆浓度达高峰。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90%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与血浆蛋白结合，在肝代谢，由尿排出。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t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  <a:ea typeface="隶书"/>
              </a:rPr>
              <a:t>1/2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8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5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，达到稳态血药浓度需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2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天。有效血药浓度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50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00μg/ml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5003280" y="333000"/>
            <a:ext cx="3745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1894680" y="1484280"/>
            <a:ext cx="47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丙戊酸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sodium valpro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4"/>
          <p:cNvSpPr/>
          <p:nvPr/>
        </p:nvSpPr>
        <p:spPr>
          <a:xfrm>
            <a:off x="755640" y="2205000"/>
            <a:ext cx="77040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不良反应和用药监护须知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胃肠道反应：食欲缺乏、恶心、呕吐等。饭后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体重增加：原因不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血液系统：可见血小板减少和功能异常报道。定期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血小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肝毒性：可使转氨酶升高。定期查肝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致畸形：特别是脊柱裂的发生与丙戊酸钠服用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妊娠早期禁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6.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有共济失调时注意搀扶患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4067280" y="333360"/>
            <a:ext cx="49194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1894680" y="1413000"/>
            <a:ext cx="47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丙戊酸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sodium valpro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00360" y="304560"/>
            <a:ext cx="4414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 抗癫痫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癫痫俗称羊角风，是由于大脑局部病灶神经元突发性的异常高频放电，并向周围正常脑组织扩散，引起的大脑功能短暂失调的临床综合征。其发作具有突然性、短暂性、反复性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个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表现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突然发作，意识丧失，跌倒在地，肢体阵挛性抽搐，运动感觉意识、植物神经、精神等障碍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并伴有异常脑电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0" name="Picture 5" descr="images"/>
          <p:cNvPicPr/>
          <p:nvPr/>
        </p:nvPicPr>
        <p:blipFill>
          <a:blip r:embed="rId1"/>
          <a:stretch/>
        </p:blipFill>
        <p:spPr>
          <a:xfrm>
            <a:off x="5796000" y="4221000"/>
            <a:ext cx="2743200" cy="2189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自画图"/>
          <p:cNvPicPr/>
          <p:nvPr/>
        </p:nvPicPr>
        <p:blipFill>
          <a:blip r:embed="rId2"/>
          <a:stretch/>
        </p:blipFill>
        <p:spPr>
          <a:xfrm>
            <a:off x="1547640" y="4508640"/>
            <a:ext cx="2167200" cy="1995480"/>
          </a:xfrm>
          <a:prstGeom prst="rect">
            <a:avLst/>
          </a:prstGeom>
          <a:ln w="0">
            <a:noFill/>
          </a:ln>
        </p:spPr>
      </p:pic>
      <p:sp>
        <p:nvSpPr>
          <p:cNvPr id="112" name="Line 7"/>
          <p:cNvSpPr/>
          <p:nvPr/>
        </p:nvSpPr>
        <p:spPr>
          <a:xfrm flipV="1">
            <a:off x="3203640" y="4869000"/>
            <a:ext cx="792000" cy="727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4245480" y="46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隶书"/>
              </a:rPr>
              <a:t>正常脑细</a:t>
            </a:r>
            <a:r>
              <a:rPr b="1" lang="zh-CN" sz="1800" spc="-1" strike="noStrike">
                <a:solidFill>
                  <a:srgbClr val="220ad4"/>
                </a:solidFill>
                <a:latin typeface="Arial"/>
                <a:ea typeface="隶书"/>
              </a:rPr>
              <a:t>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隶书"/>
              </a:rPr>
              <a:t>胞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Line 9"/>
          <p:cNvSpPr/>
          <p:nvPr/>
        </p:nvSpPr>
        <p:spPr>
          <a:xfrm>
            <a:off x="2700360" y="5445000"/>
            <a:ext cx="180036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4471920" y="52372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隶书"/>
              </a:rPr>
              <a:t>病灶</a:t>
            </a:r>
            <a:r>
              <a:rPr b="1" lang="zh-CN" sz="2000" spc="-1" strike="noStrike">
                <a:solidFill>
                  <a:srgbClr val="220ad4"/>
                </a:solidFill>
                <a:latin typeface="Arial"/>
                <a:ea typeface="隶书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1"/>
          <p:cNvSpPr/>
          <p:nvPr/>
        </p:nvSpPr>
        <p:spPr>
          <a:xfrm>
            <a:off x="2700360" y="5877000"/>
            <a:ext cx="15112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4554720" y="572292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隶书"/>
              </a:rPr>
              <a:t>异常高频放电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3549960" y="11494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苯二氮卓类</a:t>
            </a:r>
            <a:r>
              <a:rPr b="1" lang="zh-CN" sz="3200" spc="-1" strike="noStrike">
                <a:solidFill>
                  <a:srgbClr val="c80ebb"/>
                </a:solidFill>
                <a:latin typeface="Arial"/>
                <a:ea typeface="隶书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611280" y="1844640"/>
            <a:ext cx="80010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隶书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地西泮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是治疗癫痫持续状态的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首选药物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，具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有显效快、较其他药物安全的优点。静注偶致呼吸抑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硝西泮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主要用于肌阵挛性发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氯硝西泮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可用于各型癫痫，尤其用于小发作，静脉注射也用于治疗癫痫持续状态。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对肌阵挛发作、失神发作，对部分性发作和强直阵挛性发作也有效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5110200" y="333360"/>
            <a:ext cx="4033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托吡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Topiram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通过阻滞电压激活性钠通道，提高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GABA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激活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GABA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受体及拮抗谷氨酸受体亚型而起到抗癫痫作用。主要用于部分性发作、继发性全面发作、婴儿痉挛症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拉莫三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lamotrig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通过阻滞电压依赖性钠通道，稳定突触前膜起到抗癫痫作用。对各种类型发作均有效，尤其对失神发作，不典型失神发作以及失张力发作疗效最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4932360" y="333360"/>
            <a:ext cx="49197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4"/>
          <p:cNvSpPr/>
          <p:nvPr/>
        </p:nvSpPr>
        <p:spPr>
          <a:xfrm>
            <a:off x="1276920" y="18684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抗癫痫药应用注意</a:t>
            </a:r>
            <a:r>
              <a:rPr b="1" lang="zh-CN" sz="3200" spc="-1" strike="noStrike">
                <a:solidFill>
                  <a:srgbClr val="c80ebb"/>
                </a:solidFill>
                <a:latin typeface="Arial"/>
                <a:ea typeface="隶书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44"/>
          <p:cNvSpPr/>
          <p:nvPr/>
        </p:nvSpPr>
        <p:spPr>
          <a:xfrm>
            <a:off x="5398920" y="333360"/>
            <a:ext cx="37450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45"/>
          <p:cNvSpPr/>
          <p:nvPr/>
        </p:nvSpPr>
        <p:spPr>
          <a:xfrm>
            <a:off x="611280" y="2565360"/>
            <a:ext cx="7775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根据发作类型选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是否联合用药？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单纯性癫痫最好选用一种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效药物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长期用药不得突然停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不随意换药，过渡式换药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!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定期查血象、肝肾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有可能致畸、死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"/>
          <p:cNvSpPr/>
          <p:nvPr/>
        </p:nvSpPr>
        <p:spPr>
          <a:xfrm>
            <a:off x="1532520" y="1628640"/>
            <a:ext cx="54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抗惊厥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anticonvulsion drugs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684360" y="2349360"/>
            <a:ext cx="74674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惊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(convulsion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：由各种原因（高热、子痫、破伤风、癫痫大发作及某些药物中毒等）引起的中枢神经系统过度兴奋的一种症状，表现为全身骨骼肌不自主的强烈收缩，呈强直性或阵挛性抽搐，为一临床急症，需紧急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常用药物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：巴比妥类、苯二氮卓类、水合氯醛、硫酸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3740400" y="981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隶书"/>
              </a:rPr>
              <a:t>第二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4"/>
          <p:cNvSpPr/>
          <p:nvPr/>
        </p:nvSpPr>
        <p:spPr>
          <a:xfrm>
            <a:off x="2257560" y="1268280"/>
            <a:ext cx="46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硫酸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magnesium sulf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826920" y="2133720"/>
            <a:ext cx="76089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特点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给药途径不同，作用性质、用途不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口服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下泻、利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泻药（驱虫、排毒），十二指肠胆汁引流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注射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抗惊厥、降压、 中枢抑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主要用于子痫（首选）、破伤风等引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的惊厥及高血压危象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局部外用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50%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高渗溶液湿敷消炎消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5989320" y="2811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二节 抗惊厥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4"/>
          <p:cNvSpPr/>
          <p:nvPr/>
        </p:nvSpPr>
        <p:spPr>
          <a:xfrm>
            <a:off x="179280" y="1638360"/>
            <a:ext cx="842508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药理作用及临床应用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r>
              <a:rPr b="0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镁为机体生活必需元素之一，在神经冲动的传递和神经肌肉应激性的维持方面均有重要作用。血浆中的镁离子低于正常水平，则出现神经及肌肉组织兴奋性升高。体内镁离子与钙离子化学性质相似，但作用相互拮抗。镁离子是通过拮抗钙离子而发挥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注射给药可引起中枢抑制及骨骼肌松弛，可以缓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子痫、破伤风等惊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高浓度镁离子对心肌有抑制及扩张外周血管作用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可降低血压，用于治疗高血压危象和高血压脑病。</a:t>
            </a:r>
            <a:r>
              <a:rPr b="0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6060960" y="2811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二节 抗惊厥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1765440" y="1052640"/>
            <a:ext cx="564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硫酸镁（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magnesium sulf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4"/>
          <p:cNvSpPr/>
          <p:nvPr/>
        </p:nvSpPr>
        <p:spPr>
          <a:xfrm>
            <a:off x="684360" y="2637000"/>
            <a:ext cx="7129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　 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静脉注射速度过快或过量致血镁过高，抑制呼吸中枢和血管运动中枢，引起呼吸抑制、血压剧降和心脏停跳而死亡。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腱反射消失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常为呼吸抑制的先兆，因此，连续用药时应经常检查腱反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毒解救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钙剂， 缓慢静脉注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1336320" y="1916280"/>
            <a:ext cx="294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不良反应和药疗监护须知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5918040" y="2602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二节 抗惊厥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1693800" y="1197000"/>
            <a:ext cx="564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硫酸镁（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magnesium sulf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68360" y="333000"/>
            <a:ext cx="6553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癫痫发作时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EEG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异常改变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250920" y="3232080"/>
            <a:ext cx="151128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小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3H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异常放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79280" y="1628640"/>
            <a:ext cx="151308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大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异常棘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108000" y="4797360"/>
            <a:ext cx="208764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精神运动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Picture 7" descr="图片1_副本"/>
          <p:cNvPicPr/>
          <p:nvPr/>
        </p:nvPicPr>
        <p:blipFill>
          <a:blip r:embed="rId1"/>
          <a:stretch/>
        </p:blipFill>
        <p:spPr>
          <a:xfrm>
            <a:off x="2195640" y="1341360"/>
            <a:ext cx="655308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227800" cy="15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．原发性癫痫，又称真性或特发性癫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．继发性癫痫，又称症状性癫痫，由于各种脑部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损和代谢障碍所致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5135760" y="26028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癫痫的分类及临床表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95280" y="3068640"/>
          <a:ext cx="8353440" cy="3852720"/>
        </p:xfrm>
        <a:graphic>
          <a:graphicData uri="http://schemas.openxmlformats.org/drawingml/2006/table">
            <a:tbl>
              <a:tblPr/>
              <a:tblGrid>
                <a:gridCol w="8353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隶书"/>
                          <a:ea typeface="隶书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分型                  临床特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35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隶书"/>
                        </a:rPr>
                        <a:t>部分性发作：</a:t>
                      </a: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1.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单纯部分性发作   局部肢体运动或感觉异常，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                   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无意识障碍 （局限性发作 ）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2.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精神运动性发作   出现意识障碍和精神症状 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                   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等（复杂部分性发作 ）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2"/>
          <p:cNvSpPr/>
          <p:nvPr/>
        </p:nvSpPr>
        <p:spPr>
          <a:xfrm>
            <a:off x="3924360" y="333360"/>
            <a:ext cx="5029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隶书"/>
              </a:rPr>
              <a:t>癫痫的分类及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36"/>
          <p:cNvSpPr/>
          <p:nvPr/>
        </p:nvSpPr>
        <p:spPr>
          <a:xfrm>
            <a:off x="324000" y="2421000"/>
            <a:ext cx="8496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全面性发作：</a:t>
            </a: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失神性发作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小发作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)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分典型发作或不典型发作，                                       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 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突然知觉丧失，动作中断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强直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阵挛发作       全身阵挛性抽搐，意识丧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大发作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癫痫持续状态    大发作持续状态，反复抽搐                                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持续昏迷，不及时解救危及生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8"/>
          <p:cNvSpPr/>
          <p:nvPr/>
        </p:nvSpPr>
        <p:spPr>
          <a:xfrm>
            <a:off x="971640" y="1773360"/>
            <a:ext cx="64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分型                      临床特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39"/>
          <p:cNvSpPr/>
          <p:nvPr/>
        </p:nvSpPr>
        <p:spPr>
          <a:xfrm>
            <a:off x="395280" y="1773360"/>
            <a:ext cx="792000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40"/>
          <p:cNvSpPr/>
          <p:nvPr/>
        </p:nvSpPr>
        <p:spPr>
          <a:xfrm>
            <a:off x="324000" y="2421000"/>
            <a:ext cx="799308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Line 41"/>
          <p:cNvSpPr/>
          <p:nvPr/>
        </p:nvSpPr>
        <p:spPr>
          <a:xfrm>
            <a:off x="395280" y="5805360"/>
            <a:ext cx="820908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5322960" y="33336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抗癫痫药物的作用方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1403280" y="42210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药物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3995640" y="357336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抑制放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3995640" y="443700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稳定膜、抑制放电扩散（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要的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Line 8"/>
          <p:cNvSpPr/>
          <p:nvPr/>
        </p:nvSpPr>
        <p:spPr>
          <a:xfrm flipV="1">
            <a:off x="3059280" y="3933720"/>
            <a:ext cx="761760" cy="53352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Line 9"/>
          <p:cNvSpPr/>
          <p:nvPr/>
        </p:nvSpPr>
        <p:spPr>
          <a:xfrm>
            <a:off x="3059280" y="4581360"/>
            <a:ext cx="838080" cy="38124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2555280" y="566100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用药目的：减少或防止发作。需长期服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Picture 11" descr="自画图"/>
          <p:cNvPicPr/>
          <p:nvPr/>
        </p:nvPicPr>
        <p:blipFill>
          <a:blip r:embed="rId1"/>
          <a:stretch/>
        </p:blipFill>
        <p:spPr>
          <a:xfrm>
            <a:off x="1042920" y="1268280"/>
            <a:ext cx="2671920" cy="24606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2"/>
          <p:cNvSpPr/>
          <p:nvPr/>
        </p:nvSpPr>
        <p:spPr>
          <a:xfrm>
            <a:off x="4211640" y="16286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正常脑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Line 13"/>
          <p:cNvSpPr/>
          <p:nvPr/>
        </p:nvSpPr>
        <p:spPr>
          <a:xfrm>
            <a:off x="3276720" y="1844640"/>
            <a:ext cx="8380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4211640" y="220500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病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Line 15"/>
          <p:cNvSpPr/>
          <p:nvPr/>
        </p:nvSpPr>
        <p:spPr>
          <a:xfrm>
            <a:off x="2556000" y="2421000"/>
            <a:ext cx="160020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4140360" y="2637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异常高频放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Line 17"/>
          <p:cNvSpPr/>
          <p:nvPr/>
        </p:nvSpPr>
        <p:spPr>
          <a:xfrm>
            <a:off x="2843280" y="2924280"/>
            <a:ext cx="1292040" cy="0"/>
          </a:xfrm>
          <a:prstGeom prst="line">
            <a:avLst/>
          </a:prstGeom>
          <a:ln w="22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2086560" y="177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1403280" y="2852640"/>
            <a:ext cx="64008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又名大仑丁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dilantin)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，为二苯乙内酰脲的钠盐，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908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年合成，开始作为镇静催眠药，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938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年发现具有抗癫痫作用，是目前常用的抗癫痫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4433400" y="33336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4"/>
          <p:cNvSpPr/>
          <p:nvPr/>
        </p:nvSpPr>
        <p:spPr>
          <a:xfrm>
            <a:off x="1624320" y="1773360"/>
            <a:ext cx="25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药理作用和作用机制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1066680" y="2514600"/>
            <a:ext cx="68900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苯妥英钠通过稳定神经细胞膜，降低细胞膜对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N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隶书"/>
                <a:ea typeface="隶书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和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C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隶书"/>
                <a:ea typeface="隶书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的通透性，抑制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N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隶书"/>
                <a:ea typeface="隶书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和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C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隶书"/>
                <a:ea typeface="隶书"/>
              </a:rPr>
              <a:t>2+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的内流，从而降低了细胞膜的兴奋性，阻止癫痫病灶异常放电向周围正常脑组织扩散，而不是直接抑制病灶局部的高频放电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3381840" y="360360"/>
            <a:ext cx="494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苯妥英钠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11T01:46:21Z</dcterms:modified>
  <cp:revision>3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