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01D2-2E95-4AF8-A65D-764E3A2F643D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25360" y="684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671C-9E89-4F7B-A256-B6E9F73E7B4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E1E9-A72E-4E57-80DC-0AD20728F77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DE73-DEBC-47D9-99D8-A8C6212482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2CAE-73DC-4855-B7E8-81C5BFF1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A9C3-AEE1-47A0-AD7B-4C332F20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B6C66-A220-4FAB-8B92-08332C1B37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CA02-36AA-48B5-B9BF-3D49C734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DD43-5B90-4AA5-B53F-E7330194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91F5-C1CA-450B-BE36-4252A1CB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8DB21-83E0-4D50-AC71-580582A2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3FA9-089C-4934-BD05-7498926D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29C1-7B3A-447A-83BC-54BF273F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3687-D512-4C86-AE89-AAEAF532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E9EC3-214D-4A1A-AFD0-C558FF4D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19640" y="6549840"/>
            <a:ext cx="2133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BBB0-57A6-4162-B4DD-A84C32F3B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39528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AC84-0052-4F68-8282-E54A3CE8513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静催眠药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b1101"/>
              </a:solidFill>
              <a:latin typeface="Verdana"/>
              <a:ea typeface="宋体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抗惊厥和抗癫痫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9080" y="2103120"/>
            <a:ext cx="3456000" cy="31669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惊厥作用较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病灶异常放电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扩散，而不能消除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灶的异常放电；其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质的抑制效应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859280" y="2133720"/>
            <a:ext cx="3384720" cy="3168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癫痫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对癫痫大发作的疗效好，静注安定是治疗癫痫持续状态的首选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中枢骨骼肌松弛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9080" y="210348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肌松作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较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脑干网状结构下行激活系统对脊髓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神经元的激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强脊髓突触前抑制，而不影响突触后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，从而抑制多突触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其他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8720" y="1598760"/>
            <a:ext cx="8142480" cy="244944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麻醉药的抑制作用，临床用于麻醉前给药，优于吗啡和氯丙嗪，不良反应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巴比妥类和酒精的抑制作用，与巴比妥类合用使镇静催眠作用增强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因有镇静催眠和引起暂时记忆缺失，临床常用于心脏电击复律和内窥镜检查前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39640" y="4508640"/>
            <a:ext cx="8137800" cy="138168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治疗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心血管系统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尤其是静脉注射时，可使心率加快，心搏出量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少，血压轻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0000" y="2319480"/>
            <a:ext cx="8064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焦虑症、焦虑性抑郁、各种躯体 疾病如脑血管病等疾病引起的焦虑状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用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周后见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疗效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常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氯氮卓、奥沙西泮、阿普唑仑、劳拉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905280" y="14619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抗焦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各种原因引起的失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入睡困难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选用半衰期短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如三唑仑、阿普唑仑、舒宁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早醒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选用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的，如硝基安定、氟安定、氯硝安定、舒乐安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防止产生药物依赖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应间断用药或交替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751920" y="119700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．治疗失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421000"/>
            <a:ext cx="83595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选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硝西泮、阿普唑仑、氯硝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癫痫大发作或持续状态：可立即静脉注射地西泮或肌内注射氯硝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303360" y="12682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抗惊厥及抗癫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720" y="2750760"/>
            <a:ext cx="73515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地西泮，术前服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劳拉西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 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283920" y="148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麻醉前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毒性小，安全性大，很少由于用量过大引起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治疗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不良反应有轻度头晕、乏力、困倦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导致共济失调、意识障碍、口齿不清、精神错乱严重时可引起昏迷及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其他常见的不良反应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口干、腹泻、便秘、视力模糊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宜静脉推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易形成静脉炎或静脉血栓，可从输液管内缓慢推入，一次量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量不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免呼吸抑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1453680"/>
            <a:ext cx="83516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易产生耐受性和依赖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仅有精神依赖，也有躯体依赖，一旦停药即产生戒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在连续用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即可产生，戒断症状多在停药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发生。为防止发生戒断症状，要逐渐减药，不可突然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地西泮长期应用可引起畸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禁用。在分娩前及分娩时，如服用大剂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，可引起新生儿体温下降，肌力下降及呼吸抑制，甚至产生戒断症状。因此，孕妇及产妇均不可长期滥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206064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掌握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苯二氮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物的药理作用、临床应用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反应和药疗监护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比妥类药物的作用特点、临床应用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应和药疗监护事项、急性中毒的解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镇静催眠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2-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常用苯二氮䓬类药物和用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720720"/>
          <a:ext cx="8856720" cy="5891040"/>
        </p:xfrm>
        <a:graphic>
          <a:graphicData uri="http://schemas.openxmlformats.org/drawingml/2006/table">
            <a:tbl>
              <a:tblPr/>
              <a:tblGrid>
                <a:gridCol w="3148200"/>
                <a:gridCol w="5708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剂量和用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西泮（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癫痫持续状态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缓慢静注，再发作可反复应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氮䓬（利眠宁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hlordiazepoxide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奥沙西泮（舒宁）（去甲羟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ox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劳拉西泮（罗拉）（氯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lo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氟西泮（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flu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胶囊剂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硝西泮（硝基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nitrt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硝西泮（氯硝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lon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服：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分次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严重失眠及兴奋时，可注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三唑仑（海洛神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tri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形成依赖快，应短期用药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艾司唑仑（舒乐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st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阿普唑仑（佳乐定、佳静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lpr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巴比妥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777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2001"/>
              </a:spcBef>
              <a:buClr>
                <a:srgbClr val="a50021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巴比妥类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效类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详见表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超短效类：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有硫喷妥钠，静注后立即生效。临床应用作为静脉麻醉，而不作催眠药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771640" y="2781360"/>
            <a:ext cx="216000" cy="165564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表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常用巴比妥类的分类、作用时间和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484280"/>
          <a:ext cx="8610480" cy="4888080"/>
        </p:xfrm>
        <a:graphic>
          <a:graphicData uri="http://schemas.openxmlformats.org/drawingml/2006/table">
            <a:tbl>
              <a:tblPr/>
              <a:tblGrid>
                <a:gridCol w="863640"/>
                <a:gridCol w="3240000"/>
                <a:gridCol w="1512720"/>
                <a:gridCol w="1654200"/>
                <a:gridCol w="133992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疗效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现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持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barbiturate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鲁米那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amobarbita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阿米妥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司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secoharbita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速可眠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药理作用及作用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9080" y="1453680"/>
            <a:ext cx="7507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中枢神经系统抑制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抗惊厥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呼吸系统的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其他系统的影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95280" y="5018040"/>
            <a:ext cx="8280360" cy="111780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308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3314880"/>
                <a:tab algn="l" pos="34671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长期或较大剂量应用时，不良反应大，安全性差，目前已较少应用，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取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183528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255600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3924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4932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565164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43208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619280" y="2924280"/>
            <a:ext cx="511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2362320" y="5334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340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987640" y="285264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635280" y="285264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27672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995640" y="2852640"/>
            <a:ext cx="6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苯巴比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4643280" y="2924280"/>
            <a:ext cx="609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5364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877080" y="2565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剂 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476360" y="2708280"/>
            <a:ext cx="532764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084560" y="333360"/>
            <a:ext cx="35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．中枢神经系统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4652640"/>
            <a:ext cx="8610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　   随剂量加大，抑制作用由浅入深相继发生镇静、催眠、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惊厥和麻醉作用。巴比妥类药物选择性抑制脑干网状结构上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激活系统，促进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能神经的抑制性效应，增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的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触后抑制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187164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抗惊厥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苯巴比妥：有效的抗惊厥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24000" y="3716280"/>
            <a:ext cx="8610480" cy="252108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呼吸系统的作用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剂量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明显降低呼吸频率、呼吸深度及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气量，由于药物对延脑的抑制作用所致，是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比妥类中毒的死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其他系统的影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280" y="2923920"/>
            <a:ext cx="7278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蠕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毒剂量引起严重低血压及心肌损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肝、肾功能均有不良影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61048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镇静催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巴比妥类药物小剂量应用，产生镇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，可用于治疗焦虑、高血压、甲状腺功能亢                         进等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抗癫痫及抗惊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为苯巴比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麻醉用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硫喷妥钠作为静脉麻醉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四、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后遗作用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次晨头晕、乏力、困倦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反常兴奋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兴奋、不安、严重时谵妄，以老年人常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过敏反应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有过敏史者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严重呼吸系统疾病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应密切观察呼吸频率和节律，注意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唇、指甲有无缺氧引起发绀等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嘱服药患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要驾车、操作机器或登高作业，避免药物后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遗效应产生事故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服药时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可饮酒，否则会损伤判断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耐药及依赖性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一旦停药可产生戒断反应，应短期用药，停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药应逐渐停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其他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对心血管、肝、呼吸系统均有一定的不良反应。偶见粒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胞缺乏症，血小板减少性紫癜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9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见下页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急性中毒及抢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⑴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过量使用可引起中毒，血压下降，严重时昏迷，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⑵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抢救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排除毒物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洗胃、给予盐类泻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给利尿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注射碳酸氢钠使尿碱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必要时可输血或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对症治疗：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维持呼吸和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黑体"/>
              </a:rPr>
              <a:t>生理睡眠与反跳现象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生理睡眠分为非快动眼睡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和快动眼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两个时相。两个时相交替出现，形成睡眠周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如果药物（如巴比妥类药物）缩短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，久用停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可出现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反跳性延长，出现多梦和焦虑现象即反跳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象，导致患者有继续用药的愿望，易产生依赖性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3068640"/>
            <a:ext cx="3313440" cy="1800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2217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N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稳定，无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球的运动，有助于体力恢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生长发育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643280" y="3068640"/>
            <a:ext cx="3816360" cy="17287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功能加强，眼球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运动活跃，翻身、手足徐动、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梦等，有利于智力恢复和发育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五、药物相互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610480" cy="31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与乙醇或其他中枢神经系统抑制剂均有协同作用，甚至加重毒性反应，因此不宜联合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有肝药酶诱导作用，不仅加速其本身的代谢，还可加速香豆素类抗凝药、苯妥英钠和皮质激素等的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其他镇静催眠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思诺思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stilnox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可缩短入睡时间，减少中途觉醒次数，延长睡眠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偶发性、暂时性及慢性失眠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常见：眩晕、嗜睡、乏力、恶心、头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少见：记忆障碍、恶梦、烦躁、腹泻及精神压抑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耐药性：较少见，但不主张长期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禁用：孕妇、哺乳期妇女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岁以下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慎用：肝功能不良、呼吸功能不良以及肌无力患者、操作机 械及驾车者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佐匹克隆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Zopiclo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此药吸收快，达峰时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1.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，肝硬化及老年患者可延长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各种失眠，对入睡时间的缩短，睡眠时间延长以及睡眠质量的提高均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部分病人：口干、口苦、恶心、便秘、晨间嗜睡、肌无力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长期用药：突然停药可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禁用：严重呼吸功能不全，本药过敏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慎用：孕妇及哺乳期妇女，肝功能不良者慎用或减量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精神药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精神药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作用于中枢神经系统使之兴奋或者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，具有依赖性潜力，不合理使用或者滥用可以产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依赖性的药品或者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第一类精神药品和第二类精神药品，其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三唑仑、司可巴比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属于第一类精神药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其余（佐匹克隆除外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均为第二类精神药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49228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为什么说地西泮是目前临床最常用的催眠药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如何预防地西泮产生耐受性和依赖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巴比妥类药物急性中毒的抢救措施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常用镇静催眠药分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19440" y="1814400"/>
            <a:ext cx="4751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苯二氮卓类：地西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巴比妥类：苯巴比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新型催眠药：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酒石酸唑吡坦片（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思诺思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苯二氮卓类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394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常用药物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  <a:ea typeface="宋体"/>
              </a:rPr>
              <a:t>--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各种苯二氮卓类药物作用相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（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氯氮卓（利眠宁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西泮（硝基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艾司唑仑（舒乐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阿普唑仑（佳静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932360" y="270828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氯硝西泮（氯硝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氟西泮（氟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唑仑（海乐神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劳拉西泮（罗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奥沙西泮（舒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70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（一）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但肌内注射吸收慢，如需肌注可选用氯销安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血浆蛋白结合，其结合率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吸收后，迅速为脑组织及其其他器官摄取，然后再分布至肌肉、脂肪等组织；可通过胎盘，进入胎儿循环，影响新生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由肝代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经肾排泄，也可经母乳、胆汁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人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新生儿由于肝功能发育不完善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可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老年人、肝肾疾患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延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0000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一、 地西泮（安定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3080" y="2606400"/>
            <a:ext cx="5040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焦虑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镇静催眠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惊厥和抗癫痫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中枢骨骼肌松弛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其他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385160" y="3027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二）药理作用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．抗焦虑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减轻或消除焦虑不安，精神紧张及恐惧，对各种原因引起的焦虑症状有显著疗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机制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中枢神经系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能神经末梢的突触后膜上的苯二氮卓受体结合后，可改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控蛋白的构象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其受体的亲和力，激活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受体，使氯离子通道开放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的抑制效应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增强中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递质的抑制作用与其镇静、抗焦虑、催眠、抗惊厥及中枢性肌松作用密切相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镇静催眠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中等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镇静催眠作用明显，对各期睡眠均有不同程度的影响。可缩短入睡时间，延长睡眠持续时间，减少觉醒次数目前已是临床最常用催眠药。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优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巴比妥类催眠药相比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411280" y="3860640"/>
            <a:ext cx="5400720" cy="2448000"/>
          </a:xfrm>
          <a:prstGeom prst="wedgeRectCallout">
            <a:avLst>
              <a:gd name="adj1" fmla="val -72486"/>
              <a:gd name="adj2" fmla="val -69129"/>
            </a:avLst>
          </a:prstGeom>
          <a:solidFill>
            <a:srgbClr val="c4e3ee"/>
          </a:solidFill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①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呼吸影响小，大剂量不引起麻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②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肝药酶无诱导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③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嗜睡等副作用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④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耐受性和依赖性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停药后反跳现象比巴比妥类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2:23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