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857E0-BB2F-4A8B-9271-A116E4792F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DB22D-B8A0-4D6C-AC31-3FE9EC2F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3A0AB-F98D-47A0-B4A1-1F5758A1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1B5FF-4DBD-44C1-8389-F3ECDAC8FA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BD70B-15A1-4375-B003-388A0438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C6AC4-E114-4F4F-A2F5-C042CAB1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09270-56AD-4425-AAAA-8E4E7113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AC245-6BEB-4BC9-8D86-587D07F65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84176-F7FA-4254-B42E-71CB1AA77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08BFC-821C-402A-9629-5017ED11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6770B-98AA-4308-8A5A-6FF0408A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64F57-ACA4-4941-A5F9-5441F97C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E7DC-DFBE-4400-AE66-DC07F92B2B5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七章  拟胆碱药和抗胆碱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560160"/>
            <a:ext cx="8077320" cy="56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、拟胆碱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胆碱受体激动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完全拟胆碱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激动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毛果芸香碱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ilocap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：缩瞳 降低眼压 调节痉挛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应用：点眼治疗青光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抗胆碱酯酶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易逆行抗胆碱酯酶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1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新斯的明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eostigm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应用：重症肌无力、 术后腹胀气和尿潴留、 阵发性室上性心动过速、肌松药过量中毒解救、对抗阿拖品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不良反应和药物监护须知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吡斯的明、安具氯胺、加兰他敏、毒扁豆碱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难逆性抗胆碱酯酶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有机磷酸酯类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1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急性中毒表现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轻度：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M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作用为主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中度：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M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和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N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重度：除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M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、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N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作用，还有中枢神经系统症状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2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中毒解救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阿托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胆碱酯酶复活药：碘解磷定、氯解磷定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胆碱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胆碱受体阻断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阿托品类生物碱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阿托品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trop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应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不良反应和药物监护须知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东莨菪碱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和应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不反应和药物监护须知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</a:t>
            </a:r>
            <a:r>
              <a:rPr b="1" lang="en-US" sz="2800" spc="-1" strike="noStrike" baseline="-25000">
                <a:solidFill>
                  <a:srgbClr val="3582a3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胆碱受体阻断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骨骼肌松弛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去极化型肌松药：琥珀胆碱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(scoline)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非去极化肌松药：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筒箭毒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28:18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