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E31CBC-7D5E-427F-AA6B-0B95AA56EAD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8EE23D-7E7C-41CE-8187-BB3ED8384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A737B1-6879-4317-9516-98A67591D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E02705-57F7-4A31-A03C-17029CA5C5B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62D999-DCA8-48A8-9D71-D704D0766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88E1E0-63A8-4B91-B6B4-1E88A8F35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D269FE-3163-4076-902A-9F1BFC2F9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B758DC-7890-4CEC-A0B0-74D4B496F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343A71-99BE-44F7-B9CE-F475D4671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C4A22A-5D24-45D8-9282-2F86D7AB9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BD63F1-20BE-4028-9E60-93779B82A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236902-CFDE-4D87-9029-5E751B6E6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7E9CC-5A47-40D6-A4FE-2DF12F8511EF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108000" y="2276640"/>
            <a:ext cx="6912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四章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  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影响药物作用的因素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4888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药物因素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剂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给药途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药物的相互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耐受性和药物依赖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41724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机体因素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一、生理状态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年龄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性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营养状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精神状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遗传因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4082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二、病理状态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发热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肝、肾功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中枢神经系统状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三、饮食对药物作用的影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四、时间药理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4082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五、心理因素与用药关系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药物对病人心理的影响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心理因素对药物作用的影响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情绪的影响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对药物的信赖度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医护人员的语言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用药的心理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4082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3582a3"/>
                </a:solidFill>
                <a:latin typeface="Verdana"/>
                <a:ea typeface="宋体"/>
              </a:rPr>
              <a:t>谢谢大家</a:t>
            </a:r>
            <a:endParaRPr b="1" lang="en-US" sz="9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sxm</cp:lastModifiedBy>
  <cp:lastPrinted>1899-12-30T00:00:00Z</cp:lastPrinted>
  <dcterms:modified xsi:type="dcterms:W3CDTF">2016-03-07T05:11:23Z</dcterms:modified>
  <cp:revision>22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