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1259C-1B7C-422D-9C93-ACB3C7F426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14C4-52ED-4198-8BAE-B545990E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39B9-8128-4481-96A8-B1E0FBD1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E548-C2A4-4E3E-9C62-F6322B4D97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CC86-9BF7-411B-A299-3B9A651E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152B-F2FA-4D6C-B800-10E8BB7A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967FB-1771-47B6-92B4-8E2836B9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E2A4C-923B-4F18-A104-ADED2414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4C020-3015-4E4B-941B-5D47A3A9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5DB87-E535-4FCD-89B3-E02F125D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0EB2E-2817-49BB-B26A-A155DEFB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6240-3370-447B-B8F1-D94C51A9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98DE-7FC7-4C34-BC37-DC784F0BF64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效应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Times New Roman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的基本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基本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兴奋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选择性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在治疗剂量时，药物通常只选择性地对某一个或几个器官组织产生明显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的适应证取决于药物作用的选择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作用方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局部作用和吸收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直接作用和间接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临床效果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不良反应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副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毒性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变态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后遗效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继发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致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个体差异：个体之间对同一药物的反应可有明显差异称为药物作用的个体差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高敏性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耐受性（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toler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抗药性（耐药性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resist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量效关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剂量的概念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量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量反应和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量反应：药物效应凡能用具体数量来表示的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质反应：药物效应不能用数量表示，需用阴性或阳性、有或无来表示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指数：是用来估计一个药物安全性的指标，常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的比值表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机制和受体学说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从构效关系归纳作用机制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细胞周围环境的理化条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参与或干扰细胞物质代谢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通过抑制或促进体内某些酶而起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细胞膜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体内生理递质激素的释放或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药物和受体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完全激动剂：药物与受体有较强的亲和力，并有较强的内在活性，能兴奋受体产生明显效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拮抗剂：药物与受体有较强的亲和力，没有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部分激动剂：药物与受体有亲和力，但只有弱的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相加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增强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对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06:2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