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11.wmf" ContentType="image/x-wmf"/>
  <Override PartName="/ppt/media/image12.png" ContentType="image/png"/>
  <Override PartName="/ppt/media/image9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  <p:sldId id="289" r:id="rId48"/>
    <p:sldId id="290" r:id="rId49"/>
    <p:sldId id="291" r:id="rId50"/>
    <p:sldId id="292" r:id="rId51"/>
    <p:sldId id="293" r:id="rId52"/>
    <p:sldId id="294" r:id="rId53"/>
    <p:sldId id="295" r:id="rId54"/>
    <p:sldId id="296" r:id="rId55"/>
    <p:sldId id="297" r:id="rId56"/>
    <p:sldId id="298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slide" Target="slides/slide34.xml"/><Relationship Id="rId49" Type="http://schemas.openxmlformats.org/officeDocument/2006/relationships/slide" Target="slides/slide35.xml"/><Relationship Id="rId50" Type="http://schemas.openxmlformats.org/officeDocument/2006/relationships/slide" Target="slides/slide36.xml"/><Relationship Id="rId51" Type="http://schemas.openxmlformats.org/officeDocument/2006/relationships/slide" Target="slides/slide37.xml"/><Relationship Id="rId52" Type="http://schemas.openxmlformats.org/officeDocument/2006/relationships/slide" Target="slides/slide38.xml"/><Relationship Id="rId53" Type="http://schemas.openxmlformats.org/officeDocument/2006/relationships/slide" Target="slides/slide39.xml"/><Relationship Id="rId54" Type="http://schemas.openxmlformats.org/officeDocument/2006/relationships/slide" Target="slides/slide40.xml"/><Relationship Id="rId55" Type="http://schemas.openxmlformats.org/officeDocument/2006/relationships/slide" Target="slides/slide41.xml"/><Relationship Id="rId56" Type="http://schemas.openxmlformats.org/officeDocument/2006/relationships/slide" Target="slides/slide42.xml"/><Relationship Id="rId57" Type="http://schemas.openxmlformats.org/officeDocument/2006/relationships/slide" Target="slides/slide43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DF1888-F4AE-4022-B7F1-103ECA18F35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0753DD-2D71-4012-8A8F-715EB7819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B945590-1407-42B6-9C5D-826FE9A0C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3E573F5-6758-4F0F-8DB3-C58C51AAF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EFE5540-1461-496B-BB7A-8A4A110BB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02201A2-16FC-4692-8076-9722DB952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38A99DC-4FB9-4A17-9B7B-383B09609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A909A35-1574-48A2-B162-D51601C54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A49489A-7CBB-4E62-AA7B-FFA807247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80D7393-C10D-41D5-A734-05A3821D3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31327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08616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1789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/>
          </p:nvPr>
        </p:nvSpPr>
        <p:spPr>
          <a:xfrm>
            <a:off x="31327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04" name="PlaceHolder 7"/>
          <p:cNvSpPr>
            <a:spLocks noGrp="1"/>
          </p:cNvSpPr>
          <p:nvPr>
            <p:ph/>
          </p:nvPr>
        </p:nvSpPr>
        <p:spPr>
          <a:xfrm>
            <a:off x="608616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0548F37-57E6-4D1E-AAF5-B7E1F7AB815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5CAC2EE-1BD4-4F63-985D-5C76A437291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DE74FF-F0CD-4384-ADFA-65837AFCD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437F8CF-003A-410B-90D6-5F11B094F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5821003-6EF3-4212-932E-88720E605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06491F3-92CD-4D12-AF12-C450127CF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736D0BA-D65E-44AC-B7E4-589B3D09E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E8DF64D-CDEA-46C8-B15C-B6887F826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56ED30D-A0FA-474D-ADF4-FFD853ADB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6817DAB-0E51-4D10-9135-1CFA9F5C7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7F3B3A9-52CF-477E-9EFE-6DE68505A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29F2587-E99B-400E-9474-9E29B87DC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BBDB74D-993E-4237-B8D8-2005C8FCE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327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8616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789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327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8616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63D965-96D3-4439-B27F-6D63FC55C1F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1327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8616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1789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1327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8616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BEEAA65-B6B9-4009-833B-AEB46DB9280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C4E9D6-EE07-4E57-BFEF-2D3C8EA3AB0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DEBCC0-8178-4D8F-B113-56423D75C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2ADF28-0A9C-4FD2-94D0-13DB1013A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E4A0A9-F9A2-4515-8865-59E3DC6CA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B3B90B-92B4-48F6-B9D3-A322DD79B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4809E2-6666-4A33-8FA5-16F155439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10B67D-C602-490D-B452-A410937DD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633670-B348-420A-8056-8E799E18A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86C930-2AD6-41EC-B074-1FA491924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96276-5A80-4BAB-83E5-3EE939E0FD1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DB88BF-33E0-4134-83B8-7A733986A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9ADAB8-56ED-4342-9A86-B9B9920FC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327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8616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1789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327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8616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08E71F-4AE8-441C-BEA8-36DC1C62D9E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41293DD-181E-4552-9BC6-DA5841FDCCB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subTitle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3B0F383-508A-4595-A5B3-A0DFE8BDA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F2A9EA9-1C6D-436C-8E80-E190A0416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D840EC7-0DC3-4F3E-B05F-739D5FE43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3DCDED3-03C1-4238-A331-68353B937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ACF1C0C-F2E8-43E4-8794-3201B41BA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CB90EFF-4633-46FA-B84D-7C5899766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26B60-CC12-4955-ABD9-0AA90015D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DBEB567-CD64-4445-9638-FC9CC536E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13401BF-822C-4C50-83B6-AE4B26892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91A1525-AE00-422D-9CE0-E77311C4F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5C2CF8D-6AC4-41F9-8D2B-1D75A9814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31327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608616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1789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38" name="PlaceHolder 6"/>
          <p:cNvSpPr>
            <a:spLocks noGrp="1"/>
          </p:cNvSpPr>
          <p:nvPr>
            <p:ph/>
          </p:nvPr>
        </p:nvSpPr>
        <p:spPr>
          <a:xfrm>
            <a:off x="31327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39" name="PlaceHolder 7"/>
          <p:cNvSpPr>
            <a:spLocks noGrp="1"/>
          </p:cNvSpPr>
          <p:nvPr>
            <p:ph/>
          </p:nvPr>
        </p:nvSpPr>
        <p:spPr>
          <a:xfrm>
            <a:off x="608616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515BE11-C7DE-49E4-A302-3A88CFF5198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FDA836E-4B9E-4612-8BAB-82D4790C51F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subTitle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79B69A4-6229-4941-AFCD-4A33D1188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E09AD11-6ED4-49DB-A401-C352FC193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59D2F16-67DB-4DD0-A034-48C992962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3A6BAA9-ADC8-4DF9-9827-6E9B9F89B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015B9-B12D-4AB7-830C-548B9470C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7F94050-D909-48AA-9D42-51173B6DE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8235F63-B657-4295-B9F0-D0103440C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84038BC-7A51-4A3B-A26E-598C8F8D8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B66EAE9-12B7-43F2-BF7B-F90821ABA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2EE2B63-C87A-444A-BA14-59513BF66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0DB7BF2-E88C-4217-BFE1-8BA8A53C0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31327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608616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1789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83" name="PlaceHolder 6"/>
          <p:cNvSpPr>
            <a:spLocks noGrp="1"/>
          </p:cNvSpPr>
          <p:nvPr>
            <p:ph/>
          </p:nvPr>
        </p:nvSpPr>
        <p:spPr>
          <a:xfrm>
            <a:off x="31327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84" name="PlaceHolder 7"/>
          <p:cNvSpPr>
            <a:spLocks noGrp="1"/>
          </p:cNvSpPr>
          <p:nvPr>
            <p:ph/>
          </p:nvPr>
        </p:nvSpPr>
        <p:spPr>
          <a:xfrm>
            <a:off x="608616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BFF4387-875D-4F04-BC24-FF390653956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FC5FC-7A19-4999-9DB5-5F95E5836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1ABF8-9828-483D-AC7D-2C8747A11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9AFDE-AD45-4484-8099-875BEBDE1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670EE-6363-43FF-BBFE-968B0690D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ED1733-D032-4BF9-B72D-5F8E2A886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8444E-EF83-40DB-8F1E-2E7F7F321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A9EC3-EC08-4E24-858A-B96B2ED53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6AC49-2AD4-4112-AA8B-A98AEB462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CF604-C78F-4266-85A9-41EDB959B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1327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8616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789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1327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8616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DD0E3-85F0-483E-84EA-5EAB8953161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B949AC-8177-43CF-9F2A-94011431A5B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0B90D0-0BFA-4CAC-BB83-542BFEA50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919C89-A72C-44E1-A8E6-7E2422CF0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9F15F2-C3A3-43F3-99B1-CC4CFDBCD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64A7DA-87F4-487F-8A51-276874BF3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ABE033-C7FF-4B66-A229-DC2AE0276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093C90-6C17-4703-B5A3-A97A4B493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FD2EF1-E76F-43DB-A271-686D38D1E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66500B-644E-4843-85DA-F0ACEDC86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CC09D9-8268-41FB-9E54-CAC9A5535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411B6B-0B1D-4401-A8D8-F4944EB42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65DB8C-1A1C-45E7-9A1B-CA79AA5BC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327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8616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1789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327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8616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DA8A25-B655-480A-B420-9F48B77E3C9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D692157-87D5-47CA-9C2E-ED0CF4D8301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C5D74EC-2539-4045-A07F-9482EFEAE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5939895-0066-4B83-B391-EED78DB11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5BDA40-C7BE-4811-A301-1C0C5EDF2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89B17B8-0CAD-4D03-BBC6-EFD32336F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6A4AAA0-63C3-4ECB-A08B-89AB52F8B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D3B6432-68D4-4BFF-94C7-80C5A4EC0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13F168F-D9F7-4206-9973-C260FC863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D128130-7C11-4049-8D62-553D91DD1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E3EE076-1069-4ACE-8A59-C61D02572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704C95A-4893-42EF-BAE6-7435FF2D8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6DD8C7C-D9E0-4266-B959-C63AC8E4B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1327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08616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1789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1327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08616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44C2345-99B9-435D-A602-5C2725D1C55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5CFB36-19CB-4F4F-BDD2-0404A6B9CAF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991AE1-6D34-4A14-8459-AF74FB1D8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667D5D-E9E2-4771-A979-79A8D682E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8BD897-ACBF-4AAB-AA23-C8C681ACC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1B12EA-9160-4C2F-8E34-86A2912DC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6F32B9-049D-4E9A-A75D-692295632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709201-3531-4F4E-B007-EDB9B8CC5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BCC375-5B39-4BE0-B186-F3B0A5008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BB9893-446B-46C9-8949-CACC485E2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4F4BDA-6E80-4B42-8F66-46A86A2B3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0C1663-CEEB-4569-BCC9-2D1BA10D6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D1B747-43C1-4BBD-8D87-DD0F23082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F6FBE1-5790-43E1-A853-28ECAB27B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1327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8616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1789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1327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8616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4204E6-BA66-4E92-9ACE-ABF6583FEBC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68FF188-9177-4A83-85E5-1F9A086AC8A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59558AF-958B-4D1D-9CD8-D657D74BC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82D7E8C-1373-423C-9807-200C58169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F54AB7A-356D-470B-94EE-D50A42B59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06AE557-510A-4910-BC7F-97E2BFF03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97E102B-B260-426F-8972-0D30CDF11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CFC5E52-D840-47E4-8620-CB2764E91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33B4E71-51D3-4DCE-8C52-9917B1CA4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8FFFBE0-B2F9-4EA8-9B95-45BF72230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F51B89-CF87-45A9-9AB0-7F096FB3B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DB30491-C6E3-4E97-984A-06372D7E4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6614459-42F1-4288-BDA8-2D2198C7F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1327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08616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1789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1327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08616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6B80320-9C82-485B-BF71-6FE951C4999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A883990-8460-4CC3-B58B-51F148E62AE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E110705-4DB3-4552-80CA-C154FC7E5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A1A8E63-2E5A-4949-A317-2199CB9F6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C043170-ADA5-4AB4-B33A-64A2CCA6D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F5922F1-765F-42E4-BD11-D03D8F7B7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D041D98-4CA9-43F5-9301-CE674C615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B7134A5-5CFE-4B87-B5E9-3CA5882F4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DAD306-2327-45DA-B0AA-1F7262A47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EF777DD-9FC9-48BC-9ABC-7346C448A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2D903C2-B2BA-4271-BAD3-B9B1D765C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34149BF-00A4-4485-89E7-962776895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1291038-D292-4AF8-AF82-A6B4F17D8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1327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08616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1789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1327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608616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6CE0516-6D87-401D-8C2C-93F53F61FBE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D4AA43-DE6F-4F94-8B07-38C1D4B247A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0C4B1F-48C9-44B9-A93D-B24C427CC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521E1F-74B9-465A-B60A-0B937EC04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957DC8-1FAF-4820-ADA0-7C5DAD73E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C0FC1B-A80B-4D61-AACE-8DFAA5E08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819ACA-ECCE-475E-ABCB-7BA1AB37B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F003F9-579C-4E53-AB31-07D0059D2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AD1658-1D1B-4479-B084-544D02FBE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3E8DDB-7EF1-4BCC-9B04-4264B8090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30D871-CDF7-4AA6-BB5D-E677B2BD1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BBE2C3-C979-42EE-89EF-E3391297F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F372AF-5951-4FC3-84B5-DDC871635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31327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608616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1789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/>
          </p:nvPr>
        </p:nvSpPr>
        <p:spPr>
          <a:xfrm>
            <a:off x="31327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59" name="PlaceHolder 7"/>
          <p:cNvSpPr>
            <a:spLocks noGrp="1"/>
          </p:cNvSpPr>
          <p:nvPr>
            <p:ph/>
          </p:nvPr>
        </p:nvSpPr>
        <p:spPr>
          <a:xfrm>
            <a:off x="608616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852D2F-9FF2-49D4-945C-E08BBABFF83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E3DB5A1-438B-4481-9154-78CE6CBFB52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D310A0C-6B87-4FF8-8F8E-4D0FF97E6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F25120B-D17F-4B1B-9262-4737BAFC7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13160" indent="-27432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con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2" marL="109728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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Thir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3" marL="153612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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our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4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if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5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ix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6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ven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095D5-1244-48BA-BAF4-C90087A25A9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406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7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8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09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13160" indent="-27432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con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2" marL="109728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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Thir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3" marL="153612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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our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4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if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5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ix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6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ven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sldNum" idx="19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00009-78C5-439E-A9B7-388FEE87BC6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dt" idx="20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45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5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53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54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455" name="PlaceHolder 1"/>
          <p:cNvSpPr>
            <a:spLocks noGrp="1"/>
          </p:cNvSpPr>
          <p:nvPr>
            <p:ph type="body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13160" indent="-27432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con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2" marL="109728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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Thir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3" marL="153612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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our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4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if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5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ix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6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ven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sldNum" idx="2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FDC80-2764-459E-AA1E-E099526BD13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 type="dt" idx="2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496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7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8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99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500" name="PlaceHolder 1"/>
          <p:cNvSpPr>
            <a:spLocks noGrp="1"/>
          </p:cNvSpPr>
          <p:nvPr>
            <p:ph type="body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13160" indent="-27432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con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2" marL="109728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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Thir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3" marL="153612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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our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4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if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5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ix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6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ven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 type="sldNum" idx="23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C945E-A152-47BD-B0E1-A84DD7448DD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 type="dt" idx="24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54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3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544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545" name="PlaceHolder 1"/>
          <p:cNvSpPr>
            <a:spLocks noGrp="1"/>
          </p:cNvSpPr>
          <p:nvPr>
            <p:ph type="body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13160" indent="-27432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con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2" marL="109728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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Thir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3" marL="153612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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our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4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if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5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ix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6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ven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 type="sldNum" idx="25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F75DD-6DBB-4715-A627-4C20A3B20C2F}" type="slidenum">
              <a:rPr b="0" lang="zh-CN" sz="14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 type="dt" idx="26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9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body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13160" indent="-27432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con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2" marL="109728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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Thir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3" marL="153612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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our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4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if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5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ix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6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ven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3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F5871-2B46-4F62-B892-D118145B4CC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dt" idx="4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3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94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body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13160" indent="-27432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con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2" marL="109728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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Thir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3" marL="153612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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our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4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if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5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ix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6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ven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Num" idx="5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59120-7F2B-4C00-A85D-27B0C087424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dt" idx="6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9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 type="body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13160" indent="-27432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con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2" marL="109728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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Thir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3" marL="153612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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our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4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if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5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ix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6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ven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sldNum" idx="7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24DD8-B91E-4EBF-B123-69E400E854D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dt" idx="8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8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3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4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13160" indent="-27432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con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2" marL="109728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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Thir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3" marL="153612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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our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4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if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5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ix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6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ven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sldNum" idx="9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48DB4-0B09-4344-B46C-2744AF0E323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dt" idx="10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26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8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29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30" name="PlaceHolder 1"/>
          <p:cNvSpPr>
            <a:spLocks noGrp="1"/>
          </p:cNvSpPr>
          <p:nvPr>
            <p:ph type="body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13160" indent="-27432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con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2" marL="109728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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Thir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3" marL="153612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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our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4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if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5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ix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6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ven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sldNum" idx="1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568E0-9913-44E8-A42B-15ACC050291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 type="dt" idx="1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7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3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74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75" name="PlaceHolder 1"/>
          <p:cNvSpPr>
            <a:spLocks noGrp="1"/>
          </p:cNvSpPr>
          <p:nvPr>
            <p:ph type="body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13160" indent="-27432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con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2" marL="109728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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Thir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3" marL="153612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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our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4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if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5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ix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6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ven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 type="sldNum" idx="13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23BDF-EDF0-479A-A157-BFF32C8497D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 type="dt" idx="14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316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7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8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19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320" name="PlaceHolder 1"/>
          <p:cNvSpPr>
            <a:spLocks noGrp="1"/>
          </p:cNvSpPr>
          <p:nvPr>
            <p:ph type="body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13160" indent="-27432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con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2" marL="109728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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Thir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3" marL="153612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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our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4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if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5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ix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6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ven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 type="sldNum" idx="15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35F7C-2AE8-4F73-886B-D8F8C782896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 type="dt" idx="16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36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3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64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body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13160" indent="-27432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con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2" marL="109728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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Thir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3" marL="153612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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our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4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if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5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ix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6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ven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sldNum" idx="17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C0823-924D-498C-A923-AC9F6A6D906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dt" idx="18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4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4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4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4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5" name="Picture 2" descr="21"/>
          <p:cNvPicPr/>
          <p:nvPr/>
        </p:nvPicPr>
        <p:blipFill>
          <a:blip r:embed="rId1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58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58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58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58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9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9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9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9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9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9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9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9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9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0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0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0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0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05" name="Picture 24" descr=""/>
          <p:cNvPicPr/>
          <p:nvPr/>
        </p:nvPicPr>
        <p:blipFill>
          <a:blip r:embed="rId2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108000" y="2276640"/>
            <a:ext cx="4968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二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以社区为中心的护理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1600200" y="5311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endParaRPr b="1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3059280" y="333000"/>
            <a:ext cx="58435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一、社区评估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7" name=""/>
          <p:cNvSpPr txBox="1"/>
          <p:nvPr/>
        </p:nvSpPr>
        <p:spPr>
          <a:xfrm>
            <a:off x="394920" y="1236600"/>
            <a:ext cx="8520120" cy="50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资料整理与分析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资料复核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资料分析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报告评估结果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2123640" y="304560"/>
            <a:ext cx="6791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二、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诊断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0" name=""/>
          <p:cNvSpPr txBox="1"/>
          <p:nvPr/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定义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ff6600"/>
                </a:solidFill>
                <a:latin typeface="Verdana"/>
                <a:ea typeface="宋体"/>
              </a:rPr>
              <a:t>社区护理诊断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是指对于个人、家庭、群体或社区现存的或潜在的不健康和（或）健康问题，以及与其相关原因的陈述。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842920" y="304560"/>
            <a:ext cx="6072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二、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诊断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3" name=""/>
          <p:cNvSpPr txBox="1"/>
          <p:nvPr/>
        </p:nvSpPr>
        <p:spPr>
          <a:xfrm>
            <a:off x="178920" y="1268280"/>
            <a:ext cx="8736120" cy="498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护理诊断系统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北美护理诊断协会护理诊断系统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en-US" sz="2400" spc="-1" strike="noStrike">
                <a:solidFill>
                  <a:srgbClr val="ff6600"/>
                </a:solidFill>
                <a:latin typeface="Verdana"/>
                <a:ea typeface="宋体"/>
              </a:rPr>
              <a:t>PSE</a:t>
            </a:r>
            <a:r>
              <a:rPr b="1" lang="zh-CN" sz="2400" spc="-1" strike="noStrike">
                <a:solidFill>
                  <a:srgbClr val="ff6600"/>
                </a:solidFill>
                <a:latin typeface="Verdana"/>
                <a:ea typeface="宋体"/>
              </a:rPr>
              <a:t>陈述公式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3" marL="16002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P=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健康问题（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problem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）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3" marL="16002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S=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症状或体征（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sign 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＆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symptoms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）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3" marL="16002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E=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原因（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etiology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）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2842920" y="304560"/>
            <a:ext cx="6072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二、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诊断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6" name=""/>
          <p:cNvSpPr txBox="1"/>
          <p:nvPr/>
        </p:nvSpPr>
        <p:spPr>
          <a:xfrm>
            <a:off x="178920" y="1268280"/>
            <a:ext cx="8736120" cy="498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护理诊断系统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Omaha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护理诊断系统  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护理诊断（问题）分类系统（表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2-1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）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护理干预分类系统（表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2-2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）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护理结果评量系统（表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2-3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）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2842920" y="304560"/>
            <a:ext cx="6072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二、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诊断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650" name=""/>
          <p:cNvGraphicFramePr/>
          <p:nvPr/>
        </p:nvGraphicFramePr>
        <p:xfrm>
          <a:off x="324000" y="2171880"/>
          <a:ext cx="8496000" cy="4213080"/>
        </p:xfrm>
        <a:graphic>
          <a:graphicData uri="http://schemas.openxmlformats.org/drawingml/2006/table">
            <a:tbl>
              <a:tblPr/>
              <a:tblGrid>
                <a:gridCol w="1742760"/>
                <a:gridCol w="6753240"/>
              </a:tblGrid>
              <a:tr h="4856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6600"/>
                          </a:solidFill>
                          <a:latin typeface="Verdana"/>
                        </a:rPr>
                        <a:t>领域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6600"/>
                          </a:solidFill>
                          <a:latin typeface="Verdana"/>
                        </a:rPr>
                        <a:t>护理诊断（问题）分类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4824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环境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收入，卫生，住宅，邻居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/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工作场所的安全，其他心理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11019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心理社会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与社区资源的联系，社会接触，角色改变，人际关系，精神压力，哀伤，情绪稳定性，照顾，忽略儿童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/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成人，虐待儿童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/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成人，生长与发育，其他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10792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生理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听觉，视觉，说话与语言，咀嚼，认知，疼痛，意识，皮肤，神经运动（肌肉、骨骼）系统与功能，呼吸，循环，消化，排便功能，生殖泌尿功能，产前产后，其他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10638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健康相关行为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营养，睡眠与休息形态，身体活动，个人卫生，物质滥用（酒精或药品），家庭计划，健康指导，处方用药，特殊护理技术，其他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</a:tbl>
          </a:graphicData>
        </a:graphic>
      </p:graphicFrame>
      <p:sp>
        <p:nvSpPr>
          <p:cNvPr id="651" name="矩形 5"/>
          <p:cNvSpPr/>
          <p:nvPr/>
        </p:nvSpPr>
        <p:spPr>
          <a:xfrm>
            <a:off x="1867320" y="1484280"/>
            <a:ext cx="546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Verdana"/>
              </a:rPr>
              <a:t>表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Verdana"/>
              </a:rPr>
              <a:t>2-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Verdana"/>
              </a:rPr>
              <a:t>　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Verdana"/>
              </a:rPr>
              <a:t>Omaha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Verdana"/>
              </a:rPr>
              <a:t>护理诊断（问题）分类系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2842920" y="304560"/>
            <a:ext cx="6072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二、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诊断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54" name="矩形 5"/>
          <p:cNvSpPr/>
          <p:nvPr/>
        </p:nvSpPr>
        <p:spPr>
          <a:xfrm>
            <a:off x="2336400" y="1341360"/>
            <a:ext cx="461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Verdana"/>
              </a:rPr>
              <a:t>表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Verdana"/>
              </a:rPr>
              <a:t>2-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Verdana"/>
              </a:rPr>
              <a:t>　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Verdana"/>
              </a:rPr>
              <a:t>Omaha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Verdana"/>
              </a:rPr>
              <a:t>护理干预分类系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655" name=""/>
          <p:cNvGraphicFramePr/>
          <p:nvPr/>
        </p:nvGraphicFramePr>
        <p:xfrm>
          <a:off x="395280" y="1989000"/>
          <a:ext cx="8209080" cy="4518000"/>
        </p:xfrm>
        <a:graphic>
          <a:graphicData uri="http://schemas.openxmlformats.org/drawingml/2006/table">
            <a:tbl>
              <a:tblPr/>
              <a:tblGrid>
                <a:gridCol w="1101600"/>
                <a:gridCol w="7107480"/>
              </a:tblGrid>
              <a:tr h="3384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6600"/>
                          </a:solidFill>
                          <a:latin typeface="Verdana"/>
                        </a:rPr>
                        <a:t>项目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6600"/>
                          </a:solidFill>
                          <a:latin typeface="Verdana"/>
                        </a:rPr>
                        <a:t>内容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3380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类别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指导、指引和咨询，处理和程序，个案管理，监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38415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目标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解剖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/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生理，行为修正，膀胱功能护理，与他人感情，肠道功能护理，维持呼吸道的通畅，心脏功能护理，照顾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/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为人父母，长期卧床护理，沟通，应对技巧，日间护理，管教，伤口护理，医疗设备，教育，职业，环境，运动，家庭计划，喂养方法，财务，食物，行走训练与康复，生长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/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发育，家务管理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/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居住环境，人际关系，检验结果，相关法规，医疗照顾，药物作用及副作用，用药管理，协助用药安排，身体活动，辅助性护理活动，营养，营养咨询，造瘘口护理，其他社区资源，个人照护，体位，康复，放松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/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呼吸技巧，休息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/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睡眠，安全，筛选，受伤护理，精神及情绪的症状，体征，皮肤护理，社会福利与咨询，化验标本收集，精神护理，促进身心发展的活动，压力管理，物质滥用，医疗器材，支持团体，交通运送，促进健康，其他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2842920" y="304560"/>
            <a:ext cx="6072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二、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诊断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58" name="矩形 5"/>
          <p:cNvSpPr/>
          <p:nvPr/>
        </p:nvSpPr>
        <p:spPr>
          <a:xfrm>
            <a:off x="2310840" y="1341360"/>
            <a:ext cx="461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Verdana"/>
              </a:rPr>
              <a:t>表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Verdana"/>
              </a:rPr>
              <a:t>2-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Verdana"/>
              </a:rPr>
              <a:t>　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Verdana"/>
              </a:rPr>
              <a:t>Omaha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Verdana"/>
              </a:rPr>
              <a:t>护理结果评量系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659" name=""/>
          <p:cNvGraphicFramePr/>
          <p:nvPr/>
        </p:nvGraphicFramePr>
        <p:xfrm>
          <a:off x="324000" y="1989000"/>
          <a:ext cx="8424720" cy="4175280"/>
        </p:xfrm>
        <a:graphic>
          <a:graphicData uri="http://schemas.openxmlformats.org/drawingml/2006/table">
            <a:tbl>
              <a:tblPr/>
              <a:tblGrid>
                <a:gridCol w="787320"/>
                <a:gridCol w="1884240"/>
                <a:gridCol w="1027080"/>
                <a:gridCol w="1198800"/>
                <a:gridCol w="1198440"/>
                <a:gridCol w="1123920"/>
                <a:gridCol w="1204920"/>
              </a:tblGrid>
              <a:tr h="5968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6600"/>
                          </a:solidFill>
                          <a:latin typeface="Verdana"/>
                        </a:rPr>
                        <a:t>概念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6600"/>
                          </a:solidFill>
                          <a:latin typeface="Verdana"/>
                        </a:rPr>
                        <a:t>含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6600"/>
                          </a:solidFill>
                          <a:latin typeface="Verdana"/>
                        </a:rPr>
                        <a:t>1</a:t>
                      </a:r>
                      <a:r>
                        <a:rPr b="1" lang="zh-CN" sz="2000" spc="-1" strike="noStrike">
                          <a:solidFill>
                            <a:srgbClr val="ff6600"/>
                          </a:solidFill>
                          <a:latin typeface="Verdana"/>
                        </a:rPr>
                        <a:t>分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6600"/>
                          </a:solidFill>
                          <a:latin typeface="Verdana"/>
                        </a:rPr>
                        <a:t>2</a:t>
                      </a:r>
                      <a:r>
                        <a:rPr b="1" lang="zh-CN" sz="2000" spc="-1" strike="noStrike">
                          <a:solidFill>
                            <a:srgbClr val="ff6600"/>
                          </a:solidFill>
                          <a:latin typeface="Verdana"/>
                        </a:rPr>
                        <a:t>分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6600"/>
                          </a:solidFill>
                          <a:latin typeface="Verdana"/>
                        </a:rPr>
                        <a:t>3</a:t>
                      </a:r>
                      <a:r>
                        <a:rPr b="1" lang="zh-CN" sz="2000" spc="-1" strike="noStrike">
                          <a:solidFill>
                            <a:srgbClr val="ff6600"/>
                          </a:solidFill>
                          <a:latin typeface="Verdana"/>
                        </a:rPr>
                        <a:t>分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6600"/>
                          </a:solidFill>
                          <a:latin typeface="Verdana"/>
                        </a:rPr>
                        <a:t>4</a:t>
                      </a:r>
                      <a:r>
                        <a:rPr b="1" lang="zh-CN" sz="2000" spc="-1" strike="noStrike">
                          <a:solidFill>
                            <a:srgbClr val="ff6600"/>
                          </a:solidFill>
                          <a:latin typeface="Verdana"/>
                        </a:rPr>
                        <a:t>分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6600"/>
                          </a:solidFill>
                          <a:latin typeface="Verdana"/>
                        </a:rPr>
                        <a:t>5</a:t>
                      </a:r>
                      <a:r>
                        <a:rPr b="1" lang="zh-CN" sz="2000" spc="-1" strike="noStrike">
                          <a:solidFill>
                            <a:srgbClr val="ff6600"/>
                          </a:solidFill>
                          <a:latin typeface="Verdana"/>
                        </a:rPr>
                        <a:t>分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9273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知识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个案记忆与解释信息的能力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完全没有知识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具有一点知识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具有基本知识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认知程度适当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认知良好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12603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行为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个案表现出的可被观察的反应或行为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完全不适当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有一些适当的行为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不是非常一致的行为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通常是合适的行为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一致且合适的行为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13906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症状、体征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个案表现的主、客观症状、体征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非常严重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严重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普通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很少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没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6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662" name="图片 6" descr="4.png"/>
          <p:cNvPicPr/>
          <p:nvPr/>
        </p:nvPicPr>
        <p:blipFill>
          <a:blip r:embed="rId1"/>
          <a:stretch/>
        </p:blipFill>
        <p:spPr>
          <a:xfrm>
            <a:off x="468360" y="1628640"/>
            <a:ext cx="8280360" cy="4870440"/>
          </a:xfrm>
          <a:prstGeom prst="rect">
            <a:avLst/>
          </a:prstGeom>
          <a:ln w="0">
            <a:noFill/>
          </a:ln>
        </p:spPr>
      </p:pic>
      <p:sp>
        <p:nvSpPr>
          <p:cNvPr id="663" name="TextBox 6"/>
          <p:cNvSpPr/>
          <p:nvPr/>
        </p:nvSpPr>
        <p:spPr>
          <a:xfrm>
            <a:off x="2400480" y="2205000"/>
            <a:ext cx="633708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第二节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社区护理计划的制订与实施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一、社区护理计划的制定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5" name=""/>
          <p:cNvSpPr txBox="1"/>
          <p:nvPr/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ff6600"/>
                </a:solidFill>
                <a:latin typeface="Verdana"/>
                <a:ea typeface="宋体"/>
              </a:rPr>
              <a:t>护理计划</a:t>
            </a: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是护理活动的指南，其目的是明确护理目标、确定护理要点、提供评价标准、设计实施方案。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ff6600"/>
                </a:solidFill>
                <a:latin typeface="Verdana"/>
                <a:ea typeface="宋体"/>
              </a:rPr>
              <a:t>社区护理计划</a:t>
            </a: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是一种合作性的、有顺序的、循环的程序，以达到预期的目标。 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一、社区护理计划的制定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8" name=""/>
          <p:cNvSpPr txBox="1"/>
          <p:nvPr/>
        </p:nvSpPr>
        <p:spPr>
          <a:xfrm>
            <a:off x="178920" y="1052280"/>
            <a:ext cx="9001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护理诊断的排序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Muecke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与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Stanhope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＆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Lancaster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的优先顺序确定方法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社区对问题的了解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社区对解决问题的动机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问题的严重程度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可利用资源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70" name="文本框 5"/>
          <p:cNvSpPr/>
          <p:nvPr/>
        </p:nvSpPr>
        <p:spPr>
          <a:xfrm>
            <a:off x="3780000" y="3068640"/>
            <a:ext cx="5184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预防效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护士解决问题的能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健康政策与目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解决问题的迅速性与持续的效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0" name=""/>
          <p:cNvSpPr txBox="1"/>
          <p:nvPr/>
        </p:nvSpPr>
        <p:spPr>
          <a:xfrm>
            <a:off x="252360" y="1052640"/>
            <a:ext cx="863928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i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掌握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社区护理评估的内容、方法；社区居民健康档案的主要内容。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i="1" lang="zh-CN" sz="3200" spc="-1" strike="noStrike">
                <a:solidFill>
                  <a:srgbClr val="692aa2"/>
                </a:solidFill>
                <a:latin typeface="Verdana"/>
                <a:ea typeface="宋体"/>
              </a:rPr>
              <a:t>熟悉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Omaha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护理诊断系统；社区护理中护理诊断排列顺序的原则；实施护理措施时的注意事项。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i="1" lang="zh-CN" sz="3200" spc="-1" strike="noStrike">
                <a:solidFill>
                  <a:srgbClr val="ff6600"/>
                </a:solidFill>
                <a:latin typeface="Verdana"/>
                <a:ea typeface="宋体"/>
              </a:rPr>
              <a:t>了解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社区护理评价的步骤与内容；社区健康档案的管理与使用要求。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</a:tabLst>
            </a:pP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672" name=""/>
          <p:cNvGraphicFramePr/>
          <p:nvPr/>
        </p:nvGraphicFramePr>
        <p:xfrm>
          <a:off x="395280" y="1844640"/>
          <a:ext cx="8353440" cy="4146480"/>
        </p:xfrm>
        <a:graphic>
          <a:graphicData uri="http://schemas.openxmlformats.org/drawingml/2006/table">
            <a:tbl>
              <a:tblPr/>
              <a:tblGrid>
                <a:gridCol w="1079640"/>
                <a:gridCol w="1025280"/>
                <a:gridCol w="808200"/>
                <a:gridCol w="809640"/>
                <a:gridCol w="809640"/>
                <a:gridCol w="809640"/>
                <a:gridCol w="777960"/>
                <a:gridCol w="841320"/>
                <a:gridCol w="807840"/>
                <a:gridCol w="584280"/>
              </a:tblGrid>
              <a:tr h="10796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社区诊断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社区对问题的了解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社区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动机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问题的严重性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可利用的资源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预防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效果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护理人员能力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政策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快速性及持续效果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总和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636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预防性的行为不足（乳腺癌筛检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2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2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2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2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2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1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0224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儿童龋齿预防知识缺乏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2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2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8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807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发生火灾的可能性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2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2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2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73" name="Rectangle 1"/>
          <p:cNvSpPr/>
          <p:nvPr/>
        </p:nvSpPr>
        <p:spPr>
          <a:xfrm>
            <a:off x="684360" y="1197720"/>
            <a:ext cx="76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表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2-4    Muecke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护理诊断优先顺序确定方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675" name=""/>
          <p:cNvGraphicFramePr/>
          <p:nvPr/>
        </p:nvGraphicFramePr>
        <p:xfrm>
          <a:off x="130320" y="1773360"/>
          <a:ext cx="8864280" cy="4406760"/>
        </p:xfrm>
        <a:graphic>
          <a:graphicData uri="http://schemas.openxmlformats.org/drawingml/2006/table">
            <a:tbl>
              <a:tblPr/>
              <a:tblGrid>
                <a:gridCol w="1017360"/>
                <a:gridCol w="615960"/>
                <a:gridCol w="328680"/>
                <a:gridCol w="463680"/>
                <a:gridCol w="287280"/>
                <a:gridCol w="628560"/>
                <a:gridCol w="436680"/>
                <a:gridCol w="436320"/>
                <a:gridCol w="508320"/>
                <a:gridCol w="507960"/>
                <a:gridCol w="436320"/>
                <a:gridCol w="436680"/>
                <a:gridCol w="434880"/>
                <a:gridCol w="412920"/>
                <a:gridCol w="436320"/>
                <a:gridCol w="524160"/>
                <a:gridCol w="417240"/>
                <a:gridCol w="534960"/>
              </a:tblGrid>
              <a:tr h="958680"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社区诊断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社区对问题的了解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社区动机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问题的严重性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可利用的资源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预防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效果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护理人员能力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政策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快速性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及持续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效果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总和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1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比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重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资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源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比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重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资源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比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重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资源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比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重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资源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比重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资源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比重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资源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比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重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资源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比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重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资源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7964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预防性的行为不足（乳腺癌筛检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2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6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5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5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8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6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8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453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79200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儿童龋齿预防知识缺乏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9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2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3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6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5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4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6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5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4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5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205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3512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发生火灾的可能性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3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6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2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4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2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2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2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3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5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285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76" name="Rectangle 1"/>
          <p:cNvSpPr/>
          <p:nvPr/>
        </p:nvSpPr>
        <p:spPr>
          <a:xfrm>
            <a:off x="1191240" y="1198080"/>
            <a:ext cx="67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表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2-5   Stanhope &amp; Lancaster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护理诊断优先顺序确定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一、社区护理计划的制定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8" name=""/>
          <p:cNvSpPr txBox="1"/>
          <p:nvPr/>
        </p:nvSpPr>
        <p:spPr>
          <a:xfrm>
            <a:off x="178920" y="1196640"/>
            <a:ext cx="873612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制订目标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ff6600"/>
                </a:solidFill>
                <a:latin typeface="Verdana"/>
                <a:ea typeface="宋体"/>
              </a:rPr>
              <a:t>预期目标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是期望服务对象在接受护理干预后所能达到的结果，包括功能、认知、情感及行为等方面的改变。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目标的制订应做到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特定的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可测量的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可达到的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相关的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有时间期限的 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一、社区护理计划的制定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1" name=""/>
          <p:cNvSpPr txBox="1"/>
          <p:nvPr/>
        </p:nvSpPr>
        <p:spPr>
          <a:xfrm>
            <a:off x="108000" y="1196640"/>
            <a:ext cx="89280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制订目标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护理目标可分为长期目标和短期目标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例如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护理问题：婴儿营养不良。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相关因素：社区内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60%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母亲对婴儿喂养方法的认识不足。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ff6600"/>
                </a:solidFill>
                <a:latin typeface="Verdana"/>
                <a:ea typeface="宋体"/>
              </a:rPr>
              <a:t>长期目标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：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80%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营养不良婴儿的营养状况得到改善。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ff6600"/>
                </a:solidFill>
                <a:latin typeface="Verdana"/>
                <a:ea typeface="宋体"/>
              </a:rPr>
              <a:t>短期目标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：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周内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80%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营养不良婴儿的母亲能正确演示。婴儿食品的制作；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周内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100%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营养不良婴儿的母亲能按照营养师的建议为婴儿正确添加辅食。 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一、社区护理计划的制定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4" name=""/>
          <p:cNvSpPr txBox="1"/>
          <p:nvPr/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制订目标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书写目标时应注意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简单明了，使用可测量或可观察得到的词汇。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一个护理诊断可制订多个目标，但是一个目标只针对一个护理诊断。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目标陈述中要包括具体的评价日期和时间。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可以使用长期目标与短期目标相结合的方法，实施起来更有针对性。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一、社区护理计划的制定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7" name=""/>
          <p:cNvSpPr txBox="1"/>
          <p:nvPr/>
        </p:nvSpPr>
        <p:spPr>
          <a:xfrm>
            <a:off x="179280" y="1052640"/>
            <a:ext cx="87854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拟定护理措施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原则：合理性和可行性 。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分类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（社区护理措施以</a:t>
            </a:r>
            <a:r>
              <a:rPr b="1" lang="zh-CN" sz="2400" spc="-1" strike="noStrike">
                <a:solidFill>
                  <a:srgbClr val="ff6600"/>
                </a:solidFill>
                <a:latin typeface="Verdana"/>
                <a:ea typeface="宋体"/>
              </a:rPr>
              <a:t>协作性和独立性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为主）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en-US" sz="2400" spc="-1" strike="noStrike">
                <a:solidFill>
                  <a:srgbClr val="ff6600"/>
                </a:solidFill>
                <a:latin typeface="Verdana"/>
              </a:rPr>
              <a:t>	</a:t>
            </a:r>
            <a:r>
              <a:rPr b="1" lang="zh-CN" sz="2400" spc="-1" strike="noStrike">
                <a:solidFill>
                  <a:srgbClr val="ff6600"/>
                </a:solidFill>
                <a:latin typeface="Verdana"/>
                <a:ea typeface="宋体"/>
              </a:rPr>
              <a:t>依赖性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护理措施：指在医生指示下进行，如“遵医嘱给药”。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ff6600"/>
                </a:solidFill>
                <a:latin typeface="Verdana"/>
                <a:ea typeface="宋体"/>
              </a:rPr>
              <a:t>协作性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护理措施：指与其他卫生专业人员商讨完成，如“协助理疗师共同为服务对象进行康复评定”。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ff6600"/>
                </a:solidFill>
                <a:latin typeface="Verdana"/>
                <a:ea typeface="宋体"/>
              </a:rPr>
              <a:t>独立性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护理措施：指护士独立完成，如“为服务对象提供健康教育和咨询”。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一、社区护理计划的制定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0" name=""/>
          <p:cNvSpPr txBox="1"/>
          <p:nvPr/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计划成文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表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2-6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　社区护理计划表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692" name=""/>
          <p:cNvGraphicFramePr/>
          <p:nvPr/>
        </p:nvGraphicFramePr>
        <p:xfrm>
          <a:off x="395280" y="2781360"/>
          <a:ext cx="8353440" cy="3014640"/>
        </p:xfrm>
        <a:graphic>
          <a:graphicData uri="http://schemas.openxmlformats.org/drawingml/2006/table">
            <a:tbl>
              <a:tblPr/>
              <a:tblGrid>
                <a:gridCol w="1392120"/>
                <a:gridCol w="1392480"/>
                <a:gridCol w="1392120"/>
                <a:gridCol w="1392120"/>
                <a:gridCol w="1392480"/>
                <a:gridCol w="1392120"/>
              </a:tblGrid>
              <a:tr h="647640"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相关因素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具体目标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实施计划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92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实施内容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执行者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时间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场所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750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二、社区护理计划的实施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4" name=""/>
          <p:cNvSpPr txBox="1"/>
          <p:nvPr/>
        </p:nvSpPr>
        <p:spPr>
          <a:xfrm>
            <a:off x="179280" y="1125360"/>
            <a:ext cx="864072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将所制订计划付诸实践，是针对护理目标而采取的行动。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实施前的准备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实施计划行动 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实施后的记录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</a:rPr>
              <a:t>  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记录方式：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PIO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problem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，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intervention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，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outcome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）格式，即问题、措施、结果的记录。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记录要求及时、准确、真实、重点突出，为下一步的评价工作奠定基础。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69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698" name="图片 6" descr="4.png"/>
          <p:cNvPicPr/>
          <p:nvPr/>
        </p:nvPicPr>
        <p:blipFill>
          <a:blip r:embed="rId1"/>
          <a:stretch/>
        </p:blipFill>
        <p:spPr>
          <a:xfrm>
            <a:off x="468360" y="1628640"/>
            <a:ext cx="8280360" cy="4870440"/>
          </a:xfrm>
          <a:prstGeom prst="rect">
            <a:avLst/>
          </a:prstGeom>
          <a:ln w="0">
            <a:noFill/>
          </a:ln>
        </p:spPr>
      </p:pic>
      <p:sp>
        <p:nvSpPr>
          <p:cNvPr id="699" name="TextBox 6"/>
          <p:cNvSpPr/>
          <p:nvPr/>
        </p:nvSpPr>
        <p:spPr>
          <a:xfrm>
            <a:off x="2400480" y="2205000"/>
            <a:ext cx="633708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第三节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社区护理的效果评价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701" name=""/>
          <p:cNvSpPr txBox="1"/>
          <p:nvPr/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评价形式</a:t>
            </a: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	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en-US" sz="2800" spc="-1" strike="noStrike">
                <a:solidFill>
                  <a:srgbClr val="0070c0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</a:rPr>
              <a:t>	</a:t>
            </a:r>
            <a:r>
              <a:rPr b="1" lang="zh-CN" sz="2800" spc="-1" strike="noStrike">
                <a:solidFill>
                  <a:srgbClr val="ff6600"/>
                </a:solidFill>
                <a:latin typeface="Verdana"/>
                <a:ea typeface="宋体"/>
              </a:rPr>
              <a:t>过程评价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：也称形成性评价，是在护理程序的各个阶段进行评价，一直到护理活动不断完善。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en-US" sz="2800" spc="-1" strike="noStrike">
                <a:solidFill>
                  <a:srgbClr val="0070c0"/>
                </a:solidFill>
                <a:latin typeface="Verdana"/>
              </a:rPr>
              <a:t>	</a:t>
            </a:r>
            <a:r>
              <a:rPr b="1" lang="zh-CN" sz="2800" spc="-1" strike="noStrike">
                <a:solidFill>
                  <a:srgbClr val="ff6600"/>
                </a:solidFill>
                <a:latin typeface="Verdana"/>
                <a:ea typeface="宋体"/>
              </a:rPr>
              <a:t>结果评价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：也称终结性评价，是在服务对象经过各项计划执行后，针对护理活动的近期和远期效果进行评价，判断实施计划后的效果是否与预期目标相一致。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6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613" name="Picture 15" descr="Chalkboard3"/>
          <p:cNvPicPr/>
          <p:nvPr/>
        </p:nvPicPr>
        <p:blipFill>
          <a:blip r:embed="rId1"/>
          <a:srcRect l="0" t="2168" r="0" b="0"/>
          <a:stretch/>
        </p:blipFill>
        <p:spPr>
          <a:xfrm>
            <a:off x="-181080" y="836640"/>
            <a:ext cx="9577440" cy="6121440"/>
          </a:xfrm>
          <a:prstGeom prst="rect">
            <a:avLst/>
          </a:prstGeom>
          <a:ln w="0">
            <a:noFill/>
          </a:ln>
        </p:spPr>
      </p:pic>
      <p:sp>
        <p:nvSpPr>
          <p:cNvPr id="614" name="文本框 2"/>
          <p:cNvSpPr/>
          <p:nvPr/>
        </p:nvSpPr>
        <p:spPr>
          <a:xfrm>
            <a:off x="1260360" y="1268280"/>
            <a:ext cx="6480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1" lang="zh-CN" sz="2000" spc="-1" strike="noStrike">
                <a:solidFill>
                  <a:srgbClr val="ffffff"/>
                </a:solidFill>
                <a:latin typeface="Verdana"/>
              </a:rPr>
              <a:t>位于某城市高校区附件的宏宇小区是一个新兴的居民住宅小区。该小区内住户大部分为高级知识分子，少部分为在该小区旁菜市场、商店里工作的民工。该小区内的人群年龄分布以中年人和老年人为主。大部分仍然工作在教学科研一线，工作压力较大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1" lang="zh-CN" sz="2000" spc="-1" strike="noStrike">
                <a:solidFill>
                  <a:srgbClr val="ffffff"/>
                </a:solidFill>
                <a:latin typeface="Verdana"/>
              </a:rPr>
              <a:t>小区内均为高层楼房，由于是新建小区，因此楼梯走廊比较明亮、少堆积物，但有部分楼道内的灭火器缺失。多数住户数值火警电话，但不会使用防火器械。小区内绿化好，水泥路面平整通畅。地下车库还没有建成使用，因此小区内停车比较拥堵，机动车占用了一半的人行道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pic>
        <p:nvPicPr>
          <p:cNvPr id="704" name="内容占位符 6" descr=""/>
          <p:cNvPicPr/>
          <p:nvPr/>
        </p:nvPicPr>
        <p:blipFill>
          <a:blip r:embed="rId1"/>
          <a:stretch/>
        </p:blipFill>
        <p:spPr>
          <a:xfrm>
            <a:off x="665280" y="1395360"/>
            <a:ext cx="7740360" cy="4462560"/>
          </a:xfrm>
          <a:prstGeom prst="rect">
            <a:avLst/>
          </a:prstGeom>
          <a:ln w="0">
            <a:noFill/>
          </a:ln>
        </p:spPr>
      </p:pic>
      <p:sp>
        <p:nvSpPr>
          <p:cNvPr id="7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707" name=""/>
          <p:cNvSpPr txBox="1"/>
          <p:nvPr/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常用社区护理相关评价指标 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社区卫生服务数量和质量的评价指标。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社区卫生资源投入评价指标。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</a:rPr>
              <a:t>  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服务满意度评价指标。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社区卫生服务影响力评价指标。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7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711" name="图片 6" descr="4.png"/>
          <p:cNvPicPr/>
          <p:nvPr/>
        </p:nvPicPr>
        <p:blipFill>
          <a:blip r:embed="rId1"/>
          <a:stretch/>
        </p:blipFill>
        <p:spPr>
          <a:xfrm>
            <a:off x="468360" y="1628640"/>
            <a:ext cx="8280360" cy="4870440"/>
          </a:xfrm>
          <a:prstGeom prst="rect">
            <a:avLst/>
          </a:prstGeom>
          <a:ln w="0">
            <a:noFill/>
          </a:ln>
        </p:spPr>
      </p:pic>
      <p:sp>
        <p:nvSpPr>
          <p:cNvPr id="712" name="TextBox 6"/>
          <p:cNvSpPr/>
          <p:nvPr/>
        </p:nvSpPr>
        <p:spPr>
          <a:xfrm>
            <a:off x="2340000" y="1628640"/>
            <a:ext cx="6408720" cy="28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第四节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社区居民健康档案的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建立与管理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714" name=""/>
          <p:cNvSpPr txBox="1"/>
          <p:nvPr/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ff6600"/>
                </a:solidFill>
                <a:latin typeface="Verdana"/>
                <a:ea typeface="宋体"/>
              </a:rPr>
              <a:t>社区居民健康档案</a:t>
            </a: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是记录与社区居民健康有关信息的系统性文件，是社区卫生技术人员全面掌握居民健康状况的基本工具，是居民提供连续性、综合性、协调性的社区卫生服务的重要依据，同时还是社区护理教学、社区护理研究和司法工作的重要参考资料。 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一、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健康档案的类型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7" name=""/>
          <p:cNvSpPr txBox="1"/>
          <p:nvPr/>
        </p:nvSpPr>
        <p:spPr>
          <a:xfrm>
            <a:off x="304560" y="1371240"/>
            <a:ext cx="4228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根据档案主体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个人健康档案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家庭健康档案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社区健康档案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18" name=""/>
          <p:cNvSpPr txBox="1"/>
          <p:nvPr/>
        </p:nvSpPr>
        <p:spPr>
          <a:xfrm>
            <a:off x="4686120" y="1371240"/>
            <a:ext cx="4228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根据记录材质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纸质健康档案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电子健康档案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二、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健康档案的内容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1" name=""/>
          <p:cNvSpPr txBox="1"/>
          <p:nvPr/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个人健康档案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主要针对社区卫生服务中心管辖范围内常住居民，包括居住半年以上的户籍及非户籍居民。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以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0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岁儿童、孕产妇、老年人、慢性病患者和重性精神疾病患者等人群为重点。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二、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健康档案的内容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4" name=""/>
          <p:cNvSpPr txBox="1"/>
          <p:nvPr/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个人健康档案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ff6600"/>
                </a:solidFill>
                <a:latin typeface="Verdana"/>
                <a:ea typeface="宋体"/>
              </a:rPr>
              <a:t>以问题为导向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的健康记录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个人基本信息、健康体检、重点人群健康管理记录和其他医疗卫生服务记录。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ff6600"/>
                </a:solidFill>
                <a:latin typeface="Verdana"/>
                <a:ea typeface="宋体"/>
              </a:rPr>
              <a:t>以预防为导向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的健康记录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周期性健康检查记录表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免疫接种记录表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3" marL="1600200" indent="-228600">
              <a:lnSpc>
                <a:spcPct val="150000"/>
              </a:lnSpc>
              <a:buClr>
                <a:srgbClr val="046ca6"/>
              </a:buClr>
              <a:buFont typeface="Wingdings" charset="2"/>
              <a:buChar char=""/>
            </a:pP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45760" y="1052280"/>
            <a:ext cx="807732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以“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S-O-A-P”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的形式对个人健康问题描述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7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28" name="Text Box 2"/>
          <p:cNvSpPr/>
          <p:nvPr/>
        </p:nvSpPr>
        <p:spPr>
          <a:xfrm>
            <a:off x="395280" y="1700280"/>
            <a:ext cx="8379000" cy="4897440"/>
          </a:xfrm>
          <a:prstGeom prst="rect">
            <a:avLst/>
          </a:prstGeom>
          <a:gradFill rotWithShape="0">
            <a:gsLst>
              <a:gs pos="0">
                <a:srgbClr val="bbd5f0"/>
              </a:gs>
              <a:gs pos="100000">
                <a:srgbClr val="9cbee0"/>
              </a:gs>
            </a:gsLst>
            <a:lin ang="5400000"/>
          </a:gradFill>
          <a:ln w="15840">
            <a:solidFill>
              <a:srgbClr val="739c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Verdana"/>
              </a:rPr>
              <a:t>--S</a:t>
            </a:r>
            <a:r>
              <a:rPr b="1" lang="zh-CN" sz="2400" spc="-1" strike="noStrike">
                <a:solidFill>
                  <a:srgbClr val="ff6600"/>
                </a:solidFill>
                <a:latin typeface="Verdana"/>
              </a:rPr>
              <a:t>（</a:t>
            </a:r>
            <a:r>
              <a:rPr b="1" lang="en-US" sz="2400" spc="-1" strike="noStrike">
                <a:solidFill>
                  <a:srgbClr val="ff6600"/>
                </a:solidFill>
                <a:latin typeface="Verdana"/>
              </a:rPr>
              <a:t>subjective data</a:t>
            </a:r>
            <a:r>
              <a:rPr b="1" lang="zh-CN" sz="2400" spc="-1" strike="noStrike">
                <a:solidFill>
                  <a:srgbClr val="ff6600"/>
                </a:solidFill>
                <a:latin typeface="Verdana"/>
              </a:rPr>
              <a:t>）</a:t>
            </a:r>
            <a:r>
              <a:rPr b="1" lang="en-US" sz="2400" spc="-1" strike="noStrike">
                <a:solidFill>
                  <a:srgbClr val="ff6600"/>
                </a:solidFill>
                <a:latin typeface="Verdana"/>
              </a:rPr>
              <a:t>=</a:t>
            </a:r>
            <a:r>
              <a:rPr b="1" lang="zh-CN" sz="2400" spc="-1" strike="noStrike">
                <a:solidFill>
                  <a:srgbClr val="ff6600"/>
                </a:solidFill>
                <a:latin typeface="Verdana"/>
              </a:rPr>
              <a:t>个体的主观资料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Verdana"/>
              </a:rPr>
              <a:t>     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</a:rPr>
              <a:t>是由个体提供的主诉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</a:rPr>
              <a:t>/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</a:rPr>
              <a:t>症状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</a:rPr>
              <a:t>/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</a:rPr>
              <a:t>病史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</a:rPr>
              <a:t>/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</a:rPr>
              <a:t>家族史等。填写时尽量用个体的语言来描述，医护人员的主观看法不可加入其中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Verdana"/>
              </a:rPr>
              <a:t>--O</a:t>
            </a:r>
            <a:r>
              <a:rPr b="1" lang="zh-CN" sz="2400" spc="-1" strike="noStrike">
                <a:solidFill>
                  <a:srgbClr val="ff6600"/>
                </a:solidFill>
                <a:latin typeface="Verdana"/>
              </a:rPr>
              <a:t>（</a:t>
            </a:r>
            <a:r>
              <a:rPr b="1" lang="en-US" sz="2400" spc="-1" strike="noStrike">
                <a:solidFill>
                  <a:srgbClr val="ff6600"/>
                </a:solidFill>
                <a:latin typeface="Verdana"/>
              </a:rPr>
              <a:t>objective data</a:t>
            </a:r>
            <a:r>
              <a:rPr b="1" lang="zh-CN" sz="2400" spc="-1" strike="noStrike">
                <a:solidFill>
                  <a:srgbClr val="ff6600"/>
                </a:solidFill>
                <a:latin typeface="Verdana"/>
              </a:rPr>
              <a:t>）</a:t>
            </a:r>
            <a:r>
              <a:rPr b="1" lang="en-US" sz="2400" spc="-1" strike="noStrike">
                <a:solidFill>
                  <a:srgbClr val="ff6600"/>
                </a:solidFill>
                <a:latin typeface="Verdana"/>
              </a:rPr>
              <a:t>=</a:t>
            </a:r>
            <a:r>
              <a:rPr b="1" lang="zh-CN" sz="2400" spc="-1" strike="noStrike">
                <a:solidFill>
                  <a:srgbClr val="ff6600"/>
                </a:solidFill>
                <a:latin typeface="Verdana"/>
              </a:rPr>
              <a:t>客观资料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Verdana"/>
              </a:rPr>
              <a:t>     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</a:rPr>
              <a:t>是医生诊疗过程中观察到的个体资料，包括体征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</a:rPr>
              <a:t>/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</a:rPr>
              <a:t>实验室检查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</a:rPr>
              <a:t>/X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</a:rPr>
              <a:t>线检查的资料以及个体的态度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</a:rPr>
              <a:t>/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</a:rPr>
              <a:t>行为等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Verdana"/>
              </a:rPr>
              <a:t>--A</a:t>
            </a:r>
            <a:r>
              <a:rPr b="1" lang="zh-CN" sz="2400" spc="-1" strike="noStrike">
                <a:solidFill>
                  <a:srgbClr val="ff6600"/>
                </a:solidFill>
                <a:latin typeface="Verdana"/>
              </a:rPr>
              <a:t>（</a:t>
            </a:r>
            <a:r>
              <a:rPr b="1" lang="en-US" sz="2400" spc="-1" strike="noStrike">
                <a:solidFill>
                  <a:srgbClr val="ff6600"/>
                </a:solidFill>
                <a:latin typeface="Verdana"/>
              </a:rPr>
              <a:t>assessment</a:t>
            </a:r>
            <a:r>
              <a:rPr b="1" lang="zh-CN" sz="2400" spc="-1" strike="noStrike">
                <a:solidFill>
                  <a:srgbClr val="ff6600"/>
                </a:solidFill>
                <a:latin typeface="Verdana"/>
              </a:rPr>
              <a:t>）</a:t>
            </a:r>
            <a:r>
              <a:rPr b="1" lang="en-US" sz="2400" spc="-1" strike="noStrike">
                <a:solidFill>
                  <a:srgbClr val="ff6600"/>
                </a:solidFill>
                <a:latin typeface="Verdana"/>
              </a:rPr>
              <a:t>=</a:t>
            </a:r>
            <a:r>
              <a:rPr b="1" lang="zh-CN" sz="2400" spc="-1" strike="noStrike">
                <a:solidFill>
                  <a:srgbClr val="ff6600"/>
                </a:solidFill>
                <a:latin typeface="Verdana"/>
              </a:rPr>
              <a:t>评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Verdana"/>
              </a:rPr>
              <a:t>     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</a:rPr>
              <a:t>是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</a:rPr>
              <a:t>SOAP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</a:rPr>
              <a:t>中最重要的部分，应包括诊断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</a:rPr>
              <a:t>/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</a:rPr>
              <a:t>鉴别诊断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</a:rPr>
              <a:t>/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</a:rPr>
              <a:t>与其他问题的关系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</a:rPr>
              <a:t>/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</a:rPr>
              <a:t>问题的轻重程度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</a:rPr>
              <a:t>/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</a:rPr>
              <a:t>预后等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Verdana"/>
              </a:rPr>
              <a:t>--P</a:t>
            </a:r>
            <a:r>
              <a:rPr b="1" lang="zh-CN" sz="2400" spc="-1" strike="noStrike">
                <a:solidFill>
                  <a:srgbClr val="ff6600"/>
                </a:solidFill>
                <a:latin typeface="Verdana"/>
              </a:rPr>
              <a:t>（</a:t>
            </a:r>
            <a:r>
              <a:rPr b="1" lang="en-US" sz="2400" spc="-1" strike="noStrike">
                <a:solidFill>
                  <a:srgbClr val="ff6600"/>
                </a:solidFill>
                <a:latin typeface="Verdana"/>
              </a:rPr>
              <a:t>plan</a:t>
            </a:r>
            <a:r>
              <a:rPr b="1" lang="zh-CN" sz="2400" spc="-1" strike="noStrike">
                <a:solidFill>
                  <a:srgbClr val="ff6600"/>
                </a:solidFill>
                <a:latin typeface="Verdana"/>
              </a:rPr>
              <a:t>）</a:t>
            </a:r>
            <a:r>
              <a:rPr b="1" lang="en-US" sz="2400" spc="-1" strike="noStrike">
                <a:solidFill>
                  <a:srgbClr val="ff6600"/>
                </a:solidFill>
                <a:latin typeface="Verdana"/>
              </a:rPr>
              <a:t>=</a:t>
            </a:r>
            <a:r>
              <a:rPr b="1" lang="zh-CN" sz="2400" spc="-1" strike="noStrike">
                <a:solidFill>
                  <a:srgbClr val="ff6600"/>
                </a:solidFill>
                <a:latin typeface="Verdana"/>
              </a:rPr>
              <a:t>计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Verdana"/>
              </a:rPr>
              <a:t>     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</a:rPr>
              <a:t>是针对问题而提出的，每一问题都有相应的计划，包括诊断计划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</a:rPr>
              <a:t>/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</a:rPr>
              <a:t>治疗计划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</a:rPr>
              <a:t>/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</a:rPr>
              <a:t>个体指导等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二、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健康档案的内容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0" name=""/>
          <p:cNvSpPr txBox="1"/>
          <p:nvPr/>
        </p:nvSpPr>
        <p:spPr>
          <a:xfrm>
            <a:off x="468360" y="1236600"/>
            <a:ext cx="8447040" cy="50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家庭健康档案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家庭基本资料　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家庭评估资料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</a:rPr>
              <a:t>  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家庭主要健康问题目录及健康问题描述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家庭成员健康记录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"/>
          <p:cNvSpPr txBox="1"/>
          <p:nvPr/>
        </p:nvSpPr>
        <p:spPr>
          <a:xfrm>
            <a:off x="468360" y="1236600"/>
            <a:ext cx="8447040" cy="50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社区</a:t>
            </a: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健康档案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社区基本资料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社区卫生服务资源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社区卫生服务状况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社区居民健康状况 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Wingdings" charset="2"/>
              <a:buChar char=""/>
            </a:pP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34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</a:rPr>
              <a:t>二、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健康档案的内容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6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617" name="Picture 15" descr="Chalkboard3"/>
          <p:cNvPicPr/>
          <p:nvPr/>
        </p:nvPicPr>
        <p:blipFill>
          <a:blip r:embed="rId1"/>
          <a:srcRect l="0" t="2168" r="0" b="0"/>
          <a:stretch/>
        </p:blipFill>
        <p:spPr>
          <a:xfrm>
            <a:off x="-181080" y="836640"/>
            <a:ext cx="9577440" cy="6121440"/>
          </a:xfrm>
          <a:prstGeom prst="rect">
            <a:avLst/>
          </a:prstGeom>
          <a:ln w="0">
            <a:noFill/>
          </a:ln>
        </p:spPr>
      </p:pic>
      <p:sp>
        <p:nvSpPr>
          <p:cNvPr id="618" name="文本框 2"/>
          <p:cNvSpPr/>
          <p:nvPr/>
        </p:nvSpPr>
        <p:spPr>
          <a:xfrm>
            <a:off x="1260360" y="1268280"/>
            <a:ext cx="6480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1" lang="zh-CN" sz="2000" spc="-1" strike="noStrike">
                <a:solidFill>
                  <a:srgbClr val="ffffff"/>
                </a:solidFill>
                <a:latin typeface="Verdana"/>
              </a:rPr>
              <a:t>小区内有一所小学，但校门开放方向正好面对社区外的马路，距离马路的距离也较近。小区内有棋牌室、麻将室，但是光顾的人不多。小区内无正式宗教团体。小区内有药店，但离社区医疗服务中心距离比较远，需要换乘公交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2</a:t>
            </a:r>
            <a:r>
              <a:rPr b="1" lang="zh-CN" sz="2000" spc="-1" strike="noStrike">
                <a:solidFill>
                  <a:srgbClr val="ffffff"/>
                </a:solidFill>
                <a:latin typeface="Verdana"/>
              </a:rPr>
              <a:t>次才能到达。社区卫生服务中心以白天门诊服务为主，夜晚无就医条件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1" lang="zh-CN" sz="2000" spc="-1" strike="noStrike">
                <a:solidFill>
                  <a:srgbClr val="ffffff"/>
                </a:solidFill>
                <a:latin typeface="Verdana"/>
              </a:rPr>
              <a:t>社区医护人员在建档时发现该社区居民的高血压患病率为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23.2%</a:t>
            </a:r>
            <a:r>
              <a:rPr b="1" lang="zh-CN" sz="2000" spc="-1" strike="noStrike">
                <a:solidFill>
                  <a:srgbClr val="ffffff"/>
                </a:solidFill>
                <a:latin typeface="Verdana"/>
              </a:rPr>
              <a:t>，相比于全国成人高血压患病率平均水平高（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18.8%</a:t>
            </a:r>
            <a:r>
              <a:rPr b="1" lang="zh-CN" sz="2000" spc="-1" strike="noStrike">
                <a:solidFill>
                  <a:srgbClr val="ffffff"/>
                </a:solidFill>
                <a:latin typeface="Verdana"/>
              </a:rPr>
              <a:t>）。通过与居民交谈后得知多数居民喜欢吃咸食，少运动，居民们对高血压疾病的相关知识了解不够，缺乏自我保护意识和保健知识。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    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社区居民健康档案的管理与使用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37" name="内容占位符 1" descr=""/>
          <p:cNvPicPr/>
          <p:nvPr/>
        </p:nvPicPr>
        <p:blipFill>
          <a:blip r:embed="rId1"/>
          <a:stretch/>
        </p:blipFill>
        <p:spPr>
          <a:xfrm>
            <a:off x="-6480" y="1352520"/>
            <a:ext cx="9406080" cy="48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739" name="Object 2"/>
          <p:cNvGraphicFramePr/>
          <p:nvPr/>
        </p:nvGraphicFramePr>
        <p:xfrm>
          <a:off x="928800" y="214200"/>
          <a:ext cx="6858000" cy="6367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8800" y="214200"/>
                    <a:ext cx="6858000" cy="6367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41" name="TextBox 4"/>
          <p:cNvSpPr/>
          <p:nvPr/>
        </p:nvSpPr>
        <p:spPr>
          <a:xfrm>
            <a:off x="7732080" y="1143000"/>
            <a:ext cx="9118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</a:rPr>
              <a:t>图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</a:rPr>
              <a:t>1 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</a:rPr>
              <a:t>确定建档对象流程图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43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744" name="Object 1"/>
          <p:cNvGraphicFramePr/>
          <p:nvPr/>
        </p:nvGraphicFramePr>
        <p:xfrm>
          <a:off x="571680" y="214200"/>
          <a:ext cx="7362720" cy="6421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5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1680" y="214200"/>
                    <a:ext cx="7362720" cy="642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6" name="TextBox 5"/>
          <p:cNvSpPr/>
          <p:nvPr/>
        </p:nvSpPr>
        <p:spPr>
          <a:xfrm>
            <a:off x="7732080" y="1143000"/>
            <a:ext cx="9118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</a:rPr>
              <a:t>图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</a:rPr>
              <a:t>2 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</a:rPr>
              <a:t>居民健康档案管理流程图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"/>
          <p:cNvSpPr txBox="1"/>
          <p:nvPr/>
        </p:nvSpPr>
        <p:spPr>
          <a:xfrm>
            <a:off x="179280" y="1196640"/>
            <a:ext cx="885672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建档工作的考核指标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1. 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健康档案建档率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=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建档人数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/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辖区内常住居民数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×100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％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2. 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电子健康档案建档率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=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建立电子健康档案人数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/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辖区内常住居民数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×100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％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3. 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健康档案合格率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=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抽查填写合格的档案份数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/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抽查档案总份数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×100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％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4. 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健康档案使用率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=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抽查档案中有动态记录的档案份数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/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抽查档案总份数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×100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％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Verdana"/>
                <a:ea typeface="宋体"/>
              </a:rPr>
              <a:t>(</a:t>
            </a:r>
            <a:r>
              <a:rPr b="1" lang="zh-CN" sz="1800" spc="-1" strike="noStrike">
                <a:solidFill>
                  <a:srgbClr val="0070c0"/>
                </a:solidFill>
                <a:latin typeface="Verdana"/>
                <a:ea typeface="宋体"/>
              </a:rPr>
              <a:t>有动态记录的档案是指</a:t>
            </a:r>
            <a:r>
              <a:rPr b="1" lang="en-US" sz="1800" spc="-1" strike="noStrike">
                <a:solidFill>
                  <a:srgbClr val="0070c0"/>
                </a:solidFill>
                <a:latin typeface="Verdana"/>
                <a:ea typeface="宋体"/>
              </a:rPr>
              <a:t>1</a:t>
            </a:r>
            <a:r>
              <a:rPr b="1" lang="zh-CN" sz="1800" spc="-1" strike="noStrike">
                <a:solidFill>
                  <a:srgbClr val="0070c0"/>
                </a:solidFill>
                <a:latin typeface="Verdana"/>
                <a:ea typeface="宋体"/>
              </a:rPr>
              <a:t>年内有符合各项服务规范要求的相关服务记录的健康档案</a:t>
            </a:r>
            <a:r>
              <a:rPr b="1" lang="en-US" sz="1800" spc="-1" strike="noStrike">
                <a:solidFill>
                  <a:srgbClr val="0070c0"/>
                </a:solidFill>
                <a:latin typeface="Verdana"/>
                <a:ea typeface="宋体"/>
              </a:rPr>
              <a:t>)</a:t>
            </a:r>
            <a:endParaRPr b="1" lang="en-US" sz="1800" spc="-1" strike="noStrike">
              <a:solidFill>
                <a:srgbClr val="0070c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endParaRPr b="1" lang="en-US" sz="18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49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三、社区居民健康档案的管理与使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6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21" name="TextBox 7"/>
          <p:cNvSpPr/>
          <p:nvPr/>
        </p:nvSpPr>
        <p:spPr>
          <a:xfrm>
            <a:off x="468360" y="1484280"/>
            <a:ext cx="7920000" cy="39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Verdana"/>
              </a:rPr>
              <a:t>作为一名工作在这个社区的护士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除了目前已有的评估资料外，你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需要对这个社区补充哪些评估资料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本例中所得到的社区护理问题较多，你将以何种原则对这些社区护理问题进行排序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为这个社区的人群设计干预计划时，如何根据社区人群的文化程度来考虑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622" name="Picture 2" descr="http://down.tutu001.com/d/file/20120217/373dcfb4c8f401a2c8be033836_560.jpg"/>
          <p:cNvPicPr/>
          <p:nvPr/>
        </p:nvPicPr>
        <p:blipFill>
          <a:blip r:embed="rId1"/>
          <a:srcRect l="9449" t="12529" r="9550" b="12292"/>
          <a:stretch/>
        </p:blipFill>
        <p:spPr>
          <a:xfrm>
            <a:off x="6875640" y="1197000"/>
            <a:ext cx="192060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6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625" name="图片 6" descr="4.png"/>
          <p:cNvPicPr/>
          <p:nvPr/>
        </p:nvPicPr>
        <p:blipFill>
          <a:blip r:embed="rId1"/>
          <a:stretch/>
        </p:blipFill>
        <p:spPr>
          <a:xfrm>
            <a:off x="468360" y="1628640"/>
            <a:ext cx="8280360" cy="4870440"/>
          </a:xfrm>
          <a:prstGeom prst="rect">
            <a:avLst/>
          </a:prstGeom>
          <a:ln w="0">
            <a:noFill/>
          </a:ln>
        </p:spPr>
      </p:pic>
      <p:sp>
        <p:nvSpPr>
          <p:cNvPr id="626" name="TextBox 6"/>
          <p:cNvSpPr/>
          <p:nvPr/>
        </p:nvSpPr>
        <p:spPr>
          <a:xfrm>
            <a:off x="3059280" y="2421000"/>
            <a:ext cx="540036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第一节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社区评估与诊断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2771640" y="304560"/>
            <a:ext cx="61437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一、社区评估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8" name=""/>
          <p:cNvSpPr txBox="1"/>
          <p:nvPr/>
        </p:nvSpPr>
        <p:spPr>
          <a:xfrm>
            <a:off x="178920" y="1125000"/>
            <a:ext cx="8736120" cy="512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社区评估的</a:t>
            </a:r>
            <a:r>
              <a:rPr b="1" lang="zh-CN" sz="3200" spc="-1" strike="noStrike">
                <a:solidFill>
                  <a:srgbClr val="ff6600"/>
                </a:solidFill>
                <a:latin typeface="Verdana"/>
                <a:ea typeface="宋体"/>
              </a:rPr>
              <a:t>定义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是指收集社区实际存在和潜在健康问题有关资料的过程。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社区评估的</a:t>
            </a:r>
            <a:r>
              <a:rPr b="1" lang="zh-CN" sz="3200" spc="-1" strike="noStrike">
                <a:solidFill>
                  <a:srgbClr val="ff6600"/>
                </a:solidFill>
                <a:latin typeface="Verdana"/>
                <a:ea typeface="宋体"/>
              </a:rPr>
              <a:t>目的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发现社区健康问题。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找出导致问题的相关因素。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为社区护理诊断和计划提供依据。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2771640" y="304560"/>
            <a:ext cx="61437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一、社区评估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31" name="内容占位符 5" descr=""/>
          <p:cNvPicPr/>
          <p:nvPr/>
        </p:nvPicPr>
        <p:blipFill>
          <a:blip r:embed="rId1"/>
          <a:stretch/>
        </p:blipFill>
        <p:spPr>
          <a:xfrm>
            <a:off x="-476280" y="974880"/>
            <a:ext cx="12760200" cy="5591160"/>
          </a:xfrm>
          <a:prstGeom prst="rect">
            <a:avLst/>
          </a:prstGeom>
          <a:ln w="0">
            <a:noFill/>
          </a:ln>
        </p:spPr>
      </p:pic>
      <p:sp>
        <p:nvSpPr>
          <p:cNvPr id="6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6326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一、社区评估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4" name=""/>
          <p:cNvSpPr txBox="1"/>
          <p:nvPr/>
        </p:nvSpPr>
        <p:spPr>
          <a:xfrm>
            <a:off x="179280" y="1125360"/>
            <a:ext cx="885672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社区评估的</a:t>
            </a:r>
            <a:r>
              <a:rPr b="1" lang="zh-CN" sz="3200" spc="-1" strike="noStrike">
                <a:solidFill>
                  <a:srgbClr val="ff6600"/>
                </a:solidFill>
                <a:latin typeface="Verdana"/>
                <a:ea typeface="宋体"/>
              </a:rPr>
              <a:t>方法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社区实地考察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挡风玻璃式调查（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windshield survey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） 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重点人物访谈（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key informants interview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问卷调查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查阅文献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参与式观察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社区讨论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6-03-11T03:15:35Z</dcterms:modified>
  <cp:revision>53</cp:revision>
  <dc:subject/>
  <dc:title>第二章 以社区为中心的护理</dc:title>
</cp:coreProperties>
</file>