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F8ACC2-C8C1-4BB7-8C4A-73717B3FE8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1233851D-0895-4EB7-BD50-A77FA5BBE3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EFAA5BE3-30AC-4C64-9442-72C085500F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E5A2DD35-A85D-4A4A-98F2-AC298971BF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CD88BC44-256D-45BA-A381-A8604867E7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CECF3B77-2020-4995-ADEE-EDDB30A546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3FACC393-0DF6-49C5-9139-B6EA249EE7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F955C1A5-9D99-4380-955C-72453FCE28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CD4C8051-8F82-4175-A353-FA484F2C1C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9FCEBBE-2EE4-44DD-B132-4EAFB5D1A5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97C969E8-169C-4633-A828-E76354DD44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B48818F-21D4-44E9-A22B-12CAF03171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BD56A-0596-4A3C-8BF2-F878327382B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章 </a:t>
            </a:r>
            <a:br>
              <a:rPr sz="4400"/>
            </a:br>
            <a:r>
              <a:rPr b="1" lang="zh-CN" sz="4400" spc="-1" strike="noStrike">
                <a:solidFill>
                  <a:srgbClr val="ffffff"/>
                </a:solidFill>
                <a:latin typeface="黑体"/>
              </a:rPr>
              <a:t>护理学概论</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概念变化的三个阶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疾病为中心的阶段</a:t>
            </a:r>
            <a:r>
              <a:rPr b="1" lang="zh-CN" sz="2000" spc="-1" strike="noStrike">
                <a:solidFill>
                  <a:srgbClr val="000000"/>
                </a:solidFill>
                <a:latin typeface="宋体"/>
              </a:rPr>
              <a:t>（</a:t>
            </a:r>
            <a:r>
              <a:rPr b="1" lang="en-US" sz="2000" spc="-1" strike="noStrike">
                <a:solidFill>
                  <a:srgbClr val="000000"/>
                </a:solidFill>
                <a:latin typeface="宋体"/>
              </a:rPr>
              <a:t>17</a:t>
            </a:r>
            <a:r>
              <a:rPr b="1" lang="zh-CN" sz="2000" spc="-1" strike="noStrike">
                <a:solidFill>
                  <a:srgbClr val="000000"/>
                </a:solidFill>
                <a:latin typeface="宋体"/>
              </a:rPr>
              <a:t>世纪－</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患者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整体人的健康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至今）</a:t>
            </a:r>
            <a:endParaRPr b="1" lang="en-US" sz="20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同年代对护理概念的描述</a:t>
            </a:r>
            <a:endParaRPr b="1" lang="en-US" sz="24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graphicFrame>
        <p:nvGraphicFramePr>
          <p:cNvPr id="125" name=""/>
          <p:cNvGraphicFramePr/>
          <p:nvPr/>
        </p:nvGraphicFramePr>
        <p:xfrm>
          <a:off x="611280" y="1844640"/>
          <a:ext cx="7705800" cy="4106880"/>
        </p:xfrm>
        <a:graphic>
          <a:graphicData uri="http://schemas.openxmlformats.org/drawingml/2006/table">
            <a:tbl>
              <a:tblPr/>
              <a:tblGrid>
                <a:gridCol w="1224000"/>
                <a:gridCol w="1274760"/>
                <a:gridCol w="5207040"/>
              </a:tblGrid>
              <a:tr h="316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年代</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专家</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概念描述内容</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59</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南丁格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通过改变环境，使患者置于最佳状态，待其自然康复</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4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奥立维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一种艺术和科学的结合，包括照顾患者的一切，增进其智力、精神、身体的健康</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罗杰斯</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协助人们达到其最佳的健康潜能状态，护理的服务对象是所有的人，只要有人的场所，就有护理服务</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国际</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帮助健康的人或患病的人保持或恢复健康（或平静地死去）</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美国</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诊断与处理人类对现存和潜在的健康问题的反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1</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周培源</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学是社会科学、自然科学理论指导下的一门综合性应用学科</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学的基本概念</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健康、环境、护理</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是护理专业最为关注的主体，护理服务对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整体</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在不同发展阶段有不同层次的基本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具有自理能力并对自己的健康负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环境</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fontScale="90000"/>
          </a:bodyPr>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生理、心理以及思维、思想和社会等方面 </a:t>
            </a:r>
            <a:endParaRPr b="1" lang="en-US" sz="2800" spc="-1" strike="noStrike">
              <a:solidFill>
                <a:srgbClr val="000000"/>
              </a:solidFill>
              <a:latin typeface="宋体"/>
            </a:endParaRPr>
          </a:p>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然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生物、化学、物理等组成部分 </a:t>
            </a:r>
            <a:endParaRPr b="1" lang="en-US" sz="24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经济、劳动条件、生活方式、文化、社会安全等 </a:t>
            </a:r>
            <a:endParaRPr b="1" lang="en-US" sz="2400" spc="-1" strike="noStrike">
              <a:solidFill>
                <a:srgbClr val="000000"/>
              </a:solidFill>
              <a:latin typeface="宋体"/>
            </a:endParaRPr>
          </a:p>
          <a:p>
            <a:pPr lvl="1" marL="668520" indent="-2570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健康</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健康不但是没有疾病或缺陷，而且是身体、精神和社会的完好适应状态”（</a:t>
            </a:r>
            <a:r>
              <a:rPr b="1" lang="en-US" sz="2800" spc="-1" strike="noStrike">
                <a:solidFill>
                  <a:srgbClr val="000000"/>
                </a:solidFill>
                <a:latin typeface="宋体"/>
              </a:rPr>
              <a:t>WHO</a:t>
            </a:r>
            <a:r>
              <a:rPr b="1" lang="zh-CN" sz="2800" spc="-1" strike="noStrike">
                <a:solidFill>
                  <a:srgbClr val="000000"/>
                </a:solidFill>
                <a:latin typeface="宋体"/>
              </a:rPr>
              <a:t>的定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动态、连续变化的过程</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整体的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的健康观念受多种因素影响</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为人的健康提供服务的过程，护理活动是科学、艺术、人道主义的结合。</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科学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艺术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道主义</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有目的、有组织、具有不断创造性的活动，护理程序是护理的基本方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护理四个基本概念之间的关系 </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护理的服务对象，人的健康是护理的核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与环境间进行着持续不断的相互作用，以达到促进、维持或恢复健康的目标。</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内、外环境影响健康状态，当环境变化超过人的代偿能力（包括生理代偿能力、心理代偿能力及社会支持系统的补充能力）时，人的健康状态就会向不良的方向发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护理的任务、功能和范畴</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任务</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与工作方式</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工作范畴</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健康</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维持最佳的健康水平或健康状态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疾病</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减少或消除影响健康的各种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学发展简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护理的任务、功能和范畴</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康复</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护理学的知识和技能帮助已经出现健康问题的服务对象解决健康问题，改善其健康状况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痛苦</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所学的护理理论知识和技能，帮助个体或群体减轻疾病带来的痛苦 </a:t>
            </a:r>
            <a:endParaRPr b="1" lang="en-US" sz="24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独立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应用专业知识和技能，来决定的护理措施及护理服务，即在一定的情景下护士独立作判断、决策，无需医嘱而为护理对象安排的护理活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需要按照医嘱或处方执行的措施，或其他健康专业人员指导或监督的职责。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患者的利益为中心的基础上，与其他保健人员进行沟通、共同协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性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工作内容归纳不同任务类，每项</a:t>
            </a:r>
            <a:r>
              <a:rPr b="1" lang="en-US" sz="2400" spc="-1" strike="noStrike">
                <a:solidFill>
                  <a:srgbClr val="000000"/>
                </a:solidFill>
                <a:latin typeface="宋体"/>
              </a:rPr>
              <a:t>/</a:t>
            </a:r>
            <a:r>
              <a:rPr b="1" lang="zh-CN" sz="2400" spc="-1" strike="noStrike">
                <a:solidFill>
                  <a:srgbClr val="000000"/>
                </a:solidFill>
                <a:latin typeface="宋体"/>
              </a:rPr>
              <a:t>类所涉及的功能由一名或几名护士完成，各司其职，互不干扰。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责任制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以患者为中心，每个患者由一名责任护士负责，对患者实施</a:t>
            </a:r>
            <a:r>
              <a:rPr b="1" lang="en-US" sz="2400" spc="-1" strike="noStrike">
                <a:solidFill>
                  <a:srgbClr val="000000"/>
                </a:solidFill>
                <a:latin typeface="宋体"/>
              </a:rPr>
              <a:t>8</a:t>
            </a:r>
            <a:r>
              <a:rPr b="1" lang="zh-CN" sz="2400" spc="-1" strike="noStrike">
                <a:solidFill>
                  <a:srgbClr val="000000"/>
                </a:solidFill>
                <a:latin typeface="宋体"/>
              </a:rPr>
              <a:t>小时护理，</a:t>
            </a:r>
            <a:r>
              <a:rPr b="1" lang="en-US" sz="2400" spc="-1" strike="noStrike">
                <a:solidFill>
                  <a:srgbClr val="000000"/>
                </a:solidFill>
                <a:latin typeface="宋体"/>
              </a:rPr>
              <a:t>24</a:t>
            </a:r>
            <a:r>
              <a:rPr b="1" lang="zh-CN" sz="2400" spc="-1" strike="noStrike">
                <a:solidFill>
                  <a:srgbClr val="000000"/>
                </a:solidFill>
                <a:latin typeface="宋体"/>
              </a:rPr>
              <a:t>小时负责，对患者从入院到出院的全过程实施有计划、有目的的护理。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5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案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一个或几个患者所需的护理，完全由一位护理人员完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小组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人员分成若干小组，由一位有经验的护士领导一组人对一组患者提供护理。每组通常由</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个护士负责</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个患者的护理工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的工作范畴</a:t>
            </a:r>
            <a:endParaRPr b="1" lang="en-US" sz="4400" spc="-1" strike="noStrike">
              <a:solidFill>
                <a:srgbClr val="ffffff"/>
              </a:solidFill>
              <a:latin typeface="黑体"/>
            </a:endParaRPr>
          </a:p>
        </p:txBody>
      </p:sp>
      <p:sp>
        <p:nvSpPr>
          <p:cNvPr id="153" name=""/>
          <p:cNvSpPr txBox="1"/>
          <p:nvPr/>
        </p:nvSpPr>
        <p:spPr>
          <a:xfrm>
            <a:off x="350640" y="1052640"/>
            <a:ext cx="8474040" cy="5216400"/>
          </a:xfrm>
          <a:prstGeom prst="rect">
            <a:avLst/>
          </a:prstGeom>
          <a:noFill/>
          <a:ln w="0">
            <a:noFill/>
          </a:ln>
        </p:spPr>
        <p:txBody>
          <a:bodyPr anchor="t">
            <a:normAutofit fontScale="91000"/>
          </a:bodyPr>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基础知识和技能</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专科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区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管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教育</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研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学的</a:t>
            </a:r>
            <a:r>
              <a:rPr b="1" lang="en-US" sz="2800" spc="-1" strike="noStrike">
                <a:solidFill>
                  <a:srgbClr val="000000"/>
                </a:solidFill>
                <a:latin typeface="宋体"/>
              </a:rPr>
              <a:t>4</a:t>
            </a:r>
            <a:r>
              <a:rPr b="1" lang="zh-CN" sz="2800" spc="-1" strike="noStrike">
                <a:solidFill>
                  <a:srgbClr val="000000"/>
                </a:solidFill>
                <a:latin typeface="宋体"/>
              </a:rPr>
              <a:t>个基本概念指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预防、治疗、护理、环境</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患者、健康、社会、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人、环境、健康、预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人、环境、健康、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患者、预防、治疗、护理</a:t>
            </a:r>
            <a:endParaRPr b="1" lang="en-US" sz="2800" spc="-1" strike="noStrike">
              <a:solidFill>
                <a:srgbClr val="000000"/>
              </a:solidFill>
              <a:latin typeface="宋体"/>
            </a:endParaRPr>
          </a:p>
        </p:txBody>
      </p:sp>
      <p:sp>
        <p:nvSpPr>
          <p:cNvPr id="15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健康”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无躯体疾病或不适</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能正确地评价自己</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保持心理上的平衡</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有完好的生理、心理和社会适应能力</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健康与疾病是对立的，不能相互转化</a:t>
            </a:r>
            <a:endParaRPr b="1" lang="en-US" sz="2800" spc="-1" strike="noStrike">
              <a:solidFill>
                <a:srgbClr val="000000"/>
              </a:solidFill>
              <a:latin typeface="宋体"/>
            </a:endParaRPr>
          </a:p>
        </p:txBody>
      </p:sp>
      <p:sp>
        <p:nvSpPr>
          <p:cNvPr id="157"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有关整体护理内涵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满足服务对象生理、心理方面的需要</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服务对象包括患者和健康的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服务包括人的生命全过程</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服务于社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服务于个体</a:t>
            </a:r>
            <a:endParaRPr b="1" lang="en-US" sz="2800" spc="-1" strike="noStrike">
              <a:solidFill>
                <a:srgbClr val="000000"/>
              </a:solidFill>
              <a:latin typeface="宋体"/>
            </a:endParaRPr>
          </a:p>
        </p:txBody>
      </p:sp>
      <p:sp>
        <p:nvSpPr>
          <p:cNvPr id="15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现代护理学的形成主要经历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传染病防治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以慢性病康复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以健康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以疾病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以患者为中心的阶段</a:t>
            </a:r>
            <a:endParaRPr b="1" lang="en-US" sz="2800" spc="-1" strike="noStrike">
              <a:solidFill>
                <a:srgbClr val="000000"/>
              </a:solidFill>
              <a:latin typeface="宋体"/>
            </a:endParaRPr>
          </a:p>
        </p:txBody>
      </p:sp>
      <p:sp>
        <p:nvSpPr>
          <p:cNvPr id="16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人、环境、健康和护理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护理专业的特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举护理学发展过程中的重要事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护理学概念变化三个阶段的特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叙述护理学四个基本概念间相互关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护理的任务和护理工作范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护理的工作范畴包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临床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护理科研</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护理管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护理教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社区保健护理</a:t>
            </a:r>
            <a:endParaRPr b="1" lang="en-US" sz="2800" spc="-1" strike="noStrike">
              <a:solidFill>
                <a:srgbClr val="000000"/>
              </a:solidFill>
              <a:latin typeface="宋体"/>
            </a:endParaRPr>
          </a:p>
        </p:txBody>
      </p:sp>
      <p:sp>
        <p:nvSpPr>
          <p:cNvPr id="16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学发展简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世界护理发展历程</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我国护理发展历程</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古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巫术时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公元初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世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艺复兴时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近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开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南丁格尔护理时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弗洛伦斯</a:t>
            </a:r>
            <a:r>
              <a:rPr b="1" lang="en-US" sz="2800" spc="-1" strike="noStrike">
                <a:solidFill>
                  <a:srgbClr val="000000"/>
                </a:solidFill>
                <a:latin typeface="宋体"/>
              </a:rPr>
              <a:t>•</a:t>
            </a:r>
            <a:r>
              <a:rPr b="1" lang="zh-CN" sz="2800" spc="-1" strike="noStrike">
                <a:solidFill>
                  <a:srgbClr val="000000"/>
                </a:solidFill>
                <a:latin typeface="宋体"/>
              </a:rPr>
              <a:t>南丁格尔</a:t>
            </a:r>
            <a:r>
              <a:rPr b="1" lang="en-US" sz="2800" spc="-1" strike="noStrike">
                <a:solidFill>
                  <a:srgbClr val="000000"/>
                </a:solidFill>
                <a:latin typeface="宋体"/>
              </a:rPr>
              <a:t>——</a:t>
            </a:r>
            <a:r>
              <a:rPr b="1" lang="zh-CN" sz="2800" spc="-1" strike="noStrike">
                <a:solidFill>
                  <a:srgbClr val="000000"/>
                </a:solidFill>
                <a:latin typeface="宋体"/>
              </a:rPr>
              <a:t>近代护理学创始人</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Florence Nightingale,1820—1910</a:t>
            </a:r>
            <a:r>
              <a:rPr b="1" lang="zh-CN" sz="2800" spc="-1" strike="noStrike">
                <a:solidFill>
                  <a:srgbClr val="000000"/>
                </a:solidFill>
                <a:latin typeface="宋体"/>
              </a:rPr>
              <a:t>年）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现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理论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研究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团体的发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我国护理发展简史</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西方护理传入中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教育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专业团体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的发展</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学的基本概念</a:t>
            </a:r>
            <a:endParaRPr b="1" lang="en-US" sz="4400" spc="-1" strike="noStrike">
              <a:solidFill>
                <a:srgbClr val="ffffff"/>
              </a:solidFill>
              <a:latin typeface="黑体"/>
            </a:endParaRPr>
          </a:p>
        </p:txBody>
      </p:sp>
      <p:sp>
        <p:nvSpPr>
          <p:cNvPr id="12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概念的转变</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1:15:04Z</dcterms:created>
  <dc:creator>Microsoft Office 用户</dc:creator>
  <dc:description/>
  <dc:language>en-US</dc:language>
  <cp:lastModifiedBy>赵欣</cp:lastModifiedBy>
  <dcterms:modified xsi:type="dcterms:W3CDTF">2016-01-22T06:25:48Z</dcterms:modified>
  <cp:revision>12</cp:revision>
  <dc:subject/>
  <dc:title>第一章  护理学概论</dc:title>
</cp:coreProperties>
</file>