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6CAB-282F-4EAF-8534-E163407AE26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3BBA-41BE-44CE-BC14-7E857EBDBBB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84F9-81FD-4DA7-8D2C-146C5853C0A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8439-A054-4142-BBE1-80F72711E0C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A25C-3DD6-4B01-962C-B4F0D17AD47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9CEF-5B50-4562-9126-50B9822E1B7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2FEB-E634-459F-84EA-65A79982B2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F224-6FAF-4E60-ABBB-E963C64D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A3F8-3E50-4316-B2D9-EAE81D93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A5EF5-FE61-43AA-ADF4-23E7AC7CCC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447D-AAA3-43B5-A99E-0AE481F7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30475-5974-4F7C-80F7-69DCBD77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46ED-E61E-4119-9052-96F41823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FC9F-0BFA-48FE-B59C-E7FB351F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509DE-7E54-43FF-8542-1E3D8340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A78B-91F3-45C5-9166-83850E45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95739-166A-49FB-8EF1-08FF70D0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10236-CC62-4E9A-8907-95AB0322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87AE-B3C7-4F17-BDBE-4A6EF7A1204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08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45240"/>
                  <a:gd name="textAreaBottom" fmla="*/ 345240 h 34524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59280"/>
                  <a:gd name="textAreaBottom" fmla="*/ 360000 h 35928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  冷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位：皮肤较厚的区域对冷热的耐受性大，皮肤较薄的区域对冷、热的敏感性强；浅层皮肤对冷较敏感；血液循环良好的部位冷、热疗法的效果好于血液循环不良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体差异：年龄、性别、身体状况、居住习惯、肤色等影响冷、热治疗的效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冷热疗法的作用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充血或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炎症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低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促进炎症的消散或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冷热疗法的禁忌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局部血液循环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慢性炎症或深部化脓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损伤、破裂或有开放性伤口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冷过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慎用冷疗法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昏迷、感觉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老体弱、婴幼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疼痛、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哺乳期产妇胀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－</a:t>
            </a:r>
            <a:fld id="{4E2C1CEB-70EB-4646-94CE-8509B44E11C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禁忌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枕后、耳郭、阴囊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冻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心前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引起反射性心率减慢、心房或心室纤颤、房室传导阻滞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腹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腹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足底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反射性末梢血管收缩影响散热或引起一过性冠状动脉收缩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560" y="1371240"/>
            <a:ext cx="75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未明确诊断的急性腹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危险三角区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脏器出血、出血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软组织损伤或扭伤的初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：恶性病变部位、睾丸；金属移植物部位、人工关节；心、肝、肾功能不全者；皮肤湿疹、牙龈炎、中耳炎、结膜炎等；孕妇、麻痹、感觉异常者、婴幼儿、老年人慎用热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冷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局部冷疗法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温、止血、镇痛、消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局部皮肤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作用和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影响冷热疗法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熟练运用常用的冷热疗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70000" y="1196640"/>
            <a:ext cx="887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冰块敲成小块、冲去棱角、装入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~2/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排气、夹紧袋口、倒提冰袋检查有无漏水、装入布套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袋：高热时置于前额、头顶部、颈部两侧、腋窝、腹股沟等；扁桃体摘除术后置于颈前颌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。整理床单位，洗手、记录。正确处理冰袋等用物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随时观察用冷部位的局部情况、检查冰袋有无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高热患者降温，冰袋使用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需测体温，当体温降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下，应取下冰袋，并在体温单上做好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使用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避免继发反应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91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冰帽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目的】使头部温度下降，减轻脑组织代谢及耗氧量，预防脑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帽：方法同冰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帽：头部置冰帽中，后颈部、双耳郭垫海绵；排水管放水桶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，整理床单位。正确处理冰帽等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头部皮肤色泽，注意监测肛温，肛温不得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冰帽有无破损、漏水，冰块融化后，应及时更换或添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长时间使用者，需间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后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280" y="50832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肿胀、控制炎症、止血、止痛、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湿敷局部的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冷、热疗法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ld and heat therapy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利用低于或高于人体温度的物质作用于局部或全身，通过神经传导引起皮肤和内脏器官血管的收缩和舒张，改变机体各系统体液循环和新陈代谢，达到止血、止痛、消炎、退热和增进舒适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处准备：患者取舒适卧位，适当遮挡，暴露患处，垫一次性治疗巾于受敷部位下。局部涂凡士林，上盖一层纱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：敷布浸入冰水中，拧至半干，敷于患处。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更换一次敷布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擦干冷敷部位，擦掉凡士林。协助患者取舒适体位，整理床单位；分类处理用物，消毒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敷布湿度得当，以不滴水为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观察局部皮肤情况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，以防发生继发效应。使用冷湿敷降温，应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测量体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冷敷部位为开放性伤口，需按无菌技术操作原则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全身冷疗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乙醇拭浴或温水拭浴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352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全身拭浴的方法，使液体在皮肤上迅速蒸发，吸收和带走机体大量的热，为高热患者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前准备：适当遮挡，松开床尾盖被。冰袋置头部，热水袋置足底，协助患者脱去上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：大毛巾垫擦拭部位下，小毛巾浸入温水或乙醇中，拧至半干，缠于手上成手套状，以离心方向拭浴，拭浴毕，用大毛巾擦干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944640"/>
            <a:ext cx="89154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拭浴顺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上肢：患者取仰卧位，从颈外侧→肩→上臂外侧→前臂外侧→手背，从侧胸→腋窝→上臂内侧→前臂内侧→手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背部：患者取侧卧位，从颈下肩部→臀部，擦拭毕，穿好上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下肢：外侧从髂骨→下肢外侧→足背，内侧从腹股沟→下肢内侧→内踝，后侧从臀下→大腿后侧→腘窝→足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"/>
          <p:cNvPicPr/>
          <p:nvPr/>
        </p:nvPicPr>
        <p:blipFill>
          <a:blip r:embed="rId1"/>
          <a:stretch/>
        </p:blipFill>
        <p:spPr>
          <a:xfrm>
            <a:off x="2987640" y="1419120"/>
            <a:ext cx="52164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600"/>
            <a:ext cx="86104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整理：拭浴毕，取下热水袋。根据需要更换干净衣裤，协助患者取舒适体位；整理床单位，开窗，拉开床帘；按规范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有无出现异常症状体征；如有异常，停止拭浴，及时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胸前区、腹部、后颈、足底为拭浴的禁忌部位。新生儿、乙醇过敏者及血液病高热患者禁用乙醇拭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每个部位（四肢、背腰部）拍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全过程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时，以拍拭（轻拍）方式进行，至血管丰富处稍用力并延长停留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第三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热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一、干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2760" y="1557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袋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痉、减轻疼痛、保暖、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备热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昏迷、老人、婴幼儿、感觉迟钝，循环不良等患者，水温应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装热水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排气。擦干热水袋，倒提检查有无漏水，将热水袋装入布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携用物至床旁，核对患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热水袋：将热水袋放置所需部位，袋口朝身体外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局部皮肤变化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撤去用物，协助患者取舒适体位，整理床单位，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1125360"/>
            <a:ext cx="9396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常检查热水袋有无破损，以防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炎症部位热敷，热水袋控制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以免压力过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、婴幼儿、昏迷、感觉有障碍者等使用热水袋水温调节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外面再包一块大毛巾或将热水袋放于两层毯子之间，以防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检查局部皮肤情况，如皮肤潮红、疼痛应停止使用，并在局部涂凡士林以保护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不宜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灯及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消炎、镇痛、解痉、促进伤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428400"/>
            <a:ext cx="80773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机体对冷热的反应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）生理效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会产生不同的生理效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核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暴露局部：取体位舒适，清洁局部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调节灯距：皮肤与灯的距离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0cm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温度以温热为宜，可用手先试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照射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分钟为宜。前胸、面颈照射时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操作后处理：将烤灯及红外线灯擦拭整理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前胸、面颈照射时，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意识不清、局部感觉障碍、血液循环障碍、瘢痕者治疗时应加大灯距，防止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时避免触摸灯泡，以免发生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过程中应观察有无过热、心慌、头昏等感觉及皮肤有无发红、疼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湿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减轻直肠、会阴部血管淤血、消除局部炎症、水肿，起到止痛、促进引流的作用，常用于会阴部、肛门疾病及手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6680" y="10526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药、调温：遵医嘱配置药液置于浴盆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调节水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坐浴：浴盆置于坐浴椅上，屏风遮挡，暴露患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：协助患者裤子脱至膝盖部后取坐姿 ，用纱布蘸药液清洗外阴部皮肤，待适应水温后，坐入浴盆中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：密切观察患者，若出现面色苍白、脉搏加快、晕眩、软弱无力等应停止坐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坐浴毕，用纱布擦干臀部，协助穿裤，患者取舒适体位，卧床休息。开窗、拉开床帘、整理床单位，对用物正确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先排尿、排便，避免热水刺激肛门、会阴部引起排尿、排便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用纱布蘸药水在外阴部皮肤上试温，坐浴中应将臀部完全泡入药水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过程中应随时调节水温，添加热水时防止烫伤。冬季注意调节室温与保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ao1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143000" y="380880"/>
            <a:ext cx="7238880" cy="6445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-240840" y="1219320"/>
            <a:ext cx="1155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冷热疗法的生理效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部位若有伤口，应按无菌技术操作原则准备用物和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女性患者经期、妊娠后期、产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、阴道出血和盆腔急性炎症不宜坐浴，以免引起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解痉、消炎、消肿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方法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参照冷湿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温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开始湿敷时，应将敷布放在护士手腕内侧试温，以不烫手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患者热敷部位不忌压力时，可用热水袋放置在敷布上再盖以大毛巾，以维持温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敷过程中如果患者感觉过热，可掀起敷布一角散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热敷应休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方可外出，以防感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体用热和用冷之后出现不同的生理效应。用冷或用热超过一定时间，将产生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所产生效果受到方法、作用部位、面积、温度、时间及个体差异等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于人体的局部或全身可以产生止痛、止血、消炎、退热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于人体可以产生止痛、消炎、保暖、扩张外周血管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注意冷热疗法使用中的禁忌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冷疗法有：冰袋或冰帽使用、冷湿敷、乙醇拭浴等；常用热疗法有热水袋、烤灯的使用、热湿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 考 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岁，建筑工人，因在高温下作业而中暑。体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.5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神志清，面色潮红，脉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呼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医嘱立刻乙醇擦浴。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擦浴前应做哪些护理评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擦浴过程中要注意些什么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冷热疗法的继发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冷或用热超过一定时间，机体产生与生理效应相反的作用，这种现象称为继发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应有适当的时间，每次使用时间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，如需反复使用，中间必须给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的休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影响冷热应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371240"/>
            <a:ext cx="8893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温度： 冷、热疗法的温度与机体治疗前体表的温度相差越大，机体对冷、热刺激的反应越强；反之，则越小。环境温度也会影响冷热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方法：湿冷、湿热穿透效果强于干冷、干热，而干热、干冷法具有保温时间较长、不会浸软皮肤、烫（冻）伤危险性较小及患者更易耐受等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积：冷热应用面积越大，则冷、热疗法的效果越强；反之，则越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：在一定时间内其冷热效应是随着时间的增加而增强，但如果时间过长，会产生继发效应、甚至还可引起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11T03:28:49Z</dcterms:modified>
  <cp:revision>233</cp:revision>
  <dc:subject/>
  <dc:title>内科护理学</dc:title>
</cp:coreProperties>
</file>