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83815-86EE-45E0-B850-FB71A4F7DF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1BF59-6A19-4197-A8B3-D6EFE6AF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CBC85-00C8-49B3-82EF-0320929D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92345-7145-4D02-B0C5-79C343216B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F8E61-2F14-4AA0-97F7-57B2E38E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952D3-24BD-4229-AFEE-55BF4028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7EC84-7F56-4F63-A86A-135DACA5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5935D-CE0B-40C0-8539-C311F4F67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C304B-76F0-4F49-A811-40297CE51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D0EC3-7D2E-43E5-BD47-3A423E80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9A99C-9858-40C8-995F-C5FF5E5A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29426-2BC2-4F79-A942-10C0287B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9DB6-25CB-4DEC-9636-91CD03CD26D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七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心境障碍患者的护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制作人  罗晓清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思维奔逸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隶书"/>
              </a:rPr>
              <a:t>又称观念飘忽，联想加快，概念一个接一个涌现。表现语流变快，语量增多，滔滔不绝，有时可出现言语中断或不连贯，常伴随境转移，并出现音联，意联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意志行为增强，多为协调性精神运动型兴奋，即内心体验、行为方式与外界环境相协调。患者自觉精力旺盛、爱管闲事，行为轻率，可伴有夸大妄想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伴随症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需要减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食欲增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体重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病性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性欲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他：可出现自主神经功能紊乱的各种表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组合 16386"/>
          <p:cNvGrpSpPr/>
          <p:nvPr/>
        </p:nvGrpSpPr>
        <p:grpSpPr>
          <a:xfrm>
            <a:off x="304920" y="1371600"/>
            <a:ext cx="8610120" cy="4875480"/>
            <a:chOff x="304920" y="1371600"/>
            <a:chExt cx="8610120" cy="4875480"/>
          </a:xfrm>
        </p:grpSpPr>
        <p:sp>
          <p:nvSpPr>
            <p:cNvPr id="152" name="矩形 16387"/>
            <p:cNvSpPr/>
            <p:nvPr/>
          </p:nvSpPr>
          <p:spPr>
            <a:xfrm>
              <a:off x="304920" y="1371600"/>
              <a:ext cx="8610120" cy="48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圆角矩形 16388"/>
            <p:cNvSpPr/>
            <p:nvPr/>
          </p:nvSpPr>
          <p:spPr>
            <a:xfrm>
              <a:off x="3318120" y="137160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症状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“</a:t>
              </a: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三低”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圆角矩形 16389"/>
            <p:cNvSpPr/>
            <p:nvPr/>
          </p:nvSpPr>
          <p:spPr>
            <a:xfrm>
              <a:off x="30492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情绪低落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5" name="肘形连接符 16390"/>
            <p:cNvCxnSpPr>
              <a:stCxn id="154" idx="0"/>
              <a:endCxn id="153" idx="2"/>
            </p:cNvCxnSpPr>
            <p:nvPr/>
          </p:nvCxnSpPr>
          <p:spPr>
            <a:xfrm flipV="1">
              <a:off x="1596240" y="332136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56" name="圆角矩形 16391"/>
            <p:cNvSpPr/>
            <p:nvPr/>
          </p:nvSpPr>
          <p:spPr>
            <a:xfrm>
              <a:off x="331812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兴趣缺乏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7" name="肘形连接符 16392"/>
            <p:cNvCxnSpPr>
              <a:stCxn id="156" idx="0"/>
              <a:endCxn id="153" idx="2"/>
            </p:cNvCxnSpPr>
            <p:nvPr/>
          </p:nvCxnSpPr>
          <p:spPr>
            <a:xfrm flipV="1">
              <a:off x="4597200" y="3327480"/>
              <a:ext cx="1548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58" name="圆角矩形 16393"/>
            <p:cNvSpPr/>
            <p:nvPr/>
          </p:nvSpPr>
          <p:spPr>
            <a:xfrm>
              <a:off x="633168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乐趣丧失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9" name="肘形连接符 16394"/>
            <p:cNvCxnSpPr>
              <a:stCxn id="158" idx="0"/>
              <a:endCxn id="153" idx="2"/>
            </p:cNvCxnSpPr>
            <p:nvPr/>
          </p:nvCxnSpPr>
          <p:spPr>
            <a:xfrm flipH="1" flipV="1">
              <a:off x="4609440" y="332136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心理症候群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抑郁发作包含许多心理学症状，如焦虑，注意力及记忆力下降，认知扭曲，自罪自责，幻觉和妄想，自杀观念和行为等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躯体症候群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主要表现为食欲下降、睡眠障碍、体重减轻、性欲减退、周身不适、便秘、心慌气短、尿频等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三）双相情感障碍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双相障碍的临床特点是反复出现心境和活动水平明显紊乱的发作，有时表现为心境高涨、精力充沛和活动增加（躁狂），有时表现为心境低落、精力减退和活动减少（抑郁）。发作间期通常以完全缓解为特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亚型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混合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四）持续心境障碍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环性心境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恶劣心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抑郁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轻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中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重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轻躁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双相情感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环性心境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恶劣心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第一节  心境障碍的临床特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、治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一 躁狂发作的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治疗：碳酸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抗惊厥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抗精神病性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电休克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五、治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 抑郁发作的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治疗：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SSRIs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三环类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四环类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他新型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电休克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六、预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抑郁发作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双相情感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第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节  心境障碍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的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护理评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生理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躯体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既往健康状况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实验室检查及其他辅助检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一、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二）心理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认知活动：感知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思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自知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情感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意志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三）社会文化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的社交、沟通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近期负性生活事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四）精神状况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精神检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量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二、护理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一）抑郁发作护理诊断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有自杀（自伤）的危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便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营养状态的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社交隔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思维过程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护理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自理能力缺陷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个人应对无效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健康维持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活动无耐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绝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无能为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护理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二）躁狂发作护理诊断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暴力行为（针对自己或他人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营养改变：低于机体需要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有受伤的危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社交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思维过程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个人应对无效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自理缺陷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相关的基本概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情绪（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</a:rPr>
              <a:t>emotion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）：人对客观事物的态度或因之产生的内心体验。心理学上有广义、狭义之说。广义情绪包括情感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情感（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</a:rPr>
              <a:t>affect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: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高级的、社会性的、与行为的社会评价相关的体验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狭义情绪：低级的、生物性，与满足欲望直接相关的体验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常见情绪状态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境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mood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一段时间内持久情绪状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激情（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enthusiasm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）：短暂、强烈的情绪状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护理目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抑郁症的护理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二）躁狂症的护理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护理措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抑郁症的护理措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二）躁狂症的护理措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生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治疗性环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饮食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药物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排泄及个人卫生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参加体育锻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护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重视患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帮助患者提高自尊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助患者建立正性认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助患者做出决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社会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患者参加集体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家属共同参与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自杀的防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生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供安全的环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保证药物治疗顺利进行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饮食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个人卫生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合理安排患者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护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过度不当行为的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对于“慷慨”的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满足合理要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社会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避免患者出现不恰当的性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防止患者挑拨滋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预防及处理暴力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家属的参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、护理评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症状消失情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自知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一般情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的社交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家属对疾病相关知识的掌握情况以及提供有效照护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六、健康教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对疾病的认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复诊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康复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注意事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活动与情感性精神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正常的情感活动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活动每时每刻都在波动但幅度不大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情感症状（症状学诊断）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波动的幅度很大且持续一段时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情感性精神障碍（疾病学诊断）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症状影响到本人或周围人的生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4" name="下箭头 7171"/>
          <p:cNvSpPr/>
          <p:nvPr/>
        </p:nvSpPr>
        <p:spPr>
          <a:xfrm>
            <a:off x="4572000" y="335772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下箭头 7172"/>
          <p:cNvSpPr/>
          <p:nvPr/>
        </p:nvSpPr>
        <p:spPr>
          <a:xfrm>
            <a:off x="4645080" y="472428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14" name="矩形 44035"/>
          <p:cNvSpPr txBox="1"/>
          <p:nvPr/>
        </p:nvSpPr>
        <p:spPr>
          <a:xfrm rot="5400000">
            <a:off x="1482840" y="2772000"/>
            <a:ext cx="1512720" cy="52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谢谢</a:t>
            </a:r>
            <a:endParaRPr b="0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5" name="矩形 44036"/>
          <p:cNvSpPr txBox="1"/>
          <p:nvPr/>
        </p:nvSpPr>
        <p:spPr>
          <a:xfrm rot="5400000">
            <a:off x="2094840" y="4103640"/>
            <a:ext cx="2881080" cy="52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大家！</a:t>
            </a:r>
            <a:endParaRPr b="0" lang="en-US" sz="18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境障碍又称情感性精神障碍，是指各种原因引起的，以显著而持久的心境或情感改变为主要特征的一组疾病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主要表现为情感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少数伴有精神病性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反复发作，残留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二、病因及发病机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遗传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神经生化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理社会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2" name="文本框 10243"/>
          <p:cNvSpPr/>
          <p:nvPr/>
        </p:nvSpPr>
        <p:spPr>
          <a:xfrm>
            <a:off x="971640" y="2133720"/>
            <a:ext cx="2595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文本框 10244"/>
          <p:cNvSpPr/>
          <p:nvPr/>
        </p:nvSpPr>
        <p:spPr>
          <a:xfrm>
            <a:off x="1332000" y="1773360"/>
            <a:ext cx="212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弧边矩形 203"/>
          <p:cNvSpPr/>
          <p:nvPr/>
        </p:nvSpPr>
        <p:spPr>
          <a:xfrm>
            <a:off x="1044720" y="170172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弧边矩形 203"/>
          <p:cNvSpPr/>
          <p:nvPr/>
        </p:nvSpPr>
        <p:spPr>
          <a:xfrm>
            <a:off x="1044720" y="2852640"/>
            <a:ext cx="3743280" cy="6494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弧边矩形 203"/>
          <p:cNvSpPr/>
          <p:nvPr/>
        </p:nvSpPr>
        <p:spPr>
          <a:xfrm>
            <a:off x="1044720" y="400536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弧边矩形 203"/>
          <p:cNvSpPr/>
          <p:nvPr/>
        </p:nvSpPr>
        <p:spPr>
          <a:xfrm>
            <a:off x="1044720" y="522936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文本框 10249"/>
          <p:cNvSpPr/>
          <p:nvPr/>
        </p:nvSpPr>
        <p:spPr>
          <a:xfrm>
            <a:off x="1363680" y="1857240"/>
            <a:ext cx="328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躁狂发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文本框 10250"/>
          <p:cNvSpPr/>
          <p:nvPr/>
        </p:nvSpPr>
        <p:spPr>
          <a:xfrm>
            <a:off x="1260360" y="292248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抑郁发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文本框 10251"/>
          <p:cNvSpPr/>
          <p:nvPr/>
        </p:nvSpPr>
        <p:spPr>
          <a:xfrm>
            <a:off x="1332000" y="4076640"/>
            <a:ext cx="28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双相情感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文本框 10252"/>
          <p:cNvSpPr/>
          <p:nvPr/>
        </p:nvSpPr>
        <p:spPr>
          <a:xfrm>
            <a:off x="1332000" y="53020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持续性心境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一）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躁狂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组合 11266"/>
          <p:cNvGrpSpPr/>
          <p:nvPr/>
        </p:nvGrpSpPr>
        <p:grpSpPr>
          <a:xfrm>
            <a:off x="250920" y="1484280"/>
            <a:ext cx="8610120" cy="4875480"/>
            <a:chOff x="250920" y="1484280"/>
            <a:chExt cx="8610120" cy="4875480"/>
          </a:xfrm>
        </p:grpSpPr>
        <p:sp>
          <p:nvSpPr>
            <p:cNvPr id="134" name="矩形 11267"/>
            <p:cNvSpPr/>
            <p:nvPr/>
          </p:nvSpPr>
          <p:spPr>
            <a:xfrm>
              <a:off x="250920" y="1484280"/>
              <a:ext cx="8610120" cy="48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圆角矩形 11268"/>
            <p:cNvSpPr/>
            <p:nvPr/>
          </p:nvSpPr>
          <p:spPr>
            <a:xfrm>
              <a:off x="3264120" y="148428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症状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“</a:t>
              </a: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三高”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圆角矩形 11269"/>
            <p:cNvSpPr/>
            <p:nvPr/>
          </p:nvSpPr>
          <p:spPr>
            <a:xfrm>
              <a:off x="25092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1" action="ppaction://hlinksldjump"/>
                </a:rPr>
                <a:t>情感高涨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7" name="肘形连接符 11270"/>
            <p:cNvCxnSpPr>
              <a:stCxn id="136" idx="0"/>
              <a:endCxn id="135" idx="2"/>
            </p:cNvCxnSpPr>
            <p:nvPr/>
          </p:nvCxnSpPr>
          <p:spPr>
            <a:xfrm flipV="1">
              <a:off x="1542240" y="343404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38" name="圆角矩形 11271"/>
            <p:cNvSpPr/>
            <p:nvPr/>
          </p:nvSpPr>
          <p:spPr>
            <a:xfrm>
              <a:off x="326412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2" action="ppaction://hlinksldjump"/>
                </a:rPr>
                <a:t>思维奔逸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9" name="肘形连接符 11272"/>
            <p:cNvCxnSpPr>
              <a:stCxn id="138" idx="0"/>
              <a:endCxn id="135" idx="2"/>
            </p:cNvCxnSpPr>
            <p:nvPr/>
          </p:nvCxnSpPr>
          <p:spPr>
            <a:xfrm flipV="1">
              <a:off x="4540680" y="3434040"/>
              <a:ext cx="1548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40" name="圆角矩形 11273"/>
            <p:cNvSpPr/>
            <p:nvPr/>
          </p:nvSpPr>
          <p:spPr>
            <a:xfrm>
              <a:off x="627768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3" action="ppaction://hlinksldjump"/>
                </a:rPr>
                <a:t>意志活动增强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41" name="肘形连接符 11274"/>
            <p:cNvCxnSpPr>
              <a:stCxn id="140" idx="0"/>
              <a:endCxn id="135" idx="2"/>
            </p:cNvCxnSpPr>
            <p:nvPr/>
          </p:nvCxnSpPr>
          <p:spPr>
            <a:xfrm flipH="1" flipV="1">
              <a:off x="4555440" y="343404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情感高涨：情感活动明显增强，表现为不同程度的病态喜悦，自我感觉良好，有与环境不相符的过分的愉快 、欢乐，语音高昂，眉飞色舞，喜笑颜开，表情丰富，但不稳定，可因琐事而发怒，但转瞬即逝。表现可理解的 、带有感染性的情绪高涨，易引起周围人的共鸣见于躁狂</a:t>
            </a:r>
            <a:r>
              <a:rPr b="1" lang="en-US" sz="2800" spc="-1" strike="noStrike">
                <a:solidFill>
                  <a:srgbClr val="8ac8de"/>
                </a:solidFill>
                <a:latin typeface="隶书"/>
                <a:ea typeface="隶书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5-12-31T09:24:37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