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52D6-3405-42EB-B06F-FFC7BD5897B3}" type="datetime">
              <a:rPr b="0" lang="zh-CN" sz="1200" spc="-1" strike="noStrike">
                <a:solidFill>
                  <a:srgbClr val="000000"/>
                </a:solidFill>
                <a:latin typeface="Times New Roman"/>
                <a:ea typeface="Arial"/>
              </a:rPr>
              <a:t>26/7/29</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E56B-E22B-4A84-8224-FD3ABCD72BCA}"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2DF5-D2F9-485B-B072-E2FC22BAEFA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1B179D-0D07-48FF-A58C-905420AC2A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2A0667-4D77-44AD-A063-0121361DE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B15BFB-3C3E-4DA0-A382-6756B51770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32CA46-82C6-4F12-894E-73AB4C9EE6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26B4B8-2200-4728-8687-105AE801EE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EC7EC2-FF21-4A8F-90CD-76594F5BE7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508572-68AE-43D4-A05C-439DA57244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6E75ED-238F-47BB-9956-45D8F4AE9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A7632F-E0A6-4BAD-945B-F62EA9A800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342206-585E-4B91-B7A2-6E964AE46A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54D4A8-683C-4C94-A85A-88C83BDCE5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19971F-C061-4CB4-A96A-7A3C0A72E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C1ACD4-7C9C-47FF-9E42-717D5F8E32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7DA32B-DA7D-4472-AC2C-608C3EC52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F19762-5F51-45BE-8E7D-D9197C2F74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92B67E-E5B2-47B9-9870-B3A95675B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D7F93D-CB07-4C87-A8AB-50CDB5938F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F37D1A-73A4-40E0-A742-2DE2960C34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72C6AB-2CD5-4399-9DE4-F60279F36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C83AF8-EF76-411F-90B9-6D019FC1F1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AC61C56-3A25-4642-937B-07652FA1E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AA01C0-E190-4B12-A54A-8540B73FB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768C65-D857-4FF5-88A2-379FE6747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4BB075-3DB4-43CC-868B-F23523E196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AF74-11B3-403E-BE60-583622CC37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AB34-7942-48F8-847C-54AA73BBB753}"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