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C883C-184C-4C6B-8F36-43A2250A13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D727D-8BF2-4CE7-801C-279DB6574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9D389-2B06-4B59-B9EC-A4E43D39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774E5-4CED-4CAF-B446-0232D16982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8DB7F-DD34-4B78-ABE5-D3C438C8F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422E1-ACCE-4572-B2F4-A269DEF56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EE08A-3494-40D5-9B11-42EE83878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FA66B-25E8-49FA-8E4A-28D0628C6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A82F2-33C9-4975-BED8-AABDB8579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FD569-83AE-4BDB-ACC7-E6EFA8472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39C18-8764-467F-8099-7FE9080D0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F1EFC-490C-4EB3-BB80-336D9B910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078E5-00B6-49F6-93AD-EFE49D308D5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756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六节   颈肩腰腿痛的康复护理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e230c"/>
              </a:solidFill>
              <a:latin typeface="Verdana"/>
              <a:ea typeface="宋体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5867280" y="537372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姚立新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TextBox 2"/>
          <p:cNvSpPr/>
          <p:nvPr/>
        </p:nvSpPr>
        <p:spPr>
          <a:xfrm>
            <a:off x="741240" y="1341360"/>
            <a:ext cx="76327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“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摸背”：健侧手在身体后方握住患侧手，帮助患侧手一同向上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“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爬墙”动作：面向或侧向墙站立，患侧上肢伸直上举或外展，手指尽量向上爬至最高点处，保持数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操棒练习：双手持木棒，健侧手帮助患侧手，使患肩做前屈、后伸、外展等动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用吊环、绕环、肩梯、拉力器等训练肩关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26560" y="1557000"/>
            <a:ext cx="770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关节松动术：通过对肩关节的摆动、滚动、推动、旋转、分离和牵拉等，起到缓解疼痛、促进关节液流动、松解组织粘连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注射疗法：具有消炎止痛、消除组织水肿的作用，可用于肩周炎的急、慢性期疼痛较明显时。注射治疗之前，要仔细寻找压痛点。注射点一般在肱二头肌长头腱（结节间沟）、短头腱（喙突）及冈上肌、肩胛骨内侧缘、肩胛下角、三角肌内外缘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820908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针灸治疗：选择肩部的穴位，每次选择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个穴位，每日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次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次为一疗程。起到活血止痛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推拿按摩：在肩部实施按揉、弹拨、点压、摇晃等手法进行治疗，具有松解粘连、缓解肌肉痉挛、镇痛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8920" y="2133720"/>
            <a:ext cx="861084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五、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良肢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改变生活及工作中的不良姿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患颈椎病或肩关节劳损、损伤后应及时治疗。中老年人应经常做各种有利于维持和改善肩关节活动范围的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功能锻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94920" y="2276280"/>
            <a:ext cx="84661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容简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一、肩关节周围炎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二、肩周炎功能障碍的临床表现和评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三、肩周炎康复护理措施及指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肩关节周围炎，简称肩周炎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scapulohumeral periarthriti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。多发生于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岁左右的中老年人，俗称“五十肩”，亦称“冻结肩”。大多起病缓慢，病程较长。其确切病因至今尚不十分清楚。一般认为，肩关节周围组织退行性变，在受凉、慢性劳损、扭伤等外因的作用下，导致肩关节周围肌肉、肌腱、滑膜、韧带及关节囊等软组织发生慢性无菌性炎症，其结果导致关节内外广泛粘连，肩关节活动功能逐渐受限，直至盂肱关节活动范围完全丧失，形成冻结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本病的病程大致可分三个阶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早期（疼痛期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冻结期（粘连期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恢复期（解冻期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4" name="Picture 10" descr="201208~1"/>
          <p:cNvPicPr/>
          <p:nvPr/>
        </p:nvPicPr>
        <p:blipFill>
          <a:blip r:embed="rId1"/>
          <a:stretch/>
        </p:blipFill>
        <p:spPr>
          <a:xfrm>
            <a:off x="5364000" y="3068640"/>
            <a:ext cx="28576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疼痛：是肩周炎早期最主要的临床表现，是患者就诊的主要原因，常在活动时、夜间疼痛加重，甚至夜不能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活动受限：是肩周炎的典型体征，以外展上举和后伸受限明显，是由于肩关节周围肌肉、肌腱、滑囊和关节囊等软组织粘连所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肌力减弱：病程长者可出现肩关节周围、上臂的肌力减弱，甚至肌肉萎缩，是由于肩关节活动受限所导致的废用性萎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22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康复护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疼痛的评定：采用视觉模拟评分法评定疼痛的程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肩关节活动范围的评定：采用量角器对肩关节前屈、后伸、外展及内外旋转的角度进行具体测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综合性评定：采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onstant-Murley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法，此法是一个全面、科学而又简便的方法。总分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，共包括四个部分，即：疼痛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，日常生活活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，关节活动度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，肌力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3640" y="1989000"/>
            <a:ext cx="85690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四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生活护理：避免劳累，注意局部保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药物治疗：早期疼痛明显者需用三角巾悬吊，并可酌情服用非甾体类抗炎药，以消炎镇痛，缓解肌肉痉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物理治疗：可改善局部血液和淋巴液循环，加强代谢，消除水肿，促进炎症吸收，缓解肌肉痉挛，从而减轻和消除疼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ondman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钟摆运动：适用于肩周炎早期的自我治疗。患者向前体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健侧手支撑在椅背上，患侧上肢下垂，手持重物，并向前后、内外摆动，或做“画圈”样摆动；活动幅度由小到大，逐步增加负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3348000" y="3860640"/>
            <a:ext cx="3168720" cy="23529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0"/>
          <p:cNvSpPr/>
          <p:nvPr/>
        </p:nvSpPr>
        <p:spPr>
          <a:xfrm>
            <a:off x="7236000" y="5661000"/>
            <a:ext cx="10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6659640" y="5661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钟摆运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755640" y="1197000"/>
            <a:ext cx="7632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肩周炎保健操：主要动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前上举：双臂伸直，健侧手握住患侧手，经身体前方上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Picture 2" descr="图6-4"/>
          <p:cNvPicPr/>
          <p:nvPr/>
        </p:nvPicPr>
        <p:blipFill>
          <a:blip r:embed="rId1"/>
          <a:stretch/>
        </p:blipFill>
        <p:spPr>
          <a:xfrm>
            <a:off x="1116000" y="2322360"/>
            <a:ext cx="662472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8:44:56Z</dcterms:modified>
  <cp:revision>4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