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5835-BA8C-4D7D-95F0-F5E8C98BBD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0325-6D09-4B3D-BA6A-AE8DE443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150C-7BE1-4742-80AB-1A02DCBC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F53C-726D-4488-A978-7C2F3C0726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E4DE-2D39-477A-938C-10E6F790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7F88-43DC-4172-AA3A-8AB73C44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6CA1-00B4-4BB4-873F-FFD4BAC8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64D8-D9D3-4DD9-B6EF-FA80F5BF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9160-52BE-4A2B-AB29-A0636D05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639C-8E7E-477C-84B3-9AE3D62D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644F-B6B4-4D2C-9D78-C5D01EF3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821D-663B-47F4-91B8-11AC2EAF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A757-70B2-4B5F-A7A0-D8CBADBDCD6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6A62-DC51-4D9D-BEC1-8E12F91FCDD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648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八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抽搐与惊厥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62B4-6D5C-4ED1-ABB0-7CBE125217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抽搐与惊厥起病的年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无发作诱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发作的频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持续时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部位是全身性还是局限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持续强直性还是间歇阵挛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患儿需询问喂养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85" name="AutoShape 7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9" name="Picture 12" descr="MCj03474310000[1]"/>
          <p:cNvPicPr/>
          <p:nvPr/>
        </p:nvPicPr>
        <p:blipFill>
          <a:blip r:embed="rId1"/>
          <a:stretch/>
        </p:blipFill>
        <p:spPr>
          <a:xfrm>
            <a:off x="6145200" y="4890960"/>
            <a:ext cx="26640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DA0D-1792-4B3C-9D4F-D543E9C21C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抽搐与惊厥相关的疾病史、有无毒物接触史及某些药物服用史；有无外伤及狗咬伤等病史；有无癫痫家族史及类似发作史；对患儿应询问出生及生长发育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意识状态、瞳孔变化、神经反射等以及对患者生活质量的影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如发作时可引起舌咬伤、跌伤等意外；发作后感疲乏、头痛、肌肉酸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4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8" name="Picture 10" descr="CLIPBRD"/>
          <p:cNvPicPr/>
          <p:nvPr/>
        </p:nvPicPr>
        <p:blipFill>
          <a:blip r:embed="rId1"/>
          <a:stretch/>
        </p:blipFill>
        <p:spPr>
          <a:xfrm>
            <a:off x="7367760" y="5229360"/>
            <a:ext cx="1244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9A86-369D-496F-85BA-C89DE7AEA2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0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有受伤害危险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0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669b"/>
                  </a:solidFill>
                  <a:latin typeface="Arial"/>
                  <a:ea typeface="宋体"/>
                </a:rPr>
                <a:t>与抽搐与惊厥发作所致短暂意识丧失有关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0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0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潜在并发症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2" name="AutoShape 19"/>
          <p:cNvSpPr/>
          <p:nvPr/>
        </p:nvSpPr>
        <p:spPr>
          <a:xfrm>
            <a:off x="3203640" y="5373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230c"/>
                </a:solidFill>
                <a:latin typeface="Arial"/>
                <a:ea typeface="宋体"/>
              </a:rPr>
              <a:t>与不可预知的惊厥发作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826920" y="5373720"/>
            <a:ext cx="2329200" cy="665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恐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惊厥发作所致的不受控制的强直性肌肉收缩和意识丧失有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571920" y="292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 ；高热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EFBA-9657-48ED-AC96-65A57CB5DA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13BC-3C0B-441C-AE77-2DD99297D4D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6D45-61D0-4BB5-A8F1-50DD9179E65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抽搐与惊厥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抽搐与惊厥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4112-40C6-4CE2-9107-E364275EF1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D7DF-66E1-4F64-A5C8-E695735581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72BC-43DF-46D7-A56D-EDC5277A9C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tic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惊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nvuls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属于不随意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是指全身或局部骨骼肌发生非自主抽动或强烈收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可引起关节运动和强直。当肌群收缩表现为强直性和阵挛性时，称为惊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7FFF-4CE9-4184-B3E8-5EE7DA720F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搐与惊厥可分为两大类，即特发性与症状性，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特发性常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于先天性脑部不稳定状态所致，与遗传因素有较密切的关系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状性则由于脑部疾病和全身性疾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引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部疾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D7E6-6E54-465B-B2CD-A276F494A8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7"/>
          <p:cNvSpPr/>
          <p:nvPr/>
        </p:nvSpPr>
        <p:spPr>
          <a:xfrm>
            <a:off x="1496880" y="3906720"/>
            <a:ext cx="6191280" cy="2570400"/>
          </a:xfrm>
          <a:prstGeom prst="borderCallout1">
            <a:avLst>
              <a:gd name="adj1" fmla="val 18750"/>
              <a:gd name="adj2" fmla="val -8333"/>
              <a:gd name="adj3" fmla="val -2962"/>
              <a:gd name="adj4" fmla="val -123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产伤、颅脑外伤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肿瘤：如原发性脑肿瘤、脑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管疾病：如脑栓塞、脑出血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病：如脑血吸虫病、脑型疟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如先天性脑发育障碍、核黄疸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86E8-666C-426C-8A5E-3B01A52DBE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108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0CDC-A3AA-45BB-8155-EE2677C480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5"/>
          <p:cNvSpPr/>
          <p:nvPr/>
        </p:nvSpPr>
        <p:spPr>
          <a:xfrm>
            <a:off x="2071800" y="2214720"/>
            <a:ext cx="6858000" cy="2663640"/>
          </a:xfrm>
          <a:prstGeom prst="borderCallout1">
            <a:avLst>
              <a:gd name="adj1" fmla="val 18750"/>
              <a:gd name="adj2" fmla="val -8333"/>
              <a:gd name="adj3" fmla="val -2861"/>
              <a:gd name="adj4" fmla="val -28888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感染：如急性胃肠炎、败血症、中毒型菌痢等，小儿高热惊厥主要由急性感染所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血管疾病：如高血压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ams-Stoke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综合征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毒：如有机磷、阿托品中毒、尿毒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风湿性疾病：如风湿热、系统性红斑狼疮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代谢障碍：如低血糖、低钙血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他：中暑、溺水、触电、突然停用安眠药，抗癫痫药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2411280" y="5516640"/>
            <a:ext cx="619308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053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癔症性抽搐和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026A-12D2-4D30-9919-64F7892157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1B20-8E3C-4B14-B7DD-2C29250FAA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生机制尚未完全阐明，可能是大脑运动神经元的异常放电所致。这种异常放电主要是因为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元膜电位的不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引起的，可能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遗传、免疫、内分泌微量元素、精神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有关，可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代谢、营养、脑皮质肿物或瘢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激发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0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4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6588000" y="5300640"/>
            <a:ext cx="1000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F42D-FC37-4DA6-92D0-2942AD2451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性抽搐  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骨骼肌痉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主要表现，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意识丧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癫痫大发作：发作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抽搐和意识障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特征，患者突发意识模糊或丧失，全身骨骼肌持续收缩，伴二便失禁，发作约半分钟自行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癔症性发作：发作前常有一定的诱因，如生气或各种不良刺激。发作样式不固定，一般无舌咬伤和二便失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F6DA-535F-41E4-A965-0E98E9389A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局限性抽搐  以身体某一局部肌肉收缩为主要表现多见于手足、口角、眼睑等部位，低钙血症所致手足抽搐发作时呈“助产士手”；踝关节伸直，足趾跖屈，足呈弓状，似“芭蕾舞足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77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6:53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