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91D713-4E9E-4819-9745-3107FAA82B8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B04413-6C6B-47CC-A9CF-CF71899C9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F16506-BDA5-4494-A125-9910B5972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23A11E-BFDD-4791-91DB-20A1BD0CF70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988397-97F3-4054-AD82-2A48658EE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066782-E26C-4220-B8EC-B003D5252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9B2960-2BE1-41D8-BC34-3174151D1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C91AF8-23F9-46B8-AD07-FCE7114DB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77C0F2-F181-4F53-9175-10E7EBC22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EE9AA5-ADF2-49B7-93FE-6BF4D3DF6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01EBE0-BE96-4FDD-ADA9-0012EA4FF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DEE1BE-63CB-4FD6-804F-1C5088985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125E6-D9CA-4B12-9125-3386CBDE06A3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8000" y="2276640"/>
            <a:ext cx="5904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三十三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抗结核药和抗真菌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异烟肼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90080" y="1081080"/>
            <a:ext cx="861084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药疗监护须知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应向患者说明遵医嘱按时、按剂量服用药物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向患者说明服药后可能出现肝功能损害，若出现症状应及时就疹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注意观察神经系统反应，发现异常应及时报告医生。长期服用异烟肼时，应加服用维生素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6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嘱患者服药期间应禁酒，以减轻肝功能损害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一般应空腹服用，以增加药物的吸收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抗酸药尤其是氢氧化铝可抑制异烟肼的吸收，应避免两者同服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糖尿病患者应注意血糖的变化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EFAE4-14ED-4000-BA2B-542501934D5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2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利福平（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RFP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04920" y="1125360"/>
            <a:ext cx="86104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51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药理作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利福平为利福霉素类半合成广谱抗菌药，对多种病原微生物均有抗菌活性，具有高效，低毒，口服方便等优点，是目前最有效的抗结核药物之一，但单独易产生耐药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51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应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75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与其他抗结核药联合应用可治疗各种类型的结核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75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治疗麻风病、耐药金葡菌和其他敏感菌引起的感染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75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于重症胆道感染及无症状脑膜炎奈瑟菌带菌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75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局部可用于治疗沙眼、急性结膜炎及病毒性角膜炎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DC9EA-DE08-4313-8B02-18ED4BEA4D2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利福平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50920" y="980640"/>
            <a:ext cx="861048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包括：胃肠道反应、肝功能损害、流感综合征、血液系统反应；个别患者出现皮疹、药热等重症反应；偶见疲倦、嗜睡、眩晕、运动失调、致畸等；另外，患者服用该药后，二便、唾液、汗液、痰液、泪液等可呈橘红色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禁忌证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对本品过敏、胆道梗阻的患者、婴儿、及妊娠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个月以上的孕妇禁用；老年人、长期酗酒者、肝功能损害者及哺乳期妇女慎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5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B7B8E-7990-42A9-BE48-BB7FE673F30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利福平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50920" y="1125360"/>
            <a:ext cx="86104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药疗监护须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因食物可影响药物的吸收，故宜空腹服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胃肠道反应是常见的不良反应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应注意有无肝功能损害的表现，在常规剂量下应用时亦应定期检查肝功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嘱患者出现皮肤瘙痒、皮疹等过敏反应时应立即停药，并及时报告医生，以便进行必要的处理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本品还可引起白细胞和血小板减少，肾功能损害，应定期监测血象及肾功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利福平的代谢物可将尿液、粪便、泪液、唾液、汗液及痰等染成橘红色，应提前告知患者对健康无影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与对氨水杨酸合用时，两药应间隔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2 h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9DD64-6FAE-49ED-9B32-4F127DFFB3E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病 例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圆角矩形 3"/>
          <p:cNvSpPr/>
          <p:nvPr/>
        </p:nvSpPr>
        <p:spPr>
          <a:xfrm>
            <a:off x="468360" y="1197000"/>
            <a:ext cx="7858080" cy="3311640"/>
          </a:xfrm>
          <a:prstGeom prst="roundRect">
            <a:avLst>
              <a:gd name="adj" fmla="val 12264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患者，女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岁。因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低热、咳嗽、咳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周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就诊。主诉：近来有乏力、胸闷、夜间盗汗、食欲不振等症状。诊断：左肺浸润性肺结核。给予利福平口服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日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.45 g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；异烟肼口服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日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.4 g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；护肝片口服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日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片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。治疗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周后患者唾液、泪液、汗液、尿液等呈橘红色。患者因怀疑用药问题拒绝继续用药治疗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剪去单角的矩形 6"/>
          <p:cNvSpPr/>
          <p:nvPr/>
        </p:nvSpPr>
        <p:spPr>
          <a:xfrm>
            <a:off x="611280" y="5013360"/>
            <a:ext cx="8001000" cy="1081080"/>
          </a:xfrm>
          <a:prstGeom prst="pie">
            <a:avLst/>
          </a:prstGeom>
          <a:solidFill>
            <a:srgbClr val="fe230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问题：护理人员在这一案例中有什么不妥之处？给药前护理人员应做哪些工作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3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乙胺丁醇（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EMB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04920" y="1341360"/>
            <a:ext cx="861048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51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药理作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乙胺丁醇是人工合成的抗结核病药，本品可渗入结核分枝杆菌体内干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N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合成从而抑制细菌的繁殖，对各型分枝杆菌都有高度的抗菌作用。但单独易产生耐药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51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应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用于治疗各型结核病，特别是经链霉素和异烟肼治疗无效的患者。与其他抗结核药物合用可提高疗效，降低不良反应的发生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5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86A23-D7FE-4FCC-AC43-A9F1BFB39B0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乙胺丁醇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50920" y="980640"/>
            <a:ext cx="861048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包括：球后视神经炎，它是最严重的不良反应；胃肠道反应；偶见过敏反应、肝功能损害、周围神经炎、高尿酸血症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禁忌证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乙醇中毒、乳幼儿、对本品过敏者、年幼及色觉分辨不清者禁用；孕妇、哺乳期妇女、有视神经炎、痛风、糖尿病性视网膜病变者应慎用；肾功能减退者有引起蓄积中毒的危险，应慎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42A86-6CA6-44D0-B566-67C24B8BECB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乙胺丁醇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50920" y="1125360"/>
            <a:ext cx="86104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药疗监护须知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事先告诉患者如果出现视力减退、对红绿色分辨能力减低或视野异常时，应立即停药并及时就诊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期间应每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周进行一次眼科检查，若有异常，应及时减量并对症处理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期间如果出现四肢远端麻木、刺痛、烧灼感等，可用维生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抗，可使症状较快改善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定期检测肝功能、肾功能及血清尿酸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可与食物同服，以减少胃肠道反应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哺乳期妇女用药期间宜停止哺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1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9F283-83AD-400F-AE0A-215C66E48D3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其他常用药物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24000" y="1196640"/>
            <a:ext cx="84960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吡嗪酰胺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Z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为烟酰胺的衍生物，对结核分枝杆菌有抑制或杀灭作用，对细胞内结核分枝杆菌有较强抗菌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抗结核分枝杆菌作用不及异烟肼、利福平，但比对氨基水杨酸钠、环丝氨酸作用强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易产生耐药性，与其他抗结核药之间无交叉耐药性。常与其他抗结核药联合应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常用于结核病短程化疗的强化期，也用于治疗其他抗结核药治疗无效的病例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长期大量应用该药可发生严重的胃肠道反应和肝功能损害，用药期间应定期检查肝功能，肝功能不良者慎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4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D7589-4166-48C8-A949-CF70A060CD4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二、二线抗结核病药物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4000" y="1052280"/>
            <a:ext cx="73436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常用二线抗结核病药物包括：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对氨水杨酸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乙硫异烟胺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丙硫异烟胺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氨硫脲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卷曲霉素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环丝氨酸 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7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14906-718A-4DEE-BD9B-22094850163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81668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06" name="Group 29"/>
          <p:cNvGrpSpPr/>
          <p:nvPr/>
        </p:nvGrpSpPr>
        <p:grpSpPr>
          <a:xfrm>
            <a:off x="1819440" y="1898640"/>
            <a:ext cx="688320" cy="593640"/>
            <a:chOff x="1819440" y="1898640"/>
            <a:chExt cx="688320" cy="593640"/>
          </a:xfrm>
        </p:grpSpPr>
        <p:grpSp>
          <p:nvGrpSpPr>
            <p:cNvPr id="107" name="Group 4"/>
            <p:cNvGrpSpPr/>
            <p:nvPr/>
          </p:nvGrpSpPr>
          <p:grpSpPr>
            <a:xfrm>
              <a:off x="1819440" y="1898640"/>
              <a:ext cx="688320" cy="593640"/>
              <a:chOff x="1819440" y="1898640"/>
              <a:chExt cx="688320" cy="593640"/>
            </a:xfrm>
          </p:grpSpPr>
          <p:sp>
            <p:nvSpPr>
              <p:cNvPr id="108" name="AutoShape 5"/>
              <p:cNvSpPr/>
              <p:nvPr/>
            </p:nvSpPr>
            <p:spPr>
              <a:xfrm>
                <a:off x="1824840" y="1908720"/>
                <a:ext cx="682920" cy="583560"/>
              </a:xfrm>
              <a:prstGeom prst="hexagon">
                <a:avLst>
                  <a:gd name="adj" fmla="val 29257"/>
                  <a:gd name="vf" fmla="val 115470"/>
                </a:avLst>
              </a:prstGeom>
              <a:blipFill rotWithShape="0">
                <a:blip r:embed="rId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9" name="AutoShape 6"/>
              <p:cNvSpPr/>
              <p:nvPr/>
            </p:nvSpPr>
            <p:spPr>
              <a:xfrm>
                <a:off x="1819440" y="1898640"/>
                <a:ext cx="682920" cy="583560"/>
              </a:xfrm>
              <a:prstGeom prst="hexagon">
                <a:avLst>
                  <a:gd name="adj" fmla="val 29257"/>
                  <a:gd name="vf" fmla="val 115470"/>
                </a:avLst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0" name="AutoShape 7"/>
              <p:cNvSpPr/>
              <p:nvPr/>
            </p:nvSpPr>
            <p:spPr>
              <a:xfrm>
                <a:off x="1859400" y="1933560"/>
                <a:ext cx="600120" cy="513360"/>
              </a:xfrm>
              <a:prstGeom prst="hexagon">
                <a:avLst>
                  <a:gd name="adj" fmla="val 29225"/>
                  <a:gd name="vf" fmla="val 115470"/>
                </a:avLst>
              </a:pr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11" name="Text Box 8"/>
            <p:cNvSpPr/>
            <p:nvPr/>
          </p:nvSpPr>
          <p:spPr>
            <a:xfrm>
              <a:off x="1980000" y="1955880"/>
              <a:ext cx="3358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12" name="Group 30"/>
          <p:cNvGrpSpPr/>
          <p:nvPr/>
        </p:nvGrpSpPr>
        <p:grpSpPr>
          <a:xfrm>
            <a:off x="1819440" y="3483000"/>
            <a:ext cx="687240" cy="593640"/>
            <a:chOff x="1819440" y="3483000"/>
            <a:chExt cx="687240" cy="593640"/>
          </a:xfrm>
        </p:grpSpPr>
        <p:sp>
          <p:nvSpPr>
            <p:cNvPr id="113" name="AutoShape 9"/>
            <p:cNvSpPr/>
            <p:nvPr/>
          </p:nvSpPr>
          <p:spPr>
            <a:xfrm>
              <a:off x="1819440" y="3483000"/>
              <a:ext cx="687240" cy="593640"/>
            </a:xfrm>
            <a:prstGeom prst="hexagon">
              <a:avLst>
                <a:gd name="adj" fmla="val 28942"/>
                <a:gd name="vf" fmla="val 115470"/>
              </a:avLst>
            </a:prstGeom>
            <a:gradFill rotWithShape="0">
              <a:gsLst>
                <a:gs pos="0">
                  <a:srgbClr val="405d67"/>
                </a:gs>
                <a:gs pos="100000">
                  <a:srgbClr val="8ac8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4" name="Text Box 10"/>
            <p:cNvSpPr/>
            <p:nvPr/>
          </p:nvSpPr>
          <p:spPr>
            <a:xfrm>
              <a:off x="1954080" y="3565440"/>
              <a:ext cx="35424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5" name="Line 18"/>
          <p:cNvSpPr/>
          <p:nvPr/>
        </p:nvSpPr>
        <p:spPr>
          <a:xfrm>
            <a:off x="2556000" y="242100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Line 19"/>
          <p:cNvSpPr/>
          <p:nvPr/>
        </p:nvSpPr>
        <p:spPr>
          <a:xfrm>
            <a:off x="2556000" y="39495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Text Box 49"/>
          <p:cNvSpPr/>
          <p:nvPr/>
        </p:nvSpPr>
        <p:spPr>
          <a:xfrm>
            <a:off x="2771640" y="1773360"/>
            <a:ext cx="37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抗结核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Text Box 50"/>
          <p:cNvSpPr/>
          <p:nvPr/>
        </p:nvSpPr>
        <p:spPr>
          <a:xfrm>
            <a:off x="2916360" y="3357720"/>
            <a:ext cx="324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抗真菌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1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对氨基水杨酸钠（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PAS-Na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4920" y="1125360"/>
            <a:ext cx="86104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对氨基水杨酸钠仅对细胞外结核分枝杆菌有抑菌作用，且作用弱，抗菌谱窄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结核菌对本品产生耐药性较慢，并可延缓细菌产生抗药性，常作为治疗结核病的辅助药，主要与异烟肼联合使用，延缓耐药性产生，增加疗效，现多用于复治患者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最常见的不良反应为胃肠道反应，如食欲不振、恶心、呕吐、胃烧灼感、腹上区疼痛、腹胀及腹泻等，个别可引起胃溃疡和出血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肝肾功能减退者、孕妇及哺乳期妇女慎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C6341-A2EF-4F61-921B-2CF4553B3AD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2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乙硫异烟胺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125360"/>
            <a:ext cx="86104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其对结核分枝杆菌有抑菌作用，抗菌活性仅为异烟肼的十分之一，毒性较强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单用耐药性产生快，所以单独应用少，仅用于一线抗结核药无效的患者，常与其他抗结核病药联合应用以增强疗效和避免病菌产生耐药性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较多且发生率高，以胃肠道反应最常见，表现为恶心、呕吐、腹痛、腹泻、厌食、胃部不适等症状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对本品过敏者、精神病患者、孕妇及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12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岁以下儿童禁用；肝、肾功能不良、糖尿病、酗酒、哺乳期妇女慎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3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59DBC-65ED-4DD0-B84A-BC522D334A8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3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氨硫脲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04920" y="1125360"/>
            <a:ext cx="86104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氨硫脲对结核分枝杆菌和麻风分枝杆菌均有抑菌作用。与其他抗结核药物之间无交叉耐药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单用易产生耐药，与异烟肼合用可延缓耐药性产生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毒性较大，不良反应与剂量大小有关。主要不良反应为胃肠道症状及肝脏损害，出现食欲不振、恶心、呕吐、便秘以及转氨酶升高，偶见黄疸等症状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肝病、肾病、贫血及糖尿病的患者禁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92F0E-A56F-4F88-8641-2D1FF2FEEFD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三、新一代抗结核病药物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71640" y="1052280"/>
            <a:ext cx="52560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利福定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喹诺酮类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罗红霉素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9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FD7F6-C9E6-4E36-8FAA-D6385DACF88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1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利福定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4920" y="1125360"/>
            <a:ext cx="86104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谱与利福平相同，抗菌作用强于利福平，并与利福平有交叉耐药。与其他抗结核药，如异烟肼、乙胺丁醇等有协同抗菌作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主要用于肺结核和其他结核病、麻风病、化脓性皮肤病、结膜炎、沙眼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少而轻，偶有胃肠道反应；可能引起白细胞和血小板减少，导致齿龈出血和感染、伤口愈合延迟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酒精中毒、精神病、癫痫、肝功能损害者慎用。婴儿、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个月以上孕妇和哺乳期妇女也要慎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2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C441E-5270-4912-9899-7A1A71080B6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2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喹诺酮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4920" y="1125360"/>
            <a:ext cx="86104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氟喹诺酮类是目前我国治疗耐多药结核病的二线抗结核药之一，氟喹诺酮类中有一些具有良好的抗结核分枝杆菌作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常用药物的有司氟沙星、氧氟沙星、环丙沙星、左氧氟沙星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司氟沙星为目前氟喹诺酮类药物中抗结核活性最强的药物，抗菌谱广。被认为是一类有发展前景的新型抗结核病药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主要为光敏反应，宜慎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5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37C65-F4AF-44E1-AA23-BB3B87873F4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3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罗红霉素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68000" y="1483920"/>
            <a:ext cx="8280360" cy="30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1137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罗红霉素为新大环内酯类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1137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新大环内酯类均有抗结核分枝杆菌作用，罗红霉素是其中抗结核分枝杆菌作用最强的一个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1137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与异烟肼或利福平联合用药，有协同作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CF2B4-628E-4AD3-9256-77F0FDE3E19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94920" y="2781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Verdana"/>
                <a:ea typeface="宋体"/>
              </a:rPr>
              <a:t>第二节  抗真菌药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EFE1E-4B05-431B-BA43-53CE367114F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灯片编号占位符 4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866F8-7691-4393-8930-785FE3E906E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071720" y="285480"/>
            <a:ext cx="77040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真菌感染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AutoShape 13"/>
          <p:cNvSpPr/>
          <p:nvPr/>
        </p:nvSpPr>
        <p:spPr>
          <a:xfrm>
            <a:off x="2916360" y="1414440"/>
            <a:ext cx="360360" cy="1582920"/>
          </a:xfrm>
          <a:custGeom>
            <a:avLst/>
            <a:gdLst>
              <a:gd name="textAreaLeft" fmla="*/ 230400 w 360360"/>
              <a:gd name="textAreaRight" fmla="*/ 360720 w 360360"/>
              <a:gd name="textAreaTop" fmla="*/ 41040 h 1582920"/>
              <a:gd name="textAreaBottom" fmla="*/ 1541880 h 1582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Oval 5"/>
          <p:cNvSpPr/>
          <p:nvPr/>
        </p:nvSpPr>
        <p:spPr>
          <a:xfrm>
            <a:off x="250920" y="4508640"/>
            <a:ext cx="2736720" cy="1081080"/>
          </a:xfrm>
          <a:prstGeom prst="ellipse">
            <a:avLst/>
          </a:prstGeom>
          <a:solidFill>
            <a:srgbClr val="00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深部真菌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Oval 5"/>
          <p:cNvSpPr/>
          <p:nvPr/>
        </p:nvSpPr>
        <p:spPr>
          <a:xfrm>
            <a:off x="250920" y="1700280"/>
            <a:ext cx="2592360" cy="1008000"/>
          </a:xfrm>
          <a:prstGeom prst="ellipse">
            <a:avLst/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表浅真菌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AutoShape 13"/>
          <p:cNvSpPr/>
          <p:nvPr/>
        </p:nvSpPr>
        <p:spPr>
          <a:xfrm>
            <a:off x="3059280" y="4076640"/>
            <a:ext cx="360360" cy="1851120"/>
          </a:xfrm>
          <a:custGeom>
            <a:avLst/>
            <a:gdLst>
              <a:gd name="textAreaLeft" fmla="*/ 230400 w 360360"/>
              <a:gd name="textAreaRight" fmla="*/ 360720 w 360360"/>
              <a:gd name="textAreaTop" fmla="*/ 48240 h 1851120"/>
              <a:gd name="textAreaBottom" fmla="*/ 1802880 h 1851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Text Box 8"/>
          <p:cNvSpPr/>
          <p:nvPr/>
        </p:nvSpPr>
        <p:spPr>
          <a:xfrm>
            <a:off x="3348000" y="1268280"/>
            <a:ext cx="525636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buClr>
                <a:srgbClr val="fe230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主要是由各种癣菌引起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buClr>
                <a:srgbClr val="fe230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主要侵犯皮肤、毛发、指（趾）甲、口腔或阴道黏膜等体表部位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buClr>
                <a:srgbClr val="fe230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发病率高，危害性较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Text Box 9"/>
          <p:cNvSpPr/>
          <p:nvPr/>
        </p:nvSpPr>
        <p:spPr>
          <a:xfrm>
            <a:off x="3492360" y="3882960"/>
            <a:ext cx="496728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buClr>
                <a:srgbClr val="fe230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主要是多由念珠菌和新型隐球菌引起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buClr>
                <a:srgbClr val="fe230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主要侵犯深部组织及内脏器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buClr>
                <a:srgbClr val="fe230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发病率低，危害性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灯片编号占位符 4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92169-31DC-4460-AA04-50756739DBD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71720" y="285480"/>
            <a:ext cx="77040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真菌所致疾病与常用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Text Box 8"/>
          <p:cNvSpPr/>
          <p:nvPr/>
        </p:nvSpPr>
        <p:spPr>
          <a:xfrm>
            <a:off x="3851280" y="1773360"/>
            <a:ext cx="1944720" cy="14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头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体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指甲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AutoShape 12"/>
          <p:cNvSpPr/>
          <p:nvPr/>
        </p:nvSpPr>
        <p:spPr>
          <a:xfrm>
            <a:off x="1041480" y="2276640"/>
            <a:ext cx="1512720" cy="576000"/>
          </a:xfrm>
          <a:prstGeom prst="roundRect">
            <a:avLst>
              <a:gd name="adj" fmla="val 16667"/>
            </a:avLst>
          </a:prstGeom>
          <a:solidFill>
            <a:srgbClr val="00ffff">
              <a:alpha val="9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各种癣菌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" name="AutoShape 13"/>
          <p:cNvSpPr/>
          <p:nvPr/>
        </p:nvSpPr>
        <p:spPr>
          <a:xfrm>
            <a:off x="1041480" y="4437000"/>
            <a:ext cx="1584360" cy="792360"/>
          </a:xfrm>
          <a:prstGeom prst="roundRect">
            <a:avLst>
              <a:gd name="adj" fmla="val 16667"/>
            </a:avLst>
          </a:prstGeom>
          <a:solidFill>
            <a:srgbClr val="00ff00">
              <a:alpha val="9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新型隐球菌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白色念珠菌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Line 14"/>
          <p:cNvSpPr/>
          <p:nvPr/>
        </p:nvSpPr>
        <p:spPr>
          <a:xfrm>
            <a:off x="2625840" y="2565360"/>
            <a:ext cx="722160" cy="0"/>
          </a:xfrm>
          <a:prstGeom prst="line">
            <a:avLst/>
          </a:prstGeom>
          <a:ln w="316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Line 15"/>
          <p:cNvSpPr/>
          <p:nvPr/>
        </p:nvSpPr>
        <p:spPr>
          <a:xfrm>
            <a:off x="2698920" y="4797360"/>
            <a:ext cx="720720" cy="0"/>
          </a:xfrm>
          <a:prstGeom prst="line">
            <a:avLst/>
          </a:prstGeom>
          <a:ln w="316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Rectangle 16"/>
          <p:cNvSpPr/>
          <p:nvPr/>
        </p:nvSpPr>
        <p:spPr>
          <a:xfrm>
            <a:off x="3778200" y="1413000"/>
            <a:ext cx="1368360" cy="35856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浅部真菌病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7" name="AutoShape 18"/>
          <p:cNvSpPr/>
          <p:nvPr/>
        </p:nvSpPr>
        <p:spPr>
          <a:xfrm>
            <a:off x="6227640" y="1773360"/>
            <a:ext cx="1800360" cy="1512720"/>
          </a:xfrm>
          <a:prstGeom prst="roundRect">
            <a:avLst>
              <a:gd name="adj" fmla="val 16667"/>
            </a:avLst>
          </a:prstGeom>
          <a:solidFill>
            <a:srgbClr val="ffff00">
              <a:alpha val="9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灰黄霉素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制霉菌素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特比萘芬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咪 康 唑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Line 19"/>
          <p:cNvSpPr/>
          <p:nvPr/>
        </p:nvSpPr>
        <p:spPr>
          <a:xfrm>
            <a:off x="5508720" y="2421000"/>
            <a:ext cx="647640" cy="0"/>
          </a:xfrm>
          <a:prstGeom prst="line">
            <a:avLst/>
          </a:prstGeom>
          <a:ln w="316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Text Box 20"/>
          <p:cNvSpPr/>
          <p:nvPr/>
        </p:nvSpPr>
        <p:spPr>
          <a:xfrm>
            <a:off x="3852720" y="4292640"/>
            <a:ext cx="1944720" cy="18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脑膜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肺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心内膜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鹅口疮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0" name="Rectangle 21"/>
          <p:cNvSpPr/>
          <p:nvPr/>
        </p:nvSpPr>
        <p:spPr>
          <a:xfrm>
            <a:off x="3780000" y="3932280"/>
            <a:ext cx="1368360" cy="358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深部真菌病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AutoShape 22"/>
          <p:cNvSpPr/>
          <p:nvPr/>
        </p:nvSpPr>
        <p:spPr>
          <a:xfrm>
            <a:off x="6229440" y="4292640"/>
            <a:ext cx="1800000" cy="1512720"/>
          </a:xfrm>
          <a:prstGeom prst="roundRect">
            <a:avLst>
              <a:gd name="adj" fmla="val 16667"/>
            </a:avLst>
          </a:prstGeom>
          <a:solidFill>
            <a:srgbClr val="ff9900">
              <a:alpha val="9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两性霉素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咪 唑 类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三 唑 类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Line 23"/>
          <p:cNvSpPr/>
          <p:nvPr/>
        </p:nvSpPr>
        <p:spPr>
          <a:xfrm flipV="1">
            <a:off x="5580000" y="4940280"/>
            <a:ext cx="577800" cy="1440"/>
          </a:xfrm>
          <a:prstGeom prst="line">
            <a:avLst/>
          </a:prstGeom>
          <a:ln w="316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196640"/>
            <a:ext cx="861048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ff"/>
                </a:solidFill>
                <a:latin typeface="Verdana"/>
                <a:ea typeface="宋体"/>
              </a:rPr>
              <a:t>掌握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一线抗结核药及抗真菌药代表药物的不良反应及药疗监护须知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ff"/>
                </a:solidFill>
                <a:latin typeface="Verdana"/>
                <a:ea typeface="宋体"/>
              </a:rPr>
              <a:t>熟悉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一线抗结核药、二线抗结核药及抗真菌药各代表药物的药理作用和临床应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ff"/>
                </a:solidFill>
                <a:latin typeface="Verdana"/>
                <a:ea typeface="宋体"/>
              </a:rPr>
              <a:t>了解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抗结核药及抗真菌药各代表药物的体内过程和用法；其他常用药物的作用特点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1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E62B1-F7A0-4797-9068-670B931A52E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浅部真菌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24" name="Picture 5" descr="手癣"/>
          <p:cNvPicPr/>
          <p:nvPr/>
        </p:nvPicPr>
        <p:blipFill>
          <a:blip r:embed="rId1"/>
          <a:stretch/>
        </p:blipFill>
        <p:spPr>
          <a:xfrm>
            <a:off x="111240" y="3429000"/>
            <a:ext cx="3198600" cy="2259000"/>
          </a:xfrm>
          <a:prstGeom prst="rect">
            <a:avLst/>
          </a:prstGeom>
          <a:ln w="0">
            <a:noFill/>
          </a:ln>
        </p:spPr>
      </p:pic>
      <p:sp>
        <p:nvSpPr>
          <p:cNvPr id="225" name="Text Box 6"/>
          <p:cNvSpPr/>
          <p:nvPr/>
        </p:nvSpPr>
        <p:spPr>
          <a:xfrm>
            <a:off x="1120680" y="58770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手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6" name="Text Box 7"/>
          <p:cNvSpPr/>
          <p:nvPr/>
        </p:nvSpPr>
        <p:spPr>
          <a:xfrm>
            <a:off x="4668480" y="24955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足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27" name="Picture 8" descr="足癣2"/>
          <p:cNvPicPr/>
          <p:nvPr/>
        </p:nvPicPr>
        <p:blipFill>
          <a:blip r:embed="rId2"/>
          <a:srcRect l="0" t="0" r="0" b="16191"/>
          <a:stretch/>
        </p:blipFill>
        <p:spPr>
          <a:xfrm>
            <a:off x="3367080" y="165240"/>
            <a:ext cx="3198960" cy="2232000"/>
          </a:xfrm>
          <a:prstGeom prst="rect">
            <a:avLst/>
          </a:prstGeom>
          <a:ln w="0">
            <a:noFill/>
          </a:ln>
        </p:spPr>
      </p:pic>
      <p:sp>
        <p:nvSpPr>
          <p:cNvPr id="228" name="Text Box 9"/>
          <p:cNvSpPr/>
          <p:nvPr/>
        </p:nvSpPr>
        <p:spPr>
          <a:xfrm>
            <a:off x="794160" y="263844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甲癣（灰指甲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Text Box 11"/>
          <p:cNvSpPr/>
          <p:nvPr/>
        </p:nvSpPr>
        <p:spPr>
          <a:xfrm>
            <a:off x="4912920" y="59500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头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0" name="Picture 15" descr="u=416759491,364312515&amp;fm=21&amp;gp=0"/>
          <p:cNvPicPr/>
          <p:nvPr/>
        </p:nvPicPr>
        <p:blipFill>
          <a:blip r:embed="rId3"/>
          <a:stretch/>
        </p:blipFill>
        <p:spPr>
          <a:xfrm>
            <a:off x="324000" y="189000"/>
            <a:ext cx="2741400" cy="220824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17" descr="u=1571559471,849855513&amp;fm=21&amp;gp=0"/>
          <p:cNvPicPr/>
          <p:nvPr/>
        </p:nvPicPr>
        <p:blipFill>
          <a:blip r:embed="rId4"/>
          <a:srcRect l="27566" t="0" r="4023" b="0"/>
          <a:stretch/>
        </p:blipFill>
        <p:spPr>
          <a:xfrm>
            <a:off x="3811680" y="3029040"/>
            <a:ext cx="2741400" cy="28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深部真菌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Text Box 6"/>
          <p:cNvSpPr/>
          <p:nvPr/>
        </p:nvSpPr>
        <p:spPr>
          <a:xfrm>
            <a:off x="5387040" y="530064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伪膜性肠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Text Box 8"/>
          <p:cNvSpPr/>
          <p:nvPr/>
        </p:nvSpPr>
        <p:spPr>
          <a:xfrm>
            <a:off x="1374120" y="59500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鹅口疮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5" name="Picture 14" descr="u=2073475935,3213033707&amp;fm=21&amp;gp=0"/>
          <p:cNvPicPr/>
          <p:nvPr/>
        </p:nvPicPr>
        <p:blipFill>
          <a:blip r:embed="rId1"/>
          <a:stretch/>
        </p:blipFill>
        <p:spPr>
          <a:xfrm>
            <a:off x="324000" y="1197000"/>
            <a:ext cx="3198600" cy="416412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17" descr="u=1561719512,3905960394&amp;fm=21&amp;gp=0"/>
          <p:cNvPicPr/>
          <p:nvPr/>
        </p:nvPicPr>
        <p:blipFill>
          <a:blip r:embed="rId2"/>
          <a:stretch/>
        </p:blipFill>
        <p:spPr>
          <a:xfrm>
            <a:off x="4427640" y="1844640"/>
            <a:ext cx="31986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抗真菌药分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04920" y="1341000"/>
            <a:ext cx="86104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5000"/>
              </a:lnSpc>
              <a:spcBef>
                <a:spcPts val="122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根据化学结构的不同可将抗真菌药分为以下四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5000"/>
              </a:lnSpc>
              <a:spcBef>
                <a:spcPts val="1225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抗生素类抗真菌药，如两性霉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5000"/>
              </a:lnSpc>
              <a:spcBef>
                <a:spcPts val="1225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唑类抗真菌药，如酮康唑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5000"/>
              </a:lnSpc>
              <a:spcBef>
                <a:spcPts val="1225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丙烯胺类抗真菌药，如特比萘芬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5000"/>
              </a:lnSpc>
              <a:spcBef>
                <a:spcPts val="1225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嘧啶类抗真菌药，如氟胞嘧啶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72D8C-7614-4A80-84BA-9EEC6F4DE25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一、抗生素类抗真菌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71640" y="1052280"/>
            <a:ext cx="52560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两性霉素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制霉菌素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灰黄霉素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2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21097-55EB-4F47-90C5-3162EFEF3BD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1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两性霉素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B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04920" y="1125360"/>
            <a:ext cx="837072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药理作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两性霉素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属于多烯类抗真菌药，为广谱抗真菌药。对多种深部真菌如白色念珠菌、新型隐球菌、荚膜组织胞浆菌、皮炎芽生菌、粗球孢子菌、孢子丝菌等具有极强的抑菌作用，高浓度有杀菌作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应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是目前治疗深部真菌感染的首选药。但由于其毒性明显，临床主要用于治疗诊断明确且病情危重的深部真菌感染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5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4C337-FC24-4817-8146-E0A3E275CBE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两性霉素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B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35344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包括：常见的不良反应有寒战、高热、头痛、眩晕、全身不适等输注相关的不良反应；胃肠道反应；肾功能损害；心血管系统反应；局部反应；神经系统毒性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禁忌证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对本品过敏者禁用，肝、肾功能减退、孕妇应慎用，哺乳期妇女用药期间应暂停哺乳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FA89D-699F-4C30-B549-A75B0B1A88F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两性霉素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B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250920" y="1052640"/>
            <a:ext cx="861048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300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药疗监护须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由于该药毒性大，且不良反应多，临床只用于有绝对用药指征者，不可用于一般真菌感染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静脉注射此药时必须在医护人员严格的监护下进行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为减少血栓性静脉炎的发生，静脉滴注液应适当稀释，切勿将药液漏于血管外，并经常更换注射部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为减少两性霉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引起的高热、头痛和过敏反应发生，静滴前半小时常需给患者服用解热镇痛药和抗组胺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由于该药对光、热不稳定，应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℃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中避光密闭保存，静脉滴注时，应避光缓慢滴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治疗期间应检查：肾功能、周围血象和血清镁测定、肝功能检查、血钾测定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1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6262A-F04A-4559-8D8B-A827A8BAEFE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2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其他常用药物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50920" y="1125360"/>
            <a:ext cx="85708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制霉菌素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其抗真菌作用、作用机制与两性霉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相似，且不易产生耐药性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上主要局部外用治疗皮肤、黏膜浅部真菌感染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局部应用时不良反应少见，口服后可发生恶心、呕吐、腹泻等；局部应用可引起皮炎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紫杉醇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其抗真菌谱较窄，对各种浅部真菌有较强的抑制作用，但对深部真菌和细菌无效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主要用于治疗各种癣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口服后可引起胃肠道反应、神经系统反应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4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9CE13-19A6-4F80-B188-CA1EF139752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二、唑类抗真菌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525636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酮康唑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氟康唑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伊曲康唑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7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D484D-1CD4-4D77-8A90-72E7CB3DF7B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58" name="Picture 5" descr="2005615104729373"/>
          <p:cNvPicPr/>
          <p:nvPr/>
        </p:nvPicPr>
        <p:blipFill>
          <a:blip r:embed="rId1"/>
          <a:stretch/>
        </p:blipFill>
        <p:spPr>
          <a:xfrm>
            <a:off x="6012000" y="1268280"/>
            <a:ext cx="2741400" cy="274176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6" descr=""/>
          <p:cNvPicPr/>
          <p:nvPr/>
        </p:nvPicPr>
        <p:blipFill>
          <a:blip r:embed="rId2"/>
          <a:stretch/>
        </p:blipFill>
        <p:spPr>
          <a:xfrm>
            <a:off x="2987640" y="1557360"/>
            <a:ext cx="2741760" cy="205740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7" descr="2006615180204"/>
          <p:cNvPicPr/>
          <p:nvPr/>
        </p:nvPicPr>
        <p:blipFill>
          <a:blip r:embed="rId3"/>
          <a:srcRect l="3117" t="13543" r="5249" b="11918"/>
          <a:stretch/>
        </p:blipFill>
        <p:spPr>
          <a:xfrm>
            <a:off x="2941560" y="4392720"/>
            <a:ext cx="5484960" cy="16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1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酮康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125360"/>
            <a:ext cx="837072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药理作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广谱抗真菌药，也是第一个可口服的广谱抗真菌药，对多种浅部和深部真菌均有抗菌作用。低浓度抑菌，高浓度杀菌。其对皮肤癣菌、酵母菌以及其他致病真菌等均有抗菌活性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应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口服可有效地治疗深部、皮下及浅表真菌感染。局部外用可用于治疗表浅部真菌感染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3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280E2-43DB-496B-8034-06680F91260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病 例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圆角矩形 3"/>
          <p:cNvSpPr/>
          <p:nvPr/>
        </p:nvSpPr>
        <p:spPr>
          <a:xfrm>
            <a:off x="468360" y="1341360"/>
            <a:ext cx="7858080" cy="3311640"/>
          </a:xfrm>
          <a:prstGeom prst="roundRect">
            <a:avLst>
              <a:gd name="adj" fmla="val 12264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患者，女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岁，因发热，咳嗽，胸痛，血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周入院。主诉：近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个月来有低热，明显厌食，消瘦，疲乏，夜间盗汗等症状；入院检查：体温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℃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脉搏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9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分，呼吸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分，血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19/81 mmH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营养稍差，消瘦，神志清楚，查体合作。胸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线平片检查：双肺纹理增粗，两肺散在性大小不等密度一致的片状阴影。取痰液做细菌培养和抗酸检查均为阳性。诊断：肺结核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圆角矩形 3"/>
          <p:cNvSpPr/>
          <p:nvPr/>
        </p:nvSpPr>
        <p:spPr>
          <a:xfrm>
            <a:off x="601560" y="4941720"/>
            <a:ext cx="7858080" cy="1295640"/>
          </a:xfrm>
          <a:prstGeom prst="roundRect">
            <a:avLst>
              <a:gd name="adj" fmla="val 12264"/>
            </a:avLst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问题：该患者诊断为肺结核的依据？如何治疗？用药治疗时应注意什么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酮康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35344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包括：胃肠道反应、肝功能损害、可导致女性月经紊乱、男性乳房增大、性欲减退及精液减少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禁忌证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对本品过敏、急慢性肝病患者、有肝病史者、慢性酒精中毒、哺乳期妇女及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岁以下儿童禁用。胃酸缺乏、老年人及肝肾功能减退者慎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52D12-B6D8-4753-B600-F315F933205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酮康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86104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32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药疗监护须知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早期可出现眩晕，应告知患者注意避免意外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与食物同服可减轻胃肠道不适，但不能与抗酸剂同服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在治疗前及治疗期间应定期监测肝功能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对肾上腺功能不全及长时间处于应激状态的患者，应监测其肾上腺功能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服药期间禁止服用含酒精类的饮料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本品可引起光敏反映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局部用药无效或有刺激症状、恶化时，应通知医生，考虑停药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9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2CD5C-15B6-40AE-A20A-BD7DCBEF5DD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2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其他常用药物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50920" y="980640"/>
            <a:ext cx="857088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制霉菌素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为广谱抗真菌药，抗菌谱与酮康唑相似。抗菌活性比酮康唑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倍。主要用于白色念珠菌及隐球菌感染所致的深部真菌病，为治疗艾滋病患者隐球菌性脑膜炎的首选药物。不良反应较少，常见恶心、呕吐、腹痛等胃肠道反应。可能导致胎儿缺陷，孕妇禁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紫杉醇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为广谱抗真菌药，在目前唑类药物中抗真菌作用最强。可有效治疗深部、皮下及浅表真菌，已成为治疗罕见真菌如组织胞浆菌感染和芽生菌感染的首选药物。不良反应较轻，一般能较好地耐受，主要为胃肠道反应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2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10610-63E4-469B-A93D-795C229EE6D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三、嘧啶类抗真菌药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--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氟胞嘧啶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4920" y="1268280"/>
            <a:ext cx="861048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药理作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是人工合成的广谱抗真菌药，对新型隐球菌、白色念珠菌等具有较高抗菌活性，非白色念珠菌对该药的敏感性不如白色念珠菌；对着色真菌、少数曲霉菌属有一定抗菌活性；对其他真菌的抗菌作用均较差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应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用于敏感的念珠菌、新型隐球菌和其他敏感真菌所致的严重感染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5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2E139-6D1C-4B68-8F1B-BD5A684F163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氟胞嘧啶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61048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包括：胃肠道反应、过敏反应、肝功能损害、肾功能损害、血液系统反应、神经系统毒性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禁忌证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对本品过敏及严重肾功能不全者禁用。骨髓抑制、血液系统疾病、肝功能减退、肾功能减退者及孕妇应慎用。哺乳期妇女不宜使用或使用期间停止哺乳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F3881-E371-4FF1-B237-6311DEA3B11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氟胞嘧啶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50920" y="1123920"/>
            <a:ext cx="86104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462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药疗监护须知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462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使用本品前及使用期间应进行下列检查：造血功能；肝功能；肾功能；肾功能减退者需监测血药浓度。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462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注意观察患者有无胃肠道不适、贫血、肝功能损害等不良反应。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462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期间嘱患者多饮水，并注意尿量的观察。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462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肾功能减退者需减量用药，并根据血药浓度测定结果调整剂量。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462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氟胞嘧啶过量时应予以洗胃、催吐、补充液体加速排泄，必要时采用血液透析。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1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B3DBB-D5B8-46E8-AAAE-C45A2442797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四、丙烯胺类抗真菌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250920" y="1125360"/>
            <a:ext cx="85708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5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特比萘芬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12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为丙烯胺类抗浅部真菌药，有广谱抗真菌作用，对浅部真菌如皮肤真菌、曲霉菌、皮炎芽白菌、荚膜组织胞浆菌有杀菌作用，对念珠菌则起抑菌作用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12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适用于浅表真菌引起的皮肤、指甲感染，如对皮肤癣菌等引起的体癣、股癣、甲癣、足癣疗效较好，对酵母菌和白色念珠菌引起的癣病无效。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12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最常见的不良反应常为胃肠道症状、可见皮疹、荨麻疹、关节痛、肌痛等。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12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本品过敏者禁用。孕妇及哺乳期妇女慎用。肝功能受损患者用本品时，应服用正常剂量的一半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4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F8E8F-5550-403B-A9A2-FC5D7B11B46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11280" y="198900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Verdana"/>
                <a:ea typeface="宋体"/>
              </a:rPr>
              <a:t>第一节  抗结核药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B1510-0449-458E-B233-0A1128A3994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8" name="Picture 5" descr="u=4243327077,4111749206&amp;fm=21&amp;gp=0"/>
          <p:cNvPicPr/>
          <p:nvPr/>
        </p:nvPicPr>
        <p:blipFill>
          <a:blip r:embed="rId1"/>
          <a:stretch/>
        </p:blipFill>
        <p:spPr>
          <a:xfrm>
            <a:off x="900000" y="3213000"/>
            <a:ext cx="3143520" cy="20955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7" descr="u=1856927059,2883438388&amp;fm=21&amp;gp=0"/>
          <p:cNvPicPr/>
          <p:nvPr/>
        </p:nvPicPr>
        <p:blipFill>
          <a:blip r:embed="rId2"/>
          <a:stretch/>
        </p:blipFill>
        <p:spPr>
          <a:xfrm>
            <a:off x="5292720" y="3284640"/>
            <a:ext cx="228600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灯片编号占位符 4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99C62-FF10-4B35-984B-BD783E1179A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71720" y="285480"/>
            <a:ext cx="77040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抗结核药物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AutoShape 13"/>
          <p:cNvSpPr/>
          <p:nvPr/>
        </p:nvSpPr>
        <p:spPr>
          <a:xfrm>
            <a:off x="2916360" y="1341360"/>
            <a:ext cx="360360" cy="1656000"/>
          </a:xfrm>
          <a:custGeom>
            <a:avLst/>
            <a:gdLst>
              <a:gd name="textAreaLeft" fmla="*/ 230400 w 360360"/>
              <a:gd name="textAreaRight" fmla="*/ 360720 w 360360"/>
              <a:gd name="textAreaTop" fmla="*/ 42840 h 1656000"/>
              <a:gd name="textAreaBottom" fmla="*/ 1613160 h 165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Oval 5"/>
          <p:cNvSpPr/>
          <p:nvPr/>
        </p:nvSpPr>
        <p:spPr>
          <a:xfrm>
            <a:off x="250920" y="4508640"/>
            <a:ext cx="2736720" cy="1081080"/>
          </a:xfrm>
          <a:prstGeom prst="ellipse">
            <a:avLst/>
          </a:prstGeom>
          <a:solidFill>
            <a:srgbClr val="00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二线抗结核病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Oval 5"/>
          <p:cNvSpPr/>
          <p:nvPr/>
        </p:nvSpPr>
        <p:spPr>
          <a:xfrm>
            <a:off x="250920" y="1700280"/>
            <a:ext cx="2592360" cy="1008000"/>
          </a:xfrm>
          <a:prstGeom prst="ellipse">
            <a:avLst/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一线抗结核病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AutoShape 13"/>
          <p:cNvSpPr/>
          <p:nvPr/>
        </p:nvSpPr>
        <p:spPr>
          <a:xfrm>
            <a:off x="3059280" y="3933720"/>
            <a:ext cx="360360" cy="1994040"/>
          </a:xfrm>
          <a:custGeom>
            <a:avLst/>
            <a:gdLst>
              <a:gd name="textAreaLeft" fmla="*/ 230400 w 360360"/>
              <a:gd name="textAreaRight" fmla="*/ 360720 w 360360"/>
              <a:gd name="textAreaTop" fmla="*/ 51840 h 1994040"/>
              <a:gd name="textAreaBottom" fmla="*/ 1942200 h 1994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Text Box 14"/>
          <p:cNvSpPr/>
          <p:nvPr/>
        </p:nvSpPr>
        <p:spPr>
          <a:xfrm>
            <a:off x="3348000" y="1125360"/>
            <a:ext cx="5473800" cy="11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624"/>
              </a:spcBef>
              <a:buClr>
                <a:srgbClr val="fe230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此类药物疗效较高、不良反应较少、患者较易耐受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buClr>
                <a:srgbClr val="fe230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包括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r>
              <a:rPr b="1" lang="zh-CN" sz="2600" spc="-1" strike="noStrike">
                <a:solidFill>
                  <a:srgbClr val="fe230c"/>
                </a:solidFill>
                <a:latin typeface="楷体_GB2312"/>
                <a:ea typeface="楷体_GB2312"/>
              </a:rPr>
              <a:t>异烟肼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2600" spc="-1" strike="noStrike">
                <a:solidFill>
                  <a:srgbClr val="fe230c"/>
                </a:solidFill>
                <a:latin typeface="楷体_GB2312"/>
                <a:ea typeface="楷体_GB2312"/>
              </a:rPr>
              <a:t>利福平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乙胺丁醇、吡嗪酰胺和链霉素等。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Text Box 15"/>
          <p:cNvSpPr/>
          <p:nvPr/>
        </p:nvSpPr>
        <p:spPr>
          <a:xfrm>
            <a:off x="3492360" y="3716280"/>
            <a:ext cx="5329440" cy="11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624"/>
              </a:spcBef>
              <a:buClr>
                <a:srgbClr val="fe230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此类药物疗效低于一线抗结核病药，毒性大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624"/>
              </a:spcBef>
              <a:buClr>
                <a:srgbClr val="fe230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包括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r>
              <a:rPr b="1" lang="zh-CN" sz="2600" spc="-1" strike="noStrike">
                <a:solidFill>
                  <a:srgbClr val="fe230c"/>
                </a:solidFill>
                <a:latin typeface="楷体_GB2312"/>
                <a:ea typeface="楷体_GB2312"/>
              </a:rPr>
              <a:t>对氨水杨酸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乙硫异烟胺、丙硫异烟胺、氨硫脲、卷曲霉素、环丝氨酸等。 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一、一线抗结核病药物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1268280"/>
            <a:ext cx="734364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常用一线抗结核病药物包括：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异烟肼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利福平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乙胺丁醇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吡嗪酰胺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链霉素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E5AAA-62AB-4D49-8865-0379CBA0D87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1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异烟肼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（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INH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560" y="1125360"/>
            <a:ext cx="84502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药理作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异烟肼对结核分枝杆菌具有高度的选择性，具有疗效好，毒性小、口服方便、价格低廉等优点，是目前临床首选的一线抗结核病药，但单用易产生耐药性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应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异烟肼是预防和治疗结核病的首选药物，尤其是活动性结核。适用于各种类型的结核病，如肺、淋巴、骨、肾、肠等结核，结核性脑膜炎、胸膜炎及腹膜炎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356A2-E9FB-4BAC-B335-49922300F46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异烟肼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61048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7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包括：神经系统毒性、肝功能损害、胃肠道反应、过敏反应、血液系统毒性、内分泌功能紊乱、可出现排尿困难、心律失常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7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禁忌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肝功能不良者禁用；肾病患者及有癫痫、嗜酒、精神病史者及孕妇慎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F3AEF-775B-4866-8146-C27291F2B2E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赵欣</cp:lastModifiedBy>
  <cp:lastPrinted>1899-12-30T00:00:00Z</cp:lastPrinted>
  <dcterms:modified xsi:type="dcterms:W3CDTF">2015-12-14T07:47:16Z</dcterms:modified>
  <cp:revision>295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