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8351-F085-4E8C-BC8E-A23BFB822B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1AF0E-2114-4145-81FD-311A4366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5BDA9-622F-46A8-9347-5AE360E4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DD88B-9850-4B18-BFFF-6D05B125A3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066D7-9BB6-4842-95B1-0A6390A8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40AA5-453D-4FE6-AF6F-C6A53661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73AAD-A6ED-4078-B153-01317AAB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8DCC-351F-43EE-8C59-2CB9C430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963FF-4297-465D-A6F1-B0B2C23D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D8E8D-3C51-4D31-851C-21E12FDD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FBBBE-B358-4CB7-978A-EC85436D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3E7B5-99AE-4926-A57E-3B7889D1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F7AF-1752-4A31-89CE-87C861A58DC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章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作用于肾上腺素系统的药物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68360" y="1341360"/>
            <a:ext cx="8496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骤停：一般采用心内注射，同时配合有效的人工呼吸，心脏挤压，纠正酸中毒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：对电击伤所致心脏骤停禁用；但在有心脏除颤器或 利多卡因等除颤条件下仍可应用。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三联针（心室内注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老 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+NA+IP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现已少用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 ：肾上腺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阿托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g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利多卡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m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兴奋心脏   解除迷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心脏抑制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室颤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04292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敏性休克首选，心跳无力，血压下降，呼吸困难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上腺素：强、快的心脏兴奋作用；血压上升；强大的支气管松弛作用，消除黏膜水肿及减少组胺等过敏介质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ddb523"/>
                </a:solidFill>
                <a:latin typeface="Times New Roman"/>
                <a:ea typeface="宋体"/>
              </a:rPr>
              <a:t>支气管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强大的支气管平滑肌松弛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支气管黏膜血管收缩，有利于消除黏膜水肿，有利于通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有一定抗过敏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主要用于支气管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332000" y="1700280"/>
            <a:ext cx="71276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与局麻药配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局麻药作用时间；减少吸收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手指、足趾、阴茎等手术不加肾上腺素，以免影响局部血液循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局部止血：鼻黏膜及齿龈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700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一）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常出现烦躁、焦虑、心悸、皮肤苍白、出汗等症状，停药后可消失。大剂量可出现血压骤升、搏动性头痛，脑出血和心室纤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二）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律失常、高血压、脑动脉硬化、器质性心脏病、甲状腺功能亢进及糖尿病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0" y="126792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药性质不稳定，遇光易分解，应避光贮存于阴凉处，如氧化变为粉红色或棕色不可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皮下注射及肌注时注意抽回血，以免误入血管；给药后密切观察血压、脉搏、患者面容及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吸入给药法治疗哮喘，也应注意测量血压、脉搏，以估计药物吸收情况。用药半小时内如哮喘不见缓解，甚或出现气道阻塞、呼吸困难，应及时报告医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吸入治疗时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效果不明显者应，可能产生耐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opanine ,D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1280" y="1915920"/>
            <a:ext cx="7345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】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口服在肠和肝破坏，一般采用静脉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迅速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破坏，作用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易透过血脑屏障，几乎无中枢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可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脏：激动心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弱，一般不易产生心律失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肾血管、肠系膜及冠状血管扩张，这是由于激动这些部位上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注意：剂量较大通过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作用超过血管舒张作用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600"/>
            <a:ext cx="8588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低浓度：收缩压上升；舒张压变化不大或稍升高。高浓度：收缩压与舒张压均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肾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激动肾血管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使血管扩张，肾血流增加；另外可抑制肾小管对钠离子再吸收，所以可使尿量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大剂量：激动肾血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引起血管收缩，使肾血流量减少。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699920"/>
            <a:ext cx="7200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抗休克：各种休克，如感染中毒性休克、心源性休克及出血性休克等。尤其对伴有心功能降低，尿量减少而血容量已补充的休克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急性肾功能衰竭：与利尿剂合用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1" name="组合 4"/>
          <p:cNvGrpSpPr/>
          <p:nvPr/>
        </p:nvGrpSpPr>
        <p:grpSpPr>
          <a:xfrm>
            <a:off x="1819440" y="2981160"/>
            <a:ext cx="687240" cy="594000"/>
            <a:chOff x="1819440" y="2981160"/>
            <a:chExt cx="687240" cy="594000"/>
          </a:xfrm>
        </p:grpSpPr>
        <p:sp>
          <p:nvSpPr>
            <p:cNvPr id="112" name="AutoShape 9"/>
            <p:cNvSpPr/>
            <p:nvPr/>
          </p:nvSpPr>
          <p:spPr>
            <a:xfrm>
              <a:off x="1819440" y="2981160"/>
              <a:ext cx="687240" cy="594000"/>
            </a:xfrm>
            <a:prstGeom prst="hexagon">
              <a:avLst>
                <a:gd name="adj" fmla="val 28924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1954080" y="3063600"/>
              <a:ext cx="35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4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700360" y="22464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拟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抗肾上腺素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280" y="1989000"/>
            <a:ext cx="7435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一般较轻，如恶心、呕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剂量大或静滴过快可引起心律失常，肾血流减少， 肾功能下降等，一旦发生：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及时减量或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必要时可用酚妥拉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高血压、动脉硬化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室性心律失常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冠心病及甲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应慎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瘤患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胺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4920" y="1125360"/>
            <a:ext cx="8497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严格执行医嘱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溶于全部稀释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最好先作好穿刺，再从瓶口加入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应用本品前需先用全血或血浆纠正血容量。治疗时尽量用最小剂量及最短时间，时间越短，预后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静滴速度宜先慢速开始逐渐增加，在静滴过程中应监测血压、心率、节律、尿量及患者状态。如因滴速过快出现心动过速、头痛等症状，可酌情减慢滴速或停滴。静滴结束后仍需观察，发现水肿等情况应局部进行热敷或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阻断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ephedrin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8920" y="1406160"/>
            <a:ext cx="871380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作用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，性质稳定，可口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温和而持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作用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产生快速耐受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促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释放发挥间接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支气管哮喘：预防或轻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鼻黏膜充血引起的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防止某些低血压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缓解荨麻疹等皮肤黏膜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麻黄碱的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560" y="1125000"/>
            <a:ext cx="88707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防治局麻药引起的低血压时，用药前后均应监测血压及脉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尽量不在晚上入睡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在数小时内合并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建议医生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患者用滴鼻剂（萘甲唑啉）时，需先将鼻涕擤净，清除鼻腔后将头后仰，滴鼻后，避免出现全身反应。因可引起反射性鼻黏膜肿胀，最多连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易引起急性尿潴留，如有排尿困难，应向医生报告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8000" y="1341360"/>
          <a:ext cx="8785080" cy="5054760"/>
        </p:xfrm>
        <a:graphic>
          <a:graphicData uri="http://schemas.openxmlformats.org/drawingml/2006/table">
            <a:tbl>
              <a:tblPr/>
              <a:tblGrid>
                <a:gridCol w="863640"/>
                <a:gridCol w="3024000"/>
                <a:gridCol w="2381400"/>
                <a:gridCol w="2516040"/>
              </a:tblGrid>
              <a:tr h="65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受体激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代表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肾上腺素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D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NA)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喘息定、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激动受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强    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很强 较强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±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强    很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心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8" name="组合 17"/>
          <p:cNvGrpSpPr/>
          <p:nvPr/>
        </p:nvGrpSpPr>
        <p:grpSpPr>
          <a:xfrm>
            <a:off x="1031760" y="4159080"/>
            <a:ext cx="7437600" cy="1944000"/>
            <a:chOff x="1031760" y="4159080"/>
            <a:chExt cx="7437600" cy="1944000"/>
          </a:xfrm>
        </p:grpSpPr>
        <p:grpSp>
          <p:nvGrpSpPr>
            <p:cNvPr id="209" name="组合 18"/>
            <p:cNvGrpSpPr/>
            <p:nvPr/>
          </p:nvGrpSpPr>
          <p:grpSpPr>
            <a:xfrm>
              <a:off x="1031760" y="5126400"/>
              <a:ext cx="5150880" cy="976680"/>
              <a:chOff x="1031760" y="5126400"/>
              <a:chExt cx="5150880" cy="976680"/>
            </a:xfrm>
          </p:grpSpPr>
          <p:sp>
            <p:nvSpPr>
              <p:cNvPr id="210" name="Rectangle 34"/>
              <p:cNvSpPr/>
              <p:nvPr/>
            </p:nvSpPr>
            <p:spPr>
              <a:xfrm>
                <a:off x="1031760" y="5126400"/>
                <a:ext cx="2449800" cy="7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皮肤、粘膜、内脏血管收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Rectangle 38"/>
              <p:cNvSpPr/>
              <p:nvPr/>
            </p:nvSpPr>
            <p:spPr>
              <a:xfrm>
                <a:off x="3985920" y="5148720"/>
                <a:ext cx="2196720" cy="95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: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全身血管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A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、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V)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收缩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,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冠脉先收缩后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12" name="组合 19"/>
            <p:cNvGrpSpPr/>
            <p:nvPr/>
          </p:nvGrpSpPr>
          <p:grpSpPr>
            <a:xfrm>
              <a:off x="4111560" y="4159080"/>
              <a:ext cx="4357800" cy="1432080"/>
              <a:chOff x="4111560" y="4159080"/>
              <a:chExt cx="4357800" cy="1432080"/>
            </a:xfrm>
          </p:grpSpPr>
          <p:grpSp>
            <p:nvGrpSpPr>
              <p:cNvPr id="213" name="组合 20"/>
              <p:cNvGrpSpPr/>
              <p:nvPr/>
            </p:nvGrpSpPr>
            <p:grpSpPr>
              <a:xfrm>
                <a:off x="4111560" y="4159080"/>
                <a:ext cx="4232160" cy="695880"/>
                <a:chOff x="4111560" y="4159080"/>
                <a:chExt cx="4232160" cy="695880"/>
              </a:xfrm>
            </p:grpSpPr>
            <p:sp>
              <p:nvSpPr>
                <p:cNvPr id="214" name="Rectangle 36"/>
                <p:cNvSpPr/>
                <p:nvPr/>
              </p:nvSpPr>
              <p:spPr>
                <a:xfrm>
                  <a:off x="4111560" y="4159080"/>
                  <a:ext cx="1945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心率↓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37"/>
                <p:cNvSpPr/>
                <p:nvPr/>
              </p:nvSpPr>
              <p:spPr>
                <a:xfrm>
                  <a:off x="6434280" y="4174920"/>
                  <a:ext cx="190944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激动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宋体"/>
                      <a:ea typeface="宋体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R→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心脏兴奋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(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传导↑↑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)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Rectangle 39"/>
              <p:cNvSpPr/>
              <p:nvPr/>
            </p:nvSpPr>
            <p:spPr>
              <a:xfrm>
                <a:off x="6308280" y="5185440"/>
                <a:ext cx="2161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激动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宋体"/>
                    <a:ea typeface="宋体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R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：骨骼肌血管舒张、冠脉舒张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Rectangle 35"/>
          <p:cNvSpPr/>
          <p:nvPr/>
        </p:nvSpPr>
        <p:spPr>
          <a:xfrm>
            <a:off x="1258920" y="4159080"/>
            <a:ext cx="2378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1413000"/>
          <a:ext cx="8713800" cy="4895640"/>
        </p:xfrm>
        <a:graphic>
          <a:graphicData uri="http://schemas.openxmlformats.org/drawingml/2006/table">
            <a:tbl>
              <a:tblPr/>
              <a:tblGrid>
                <a:gridCol w="576000"/>
                <a:gridCol w="3384720"/>
                <a:gridCol w="2664000"/>
                <a:gridCol w="2089080"/>
              </a:tblGrid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去甲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异丙肾上腺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4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对血压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的作用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治疗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剂量时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小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大量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19"/>
          <p:cNvSpPr/>
          <p:nvPr/>
        </p:nvSpPr>
        <p:spPr>
          <a:xfrm>
            <a:off x="826920" y="2346480"/>
            <a:ext cx="3457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≈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变化不大→舒张压不变或稍↓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826920" y="450684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脏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 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总外周阻力↑→舒张压↑ 故脉压变化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典型变化：先升后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4229280" y="2333520"/>
            <a:ext cx="26650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稍弱→外周阻力↑不多→舒张压↑不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稍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4229280" y="450864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强→外周阻力↑↑ →舒张压↑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6894360" y="23464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R→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心兴奋→收缩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激动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R→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骨骼肌血管等舒张→总外周阻力↓→舒张压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故脉压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2580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良反应多，可因浓度过高，药液外漏，静滴时间过长等引起局部血管强烈收缩，局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缺血坏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急性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肾功能衰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高血压病、动脉硬化、冠心病、少尿或无尿休克患者禁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静脉穿刺时药液勿外溢，以免引起组织坏死。静滴时间不能过长，浓度不应过高，观察给药部位有无水肿、变白等缺血表现，必要时需及时更换注射部位。选用大而弹性好的血管。禁用手部或关节周围的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组合 2"/>
          <p:cNvGrpSpPr/>
          <p:nvPr/>
        </p:nvGrpSpPr>
        <p:grpSpPr>
          <a:xfrm>
            <a:off x="395280" y="1125360"/>
            <a:ext cx="5572080" cy="1587600"/>
            <a:chOff x="395280" y="1125360"/>
            <a:chExt cx="5572080" cy="1587600"/>
          </a:xfrm>
        </p:grpSpPr>
        <p:sp>
          <p:nvSpPr>
            <p:cNvPr id="235" name="圆角矩形标注 1"/>
            <p:cNvSpPr/>
            <p:nvPr/>
          </p:nvSpPr>
          <p:spPr>
            <a:xfrm>
              <a:off x="395280" y="1128240"/>
              <a:ext cx="5400720" cy="1584720"/>
            </a:xfrm>
            <a:prstGeom prst="wedgeRoundRectCallout">
              <a:avLst>
                <a:gd name="adj1" fmla="val 73435"/>
                <a:gd name="adj2" fmla="val 9175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36" name="组合 9"/>
            <p:cNvGrpSpPr/>
            <p:nvPr/>
          </p:nvGrpSpPr>
          <p:grpSpPr>
            <a:xfrm>
              <a:off x="423720" y="1125360"/>
              <a:ext cx="5543640" cy="1539720"/>
              <a:chOff x="423720" y="1125360"/>
              <a:chExt cx="5543640" cy="1539720"/>
            </a:xfrm>
          </p:grpSpPr>
          <p:sp>
            <p:nvSpPr>
              <p:cNvPr id="237" name="Text Box 2"/>
              <p:cNvSpPr/>
              <p:nvPr/>
            </p:nvSpPr>
            <p:spPr>
              <a:xfrm>
                <a:off x="423720" y="1707840"/>
                <a:ext cx="877680" cy="503280"/>
              </a:xfrm>
              <a:prstGeom prst="rect">
                <a:avLst/>
              </a:prstGeom>
              <a:noFill/>
              <a:ln w="9360">
                <a:solidFill>
                  <a:srgbClr val="8ac8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11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处理</a:t>
                </a:r>
                <a:r>
                  <a:rPr b="1" lang="zh-CN" sz="2900" spc="-1" strike="noStrike">
                    <a:solidFill>
                      <a:srgbClr val="ffffff"/>
                    </a:solidFill>
                    <a:latin typeface="楷体_GB2312"/>
                    <a:ea typeface="楷体_GB2312"/>
                  </a:rPr>
                  <a:t>：</a:t>
                </a:r>
                <a:endParaRPr b="0" lang="en-US" sz="2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8" name="AutoShape 3"/>
              <p:cNvSpPr/>
              <p:nvPr/>
            </p:nvSpPr>
            <p:spPr>
              <a:xfrm>
                <a:off x="1142640" y="1461600"/>
                <a:ext cx="131760" cy="1005840"/>
              </a:xfrm>
              <a:custGeom>
                <a:avLst/>
                <a:gdLst>
                  <a:gd name="textAreaLeft" fmla="*/ 84240 w 131760"/>
                  <a:gd name="textAreaRight" fmla="*/ 132120 w 131760"/>
                  <a:gd name="textAreaTop" fmla="*/ 35640 h 1005840"/>
                  <a:gd name="textAreaBottom" fmla="*/ 970200 h 100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228"/>
                      <a:pt x="10800" y="2456"/>
                    </a:cubicBezTo>
                    <a:lnTo>
                      <a:pt x="10800" y="8344"/>
                    </a:lnTo>
                    <a:cubicBezTo>
                      <a:pt x="10800" y="9572"/>
                      <a:pt x="5400" y="10800"/>
                      <a:pt x="0" y="10800"/>
                    </a:cubicBezTo>
                    <a:cubicBezTo>
                      <a:pt x="5400" y="10800"/>
                      <a:pt x="10800" y="12028"/>
                      <a:pt x="10800" y="13256"/>
                    </a:cubicBezTo>
                    <a:lnTo>
                      <a:pt x="10800" y="19144"/>
                    </a:lnTo>
                    <a:cubicBezTo>
                      <a:pt x="10800" y="20372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9" name="Text Box 4"/>
              <p:cNvSpPr/>
              <p:nvPr/>
            </p:nvSpPr>
            <p:spPr>
              <a:xfrm>
                <a:off x="1208880" y="1125360"/>
                <a:ext cx="4758480" cy="15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1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更换注射部位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2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局部热敷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609480"/>
                    <a:tab algn="l" pos="1219320"/>
                    <a:tab algn="l" pos="1828800"/>
                    <a:tab algn="l" pos="2438280"/>
                    <a:tab algn="l" pos="3048120"/>
                    <a:tab algn="l" pos="3657600"/>
                    <a:tab algn="l" pos="4267080"/>
                    <a:tab algn="l" pos="4876920"/>
                    <a:tab algn="l" pos="5486400"/>
                    <a:tab algn="l" pos="6095880"/>
                    <a:tab algn="l" pos="6705720"/>
                    <a:tab algn="l" pos="7315200"/>
                    <a:tab algn="l" pos="7924680"/>
                    <a:tab algn="l" pos="8534520"/>
                    <a:tab algn="l" pos="9144000"/>
                    <a:tab algn="l" pos="9753480"/>
                    <a:tab algn="l" pos="1036332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(3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普鲁卡因或酚妥拉明浸润注射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组合 4"/>
          <p:cNvGrpSpPr/>
          <p:nvPr/>
        </p:nvGrpSpPr>
        <p:grpSpPr>
          <a:xfrm>
            <a:off x="1512720" y="3429000"/>
            <a:ext cx="3490920" cy="1440000"/>
            <a:chOff x="1512720" y="3429000"/>
            <a:chExt cx="3490920" cy="1440000"/>
          </a:xfrm>
        </p:grpSpPr>
        <p:sp>
          <p:nvSpPr>
            <p:cNvPr id="241" name="圆角矩形标注 13"/>
            <p:cNvSpPr/>
            <p:nvPr/>
          </p:nvSpPr>
          <p:spPr>
            <a:xfrm>
              <a:off x="1512720" y="3429000"/>
              <a:ext cx="3490920" cy="1440000"/>
            </a:xfrm>
            <a:prstGeom prst="wedgeRoundRectCallout">
              <a:avLst>
                <a:gd name="adj1" fmla="val -26310"/>
                <a:gd name="adj2" fmla="val -87666"/>
                <a:gd name="adj3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7"/>
            <p:cNvSpPr/>
            <p:nvPr/>
          </p:nvSpPr>
          <p:spPr>
            <a:xfrm>
              <a:off x="1828440" y="3733560"/>
              <a:ext cx="2887920" cy="9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600" bIns="306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记录尿量</a:t>
              </a:r>
              <a:r>
                <a:rPr b="1" lang="en-US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&gt;25ml/h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609480"/>
                  <a:tab algn="l" pos="1219320"/>
                  <a:tab algn="l" pos="1828800"/>
                  <a:tab algn="l" pos="2438280"/>
                  <a:tab algn="l" pos="3048120"/>
                  <a:tab algn="l" pos="3657600"/>
                  <a:tab algn="l" pos="4267080"/>
                  <a:tab algn="l" pos="4876920"/>
                  <a:tab algn="l" pos="5486400"/>
                  <a:tab algn="l" pos="6095880"/>
                  <a:tab algn="l" pos="6705720"/>
                  <a:tab algn="l" pos="7315200"/>
                  <a:tab algn="l" pos="7924680"/>
                  <a:tab algn="l" pos="8534520"/>
                  <a:tab algn="l" pos="9144000"/>
                  <a:tab algn="l" pos="9753480"/>
                  <a:tab algn="l" pos="103633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应用甘露醇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3"/>
            <p:cNvSpPr/>
            <p:nvPr/>
          </p:nvSpPr>
          <p:spPr>
            <a:xfrm>
              <a:off x="1725120" y="3762360"/>
              <a:ext cx="96840" cy="817560"/>
            </a:xfrm>
            <a:custGeom>
              <a:avLst/>
              <a:gdLst>
                <a:gd name="textAreaLeft" fmla="*/ 61920 w 96840"/>
                <a:gd name="textAreaRight" fmla="*/ 97200 w 96840"/>
                <a:gd name="textAreaTop" fmla="*/ 17640 h 817560"/>
                <a:gd name="textAreaBottom" fmla="*/ 799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55"/>
                    <a:pt x="10800" y="1510"/>
                  </a:cubicBezTo>
                  <a:lnTo>
                    <a:pt x="10800" y="9290"/>
                  </a:lnTo>
                  <a:cubicBezTo>
                    <a:pt x="10800" y="10045"/>
                    <a:pt x="5400" y="10800"/>
                    <a:pt x="0" y="10800"/>
                  </a:cubicBezTo>
                  <a:cubicBezTo>
                    <a:pt x="5400" y="10800"/>
                    <a:pt x="10800" y="11555"/>
                    <a:pt x="10800" y="12310"/>
                  </a:cubicBezTo>
                  <a:lnTo>
                    <a:pt x="10800" y="20090"/>
                  </a:lnTo>
                  <a:cubicBezTo>
                    <a:pt x="10800" y="20845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NA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8000" y="1125360"/>
            <a:ext cx="8856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控制点滴速度，以收缩压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为宜。约每分钟滴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μ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用药过程中，监测血压及尿量、末梢循环状态（皮肤温度、颜色，特别是耳轮、嘴唇、甲床等的色泽），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ml/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向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隔一小时观察一次注射部位，出现局部水肿、皮肤苍白应立即热敷，并酌情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剂酚妥拉明对抗。静滴结束后，注意观察突然停药引起的血压下降。本品为无色液体，一旦出现颜色就不宜使用。宜单独使用，与多种药物有配伍禁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不良反应和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药常引起心悸、头痛、头晕。对哮喘缺氧患者用量过大或过于频繁，更易引起心律失常，诱发心绞痛。长期反复应用易产生耐受性。哮喘患者长期自行滥用本品可引起猝死。冠心病、心肌炎及甲亢患者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疗监护如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本品起效快、作用强、持续时间长，用药后应密切注视心率，以保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以下为宜，以免引起室颤。可通过调整滴速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1196640"/>
            <a:ext cx="8137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、去甲肾上腺素、异丙肾上腺素、多巴胺、酚妥拉明和普萘洛尔的药理作用、作用机制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肾上腺素受体作用药物分类和各类代表药的作用特点、临床应用、不良反应和药疗监护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间羟胺、多巴酚丁胺、酚苄明和美托洛尔的作用特点、临床应用及不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SO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哮喘患者自用气雾剂及舌下含片者，应嘱患者按医嘱规定的用药次数及剂量，擅自增大剂量可致室颤及猝死。雾化器喷后立即嗽口，以免对口腔及喉的刺激。如由舌下含服，应告诉患者将药放于舌下后任其自行溶化、吸收，不可吮吸，不要把唾液咽下，否则可引起上腹部疼痛，待药物完全吸收后要漱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反复应用，可对本类药物中扩张支气管作用的药物产生交叉耐受性，用药效果不佳。应建议医生更换其它平喘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羟胺（阿拉明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激动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 ＜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促进神经末梢释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作用缓慢、温和、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是临床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代用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氧肾上腺素（苯肾上腺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特点：作用与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似但收缩肾血管作用 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激动瞳孔开大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快速短效扩大瞳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应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室上性心动过速或药物致低血压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扩大瞳孔（作用快、弱、短、不升眼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多巴酚丁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激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兴奋心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影响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心肌梗塞并心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难治性心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房颤者及梗阻型肥厚性心肌病禁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药疗监护须知】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给药期间应监测血压及心电图。血压明显波动或心率过快应减慢滴速，及时报告医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本药不宜与碱性药物配伍应用，与催产素合用可致血压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64680" y="13298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2" name="组合 4"/>
          <p:cNvGrpSpPr/>
          <p:nvPr/>
        </p:nvGrpSpPr>
        <p:grpSpPr>
          <a:xfrm>
            <a:off x="93960" y="2097000"/>
            <a:ext cx="9535320" cy="4025880"/>
            <a:chOff x="93960" y="2097000"/>
            <a:chExt cx="9535320" cy="4025880"/>
          </a:xfrm>
        </p:grpSpPr>
        <p:grpSp>
          <p:nvGrpSpPr>
            <p:cNvPr id="263" name="组合 129"/>
            <p:cNvGrpSpPr/>
            <p:nvPr/>
          </p:nvGrpSpPr>
          <p:grpSpPr>
            <a:xfrm>
              <a:off x="93960" y="2097000"/>
              <a:ext cx="9535320" cy="4025880"/>
              <a:chOff x="93960" y="2097000"/>
              <a:chExt cx="9535320" cy="4025880"/>
            </a:xfrm>
          </p:grpSpPr>
          <p:sp>
            <p:nvSpPr>
              <p:cNvPr id="264" name="AutoShape 125"/>
              <p:cNvSpPr/>
              <p:nvPr/>
            </p:nvSpPr>
            <p:spPr>
              <a:xfrm>
                <a:off x="698040" y="2940480"/>
                <a:ext cx="213120" cy="2403720"/>
              </a:xfrm>
              <a:custGeom>
                <a:avLst/>
                <a:gdLst>
                  <a:gd name="textAreaLeft" fmla="*/ 136080 w 213120"/>
                  <a:gd name="textAreaRight" fmla="*/ 213480 w 213120"/>
                  <a:gd name="textAreaTop" fmla="*/ 52200 h 2403720"/>
                  <a:gd name="textAreaBottom" fmla="*/ 2351520 h 2403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754"/>
                      <a:pt x="10800" y="1507"/>
                    </a:cubicBezTo>
                    <a:lnTo>
                      <a:pt x="10800" y="9293"/>
                    </a:lnTo>
                    <a:cubicBezTo>
                      <a:pt x="10800" y="10047"/>
                      <a:pt x="5400" y="10800"/>
                      <a:pt x="0" y="10800"/>
                    </a:cubicBezTo>
                    <a:cubicBezTo>
                      <a:pt x="5400" y="10800"/>
                      <a:pt x="10800" y="11554"/>
                      <a:pt x="10800" y="12307"/>
                    </a:cubicBezTo>
                    <a:lnTo>
                      <a:pt x="10800" y="20093"/>
                    </a:lnTo>
                    <a:cubicBezTo>
                      <a:pt x="10800" y="20847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65" name="组合 131"/>
              <p:cNvGrpSpPr/>
              <p:nvPr/>
            </p:nvGrpSpPr>
            <p:grpSpPr>
              <a:xfrm>
                <a:off x="93960" y="2097000"/>
                <a:ext cx="9535320" cy="4025880"/>
                <a:chOff x="93960" y="2097000"/>
                <a:chExt cx="9535320" cy="4025880"/>
              </a:xfrm>
            </p:grpSpPr>
            <p:grpSp>
              <p:nvGrpSpPr>
                <p:cNvPr id="266" name="组合 132"/>
                <p:cNvGrpSpPr/>
                <p:nvPr/>
              </p:nvGrpSpPr>
              <p:grpSpPr>
                <a:xfrm>
                  <a:off x="809280" y="2097000"/>
                  <a:ext cx="8820000" cy="4021560"/>
                  <a:chOff x="809280" y="2097000"/>
                  <a:chExt cx="8820000" cy="4021560"/>
                </a:xfrm>
              </p:grpSpPr>
              <p:grpSp>
                <p:nvGrpSpPr>
                  <p:cNvPr id="267" name="Group 18"/>
                  <p:cNvGrpSpPr/>
                  <p:nvPr/>
                </p:nvGrpSpPr>
                <p:grpSpPr>
                  <a:xfrm>
                    <a:off x="809280" y="4587840"/>
                    <a:ext cx="8820000" cy="1530720"/>
                    <a:chOff x="809280" y="4587840"/>
                    <a:chExt cx="8820000" cy="1530720"/>
                  </a:xfrm>
                </p:grpSpPr>
                <p:sp>
                  <p:nvSpPr>
                    <p:cNvPr id="268" name="Text Box 6"/>
                    <p:cNvSpPr/>
                    <p:nvPr/>
                  </p:nvSpPr>
                  <p:spPr>
                    <a:xfrm>
                      <a:off x="4709520" y="4587840"/>
                      <a:ext cx="491976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808"/>
                          </a:solidFill>
                          <a:latin typeface="宋体"/>
                          <a:ea typeface="宋体"/>
                        </a:rPr>
                        <a:t>阿替洛尔、美托洛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69" name="Group 17"/>
                    <p:cNvGrpSpPr/>
                    <p:nvPr/>
                  </p:nvGrpSpPr>
                  <p:grpSpPr>
                    <a:xfrm>
                      <a:off x="809280" y="4627800"/>
                      <a:ext cx="4184280" cy="1490760"/>
                      <a:chOff x="809280" y="4627800"/>
                      <a:chExt cx="4184280" cy="1490760"/>
                    </a:xfrm>
                  </p:grpSpPr>
                  <p:grpSp>
                    <p:nvGrpSpPr>
                      <p:cNvPr id="270" name="Group 16"/>
                      <p:cNvGrpSpPr/>
                      <p:nvPr/>
                    </p:nvGrpSpPr>
                    <p:grpSpPr>
                      <a:xfrm>
                        <a:off x="2850120" y="4627800"/>
                        <a:ext cx="2143440" cy="1490760"/>
                        <a:chOff x="2850120" y="4627800"/>
                        <a:chExt cx="2143440" cy="1490760"/>
                      </a:xfrm>
                    </p:grpSpPr>
                    <p:sp>
                      <p:nvSpPr>
                        <p:cNvPr id="271" name="AutoShape 8"/>
                        <p:cNvSpPr/>
                        <p:nvPr/>
                      </p:nvSpPr>
                      <p:spPr>
                        <a:xfrm>
                          <a:off x="2850120" y="4627800"/>
                          <a:ext cx="43200" cy="149076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0760"/>
                            <a:gd name="textAreaBottom" fmla="*/ 1463040 h 149076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2" name="Text Box 9"/>
                        <p:cNvSpPr/>
                        <p:nvPr/>
                      </p:nvSpPr>
                      <p:spPr>
                        <a:xfrm>
                          <a:off x="2951280" y="4649040"/>
                          <a:ext cx="204228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1</a:t>
                          </a:r>
                          <a:r>
                            <a:rPr b="1" lang="zh-CN" sz="2800" spc="-1" strike="noStrike">
                              <a:solidFill>
                                <a:srgbClr val="000808"/>
                              </a:solidFill>
                              <a:latin typeface="宋体"/>
                              <a:ea typeface="宋体"/>
                            </a:rPr>
                            <a:t>阻断药：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3" name="Text Box 10"/>
                      <p:cNvSpPr/>
                      <p:nvPr/>
                    </p:nvSpPr>
                    <p:spPr>
                      <a:xfrm>
                        <a:off x="809280" y="4822920"/>
                        <a:ext cx="209304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阻断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74" name="组合 137"/>
                  <p:cNvGrpSpPr/>
                  <p:nvPr/>
                </p:nvGrpSpPr>
                <p:grpSpPr>
                  <a:xfrm>
                    <a:off x="910800" y="2097000"/>
                    <a:ext cx="8460000" cy="1995120"/>
                    <a:chOff x="910800" y="2097000"/>
                    <a:chExt cx="8460000" cy="1995120"/>
                  </a:xfrm>
                </p:grpSpPr>
                <p:grpSp>
                  <p:nvGrpSpPr>
                    <p:cNvPr id="275" name="组合 138"/>
                    <p:cNvGrpSpPr/>
                    <p:nvPr/>
                  </p:nvGrpSpPr>
                  <p:grpSpPr>
                    <a:xfrm>
                      <a:off x="2984040" y="2097000"/>
                      <a:ext cx="6386760" cy="1995120"/>
                      <a:chOff x="2984040" y="2097000"/>
                      <a:chExt cx="6386760" cy="1995120"/>
                    </a:xfrm>
                  </p:grpSpPr>
                  <p:sp>
                    <p:nvSpPr>
                      <p:cNvPr id="276" name="Text Box 3"/>
                      <p:cNvSpPr/>
                      <p:nvPr/>
                    </p:nvSpPr>
                    <p:spPr>
                      <a:xfrm>
                        <a:off x="2984040" y="2097000"/>
                        <a:ext cx="6386760" cy="1995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哌唑嗪，为降压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育亨宾，为科研工具药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、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808"/>
                            </a:solidFill>
                            <a:latin typeface="宋体"/>
                            <a:ea typeface="宋体"/>
                          </a:rPr>
                          <a:t>阻断药：酚妥拉明、酚苄明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AutoShape 5"/>
                      <p:cNvSpPr/>
                      <p:nvPr/>
                    </p:nvSpPr>
                    <p:spPr>
                      <a:xfrm>
                        <a:off x="2986200" y="2134080"/>
                        <a:ext cx="75960" cy="158364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583640"/>
                          <a:gd name="textAreaBottom" fmla="*/ 1481040 h 158364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401"/>
                              <a:pt x="0" y="2801"/>
                            </a:cubicBezTo>
                            <a:lnTo>
                              <a:pt x="0" y="18799"/>
                            </a:lnTo>
                            <a:cubicBezTo>
                              <a:pt x="0" y="20200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8" name="Text Box 10"/>
                    <p:cNvSpPr/>
                    <p:nvPr/>
                  </p:nvSpPr>
                  <p:spPr>
                    <a:xfrm>
                      <a:off x="910800" y="2743200"/>
                      <a:ext cx="20732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阻断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9" name="TextBox 133"/>
                <p:cNvSpPr/>
                <p:nvPr/>
              </p:nvSpPr>
              <p:spPr>
                <a:xfrm>
                  <a:off x="93960" y="2940480"/>
                  <a:ext cx="606960" cy="31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抗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Text Box 10"/>
            <p:cNvSpPr/>
            <p:nvPr/>
          </p:nvSpPr>
          <p:spPr>
            <a:xfrm>
              <a:off x="2872440" y="5391000"/>
              <a:ext cx="61927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800" spc="-1" strike="noStrike" baseline="-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000808"/>
                  </a:solidFill>
                  <a:latin typeface="宋体"/>
                  <a:ea typeface="宋体"/>
                </a:rPr>
                <a:t>阻断药：普萘洛尔、纳多洛尔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933480" y="392904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-R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阻断药：拉贝洛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26920" y="1557000"/>
            <a:ext cx="763272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妥拉明生物利用度低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维持时间短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 ，肌肉注射维持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50min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酚苄明为人工合成品，口服吸收差；因剌激性强，不作皮下和肌肉注射，常采用缓慢静脉注射给药。静脉注射后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达高峰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808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受体结合比较牢固，作用强大，持久，一次用药可维持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808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808"/>
                </a:solidFill>
                <a:latin typeface="宋体"/>
                <a:ea typeface="宋体"/>
              </a:rPr>
              <a:t>4d</a:t>
            </a:r>
            <a:r>
              <a:rPr b="1" lang="zh-CN" sz="2800" spc="-1" strike="noStrike">
                <a:solidFill>
                  <a:srgbClr val="000808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611280" y="1844640"/>
            <a:ext cx="7772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心血管的作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用机理：竞争性的阻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扩张血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8" name="组合 6"/>
          <p:cNvGrpSpPr/>
          <p:nvPr/>
        </p:nvGrpSpPr>
        <p:grpSpPr>
          <a:xfrm>
            <a:off x="611280" y="4346640"/>
            <a:ext cx="7467480" cy="1340280"/>
            <a:chOff x="611280" y="4346640"/>
            <a:chExt cx="7467480" cy="1340280"/>
          </a:xfrm>
        </p:grpSpPr>
        <p:grpSp>
          <p:nvGrpSpPr>
            <p:cNvPr id="289" name="组合 7"/>
            <p:cNvGrpSpPr/>
            <p:nvPr/>
          </p:nvGrpSpPr>
          <p:grpSpPr>
            <a:xfrm>
              <a:off x="611280" y="4346640"/>
              <a:ext cx="6172200" cy="1340280"/>
              <a:chOff x="611280" y="4346640"/>
              <a:chExt cx="6172200" cy="1340280"/>
            </a:xfrm>
          </p:grpSpPr>
          <p:grpSp>
            <p:nvGrpSpPr>
              <p:cNvPr id="290" name="组合 10"/>
              <p:cNvGrpSpPr/>
              <p:nvPr/>
            </p:nvGrpSpPr>
            <p:grpSpPr>
              <a:xfrm>
                <a:off x="611280" y="4346640"/>
                <a:ext cx="2971800" cy="1340280"/>
                <a:chOff x="611280" y="4346640"/>
                <a:chExt cx="2971800" cy="1340280"/>
              </a:xfrm>
            </p:grpSpPr>
            <p:sp>
              <p:nvSpPr>
                <p:cNvPr id="291" name="Text Box 5"/>
                <p:cNvSpPr/>
                <p:nvPr/>
              </p:nvSpPr>
              <p:spPr>
                <a:xfrm>
                  <a:off x="611280" y="5105520"/>
                  <a:ext cx="2971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直接扩张血管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92" name="组合 14"/>
                <p:cNvGrpSpPr/>
                <p:nvPr/>
              </p:nvGrpSpPr>
              <p:grpSpPr>
                <a:xfrm>
                  <a:off x="749520" y="4346640"/>
                  <a:ext cx="2819520" cy="1216080"/>
                  <a:chOff x="749520" y="4346640"/>
                  <a:chExt cx="2819520" cy="1216080"/>
                </a:xfrm>
              </p:grpSpPr>
              <p:sp>
                <p:nvSpPr>
                  <p:cNvPr id="293" name="Text Box 4"/>
                  <p:cNvSpPr/>
                  <p:nvPr/>
                </p:nvSpPr>
                <p:spPr>
                  <a:xfrm>
                    <a:off x="749520" y="4346640"/>
                    <a:ext cx="281952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阻滞</a:t>
                    </a: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α</a:t>
                    </a:r>
                    <a:r>
                      <a:rPr b="1" lang="en-US" sz="2800" spc="-1" strike="noStrike" baseline="-25000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1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受体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Line 6"/>
                  <p:cNvSpPr/>
                  <p:nvPr/>
                </p:nvSpPr>
                <p:spPr>
                  <a:xfrm>
                    <a:off x="3430800" y="4800600"/>
                    <a:ext cx="0" cy="76212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5" name="Line 7"/>
              <p:cNvSpPr/>
              <p:nvPr/>
            </p:nvSpPr>
            <p:spPr>
              <a:xfrm>
                <a:off x="3430800" y="51814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Text Box 8"/>
              <p:cNvSpPr/>
              <p:nvPr/>
            </p:nvSpPr>
            <p:spPr>
              <a:xfrm>
                <a:off x="4116600" y="487692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外周阻力降低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7" name="Line 9"/>
            <p:cNvSpPr/>
            <p:nvPr/>
          </p:nvSpPr>
          <p:spPr>
            <a:xfrm>
              <a:off x="6631200" y="5181480"/>
              <a:ext cx="457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7164360" y="48769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p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9" name="Line 11"/>
          <p:cNvSpPr/>
          <p:nvPr/>
        </p:nvSpPr>
        <p:spPr>
          <a:xfrm>
            <a:off x="7885080" y="4952880"/>
            <a:ext cx="0" cy="4572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组合 4"/>
          <p:cNvGrpSpPr/>
          <p:nvPr/>
        </p:nvGrpSpPr>
        <p:grpSpPr>
          <a:xfrm>
            <a:off x="611280" y="1547640"/>
            <a:ext cx="8084880" cy="2604600"/>
            <a:chOff x="611280" y="1547640"/>
            <a:chExt cx="8084880" cy="2604600"/>
          </a:xfrm>
        </p:grpSpPr>
        <p:sp>
          <p:nvSpPr>
            <p:cNvPr id="303" name="Text Box 17"/>
            <p:cNvSpPr/>
            <p:nvPr/>
          </p:nvSpPr>
          <p:spPr>
            <a:xfrm>
              <a:off x="5148360" y="3572640"/>
              <a:ext cx="334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兴奋心脏的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β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受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04" name="组合 6"/>
            <p:cNvGrpSpPr/>
            <p:nvPr/>
          </p:nvGrpSpPr>
          <p:grpSpPr>
            <a:xfrm>
              <a:off x="611280" y="1547640"/>
              <a:ext cx="8084880" cy="2135520"/>
              <a:chOff x="611280" y="1547640"/>
              <a:chExt cx="8084880" cy="2135520"/>
            </a:xfrm>
          </p:grpSpPr>
          <p:grpSp>
            <p:nvGrpSpPr>
              <p:cNvPr id="305" name="组合 7"/>
              <p:cNvGrpSpPr/>
              <p:nvPr/>
            </p:nvGrpSpPr>
            <p:grpSpPr>
              <a:xfrm>
                <a:off x="611280" y="1547640"/>
                <a:ext cx="8084880" cy="1876680"/>
                <a:chOff x="611280" y="1547640"/>
                <a:chExt cx="8084880" cy="1876680"/>
              </a:xfrm>
            </p:grpSpPr>
            <p:grpSp>
              <p:nvGrpSpPr>
                <p:cNvPr id="306" name="组合 9"/>
                <p:cNvGrpSpPr/>
                <p:nvPr/>
              </p:nvGrpSpPr>
              <p:grpSpPr>
                <a:xfrm>
                  <a:off x="611280" y="1547640"/>
                  <a:ext cx="8084880" cy="1876680"/>
                  <a:chOff x="611280" y="1547640"/>
                  <a:chExt cx="8084880" cy="1876680"/>
                </a:xfrm>
              </p:grpSpPr>
              <p:grpSp>
                <p:nvGrpSpPr>
                  <p:cNvPr id="307" name="组合 11"/>
                  <p:cNvGrpSpPr/>
                  <p:nvPr/>
                </p:nvGrpSpPr>
                <p:grpSpPr>
                  <a:xfrm>
                    <a:off x="611280" y="1547640"/>
                    <a:ext cx="5832360" cy="1876680"/>
                    <a:chOff x="611280" y="1547640"/>
                    <a:chExt cx="5832360" cy="1876680"/>
                  </a:xfrm>
                </p:grpSpPr>
                <p:sp>
                  <p:nvSpPr>
                    <p:cNvPr id="308" name="Text Box 7"/>
                    <p:cNvSpPr/>
                    <p:nvPr/>
                  </p:nvSpPr>
                  <p:spPr>
                    <a:xfrm>
                      <a:off x="1619280" y="1547640"/>
                      <a:ext cx="205740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反射性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感神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9" name="组合 15"/>
                    <p:cNvGrpSpPr/>
                    <p:nvPr/>
                  </p:nvGrpSpPr>
                  <p:grpSpPr>
                    <a:xfrm>
                      <a:off x="611280" y="2095200"/>
                      <a:ext cx="5832360" cy="1329120"/>
                      <a:chOff x="611280" y="2095200"/>
                      <a:chExt cx="5832360" cy="1329120"/>
                    </a:xfrm>
                  </p:grpSpPr>
                  <p:grpSp>
                    <p:nvGrpSpPr>
                      <p:cNvPr id="310" name="组合 16"/>
                      <p:cNvGrpSpPr/>
                      <p:nvPr/>
                    </p:nvGrpSpPr>
                    <p:grpSpPr>
                      <a:xfrm>
                        <a:off x="611280" y="2844720"/>
                        <a:ext cx="5832360" cy="579600"/>
                        <a:chOff x="611280" y="2844720"/>
                        <a:chExt cx="5832360" cy="579600"/>
                      </a:xfrm>
                    </p:grpSpPr>
                    <p:sp>
                      <p:nvSpPr>
                        <p:cNvPr id="311" name="Text Box 8"/>
                        <p:cNvSpPr/>
                        <p:nvPr/>
                      </p:nvSpPr>
                      <p:spPr>
                        <a:xfrm>
                          <a:off x="611280" y="2844720"/>
                          <a:ext cx="4572000" cy="5796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buClr>
                              <a:srgbClr val="ffff00"/>
                            </a:buClr>
                            <a:buFont typeface="宋体"/>
                            <a:buChar char="•"/>
                            <a:tabLst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阻断突触前膜的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α</a:t>
                          </a:r>
                          <a:r>
                            <a:rPr b="1" lang="en-US" sz="2800" spc="-1" strike="noStrike" baseline="-25000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2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宋体"/>
                            </a:rPr>
                            <a:t>受体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9"/>
                        <p:cNvSpPr/>
                        <p:nvPr/>
                      </p:nvSpPr>
                      <p:spPr>
                        <a:xfrm>
                          <a:off x="5148360" y="3203640"/>
                          <a:ext cx="1295280" cy="0"/>
                        </a:xfrm>
                        <a:prstGeom prst="line">
                          <a:avLst/>
                        </a:prstGeom>
                        <a:ln cap="sq" w="28440">
                          <a:solidFill>
                            <a:srgbClr val="000000"/>
                          </a:solidFill>
                          <a:miter/>
                          <a:tailEnd len="sm" type="triangle" w="sm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3" name="Line 12"/>
                      <p:cNvSpPr/>
                      <p:nvPr/>
                    </p:nvSpPr>
                    <p:spPr>
                      <a:xfrm>
                        <a:off x="6443640" y="2095200"/>
                        <a:ext cx="0" cy="1108440"/>
                      </a:xfrm>
                      <a:prstGeom prst="line">
                        <a:avLst/>
                      </a:prstGeom>
                      <a:ln cap="sq"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14" name="Line 13"/>
                  <p:cNvSpPr/>
                  <p:nvPr/>
                </p:nvSpPr>
                <p:spPr>
                  <a:xfrm>
                    <a:off x="6659640" y="2627280"/>
                    <a:ext cx="22860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Text Box 14"/>
                  <p:cNvSpPr/>
                  <p:nvPr/>
                </p:nvSpPr>
                <p:spPr>
                  <a:xfrm>
                    <a:off x="7020000" y="2268360"/>
                    <a:ext cx="1676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NA</a:t>
                    </a: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释放</a:t>
                    </a:r>
                    <a:endParaRPr b="0" lang="en-US" sz="2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6" name="Line 15"/>
                <p:cNvSpPr/>
                <p:nvPr/>
              </p:nvSpPr>
              <p:spPr>
                <a:xfrm flipV="1">
                  <a:off x="8388000" y="2301480"/>
                  <a:ext cx="0" cy="45720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Line 18"/>
              <p:cNvSpPr/>
              <p:nvPr/>
            </p:nvSpPr>
            <p:spPr>
              <a:xfrm>
                <a:off x="7236000" y="2844720"/>
                <a:ext cx="0" cy="838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Line 6"/>
          <p:cNvSpPr/>
          <p:nvPr/>
        </p:nvSpPr>
        <p:spPr>
          <a:xfrm>
            <a:off x="1490760" y="2095560"/>
            <a:ext cx="495288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03360" y="1717560"/>
            <a:ext cx="1523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1365120" y="1798560"/>
            <a:ext cx="0" cy="3812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2617920" y="4941720"/>
            <a:ext cx="506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率加快、心肌收缩力增强、心输出量增加、传导加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 flipH="1">
            <a:off x="5544720" y="4175280"/>
            <a:ext cx="609480" cy="685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55640" y="1557360"/>
            <a:ext cx="7772400" cy="34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其他作用</a:t>
            </a:r>
            <a:br>
              <a:rPr sz="3200"/>
            </a:b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拟胆碱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4267080" y="3522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胃肠道平滑肌蠕动增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3767040" y="3838680"/>
            <a:ext cx="533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组合 9"/>
          <p:cNvGrpSpPr/>
          <p:nvPr/>
        </p:nvGrpSpPr>
        <p:grpSpPr>
          <a:xfrm>
            <a:off x="1042920" y="4581360"/>
            <a:ext cx="7473960" cy="1216080"/>
            <a:chOff x="1042920" y="4581360"/>
            <a:chExt cx="7473960" cy="1216080"/>
          </a:xfrm>
        </p:grpSpPr>
        <p:sp>
          <p:nvSpPr>
            <p:cNvPr id="329" name="Text Box 5"/>
            <p:cNvSpPr/>
            <p:nvPr/>
          </p:nvSpPr>
          <p:spPr>
            <a:xfrm>
              <a:off x="1042920" y="479700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拟组胺作用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30" name="组合 11"/>
            <p:cNvGrpSpPr/>
            <p:nvPr/>
          </p:nvGrpSpPr>
          <p:grpSpPr>
            <a:xfrm>
              <a:off x="3924360" y="4581360"/>
              <a:ext cx="4592520" cy="1216080"/>
              <a:chOff x="3924360" y="4581360"/>
              <a:chExt cx="4592520" cy="1216080"/>
            </a:xfrm>
          </p:grpSpPr>
          <p:sp>
            <p:nvSpPr>
              <p:cNvPr id="331" name="Line 6"/>
              <p:cNvSpPr/>
              <p:nvPr/>
            </p:nvSpPr>
            <p:spPr>
              <a:xfrm>
                <a:off x="3924360" y="5086080"/>
                <a:ext cx="609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32" name="组合 13"/>
              <p:cNvGrpSpPr/>
              <p:nvPr/>
            </p:nvGrpSpPr>
            <p:grpSpPr>
              <a:xfrm>
                <a:off x="4788000" y="4581360"/>
                <a:ext cx="3728880" cy="1216080"/>
                <a:chOff x="4788000" y="4581360"/>
                <a:chExt cx="3728880" cy="1216080"/>
              </a:xfrm>
            </p:grpSpPr>
            <p:sp>
              <p:nvSpPr>
                <p:cNvPr id="333" name="Text Box 7"/>
                <p:cNvSpPr/>
                <p:nvPr/>
              </p:nvSpPr>
              <p:spPr>
                <a:xfrm>
                  <a:off x="4859280" y="4581360"/>
                  <a:ext cx="36576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胃酸的分泌增加；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皮肤潮红</a:t>
                  </a:r>
                  <a:endParaRPr b="0" lang="en-US" sz="32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34" name="Line 8"/>
                <p:cNvSpPr/>
                <p:nvPr/>
              </p:nvSpPr>
              <p:spPr>
                <a:xfrm>
                  <a:off x="4788000" y="4654080"/>
                  <a:ext cx="0" cy="114336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周血管痉挛性疾病，如肢端动脉痉挛性病（雷诺症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静脉滴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漏，拮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血管收缩作用，防止局部组织缺血坏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mg+1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盐水浸润注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3" descr="雷诺病1"/>
          <p:cNvPicPr/>
          <p:nvPr/>
        </p:nvPicPr>
        <p:blipFill>
          <a:blip r:embed="rId1"/>
          <a:stretch/>
        </p:blipFill>
        <p:spPr>
          <a:xfrm>
            <a:off x="684360" y="1916280"/>
            <a:ext cx="3900240" cy="27558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341" name="Picture 3" descr="01300000243587122278669078727"/>
          <p:cNvPicPr/>
          <p:nvPr/>
        </p:nvPicPr>
        <p:blipFill>
          <a:blip r:embed="rId2"/>
          <a:stretch/>
        </p:blipFill>
        <p:spPr>
          <a:xfrm>
            <a:off x="4932360" y="1844640"/>
            <a:ext cx="3481560" cy="2808360"/>
          </a:xfrm>
          <a:prstGeom prst="rect">
            <a:avLst/>
          </a:prstGeom>
          <a:ln w="0">
            <a:noFill/>
          </a:ln>
        </p:spPr>
      </p:pic>
      <p:sp>
        <p:nvSpPr>
          <p:cNvPr id="342" name="矩形 6"/>
          <p:cNvSpPr/>
          <p:nvPr/>
        </p:nvSpPr>
        <p:spPr>
          <a:xfrm>
            <a:off x="4610160" y="530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雷诺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03984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11200" y="205416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02160" y="2651040"/>
            <a:ext cx="34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085560" y="3844800"/>
            <a:ext cx="256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2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26"/>
          <p:cNvSpPr/>
          <p:nvPr/>
        </p:nvSpPr>
        <p:spPr>
          <a:xfrm>
            <a:off x="2038320" y="351000"/>
            <a:ext cx="69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拟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492200" y="3298680"/>
            <a:ext cx="33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激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69120" y="1820880"/>
            <a:ext cx="9535320" cy="4109040"/>
            <a:chOff x="69120" y="1820880"/>
            <a:chExt cx="9535320" cy="4109040"/>
          </a:xfrm>
        </p:grpSpPr>
        <p:grpSp>
          <p:nvGrpSpPr>
            <p:cNvPr id="127" name="组合 129"/>
            <p:cNvGrpSpPr/>
            <p:nvPr/>
          </p:nvGrpSpPr>
          <p:grpSpPr>
            <a:xfrm>
              <a:off x="69120" y="1820880"/>
              <a:ext cx="9535320" cy="3786840"/>
              <a:chOff x="69120" y="1820880"/>
              <a:chExt cx="9535320" cy="3786840"/>
            </a:xfrm>
          </p:grpSpPr>
          <p:sp>
            <p:nvSpPr>
              <p:cNvPr id="128" name="AutoShape 125"/>
              <p:cNvSpPr/>
              <p:nvPr/>
            </p:nvSpPr>
            <p:spPr>
              <a:xfrm>
                <a:off x="1139400" y="2113560"/>
                <a:ext cx="382680" cy="3494160"/>
              </a:xfrm>
              <a:custGeom>
                <a:avLst/>
                <a:gdLst>
                  <a:gd name="textAreaLeft" fmla="*/ 244440 w 382680"/>
                  <a:gd name="textAreaRight" fmla="*/ 383040 w 382680"/>
                  <a:gd name="textAreaTop" fmla="*/ 93960 h 3494160"/>
                  <a:gd name="textAreaBottom" fmla="*/ 3400200 h 349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30"/>
                      <a:pt x="10800" y="1859"/>
                    </a:cubicBezTo>
                    <a:lnTo>
                      <a:pt x="10800" y="8941"/>
                    </a:lnTo>
                    <a:cubicBezTo>
                      <a:pt x="10800" y="9871"/>
                      <a:pt x="5400" y="10800"/>
                      <a:pt x="0" y="10800"/>
                    </a:cubicBezTo>
                    <a:cubicBezTo>
                      <a:pt x="5400" y="10800"/>
                      <a:pt x="10800" y="11730"/>
                      <a:pt x="10800" y="12659"/>
                    </a:cubicBezTo>
                    <a:lnTo>
                      <a:pt x="10800" y="19741"/>
                    </a:lnTo>
                    <a:cubicBezTo>
                      <a:pt x="10800" y="20671"/>
                      <a:pt x="16200" y="21600"/>
                      <a:pt x="21600" y="21600"/>
                    </a:cubicBezTo>
                  </a:path>
                </a:pathLst>
              </a:custGeom>
              <a:noFill/>
              <a:ln w="47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9" name="组合 131"/>
              <p:cNvGrpSpPr/>
              <p:nvPr/>
            </p:nvGrpSpPr>
            <p:grpSpPr>
              <a:xfrm>
                <a:off x="69120" y="1820880"/>
                <a:ext cx="9535320" cy="3524760"/>
                <a:chOff x="69120" y="1820880"/>
                <a:chExt cx="9535320" cy="3524760"/>
              </a:xfrm>
            </p:grpSpPr>
            <p:grpSp>
              <p:nvGrpSpPr>
                <p:cNvPr id="130" name="组合 132"/>
                <p:cNvGrpSpPr/>
                <p:nvPr/>
              </p:nvGrpSpPr>
              <p:grpSpPr>
                <a:xfrm>
                  <a:off x="1276560" y="1820880"/>
                  <a:ext cx="8327880" cy="3524760"/>
                  <a:chOff x="1276560" y="1820880"/>
                  <a:chExt cx="8327880" cy="3524760"/>
                </a:xfrm>
              </p:grpSpPr>
              <p:grpSp>
                <p:nvGrpSpPr>
                  <p:cNvPr id="131" name="Group 18"/>
                  <p:cNvGrpSpPr/>
                  <p:nvPr/>
                </p:nvGrpSpPr>
                <p:grpSpPr>
                  <a:xfrm>
                    <a:off x="1276560" y="3596040"/>
                    <a:ext cx="7750080" cy="1749600"/>
                    <a:chOff x="1276560" y="3596040"/>
                    <a:chExt cx="7750080" cy="1749600"/>
                  </a:xfrm>
                </p:grpSpPr>
                <p:sp>
                  <p:nvSpPr>
                    <p:cNvPr id="132" name="Text Box 6"/>
                    <p:cNvSpPr/>
                    <p:nvPr/>
                  </p:nvSpPr>
                  <p:spPr>
                    <a:xfrm>
                      <a:off x="4106160" y="3596040"/>
                      <a:ext cx="4920480" cy="1169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心脏兴奋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支气管扩张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骨骼肌血管扩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3" name="Group 17"/>
                    <p:cNvGrpSpPr/>
                    <p:nvPr/>
                  </p:nvGrpSpPr>
                  <p:grpSpPr>
                    <a:xfrm>
                      <a:off x="1276560" y="3596040"/>
                      <a:ext cx="3625200" cy="1749600"/>
                      <a:chOff x="1276560" y="3596040"/>
                      <a:chExt cx="3625200" cy="1749600"/>
                    </a:xfrm>
                  </p:grpSpPr>
                  <p:grpSp>
                    <p:nvGrpSpPr>
                      <p:cNvPr id="134" name="Group 16"/>
                      <p:cNvGrpSpPr/>
                      <p:nvPr/>
                    </p:nvGrpSpPr>
                    <p:grpSpPr>
                      <a:xfrm>
                        <a:off x="3251160" y="3596040"/>
                        <a:ext cx="1650600" cy="1749600"/>
                        <a:chOff x="3251160" y="3596040"/>
                        <a:chExt cx="1650600" cy="1749600"/>
                      </a:xfrm>
                    </p:grpSpPr>
                    <p:sp>
                      <p:nvSpPr>
                        <p:cNvPr id="135" name="AutoShape 8"/>
                        <p:cNvSpPr/>
                        <p:nvPr/>
                      </p:nvSpPr>
                      <p:spPr>
                        <a:xfrm>
                          <a:off x="3255480" y="3854520"/>
                          <a:ext cx="43200" cy="1491120"/>
                        </a:xfrm>
                        <a:custGeom>
                          <a:avLst/>
                          <a:gdLst>
                            <a:gd name="textAreaLeft" fmla="*/ 12600 w 43200"/>
                            <a:gd name="textAreaRight" fmla="*/ 43560 w 43200"/>
                            <a:gd name="textAreaTop" fmla="*/ 27720 h 1491120"/>
                            <a:gd name="textAreaBottom" fmla="*/ 1463400 h 149112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0800" y="0"/>
                                <a:pt x="0" y="405"/>
                                <a:pt x="0" y="810"/>
                              </a:cubicBezTo>
                              <a:lnTo>
                                <a:pt x="0" y="20790"/>
                              </a:lnTo>
                              <a:cubicBezTo>
                                <a:pt x="0" y="21195"/>
                                <a:pt x="108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Text Box 9"/>
                        <p:cNvSpPr/>
                        <p:nvPr/>
                      </p:nvSpPr>
                      <p:spPr>
                        <a:xfrm>
                          <a:off x="3251160" y="3596040"/>
                          <a:ext cx="1650600" cy="13050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0" lang="en-US" sz="2800" spc="-1" strike="noStrike" baseline="-25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1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  <a:p>
                          <a:pPr>
                            <a:lnSpc>
                              <a:spcPct val="100000"/>
                            </a:lnSpc>
                            <a:spcBef>
                              <a:spcPts val="1749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Symbol"/>
                              <a:ea typeface="Symbol"/>
                            </a:rPr>
                            <a:t>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 </a:t>
                          </a:r>
                          <a:r>
                            <a:rPr b="1" lang="en-US" sz="2800" spc="-1" strike="noStrike" baseline="-30000">
                              <a:solidFill>
                                <a:srgbClr val="000000"/>
                              </a:solidFill>
                              <a:latin typeface="Arial"/>
                            </a:rPr>
                            <a:t>2</a:t>
                          </a:r>
                          <a:r>
                            <a: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-R:</a:t>
                          </a:r>
                          <a:endParaRPr b="0" lang="en-US" sz="2800" spc="-1" strike="noStrike">
                            <a:solidFill>
                              <a:srgbClr val="046ca6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7" name="Text Box 10"/>
                      <p:cNvSpPr/>
                      <p:nvPr/>
                    </p:nvSpPr>
                    <p:spPr>
                      <a:xfrm>
                        <a:off x="1276560" y="4108320"/>
                        <a:ext cx="200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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激动药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    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8" name="组合 137"/>
                  <p:cNvGrpSpPr/>
                  <p:nvPr/>
                </p:nvGrpSpPr>
                <p:grpSpPr>
                  <a:xfrm>
                    <a:off x="1364760" y="1820880"/>
                    <a:ext cx="8239680" cy="1298160"/>
                    <a:chOff x="1364760" y="1820880"/>
                    <a:chExt cx="8239680" cy="1298160"/>
                  </a:xfrm>
                </p:grpSpPr>
                <p:grpSp>
                  <p:nvGrpSpPr>
                    <p:cNvPr id="139" name="组合 138"/>
                    <p:cNvGrpSpPr/>
                    <p:nvPr/>
                  </p:nvGrpSpPr>
                  <p:grpSpPr>
                    <a:xfrm>
                      <a:off x="3219120" y="1820880"/>
                      <a:ext cx="6385320" cy="1298160"/>
                      <a:chOff x="3219120" y="1820880"/>
                      <a:chExt cx="6385320" cy="1298160"/>
                    </a:xfrm>
                  </p:grpSpPr>
                  <p:sp>
                    <p:nvSpPr>
                      <p:cNvPr id="140" name="Text Box 3"/>
                      <p:cNvSpPr/>
                      <p:nvPr/>
                    </p:nvSpPr>
                    <p:spPr>
                      <a:xfrm>
                        <a:off x="3219120" y="1820880"/>
                        <a:ext cx="6385320" cy="1287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1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：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血管收缩、瞳孔扩大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Verdana"/>
                            <a:ea typeface="宋体"/>
                          </a:rPr>
                          <a:t>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Symbol"/>
                            <a:ea typeface="Symbol"/>
                          </a:rPr>
                          <a:t>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</a:t>
                        </a:r>
                        <a:r>
                          <a:rPr b="1" lang="en-US" sz="2800" spc="-1" strike="noStrike" baseline="-25000">
                            <a:solidFill>
                              <a:srgbClr val="000000"/>
                            </a:solidFill>
                            <a:latin typeface="Arial"/>
                          </a:rPr>
                          <a:t>2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 -R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宋体"/>
                          </a:rPr>
                          <a:t>：抑制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 </a:t>
                        </a:r>
                        <a:r>
                          <a: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NA </a:t>
                        </a: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释放</a:t>
                        </a:r>
                        <a:endParaRPr b="0" lang="en-US" sz="2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AutoShape 5"/>
                      <p:cNvSpPr/>
                      <p:nvPr/>
                    </p:nvSpPr>
                    <p:spPr>
                      <a:xfrm>
                        <a:off x="3352320" y="1909080"/>
                        <a:ext cx="75960" cy="1209960"/>
                      </a:xfrm>
                      <a:custGeom>
                        <a:avLst/>
                        <a:gdLst>
                          <a:gd name="textAreaLeft" fmla="*/ 22320 w 75960"/>
                          <a:gd name="textAreaRight" fmla="*/ 76320 w 75960"/>
                          <a:gd name="textAreaTop" fmla="*/ 102600 h 1209960"/>
                          <a:gd name="textAreaBottom" fmla="*/ 1107360 h 1209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0800" y="0"/>
                              <a:pt x="0" y="1833"/>
                              <a:pt x="0" y="3666"/>
                            </a:cubicBezTo>
                            <a:lnTo>
                              <a:pt x="0" y="17934"/>
                            </a:lnTo>
                            <a:cubicBezTo>
                              <a:pt x="0" y="19767"/>
                              <a:pt x="10800" y="21600"/>
                              <a:pt x="21600" y="21600"/>
                            </a:cubicBezTo>
                          </a:path>
                        </a:pathLst>
                      </a:cu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46ca6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2" name="Text Box 10"/>
                    <p:cNvSpPr/>
                    <p:nvPr/>
                  </p:nvSpPr>
                  <p:spPr>
                    <a:xfrm>
                      <a:off x="1364760" y="2155680"/>
                      <a:ext cx="20480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激动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3" name="TextBox 133"/>
                <p:cNvSpPr/>
                <p:nvPr/>
              </p:nvSpPr>
              <p:spPr>
                <a:xfrm>
                  <a:off x="69120" y="2679480"/>
                  <a:ext cx="1033560" cy="24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拟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肾上腺素药</a:t>
                  </a:r>
                  <a:endParaRPr b="0" lang="en-US" sz="2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组合 1"/>
            <p:cNvGrpSpPr/>
            <p:nvPr/>
          </p:nvGrpSpPr>
          <p:grpSpPr>
            <a:xfrm>
              <a:off x="1566360" y="4886640"/>
              <a:ext cx="5593320" cy="1043280"/>
              <a:chOff x="1566360" y="4886640"/>
              <a:chExt cx="5593320" cy="1043280"/>
            </a:xfrm>
          </p:grpSpPr>
          <p:sp>
            <p:nvSpPr>
              <p:cNvPr id="145" name="Text Box 10"/>
              <p:cNvSpPr/>
              <p:nvPr/>
            </p:nvSpPr>
            <p:spPr>
              <a:xfrm>
                <a:off x="3179520" y="488664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突触前膜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: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递质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6" name="Text Box 10"/>
              <p:cNvSpPr/>
              <p:nvPr/>
            </p:nvSpPr>
            <p:spPr>
              <a:xfrm>
                <a:off x="1566360" y="5409360"/>
                <a:ext cx="398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促进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NA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释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适用于感染性、出血性和心源性休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机制：扩张血管，降低外周阻力，增加血液灌注，改善微循环；增加心输出量，降低肺循环阻力，防止肺水肿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必需补足血容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用目的是阻断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，保留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4000" y="1412640"/>
            <a:ext cx="7939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顽固性充血性心力衰竭和急性心肌梗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机制：扩张血管→外周阻力↓→心脏后负荷↓心输出量↑心肌氧耗↓心力衰竭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嗜铬细胞瘤的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嗜铬细胞瘤的主要症状是持续高血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肾上腺嗜铬细胞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AD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酚妥拉明可使血压下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1280" y="1773000"/>
            <a:ext cx="7920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性低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平滑肌兴奋引起腹痛，腹泻，呕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和加重溃疡，拟胆碱作用，胃酸分泌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动过速，心率失常，诱发和加重心绞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冠心病、溃疡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酚妥拉明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39640" y="155700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旦发生体位性低血压应平卧，采用头低足高位，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N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升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酚妥拉明和妥拉唑林有拟胆碱作用，可引起腹痛、腹泻、胃酸增多、呕吐等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前及用药过程中监测血压脉搏变化，注射给药偶引起心动过速、诱发心绞痛等。调整滴速及用量，以免中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21840" y="1700280"/>
            <a:ext cx="784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血管系统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脏：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收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传导均↓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-)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收缩（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，骨骼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，冠状血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流量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述作用其决于交感神经张力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正常人血压影响不明显，对高血压患者具有降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7488360" y="2637000"/>
            <a:ext cx="1322280" cy="47772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耗氧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600"/>
            <a:ext cx="801216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平滑肌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增加支气管阻力→ 加重哮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：抑制糖原分解，掩盖胰岛素引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低血糖反应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：↓对儿茶酚胺的敏感性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4 →T3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素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阻断肾小球旁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肾素释放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TⅡ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00000" y="1483920"/>
            <a:ext cx="757872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在拟交感活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有微弱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激动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膜稳定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在高浓度时能降低细胞膜对离子的通透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它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血小板聚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降低眼内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临床用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律失常：治疗室上性心动过速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房颤、房扑、窦性心动过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高血压：治疗高血压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心绞痛和心肌梗死：治疗心绞痛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甲亢：治疗甲状腺机能亢进，控制心悸、心律失常、激动不安等现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衰早期 ，充血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偏头痛；肌震颤；青光眼（噻吗洛尔）、             肝硬化引起的上消化道出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不良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99640" y="1989000"/>
            <a:ext cx="73645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反应、皮疹、血小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减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反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房室传导阻滞，引起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发或加剧支气管哮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跳现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39280" y="1628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类药物中有些药物个体差异大，除按医嘱从小剂量开始给药外，心率不能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，心率过低及时向医生报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给药前观察患者有无过敏、哮喘及心衰，用药期间密切观察患者各种不良反应；本类药物多通过肝肾消除，定期查肝肾功能及追踪血糖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长期用药患者不能突然停药，应在两周内逐渐减量，以免诱发心绞痛、血压骤升、烦躁等停药反应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826920" y="1628640"/>
            <a:ext cx="741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：大部分被肠液破坏，吸收后在肠黏膜、肝内破坏，故口服达不到有效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下注射：因局部血管收缩而吸收慢，维持时间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内注射：吸收快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药疗监护须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1280" y="170028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使用本类药物的糖尿病患者，本类药物可掩盖低血糖休克所引起的心动过速、出汗等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两周内曾使用过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患者，考虑是否可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本药期间，如同时服用作用于心脏、呼吸、血压、血糖的药物，要注意药物彼此间的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的禁忌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3160" y="1700280"/>
            <a:ext cx="641484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室心功能不全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窦性心动过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度房室传导阻滞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气管哮喘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肝功能不良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propranolo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4360" y="1699920"/>
            <a:ext cx="7434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服吸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但生物利用度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首关消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血药浓度个体差异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肝药酶有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血浆蛋白结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床用药应从小剂量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普萘洛尔的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412640"/>
            <a:ext cx="7291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绞痛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对冠心病心绞痛具有良好的疗效，使心绞痛发作减少和运动耐力改善。早期应用普萘洛尔等可降低心肌梗塞后的复发和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注意：不可突然停药；变异型心绞痛不宜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律失常：快速型心律失常（窦速、房颤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高血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304920" y="1628640"/>
            <a:ext cx="8610480" cy="2880000"/>
          </a:xfrm>
          <a:prstGeom prst="wedgeRoundRectCallout">
            <a:avLst>
              <a:gd name="adj1" fmla="val -26532"/>
              <a:gd name="adj2" fmla="val 5413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宋体"/>
              </a:rPr>
              <a:t>机制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心脏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心输出量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肾小球旁器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肾素的释放减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中枢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产生中枢性降压作用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、阻滞突触前膜的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受体，使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释放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826920" y="5229360"/>
            <a:ext cx="6118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：甲亢、偏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选择性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β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258560" y="1989000"/>
            <a:ext cx="676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替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aten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美托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metoprolol)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性阻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，无内在活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呼吸系统抑制较轻，但对哮喘患者仍应慎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9280" y="1773360"/>
            <a:ext cx="7417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拉贝洛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均有竞争性阻断作用，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作用比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减慢心率，减少心排出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于各型高血压病的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噻吗洛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55640" y="1628280"/>
            <a:ext cx="729144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心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的阻断作用比普萘洛尔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膜稳定作用及内在拟交感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噻吗洛尔减少房水的生成，降低眼内压，常用于治疗青光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00000" y="1268280"/>
            <a:ext cx="7848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激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：兴奋心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、强，但明显增加心肌耗氧量，易引起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收缩皮肤黏膜血管最明显、内脏血管（肾血管）次之；扩张骨骼肌血管；对脑和肺血管作用弱，有时由于血压升高而被动扩张；扩张冠状血管（激动冠状血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，兴奋心脏，增加代谢产物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小剂量：收缩压升高（心脏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兴奋），舒张压不变或稍下降；较大剂量：收缩压和舒张压均升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注意：在低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的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；高浓度时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对肾上腺素敏感性高于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代谢增强，耗氧量增加，肝糖原分解增加，血糖升高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042920" y="1617840"/>
            <a:ext cx="720108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平滑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支气管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强大的舒张作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B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收缩支气管黏膜血管，降低毛细血管通透性，有利于消除支气管黏膜水肿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C.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抑制肥大细胞释放组胺等过敏物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胃肠平滑肌张力降低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）膀胱逼尿肌舒张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膀胱括约肌收缩（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受体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可引起排尿困难和尿潴留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肾上腺素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042920" y="1617840"/>
            <a:ext cx="705816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．中枢神经系统 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不易透过血脑屏障，治疗量时一般无明显中枢兴奋现象，大剂量时出现中枢兴奋症状，如激动、呕吐、肌强直，甚至惊厥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肾上腺素的升压作用翻转：若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先用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R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阻断药（如酚妥拉明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后再用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AD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宋体"/>
                <a:ea typeface="宋体"/>
              </a:rPr>
              <a:t>，则出现血压不升反降的现象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。 发生机制： 因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阻断后→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不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而只能激动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则骨骼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-R )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管舒张→外周阻力↓→血压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1T10:15:44Z</dcterms:modified>
  <cp:revision>228</cp:revision>
  <dc:subject/>
  <dc:title>内科护理学</dc:title>
</cp:coreProperties>
</file>