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D227-F20A-44A5-96C9-CCDE96D5566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A6B3-A4A2-4B61-AE53-7B32F3492D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1B3D-557C-4036-80B1-3CD83A1604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6503-4C52-415C-B945-C1565B3706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82D9-7FED-4B96-A219-39D347704D9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FFC7-A2B7-403B-BEF2-F203006F95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661D-44AD-4BFF-9564-4691959FBC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468B-6E1A-4AC9-9523-250EFC410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C87D-166C-4A74-9BA3-BF0AA914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8493-3503-4D1D-AC5D-E0242794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A027-F71B-45AF-81F0-2F08ADAE7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036C-C4E2-4464-B738-D1E57DCC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C18C-9CA6-46F7-886A-5F3E6BB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3A214-7855-4365-8562-7DAC40D5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3BFCC-C48E-41D2-8A34-28D2789A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7280-19B0-4E74-9636-087E00E6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65A1-98C3-4AD3-84D8-47078D13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20CB-8958-4260-B2E6-8280B64A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DB22-02FB-4EF5-BA7B-925713E9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DACA-41BE-45F6-8DC6-854D397B57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三十五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免疫功能药物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治疗自身免疫性溶血性贫血的首选药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波尼松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白消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1557000"/>
            <a:ext cx="7943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和免疫增强剂的临床常用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免疫抑制剂的作用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常用的影响免疫功能药物的不良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267920"/>
            <a:ext cx="8664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圆角矩形 1"/>
          <p:cNvSpPr/>
          <p:nvPr/>
        </p:nvSpPr>
        <p:spPr>
          <a:xfrm>
            <a:off x="539640" y="1125360"/>
            <a:ext cx="828036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，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主因“间断咳嗽、咳痰、发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，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余”入院。入院查体：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8.5 ℃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2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，双肺可闻及小水泡音，右手中指两侧有粟粒样结节，食指红肿，伴触痛，右足趾肿胀，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mm×5mm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紫癜，余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-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实验室检查：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WBC 1.7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  <a:ea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/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红细胞沉降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10mm/h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反应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73ug/ml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类风湿因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。医生考虑为变态反应性疾病，医嘱给予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id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静脉滴注，地塞米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mg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庆大霉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6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U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喷咽，每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次。给药后患者体温逐渐降至正常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5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天后症状明显改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圆角矩形 1"/>
          <p:cNvSpPr/>
          <p:nvPr/>
        </p:nvSpPr>
        <p:spPr>
          <a:xfrm>
            <a:off x="755640" y="2205000"/>
            <a:ext cx="77770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1b8e3"/>
              </a:gs>
              <a:gs pos="100000">
                <a:srgbClr val="f7ebf8"/>
              </a:gs>
            </a:gsLst>
            <a:lin ang="16200000"/>
          </a:gradFill>
          <a:ln w="9360">
            <a:solidFill>
              <a:srgbClr val="9762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请思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 地塞米松治疗该病的作用原理和临床应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地塞米松的不良反应和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抑制剂是一类非特异性地抑制机体免疫功能的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作用特点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用缺乏特异性和选择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对初次免疫应答反应抑制作用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 药物作用与给药时间和抗原刺激的时间间隔及先后顺序密切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多数免疫抑制剂尚有非特异性抗炎作用，抑制红、肿、热、痛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55640" y="1628640"/>
            <a:ext cx="7920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孢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硫唑嘌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他克莫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</a:rPr>
              <a:t>第一节 免疫抑制剂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免疫增强剂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免疫增强剂是指可激活免疫活性细胞、增强机体的特异性或非特异性免疫功能或能加速诱导免疫应答反应，使低下的免疫功能恢复正常的一大类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常用药物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卡介苗、干扰素、胸腺激素、左旋咪唑、香茹多糖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植物药增强免疫功能的主要有效成分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生物碱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有机酸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黄酮苷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多糖类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植物雌激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常用于器官移植的免疫抑制剂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强的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磷酰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环孢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硫唑嘌呤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甲氨蝶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7:53:28Z</dcterms:modified>
  <cp:revision>105</cp:revision>
  <dc:subject/>
  <dc:title>内科护理学</dc:title>
</cp:coreProperties>
</file>