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F55B7-CBD7-40FD-8EC0-47A7D9B777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F9478-8D91-4B84-A3C3-FC95C3E2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8640D-00E0-4F21-A25A-233BBF34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36343-D5C9-44C9-B289-4813506DE7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02F21-343F-4DE7-B954-C6475A8A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FD8F9-D445-4E4B-9BA7-36D23B72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8309-B241-4312-AC10-F7B41BB0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997B9-751A-47CA-9F01-814F4946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1FD9-28CE-4F48-B3D1-E3724F44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E1DD4-C55F-4099-828A-27AC5623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B42C5-F1DD-4C85-8FA1-40DBD457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27117-51F3-4384-922B-7567412D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E397-73AB-411E-9386-FEB3F039E7E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9228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七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甲状腺激素与抗甲状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84360" y="163080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上腺皮质功能低下、心肌梗死、甲状腺功能亢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慎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绞痛、高血压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8FF7-2AD1-4F71-A8A6-7A14F63D41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3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必须遵医嘱按时服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注意密切观察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儿童服本药时，应注意观察生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，服药期间不可局部涂搽碘酊、不可吃含碘的药物或含碘量高的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患者用此类药需增加降糖药的用量，应注意观察血糖及尿糖的变化，并注意低血糖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对同时应用抗凝药的患者应观察其出血现象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圆角矩形 3"/>
          <p:cNvSpPr/>
          <p:nvPr/>
        </p:nvSpPr>
        <p:spPr>
          <a:xfrm>
            <a:off x="250920" y="148428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女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。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前被诊断为甲亢，给予口服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巯咪唑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日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近日出现咽痛、发热、咳嗽、咳痰等症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矩形 5"/>
          <p:cNvSpPr/>
          <p:nvPr/>
        </p:nvSpPr>
        <p:spPr>
          <a:xfrm>
            <a:off x="250920" y="2852640"/>
            <a:ext cx="8215200" cy="2073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 39.6℃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 120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R 2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P 100/60mmHg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精神萎靡；咽红，双侧扁桃体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°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肿大，可见黄色脓苔；双下肺均可闻及湿啰音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WBC 2.16 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中性粒细胞绝对值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0.38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升高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SH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减低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诊断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亢，粒细胞减少，急性化脓性扁桃体炎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遗嘱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停服甲巯咪唑；予以普萘洛尔、广谱抗生素、口服利血生、鲨肝醇等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圆角矩形 3"/>
          <p:cNvSpPr/>
          <p:nvPr/>
        </p:nvSpPr>
        <p:spPr>
          <a:xfrm>
            <a:off x="324000" y="522936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本例患者出现急性化脓性扁桃体炎，肺部感染的主要原因是什么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应用抗甲状腺药物期间应注意哪些事项，定期检查哪些项目？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甲状腺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功能亢进（甲亢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24000" y="2276640"/>
            <a:ext cx="8583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组织增生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激素分泌过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24000" y="3068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、突眼、神经过敏、心率增快、基础代谢增高等，严重者可发生甲状腺危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7" descr="nk10"/>
          <p:cNvPicPr/>
          <p:nvPr/>
        </p:nvPicPr>
        <p:blipFill>
          <a:blip r:embed="rId1"/>
          <a:stretch/>
        </p:blipFill>
        <p:spPr>
          <a:xfrm>
            <a:off x="1403280" y="4149720"/>
            <a:ext cx="2540160" cy="208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甲亢5"/>
          <p:cNvPicPr/>
          <p:nvPr/>
        </p:nvPicPr>
        <p:blipFill>
          <a:blip r:embed="rId2"/>
          <a:stretch/>
        </p:blipFill>
        <p:spPr>
          <a:xfrm>
            <a:off x="4500720" y="4149720"/>
            <a:ext cx="24476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亢的治疗有哪些方法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24000" y="141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科治疗：药物   硫脲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碘化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73320" y="3460680"/>
            <a:ext cx="37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射性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 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破坏甲状腺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112040" y="46846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术：甲状腺次全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3203640" y="198900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33000"/>
            <a:ext cx="501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．硫脲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50920" y="1484280"/>
            <a:ext cx="8512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氧嘧啶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methy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MTU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丙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pyl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U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47280" y="4087800"/>
            <a:ext cx="715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咪唑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mid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甲巯咪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iamazole,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他巴唑 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卡比马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rbima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平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rbim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1373040" y="2205000"/>
            <a:ext cx="5862600" cy="923400"/>
            <a:chOff x="1373040" y="2205000"/>
            <a:chExt cx="5862600" cy="923400"/>
          </a:xfrm>
        </p:grpSpPr>
        <p:sp>
          <p:nvSpPr>
            <p:cNvPr id="219" name="Rectangle 6"/>
            <p:cNvSpPr/>
            <p:nvPr/>
          </p:nvSpPr>
          <p:spPr>
            <a:xfrm>
              <a:off x="1373040" y="2246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抑制过氧化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3953880" y="2206440"/>
              <a:ext cx="75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酪氨酸碘化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5504040" y="2205000"/>
              <a:ext cx="17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碘化酪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1684440" y="26686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氨酸耦联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4079520" y="2663640"/>
              <a:ext cx="10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甲状腺激素合成 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4" name="Rectangle 11"/>
          <p:cNvSpPr/>
          <p:nvPr/>
        </p:nvSpPr>
        <p:spPr>
          <a:xfrm>
            <a:off x="516960" y="1612800"/>
            <a:ext cx="249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成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2">
            <a:hlinkClick r:id="" action="ppaction://hlinkshowjump?jump=previousslide"/>
          </p:cNvPr>
          <p:cNvSpPr/>
          <p:nvPr/>
        </p:nvSpPr>
        <p:spPr>
          <a:xfrm>
            <a:off x="324000" y="3357720"/>
            <a:ext cx="479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抑制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转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755640" y="4076640"/>
            <a:ext cx="698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丙硫氧嘧啶及甲巯咪唑抑制外周组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→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故在重症甲亢、甲亢危象时首选丙硫氧嘧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01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免疫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635280" y="2638440"/>
            <a:ext cx="568440" cy="1944720"/>
          </a:xfrm>
          <a:custGeom>
            <a:avLst/>
            <a:gdLst>
              <a:gd name="textAreaLeft" fmla="*/ 0 w 568440"/>
              <a:gd name="textAreaRight" fmla="*/ 205200 w 5684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714"/>
                </a:lnTo>
                <a:cubicBezTo>
                  <a:pt x="10800" y="10614"/>
                  <a:pt x="16200" y="11514"/>
                  <a:pt x="21600" y="11514"/>
                </a:cubicBezTo>
                <a:cubicBezTo>
                  <a:pt x="16200" y="11514"/>
                  <a:pt x="10800" y="12414"/>
                  <a:pt x="10800" y="133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356000" y="3718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003640" y="3141720"/>
            <a:ext cx="32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增生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成↑→甲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39640" y="2709720"/>
            <a:ext cx="3276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身免疫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刺激性免疫球蛋白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生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甲状腺细胞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H 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4427640" y="350208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4572000" y="3358800"/>
            <a:ext cx="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1327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硫脲类药↓自身抗体的生成→抑制自身免疫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840F-5CD2-4612-927D-B90C29FBBA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24000" y="3573360"/>
            <a:ext cx="83534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使甲状腺功能接近正常，减少手术后并发症发生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但用药后甲状腺腺体增生、充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因此需在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大剂量碘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24000" y="1844640"/>
            <a:ext cx="8353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的内科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或不宜手术或放射性碘治疗者。当基础代谢率正常时，减少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395280" y="4437000"/>
            <a:ext cx="561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受体阻断剂控制交感神经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860400" y="1322280"/>
            <a:ext cx="44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危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yroid cris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辅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221120" y="3213000"/>
            <a:ext cx="362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要用大剂量碘剂抑制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1259280" y="3933720"/>
            <a:ext cx="36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大剂量硫脲类阻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324000" y="1844640"/>
            <a:ext cx="82296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由于精神刺激、感染、手术等诱因，使大量甲状腺激素释放入血，导致病情急剧恶化。患者发生高热、虚脱、肺水肿、水电解质紊乱，严重可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甲状腺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抗甲状腺药</a:t>
            </a: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硫脲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碘和碘化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放射性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黑体"/>
                <a:ea typeface="黑体"/>
              </a:rPr>
              <a:t>β</a:t>
            </a: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受体阻断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24000" y="1557360"/>
            <a:ext cx="85341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粒细胞缺乏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ranulocyt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严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发生在治疗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甲硫氧嘧啶和卡比马唑为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24000" y="2781360"/>
            <a:ext cx="84247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lergic rea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疹、瘙痒等，严重者可致剥脱性皮炎，需停药或应用糖皮质激素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24000" y="4005360"/>
            <a:ext cx="85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和功能减退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甲状腺充血、代偿性增生肿大、变脆、功能减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324000" y="5145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功能损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转氨酶升高，甚至出现黄疸，应及时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24000" y="2133720"/>
            <a:ext cx="799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节性甲状腺肿合并甲亢、甲状腺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69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50920" y="195264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遵医嘱按时服药，不可随意改变剂量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隔时间和疗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为减少胃肠道反应，可在进餐时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密切观察患者发热、咽痛、皮疹、乏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症状，并注意血象变化，发现异常及时报告给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观察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硫脲类用药期间应注意观察有无出血倾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碘和碘化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3964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ne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碘化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de)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钾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tassium iod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odium chlor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方碘溶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quor iodi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Co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卢戈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gol’s solu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37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和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50920" y="2492280"/>
            <a:ext cx="785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甲状腺激素合成的原料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防治单纯甲状腺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盐中加入碘化钾或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化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10000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:100000)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1342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同剂量碘化物对甲状腺功能产生不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755640" y="1413000"/>
            <a:ext cx="81360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剂量碘    抗甲状腺激素作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6mg/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抑制蛋白水解酶，抑制甲状腺激素释放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 抑制过氧化物酶，影响碘化和偶合，使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垂体分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H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甲状腺缩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767880" y="34909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71640" y="40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复方碘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0429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危象的治疗：静注复方碘溶液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不作为常规治疗，因为有自限性、逃逸性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63360" y="1778040"/>
            <a:ext cx="53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中碘化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520560" y="312408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68360" y="2637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289160" y="1982880"/>
            <a:ext cx="53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甲状腺细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179064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657440" y="25146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819520" y="2362320"/>
            <a:ext cx="53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活性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>
            <a:off x="3352680" y="3124080"/>
            <a:ext cx="12956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rc 12"/>
          <p:cNvSpPr/>
          <p:nvPr/>
        </p:nvSpPr>
        <p:spPr>
          <a:xfrm rot="15735000">
            <a:off x="3705120" y="3174480"/>
            <a:ext cx="609480" cy="552240"/>
          </a:xfrm>
          <a:custGeom>
            <a:avLst/>
            <a:gdLst>
              <a:gd name="textAreaLeft" fmla="*/ 0 w 609480"/>
              <a:gd name="textAreaRight" fmla="*/ 609840 w 60948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3281400" y="3554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TG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上的酪氨酸残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5375160" y="3124080"/>
            <a:ext cx="134640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5562720" y="26258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rc 17"/>
          <p:cNvSpPr/>
          <p:nvPr/>
        </p:nvSpPr>
        <p:spPr>
          <a:xfrm rot="15735000">
            <a:off x="5446440" y="3152520"/>
            <a:ext cx="609840" cy="552600"/>
          </a:xfrm>
          <a:custGeom>
            <a:avLst/>
            <a:gdLst>
              <a:gd name="textAreaLeft" fmla="*/ 0 w 609840"/>
              <a:gd name="textAreaRight" fmla="*/ 610200 w 6098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5164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DI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6629400" y="252900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7086600" y="2133720"/>
            <a:ext cx="53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滤泡腔胶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620120" y="2610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3"/>
          <p:cNvSpPr/>
          <p:nvPr/>
        </p:nvSpPr>
        <p:spPr>
          <a:xfrm>
            <a:off x="8291520" y="2008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8616960" y="254952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3962520" y="5181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腺垂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3943440" y="6192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下丘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27"/>
          <p:cNvSpPr/>
          <p:nvPr/>
        </p:nvSpPr>
        <p:spPr>
          <a:xfrm>
            <a:off x="4572000" y="5805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宋体"/>
              </a:rPr>
              <a:t>TR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4427640" y="4653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29"/>
          <p:cNvSpPr/>
          <p:nvPr/>
        </p:nvSpPr>
        <p:spPr>
          <a:xfrm rot="16200000">
            <a:off x="3998880" y="4722480"/>
            <a:ext cx="800280" cy="228600"/>
          </a:xfrm>
          <a:custGeom>
            <a:avLst/>
            <a:gdLst>
              <a:gd name="textAreaLeft" fmla="*/ 124920 w 800280"/>
              <a:gd name="textAreaRight" fmla="*/ 700560 w 8002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30"/>
          <p:cNvSpPr/>
          <p:nvPr/>
        </p:nvSpPr>
        <p:spPr>
          <a:xfrm rot="16200000">
            <a:off x="4241520" y="5919480"/>
            <a:ext cx="495360" cy="266760"/>
          </a:xfrm>
          <a:custGeom>
            <a:avLst/>
            <a:gdLst>
              <a:gd name="textAreaLeft" fmla="*/ 77400 w 495360"/>
              <a:gd name="textAreaRight" fmla="*/ 433440 w 49536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Oval 31"/>
          <p:cNvSpPr/>
          <p:nvPr/>
        </p:nvSpPr>
        <p:spPr>
          <a:xfrm>
            <a:off x="609480" y="6019920"/>
            <a:ext cx="129564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小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32"/>
          <p:cNvSpPr/>
          <p:nvPr/>
        </p:nvSpPr>
        <p:spPr>
          <a:xfrm flipH="1" flipV="1">
            <a:off x="380520" y="4343400"/>
            <a:ext cx="304920" cy="1905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Oval 33"/>
          <p:cNvSpPr/>
          <p:nvPr/>
        </p:nvSpPr>
        <p:spPr>
          <a:xfrm>
            <a:off x="5334120" y="457200"/>
            <a:ext cx="1295280" cy="53352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Line 34"/>
          <p:cNvSpPr/>
          <p:nvPr/>
        </p:nvSpPr>
        <p:spPr>
          <a:xfrm>
            <a:off x="6248520" y="990720"/>
            <a:ext cx="1676160" cy="152388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5"/>
          <p:cNvSpPr/>
          <p:nvPr/>
        </p:nvSpPr>
        <p:spPr>
          <a:xfrm rot="16368600">
            <a:off x="7918920" y="243000"/>
            <a:ext cx="1087560" cy="1362240"/>
          </a:xfrm>
          <a:prstGeom prst="wedgeEllipseCallout">
            <a:avLst>
              <a:gd name="adj1" fmla="val -126833"/>
              <a:gd name="adj2" fmla="val -3068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Oval 36"/>
          <p:cNvSpPr/>
          <p:nvPr/>
        </p:nvSpPr>
        <p:spPr>
          <a:xfrm>
            <a:off x="6248520" y="6019920"/>
            <a:ext cx="129528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37"/>
          <p:cNvSpPr/>
          <p:nvPr/>
        </p:nvSpPr>
        <p:spPr>
          <a:xfrm>
            <a:off x="826920" y="4724280"/>
            <a:ext cx="2225880" cy="1101960"/>
          </a:xfrm>
          <a:prstGeom prst="borderCallout1">
            <a:avLst>
              <a:gd name="adj1" fmla="val 18750"/>
              <a:gd name="adj2" fmla="val -8333"/>
              <a:gd name="adj3" fmla="val -20314"/>
              <a:gd name="adj4" fmla="val -1612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促进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激素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Line 38"/>
          <p:cNvSpPr/>
          <p:nvPr/>
        </p:nvSpPr>
        <p:spPr>
          <a:xfrm>
            <a:off x="5943600" y="1066680"/>
            <a:ext cx="76320" cy="152424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39"/>
          <p:cNvSpPr/>
          <p:nvPr/>
        </p:nvSpPr>
        <p:spPr>
          <a:xfrm rot="16368600">
            <a:off x="3462840" y="575640"/>
            <a:ext cx="1217520" cy="1295280"/>
          </a:xfrm>
          <a:prstGeom prst="wedgeEllipseCallout">
            <a:avLst>
              <a:gd name="adj1" fmla="val -95976"/>
              <a:gd name="adj2" fmla="val 149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40"/>
          <p:cNvSpPr/>
          <p:nvPr/>
        </p:nvSpPr>
        <p:spPr>
          <a:xfrm flipH="1" flipV="1">
            <a:off x="5292720" y="5516640"/>
            <a:ext cx="1641600" cy="42696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AutoShape 41"/>
          <p:cNvSpPr/>
          <p:nvPr/>
        </p:nvSpPr>
        <p:spPr>
          <a:xfrm rot="16368600">
            <a:off x="7609320" y="3953160"/>
            <a:ext cx="1157400" cy="1904760"/>
          </a:xfrm>
          <a:prstGeom prst="wedgeEllipseCallout">
            <a:avLst>
              <a:gd name="adj1" fmla="val -46518"/>
              <a:gd name="adj2" fmla="val -154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分泌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42"/>
          <p:cNvSpPr/>
          <p:nvPr/>
        </p:nvSpPr>
        <p:spPr>
          <a:xfrm>
            <a:off x="250920" y="692280"/>
            <a:ext cx="273672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碘剂作用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不良反应和禁忌证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250920" y="23562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一般不良反应：咽喉部不适，呼吸道刺激症状、唾液腺肿大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过敏反应：发热、皮疹、皮炎及血管神经性水肿。重者可发生喉头水肿，窒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诱发甲状腺功能紊乱：长期应用可诱发甲亢。碘能进入乳汁并能通过胎盘，引起新生儿甲状腺肿，严重者可压迫气管而致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孕妇与哺乳妇女慎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3"/>
          <p:cNvGrpSpPr/>
          <p:nvPr/>
        </p:nvGrpSpPr>
        <p:grpSpPr>
          <a:xfrm>
            <a:off x="290520" y="3406680"/>
            <a:ext cx="1085760" cy="914400"/>
            <a:chOff x="290520" y="3406680"/>
            <a:chExt cx="1085760" cy="914400"/>
          </a:xfrm>
        </p:grpSpPr>
        <p:sp>
          <p:nvSpPr>
            <p:cNvPr id="309" name="Oval 4"/>
            <p:cNvSpPr/>
            <p:nvPr/>
          </p:nvSpPr>
          <p:spPr>
            <a:xfrm>
              <a:off x="290520" y="3406680"/>
              <a:ext cx="990720" cy="914400"/>
            </a:xfrm>
            <a:prstGeom prst="ellipse">
              <a:avLst/>
            </a:prstGeom>
            <a:solidFill>
              <a:srgbClr val="8ac8de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"/>
            <p:cNvSpPr/>
            <p:nvPr/>
          </p:nvSpPr>
          <p:spPr>
            <a:xfrm>
              <a:off x="385920" y="359712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 baseline="30000">
                  <a:solidFill>
                    <a:srgbClr val="ff0000"/>
                  </a:solidFill>
                  <a:latin typeface="Times New Roman"/>
                  <a:ea typeface="华文新魏"/>
                </a:rPr>
                <a:t>131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I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Text Box 6"/>
          <p:cNvSpPr/>
          <p:nvPr/>
        </p:nvSpPr>
        <p:spPr>
          <a:xfrm>
            <a:off x="2023920" y="2263680"/>
            <a:ext cx="160020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99%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mm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500720" y="2492280"/>
            <a:ext cx="1600200" cy="45972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破坏甲状腺实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958080" y="2054160"/>
            <a:ext cx="175248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治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硫脲类无效不宜手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复发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06208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占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1</a:t>
            </a:r>
            <a:r>
              <a:rPr b="0" lang="en-GB" sz="2400" spc="-1" strike="noStrike">
                <a:solidFill>
                  <a:srgbClr val="0000cc"/>
                </a:solidFill>
                <a:latin typeface="宋体"/>
                <a:ea typeface="宋体"/>
              </a:rPr>
              <a:t>%,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程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450072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体外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7015320" y="4206960"/>
            <a:ext cx="152388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甲状腺摄碘功能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3643200" y="27972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6100920" y="27972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61768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36622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1471680" y="2873520"/>
            <a:ext cx="438120" cy="1962000"/>
          </a:xfrm>
          <a:custGeom>
            <a:avLst/>
            <a:gdLst>
              <a:gd name="textAreaLeft" fmla="*/ 280080 w 438120"/>
              <a:gd name="textAreaRight" fmla="*/ 438480 w 438120"/>
              <a:gd name="textAreaTop" fmla="*/ 51120 h 1962000"/>
              <a:gd name="textAreaBottom" fmla="*/ 191088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5822640" y="33336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放射性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000" y="4868640"/>
            <a:ext cx="5616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、妊娠、哺乳妇女、肝肾功能减退、白细胞减少和甲状腺危象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476720" y="1353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250920" y="19382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功能低下，发生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956160" y="3573360"/>
            <a:ext cx="26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否致癌和诱发白血病？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415160" y="4221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250920" y="2781360"/>
            <a:ext cx="68403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卵巢也是碘集中场所，可对遗传产生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671800" y="333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不良反应和禁忌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硫脲类抗甲状腺药物的作用、临床应用、不       良反应和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甲状腺激素、碘和碘化物作用特点、临床应用、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放射性碘的临床应用及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DEB5-FC1F-41A4-88BD-0B0C735470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539640" y="170064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时，应严格遵守正确操作规程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掌握用药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应密切观察甲状腺功能低下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治疗前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应避免用碘剂及其他含碘食物或药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患者，如治疗前准备不充分，可发生甲亢危象。故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后应密切观察甲亢危象的症状，并注意预防感染及避免精神刺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475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普萘洛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066680" y="1828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79280" y="2997360"/>
            <a:ext cx="2229120" cy="10688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locking β-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epto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5" name="Group 5"/>
          <p:cNvGrpSpPr/>
          <p:nvPr/>
        </p:nvGrpSpPr>
        <p:grpSpPr>
          <a:xfrm>
            <a:off x="3181320" y="2549520"/>
            <a:ext cx="2514600" cy="1939680"/>
            <a:chOff x="3181320" y="2549520"/>
            <a:chExt cx="2514600" cy="1939680"/>
          </a:xfrm>
        </p:grpSpPr>
        <p:sp>
          <p:nvSpPr>
            <p:cNvPr id="336" name="Text Box 6"/>
            <p:cNvSpPr/>
            <p:nvPr/>
          </p:nvSpPr>
          <p:spPr>
            <a:xfrm>
              <a:off x="3181320" y="2549520"/>
              <a:ext cx="2514600" cy="94716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心率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, 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焦虑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3181320" y="3483000"/>
              <a:ext cx="2514600" cy="100620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抑制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5</a:t>
              </a:r>
              <a:r>
                <a:rPr b="0" lang="zh-CN" sz="2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’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-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脱碘酶</a:t>
              </a:r>
              <a:r>
                <a:rPr b="0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0" lang="en-GB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T</a:t>
              </a:r>
              <a:r>
                <a:rPr b="0" lang="en-GB" sz="2800" spc="-1" strike="noStrike" baseline="-25000">
                  <a:solidFill>
                    <a:srgbClr val="0000cc"/>
                  </a:solidFill>
                  <a:latin typeface="宋体"/>
                  <a:ea typeface="宋体"/>
                </a:rPr>
                <a:t>3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生成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691320" y="2522520"/>
            <a:ext cx="2128680" cy="137376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状腺危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术前准备辅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2386080" y="332280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utoShape 10"/>
          <p:cNvSpPr/>
          <p:nvPr/>
        </p:nvSpPr>
        <p:spPr>
          <a:xfrm>
            <a:off x="5796000" y="328464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3890880" y="19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6964200" y="1947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5561640" y="333360"/>
            <a:ext cx="25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. 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受体阻断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激素的药理作用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硫脲类临床应用、不良反应和药疗监护须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亢手术前准备 应用何药？各自的理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碘及碘化物抗甲状腺的作用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3075-2976-487B-AE10-33D02352B6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甲状腺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甲状腺腺泡合成和分泌，是维持机体组织细胞正常代谢、促进生长发育及控制基础代谢所必需的激素。包括甲状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和三碘甲状腺原氨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79280" y="1341360"/>
            <a:ext cx="53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  <a:ea typeface="宋体"/>
              </a:rPr>
              <a:t>血液中</a:t>
            </a: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539640" y="321300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1619280" y="2565360"/>
            <a:ext cx="2409840" cy="593640"/>
            <a:chOff x="1619280" y="2565360"/>
            <a:chExt cx="2409840" cy="593640"/>
          </a:xfrm>
        </p:grpSpPr>
        <p:sp>
          <p:nvSpPr>
            <p:cNvPr id="130" name="Line 7"/>
            <p:cNvSpPr/>
            <p:nvPr/>
          </p:nvSpPr>
          <p:spPr>
            <a:xfrm>
              <a:off x="1763640" y="3141720"/>
              <a:ext cx="1486080" cy="1728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1619280" y="2565360"/>
              <a:ext cx="24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2" name="Text Box 9"/>
          <p:cNvSpPr/>
          <p:nvPr/>
        </p:nvSpPr>
        <p:spPr>
          <a:xfrm>
            <a:off x="3348000" y="2852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zh-CN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3281400" y="3111840"/>
            <a:ext cx="1600200" cy="1267920"/>
            <a:chOff x="3281400" y="3111840"/>
            <a:chExt cx="1600200" cy="1267920"/>
          </a:xfrm>
        </p:grpSpPr>
        <p:sp>
          <p:nvSpPr>
            <p:cNvPr id="134" name="Line 11"/>
            <p:cNvSpPr/>
            <p:nvPr/>
          </p:nvSpPr>
          <p:spPr>
            <a:xfrm flipV="1">
              <a:off x="3708360" y="3123720"/>
              <a:ext cx="939960" cy="176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rc 12"/>
            <p:cNvSpPr/>
            <p:nvPr/>
          </p:nvSpPr>
          <p:spPr>
            <a:xfrm rot="15735000">
              <a:off x="3705120" y="3174480"/>
              <a:ext cx="609480" cy="5522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fill="none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</a:path>
                <a:path stroke="0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  <a:lnTo>
                    <a:pt x="0" y="20282"/>
                  </a:lnTo>
                  <a:lnTo>
                    <a:pt x="7429" y="0"/>
                  </a:lnTo>
                  <a:close/>
                </a:path>
              </a:pathLst>
            </a:custGeom>
            <a:noFill/>
            <a:ln w="381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13"/>
            <p:cNvSpPr/>
            <p:nvPr/>
          </p:nvSpPr>
          <p:spPr>
            <a:xfrm>
              <a:off x="3281400" y="35542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G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上的酪氨酸残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5375160" y="836640"/>
            <a:ext cx="1346400" cy="2288520"/>
            <a:chOff x="5375160" y="836640"/>
            <a:chExt cx="1346400" cy="2288520"/>
          </a:xfrm>
        </p:grpSpPr>
        <p:sp>
          <p:nvSpPr>
            <p:cNvPr id="139" name="Line 16"/>
            <p:cNvSpPr/>
            <p:nvPr/>
          </p:nvSpPr>
          <p:spPr>
            <a:xfrm>
              <a:off x="5375160" y="3124080"/>
              <a:ext cx="134640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Text Box 17"/>
            <p:cNvSpPr/>
            <p:nvPr/>
          </p:nvSpPr>
          <p:spPr>
            <a:xfrm>
              <a:off x="5796000" y="836640"/>
              <a:ext cx="449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1" name="Group 18"/>
          <p:cNvGrpSpPr/>
          <p:nvPr/>
        </p:nvGrpSpPr>
        <p:grpSpPr>
          <a:xfrm>
            <a:off x="6629400" y="2133720"/>
            <a:ext cx="990720" cy="1922760"/>
            <a:chOff x="6629400" y="2133720"/>
            <a:chExt cx="990720" cy="1922760"/>
          </a:xfrm>
        </p:grpSpPr>
        <p:sp>
          <p:nvSpPr>
            <p:cNvPr id="142" name="Text Box 19"/>
            <p:cNvSpPr/>
            <p:nvPr/>
          </p:nvSpPr>
          <p:spPr>
            <a:xfrm>
              <a:off x="6629400" y="252900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0"/>
            <p:cNvSpPr/>
            <p:nvPr/>
          </p:nvSpPr>
          <p:spPr>
            <a:xfrm>
              <a:off x="7086600" y="2133720"/>
              <a:ext cx="533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滤泡腔胶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7524720" y="2637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971640" y="1052640"/>
            <a:ext cx="7715160" cy="36716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24"/>
          <p:cNvGrpSpPr/>
          <p:nvPr/>
        </p:nvGrpSpPr>
        <p:grpSpPr>
          <a:xfrm>
            <a:off x="8291520" y="2008080"/>
            <a:ext cx="914400" cy="1844640"/>
            <a:chOff x="8291520" y="2008080"/>
            <a:chExt cx="914400" cy="1844640"/>
          </a:xfrm>
        </p:grpSpPr>
        <p:sp>
          <p:nvSpPr>
            <p:cNvPr id="148" name="Text Box 25"/>
            <p:cNvSpPr/>
            <p:nvPr/>
          </p:nvSpPr>
          <p:spPr>
            <a:xfrm>
              <a:off x="8291520" y="2008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血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26"/>
            <p:cNvSpPr/>
            <p:nvPr/>
          </p:nvSpPr>
          <p:spPr>
            <a:xfrm>
              <a:off x="8534520" y="256536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27"/>
          <p:cNvGrpSpPr/>
          <p:nvPr/>
        </p:nvGrpSpPr>
        <p:grpSpPr>
          <a:xfrm>
            <a:off x="3567240" y="5715000"/>
            <a:ext cx="1747800" cy="937440"/>
            <a:chOff x="3567240" y="5715000"/>
            <a:chExt cx="1747800" cy="937440"/>
          </a:xfrm>
        </p:grpSpPr>
        <p:sp>
          <p:nvSpPr>
            <p:cNvPr id="151" name="Text Box 28"/>
            <p:cNvSpPr/>
            <p:nvPr/>
          </p:nvSpPr>
          <p:spPr>
            <a:xfrm>
              <a:off x="3943440" y="6192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下丘脑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29"/>
            <p:cNvSpPr/>
            <p:nvPr/>
          </p:nvSpPr>
          <p:spPr>
            <a:xfrm>
              <a:off x="3567240" y="5715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R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3" name="Group 30"/>
          <p:cNvGrpSpPr/>
          <p:nvPr/>
        </p:nvGrpSpPr>
        <p:grpSpPr>
          <a:xfrm>
            <a:off x="3635280" y="4869000"/>
            <a:ext cx="1697040" cy="889920"/>
            <a:chOff x="3635280" y="4869000"/>
            <a:chExt cx="1697040" cy="889920"/>
          </a:xfrm>
        </p:grpSpPr>
        <p:sp>
          <p:nvSpPr>
            <p:cNvPr id="154" name="Text Box 31"/>
            <p:cNvSpPr/>
            <p:nvPr/>
          </p:nvSpPr>
          <p:spPr>
            <a:xfrm>
              <a:off x="3960720" y="5299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腺垂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Text Box 32"/>
            <p:cNvSpPr/>
            <p:nvPr/>
          </p:nvSpPr>
          <p:spPr>
            <a:xfrm>
              <a:off x="3635280" y="4869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S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6" name="Text Box 33"/>
          <p:cNvSpPr/>
          <p:nvPr/>
        </p:nvSpPr>
        <p:spPr>
          <a:xfrm>
            <a:off x="3492360" y="333360"/>
            <a:ext cx="5651640" cy="581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甲状腺激素合成、分泌、调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1410840" y="2852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611280" y="2565360"/>
            <a:ext cx="647640" cy="57636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6"/>
          <p:cNvSpPr/>
          <p:nvPr/>
        </p:nvSpPr>
        <p:spPr>
          <a:xfrm>
            <a:off x="4500720" y="5734080"/>
            <a:ext cx="360360" cy="504720"/>
          </a:xfrm>
          <a:prstGeom prst="upArrow">
            <a:avLst>
              <a:gd name="adj1" fmla="val 50000"/>
              <a:gd name="adj2" fmla="val 35015"/>
            </a:avLst>
          </a:prstGeom>
          <a:solidFill>
            <a:srgbClr val="8ac8de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7"/>
          <p:cNvSpPr/>
          <p:nvPr/>
        </p:nvSpPr>
        <p:spPr>
          <a:xfrm>
            <a:off x="4500720" y="4797360"/>
            <a:ext cx="358560" cy="576360"/>
          </a:xfrm>
          <a:prstGeom prst="upArrow">
            <a:avLst>
              <a:gd name="adj1" fmla="val 50000"/>
              <a:gd name="adj2" fmla="val 401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38"/>
          <p:cNvGrpSpPr/>
          <p:nvPr/>
        </p:nvGrpSpPr>
        <p:grpSpPr>
          <a:xfrm>
            <a:off x="4900320" y="3657600"/>
            <a:ext cx="3975480" cy="2318040"/>
            <a:chOff x="4900320" y="3657600"/>
            <a:chExt cx="3975480" cy="2318040"/>
          </a:xfrm>
        </p:grpSpPr>
        <p:cxnSp>
          <p:nvCxnSpPr>
            <p:cNvPr id="162" name="AutoShape 39"/>
            <p:cNvCxnSpPr/>
            <p:nvPr/>
          </p:nvCxnSpPr>
          <p:spPr>
            <a:xfrm rot="5400000">
              <a:off x="6120000" y="2437560"/>
              <a:ext cx="1535760" cy="397584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63" name="AutoShape 40"/>
            <p:cNvCxnSpPr>
              <a:stCxn id="149" idx="2"/>
              <a:endCxn id="152" idx="3"/>
            </p:cNvCxnSpPr>
            <p:nvPr/>
          </p:nvCxnSpPr>
          <p:spPr>
            <a:xfrm rot="5400000">
              <a:off x="5763960" y="2900520"/>
              <a:ext cx="2250000" cy="390060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64" name="Text Box 41"/>
            <p:cNvSpPr/>
            <p:nvPr/>
          </p:nvSpPr>
          <p:spPr>
            <a:xfrm>
              <a:off x="6732720" y="4869000"/>
              <a:ext cx="1295280" cy="45972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负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42"/>
          <p:cNvSpPr/>
          <p:nvPr/>
        </p:nvSpPr>
        <p:spPr>
          <a:xfrm>
            <a:off x="2340000" y="14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甲状腺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73960" y="2421000"/>
            <a:ext cx="6647760" cy="1591920"/>
            <a:chOff x="273960" y="2421000"/>
            <a:chExt cx="6647760" cy="1591920"/>
          </a:xfrm>
        </p:grpSpPr>
        <p:sp>
          <p:nvSpPr>
            <p:cNvPr id="167" name="Rectangle 44"/>
            <p:cNvSpPr/>
            <p:nvPr/>
          </p:nvSpPr>
          <p:spPr>
            <a:xfrm>
              <a:off x="27396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聚碘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Rectangle 45"/>
            <p:cNvSpPr/>
            <p:nvPr/>
          </p:nvSpPr>
          <p:spPr>
            <a:xfrm>
              <a:off x="193104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氧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Rectangle 46"/>
            <p:cNvSpPr/>
            <p:nvPr/>
          </p:nvSpPr>
          <p:spPr>
            <a:xfrm>
              <a:off x="3947400" y="2421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碘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Rectangle 47"/>
            <p:cNvSpPr/>
            <p:nvPr/>
          </p:nvSpPr>
          <p:spPr>
            <a:xfrm>
              <a:off x="6466680" y="3644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偶联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40000" y="333000"/>
            <a:ext cx="2963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持机体的正常生长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胎儿、新生：呆小病（克汀病），新生儿呼吸窘迫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成人：黏液性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代谢和产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基础代谢率升高，产热增多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高交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上腺系统的敏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提高机体对儿茶酚胺类的反应性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分泌过多（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甲亢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178D-37AA-47F3-9BC6-2CDB6D061A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5318" t="0" r="13146" b="0"/>
          <a:stretch/>
        </p:blipFill>
        <p:spPr>
          <a:xfrm>
            <a:off x="5867280" y="4005360"/>
            <a:ext cx="2305080" cy="2376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6" name="Picture 5" descr="11472269573537722"/>
          <p:cNvPicPr/>
          <p:nvPr/>
        </p:nvPicPr>
        <p:blipFill>
          <a:blip r:embed="rId2"/>
          <a:stretch/>
        </p:blipFill>
        <p:spPr>
          <a:xfrm>
            <a:off x="468360" y="400536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粘液性水肿2"/>
          <p:cNvPicPr/>
          <p:nvPr/>
        </p:nvPicPr>
        <p:blipFill>
          <a:blip r:embed="rId3"/>
          <a:stretch/>
        </p:blipFill>
        <p:spPr>
          <a:xfrm>
            <a:off x="2987640" y="400536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snap022"/>
          <p:cNvPicPr/>
          <p:nvPr/>
        </p:nvPicPr>
        <p:blipFill>
          <a:blip r:embed="rId4"/>
          <a:stretch/>
        </p:blipFill>
        <p:spPr>
          <a:xfrm>
            <a:off x="2700360" y="981000"/>
            <a:ext cx="3168720" cy="2952720"/>
          </a:xfrm>
          <a:prstGeom prst="rect">
            <a:avLst/>
          </a:prstGeom>
          <a:ln w="0">
            <a:noFill/>
          </a:ln>
        </p:spPr>
      </p:pic>
      <p:sp>
        <p:nvSpPr>
          <p:cNvPr id="179" name="标题 6"/>
          <p:cNvSpPr/>
          <p:nvPr/>
        </p:nvSpPr>
        <p:spPr>
          <a:xfrm>
            <a:off x="5940360" y="333360"/>
            <a:ext cx="2963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CC71-090C-4FC4-AA6A-02B5EB6F4A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24360" y="285480"/>
            <a:ext cx="3051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395280" y="1484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甲状腺功能减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呆小病：应尽早诊治，常用甲状腺片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黏液性水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片，从小剂量开始，基础代谢率正常，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395280" y="3141720"/>
            <a:ext cx="7632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替代疗法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纯性甲状腺肿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节性甲状腺肿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慢性甲状腺炎和甲状腺功能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碘所致，补充碘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术后应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抑制残余癌变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圆角矩形 3"/>
          <p:cNvSpPr/>
          <p:nvPr/>
        </p:nvSpPr>
        <p:spPr>
          <a:xfrm>
            <a:off x="684360" y="1628640"/>
            <a:ext cx="7632720" cy="1500480"/>
          </a:xfrm>
          <a:prstGeom prst="roundRect">
            <a:avLst>
              <a:gd name="adj" fmla="val 1226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制剂适当剂量无任何不良反应，但有蓄积作用，因而常有过量的危险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900000" y="3213000"/>
            <a:ext cx="727236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功能亢进表现，诱发心绞痛与心肌梗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受体阻断剂对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0:54Z</dcterms:modified>
  <cp:revision>113</cp:revision>
  <dc:subject/>
  <dc:title>内科护理学</dc:title>
</cp:coreProperties>
</file>