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F9D1-DF1A-4B26-8DCA-79760680E1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5727-49D1-4CA5-B580-4CBB86ADEB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81A6-C3D6-4C57-B5A6-0F27E5D2C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5C1CC-4083-4603-BBFE-202DD556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638B-C05D-4630-9ED9-BF98CFA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E9D9-7CA1-4984-A6F8-54D20D4F1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0C8E-8C36-4916-94DC-246620D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6D12-6F21-4963-90FB-962989CD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ABFB-BAE3-42C6-8088-9C478E22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63B6-4399-4DC0-9265-E526AA40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CDF9-DB19-4BEA-BB05-C167CD00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5BF7-3901-4B2E-B59B-A48C7BB1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5EFB-CB47-47CA-B28D-71DF2731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F9C3-CA2A-4BC1-B52E-C11FD289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AA5C-9F67-4A77-95D8-1A3F786A76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547236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二章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病毒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981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838080" y="1773360"/>
            <a:ext cx="7047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：常用抗病毒药的临床应用及药疗监护的主要内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415800"/>
            <a:ext cx="655632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138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又称无环鸟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广谱抗病毒药。在感染细胞内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聚酶，从而阻断病毒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合成，对正常细胞的作用较小。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带状疱疹病毒及乙型肝炎病毒也有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单纯疱疹病毒Ⅰ、Ⅱ型引起的多种感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680" y="2365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2760" y="134100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。静脉滴注，一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65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：可引起一过性肌酐水平升高，与有肾毒性的药物合用，可增加肾毒性。可出现静脉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口服给药：不良反应少，除偶有头晕、呕吐、头痛外，几乎无毒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有一过性烧灼感或疼痛，小部分有红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眼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部分患者用后有一过性轻度疼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本品过敏者禁用。肾功能减退者、孕妇及哺乳期妇女慎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阿昔洛韦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ciclovir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1966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静滴给药前应查尿常规及肾功能，充分稀释后给药，用药期间嘱患者大量饮水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00ml/d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以加速药物排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更换注射部位，以减少血栓性静脉炎的发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霜剂有一过性烧灼感或疼痛，小部分有皮疹、轻度干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少数患者用眼膏后有一过性轻度疼痛，但不必终止治疗，愈后无明显后遗症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-30600"/>
            <a:ext cx="747684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二</a:t>
            </a:r>
            <a:r>
              <a:rPr b="1" lang="en-US" sz="2000" spc="-1" strike="noStrike">
                <a:solidFill>
                  <a:srgbClr val="023653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023653"/>
                </a:solidFill>
                <a:latin typeface="宋体"/>
                <a:ea typeface="宋体"/>
              </a:rPr>
              <a:t>其他抗病毒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80" y="287280"/>
          <a:ext cx="9124920" cy="6570720"/>
        </p:xfrm>
        <a:graphic>
          <a:graphicData uri="http://schemas.openxmlformats.org/drawingml/2006/table">
            <a:tbl>
              <a:tblPr/>
              <a:tblGrid>
                <a:gridCol w="2112840"/>
                <a:gridCol w="3641760"/>
                <a:gridCol w="337032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  名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特  点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3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病毒。临床用于防治流感、腺病毒肺炎、甲型肝炎、疱疹及麻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溶血性贫血和骨髓功能抑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8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金刚烷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阻止病毒进入宿主细胞并抑制其复制。用于甲型流感的预防和早期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中枢神经系统反应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致畸胎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是一种逆转录酶抑制剂，艾滋病治疗首选药物，可改善临床症状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头痛、肝毒性，停药可恢复，骨髓移植：白细胞减少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5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多聚酶而抑制病毒生长。用于治疗巨细胞病毒性视网膜炎、肺炎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可产生严重的肾毒性，其它包括电解质紊乱、癫痫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奥司他韦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抑制新形成的病毒颗粒从被染细胞释放而阻止病毒在体内的传播。主要用于流行性感冒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主要是消化道症状，还可出现咳嗽、眩晕、头痛、失眠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98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聚肌胞苷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(polyinosinic  polycytidylic acid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又称聚肌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广谱抗病毒药，同时具有增强免疫和抗肿瘤作用。用于慢性乙型肝炎、流行性出血热、流行性乙型脑炎、病毒性角膜炎、带状疱疹、各种疣类和呼吸道感染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：由于本品为大分子物质，少数患者可出现严重过敏反应，对本品过敏者慎用。本药有致畸作用，孕妇禁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023653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具有广谱抗病毒活性，亦具有免疫调节及抗肿瘤作用，主要用于治疗各型慢性病毒性乙型肝炎、带状疱疹，还用于恶性肿瘤的治疗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41:55Z</dcterms:modified>
  <cp:revision>110</cp:revision>
  <dc:subject/>
  <dc:title>内科护理学</dc:title>
</cp:coreProperties>
</file>