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68E5D-21BC-46A0-8759-8CF0C82C86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5822F-D329-4684-9932-B56DDAD7D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D8181-6C2E-40D6-B641-AF075C79D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458D4-47D6-4E3B-80B0-F4B215BDA2D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D78B3-E2AF-40F4-B65C-2C00BE094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7CE46-741E-435A-9D0E-5B5EE8CFE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80FA5-7583-4207-A28B-96978E60D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846C4-A6EA-4DDF-9B4D-B2B7FC825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7676A-4062-40FE-A287-21A3378CF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30A7B-BD5D-49FB-8924-C93034682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AD05C-1394-4CFA-9D0A-BB43FB2AA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62A09-E29F-48B3-9640-FD539AE6A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04F20-3F47-4D07-AF3F-AA10FAFC02C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十三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治疗消化性溃疡和胃炎的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质子泵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奥美拉唑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omeprazol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小肠吸收，主要分布于胃肠道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血浆</a:t>
            </a:r>
            <a:r>
              <a:rPr b="0" i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/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0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0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钟，单剂量生物利用度约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5%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0mg/d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后可使胃酸分泌抑制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0%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0%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消化性溃疡和反流性食管炎：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g  QD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疗程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3" marL="1771560" indent="-514080">
              <a:spcBef>
                <a:spcPts val="601"/>
              </a:spcBef>
              <a:buClr>
                <a:srgbClr val="046ca6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十二指肠溃疡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3" marL="1771560" indent="-514080">
              <a:spcBef>
                <a:spcPts val="601"/>
              </a:spcBef>
              <a:buClr>
                <a:srgbClr val="046ca6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溃疡和反流性食管炎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质子泵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奥美拉唑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omeprazol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少，如恶心、呕吐等，停药可恢复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孕妇、哺乳期妇女及肝肾功能不良者慎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质子泵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奥美拉唑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omeprazol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长期应用可能导致维生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B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2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缺乏，连续服用超过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年者应监测血清维生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B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水平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食物会影响药物吸收，宜空腹服药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本品与酸性环境易降解，故口服不可咀嚼，不可倾倒出胶囊内的内容物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本品具有肝药酶抑制作用，可延缓如地西泮、苯妥英钠、华法林、双香豆素等药物的代谢，与上述药物合用时，应酌减上述药物的用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质子泵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27160" y="1700280"/>
          <a:ext cx="8737560" cy="4949640"/>
        </p:xfrm>
        <a:graphic>
          <a:graphicData uri="http://schemas.openxmlformats.org/drawingml/2006/table">
            <a:tbl>
              <a:tblPr/>
              <a:tblGrid>
                <a:gridCol w="1249200"/>
                <a:gridCol w="3527280"/>
                <a:gridCol w="39610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兰索拉唑（又称达克普隆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埃索美拉唑（又称耐信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特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机制类似于与奥美拉唑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机制类似于与奥美拉唑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临床应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、十二指肠溃疡，反流性食管炎，卓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-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艾综合征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反流性食管炎、消化性溃疡，联合其他药物可用于根除幽门螺杆菌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剂量用法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消化性溃疡、反流性食管炎：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mg  QD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疗程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6~8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根除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HP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：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mg BID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 联合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种抗生素，疗程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~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反流性食管炎：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0~40mg QD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疗程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~8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根除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HP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：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0mg BID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联合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抗生素，疗程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~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  <a:tr h="91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偶有皮疹、贫血、粒细胞改变、口渴、腹胀、便秘、头痛、嗜睡及肝脏损害；停药后可恢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头痛、腹痛、腹泻等；皮肤瘙痒、荨麻疹等；停药可恢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</a:tr>
              <a:tr h="1462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药疗监护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对高龄患者，因本药会导致患者胃酸分泌功能与其他生理功能降低；肝肾功能不全者、孕妇、哺乳期妇女慎用或不用；应先排除胃癌后再用药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定期检测肝功能，定期进行内镜检查，观察病灶恢复情况；对本药或者奥美拉唑过敏者禁用；哺乳期妇女应避免使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第二节</a:t>
            </a:r>
            <a:r>
              <a:rPr b="1" lang="en-US" sz="40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黏膜保护剂</a:t>
            </a: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枸橼酸铋钾（</a:t>
            </a:r>
            <a:r>
              <a:rPr b="1" lang="en-US" sz="3200" spc="-1" strike="noStrike">
                <a:solidFill>
                  <a:srgbClr val="046ca6"/>
                </a:solidFill>
                <a:latin typeface="Calibri"/>
                <a:ea typeface="宋体"/>
              </a:rPr>
              <a:t>bismuth potassium citrate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又称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次枸橼酸铋、三甲二枸橼酸铋，铋诺，德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在酸性环境下，在溃疡表面或溃疡基底肉芽组织上形成一种坚固的氧化铋胶体沉淀，隔绝胃酸、胃蛋白酶等对溃疡面的侵蚀，促进溃疡愈合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与胃蛋白酶发生络合反应，使之失活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促进碳酸氢盐和黏液分泌，增强胃黏膜防御力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刺激内源性前列腺素的合成和释放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抑制幽门螺杆菌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枸橼酸铋钾（</a:t>
            </a:r>
            <a:r>
              <a:rPr b="1" lang="en-US" sz="3200" spc="-1" strike="noStrike">
                <a:solidFill>
                  <a:srgbClr val="046ca6"/>
                </a:solidFill>
                <a:latin typeface="Calibri"/>
                <a:ea typeface="宋体"/>
              </a:rPr>
              <a:t>bismuth potassium citrate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又称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次枸橼酸铋、三甲二枸橼酸铋，铋诺，德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胃及十二指肠溃疡、复合溃疡、多发溃疡、吻合口溃疡、慢性胃炎、糜烂性胃炎等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在胃内形成不溶性的氧化铋胶体沉淀，仅有少量铋剂可被吸收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被吸收的痕迹量的铋主要分布于肾等组织，经肾排泄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未被吸收的部分经粪便排出体外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枸橼酸铋钾（</a:t>
            </a:r>
            <a:r>
              <a:rPr b="1" lang="en-US" sz="3200" spc="-1" strike="noStrike">
                <a:solidFill>
                  <a:srgbClr val="046ca6"/>
                </a:solidFill>
                <a:latin typeface="Calibri"/>
                <a:ea typeface="宋体"/>
              </a:rPr>
              <a:t>bismuth potassium citrate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又称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次枸橼酸铋、三甲二枸橼酸铋，铋诺，德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缓解胃酸过多：口服，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0.3g  4ID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，餐前半小时或睡前服用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胃、十二指肠溃疡和慢性胃炎：疗程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~8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周，停药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~8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周，如有必要可以再继续服用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~8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周。连续使用不超过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周。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枸橼酸铋钾（</a:t>
            </a:r>
            <a:r>
              <a:rPr b="1" lang="en-US" sz="3200" spc="-1" strike="noStrike">
                <a:solidFill>
                  <a:srgbClr val="046ca6"/>
                </a:solidFill>
                <a:latin typeface="Calibri"/>
                <a:ea typeface="宋体"/>
              </a:rPr>
              <a:t>bismuth potassium citrate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又称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次枸橼酸铋、三甲二枸橼酸铋，铋诺，德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和禁忌证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口中有氨味，舌、粪呈黑色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恶心、呕吐、便秘等消化系统症状，停药后消失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血铋浓度超过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0.05</a:t>
            </a:r>
            <a:r>
              <a:rPr b="0" lang="en-US" sz="2000" spc="-1" strike="noStrike">
                <a:solidFill>
                  <a:srgbClr val="046ca6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g/ml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，有发生神经毒性的危险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个别患者可出现过敏，表现同荨麻疹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也有报道出现牙釉质粉状剥脱性损害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枸橼酸铋钾（</a:t>
            </a:r>
            <a:r>
              <a:rPr b="1" lang="en-US" sz="3200" spc="-1" strike="noStrike">
                <a:solidFill>
                  <a:srgbClr val="046ca6"/>
                </a:solidFill>
                <a:latin typeface="Calibri"/>
                <a:ea typeface="宋体"/>
              </a:rPr>
              <a:t>bismuth potassium citrate</a:t>
            </a:r>
            <a:r>
              <a:rPr b="1" lang="zh-CN" sz="3200" spc="-1" strike="noStrike">
                <a:solidFill>
                  <a:srgbClr val="046ca6"/>
                </a:solidFill>
                <a:latin typeface="Calibri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又称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次枸橼酸铋、三甲二枸橼酸铋，铋诺，德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857160" indent="-457200">
              <a:spcBef>
                <a:spcPts val="601"/>
              </a:spcBef>
              <a:buClr>
                <a:srgbClr val="8ac8de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药疗监护须知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服药前告知患者常见的副作用，如舌和粪便黑染，口中带氨味等，消除患者疑虑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服药前后半小时不要进食牛奶或其他高蛋白食物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应注意观察头痛、头晕、记忆力减退等神经系统表现，以防出现神经系统中毒或铋剂脑病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长期使用（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&gt;2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个月）应监测肾功能，以防止小剂量蓄积，损害肾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过量抢救；及时洗胃、重复使用活性炭悬浮液及轻泻剂。监测血、尿铋浓度和肾功能。血铋浓度过高时，可使用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-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巯基琥珀酸或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-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巯基丙磺酸络合疗法治疗，必要时行血液透析治疗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胃酸分泌抑制剂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根除幽门螺杆菌方案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胃动力药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胶体果胶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碱式果胶酸铋钾、维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作用机制类似于胶体铋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治疗胃及十二指肠溃疡、慢性浅表性胃炎、慢性萎缩性胃炎和消化道出血，根除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HP 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宜餐前和睡前服用；治疗消化道出血宜倾倒出胶囊内容物，用水搅匀后服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硫糖铝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胃溃宁、迪先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在酸性环境广泛聚合为粘稠的多聚体，可牢固粘着于上皮细胞和溃疡表面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吸收少，作用持续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，主要用于治疗胃炎、胃、十二指肠溃疡以及反流性食管炎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宜饭前或睡前服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良反应轻。长期大量服用应监测血清铝浓度；过敏或哺乳期妇女不宜使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吉法酯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合欢香叶酯，胃家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-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直接作用于胃黏膜上皮细胞，促进其新陈代谢，增强其抗溃疡的能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治疗胃和十二指肠溃疡，急、慢性胃炎、胃痉挛和结肠炎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黏膜保护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米索前列醇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喜克溃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强烈抑制基础胃酸分泌、刺激胃酸分泌量；增加黏膜血流，保护胃黏膜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胃及十二指肠溃疡的治疗，以及预防非甾体抗炎药引起的出血性消化性溃疡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餐前或睡前服用；不良反应少，停药后好转；孕妇及对前列腺素过敏者禁用；脑血管及冠状动脉病变患者慎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第三节   抗酸药</a:t>
            </a: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铝碳酸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hydrotalcit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达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中和胃酸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保护胃黏膜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促进前列腺素合成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溃疡及十二指肠溃疡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急、慢性胃炎及反流性食管炎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257480" indent="-45720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酸过多有关的胃部不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铝碳酸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hydrotalcit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达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溶于水，口服后不吸收，体内无各种成分的蓄积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使用方法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5~1.0g  TID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溃疡疗程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；十二指肠溃疡疗程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铝碳酸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hydrotalcit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达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少，偶有腹泻、口渴、食欲下降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过敏、胃酸缺乏、接受结肠或回肠造口术者、慢性腹泻换患者、肠梗阻患者等禁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肠蠕动功能不良以及严重肝功能障碍者者慎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铝碳酸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hydrotalcit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达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39996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片剂或咀嚼片宜嚼碎服用，悬胶剂宜混匀后服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严重肾功能障碍者长期服用应监测血铝水平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环丙沙星、氧氟沙星、含铁的药物、抗凝药物、地高辛、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受体拮抗剂等，在服用时应与本品间隔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~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由于含铝、镁两种金属离子，从而相互抵消了便秘和腹泻的不良反应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其他常用抗酸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氢氧化铝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弱碱性药物，中和胃酸；胃液混合形成的凝胶，保护胃黏膜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治疗胃、十二指肠溃疡、胃食管反流性疾病和上消化道出血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餐后服用作用时间可达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，大部分自粪便排出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不良反应有便秘，严重时可引起肠梗阻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长期便秘者慎用；肾功能不全患者应注意铝在体内的蓄积；片剂宜嚼碎服用，凝胶剂宜混匀服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第一节   胃酸分泌抑制剂</a:t>
            </a: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其他常用抗酸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碳酸氢钠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小苏打，重碳酸钠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后能迅速中和胃酸，减轻疼痛，能碱化尿液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治疗多种原因引起的胃酸分泌过多。静脉使用可用于代谢性酸血症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碱化尿液的作用对解救苯巴比妥、阿斯匹林等药物中毒有一定价值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后中和胃酸时产生大量二氧化碳，可刺激溃疡面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充血性心力衰竭、水肿、肾功能衰竭患者酸中毒时使用本药应慎重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酸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其他常用抗酸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氧化镁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酸作用强，且缓慢而持久，不产生二氧化碳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适用于伴有便秘的胃酸过多症、胃及十二指肠溃疡者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肾功能不全者服后可造成蓄积中毒，应慎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碳酸钙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酸作用强而持久，起效快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胃酸过多以及消化性溃疡的辅助治疗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本药长期服用可能可发生高钙血症，故不应长期、大量服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第四节   根除幽门螺杆菌方案</a:t>
            </a: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理想的根除方案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根除率高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90%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以上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副作用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疗程短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价格合理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治疗溃疡的药物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074240" indent="-21456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如质子泵抑制剂、铋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抗菌药物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074240" indent="-21456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阿莫西林、甲硝唑、呋喃唑酮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根除幽门螺杆菌方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铋剂联合两种抗菌药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标准计量铋剂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阿莫西林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5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硝唑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4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或四环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5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硝唑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4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或克拉霉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25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硝唑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4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标准剂量铋剂：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枸橼酸铋钾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0.22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或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0.24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；果胶铋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0.24g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用法：每日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次，共用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~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根除幽门螺杆菌方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质子泵抑制剂联合两种抗菌药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标准剂量质子泵抑制剂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克拉霉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5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阿莫西林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0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           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或阿莫西林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0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硝唑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4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           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或克拉霉素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25g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硝唑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.4g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标准剂量质子泵抑制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埃索美拉唑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0m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；雷贝拉唑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0m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；兰索拉唑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0m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；奥美拉唑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0mg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服用方法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499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每日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次，共服用</a:t>
            </a:r>
            <a:r>
              <a:rPr b="0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周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其他方案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其他方案：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受体拮抗剂或质子泵抑制剂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铋剂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两种抗生素组成四联疗法，多用于其他方案失败的病例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第五节   胃动力药物</a:t>
            </a:r>
            <a:endParaRPr b="0" lang="en-US" sz="4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胃动力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多潘立酮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domperido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增加胃肠道动力，促进胃排空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止吐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消化不良、腹胀、嗳气、恶心、呕吐以及腹部胀痛，胃肠反流性疾病，慢性胃炎等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肝脏代谢，半衰期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、肌肉注射或直肠给药均易吸收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存在“首过效应”，口服生物利用度较低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胃动力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多潘立酮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domperido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服用方法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片剂： 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g   TID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混悬液：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ml     TID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本品可存进催乳激素的释放药，部分更年期后的妇女及男性患者可出现乳房胀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嗜铬细胞瘤、乳癌、机械性肠梗阻、胃肠出血、对本品过敏者等患者禁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胃动力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多潘立酮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domperido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餐前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5~30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钟口服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酸剂和抑制胃酸分泌药不宜与本品同服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山莨菪碱、颠茄等抗胆碱能药物会减弱本品的作用，不宜与本品同服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孕妇慎用，哺乳期妇女使用本品期间应停止哺乳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法莫替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famotidi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又称：胃舒达，高舒达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竞争性占领胃黏膜细胞基膜上的组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受体，阻断组胺促进胃酸分泌的作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有效抑制基础胃酸分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刺激条件下引起胃酸分泌的抑制作用弱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：胃十二指肠溃疡、反流性食管炎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……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、静脉：上消化道出血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为动力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西沙必利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普瑞博思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全胃肠动力药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用于治疗胃轻瘫、胃食管反流、假性肠梗阻导致的推进性蠕动不足和胃肠内容物滞留及慢性便秘等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不良反应有瞬时性胃肠痉挛，肠鸣或腹泻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肝肾功能不全、老年人应减量或不用，有过敏史者、孕妇、哺乳期妇女禁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为动力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甲氧氯普胺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又称胃复安、灭吐灵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中枢性止吐、促进消化道蠕动、促进催乳素释放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肿瘤化疗、放射治疗、手术后及胃肠功能失调等引起的恶心、呕吐；反流性食管炎及胃溃疡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不良反应有倦怠、嗜睡、头晕等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大剂量、长期使用因阻断中枢多巴胺受体而致锥体外系反应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禁用于嗜铬细胞瘤、癫痫、乳癌患者放疗和化疗时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法莫替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famotidi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后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血药浓度达高峰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/2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7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小时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生物利用度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0%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0%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不通过胎盘屏障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0%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以原型自尿排出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口服：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g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Bid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；维持治疗，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g QN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静脉滴注：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g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溶于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ml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以上生理盐水或葡萄糖液，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&gt;30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钟，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Bid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法莫替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famotidi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不良反应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3" marL="1771560" indent="-514080">
              <a:spcBef>
                <a:spcPts val="601"/>
              </a:spcBef>
              <a:buClr>
                <a:srgbClr val="046ca6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头痛、头晕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……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3" marL="1771560" indent="-514080">
              <a:spcBef>
                <a:spcPts val="601"/>
              </a:spcBef>
              <a:buClr>
                <a:srgbClr val="046ca6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肝肾功能受损者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法莫替丁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famotidin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应用应排除胃肠肿瘤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哺乳期妇女应用时应停止哺乳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孕妇慎用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氢氧化铝、镁等抗酸剂可降低法莫替丁的生物利用度和血药浓度，故二者不宜合用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2400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二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其他常用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受体拮抗剂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16000" y="1700280"/>
          <a:ext cx="8928000" cy="4732200"/>
        </p:xfrm>
        <a:graphic>
          <a:graphicData uri="http://schemas.openxmlformats.org/drawingml/2006/table">
            <a:tbl>
              <a:tblPr/>
              <a:tblGrid>
                <a:gridCol w="792000"/>
                <a:gridCol w="4103640"/>
                <a:gridCol w="4032360"/>
              </a:tblGrid>
              <a:tr h="597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西咪替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雷尼替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特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对基础胃酸的抑制作用弱于法莫替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选择性的组胺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H </a:t>
                      </a:r>
                      <a:r>
                        <a:rPr b="0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受体拮抗剂，作用弱于法莫替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  <a:tr h="67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临床应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和十二指肠溃疡、应激性溃疡、上消化出血；预防化学性腐蚀性胃炎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消化性溃疡、术后溃疡、反流性食管炎等；静脉用药可治上消化道出血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</a:tr>
              <a:tr h="74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体内过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血药浓度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分钟达峰；生物利用度高；</a:t>
                      </a:r>
                      <a:r>
                        <a:rPr b="0" i="1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/2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约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口服生物利用度为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0%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</a:t>
                      </a:r>
                      <a:r>
                        <a:rPr b="0" i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t</a:t>
                      </a:r>
                      <a:r>
                        <a:rPr b="0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/2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为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.7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，作用持续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  <a:tr h="67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服用方法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.2 tid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.4 QN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~6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周一疗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.15 Bid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，维持量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.15 QD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1"/>
                    </a:solidFill>
                  </a:tcPr>
                </a:tc>
              </a:tr>
              <a:tr h="135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和监护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腹胀、腹泻、口苦、口干等消化道反应；头晕、乏力、嗜睡等神经系统反应；对骨髓有抑制，应定期查血象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通过胎盘屏障，不宜用于孕妇、哺乳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副作用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严重肝肾功能受损者应调节剂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长期应用降低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VitB</a:t>
                      </a:r>
                      <a:r>
                        <a:rPr b="0" lang="en-US" sz="20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2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吸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孕妇、婴儿及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8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岁以下儿童禁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4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质子泵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Verdana"/>
                <a:ea typeface="宋体"/>
              </a:rPr>
              <a:t>（一）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奥美拉唑（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omeprazole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又称：洛赛克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抑制基础胃酸分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抑制刺激胃酸分泌：作用强大持久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保护胃黏膜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幽门螺杆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514440">
              <a:spcBef>
                <a:spcPts val="700"/>
              </a:spcBef>
              <a:buClr>
                <a:srgbClr val="8ac8de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胃、十二指肠溃疡、卓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艾综合征、反流性食管炎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……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6:53:15Z</dcterms:modified>
  <cp:revision>115</cp:revision>
  <dc:subject/>
  <dc:title>内科护理学</dc:title>
</cp:coreProperties>
</file>