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64F7-42F5-4A13-9FDF-D0EA46290C0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5144-04FE-475C-8B8E-19B8C354E9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4AED-D037-49D4-97E7-F42DE1265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B7E8-8925-4CD1-9156-5385BD62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4775-1AE3-46CB-A6AF-C2A764D5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58BF-4668-4465-A8DF-C50DEC510E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CD07-74C3-4572-A515-D65A799F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7D5A-1B97-4189-BF25-71AEF995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F49C-2D29-42C6-AE2D-58CB9FB5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E9C3-2C35-4A2F-BBE9-4771DB27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AB1C-00C4-41E9-8320-16448F96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C138-D4FF-43F6-ACAB-47B1E810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4C38-454E-4536-B5CE-5D8F4435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24A9-72EE-4607-91C3-064611BE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9E02-67AE-4C3A-B829-C8C4E03B40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一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557000"/>
            <a:ext cx="8304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疗期间的护理须知（药疗监护内容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士在合理用药中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一、护理药理学内容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25000"/>
            <a:ext cx="8610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是研究药物与机体相互作用规律和原理的学科，包括药效学和药动学两方面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前者是阐明药物对机体的作用和作用原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后者阐明药物在机体内吸收、分布、生物转化和排泄等过程，及血药浓度随时间消长的规律，以达到指导临床合理用药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理药理学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pharmacology in nursing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）应是药理学的一个分支，它以人为对象，阐述临床如何合理用药和护士在合理用药中的地位及作用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55640" y="304560"/>
            <a:ext cx="635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二、护士在临床用药中的作用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护士在临床第一线工作，是各种药物治疗的实施者，也是用药前后的监护者，因此护理人员在临床药物治疗中居重要地位。护士掌握更多的药理学知识，能更好协助医生诊治疾病和合理用药，使药物治疗达到最佳效果，对提高护理质量和医疗质量都具有重要意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10920" y="304560"/>
            <a:ext cx="650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</a:rPr>
              <a:t>三、药物治疗期间的护理须知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在药疗期间护理工作应注意以下几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医嘱前，应了解患者的诊断和病情，明确用药目的，掌握所用药物的药理作用、给药途径、剂量、用法、不良反应及防治措施和其它有关注意事项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护士应严格按医嘱给患者用药，若对医嘱有疑问时，应先与医生联系后再执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执行用药医嘱时，要做到明确医嘱目的，准确掌握剂量和用法，避免技术性事故发生，以提高护理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对不熟悉的药物，在用药前应查阅书籍，了解其药理作用，不良反应和护理注意事项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．在整个药物治疗过程中，护士有责任随时指导患者合理用药，在患者出院时也应向患者及其家属讲解所带药物的有关知识，特别是一些常见不良反应和注意事项，以保证出院后继续用药的安全有效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标题 1"/>
          <p:cNvSpPr/>
          <p:nvPr/>
        </p:nvSpPr>
        <p:spPr>
          <a:xfrm>
            <a:off x="2411280" y="304920"/>
            <a:ext cx="6504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TW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药物治疗期间的护理须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思考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简述护士在合理用药中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TW" sz="3200" spc="-1" strike="noStrike">
                <a:solidFill>
                  <a:srgbClr val="8ac8de"/>
                </a:solidFill>
                <a:latin typeface="华文新魏"/>
              </a:rPr>
              <a:t>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试述药物治疗期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间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的护理须知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34:34Z</dcterms:modified>
  <cp:revision>90</cp:revision>
  <dc:subject/>
  <dc:title>内科护理学</dc:title>
</cp:coreProperties>
</file>