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06BA-F2D5-4DAE-A691-310AA0894DB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C9D0-4BA2-4C86-9F12-88EA0F8206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5D01-C682-4D13-AB66-48D4626E87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B800-3361-406F-94DD-79B5754D32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F8EE-F457-477B-9FDD-E5031D3C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18E1-6C66-4A00-A555-EEE41291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AFD6-EED6-4CA3-AB7D-0A78F32359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2BAE-E255-46C2-8ADA-78F08A73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753-EB36-4A4F-A6A9-23DC353A0B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898-6E81-46C4-A10B-A9B879C1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E6F-D302-41E3-B236-4AFFE8F7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B6C-1308-4D78-A5A7-98D94AC2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FAD-AD54-4CC4-9762-90A6E900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5524-4F2F-46C5-B23D-8448D814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098-8CCA-4B96-B001-5ED3ED23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E994-DEDA-4641-85F2-F921416B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DBC-F069-4004-A1F2-F7DD705D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7E8-91B8-4F75-83CD-0B9CADC3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529-7220-40B0-A891-B7C8F932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F11-2CDA-4C63-AFB1-87715B4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ADF-8720-4E41-9C73-D93D15614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AEE7-B4E6-4367-BD8E-154C00A0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A0A8-7443-4DA8-90F3-BD17273C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A2742-9F76-4329-897F-974F9DCA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9A21-4227-49EA-A9FA-C8E6780E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373E-83F4-426F-BC8D-4F77D2AF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99FF-F7BC-49E5-B81E-277979F7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CF3E-45A5-48FE-B0AE-AE5DB03BFA0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57B1-D314-4091-97D1-E69B69F09BD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9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帕金森病药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阿尔茨海默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33200" y="1967040"/>
            <a:ext cx="87822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酪氨酸的羟化物，口服后主要经小肠芳香族氨基酸转运体吸收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0.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～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达血浆峰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吸收率与胃排空时间、胃液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pH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和胃内容物氨基酸浓度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仅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到达中枢神经系统转化为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大部分在肝脏中被多巴胺脱羧酶去羧基转化为多巴胺。多巴胺本身不能透过血脑屏障，多在外周产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3B3D-1262-4499-AEF1-B6A61D1DA24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992160" y="513252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1%~3 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左旋多巴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971640" y="5589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多巴胺不能通过血脑屏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26"/>
          <p:cNvSpPr/>
          <p:nvPr/>
        </p:nvSpPr>
        <p:spPr>
          <a:xfrm>
            <a:off x="4788000" y="4832280"/>
            <a:ext cx="1368360" cy="15494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97440" y="5348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79280" y="2133720"/>
            <a:ext cx="87361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胃肠道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厌食、恶心、呕吐或上腹部不适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直接刺激或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刺激延髓催吐化学感受区所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心血管反应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直立性低血压，少见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机制：可能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交感神经末梢突触前膜，负反馈抑制末梢释放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同时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血管上的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，使血管扩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3614-5710-48D8-9661-A7570E29BDB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79280" y="2133720"/>
            <a:ext cx="8964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常不随意运动 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异动症”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咬牙、吐舌、点头、做怪相及舞蹈样动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运动波动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关”现象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即患者突然多动不安（开），而后又出现肌强直运动不能（关），两种现象可交替出现，严重妨碍患者的日常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多在长期用药后出现，表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已达最大耐受。主要是由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补充过度有关，须减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精神障碍：失眠、幻觉、妄想、躁狂、焦虑和情感抑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85A8-3CBE-41D5-B028-34F54CB043C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57320" y="2060640"/>
            <a:ext cx="88074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剂量开始，逐渐增量，合并增效剂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缓释剂减少不良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卧位站立时需缓慢，防止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901A-8795-40CD-A589-D5D737BCFB6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98360" y="521496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-181080" y="3238560"/>
            <a:ext cx="909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多巴脱羧酶抑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周多巴脱羧酶抑制剂，不易通过血脑屏障。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单独应用无治疗作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主要与左旋多巴按一定比例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制成复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左旋多巴制剂，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外周脱羧转变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外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减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进入中枢增加而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L-dopa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的疗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用量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75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9280" y="5635800"/>
            <a:ext cx="256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2701800" y="4781520"/>
            <a:ext cx="6134400" cy="1667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信尼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sinemet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，心宁美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卡比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10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10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复方苄丝肼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美多巴，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Madopar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左旋多巴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苄丝肼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=4:1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100mg:25mg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维生素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增强外周脱羧酶活性，加速左旋多巴在外周转化为多巴胺，不宜与左旋多巴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非选择性单胺氧化酶抑制剂优降宁、异羧肼等可延缓外周多巴胺降解，加速外周不良反应，禁于左旋多巴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精神病药和利血平可产生类似震颤麻痹样症状，使左旋多巴疗效降低，不宜与之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2AA7-E0C7-44B4-92B3-8AB51989EF0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枢抗胆碱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7303-D2BE-467A-B457-3B9D0ECDD88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减弱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C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041560" y="3936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目前仅用于轻症或不能使用左旋多巴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抗精神病药引起的帕金森综合征有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26920" y="220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海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hexo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扎托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atropin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4F80-0354-433F-9630-B42CB96D400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854000" y="364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用不及左旋多巴，用于左旋多巴增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26920" y="220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金刚烷胺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antadine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142360" y="2855880"/>
            <a:ext cx="49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促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，抑制其重摄取；同时具有神经保护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左旋多巴治疗帕金森病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卡比多巴、金刚烷胺、溴隐亭及苯海索的药理作用特点与应用、主要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治疗阿尔茨海默病药的药理作用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4D98-E14E-4B5E-9BC2-46C6AC92698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的老陈从厂里退休后一直赋闲在家。这两年儿女们发现老陈走路越来越不稳了，动作也越来越慢；不动的时候，双手总是不自主地发抖震颤；几乎看不到老人的笑容，就像带了“面具”。儿女们把老人送到医院，仔细检查后发现：老人双下肢无力行走不稳，双手不自主震颤；表情淡漠，呈现出典型的“面具脸”；走路呈“慌张步态”，四肢肌张力很高，行走时不会摆动手臂，走路呈一条直线，不会拐弯，运动迟缓，伴有轻度的肌肉萎缩；写字时会出现越写越小的情况。诊断为“帕金森病”后给服美多巴一日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片分早午晚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服用，关节以及双臂的僵硬都明显好转，人也开朗很多，但总觉得胃部不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简述美多巴治疗帕金森病的主要机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. 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美多巴的不良反应会有哪些？护理过程中有哪些注意事项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D8A6-3635-4037-9058-D755DAB8B72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帕金森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Parkinson diseas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348080" y="1755720"/>
            <a:ext cx="45673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锥体外系功能紊乱引起的一种慢性中枢神经系统神经退行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临床症状为静止性震颤、肌肉僵直、运动迟缓和姿势反射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典型病理表现为黑质致密部多巴胺能神经元的进行性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D1C2-3F81-47EC-818F-C11B7C7B0D25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55760" y="1960560"/>
            <a:ext cx="1992240" cy="2104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1bf87258a6f137334a80fd6"/>
          <p:cNvPicPr/>
          <p:nvPr/>
        </p:nvPicPr>
        <p:blipFill>
          <a:blip r:embed="rId2"/>
          <a:stretch/>
        </p:blipFill>
        <p:spPr>
          <a:xfrm>
            <a:off x="2498760" y="2752560"/>
            <a:ext cx="1798560" cy="262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17680" y="4210200"/>
            <a:ext cx="181764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50920" y="882720"/>
            <a:ext cx="53103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Picture 7" descr="substantia-nigra-and-parkinsons-disease"/>
          <p:cNvPicPr/>
          <p:nvPr/>
        </p:nvPicPr>
        <p:blipFill>
          <a:blip r:embed="rId1"/>
          <a:stretch/>
        </p:blipFill>
        <p:spPr>
          <a:xfrm>
            <a:off x="235080" y="257508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pdntr"/>
          <p:cNvPicPr/>
          <p:nvPr/>
        </p:nvPicPr>
        <p:blipFill>
          <a:blip r:embed="rId2"/>
          <a:stretch/>
        </p:blipFill>
        <p:spPr>
          <a:xfrm>
            <a:off x="6875640" y="1495440"/>
            <a:ext cx="1496880" cy="2852640"/>
          </a:xfrm>
          <a:prstGeom prst="rect">
            <a:avLst/>
          </a:prstGeom>
          <a:ln w="0">
            <a:noFill/>
          </a:ln>
        </p:spPr>
      </p:pic>
      <p:sp>
        <p:nvSpPr>
          <p:cNvPr id="176" name="Freeform 11"/>
          <p:cNvSpPr/>
          <p:nvPr/>
        </p:nvSpPr>
        <p:spPr>
          <a:xfrm flipV="1" rot="16906200">
            <a:off x="6800040" y="4533480"/>
            <a:ext cx="1387800" cy="12888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169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435560" y="61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帕金森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Picture 13" descr="ParkinsonsFigure7"/>
          <p:cNvPicPr/>
          <p:nvPr/>
        </p:nvPicPr>
        <p:blipFill>
          <a:blip r:embed="rId3"/>
          <a:srcRect l="4877" t="8658" r="4916" b="7559"/>
          <a:stretch/>
        </p:blipFill>
        <p:spPr>
          <a:xfrm>
            <a:off x="3090960" y="1674720"/>
            <a:ext cx="3311280" cy="1865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4"/>
          <p:cNvSpPr/>
          <p:nvPr/>
        </p:nvSpPr>
        <p:spPr>
          <a:xfrm>
            <a:off x="4533840" y="355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 rot="16200000">
            <a:off x="4061520" y="3018240"/>
            <a:ext cx="1368360" cy="238284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ddddd">
                  <a:alpha val="50196"/>
                </a:srgbClr>
              </a:gs>
            </a:gsLst>
            <a:lin ang="5400000"/>
          </a:gradFill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Picture 9" descr="parkinsons"/>
          <p:cNvPicPr/>
          <p:nvPr/>
        </p:nvPicPr>
        <p:blipFill>
          <a:blip r:embed="rId4"/>
          <a:stretch/>
        </p:blipFill>
        <p:spPr>
          <a:xfrm>
            <a:off x="3235320" y="4145040"/>
            <a:ext cx="3022560" cy="2066760"/>
          </a:xfrm>
          <a:prstGeom prst="rect">
            <a:avLst/>
          </a:prstGeom>
          <a:ln w="0">
            <a:noFill/>
          </a:ln>
        </p:spPr>
      </p:pic>
      <p:sp>
        <p:nvSpPr>
          <p:cNvPr id="182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EFEB-9F5C-4E08-A275-A080538222C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帕金森病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003560" y="1025640"/>
            <a:ext cx="530856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增强中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1800360" y="1628640"/>
            <a:ext cx="2195280" cy="1403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旋多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卡比多巴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+ </a:t>
            </a:r>
            <a:r>
              <a:rPr b="1" lang="zh-CN" sz="1600" spc="-1" strike="noStrike">
                <a:solidFill>
                  <a:srgbClr val="1c1c1c"/>
                </a:solidFill>
                <a:latin typeface="Cooper Black"/>
                <a:ea typeface="宋体"/>
              </a:rPr>
              <a:t>卞丝肼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800360" y="33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溴隐亭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培高利特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普拉克索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罗平尼咯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D</a:t>
            </a:r>
            <a:r>
              <a:rPr b="1" lang="en-US" sz="16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2</a:t>
            </a:r>
            <a:r>
              <a:rPr b="1" lang="en-US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R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00360" y="5157720"/>
            <a:ext cx="2195280" cy="140328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司来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雷沙吉兰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MAO</a:t>
            </a:r>
            <a:r>
              <a:rPr b="1" lang="en-US" sz="1400" spc="-1" strike="noStrike" baseline="-25000">
                <a:solidFill>
                  <a:srgbClr val="1c1c1c"/>
                </a:solidFill>
                <a:latin typeface="Times New Roman"/>
                <a:ea typeface="宋体"/>
              </a:rPr>
              <a:t>B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硝替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  <a:ea typeface="宋体"/>
              </a:rPr>
              <a:t>恩他卡朋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（</a:t>
            </a:r>
            <a:r>
              <a:rPr b="1" lang="en-US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COMT</a:t>
            </a:r>
            <a:r>
              <a:rPr b="1" lang="zh-CN" sz="1400" spc="-1" strike="noStrike">
                <a:solidFill>
                  <a:srgbClr val="1c1c1c"/>
                </a:solidFill>
                <a:latin typeface="Times New Roman"/>
                <a:ea typeface="宋体"/>
              </a:rPr>
              <a:t>）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dopamine%20uses"/>
          <p:cNvPicPr/>
          <p:nvPr/>
        </p:nvPicPr>
        <p:blipFill>
          <a:blip r:embed="rId1"/>
          <a:srcRect l="3294" t="3861" r="3294" b="4847"/>
          <a:stretch/>
        </p:blipFill>
        <p:spPr>
          <a:xfrm>
            <a:off x="4716360" y="1844640"/>
            <a:ext cx="4103640" cy="439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arkinsonsFigure8"/>
          <p:cNvPicPr/>
          <p:nvPr/>
        </p:nvPicPr>
        <p:blipFill>
          <a:blip r:embed="rId2"/>
          <a:srcRect l="6149" t="7765" r="6899" b="6795"/>
          <a:stretch/>
        </p:blipFill>
        <p:spPr>
          <a:xfrm>
            <a:off x="334800" y="1628640"/>
            <a:ext cx="1511640" cy="1411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360720" y="1267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Replac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55320" y="299628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Mimic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0" descr="ParkinsonsFigure9"/>
          <p:cNvPicPr/>
          <p:nvPr/>
        </p:nvPicPr>
        <p:blipFill>
          <a:blip r:embed="rId3"/>
          <a:srcRect l="5892" t="6211" r="5046" b="7032"/>
          <a:stretch/>
        </p:blipFill>
        <p:spPr>
          <a:xfrm>
            <a:off x="334800" y="3357720"/>
            <a:ext cx="1511640" cy="14094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362160" y="47966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Conserve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12" descr="ParkinsonsFigure11"/>
          <p:cNvPicPr/>
          <p:nvPr/>
        </p:nvPicPr>
        <p:blipFill>
          <a:blip r:embed="rId4"/>
          <a:srcRect l="5936" t="6162" r="8014" b="7549"/>
          <a:stretch/>
        </p:blipFill>
        <p:spPr>
          <a:xfrm>
            <a:off x="334800" y="5157720"/>
            <a:ext cx="1511640" cy="1411200"/>
          </a:xfrm>
          <a:prstGeom prst="rect">
            <a:avLst/>
          </a:prstGeom>
          <a:ln w="0">
            <a:noFill/>
          </a:ln>
        </p:spPr>
      </p:pic>
      <p:sp>
        <p:nvSpPr>
          <p:cNvPr id="196" name="Line 13"/>
          <p:cNvSpPr/>
          <p:nvPr/>
        </p:nvSpPr>
        <p:spPr>
          <a:xfrm flipV="1">
            <a:off x="3995640" y="2060640"/>
            <a:ext cx="72072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3995640" y="2708280"/>
            <a:ext cx="720720" cy="151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15"/>
          <p:cNvSpPr/>
          <p:nvPr/>
        </p:nvSpPr>
        <p:spPr>
          <a:xfrm flipV="1">
            <a:off x="3995640" y="3355560"/>
            <a:ext cx="720720" cy="2737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3995640" y="6093000"/>
            <a:ext cx="720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1620720" y="148428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2331000" y="12675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提供原料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1652760" y="3213000"/>
            <a:ext cx="502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2362680" y="2996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模拟作用</a:t>
            </a:r>
            <a:r>
              <a:rPr b="1" lang="en-US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692360" y="501336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2402640" y="4796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楷体_GB2312"/>
              </a:rPr>
              <a:t>减缓代谢</a:t>
            </a:r>
            <a:r>
              <a:rPr b="1" lang="zh-CN" sz="2000" spc="-1" strike="noStrike">
                <a:solidFill>
                  <a:srgbClr val="1c1c1c"/>
                </a:solidFill>
                <a:latin typeface="Cooper Black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0E30-34B9-4504-9675-598C55A42F7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儿茶酚胺类神经递质酶促合成过程中的中间代谢产物，也是多巴胺递质的前体物质，由酪氨酸羟化酶催化左旋酪氨酸生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FC38-2B1C-4292-AE4E-949C2780EF5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1708560" y="3556080"/>
            <a:ext cx="33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何不能够直接使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进行治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40194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能透过血脑屏障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-do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神经递质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前体物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酪氨酸羟化酶催化左旋酪氨酸生成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能透过血脑屏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71520" y="1989000"/>
            <a:ext cx="84582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对大多数帕金森病患者具有显著疗效，起病初期用药疗效更为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据流行病学调查，与未服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L-dopa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的患者比较，服用者明显延长生命时间，提高生活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长期服药的效果有较大的个体差异。服药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年后，约半数病人失效，只有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5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％患者仍可获得良好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A02-0413-4CC5-A430-0B046861E0E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左旋多巴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Levodop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747000" y="1341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614C-85F1-4474-B4FE-BA4CAB0841A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909720" y="244332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930240" y="3954600"/>
            <a:ext cx="392040" cy="649080"/>
          </a:xfrm>
          <a:custGeom>
            <a:avLst/>
            <a:gdLst>
              <a:gd name="textAreaLeft" fmla="*/ 52560 w 392040"/>
              <a:gd name="textAreaRight" fmla="*/ 339480 w 392040"/>
              <a:gd name="textAreaTop" fmla="*/ 113400 h 649080"/>
              <a:gd name="textAreaBottom" fmla="*/ 47052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 rot="5400000">
            <a:off x="1000080" y="5049720"/>
            <a:ext cx="501840" cy="432000"/>
          </a:xfrm>
          <a:custGeom>
            <a:avLst/>
            <a:gdLst>
              <a:gd name="textAreaLeft" fmla="*/ 0 w 501840"/>
              <a:gd name="textAreaRight" fmla="*/ 430200 w 501840"/>
              <a:gd name="textAreaTop" fmla="*/ 28800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2797200" y="5157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吩噻嗪类抗精神病药引起的锥体外系症状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1371600" y="2773440"/>
            <a:ext cx="75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奏效慢，用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周后才出现体征的改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个月后才获得最大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1395360" y="37386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疗效受到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神经元和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DA</a:t>
            </a: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受体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1322280" y="4284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轻症及年轻患者疗效较好，而对重症及老年者患者效果较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418320" y="251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45972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2504520" y="22748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进入中枢神经系统的左旋多巴仅为用药量的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黑体"/>
              </a:rPr>
              <a:t>1%~3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21:23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