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C7CEB-E141-4C62-9F6A-39D6936996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22A77-4E5E-46E6-845C-1A7116A9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2C8FE-B160-4861-87C4-91771FAF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50FCD-1879-4FCE-954A-8FBE21AEF5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68027-93A1-4DA2-B713-508E5298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C5701-CF28-4F4B-9EFD-49089C53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2806A-39E2-476C-81AD-342D9AD5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6F1A3-9A75-4EA4-A242-120BA9DB0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004E3-A35C-424E-AB9C-65820EE9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9EEF9-1C0E-4117-92E4-01EBAABD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212AB-5029-4B7B-8345-C4F33ED7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6D88B-5C3A-452C-98CD-D1B8AD9F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8035-65F8-403F-957E-122759D5F73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十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枢神经兴奋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9125-B008-420A-A020-6DE47AE19AD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不良反应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恶心、头痛或失眠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量的征象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惊扰、耳鸣、眼花并出现盲点或闪烁光、肌肉震颤、心率增快并有早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致死量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3064-CBD4-45B7-84A2-6C3BB3BBCBA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禁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性溃疡患者和偏瘫型、眼肌麻痹型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B02D-E24E-4EA6-82DA-1AF06811B9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使血中游离脂肪酸增多、血糖升高及儿茶酚胺升高，因此高血压、冠心病、糖尿病患者慎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异烟肼和甲丙氨酯合用，应注意咖啡因的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可增加胃酸分泌，加重胃溃疡，溃疡患者禁用。孕妇、哺乳期妇女及冠心病、肝肾功能不全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404D-6D96-4083-BAD0-80E1EDEF742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2640" y="259920"/>
            <a:ext cx="6021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哌醋甲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ethylphenid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利他林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ita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。其特点其精神兴奋作用较强，能活跃情绪、减轻疲乏、消除睡意，较大剂量可致惊厥。临床主要用于中枢神经系统抑制药中毒引起的昏睡和呼吸抑制；用于治疗小儿多动症；也可治疗困倦、嗜睡和小儿遗尿症等。本药在治疗量时，不良反应较少，大剂量可致血压升高、头痛、眩晕，甚至惊厥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ACE8-689F-4C40-8968-FF6775D0B2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其他主要兴奋大脑皮质的药物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氯酚酯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eclofenoxa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氯酯醒或遗尿丁，为人工合成品。主要兴奋大脑皮质，促进脑细胞代谢，增加对碳水化合物的利用，对中枢抑制状态有兴奋作用。临床主要用于脑外伤性昏迷、脑动脉硬化及中毒所致意识障碍、儿童精神迟钝、老年性精神病、小儿遗尿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D66D-502D-4576-93A7-E7888ECBD1F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尼可刹米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kethamid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可拉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rami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为人工合成品，本药直接兴奋延髓呼吸中枢、反射性兴奋呼吸中枢，增加呼吸中枢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敏感性，在呼吸抑制时其兴奋作用更明显。本药作用温和、短暂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）、安全范围大、对大脑和脊髓的兴奋作用较弱，不易引起惊厥。临床主要用于传染病及中枢抑制药中毒引起的呼吸抑制，也可用于长期吸氧治疗和人工呼吸后促进自主呼吸功能的恢复，常需间歇多次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7DA7-BC1D-4835-B479-757A35B404F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主要兴奋延髓呼吸中枢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8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甲氟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mef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回苏林，为人工合成品，对呼吸中枢有较强的直接兴奋作用，作用迅速，其效力比尼可刹米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以上，可明显改善呼吸抑制状态，增加肺换气量。提高动脉血氧饱和度，降低血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。常用于严重感染和各种中枢抑制药中毒所致的呼吸抑制。本药过量易引起惊厥，小儿尤易发生，故有惊厥史、孕妇禁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熟悉：咖啡因、尼可刹米、山梗菜碱的不良反应和药疗监护须知。镇静催眠药的概念和分类；巴比妥类药物的作用特点。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其他中枢兴奋药的作用特点和临床应用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2D3A-D1BD-4963-BAFE-5573F098E2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圆角矩形 3"/>
          <p:cNvSpPr/>
          <p:nvPr/>
        </p:nvSpPr>
        <p:spPr>
          <a:xfrm>
            <a:off x="395280" y="1125360"/>
            <a:ext cx="8247240" cy="11512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王某，患者，男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咳、痰、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年，近日咳嗽加重，痰色呈黄咳不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，夜间咳喘不已，夜不能眠，白天嗜睡，由妻子陪同于上午入院就诊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250920" y="2421000"/>
            <a:ext cx="8713800" cy="2376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查体：体温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8.5℃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脉搏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18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呼吸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0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，血压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0/80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神志恍惚，口唇发绀，球结膜水肿，颈静脉怒张，桶状胸，语颤减弱，双肺叩诊呈过清音，听诊双肺呼吸音减弱，散在湿啰音，剑下心搏明显，心律整齐，各瓣膜区无杂音。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WBC: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6.5×109/L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动脉血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5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65mmHg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。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初步诊断：慢性支气管炎急性发作、阻塞性肺气肿、急性右心衰、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II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度呼吸衰竭</a:t>
            </a:r>
            <a:r>
              <a:rPr b="1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,</a:t>
            </a:r>
            <a:r>
              <a:rPr b="1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予以抗炎、平喘、化痰、改善心功能、吸氧、呼吸兴奋药等对症处理。 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剪去单角的矩形 6"/>
          <p:cNvSpPr/>
          <p:nvPr/>
        </p:nvSpPr>
        <p:spPr>
          <a:xfrm>
            <a:off x="747720" y="4941720"/>
            <a:ext cx="8001000" cy="15116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针对患者动脉血血气分析，提示患者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II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度呼吸衰竭，如何用药？ 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i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i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作为患者责任护士，在用药过程中应注意的事项是什么？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2920" y="1915920"/>
            <a:ext cx="5545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924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1835280" y="3340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969920" y="342252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FBC0-F27B-4B80-922A-E33489D21C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枢兴奋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ntral stimulant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能提高中枢神经系统机能活动的药物。此类药物对中枢各部位均有不同程度的兴奋作用，其中大多数药物对呼吸中枢有直接和间接的兴奋作用。临床上主要用于中枢性呼吸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0200-0527-447E-A3D6-8EF22D60F9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概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7" descr="图15-1"/>
          <p:cNvPicPr/>
          <p:nvPr/>
        </p:nvPicPr>
        <p:blipFill>
          <a:blip r:embed="rId1"/>
          <a:stretch/>
        </p:blipFill>
        <p:spPr>
          <a:xfrm>
            <a:off x="2376360" y="1322280"/>
            <a:ext cx="6588360" cy="4942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812520" y="1438920"/>
            <a:ext cx="1355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为三大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1873-ED98-40FC-B0AE-913802A609D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药理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剂量可致精神兴奋、思维活跃、消除瞌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剂量可直接兴奋呼吸中枢和心血管中枢，使呼吸加深加快，血压升高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兴奋心脏、扩血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作用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气管和胆道平滑肌有舒张作用。增加肾小球滤过率，减少肾小管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重吸收产生利尿作用。这一作用茶碱为最强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FA90-FE43-40AC-A62B-2F81A39B902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3880" y="1412640"/>
            <a:ext cx="81248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抗中枢抑制状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溴化物合用使大脑皮质的兴奋、抑制过程恢复平衡，用于神经症。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头痛、偏头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于急性左心衰竭肺水肿的辅助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C6D6-EFE1-448C-91F0-B1452F70EC7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兴奋大脑皮质的药物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咖啡因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caffeine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内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咖啡因口服、注射和直肠给药均能吸收，脂溶性高，吸收后迅速到达中枢神经系统，主要在肝内代谢，其代谢产物经肾排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法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cc99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救中枢抑制：肌注或皮下注射苯甲酸钠咖啡因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可重复注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大脑皮质活动：口服咖溴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一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2:49:03Z</dcterms:modified>
  <cp:revision>1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