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EED-F04B-4111-8736-53498E4722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熟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药疗期间的护理须知（药疗监护内容）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了解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PMingLiU"/>
              </a:rPr>
              <a:t>护士在合理用药中的作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601-6983-4E61-A44F-AF7C4FC4A3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ABA-F4B8-4DCC-AE60-8C9985A4CA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33D-6D08-42FA-923C-923006FCB7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7331-4C5D-4411-A269-7963A8D130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D8711-3DE9-4839-88CF-2BD7FC55D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02E3-6ED3-4E57-97F5-E9F689A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52FF-0CDB-4587-BAC9-3F4D40B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3335-AB56-49C5-88C4-AB55736F7F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3F04-851A-4DC6-9293-5EE814C1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444F-1164-470E-AA0A-F01963BC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FEF0-09FB-4D1D-ACC0-C041DDCA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DC46-627F-44BB-8DD3-B6B4D42B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0924-FC8D-4CD3-9A07-0DAB37C8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58DF-F688-46B0-AD52-B25361F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16E9-FD57-493C-ADC5-EB6A580C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6B1D-B70D-4877-BA77-E5AAD9F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C1C-34CD-444B-B48D-330763B1B6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4920" y="2997000"/>
            <a:ext cx="5689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第四章    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</a:rPr>
              <a:t>影响药物作用的因素</a:t>
            </a:r>
            <a:endParaRPr b="1" lang="en-US" sz="4400" spc="-1" strike="noStrike">
              <a:solidFill>
                <a:srgbClr val="8ac8de"/>
              </a:solidFill>
              <a:latin typeface="华文新魏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3640" y="404640"/>
            <a:ext cx="57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48392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不同给药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途径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对药效产生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耐受性、精神依赖和成瘾性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药物不同剂型对药物吸收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机体方面对药效产生影响的因素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zh-TW" sz="2800" spc="-1" strike="noStrike">
                <a:solidFill>
                  <a:srgbClr val="046ca6"/>
                </a:solidFill>
                <a:latin typeface="华文新魏"/>
              </a:rPr>
              <a:t>护理老年患者用药的注意事项有哪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TW" sz="3200" spc="-1" strike="noStrike">
                <a:solidFill>
                  <a:srgbClr val="ffffff"/>
                </a:solidFill>
                <a:latin typeface="华文新魏"/>
              </a:rPr>
              <a:t>药物方面</a:t>
            </a:r>
            <a:endParaRPr b="1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1341360"/>
            <a:ext cx="7943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剂型：不同剂型影响药物吸收量和速率，从而影响药物作用快慢和强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药途径：不同给药途径能影响药效和起效快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相互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耐受性和依赖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44a7ca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机体方面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生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、营养状态、精神状态、遗传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病理状态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饮食对药物作用的影响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时间药理学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物节律对药物作用和体内过程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心理因素与用药关系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marL="298440" indent="-2984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</a:rPr>
              <a:t>老年人临床用药须知</a:t>
            </a:r>
            <a:endParaRPr b="1" lang="en-US" sz="3200" spc="-1" strike="noStrike">
              <a:solidFill>
                <a:srgbClr val="8ac8de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人用药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46200" indent="-2484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老年人用药的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圆角矩形 1"/>
          <p:cNvSpPr/>
          <p:nvPr/>
        </p:nvSpPr>
        <p:spPr>
          <a:xfrm>
            <a:off x="1835280" y="1341360"/>
            <a:ext cx="561636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口服给药时，下列那种剂型吸收最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片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溶液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丸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散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胶囊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圆角矩形 1"/>
          <p:cNvSpPr/>
          <p:nvPr/>
        </p:nvSpPr>
        <p:spPr>
          <a:xfrm>
            <a:off x="1332000" y="1341360"/>
            <a:ext cx="6985080" cy="518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连续使用镇痛药一段时间后停药，患者出现烦躁不安，流泪出汗，腹痛呕吐，此现象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戒断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耐药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反跳现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后遗效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课后习题</a:t>
            </a:r>
            <a:endParaRPr b="1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圆角矩形 1"/>
          <p:cNvSpPr/>
          <p:nvPr/>
        </p:nvSpPr>
        <p:spPr>
          <a:xfrm>
            <a:off x="1835280" y="1341360"/>
            <a:ext cx="6481800" cy="46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2f7ff"/>
              </a:gs>
              <a:gs pos="100000">
                <a:srgbClr val="f1fdff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肝功能不良患者在使用药物时，应适当采取下列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    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给药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增加药物剂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延长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．缩短给药间隔时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E.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减少给药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09:56:54Z</dcterms:modified>
  <cp:revision>99</cp:revision>
  <dc:subject/>
  <dc:title>内科护理学</dc:title>
</cp:coreProperties>
</file>