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9CF25-12F5-4F44-AE73-D79C5D20F7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1E2FB-CEC8-4DDF-A042-10873A3B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1F0C4-A21D-4E9D-9DCF-036EE1F5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F9793-4404-4F76-BE41-BB6D1B8B8E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D4332-3FC1-4B74-8988-91D32C95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EAD8D-BD5D-414A-8142-EB4FFB4C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115E0-EB99-4C6E-A8F8-0E3DF439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6C9CB-4AA1-4F8E-A4BB-6A147114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41265-BF0F-46E7-AB79-3098D295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0F95A-DCCB-4417-8451-565C49B9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34937-66B4-4384-AB7D-86C14E6C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5495A-EF6A-4B04-AE88-95B06E5D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2710-932F-48CA-A200-98120764CF9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二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1763640" y="3500280"/>
            <a:ext cx="5832720" cy="2016360"/>
          </a:xfrm>
          <a:prstGeom prst="hexagon">
            <a:avLst>
              <a:gd name="adj" fmla="val 15709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生物碱类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圆角矩形 3"/>
          <p:cNvSpPr/>
          <p:nvPr/>
        </p:nvSpPr>
        <p:spPr>
          <a:xfrm>
            <a:off x="466560" y="1341360"/>
            <a:ext cx="8280720" cy="3456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一月前心前区疼痛数次，自行含服硝酸甘油缓解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前夜间突然剧烈咳嗽、胸闷、气促、咳少许粉红色泡沫样痰，入院治疗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1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P140/9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查体见气喘貌、口唇无发绀、颈静脉怒张、肝颈静脉回流征阳性，两肺闻及湿罗音。诊断为心源性哮喘。入院后持续持续吸氧，给予呋塞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推；哌替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0 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注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葡萄糖溶液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ml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硝酸甘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mg 5ml/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泵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250920" y="52088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问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用药后呼吸、血压可能发生什么变化？ 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应用哌替啶治疗心源性哮喘的机制是什么？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48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吗啡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morph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吗啡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提取自阿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iu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是阿片中所含主要生物碱（含量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6227640" y="3284640"/>
            <a:ext cx="2568600" cy="3071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用于中枢神经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）镇痛和镇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对各种疼痛都有效，对慢性钝痛的效力大于锐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吗啡还有明显镇静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一次给药，镇痛作用可持续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在镇痛的同时可出现欣快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呼吸抑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作用于呼吸中枢的阿片受体，可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产生强大而持久的呼吸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的吗啡即可抑制呼吸，使呼吸频率减慢、潮气量降低，随剂量增大，呼吸抑制作用增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中毒时呼吸频率可减慢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最终导致呼吸停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防止胎儿窒息，吗啡不能用于分娩止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心血管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吗啡对心率及节律无明显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中枢交感胺张力，外周小动脉扩张。其降压作用是由于降压作用也与吗啡促进组胺释放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周血管扩张，可引起直立性低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抑制呼吸，使体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蓄积，导致脑血管扩张而使颅内压增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于平滑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兴奋胃肠平滑肌，提高肌张力，减缓推进性蠕动，引起便秘，用于止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收缩胆道奥狄括约肌，胆道排空受阻，导致上腹部不适甚至引起胆绞痛。胆绞痛时合用阿托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也能提高膀胱括约肌张力导致尿潴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大剂量吗啡能收缩支气管平滑肌，诱发或加重哮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吗啡能降低机体免疫功能，长期滥用吗啡易患感染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对各种疼痛都有效，但久有易成瘾，所以除癌症剧痛可长期应用外，一般仅短期用于其他镇痛药无效时的急性锐痛如严重创伤、烧伤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心肌梗死引起的剧痛，如果血压正常，可用吗啡止痛；由于吗啡也有镇静及扩张血管作用，可减轻患者的焦虑情绪及心脏负担，更有利于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用于内脏绞痛时需与阿托品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源性哮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扩张外周血管，降低外周阻力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镇静作用有利于消除患者的焦虑恐惧情绪；因而可减轻心脏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吗啡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敏感性，使急促、浅表的呼吸得以缓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但对于休克、昏迷及严重肺功能不全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止泻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急、慢性消耗性腹泻以减轻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选用阿片酊或复方樟脑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为细菌感染，应同时服用抗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43280" y="1484280"/>
            <a:ext cx="39592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药物分类和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生物碱类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人工合成镇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阿片受体拮抗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麻醉性镇痛药护理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908000" y="1773360"/>
            <a:ext cx="688680" cy="632880"/>
            <a:chOff x="1908000" y="1773360"/>
            <a:chExt cx="688680" cy="632880"/>
          </a:xfrm>
        </p:grpSpPr>
        <p:sp>
          <p:nvSpPr>
            <p:cNvPr id="108" name="AutoShape 5"/>
            <p:cNvSpPr/>
            <p:nvPr/>
          </p:nvSpPr>
          <p:spPr>
            <a:xfrm>
              <a:off x="1913400" y="178380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908000" y="1773360"/>
              <a:ext cx="683280" cy="622440"/>
            </a:xfrm>
            <a:prstGeom prst="hexagon">
              <a:avLst>
                <a:gd name="adj" fmla="val 2744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947960" y="1810800"/>
              <a:ext cx="600480" cy="547560"/>
            </a:xfrm>
            <a:prstGeom prst="hexagon">
              <a:avLst>
                <a:gd name="adj" fmla="val 2741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2050920" y="1917720"/>
            <a:ext cx="33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908000" y="2494080"/>
            <a:ext cx="687600" cy="633240"/>
          </a:xfrm>
          <a:prstGeom prst="hexagon">
            <a:avLst>
              <a:gd name="adj" fmla="val 27146"/>
              <a:gd name="vf" fmla="val 115470"/>
            </a:avLst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81080" y="31114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908000" y="3286080"/>
            <a:ext cx="687240" cy="631440"/>
            <a:chOff x="1908000" y="3286080"/>
            <a:chExt cx="687240" cy="631440"/>
          </a:xfrm>
        </p:grpSpPr>
        <p:sp>
          <p:nvSpPr>
            <p:cNvPr id="115" name="AutoShape 12"/>
            <p:cNvSpPr/>
            <p:nvPr/>
          </p:nvSpPr>
          <p:spPr>
            <a:xfrm>
              <a:off x="1913400" y="329652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908000" y="3286080"/>
              <a:ext cx="681840" cy="621000"/>
            </a:xfrm>
            <a:prstGeom prst="hexagon">
              <a:avLst>
                <a:gd name="adj" fmla="val 27449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947960" y="3323520"/>
              <a:ext cx="599400" cy="546120"/>
            </a:xfrm>
            <a:prstGeom prst="hexagon">
              <a:avLst>
                <a:gd name="adj" fmla="val 2743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81080" y="3889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908000" y="4076640"/>
            <a:ext cx="679680" cy="633600"/>
          </a:xfrm>
          <a:prstGeom prst="hexagon">
            <a:avLst>
              <a:gd name="adj" fmla="val 2681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124000" y="4149720"/>
            <a:ext cx="266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70036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70036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700360" y="378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627280" y="451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908000" y="4870440"/>
            <a:ext cx="679680" cy="631800"/>
          </a:xfrm>
          <a:prstGeom prst="hexagon">
            <a:avLst>
              <a:gd name="adj" fmla="val 26895"/>
              <a:gd name="vf" fmla="val 115470"/>
            </a:avLst>
          </a:prstGeom>
          <a:solidFill>
            <a:srgbClr val="9da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1"/>
          <p:cNvSpPr/>
          <p:nvPr/>
        </p:nvSpPr>
        <p:spPr>
          <a:xfrm>
            <a:off x="2700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124000" y="3429000"/>
            <a:ext cx="3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体内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收：胃肠给药，首过消除大，生物利用度低。皮  下、肌内注射吸收好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浆蛋白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布：肾、肺、肝脾和肌肉等部位。可透过胎盘，小量进入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代谢：肝。主要与葡萄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排泄：大部分肾排泄，少量乳汁和胆汁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禁用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1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四）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反应  治疗量可引起恶心、呕吐、便秘、排尿困难、呼吸抑制、胆绞痛、嗜睡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和成瘾性  吗啡易产生耐受性，与其他镇痛药交替使用可延缓耐受性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连续反复多次应用易成瘾，停药后出现戒断症状，表现为烦躁不安、失眠、流泪、流涕、盗汗、震颤、呕吐、腹泻，甚至虚脱、意识丧失等。成瘾后患者常不择手段获取吗啡，危害极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五）药疗监护须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要密切关察患者是否已经对吗啡呈现耐受性和成瘾性，并及早发现中毒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对吗啡敏感性、个体差异较大。要避免短时间反复应用导致蓄积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硬膜外和鞘内注射吗啡时，应严密监测呼吸和循环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吩噻嗪类药、镇静催眠药、三环类抗抑郁药、抗组胺药、全身麻醉药、哌替啶、可待因、美沙酮、芬太尼等合用时需减量。停用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才可应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妊娠期反复应用可造成胎儿药物依赖，新生儿出生后立即出现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六）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用于分娩止痛及哺乳妇女止痛。支气管哮喘、慢性阻塞性肺疾病及肺源性心脏病失代偿者禁用。颅内压增高患者、消化道和泌尿道阻塞性疾病、肝功能严重减退患者禁用吗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片生物碱类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可待因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code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待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de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甲基吗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吗啡相似，但强度较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中等程度的疼痛和剧烈干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三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619280" y="3573360"/>
            <a:ext cx="6192720" cy="2016360"/>
          </a:xfrm>
          <a:prstGeom prst="hexagon">
            <a:avLst>
              <a:gd name="adj" fmla="val 19252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人工合成镇痛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人工合成镇痛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哌替啶（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pethidine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又称：杜冷丁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olant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苯基哌啶的衍生物。是目前常用的人工合成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镇静、镇痛作用比吗啡弱，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；持效时间较短，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也可产生轻度欣快感，反复使用也容易产生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治疗剂量时可产生呼吸抑制作用，其程度与等效镇痛剂量的吗啡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兴奋延髓化学感受器的触发点，并增强前庭器官的敏感性产生催吐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咳作用很弱，无实际意义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4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）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周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哌替啶对心肌、血压一般无明显影响，但有时可因外周血管扩张和组胺释放而致血压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使颅内压升高，还可产生直立性低血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具有平滑肌兴奋作用，但较弱而且短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很少引起便秘或尿潴留。对妊娠末期子宫，不对抗催产素收缩子宫的作用，故不改变子宫的节律性收缩，也不延缓产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64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  用于创伤性剧痛、手术后疼痛，晚期癌症疼痛。但对慢性钝痛不宜使用，因有成瘾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前给药  可消除术前紧张、恐惧情绪，减少麻醉药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水肿和心源性哮喘  替代吗啡应用，效果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工冬眠  与氯丙嗪、异丙嗪等合用进行人工冬眠。其中氯丙嗪可增强哌替啶的镇痛、镇静和血管扩张作用，但也使后者呼吸抑制作用加强。对年老体弱、婴幼儿和呼吸功能不良者可不加哌替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吗啡、哌替啶的药理作用、临床应用、主要不良反应和药疗监护须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待因、喷他佐辛、芬太尼、纳洛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美沙酮的作用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1695-949E-42D2-90C2-74C98ED9E7C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量不良反应与吗啡相似，可引起恶心、呕吐、出汗、口干、眩晕、头痛、心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耐受性和成瘾性，但较吗啡轻。过量中毒时可致瞳孔散大、惊厥、幻觉、心动过速、血压下降、呼吸抑制、昏迷等。偶尔可先出现阿托品样中毒症状，瞳孔扩大、心动过速、兴奋、谵妄，甚至惊厥，然后转入抑制。中毒出现的兴奋、惊厥等症状，拮抗剂纳洛酮可使其症状加重，此时只能用地西泮或巴比妥类药物解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  <a:ea typeface="宋体"/>
              </a:rPr>
              <a:t>禁忌证同吗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82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一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药理作用和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喷他佐辛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镇痛药，既可以激动阿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又有较弱的阻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等效剂量计算，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呼吸抑制作用约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瘾性比吗啡弱，几无欣快感，属非管制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心血管系统作用与吗啡不同，可加快心率、升高血压。对胃肠道平滑肌的作用与吗啡相似，升高胆道压力的作用较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慢性疼痛，也可用手术前或麻前给药辅助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喷他佐辛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pentazoci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不良反应和禁忌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不良反应有嗜睡、眩晕、恶心。口服后可引起胃肠道不适、厌食、呕吐。静脉注射大剂量时罕见癫痫大发作样惊厥。可产生耐受性和依赖性，尤其在非胃肠给药时。反复使用也可产生依赖性，戒断症状较吗啡轻，但与吗啡合用可加重其戒断症状。因可能增加心脏负荷，故不适用于心肌梗死患者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芬太尼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fentany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为强效麻醉性镇痛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镇痛作用快而短，但镇痛效力较吗啡强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芬太尼呼吸抑制作用弱于吗啡，但静脉注射过快则易抑制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成瘾性。不促进组胺释放、对心血管功能影响小。纳洛酮等能拮抗本品的呼吸抑制和镇痛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各种剧痛和强化麻醉，与氟哌啶合用可产生神经阻滞镇痛，适用于外科小手术。不良反应与哌替啶相似，但成瘾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布托啡诺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butorphanol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属阿片受体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拮抗混合型镇痛药，主要激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有弱的阻断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与喷他佐辛相似。其镇痛效力为吗啡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平滑肌的兴奋作用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缓解中重度疼痛，如术后、外伤、癌症、肾或胆绞痛等。也可用于产前疼痛或麻前给药。可增加肺动脉压、肺血管阻力、全身的动脉压和心脏的的负荷，因而不能用于治疗心肌梗死的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人工合成镇痛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美沙酮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(methadon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美沙酮属人工合成阿片受体激动药。其镇痛作用、持续时间与吗啡相当，镇静作用较弱，对平滑肌有兴奋作用，可致便秘，但较吗啡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受性、成瘾性产生较慢，戒断症状略轻，适用于创伤、手术及晚期癌症剧痛，也可作为戒除吗啡成瘾瘾的替代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四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1403280" y="3573360"/>
            <a:ext cx="6624720" cy="1511280"/>
          </a:xfrm>
          <a:prstGeom prst="hexagon">
            <a:avLst>
              <a:gd name="adj" fmla="val 21390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阿片受体拮抗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阿片受体拮抗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洛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o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洛酮化学结构与吗啡类似，对阿片受体亲和力强于吗啡。对各亚型阿片受体的拮抗作用强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μ&gt;κ&gt;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8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即可迅速翻转吗啡的作用，消除呼吸抑制并使血压回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尚有抗休克作用，不产生吗啡样的依赖性、戒断症状和呼吸抑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吗啡类药物的急性中毒及酒精急性中毒的抢救。也可用于阿片类药物成瘾者的鉴别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阿片受体拮抗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纳曲酮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naltrexone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纳曲酮作用与纳洛酮相似，但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拮抗作用强于纳洛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与纳洛酮相同。也能阻断再吸毒品时的效应，在防复吸中起到良好的辅助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有效，而且作用维持时间较长。不产生躯体或精神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五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1476360" y="3357720"/>
            <a:ext cx="6480360" cy="1655640"/>
          </a:xfrm>
          <a:prstGeom prst="hexagon">
            <a:avLst>
              <a:gd name="adj" fmla="val 14551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麻醉性镇痛药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4427640" y="333360"/>
            <a:ext cx="45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麻醉性镇痛药护理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3"/>
          <p:cNvSpPr/>
          <p:nvPr/>
        </p:nvSpPr>
        <p:spPr>
          <a:xfrm>
            <a:off x="468360" y="1125360"/>
            <a:ext cx="7858080" cy="2664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由于吞咽困难入院检查，确诊为食管癌。手术方案采用根治性食道癌切除及食道重建术。术后采用患者自控镇痛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tient controlled analgesi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，经静脉在连续输注一定预设浓度的药物基础上，患者感到疼痛时可自行增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单次剂量。这种镇痛方式镇痛效果确切，有利于减少术后并发症。尿潴留等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剪去单角的矩形 6"/>
          <p:cNvSpPr/>
          <p:nvPr/>
        </p:nvSpPr>
        <p:spPr>
          <a:xfrm>
            <a:off x="539640" y="3860640"/>
            <a:ext cx="8001000" cy="172908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可选用吗啡，单次剂量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0mg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锁定时间间隔为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5min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即在锁定时间间隔内，无论按多少次启动键只能给药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次）。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PCA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治疗中应密切观察患者神志、呼吸、血压、心率及镇痛效果等，并注意有无恶心、呕吐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9280" y="573444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问：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的药物输注时为何需要设置合适的锁定时间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CA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治疗中为何需要密切注意观察患者的相应反应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于麻醉性镇痛药应严格按国家颁布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药品管理条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和管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需要特殊处方，麻醉药品（如吗啡、哌替啶、可待因、芬太尼等）、第一类精神药品（如复方樟脑酊、丁丙诺非等）注射剂处方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控缓释制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第二类精神药品（如喷他佐辛、地佐辛）处方一般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对于某些特殊情况，处方用量可适当延长，但医师应当注明理由。为癌痛、慢性中、重度非癌痛患者开具的麻醉药品、第一类精神药品注射剂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；其他剂型处方不得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护理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过程要加强对用药知识的宣教，留意观察患者的耐受性和成瘾性的发生，及时报告给医生调整用药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类药物过量易中毒，要注意观察早期的中毒反应，如呼吸抑制、瞳孔缩小、烦躁不安或嗜睡不醒等。一旦出现异常症状要及时予以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次给药前应测量呼吸次数，如呼吸次数少于每分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应考虑立即给予辅助呼吸，并通知医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章后练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复习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试述吗啡的药理作用、作用机理、临床应用及主要的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或哌替啶治疗心源性哮喘的机制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吗啡急性中毒的特征是什么？如何解救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列表比较常用镇痛药的作用特点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简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麻醉性镇痛药（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narcotic analgesic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一类作用于中枢神经系统，选择性地消除或缓解疼痛，在镇痛的同时意识清醒、其他感觉也不受影响的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易于成瘾导致药物滥用，临床必须严格管理、合理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1562040" y="2001960"/>
            <a:ext cx="5891400" cy="430200"/>
          </a:xfrm>
          <a:custGeom>
            <a:avLst/>
            <a:gdLst>
              <a:gd name="textAreaLeft" fmla="*/ 50400 w 5891400"/>
              <a:gd name="textAreaRight" fmla="*/ 5841000 w 5891400"/>
              <a:gd name="textAreaTop" fmla="*/ 50400 h 430200"/>
              <a:gd name="textAreaBottom" fmla="*/ 379800 h 430200"/>
            </a:gdLst>
            <a:ahLst/>
            <a:rect l="textAreaLeft" t="textAreaTop" r="textAreaRight" b="textAreaBottom"/>
            <a:pathLst>
              <a:path w="29557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91973" y="21600"/>
                </a:lnTo>
                <a:arcTo wR="3600" hR="3600" stAng="10800000" swAng="5400000"/>
                <a:lnTo>
                  <a:pt x="295573" y="3600"/>
                </a:lnTo>
                <a:arcTo wR="3600" hR="3600" stAng="5400000" swAng="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2124000" y="1557360"/>
            <a:ext cx="5184720" cy="1224000"/>
          </a:xfrm>
          <a:custGeom>
            <a:avLst/>
            <a:gdLst>
              <a:gd name="textAreaLeft" fmla="*/ 144000 w 5184720"/>
              <a:gd name="textAreaRight" fmla="*/ 5040720 w 5184720"/>
              <a:gd name="textAreaTop" fmla="*/ 144000 h 1224000"/>
              <a:gd name="textAreaBottom" fmla="*/ 1080000 h 1224000"/>
            </a:gdLst>
            <a:ahLst/>
            <a:rect l="textAreaLeft" t="textAreaTop" r="textAreaRight" b="textAreaBottom"/>
            <a:pathLst>
              <a:path w="9147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7875" y="21600"/>
                </a:lnTo>
                <a:arcTo wR="3600" hR="3600" stAng="10800000" swAng="5400000"/>
                <a:lnTo>
                  <a:pt x="9147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第一节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1187280" y="3500280"/>
            <a:ext cx="7272360" cy="2016360"/>
          </a:xfrm>
          <a:prstGeom prst="hexagon">
            <a:avLst>
              <a:gd name="adj" fmla="val 14293"/>
              <a:gd name="vf" fmla="val 11547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分类和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分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按照来源可以分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天然阿片类生物碱类（如吗啡及可待因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合成镇痛药（如哌替啶、喷他佐辛、芬太尼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作用机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通过激动阿片受体激活了脑内“抗痛系统”，阻断痛觉传导，产生中枢性镇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源性阿片肽大致分为三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啡肽，包括甲啡肽和亮啡肽。②内啡肽。③强啡肽和新啡肽。内源性阿片肽释放时，可以抑制感觉神经末梢释放兴奋性递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从而干扰痛觉冲动传入中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分类和作用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脑内存在有“抗痛系统”，它由阿片肽能神经元、内源性阿片肽及阿片受体共同组成。阿片受体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亚型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与吗啡类药物的亲和力较高，被激动后可产生镇静、镇痛、呼吸抑制和欣快感，也与成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不同亚型的阿片受体有些药物是激动药（如吗啡、哌替啶）；有些是拮抗药（如纳洛酮）；还有些药物是部分激动药或者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拮抗药（如喷他佐辛、烯丙吗啡、地佐辛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41:48Z</dcterms:modified>
  <cp:revision>6</cp:revision>
  <dc:subject/>
  <dc:title>麻醉性镇痛药</dc:title>
</cp:coreProperties>
</file>