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18346-C6A3-405F-A488-7D804E4D0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EEA9-8FE2-41E2-AE5F-91667CA5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C7F8-0E6A-43F4-8663-7D61CF15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5016-6421-43FC-8CB0-6536FEBAB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CFAD-ECB6-41DB-9DE5-713F55C9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A473-EB04-4A4F-B417-E0F3DD1E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2C90-DD9A-4914-A425-0242FF5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A0EE-95DA-48F4-A234-21747FC6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E96F-771E-4D12-97A4-10907D17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BF2-0189-43D3-A127-C003A25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123F-A108-4214-96FC-444B0771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FAF0-4406-4884-A452-F269C2D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3A3-C23E-4C46-874C-5C715FF1E6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76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治疗心律失常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组织分布快而广，能透过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脑屏障和胎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药物半衰期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纠正心律失常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3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50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一次，直至早搏消失或总量已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维持量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4mg/min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一般不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系统：嗜睡、感觉异常，过量可致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：低血压、心动过缓、心输出量下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局部麻醉药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预激综合征、严重心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窦房、房室及心室内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和儿童一般忌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询问有无过敏史，有无预激综合症或严重心脏传导阻滞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核对药物标签，应是“供心律失常用注射剂”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过程应监测心率、心律、血压、呼吸和心电图，并备有抢救设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过程中，观察患者的神志、感觉和四肢活动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肝药酶抑制剂合用易引起本药蓄积中毒；与肝药酶诱导剂合用，加速代谢，作用减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、心室和普氏纤维的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钾通道，影响复极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弱的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阻断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Ca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+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通道阻断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广谱抗心律失常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各种室上性期前收缩、室性期前收缩，难治性、致命性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良好，首过效应明显，生物利用度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~9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0~200mg   Q8~12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~1.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或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静注后，按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~40mg/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继续静脉滴注给药维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头痛、头晕、口唇麻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压、房室传导阻滞、窦房结抑制、加重心力衰竭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能加重支气管痉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心力衰竭、低血压、心脏传导阻滞及支气管哮喘患者忌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孕妇和哺乳期妇女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三）普罗帕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药有局麻作用，应嘱患者在餐中或餐后吞服，不得嚼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过程中应监测心率、心律、血压、心电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确定患者心功能状况，有无哮喘的病史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竞争性阻断心脏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，稳定细胞膜，减慢传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交感神经兴奋性增高相关的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体内容见高血压等章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乙胺碘呋酮、可达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物的代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快钠通道，减慢传导，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心房肌和浦肯野纤维传导速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非竞争性拮抗肾上腺素受体，扩张冠脉，降低心肌耗氧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早、室早；阵发性室上速；房扑、房颤；室性心动过速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预激伴室上速的发作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房扑、房颤电转复后的维持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给药用于治疗预激伴室上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42920" y="227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一节    抗心律失常药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脂溶性高，口服、静脉均可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物利用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5%~65%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开始起效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达最大作用效果，约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可达稳态血药浓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停药后作用可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~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：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用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~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~4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一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肺间质纤维化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0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下很少发生）为最严重心外毒性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头痛、失眠及周围神经损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药含有碘，抑制外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向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的转化，部分患者长期应用可致甲状腺功能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方面很少致心律失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便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胺碘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测肺功能和血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有感觉异常、震颤、皮肤及角膜上有色素沉积时应及时告诉医生。并嘱患者避免在日光下暴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特别是冠心病患者应注意观察患者的大便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监测患者的心电图和血压，肝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又称为异博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减慢房室结传导速度，终止房室结折返，减慢房扑、房颤时的快速性心室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窦房结自律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上性和房室结折返激动引起的心动过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吸收快速而完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首过效应明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给药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~120mg     Q6~8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静脉注射给药，负荷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内给完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重复给药一次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05mg/(kg•min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zh-CN" sz="2200" spc="-1" strike="noStrike">
                <a:solidFill>
                  <a:srgbClr val="046ca6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~100mg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较为安全，偶有消化道反应及头痛、头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过快可引起低血压、房室传导阻滞及心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低血压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严重心衰、心源性休克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老年人、肝肾功能不全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V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拉帕米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verapami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室温下避光保存，不可冷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，监测心率、心律、血压和心电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给药时，控制速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时，易引起地高辛中毒，故联合用药时，应适当减少地高辛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阻断药、奎尼丁、普鲁卡因胺等抑制心脏的药物合用，可加强负性肌力、负性频率和负性传导作用，甚至引起心脏停搏，不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心律失常药物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钠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奎尼丁、普鲁卡因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利多卡因、苯妥英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，普罗帕酮、莫雷西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受体阻断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普萘洛尔、美托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延长动作电位时程药（钾通道阻滞药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胺碘酮、索他洛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IV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类，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维拉帕米、地尔硫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二节   临床常用抗心律失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典型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形成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接抑制窦房结和房室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房性、室性早搏；阵发性室上性心动过速、房扑、房颤；危及生命的室性心律失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易吸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达血药浓度高峰，作用持续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半衰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负荷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Q6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；维持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   Q6~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或遵医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血管系统反应：低血压，窦性心动过缓甚至窦停搏、尖端扭转型室速等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金鸡纳反应：恶心、呕吐、腹泻、听力减退、视物模糊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反应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动脉栓塞：多见于房颤纠正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力衰竭、低血压、肝、肾功能不良的患者及老年人应慎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洋地黄中毒及高血钾症等禁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奎尼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监测患者的血压、心率、心律和心电图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缓慢改变体位，避免发生直立性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于餐中或餐后服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血钾会加重奎尼丁导致的尖端扭转型室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告知患者有发冷发热或身上有瘀斑、皮疹时，应及时报告医生处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与地高辛合用应减少地高辛用量；与普萘洛尔、维拉帕米、西米替丁合用时应减少本药剂量；与扩血管药或降压药合用时，可引起严重的低血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类抗心律失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利多卡因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idocain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IB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代表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消除折返激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各种室性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防治各种急性快速型室性心律失常的首选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于急性心肌梗死并发室性早搏或室性心动过速的患者，利多卡因为首选药物之一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室颤动复苏后防止复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3:06Z</dcterms:modified>
  <cp:revision>98</cp:revision>
  <dc:subject/>
  <dc:title>内科护理学</dc:title>
</cp:coreProperties>
</file>