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B710-EB48-4AA9-9D71-0A8BD10AE9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D951-581B-4CFE-94CC-6C624820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09E9-AAF8-438F-B3FB-A269161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AAF7-CE0D-4DED-831A-0F7DB4FF75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552D-C473-4752-82B0-1A9D5C8C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622A-F059-4ADD-BA82-DDF8EB46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C581-5D5F-4364-B99E-2B8F0391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C949-3F31-4562-9BC3-48EEA6DB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C55A-507B-4176-91D8-C00DD7C7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BF94-364D-4DFE-8CDC-578FB85C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03FC-BDDE-47E3-8299-A3E008BB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6051-A0C7-451B-802C-3DB783C7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3FB9-5D8B-4F9C-9794-29FF5E1A96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POP.WAV" TargetMode="External"/><Relationship Id="rId2" Type="http://schemas.openxmlformats.org/officeDocument/2006/relationships/hyperlink" Target="file:///tmp/home/.config/libreoffice/4/user/gallery/ENDPOP.WAV" TargetMode="External"/><Relationship Id="rId3" Type="http://schemas.openxmlformats.org/officeDocument/2006/relationships/hyperlink" Target="file:///tmp/home/.config/libreoffice/4/user/gallery/ENDPOP.WAV" TargetMode="External"/><Relationship Id="rId4" Type="http://schemas.openxmlformats.org/officeDocument/2006/relationships/hyperlink" Target="file:///tmp/home/.config/libreoffice/4/user/gallery/ENDPOP.WAV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二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抗菌药物概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细菌耐药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626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灭活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作用靶位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胞质膜通透性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外排系统功能增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代谢途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69840" y="1915920"/>
            <a:ext cx="5473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的常用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抗菌药物作用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细菌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1803240" y="378936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2556000" y="4365720"/>
            <a:ext cx="4176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6360" y="1371240"/>
            <a:ext cx="7439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常用术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抗菌药物的作用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悉细菌耐药性产生的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F9A-7D0B-422E-9FA7-50776B4FF9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9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微生物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antimicrobial drug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用于治疗病原微生物所致感染性疾病的药物，包括抗菌药、抗真菌药、抗病毒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药：抗微生物药、抗寄生虫药和抗恶性肿瘤药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学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chemotherap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对微生物或寄生虫感染及恶性肿瘤的药物治疗，简称化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332000" y="1120680"/>
            <a:ext cx="655164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B0D1-516E-4C1F-BE53-CD4D1A20FA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抗菌药物的常用术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iotic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谱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spectrum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抑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ostatic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杀菌药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bactericidal drugs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活性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antibacterial activity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生素后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ost antibiotic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PA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首次接触效应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first expose effect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化疗指数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hemotherapeutic index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C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以化疗药物的半数致死量和半数有效量的比值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来表示，化疗指数愈大，表明该药物的毒性越小，临床应用的价值越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914560" y="283860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细菌胞浆膜的通透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2592360" y="5445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871640" y="3890880"/>
            <a:ext cx="762120" cy="665280"/>
            <a:chOff x="1871640" y="3890880"/>
            <a:chExt cx="762120" cy="665280"/>
          </a:xfrm>
        </p:grpSpPr>
        <p:sp>
          <p:nvSpPr>
            <p:cNvPr id="131" name="AutoShape 5"/>
            <p:cNvSpPr/>
            <p:nvPr/>
          </p:nvSpPr>
          <p:spPr>
            <a:xfrm>
              <a:off x="1878120" y="3902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6"/>
            <p:cNvSpPr/>
            <p:nvPr/>
          </p:nvSpPr>
          <p:spPr>
            <a:xfrm>
              <a:off x="1871640" y="3890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7">
              <a:hlinkClick r:id="rId1"/>
            </p:cNvPr>
            <p:cNvSpPr/>
            <p:nvPr/>
          </p:nvSpPr>
          <p:spPr>
            <a:xfrm>
              <a:off x="1916280" y="393048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50000">
                  <a:srgbClr val="8ac8de"/>
                </a:gs>
                <a:gs pos="100000">
                  <a:srgbClr val="405d67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774960" y="2116080"/>
            <a:ext cx="21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592360" y="4437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197160" y="3916440"/>
            <a:ext cx="342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916360" y="1773360"/>
            <a:ext cx="35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细胞壁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第二节  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1908000" y="2852640"/>
            <a:ext cx="762120" cy="665280"/>
            <a:chOff x="1908000" y="2852640"/>
            <a:chExt cx="762120" cy="665280"/>
          </a:xfrm>
        </p:grpSpPr>
        <p:sp>
          <p:nvSpPr>
            <p:cNvPr id="140" name="AutoShape 15"/>
            <p:cNvSpPr/>
            <p:nvPr/>
          </p:nvSpPr>
          <p:spPr>
            <a:xfrm>
              <a:off x="1914480" y="28638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16"/>
            <p:cNvSpPr/>
            <p:nvPr/>
          </p:nvSpPr>
          <p:spPr>
            <a:xfrm>
              <a:off x="1908000" y="2852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7">
              <a:hlinkClick r:id="rId2"/>
            </p:cNvPr>
            <p:cNvSpPr/>
            <p:nvPr/>
          </p:nvSpPr>
          <p:spPr>
            <a:xfrm>
              <a:off x="1952640" y="2892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Line 18"/>
          <p:cNvSpPr/>
          <p:nvPr/>
        </p:nvSpPr>
        <p:spPr>
          <a:xfrm>
            <a:off x="2664000" y="2421000"/>
            <a:ext cx="4213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1908000" y="1827360"/>
            <a:ext cx="762120" cy="664560"/>
            <a:chOff x="1908000" y="1827360"/>
            <a:chExt cx="762120" cy="664560"/>
          </a:xfrm>
        </p:grpSpPr>
        <p:sp>
          <p:nvSpPr>
            <p:cNvPr id="145" name="AutoShape 20"/>
            <p:cNvSpPr/>
            <p:nvPr/>
          </p:nvSpPr>
          <p:spPr>
            <a:xfrm>
              <a:off x="1914480" y="1838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1"/>
            <p:cNvSpPr/>
            <p:nvPr/>
          </p:nvSpPr>
          <p:spPr>
            <a:xfrm>
              <a:off x="1908000" y="1827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2">
              <a:hlinkClick r:id="rId3"/>
            </p:cNvPr>
            <p:cNvSpPr/>
            <p:nvPr/>
          </p:nvSpPr>
          <p:spPr>
            <a:xfrm>
              <a:off x="1952640" y="186660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5e765e"/>
                </a:gs>
                <a:gs pos="5000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8" name="Line 23"/>
          <p:cNvSpPr/>
          <p:nvPr/>
        </p:nvSpPr>
        <p:spPr>
          <a:xfrm>
            <a:off x="2592360" y="3429000"/>
            <a:ext cx="42847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927520" y="386064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细菌蛋白质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2916360" y="484344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核酸及叶酸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27"/>
          <p:cNvGrpSpPr/>
          <p:nvPr/>
        </p:nvGrpSpPr>
        <p:grpSpPr>
          <a:xfrm>
            <a:off x="1938240" y="4869000"/>
            <a:ext cx="762120" cy="664560"/>
            <a:chOff x="1938240" y="4869000"/>
            <a:chExt cx="762120" cy="664560"/>
          </a:xfrm>
        </p:grpSpPr>
        <p:sp>
          <p:nvSpPr>
            <p:cNvPr id="152" name="AutoShape 28"/>
            <p:cNvSpPr/>
            <p:nvPr/>
          </p:nvSpPr>
          <p:spPr>
            <a:xfrm>
              <a:off x="1944720" y="487980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29"/>
            <p:cNvSpPr/>
            <p:nvPr/>
          </p:nvSpPr>
          <p:spPr>
            <a:xfrm>
              <a:off x="1938240" y="486900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30">
              <a:hlinkClick r:id="rId4"/>
            </p:cNvPr>
            <p:cNvSpPr/>
            <p:nvPr/>
          </p:nvSpPr>
          <p:spPr>
            <a:xfrm>
              <a:off x="1982880" y="4908240"/>
              <a:ext cx="663480" cy="574560"/>
            </a:xfrm>
            <a:prstGeom prst="hexagon">
              <a:avLst>
                <a:gd name="adj" fmla="val 28869"/>
                <a:gd name="vf" fmla="val 115470"/>
              </a:avLst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药物作用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84360" y="1162080"/>
            <a:ext cx="784836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细菌耐药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7480" y="1499760"/>
            <a:ext cx="759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cterial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 细菌对抗菌药不敏感的现象。可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固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insic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获得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quired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交叉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ross resistanc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重耐药性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ulti-drug resista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BEB2-ED01-46B8-906F-3E8372C609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26:29Z</dcterms:modified>
  <cp:revision>62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