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08A02-D7E5-4AA5-A673-E44AA110713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083CD-C9CC-4F06-B2D0-5FD2BD4FE97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5CAEA-E6B0-4A70-A9AE-42E9DA8E4F5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69CF2-76CC-477D-99A1-C0C24CA1C64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EFC0B-AEE0-4C20-AB7A-A68AB6CBCA1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C0B89-C05C-49DA-BD73-C0D7D0C067E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6DF89-7466-4278-BCAC-439D28B4A37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91560-7866-4ABB-AC10-3A64A997CC7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1FC00-530F-44E8-AEB5-2A6E20510AB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2E4FF-48AB-4EDA-8951-05938F36A78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8489F-E644-43F2-B510-D3D8663906D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E1CF2-3101-41CB-8851-2C63385107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790D2-9681-4732-BBD8-B3CF808A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9FA80-BF18-4AEA-9ED9-EAC0BEA3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20503-34AD-424A-9AFD-ECC633A067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A7BDA-CE8D-4574-9571-4C234533D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4A100-6082-4949-9084-F5F0759C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EFDA4-F72F-4811-AFC5-C6D520802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B4DB8-9C3A-41D4-83D2-EDFD04716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558BF-B975-4BBA-B5B6-4782D313E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AB5EA-141E-49EE-8E9C-DE9435B16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B17E0-A2D3-4162-9E9E-A35513378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71F3F-21B6-4BBC-9CA7-9DDE62FA2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D5B69-953D-4023-9A53-1388BEF596B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</a:rPr>
              <a:t>第十八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华文新魏"/>
              </a:rPr>
              <a:t>治疗心绞痛药物</a:t>
            </a:r>
            <a:endParaRPr b="1" lang="en-US" sz="4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常见不良反应多因血管扩张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如颈部和面部皮肤潮红、搏动性头痛及眼内压增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及青光眼患者禁用本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大剂量可引起高铁血红蛋白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硝酸甘油连续应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~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易产生耐受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口服药物使用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服药前应告诉患者可能出现搏动性头痛及面颈部皮肤潮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发作时应取坐位或半卧位用药，将药片放于舌下含服，不可吞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含服一片硝酸甘油后心绞痛未能缓解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后可再用一次，紧急时可用牙齿咬碎使药物尽快溶化。连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片不能缓解应立即就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口服药物使用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药物的保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应放置患者和家属都知道的地方，以备急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储存在棕褐色的密闭的小玻璃瓶中，防止受潮受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存期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，失效药物不宜再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289160"/>
            <a:ext cx="8610480" cy="53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外用药物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要保证皮肤清洁、干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膏药应帖敷于躯干、前胸、上腹部或上肢干燥无毛发处，勿贴于皮肤皱折，关节及瘢痕部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软膏用药棒（棉签）均匀涂在专用的药用纸上，每次涂抹的范围大小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每次用药前将皮肤表面残存的药物清理干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要按摩敷药局部，经常变换用药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052280"/>
            <a:ext cx="86104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静脉滴注硝酸甘油注意事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前及用药中应监测血压、脉搏和面部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掌握好给药速度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~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用现配，分次少量配制液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液瓶和莫非管要用玻璃容器或特殊胶管须用黑布或黑纸包裹，药液要避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外出时随身携带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告诉患者有关冠心病的自我护理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硝酸异山梨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属长效硝酸酯类，作用较弱，用于预防和缓解心绞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舌下含化起效较硝酸甘油稍慢，但维持时间较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须注意患者对硝酸异山梨酯个体反应差异较大，一些患者更容易发生体位性低血压等不良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单硝酸异山梨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硝酸异山梨酯的活性代谢产物，口服经胃肠道迅速吸收，生物利用度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作用与硝酸异山梨酯相同，用于防治心绞痛的发作及心肌梗死后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初期可出现血压降低，偶见头痛、心悸、头晕等不良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药理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降低心肌耗氧量：阻断心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１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，使心率减慢，心肌收缩力减弱，血压降低等，降低心肌耗氧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改善缺血区心肌的供血供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改善心肌代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临床应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稳定型及不稳定型心绞痛，减少发作次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硝酸酯类不敏感或疗效差的稳定型心绞痛有效，伴有高血压、心率快或心律失常者更适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变异型心绞痛无效或甚至使症状加重，病情恶化，可能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被阻断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α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活性相对增高，致外周血管和冠状动脉收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三）体内过程和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首关效应明显，生物利用度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个体差异大，</a:t>
            </a:r>
            <a:r>
              <a:rPr b="0" i="1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/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约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h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起效慢，口服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~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才出现降压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因个体差异大，应从小剂量开始，根据病情增减剂量，以达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抗心肌缺血的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1557000"/>
            <a:ext cx="830448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掌握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硝酸甘油、普萘洛尔治疗心绞痛的药理作用、临床应用、不良反应和药疗监护须知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两类药物合用的药理学基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熟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硝酸异山梨酯、钙拮抗剂的作用及作用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心绞痛药物的分类及主要代表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四）不良反应和禁忌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见的不良反应为消化道症状如恶心、呕吐或轻度腹泻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动过缓、房室传导阻滞、心功能不全患者慎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支气管哮喘患者禁用非选择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，慎用美托洛尔等选择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五）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长期服用此药者不能随意骤然停药、漏服，必须于停药前两周内逐渐减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用药过程中监测心率、血压和心电图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因食物能延缓普萘洛尔吸收，故应在饭前服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服用本药应戒烟，以免降低药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阿替洛尔（氨酰心安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美托洛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两药均为选择性心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断剂，作用与普萘洛尔相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血管及支气管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影响小，但较大剂量时对血管及支气管平滑肌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也有作用，有哮喘的患者仍应慎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95280" y="1196640"/>
            <a:ext cx="86104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富马酸比索洛尔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华文新魏"/>
              </a:rPr>
              <a:t>bisoprolol fumarate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选择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在治疗剂量范围内，没有明显的膜稳定作用或内在拟交感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肝肾功能不全的患者，使用初始剂量要减低，在剂量递增时要谨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呼吸道反应以及糖脂代谢的影响较美托洛尔小，但在大剂量使用时，由于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的作用增强，应特别加强监测呼吸道症状和心率、血压，定期检查血糖、血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药理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降低心肌耗氧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扩张冠状动脉，改善缺血区供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保护缺血心肌细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抑制血小板聚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临床应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心绞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急性心肌梗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38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三）体内过程和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吸收良好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起效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达最大效应，作用维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~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部分经肝代谢，由尿排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，急用时可舌下含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咽部喷药；缓释片拜心痛；控释片拜心同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mg,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；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四）不良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常见不良反应与其扩张血管作用相关，表现为颜面潮红、头痛、反射性心率加快等。严重者可出现低血压、外周组织水肿，以踝、足、小腿水肿较多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胃肠功能紊乱可引起恶心、腹胀或便秘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血压过度降低可导致脑组织或心肌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偶可发生过敏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五）药疗监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监测血压和心率，控制好剂量和给药时间，以防血压过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本药的缓释或控释剂型应整片服用，指导患者勿掰开或嚼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服药期间不要饮用含酒精的饮料，以防发生眩晕及低血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用药期间应注意保持口腔卫生，以降低牙龈增生发生率及严重程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维拉帕米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华文新魏"/>
              </a:rPr>
              <a:t> 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华文新魏"/>
              </a:rPr>
              <a:t>verapamil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二氢吡啶类钙通道阻滞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用于兼有冠心病、高血压的心律失常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良反应及禁忌证与硝苯地平相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功能不全者禁用。洋地黄中毒时，绝对禁用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合用，易引起低血压、心动过缓、传导阻滞，甚至停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地尔硫䓬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华文新魏"/>
              </a:rPr>
              <a:t>diltiazem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苯噻氮䓬类钙拮抗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接减慢心率的作用较强，可减轻心脏工作负荷及减少心肌耗氧量，解除冠脉痉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良反应和禁忌证与硝苯地平类同，其发生率较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地尔硫䓬和维拉帕米的患者心率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时，应警惕可能发生心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心绞痛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由于冠状动脉供血不足，心肌急剧并暂时性地缺血和缺氧所引起的临床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治疗心绞痛药物达到治疗目的主要通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心肌耗氧量或扩张冠脉增加心肌供血供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临床上常用抗心绞痛药物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硝酸酯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断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钙拮抗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圆角矩形 1"/>
          <p:cNvSpPr/>
          <p:nvPr/>
        </p:nvSpPr>
        <p:spPr>
          <a:xfrm>
            <a:off x="1835280" y="162864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不具有的作用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率加快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室壁肌张力增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扩张小静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回心血量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降低心肌耗氧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圆角矩形 1"/>
          <p:cNvSpPr/>
          <p:nvPr/>
        </p:nvSpPr>
        <p:spPr>
          <a:xfrm>
            <a:off x="1835280" y="162864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变异性心绞痛不宜选用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地尔硫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异山梨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维拉帕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圆角矩形 1"/>
          <p:cNvSpPr/>
          <p:nvPr/>
        </p:nvSpPr>
        <p:spPr>
          <a:xfrm>
            <a:off x="1835280" y="162864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易引起耐受性的抗心绞痛药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维拉帕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地尔硫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圆角矩形 1"/>
          <p:cNvSpPr/>
          <p:nvPr/>
        </p:nvSpPr>
        <p:spPr>
          <a:xfrm>
            <a:off x="1835280" y="162864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强心苷中毒最常见的不良反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电图出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Q-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间期缩短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头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房室传导阻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恶心、呕吐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低血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圆角矩形 1"/>
          <p:cNvSpPr/>
          <p:nvPr/>
        </p:nvSpPr>
        <p:spPr>
          <a:xfrm>
            <a:off x="468360" y="1413000"/>
            <a:ext cx="8280360" cy="48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患有高血压多年。近期常于休息时感心前区憋闷，诊为变异型心绞痛者，该患者治疗心绞痛宜选用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美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戊四硝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圆角矩形 1"/>
          <p:cNvSpPr/>
          <p:nvPr/>
        </p:nvSpPr>
        <p:spPr>
          <a:xfrm>
            <a:off x="826920" y="1628640"/>
            <a:ext cx="763272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女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近期诊断为心绞痛，该患者伴有青光眼，则心绞痛治疗不宜选用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地尔硫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美托洛尔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维拉帕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圆角矩形 1"/>
          <p:cNvSpPr/>
          <p:nvPr/>
        </p:nvSpPr>
        <p:spPr>
          <a:xfrm>
            <a:off x="1857240" y="1628640"/>
            <a:ext cx="561672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首过效应大，不宜口服的抗心绞痛药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美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地尔硫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圆角矩形 1"/>
          <p:cNvSpPr/>
          <p:nvPr/>
        </p:nvSpPr>
        <p:spPr>
          <a:xfrm>
            <a:off x="611280" y="1628640"/>
            <a:ext cx="792144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7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近期明确诊断为稳定型心绞痛。为迅速缓解心绞痛， 患者应随身携带的药物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消心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美托洛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26792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圆角矩形 1"/>
          <p:cNvSpPr/>
          <p:nvPr/>
        </p:nvSpPr>
        <p:spPr>
          <a:xfrm>
            <a:off x="539640" y="1268280"/>
            <a:ext cx="8280360" cy="518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f2ff"/>
              </a:gs>
              <a:gs pos="100000">
                <a:srgbClr val="e8fcff"/>
              </a:gs>
            </a:gsLst>
            <a:lin ang="16200000"/>
          </a:gradFill>
          <a:ln w="9360">
            <a:solidFill>
              <a:srgbClr val="85c4d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4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建筑工人。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发作性心前区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余天，再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急诊入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天前骑车上班途中，突感胸痛，并向左肩部放射，持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~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钟，此后间断发作数次，未予诊治。一天前，工作中再次出现上述症状，含服硝酸甘油后胸痛逐渐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钟内缓解。就诊当日晨，无明显诱因胸痛再次发作，遂来就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初步诊断为：冠状动脉粥样硬化性心脏病：心绞痛。医嘱予以：普蔡洛尔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 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ti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Po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；硝酸酸异山梨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ti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Po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圆角矩形 1"/>
          <p:cNvSpPr/>
          <p:nvPr/>
        </p:nvSpPr>
        <p:spPr>
          <a:xfrm>
            <a:off x="1116000" y="1989000"/>
            <a:ext cx="7416720" cy="316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1b8e3"/>
              </a:gs>
              <a:gs pos="100000">
                <a:srgbClr val="f7ebf8"/>
              </a:gs>
            </a:gsLst>
            <a:lin ang="16200000"/>
          </a:gradFill>
          <a:ln w="9360">
            <a:solidFill>
              <a:srgbClr val="9762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请思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为什么舌下含服硝酸甘油有助于缓解症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?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入院后此联合用药是否合理？为什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作为该患者的责任护士，在使用抗心绞痛药物过程中应注意哪些事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药理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降低心肌耗氧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降低左室充盈压，增加心内膜供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扩张冠状动脉，改善缺血区的血液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减少血小板聚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临床应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终止稳定型心绞痛胸痛症状的首选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预防心绞痛发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选用其油膏或贴膜等制剂敷于胸部和背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急性心肌梗死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心肌耗氧量，并增加缺血区供血及抗血小板聚集和黏附作用，使梗死面积缩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用于治疗重度和难治性心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心脏前、后负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125360"/>
            <a:ext cx="86104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易受首过消除等影响，不宜口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脂溶性高，常舌下含化给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起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~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作用达高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疗效维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~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硝酸甘油也可经皮肤吸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生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续时间可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~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125360"/>
            <a:ext cx="86104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终止心绞痛发作：片剂需舌下含服，喷雾剂对口腔喷服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，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预防用药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缓释片（胶囊）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软膏制剂：涂于前胸或上腹部皮肤上，面积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.5~5.0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每隔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~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一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贴膜：剂量大小与接触面积有关，疗效可保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，除去药膜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内血药浓度迅速下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针剂溶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葡萄糖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9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生理盐水中，稀释后静脉滴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3:07:43Z</dcterms:modified>
  <cp:revision>126</cp:revision>
  <dc:subject/>
  <dc:title>内科护理学</dc:title>
</cp:coreProperties>
</file>