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36E2-CEE4-4C8D-B8F1-C332CB1074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B643-3C2A-4CB4-B5E2-6660CBA4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3D39-7FEE-496B-98F8-5ABEE24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FD16-DD6A-44B7-B726-8A5D5A319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6E77-7291-4054-A5AD-1EEB3D73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C73B-3CE3-4BE3-906B-9961E5EB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26E9-FC35-411C-8163-6181A588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0F44-00F4-4080-96BA-C4B21B41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0AD1-432C-4962-9CE6-DFBE0B55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4D15-B9E5-4931-8B73-7951F1FC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8038-6CFA-4026-A0DC-74EA6E11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143E-3BE3-4B0F-B5E9-0751B678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AF4-5DCA-44D0-826B-9EFE60C2EB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561672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十八章 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79280" y="1557360"/>
            <a:ext cx="84981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饥饿感、头晕、心悸、冷汗、震颤、惊厥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 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77mmol/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致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：摄食或饮糖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：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过敏反应：一般：轻微、短暂；偶见过敏性休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必要时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糖皮质激素治疗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改用口服降糖药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皮下注射部位红肿、硬结、皮下脂肪萎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更换注射部位，改用高纯度胰岛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胰岛素抵抗：对某种类型的胰岛素产生耐受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处理：换用其他类型制剂，并适当调整剂量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B093-31D3-4FCE-9C3B-28019D7789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4000" y="1849320"/>
            <a:ext cx="8424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密切观察低血糖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特别注意，有些老年患者，发生低血糖时往往缺乏典型 症状，迅速表现为昏迷，称为“无警觉性低血糖昏迷”， 应立即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注意观察糖尿病酮症酸中毒的症状及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告诉患者注意注射胰岛素与进餐的时间关系，如进餐的时间改变，则必须相应改变注射胰岛素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教会患者检查尿糖及血糖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68360" y="155736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意胰岛素制剂类型、有效期、如药液有变色、凝固或出现絮状物均不能应用。注射剂量必须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注射时应抽回血，绝不可注入血管，以防发生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轮换注射部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应正确保存使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混胰岛素使用前应充分摇匀，如需将短效与长效胰岛素混合使用，应先抽取短效胰岛素后再抽取长效胰岛素并充分混匀。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11600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口服降血糖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258920" y="1557360"/>
            <a:ext cx="626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磺酰脲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双胍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苷酶抑制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口服降糖药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262320" y="404640"/>
            <a:ext cx="5881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磺酰脲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1403280" y="1484280"/>
            <a:ext cx="57927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苯磺丁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olbutamide,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86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磺丙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lorpropam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本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benclamid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优降糖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吡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piz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齐特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clazip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达美康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列美脲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limepride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磺脲类药物的作用机制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000" y="5084640"/>
            <a:ext cx="7343640" cy="1152720"/>
          </a:xfrm>
          <a:prstGeom prst="rect">
            <a:avLst/>
          </a:prstGeom>
          <a:solidFill>
            <a:srgbClr val="046ca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①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磺脲类药物与细胞膜磺脲类受体结合，影响钾离子通道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钾离子外流受阻，细胞去极化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放电压依赖性</a:t>
            </a:r>
            <a:r>
              <a:rPr b="1" lang="en-US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a</a:t>
            </a:r>
            <a:r>
              <a:rPr b="1" lang="en-US" sz="1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2+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道，钙离子内流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④</a:t>
            </a:r>
            <a:r>
              <a:rPr b="1" lang="zh-CN" sz="1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钙离子刺激胰岛素颗粒移动至细胞膜，并释放胰岛素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43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6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55640" y="14832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苯磺丁脲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olbutami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又名甲唐宁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8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95280" y="216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：对正常人及胰岛功能尚存的糖尿病患者均有降血糖作用，但对严重糖尿病患者或完全切除胰腺的糖尿病患者则无效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95280" y="411480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：用于胰岛功能尚存的轻、中度糖尿病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），且经饮食控制无效的糖尿病患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468360" y="210132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胃肠道反应：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恶心、呕吐、胃痛、厌食和腹泻，多与剂量有关，减少剂量或继续 服药可消失。偶见肝损伤和胆汁淤积性黄疸，应注意肝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低血糖：较严重的是持续性低血糖，虽不多见，也应提高警惕，老年患者和肝肾功能不良者更易发生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其他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过敏反应，嗜睡、眩晕、共济失调等，白细胞和血小板减少、溶血性贫血等血液系统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人及肝肾功能不良者慎用，孕妇禁用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4"/>
          <p:cNvSpPr/>
          <p:nvPr/>
        </p:nvSpPr>
        <p:spPr>
          <a:xfrm>
            <a:off x="395280" y="2105640"/>
            <a:ext cx="806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告诉患者一定按时服药，一般在餐前数分钟服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劝告患者服药期间戒酒，饮酒可加强降血糖作用，导致低血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老年人及肾功能不良者应密切观察低血糖反应，这类患者应随身携带糖果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甲苯磺丁脲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7DE-A2E1-49D3-8D0C-13A5E1D212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24000" y="1916280"/>
            <a:ext cx="84470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剂量     半衰期     每日给药   作用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mg)     (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小时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（次数）           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	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甲苯磺丁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00      8           3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氯磺丙脲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00      33-36       1 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吡嗪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5        2-4         3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格列本脲（优降糖）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5      10-16      1-2     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降血糖，抗利尿作用。</a:t>
            </a:r>
            <a:r>
              <a:rPr b="1" lang="zh-CN" sz="1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格列齐特（达美康）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0       10-12      1-2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降血糖作用强、降低血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板黏附、改善微循环作用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标题 1"/>
          <p:cNvSpPr/>
          <p:nvPr/>
        </p:nvSpPr>
        <p:spPr>
          <a:xfrm>
            <a:off x="3059280" y="333360"/>
            <a:ext cx="5689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硫脲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其他常用药物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胰岛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服降血糖药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35280" y="321300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79640" y="3284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3635280" y="3573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磺酰脲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双胍类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葡萄糖苷酶抑制药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其他口服降糖药物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标题 1"/>
          <p:cNvSpPr/>
          <p:nvPr/>
        </p:nvSpPr>
        <p:spPr>
          <a:xfrm>
            <a:off x="277164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95280" y="2060640"/>
            <a:ext cx="6408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应用的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福明（二甲双胍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tformin,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降糖片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苯乙福明（苯乙双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henformi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1" name="Object 13"/>
          <p:cNvGraphicFramePr/>
          <p:nvPr/>
        </p:nvGraphicFramePr>
        <p:xfrm>
          <a:off x="1403280" y="3789360"/>
          <a:ext cx="30243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30243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4360" y="1341360"/>
          <a:ext cx="7127640" cy="4680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1276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降低糖尿患者血糖，但对正常人血糖无影响。对胰岛功能完全丧失的糖尿患者仍有降血糖作用。不增加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用于轻、中度糖尿病患者，尤其是肥胖患者。也可与胰岛素或磺酰脲类合用于中、重度患者，以增强疗效，减少胰岛素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560240"/>
            <a:ext cx="8858160" cy="38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常见的不良反应有恶心、呕吐、腹泻，口中有金属味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可抑制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肠道吸收，产生巨幼红细胞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易引起乳酸性酸中毒，应严格掌握适应证并限制剂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肾功能不良，慢性心功能不全和尿酮体阳性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药期间注意观察本药引起的不良反应，发现后及时停药，并报告医生，定期查血象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3348000" y="333360"/>
            <a:ext cx="525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双胍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甲双胍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611280" y="1773360"/>
            <a:ext cx="7704000" cy="41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用于临床的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阿卡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car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拜糖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伏格列波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voglibos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格列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iglito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4140360" y="1197000"/>
            <a:ext cx="2303280" cy="720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食物中的淀粉等多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5148360" y="206064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92720" y="2133720"/>
            <a:ext cx="14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淀粉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716360" y="2709720"/>
            <a:ext cx="1370160" cy="576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716360" y="4005360"/>
            <a:ext cx="1441440" cy="576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718160" y="5373720"/>
            <a:ext cx="1295280" cy="503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>
            <a:off x="5148360" y="472608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5148360" y="3357720"/>
            <a:ext cx="0" cy="647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565440" y="35020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α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糖苷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29272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入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4068720" y="3933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306072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葡萄糖及吸收减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4068720" y="5157720"/>
            <a:ext cx="0" cy="71928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3060720" y="59500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避免餐后血糖升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1044720" y="335772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Garamond"/>
                <a:ea typeface="楷体_GB2312"/>
              </a:rPr>
              <a:t>拜糖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2557440" y="3718080"/>
            <a:ext cx="100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407680" y="3141720"/>
            <a:ext cx="1102320" cy="36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1126080" y="1628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降糖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250920" y="17740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抑制小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苷酶，使淀粉和蔗糖分解为葡萄糖的速度减慢，吸收延缓，而使餐后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应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、中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，尤其适用于老年患者。对其他药物疗效不佳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良反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反应，可有腹胀、嗳气、排气增多，甚有腹泻或便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胃肠道溃疡患者慎用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24000" y="22788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强胰岛素或其他口服降血糖药的作用而导致低血糖，因此与其他降糖药合用时应注意低血糖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发生低血糖口服糖块等因吸收延缓而难迅速奏效，需补充葡萄糖解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5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糖苷酶抑制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9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0920" y="162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一）胰岛素增敏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603800" y="23493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胰岛素抵抗，提高机体对胰岛素敏感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869760" y="3141720"/>
            <a:ext cx="282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噻唑烷酮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格列酮（文迪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吡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格列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>
            <a:off x="3995640" y="3645000"/>
            <a:ext cx="4897440" cy="2448000"/>
          </a:xfrm>
          <a:prstGeom prst="wedgeRectCallout">
            <a:avLst>
              <a:gd name="adj1" fmla="val -59592"/>
              <a:gd name="adj2" fmla="val -61152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素抵抗，降低血糖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改善脂肪代谢紊乱，增加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D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型糖尿病血管并发症的防治作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抑制血小板聚集、炎症反应和内皮细胞增生，抗动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改善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功能：阻止胰岛</a:t>
            </a: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β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细胞的衰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抵抗的糖尿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（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重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噻唑烷酮类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、水潴留和贫血：常见的副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嗜睡、水肿、血液稀释、肌肉及骨骼痛、头痛、消化道症状、上呼吸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曲格列酮明显肝毒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增加，与水潴留、脂肪含量增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能诱发心力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：胰岛素和磺酰脲类药物的作用、临床应用、不良反应和药疗监护须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熟悉：二甲双胍、阿卡波糖、罗格列酮的作用特点、临床应用及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：其他降血糖药的药理作用和临床应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2054880" y="1310400"/>
            <a:ext cx="36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餐时血糖调节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瑞格列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5955120" y="2599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其他口服降糖药物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95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一种促胰岛素分泌药。最大优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新魏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仿胰岛素的生理性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胰岛</a:t>
            </a:r>
            <a:r>
              <a:rPr b="1" lang="el-GR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细胞膜上的特异性受体结合来促进胰岛细胞膜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敏感性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K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道关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型糖尿病患者，可与二甲双胍合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良反应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血糖、视觉异常、胃肠道反应、肝功酶指标升高、过敏反应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324000" y="1413000"/>
            <a:ext cx="2438280" cy="691560"/>
          </a:xfrm>
          <a:prstGeom prst="rect">
            <a:avLst/>
          </a:prstGeom>
          <a:solidFill>
            <a:srgbClr val="0000cc"/>
          </a:solidFill>
          <a:ln w="9360">
            <a:solidFill>
              <a:srgbClr val="99ccff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糖尿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54200" y="3330720"/>
            <a:ext cx="1523880" cy="106884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口服降糖药服用时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3059280" y="234936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磺 酰 脲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316560" y="2411280"/>
            <a:ext cx="1762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分钟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3040200" y="3463920"/>
            <a:ext cx="23619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双 胍 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65440" y="3478320"/>
            <a:ext cx="9122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饭后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3380400" y="5445000"/>
            <a:ext cx="16452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糖苷酶抑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6388920" y="5445000"/>
            <a:ext cx="127800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进食同时服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051000" y="4425840"/>
            <a:ext cx="236232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噻唑烷二酮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6463080" y="4468680"/>
            <a:ext cx="182664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早餐前后均可服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2"/>
          <p:cNvSpPr/>
          <p:nvPr/>
        </p:nvSpPr>
        <p:spPr>
          <a:xfrm rot="5400000">
            <a:off x="5555880" y="54068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13"/>
          <p:cNvSpPr/>
          <p:nvPr/>
        </p:nvSpPr>
        <p:spPr>
          <a:xfrm rot="5400000">
            <a:off x="5555880" y="44244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AutoShape 14"/>
          <p:cNvSpPr/>
          <p:nvPr/>
        </p:nvSpPr>
        <p:spPr>
          <a:xfrm rot="5400000">
            <a:off x="5555880" y="342900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 rot="5400000">
            <a:off x="5555880" y="2395440"/>
            <a:ext cx="228600" cy="536760"/>
          </a:xfrm>
          <a:prstGeom prst="upArrow">
            <a:avLst>
              <a:gd name="adj1" fmla="val 50000"/>
              <a:gd name="adj2" fmla="val 58701"/>
            </a:avLst>
          </a:prstGeom>
          <a:solidFill>
            <a:srgbClr val="0000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1973160" y="254952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1973160" y="5673600"/>
            <a:ext cx="9907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73160" y="2549520"/>
            <a:ext cx="0" cy="76212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1973160" y="4911840"/>
            <a:ext cx="0" cy="76176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2278080" y="369252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2297160" y="4683240"/>
            <a:ext cx="6858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5579640" y="26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口服降糖药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79280" y="2173320"/>
            <a:ext cx="868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某男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因患糖尿病接受胰岛素治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余年，血糖基本控制在正常水平，尿糖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范围。昨晚因多食后，今上午尿糖定性试验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++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自行增加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突然感到心悸、饥饿、出冷汗，立即测血糖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4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判断其发生了低血糖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低血糖反应的可能原因、主要表现和急救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简述胰岛素治疗的监护要点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5520240" y="333360"/>
            <a:ext cx="26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降血糖药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病 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137440" cy="22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考题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胰岛素的作用、临床应用与不良反应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磺酰脲类口服降血糖药的作用、应用、不良反应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疗监护须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糖尿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2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什么是糖尿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是一种以高血糖为共同特征的常见的内分泌代谢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胰岛素绝对或相对不足而引起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84360" y="3514680"/>
            <a:ext cx="74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临床症状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、多饮、多食、消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多一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9B13-ECF4-4190-B681-3076A18800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6039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胰岛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来源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胰岛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nsul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由胰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分泌的一种蛋白质，是机体内降低血糖的激素，同时促进糖原、脂肪、蛋白质合成。外源性胰岛素主要用来治疗糖尿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3280" y="333000"/>
            <a:ext cx="4044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2A31-6126-4ED7-9231-109EEB4095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68360" y="1341360"/>
            <a:ext cx="806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靶组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611280" y="3213000"/>
            <a:ext cx="3744720" cy="1782720"/>
          </a:xfrm>
          <a:prstGeom prst="roundRect">
            <a:avLst>
              <a:gd name="adj" fmla="val 13745"/>
            </a:avLst>
          </a:pr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速葡萄糖的氧化和酵解，促进糖原合成和贮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692360" y="5300640"/>
            <a:ext cx="6048360" cy="86508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糖来源减少，去路增加，导致血糖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572000" y="3141720"/>
            <a:ext cx="3745080" cy="1854000"/>
          </a:xfrm>
          <a:prstGeom prst="roundRect">
            <a:avLst>
              <a:gd name="adj" fmla="val 13745"/>
            </a:avLst>
          </a:pr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制糖原分解和异生，增加葡萄糖转变为脂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9"/>
          <p:cNvSpPr/>
          <p:nvPr/>
        </p:nvSpPr>
        <p:spPr>
          <a:xfrm>
            <a:off x="2556000" y="2275920"/>
            <a:ext cx="3795480" cy="735840"/>
          </a:xfrm>
          <a:prstGeom prst="ellipse">
            <a:avLst/>
          </a:prstGeom>
          <a:noFill/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代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076720" y="4797360"/>
            <a:ext cx="792360" cy="720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916360" y="4726080"/>
            <a:ext cx="720720" cy="792000"/>
          </a:xfrm>
          <a:custGeom>
            <a:avLst/>
            <a:gdLst>
              <a:gd name="textAreaLeft" fmla="*/ 96480 w 720720"/>
              <a:gd name="textAreaRight" fmla="*/ 624240 w 7207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3487680" y="3179880"/>
            <a:ext cx="2305080" cy="2520720"/>
          </a:xfrm>
          <a:custGeom>
            <a:avLst/>
            <a:gdLst>
              <a:gd name="textAreaLeft" fmla="*/ 92520 w 2305080"/>
              <a:gd name="textAreaRight" fmla="*/ 2212560 w 2305080"/>
              <a:gd name="textAreaTop" fmla="*/ 92520 h 2520720"/>
              <a:gd name="textAreaBottom" fmla="*/ 2428200 h 2520720"/>
            </a:gdLst>
            <a:ahLst/>
            <a:rect l="textAreaLeft" t="textAreaTop" r="textAreaRight" b="textAreaBottom"/>
            <a:pathLst>
              <a:path w="21600" h="23620">
                <a:moveTo>
                  <a:pt x="2969" y="0"/>
                </a:moveTo>
                <a:arcTo wR="2969" hR="2969" stAng="16200000" swAng="-5400000"/>
                <a:lnTo>
                  <a:pt x="0" y="20651"/>
                </a:lnTo>
                <a:arcTo wR="2969" hR="2969" stAng="10800000" swAng="-5400000"/>
                <a:lnTo>
                  <a:pt x="18631" y="2362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99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蛋白质合成，抑制蛋白质分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679320" y="3179880"/>
            <a:ext cx="2448000" cy="252072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20720"/>
              <a:gd name="textAreaBottom" fmla="*/ 2422440 h 2520720"/>
            </a:gdLst>
            <a:ahLst/>
            <a:rect l="textAreaLeft" t="textAreaTop" r="textAreaRight" b="textAreaBottom"/>
            <a:pathLst>
              <a:path w="21600" h="22242">
                <a:moveTo>
                  <a:pt x="2969" y="0"/>
                </a:moveTo>
                <a:arcTo wR="2969" hR="2969" stAng="16200000" swAng="-5400000"/>
                <a:lnTo>
                  <a:pt x="0" y="19273"/>
                </a:lnTo>
                <a:arcTo wR="2969" hR="2969" stAng="10800000" swAng="-5400000"/>
                <a:lnTo>
                  <a:pt x="18631" y="2224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00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脂肪酸转运与脂肪合成，抑制脂肪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降低脂肪酸和酮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6080040" y="3179880"/>
            <a:ext cx="2448000" cy="2519280"/>
          </a:xfrm>
          <a:custGeom>
            <a:avLst/>
            <a:gdLst>
              <a:gd name="textAreaLeft" fmla="*/ 98280 w 2448000"/>
              <a:gd name="textAreaRight" fmla="*/ 2349720 w 2448000"/>
              <a:gd name="textAreaTop" fmla="*/ 98280 h 2519280"/>
              <a:gd name="textAreaBottom" fmla="*/ 2421000 h 2519280"/>
            </a:gdLst>
            <a:ahLst/>
            <a:rect l="textAreaLeft" t="textAreaTop" r="textAreaRight" b="textAreaBottom"/>
            <a:pathLst>
              <a:path w="21600" h="22229">
                <a:moveTo>
                  <a:pt x="2969" y="0"/>
                </a:moveTo>
                <a:arcTo wR="2969" hR="2969" stAng="16200000" swAng="-5400000"/>
                <a:lnTo>
                  <a:pt x="0" y="19260"/>
                </a:lnTo>
                <a:arcTo wR="2969" hR="2969" stAng="10800000" swAng="-5400000"/>
                <a:lnTo>
                  <a:pt x="18631" y="2222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66ffff">
              <a:alpha val="31000"/>
            </a:srgbClr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率↑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收缩力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肾血流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钾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细胞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445000" y="203184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008760" y="1379520"/>
            <a:ext cx="283536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6126120" y="158760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6151680" y="1595520"/>
            <a:ext cx="2465280" cy="146664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6205680" y="1658880"/>
            <a:ext cx="22222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463680" y="1379520"/>
            <a:ext cx="2906640" cy="1716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14"/>
          <p:cNvSpPr/>
          <p:nvPr/>
        </p:nvSpPr>
        <p:spPr>
          <a:xfrm>
            <a:off x="679320" y="1450800"/>
            <a:ext cx="2527560" cy="151776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5"/>
          <p:cNvSpPr/>
          <p:nvPr/>
        </p:nvSpPr>
        <p:spPr>
          <a:xfrm>
            <a:off x="860400" y="1592280"/>
            <a:ext cx="22320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7" name="Group 16"/>
          <p:cNvGrpSpPr/>
          <p:nvPr/>
        </p:nvGrpSpPr>
        <p:grpSpPr>
          <a:xfrm>
            <a:off x="895320" y="1611360"/>
            <a:ext cx="2160360" cy="1278000"/>
            <a:chOff x="895320" y="1611360"/>
            <a:chExt cx="2160360" cy="1278000"/>
          </a:xfrm>
        </p:grpSpPr>
        <p:sp>
          <p:nvSpPr>
            <p:cNvPr id="148" name="Oval 17"/>
            <p:cNvSpPr/>
            <p:nvPr/>
          </p:nvSpPr>
          <p:spPr>
            <a:xfrm>
              <a:off x="895320" y="1611360"/>
              <a:ext cx="21603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18"/>
            <p:cNvSpPr/>
            <p:nvPr/>
          </p:nvSpPr>
          <p:spPr>
            <a:xfrm>
              <a:off x="922680" y="1618200"/>
              <a:ext cx="21088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19"/>
            <p:cNvSpPr/>
            <p:nvPr/>
          </p:nvSpPr>
          <p:spPr>
            <a:xfrm>
              <a:off x="945360" y="1630800"/>
              <a:ext cx="2005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0"/>
            <p:cNvSpPr/>
            <p:nvPr/>
          </p:nvSpPr>
          <p:spPr>
            <a:xfrm>
              <a:off x="1062720" y="1663200"/>
              <a:ext cx="17823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Oval 21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Oval 22"/>
          <p:cNvSpPr/>
          <p:nvPr/>
        </p:nvSpPr>
        <p:spPr>
          <a:xfrm>
            <a:off x="3132000" y="1413000"/>
            <a:ext cx="2995920" cy="168732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23"/>
          <p:cNvSpPr/>
          <p:nvPr/>
        </p:nvSpPr>
        <p:spPr>
          <a:xfrm>
            <a:off x="3303720" y="1523880"/>
            <a:ext cx="2604960" cy="146700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Oval 24"/>
          <p:cNvSpPr/>
          <p:nvPr/>
        </p:nvSpPr>
        <p:spPr>
          <a:xfrm>
            <a:off x="3305160" y="1525680"/>
            <a:ext cx="2604960" cy="146664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416400" y="1595520"/>
            <a:ext cx="23446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Group 26"/>
          <p:cNvGrpSpPr/>
          <p:nvPr/>
        </p:nvGrpSpPr>
        <p:grpSpPr>
          <a:xfrm>
            <a:off x="3416400" y="1595520"/>
            <a:ext cx="2447640" cy="1278000"/>
            <a:chOff x="3416400" y="1595520"/>
            <a:chExt cx="2447640" cy="1278000"/>
          </a:xfrm>
        </p:grpSpPr>
        <p:sp>
          <p:nvSpPr>
            <p:cNvPr id="158" name="Oval 27"/>
            <p:cNvSpPr/>
            <p:nvPr/>
          </p:nvSpPr>
          <p:spPr>
            <a:xfrm>
              <a:off x="3416400" y="1595520"/>
              <a:ext cx="2447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447360" y="1602360"/>
              <a:ext cx="23893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Oval 29"/>
            <p:cNvSpPr/>
            <p:nvPr/>
          </p:nvSpPr>
          <p:spPr>
            <a:xfrm>
              <a:off x="3472920" y="1614960"/>
              <a:ext cx="22716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Oval 30"/>
            <p:cNvSpPr/>
            <p:nvPr/>
          </p:nvSpPr>
          <p:spPr>
            <a:xfrm>
              <a:off x="3606120" y="1647360"/>
              <a:ext cx="20196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2" name="Group 31"/>
          <p:cNvGrpSpPr/>
          <p:nvPr/>
        </p:nvGrpSpPr>
        <p:grpSpPr>
          <a:xfrm>
            <a:off x="6329520" y="1658880"/>
            <a:ext cx="2150640" cy="1278000"/>
            <a:chOff x="6329520" y="1658880"/>
            <a:chExt cx="2150640" cy="1278000"/>
          </a:xfrm>
        </p:grpSpPr>
        <p:sp>
          <p:nvSpPr>
            <p:cNvPr id="163" name="Oval 32"/>
            <p:cNvSpPr/>
            <p:nvPr/>
          </p:nvSpPr>
          <p:spPr>
            <a:xfrm>
              <a:off x="6329520" y="1658880"/>
              <a:ext cx="21506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33"/>
            <p:cNvSpPr/>
            <p:nvPr/>
          </p:nvSpPr>
          <p:spPr>
            <a:xfrm>
              <a:off x="6356520" y="1665720"/>
              <a:ext cx="209952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34"/>
            <p:cNvSpPr/>
            <p:nvPr/>
          </p:nvSpPr>
          <p:spPr>
            <a:xfrm>
              <a:off x="6379200" y="1678320"/>
              <a:ext cx="199620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Oval 35"/>
            <p:cNvSpPr/>
            <p:nvPr/>
          </p:nvSpPr>
          <p:spPr>
            <a:xfrm>
              <a:off x="6496200" y="1710720"/>
              <a:ext cx="177444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7" name="Text Box 36"/>
          <p:cNvSpPr/>
          <p:nvPr/>
        </p:nvSpPr>
        <p:spPr>
          <a:xfrm>
            <a:off x="392040" y="1811160"/>
            <a:ext cx="30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脂肪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3487680" y="19558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蛋白质代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6595920" y="2011320"/>
            <a:ext cx="14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标题 6"/>
          <p:cNvSpPr/>
          <p:nvPr/>
        </p:nvSpPr>
        <p:spPr>
          <a:xfrm>
            <a:off x="4356000" y="333360"/>
            <a:ext cx="4259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324000" y="1654200"/>
            <a:ext cx="7993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：胰岛素可用于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 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经饮食和口服降血糖药治疗无效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或高渗性高血糖昏迷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重症感染、消耗性疾病、高热、妊娠、创伤及手术的各型糖尿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细胞内缺钾：高钾血症及防治心肌梗死时的心律失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4932360" y="260280"/>
            <a:ext cx="40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胰岛素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--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临床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92784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标题 6"/>
          <p:cNvSpPr/>
          <p:nvPr/>
        </p:nvSpPr>
        <p:spPr>
          <a:xfrm>
            <a:off x="3276720" y="333360"/>
            <a:ext cx="5759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胰岛素制剂及给药方法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414440" y="123876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484280"/>
          <a:ext cx="8785080" cy="3809880"/>
        </p:xfrm>
        <a:graphic>
          <a:graphicData uri="http://schemas.openxmlformats.org/drawingml/2006/table">
            <a:tbl>
              <a:tblPr/>
              <a:tblGrid>
                <a:gridCol w="503280"/>
                <a:gridCol w="2017440"/>
                <a:gridCol w="792360"/>
                <a:gridCol w="1800000"/>
                <a:gridCol w="136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制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i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频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h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速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赖脯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门冬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急救和重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或晚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于血糖波动大，不易控制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精蛋白锌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甘精胰岛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餐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 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重型选用短效制剂，后改此类药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12-15T03:35:55Z</dcterms:modified>
  <cp:revision>145</cp:revision>
  <dc:subject/>
  <dc:title>内科护理学</dc:title>
</cp:coreProperties>
</file>