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D104F2-55C7-4C0A-BF16-64C6E81B2B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A1E84A-8515-40DD-9069-442DBA5135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59C5801-7779-48EA-970A-D81FE65FB0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8023867-060D-49B2-A28A-2AED24B82B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D9CE71-9E66-4517-ADEB-2A65A86E74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6BD682-53A4-4E5D-8FCC-F8355E165C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FB8DFF-EA4C-4B1B-A62E-13048AFC3D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2EB0068-41A3-4DE9-9369-4198EE6E08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9D8337A-CD56-4292-ACA9-4699E9B3F9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5D1CCA-3294-40C7-885B-20ADAB7854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93F3FB-65D7-4DE5-9DDD-1E203ABB29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BC8858-0E39-4237-8354-63FBCE815F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9ED9-AC6C-46AB-97C9-47E2ABAC2AC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343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七章</a:t>
            </a:r>
            <a:br>
              <a:rPr sz="4000"/>
            </a:br>
            <a:r>
              <a:rPr b="1" lang="zh-CN" sz="4000" spc="-1" strike="noStrike">
                <a:solidFill>
                  <a:srgbClr val="ffffff"/>
                </a:solidFill>
                <a:latin typeface="Verdana"/>
                <a:ea typeface="宋体"/>
              </a:rPr>
              <a:t>外科用药和消毒防腐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强氧化剂，是广谱、高效、快速、低毒杀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乙酸通过直接作用于细菌的细胞壁蛋白发挥氧化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空气消毒，内镜消毒，皮肤、黏膜消毒，餐具、用具、便具消毒，体温表消毒，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室内空气消毒：过氧乙酸雾化气溶胶具有高效、速效、无残留毒性等优点。可用</a:t>
            </a:r>
            <a:r>
              <a:rPr b="0" lang="en-US" sz="2200" spc="-1" strike="noStrike">
                <a:solidFill>
                  <a:srgbClr val="046ca6"/>
                </a:solidFill>
                <a:latin typeface="Arial"/>
                <a:ea typeface="宋体"/>
              </a:rPr>
              <a:t>5000mg/L</a:t>
            </a:r>
            <a:r>
              <a:rPr b="0" lang="zh-CN" sz="2200" spc="-1" strike="noStrike">
                <a:solidFill>
                  <a:srgbClr val="046ca6"/>
                </a:solidFill>
                <a:latin typeface="Arial"/>
                <a:ea typeface="宋体"/>
              </a:rPr>
              <a:t>过氧乙酸水溶液按照</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用量进行喷雾，密闭</a:t>
            </a:r>
            <a:r>
              <a:rPr b="0" lang="en-US" sz="2200" spc="-1" strike="noStrike">
                <a:solidFill>
                  <a:srgbClr val="046ca6"/>
                </a:solidFill>
                <a:latin typeface="Arial"/>
                <a:ea typeface="宋体"/>
              </a:rPr>
              <a:t>60min</a:t>
            </a:r>
            <a:r>
              <a:rPr b="0" lang="zh-CN" sz="2200" spc="-1" strike="noStrike">
                <a:solidFill>
                  <a:srgbClr val="046ca6"/>
                </a:solidFill>
                <a:latin typeface="Arial"/>
                <a:ea typeface="宋体"/>
              </a:rPr>
              <a:t>即可满足终末消毒的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耐腐蚀物品消毒、内镜消毒、体温表、压舌板消毒、透析器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便器马桶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救护车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e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于皮肤有刺激性，皮肤消毒时浓度不宜超过</a:t>
            </a:r>
            <a:r>
              <a:rPr b="0" lang="en-US" sz="2200" spc="-1" strike="noStrike">
                <a:solidFill>
                  <a:srgbClr val="046ca6"/>
                </a:solidFill>
                <a:latin typeface="Arial"/>
                <a:ea typeface="宋体"/>
              </a:rPr>
              <a:t>2000mg/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金属有腐蚀性，不得用于精密仪器和锋利器械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溶液不稳定，随时使用随时配制，防止过期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的作用于温度有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过氧乙酸喷雾或熏蒸时，操作者应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3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等效果的消毒剂，不能杀灭细菌芽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乙醇作用于细菌细胞先起到脱水作用，乙醇分子进入蛋白质分子的肽链环节，使蛋白质发生变性沉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的杀菌作用最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及皮肤、皮肤消毒脱碘，物品表面效度，医用器具消毒</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用于皮肤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可用于体温计、血压计、听诊器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用于高热患者的物理退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en-US" sz="2200" spc="-1" strike="noStrike">
                <a:solidFill>
                  <a:srgbClr val="046ca6"/>
                </a:solidFill>
                <a:latin typeface="Arial"/>
                <a:ea typeface="宋体"/>
              </a:rPr>
              <a:t>50%</a:t>
            </a:r>
            <a:r>
              <a:rPr b="0" lang="zh-CN" sz="2200" spc="-1" strike="noStrike">
                <a:solidFill>
                  <a:srgbClr val="046ca6"/>
                </a:solidFill>
                <a:latin typeface="Arial"/>
                <a:ea typeface="宋体"/>
              </a:rPr>
              <a:t>稀乙醇用于防治压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伤口、黏膜有刺激</a:t>
            </a:r>
            <a:endParaRPr b="0" lang="en-US" sz="2200" spc="-1" strike="noStrike">
              <a:solidFill>
                <a:srgbClr val="046ca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lcoh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内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挥发性，消毒时需维持足够时间的潮湿状况，消毒物品前应先清除物品表面的蛋白性有机物，方可保证消毒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4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效碘含量为</a:t>
            </a:r>
            <a:r>
              <a:rPr b="0" lang="en-US" sz="2200" spc="-1" strike="noStrike">
                <a:solidFill>
                  <a:srgbClr val="046ca6"/>
                </a:solidFill>
                <a:latin typeface="Arial"/>
                <a:ea typeface="宋体"/>
              </a:rPr>
              <a:t>0.2</a:t>
            </a:r>
            <a:r>
              <a:rPr b="0" lang="zh-CN" sz="2200" spc="-1" strike="noStrike">
                <a:solidFill>
                  <a:srgbClr val="046ca6"/>
                </a:solidFill>
                <a:latin typeface="Arial"/>
                <a:ea typeface="宋体"/>
              </a:rPr>
              <a:t>％、醋酸氯己定含量为</a:t>
            </a:r>
            <a:r>
              <a:rPr b="0" lang="en-US" sz="2200" spc="-1" strike="noStrike">
                <a:solidFill>
                  <a:srgbClr val="046ca6"/>
                </a:solidFill>
                <a:latin typeface="Arial"/>
                <a:ea typeface="宋体"/>
              </a:rPr>
              <a:t>0.45%</a:t>
            </a:r>
            <a:r>
              <a:rPr b="0" lang="zh-CN" sz="2200" spc="-1" strike="noStrike">
                <a:solidFill>
                  <a:srgbClr val="046ca6"/>
                </a:solidFill>
                <a:latin typeface="Arial"/>
                <a:ea typeface="宋体"/>
              </a:rPr>
              <a:t>、乙醇含量为</a:t>
            </a:r>
            <a:r>
              <a:rPr b="0" lang="en-US" sz="2200" spc="-1" strike="noStrike">
                <a:solidFill>
                  <a:srgbClr val="046ca6"/>
                </a:solidFill>
                <a:latin typeface="Arial"/>
                <a:ea typeface="宋体"/>
              </a:rPr>
              <a:t>65</a:t>
            </a:r>
            <a:r>
              <a:rPr b="0" lang="zh-CN" sz="2200" spc="-1" strike="noStrike">
                <a:solidFill>
                  <a:srgbClr val="046ca6"/>
                </a:solidFill>
                <a:latin typeface="Arial"/>
                <a:ea typeface="宋体"/>
              </a:rPr>
              <a:t>％，具有碘、醋酸己定及乙醇的药理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适用于手术部位皮肤，肌肉、静脉及一般皮肤穿刺前，外科手术前洗手，外科换药消毒</a:t>
            </a:r>
            <a:endParaRPr b="0" lang="en-US" sz="2200" spc="-1" strike="noStrike">
              <a:solidFill>
                <a:srgbClr val="046ca6"/>
              </a:solidFill>
              <a:latin typeface="Arial"/>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取原液均匀涂擦消毒区域</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肌肉、静脉及一般皮肤穿此前消毒：取原液由内向外均匀擦洗消毒区域</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腰穿、采血等特殊穿刺部位消毒：原液均匀涂擦</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换药消毒：取原液由内向外均匀涂擦</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安尔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含有乙醇，对黏膜和伤口有一定的刺激</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酒精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部位皮肤消毒时，如果使用高频电刀，需待消毒剂干后使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术前洗手消毒时，忌用毛刷刷拭，防止损伤皮肤</a:t>
            </a:r>
            <a:endParaRPr b="0" lang="en-US" sz="2200" spc="-1" strike="noStrike">
              <a:solidFill>
                <a:srgbClr val="046ca6"/>
              </a:solidFill>
              <a:latin typeface="Arial"/>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5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作用于血液凝固和纤维蛋白溶解系统而具有抗血栓形成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抑制各种参与分解代谢的酶以及影响前列腺素和补体系统而具有抗炎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促进间叶细胞的合成以及恢复细胞间物质保持水分的能力从而促进结缔组织的再生</a:t>
            </a:r>
            <a:endParaRPr b="0" lang="en-US" sz="22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用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毒防腐药</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治疗浅表性静脉炎，静脉曲张性静脉炎，静脉曲张外科和</a:t>
            </a:r>
            <a:r>
              <a:rPr b="0" lang="en-US" sz="2200" spc="-1" strike="noStrike">
                <a:solidFill>
                  <a:srgbClr val="046ca6"/>
                </a:solidFill>
                <a:latin typeface="Arial"/>
                <a:ea typeface="宋体"/>
              </a:rPr>
              <a:t>硬化</a:t>
            </a:r>
            <a:r>
              <a:rPr b="0" lang="zh-CN" sz="2200" spc="-1" strike="noStrike">
                <a:solidFill>
                  <a:srgbClr val="046ca6"/>
                </a:solidFill>
                <a:latin typeface="Arial"/>
                <a:ea typeface="宋体"/>
              </a:rPr>
              <a:t>术后的辅助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肿，挫伤，肿胀和水肿，血栓性静脉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静脉输液和注射引起的渗出</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抑制疤痕的形成和软化</a:t>
            </a:r>
            <a:r>
              <a:rPr b="0" lang="en-US" sz="2200" spc="-1" strike="noStrike">
                <a:solidFill>
                  <a:srgbClr val="046ca6"/>
                </a:solidFill>
                <a:latin typeface="Arial"/>
                <a:ea typeface="宋体"/>
              </a:rPr>
              <a:t>疤痕</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用，可将</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厘米的乳膏涂在患处并轻轻按摩，一日</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喜辽妥软膏 （</a:t>
            </a:r>
            <a:r>
              <a:rPr b="1" lang="en-US" sz="2800" spc="-1" strike="noStrike">
                <a:solidFill>
                  <a:srgbClr val="8ac8de"/>
                </a:solidFill>
                <a:latin typeface="Verdana"/>
                <a:ea typeface="宋体"/>
              </a:rPr>
              <a:t>hirudo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偶见局部皮肤或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乳膏任何成分或肝素高度过敏者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开放性伤口和破损的皮肤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能直接涂抹于破损的皮肤和开放性伤口，避免接触眼睛或黏膜</a:t>
            </a:r>
            <a:endParaRPr b="0" lang="en-US" sz="2200" spc="-1" strike="noStrike">
              <a:solidFill>
                <a:srgbClr val="046ca6"/>
              </a:solidFill>
              <a:latin typeface="Arial"/>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成纤维细胞有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整形外科、烧伤、烫伤及手术后增生性瘢痕的辅助治疗</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在创面愈合（或拆线后</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a:t>
            </a:r>
            <a:r>
              <a:rPr b="0" lang="zh-CN" sz="2200" spc="-1" strike="noStrike">
                <a:solidFill>
                  <a:srgbClr val="046ca6"/>
                </a:solidFill>
                <a:latin typeface="Arial"/>
                <a:ea typeface="宋体"/>
              </a:rPr>
              <a:t>天）后使用；开始以每天</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敷贴愈合面，如无不适反应，可每天</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敷贴本产品，建议一个疗程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个月</a:t>
            </a:r>
            <a:endParaRPr b="0" lang="en-US" sz="2200" spc="-1" strike="noStrike">
              <a:solidFill>
                <a:srgbClr val="046ca6"/>
              </a:solidFill>
              <a:latin typeface="Arial"/>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6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硅凝胶敷料（</a:t>
            </a:r>
            <a:r>
              <a:rPr b="1" lang="en-US" sz="2800" spc="-1" strike="noStrike">
                <a:solidFill>
                  <a:srgbClr val="8ac8de"/>
                </a:solidFill>
                <a:latin typeface="Verdana"/>
                <a:ea typeface="宋体"/>
              </a:rPr>
              <a:t>silico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数患者可能出现搔痒或水疱等皮肤过敏反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如果皮肤或疤痕表面有创面或溃疡，不得使用本产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使用时必须轻揭，可以仅供一个人重复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成份有黄连，黄柏，黄芩，地龙，罂粟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促进创面愈合，促进溃疡愈合，有抗炎、止痛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用于各种深度、各种面积、各种原因引起的烧、烫伤、化学灼伤、皮肤创伤及创面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溃疡、压疮、褥疮、糖尿病皮肤溃疡、放射性溃疡等、增生性瘢痕、萎缩性瘢痕</a:t>
            </a:r>
            <a:endParaRPr b="0" lang="en-US" sz="2200" spc="-1" strike="noStrike">
              <a:solidFill>
                <a:srgbClr val="046ca6"/>
              </a:solidFill>
              <a:latin typeface="Arial"/>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烧伤：直接涂药烧伤及溃疡等创面，薄于</a:t>
            </a:r>
            <a:r>
              <a:rPr b="0" lang="en-US" sz="2200" spc="-1" strike="noStrike">
                <a:solidFill>
                  <a:srgbClr val="046ca6"/>
                </a:solidFill>
                <a:latin typeface="Arial"/>
                <a:ea typeface="宋体"/>
              </a:rPr>
              <a:t>1mm</a:t>
            </a:r>
            <a:r>
              <a:rPr b="0" lang="zh-CN" sz="2200" spc="-1" strike="noStrike">
                <a:solidFill>
                  <a:srgbClr val="046ca6"/>
                </a:solidFill>
                <a:latin typeface="Arial"/>
                <a:ea typeface="宋体"/>
              </a:rPr>
              <a:t>，每</a:t>
            </a:r>
            <a:r>
              <a:rPr b="0" lang="en-US" sz="2200" spc="-1" strike="noStrike">
                <a:solidFill>
                  <a:srgbClr val="046ca6"/>
                </a:solidFill>
                <a:latin typeface="Arial"/>
                <a:ea typeface="宋体"/>
              </a:rPr>
              <a:t>4h</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h1</a:t>
            </a:r>
            <a:r>
              <a:rPr b="0" lang="zh-CN" sz="2200" spc="-1" strike="noStrike">
                <a:solidFill>
                  <a:srgbClr val="046ca6"/>
                </a:solidFill>
                <a:latin typeface="Arial"/>
                <a:ea typeface="宋体"/>
              </a:rPr>
              <a:t>次，每次换药前将原来的残留药及渗出物沾净，一般</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天～</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天愈合</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痔疮的治疗：可直接将药涂于痔疮部位，早晚各</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其他：瘢痕治疗按化妆品方法使用，其他破溃性创面按深度和浅度创面的处理方法或按外科换药的方法使用</a:t>
            </a:r>
            <a:endParaRPr b="0" lang="en-US" sz="2200" spc="-1" strike="noStrike">
              <a:solidFill>
                <a:srgbClr val="046ca6"/>
              </a:solidFill>
              <a:latin typeface="Arial"/>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其他外科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湿润烧伤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尚不明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芝麻过敏者慎用，运动员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中等效果消毒剂，为原浆毒，可使菌体蛋白变性而起到杀菌作用，不能杀灭芽孢，对乙肝病毒基本无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消毒排泄物的处理、外科器械的消毒以及物品表面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5g/L</a:t>
            </a:r>
            <a:r>
              <a:rPr b="0" lang="zh-CN" sz="2200" spc="-1" strike="noStrike">
                <a:solidFill>
                  <a:srgbClr val="046ca6"/>
                </a:solidFill>
                <a:latin typeface="Arial"/>
                <a:ea typeface="宋体"/>
              </a:rPr>
              <a:t>苯酚水溶液浸泡或擦拭物体表面、地面，浸泡物品至少需要</a:t>
            </a:r>
            <a:r>
              <a:rPr b="0" lang="en-US" sz="2200" spc="-1" strike="noStrike">
                <a:solidFill>
                  <a:srgbClr val="046ca6"/>
                </a:solidFill>
                <a:latin typeface="Arial"/>
                <a:ea typeface="宋体"/>
              </a:rPr>
              <a:t>6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作防腐剂：可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苯酚保存标本或疫苗</a:t>
            </a:r>
            <a:endParaRPr b="0" lang="en-US" sz="2200" spc="-1" strike="noStrike">
              <a:solidFill>
                <a:srgbClr val="046ca6"/>
              </a:solidFill>
              <a:latin typeface="Arial"/>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苯酚（</a:t>
            </a:r>
            <a:r>
              <a:rPr b="1" lang="en-US" sz="2800" spc="-1" strike="noStrike">
                <a:solidFill>
                  <a:srgbClr val="8ac8de"/>
                </a:solidFill>
                <a:latin typeface="Verdana"/>
                <a:ea typeface="宋体"/>
              </a:rPr>
              <a:t>phen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用于黏膜消毒，对橡胶制品有损坏作用，易使其变脆变硬。</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现临床上已很少作消毒剂用，但常以其为标准（石炭酸系数），评价各种酚类衍生物和其他消毒剂的杀菌能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一定的毒性和不良气味，使用时需做好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8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配方为甲酚</a:t>
            </a:r>
            <a:r>
              <a:rPr b="0" lang="en-US" sz="2200" spc="-1" strike="noStrike">
                <a:solidFill>
                  <a:srgbClr val="046ca6"/>
                </a:solidFill>
                <a:latin typeface="Arial"/>
                <a:ea typeface="宋体"/>
              </a:rPr>
              <a:t>500g</a:t>
            </a:r>
            <a:r>
              <a:rPr b="0" lang="zh-CN" sz="2200" spc="-1" strike="noStrike">
                <a:solidFill>
                  <a:srgbClr val="046ca6"/>
                </a:solidFill>
                <a:latin typeface="Arial"/>
                <a:ea typeface="宋体"/>
              </a:rPr>
              <a:t>，植物油</a:t>
            </a:r>
            <a:r>
              <a:rPr b="0" lang="en-US" sz="2200" spc="-1" strike="noStrike">
                <a:solidFill>
                  <a:srgbClr val="046ca6"/>
                </a:solidFill>
                <a:latin typeface="Arial"/>
                <a:ea typeface="宋体"/>
              </a:rPr>
              <a:t>173g</a:t>
            </a:r>
            <a:r>
              <a:rPr b="0" lang="zh-CN" sz="2200" spc="-1" strike="noStrike">
                <a:solidFill>
                  <a:srgbClr val="046ca6"/>
                </a:solidFill>
                <a:latin typeface="Arial"/>
                <a:ea typeface="宋体"/>
              </a:rPr>
              <a:t>，氢氧化钠</a:t>
            </a:r>
            <a:r>
              <a:rPr b="0" lang="en-US" sz="2200" spc="-1" strike="noStrike">
                <a:solidFill>
                  <a:srgbClr val="046ca6"/>
                </a:solidFill>
                <a:latin typeface="Arial"/>
                <a:ea typeface="宋体"/>
              </a:rPr>
              <a:t>27g</a:t>
            </a:r>
            <a:r>
              <a:rPr b="0" lang="zh-CN" sz="2200" spc="-1" strike="noStrike">
                <a:solidFill>
                  <a:srgbClr val="046ca6"/>
                </a:solidFill>
                <a:latin typeface="Arial"/>
                <a:ea typeface="宋体"/>
              </a:rPr>
              <a:t>，加水至</a:t>
            </a:r>
            <a:r>
              <a:rPr b="0" lang="en-US" sz="2200" spc="-1" strike="noStrike">
                <a:solidFill>
                  <a:srgbClr val="046ca6"/>
                </a:solidFill>
                <a:latin typeface="Arial"/>
                <a:ea typeface="宋体"/>
              </a:rPr>
              <a:t>1000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为通过噬菌体蛋白质变性而显效，抗菌作用比苯酚强</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而腐蚀性及毒性则较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故能杀死大多数细菌，高浓度长时间可杀灭芽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苯酚相同，主要用于消毒器具、环境及处理排泄物</a:t>
            </a:r>
            <a:endParaRPr b="0" lang="en-US" sz="22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可氧化细菌外层结构，致细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清洗创面、溃疡、脓窦、耳内脓液，也可对不耐热器材浸泡消毒，室内空气消毒，物品熏蒸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水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氧化氢气体</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煤酚皂溶液经水稀释后为常用的消毒剂，可用</a:t>
            </a:r>
            <a:r>
              <a:rPr b="0" lang="en-US" sz="2200" spc="-1" strike="noStrike">
                <a:solidFill>
                  <a:srgbClr val="046ca6"/>
                </a:solidFill>
                <a:latin typeface="Arial"/>
                <a:ea typeface="宋体"/>
              </a:rPr>
              <a:t>30g/L</a:t>
            </a:r>
            <a:r>
              <a:rPr b="0" lang="zh-CN" sz="2200" spc="-1" strike="noStrike">
                <a:solidFill>
                  <a:srgbClr val="046ca6"/>
                </a:solidFill>
                <a:latin typeface="Arial"/>
                <a:ea typeface="宋体"/>
              </a:rPr>
              <a:t>的煤酚皂溶液稀释浸泡污染物品和擦拭物品表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良反应同苯酚，甲酚对皮肤和黏膜有腐蚀性，必须稀释后应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吸收后药物可直接氧化红细胞，可出现溶血反应或引起高铁血红蛋白血症</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酚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煤酚皂溶液（</a:t>
            </a:r>
            <a:r>
              <a:rPr b="1" lang="en-US" sz="2800" spc="-1" strike="noStrike">
                <a:solidFill>
                  <a:srgbClr val="8ac8de"/>
                </a:solidFill>
                <a:latin typeface="Verdana"/>
                <a:ea typeface="宋体"/>
              </a:rPr>
              <a:t>liquid of cresol with soap</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因橡皮、塑料或织布可吸收甲酚，故不宜用本品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接触皮肤可发生灼伤，用大量温水冲洗后硫酸钠饱和溶液湿敷</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稀释摇匀后再用，禁用于皮肤伤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密封保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醇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乙醇</a:t>
            </a:r>
            <a:r>
              <a:rPr b="1" lang="en-US" sz="2800" spc="-1" strike="noStrike">
                <a:solidFill>
                  <a:srgbClr val="8ac8de"/>
                </a:solidFill>
                <a:latin typeface="Verdana"/>
                <a:ea typeface="宋体"/>
              </a:rPr>
              <a:t>(ethanol)</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内容同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19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灭微生物的机制主要是烷基化作用，具有强大的杀菌作用，增加温度可加速其杀芽孢的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的作用是消毒和防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污染物品、医疗器械、内镜消毒，也可用于气体熏蒸消毒</a:t>
            </a:r>
            <a:endParaRPr b="0" lang="en-US" sz="22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水溶液常温下浸泡</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器械消毒：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乙醇中加入</a:t>
            </a:r>
            <a:r>
              <a:rPr b="0" lang="en-US" sz="2200" spc="-1" strike="noStrike">
                <a:solidFill>
                  <a:srgbClr val="046ca6"/>
                </a:solidFill>
                <a:latin typeface="Arial"/>
                <a:ea typeface="宋体"/>
              </a:rPr>
              <a:t>80g/L</a:t>
            </a:r>
            <a:r>
              <a:rPr b="0" lang="zh-CN" sz="2200" spc="-1" strike="noStrike">
                <a:solidFill>
                  <a:srgbClr val="046ca6"/>
                </a:solidFill>
                <a:latin typeface="Arial"/>
                <a:ea typeface="宋体"/>
              </a:rPr>
              <a:t>的甲醛可作为医疗器械消毒液，对清洁器械浸泡</a:t>
            </a:r>
            <a:r>
              <a:rPr b="0" lang="en-US" sz="2200" spc="-1" strike="noStrike">
                <a:solidFill>
                  <a:srgbClr val="046ca6"/>
                </a:solidFill>
                <a:latin typeface="Arial"/>
                <a:ea typeface="宋体"/>
              </a:rPr>
              <a:t>1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4</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熏蒸消毒：常温下，使用甲醛</a:t>
            </a:r>
            <a:r>
              <a:rPr b="0" lang="en-US" sz="2200" spc="-1" strike="noStrike">
                <a:solidFill>
                  <a:srgbClr val="046ca6"/>
                </a:solidFill>
                <a:latin typeface="Arial"/>
                <a:ea typeface="宋体"/>
              </a:rPr>
              <a:t>25ml/m</a:t>
            </a:r>
            <a:r>
              <a:rPr b="0" lang="en-US" sz="2200" spc="-1" strike="noStrike" baseline="30000">
                <a:solidFill>
                  <a:srgbClr val="046ca6"/>
                </a:solidFill>
                <a:latin typeface="Arial"/>
                <a:ea typeface="宋体"/>
              </a:rPr>
              <a:t>3</a:t>
            </a:r>
            <a:r>
              <a:rPr b="0" lang="zh-CN" sz="2200" spc="-1" strike="noStrike">
                <a:solidFill>
                  <a:srgbClr val="046ca6"/>
                </a:solidFill>
                <a:latin typeface="Arial"/>
                <a:ea typeface="宋体"/>
              </a:rPr>
              <a:t>，通过加热或化学法产生甲醛气体，密闭门窗</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以上可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可用负压低温蒸汽甲醛对内镜进行消毒，最佳温度为</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a:t>
            </a:r>
            <a:r>
              <a:rPr b="0" lang="zh-CN" sz="2200" spc="-1" strike="noStrike">
                <a:solidFill>
                  <a:srgbClr val="046ca6"/>
                </a:solidFill>
                <a:latin typeface="Arial"/>
                <a:ea typeface="宋体"/>
              </a:rPr>
              <a:t>，相对湿度</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甲醛蒸汽浓度应为</a:t>
            </a:r>
            <a:r>
              <a:rPr b="0" lang="en-US" sz="2200" spc="-1" strike="noStrike">
                <a:solidFill>
                  <a:srgbClr val="046ca6"/>
                </a:solidFill>
                <a:latin typeface="Arial"/>
                <a:ea typeface="宋体"/>
              </a:rPr>
              <a:t>125mg/L</a:t>
            </a:r>
            <a:r>
              <a:rPr b="0" lang="zh-CN" sz="2200" spc="-1" strike="noStrike">
                <a:solidFill>
                  <a:srgbClr val="046ca6"/>
                </a:solidFill>
                <a:latin typeface="Arial"/>
                <a:ea typeface="宋体"/>
              </a:rPr>
              <a:t>，维持灭菌时间至少</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整个灭菌周期</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min</a:t>
            </a:r>
            <a:endParaRPr b="0" lang="en-US" sz="22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甲醛（</a:t>
            </a:r>
            <a:r>
              <a:rPr b="1" lang="en-US" sz="2800" spc="-1" strike="noStrike">
                <a:solidFill>
                  <a:srgbClr val="8ac8de"/>
                </a:solidFill>
                <a:latin typeface="Verdana"/>
                <a:ea typeface="宋体"/>
              </a:rPr>
              <a:t>form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呼吸道具有强烈刺激作用，溶液对皮肤会产生损害，导致湿疹、过敏反应，误食可引起全身中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物污染皮肤可以立即用肥皂和水清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甲醛消毒箱消毒物品时，禁用自然挥发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穿透力差，消毒物品应充分暴露，否则难以达到消毒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后特别要注意去除残留气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甲醛气体具有可燃性，熏蒸时应避免明火</a:t>
            </a:r>
            <a:endParaRPr b="0" lang="en-US" sz="2200" spc="-1" strike="noStrike">
              <a:solidFill>
                <a:srgbClr val="046ca6"/>
              </a:solidFill>
              <a:latin typeface="Arial"/>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作为消毒剂优于甲醛，其作用比甲醛强</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药物与菌体蛋白质交叉联结和沉淀蛋白而达杀灭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杀灭细菌繁殖体、真菌和结核杆菌、细菌芽胞，以及病毒灭活</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广谱高效的消毒剂和灭菌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各种医疗器械、污染物品、内窥镜、温度计、橡胶、塑料制品、玻璃器皿的消毒</a:t>
            </a:r>
            <a:endParaRPr b="0" lang="en-US" sz="22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物品消毒：可用戊二醛浸泡物品</a:t>
            </a:r>
            <a:r>
              <a:rPr b="0" lang="en-US" sz="2200" spc="-1" strike="noStrike">
                <a:solidFill>
                  <a:srgbClr val="046ca6"/>
                </a:solidFill>
                <a:latin typeface="Arial"/>
                <a:ea typeface="宋体"/>
              </a:rPr>
              <a:t>30min</a:t>
            </a:r>
            <a:r>
              <a:rPr b="0" lang="zh-CN" sz="2200" spc="-1" strike="noStrike">
                <a:solidFill>
                  <a:srgbClr val="046ca6"/>
                </a:solidFill>
                <a:latin typeface="Arial"/>
                <a:ea typeface="宋体"/>
              </a:rPr>
              <a:t>达到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外科器械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可用于各种不怕湿的医疗器械消毒与灭菌，浸泡</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小时可达到灭菌要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可用</a:t>
            </a:r>
            <a:r>
              <a:rPr b="0" lang="en-US" sz="2200" spc="-1" strike="noStrike">
                <a:solidFill>
                  <a:srgbClr val="046ca6"/>
                </a:solidFill>
                <a:latin typeface="Arial"/>
                <a:ea typeface="宋体"/>
              </a:rPr>
              <a:t>20g/L</a:t>
            </a:r>
            <a:r>
              <a:rPr b="0" lang="zh-CN" sz="2200" spc="-1" strike="noStrike">
                <a:solidFill>
                  <a:srgbClr val="046ca6"/>
                </a:solidFill>
                <a:latin typeface="Arial"/>
                <a:ea typeface="宋体"/>
              </a:rPr>
              <a:t>的戊二醛溶液擦拭物品表面进行消毒，需要擦拭两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内镜消毒：消毒前需要清洗去污并用清水冲洗干净，消毒后用无菌蒸馏水冲洗干净内镜后即可使用或干燥保存</a:t>
            </a:r>
            <a:endParaRPr b="0" lang="en-US" sz="2200" spc="-1" strike="noStrike">
              <a:solidFill>
                <a:srgbClr val="046ca6"/>
              </a:solidFill>
              <a:latin typeface="Arial"/>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醛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戊二醛（</a:t>
            </a:r>
            <a:r>
              <a:rPr b="1" lang="en-US" sz="2800" spc="-1" strike="noStrike">
                <a:solidFill>
                  <a:srgbClr val="8ac8de"/>
                </a:solidFill>
                <a:latin typeface="Verdana"/>
                <a:ea typeface="宋体"/>
              </a:rPr>
              <a:t>glutaraldehy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对皮肤、黏膜的刺激性较甲醛小，但其蒸汽对皮肤、眼睛及呼吸道有刺激作用，可引起过敏性哮喘与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杀细菌芽孢效果受</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影响大，使用强化酸性戊二醛消毒前，先用碳酸氢钠将溶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调节至</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3</a:t>
            </a:r>
            <a:r>
              <a:rPr b="0" lang="zh-CN" sz="2200" spc="-1" strike="noStrike">
                <a:solidFill>
                  <a:srgbClr val="046ca6"/>
                </a:solidFill>
                <a:latin typeface="Arial"/>
                <a:ea typeface="宋体"/>
              </a:rPr>
              <a:t>后再浸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光学仪器无害，而对铝制品、手术刀片等碳钢制品有腐蚀性，须先加入</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亚硝酸钠作防锈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戊二醛消毒时，要注意环境通风良好，操作人员做好眼睛、皮肤、呼吸道的防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17" name=""/>
          <p:cNvSpPr txBox="1"/>
          <p:nvPr/>
        </p:nvSpPr>
        <p:spPr>
          <a:xfrm>
            <a:off x="32400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乳酸（</a:t>
            </a:r>
            <a:r>
              <a:rPr b="1" lang="en-US" sz="2800" spc="-1" strike="noStrike">
                <a:solidFill>
                  <a:srgbClr val="8ac8de"/>
                </a:solidFill>
                <a:latin typeface="Verdana"/>
                <a:ea typeface="宋体"/>
              </a:rPr>
              <a:t>lac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酸性防腐药，以其酸性改变微生物的生长环境，影响微生物的代谢而抑制其生长繁殖，故杀菌作用不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黏膜消毒和空气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用</a:t>
            </a:r>
            <a:r>
              <a:rPr b="0" lang="en-US" sz="2200" spc="-1" strike="noStrike">
                <a:solidFill>
                  <a:srgbClr val="046ca6"/>
                </a:solidFill>
                <a:latin typeface="Arial"/>
                <a:ea typeface="宋体"/>
              </a:rPr>
              <a:t>200mg/L</a:t>
            </a:r>
            <a:r>
              <a:rPr b="0" lang="zh-CN" sz="2200" spc="-1" strike="noStrike">
                <a:solidFill>
                  <a:srgbClr val="046ca6"/>
                </a:solidFill>
                <a:latin typeface="Arial"/>
                <a:ea typeface="宋体"/>
              </a:rPr>
              <a:t>浓度的乳酸水溶液配制含漱液，口腔含漱</a:t>
            </a:r>
            <a:r>
              <a:rPr b="0" lang="en-US" sz="2200" spc="-1" strike="noStrike">
                <a:solidFill>
                  <a:srgbClr val="046ca6"/>
                </a:solidFill>
                <a:latin typeface="Arial"/>
                <a:ea typeface="宋体"/>
              </a:rPr>
              <a:t>1min</a:t>
            </a:r>
            <a:r>
              <a:rPr b="0" lang="zh-CN" sz="2200" spc="-1" strike="noStrike">
                <a:solidFill>
                  <a:srgbClr val="046ca6"/>
                </a:solidFill>
                <a:latin typeface="Arial"/>
                <a:ea typeface="宋体"/>
              </a:rPr>
              <a:t>可达到除菌</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a:t>
            </a:r>
            <a:r>
              <a:rPr b="0" lang="zh-CN" sz="2200" spc="-1" strike="noStrike">
                <a:solidFill>
                  <a:srgbClr val="046ca6"/>
                </a:solidFill>
                <a:latin typeface="Arial"/>
                <a:ea typeface="宋体"/>
              </a:rPr>
              <a:t>的效果</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有强刺激性和腐蚀性，与氧化剂禁忌配伍</a:t>
            </a:r>
            <a:endParaRPr b="0" lang="en-US" sz="2200" spc="-1" strike="noStrike">
              <a:solidFill>
                <a:srgbClr val="046ca6"/>
              </a:solidFill>
              <a:latin typeface="Arial"/>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化氢溶液（</a:t>
            </a:r>
            <a:r>
              <a:rPr b="1" lang="en-US" sz="2800" spc="-1" strike="noStrike">
                <a:solidFill>
                  <a:srgbClr val="8ac8de"/>
                </a:solidFill>
                <a:latin typeface="Verdana"/>
                <a:ea typeface="宋体"/>
              </a:rPr>
              <a:t>hydrogen per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无毒类型消毒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和黏膜产生刺激性灼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有机物、碱、生物碱、碘化物、高锰酸钾和其他较强氧化剂有配伍禁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在碱性条件下使用</a:t>
            </a:r>
            <a:endParaRPr b="0" lang="en-US" sz="2200" spc="-1" strike="noStrike">
              <a:solidFill>
                <a:srgbClr val="046ca6"/>
              </a:solidFill>
              <a:latin typeface="Arial"/>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细菌蛋白质中的氨基酸结合而发挥抑菌作用，属于弱防腐药，对细菌和真菌有弱的抑制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皮肤、黏膜消毒，伤口处理</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溶液常用于黏膜冲洗</a:t>
            </a:r>
            <a:endParaRPr b="0" lang="en-US" sz="2200" spc="-1" strike="noStrike">
              <a:solidFill>
                <a:srgbClr val="046ca6"/>
              </a:solidFill>
              <a:latin typeface="Arial"/>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酸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硼酸（</a:t>
            </a:r>
            <a:r>
              <a:rPr b="1" lang="en-US" sz="2800" spc="-1" strike="noStrike">
                <a:solidFill>
                  <a:srgbClr val="8ac8de"/>
                </a:solidFill>
                <a:latin typeface="Verdana"/>
                <a:ea typeface="宋体"/>
              </a:rPr>
              <a:t>bor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一般外用，毒性不大，但大量吸收后，可出现恶心、呕吐等副反应，严重者可因循环衰竭而死亡</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禁止内服，婴儿及哺乳期乳头擦洗禁用，以免造成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用于大面积创伤或连续灌洗肉芽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硼酸与聚乙烯醇和鞣酸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水反应生成非解离的次氯酸，氧化破坏菌体细胞膜及酶系统，本身与菌体蛋白结合使其脱水、变形呈现强杀力对细菌、病毒、芽孢等均有强杀灭作用，对肝炎病毒表面抗原灭活更佳</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效、快速、广谱消毒剂，可有效杀灭各种微生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各种用具、内衣裤、排泄物及不锈钢器械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2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医疗物品浸泡消毒：有效氯含量为</a:t>
            </a:r>
            <a:r>
              <a:rPr b="0" lang="en-US" sz="2200" spc="-1" strike="noStrike">
                <a:solidFill>
                  <a:srgbClr val="046ca6"/>
                </a:solidFill>
                <a:latin typeface="Arial"/>
                <a:ea typeface="宋体"/>
              </a:rPr>
              <a:t>1500mg/L</a:t>
            </a:r>
            <a:r>
              <a:rPr b="0" lang="zh-CN" sz="2200" spc="-1" strike="noStrike">
                <a:solidFill>
                  <a:srgbClr val="046ca6"/>
                </a:solidFill>
                <a:latin typeface="Arial"/>
                <a:ea typeface="宋体"/>
              </a:rPr>
              <a:t>的次氯酸钠水溶液浸泡</a:t>
            </a:r>
            <a:r>
              <a:rPr b="0" lang="en-US" sz="2200" spc="-1" strike="noStrike">
                <a:solidFill>
                  <a:srgbClr val="046ca6"/>
                </a:solidFill>
                <a:latin typeface="Arial"/>
                <a:ea typeface="宋体"/>
              </a:rPr>
              <a:t>30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品表面消毒：</a:t>
            </a:r>
            <a:r>
              <a:rPr b="0" lang="en-US" sz="2200" spc="-1" strike="noStrike">
                <a:solidFill>
                  <a:srgbClr val="046ca6"/>
                </a:solidFill>
                <a:latin typeface="Arial"/>
                <a:ea typeface="宋体"/>
              </a:rPr>
              <a:t>2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00mg/L</a:t>
            </a:r>
            <a:r>
              <a:rPr b="0" lang="zh-CN" sz="2200" spc="-1" strike="noStrike">
                <a:solidFill>
                  <a:srgbClr val="046ca6"/>
                </a:solidFill>
                <a:latin typeface="Arial"/>
                <a:ea typeface="宋体"/>
              </a:rPr>
              <a:t>对物品表面进行擦拭消毒，时间为</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消毒：</a:t>
            </a:r>
            <a:r>
              <a:rPr b="0" lang="en-US" sz="2200" spc="-1" strike="noStrike">
                <a:solidFill>
                  <a:srgbClr val="046ca6"/>
                </a:solidFill>
                <a:latin typeface="Arial"/>
                <a:ea typeface="宋体"/>
              </a:rPr>
              <a:t>250mg/L</a:t>
            </a:r>
            <a:r>
              <a:rPr b="0" lang="zh-CN" sz="2200" spc="-1" strike="noStrike">
                <a:solidFill>
                  <a:srgbClr val="046ca6"/>
                </a:solidFill>
                <a:latin typeface="Arial"/>
                <a:ea typeface="宋体"/>
              </a:rPr>
              <a:t>的次氯酸钠水溶液预防性手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餐具消毒、水体消毒、所、便盆和浴盆消毒</a:t>
            </a:r>
            <a:endParaRPr b="0" lang="en-US" sz="2200" spc="-1" strike="noStrike">
              <a:solidFill>
                <a:srgbClr val="046ca6"/>
              </a:solidFill>
              <a:latin typeface="Arial"/>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氯酸钠（</a:t>
            </a:r>
            <a:r>
              <a:rPr b="1" lang="en-US" sz="2800" spc="-1" strike="noStrike">
                <a:solidFill>
                  <a:srgbClr val="8ac8de"/>
                </a:solidFill>
                <a:latin typeface="Verdana"/>
                <a:ea typeface="宋体"/>
              </a:rPr>
              <a:t>sodium hypochlori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刺激作用，浓溶液对皮肤有强腐蚀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含有本品的各种药液，均有刺激性和腐蚀性，不可浸泡金属器械，避免接触眼睛</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遇酸易分解出氯气和氧气</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药液应低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避光、密塞保存，注意有效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微生物细胞蛋白质直接碘化、氧化，呈现强杀菌力，对细菌、真菌、芽孢、病毒、阿米巴原虫、藻类等均有杀灭作用，杀菌力、腐蚀性、刺激性均与药物浓度成正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消毒，也用于甲状腺疾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的碘酊用于皮肤消毒，待干后再用</a:t>
            </a:r>
            <a:r>
              <a:rPr b="0" lang="en-US" sz="2200" spc="-1" strike="noStrike">
                <a:solidFill>
                  <a:srgbClr val="046ca6"/>
                </a:solidFill>
                <a:latin typeface="Arial"/>
                <a:ea typeface="宋体"/>
              </a:rPr>
              <a:t>70%</a:t>
            </a:r>
            <a:r>
              <a:rPr b="0" lang="zh-CN" sz="2200" spc="-1" strike="noStrike">
                <a:solidFill>
                  <a:srgbClr val="046ca6"/>
                </a:solidFill>
                <a:latin typeface="Arial"/>
                <a:ea typeface="宋体"/>
              </a:rPr>
              <a:t>的乙醇脱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浓碘酊治疗甲癣，碘甘油（含碘量</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用于口腔黏膜及齿龈感染，口服复方碘溶液，用于甲状腺危象、甲状腺功能亢进的手术前用药</a:t>
            </a:r>
            <a:endParaRPr b="0" lang="en-US" sz="22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3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碘（</a:t>
            </a:r>
            <a:r>
              <a:rPr b="1" lang="en-US" sz="2800" spc="-1" strike="noStrike">
                <a:solidFill>
                  <a:srgbClr val="8ac8de"/>
                </a:solidFill>
                <a:latin typeface="Verdana"/>
                <a:ea typeface="宋体"/>
              </a:rPr>
              <a:t>i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应用碘和碘化合物可发生精神抑郁、失眠、阳痿和粘液性水肿，服用过量碘或误服高浓度碘剂，可产生急性中毒症状及对消化道的腐蚀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者禁用本品。妊娠及哺乳期妇女应慎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碘酊消毒皮肤后须用酒精进行脱碘，否则可引起皮肤“碘烧伤”，碘酊不可用于面部或黏膜消毒，可产生色素沉着</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误服大量碘可用淀粉及</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硫代硫酸钠溶液洗胃解救</a:t>
            </a:r>
            <a:endParaRPr b="0" lang="en-US" sz="2200" spc="-1" strike="noStrike">
              <a:solidFill>
                <a:srgbClr val="046ca6"/>
              </a:solidFill>
              <a:latin typeface="Arial"/>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聚维酮碘（</a:t>
            </a:r>
            <a:r>
              <a:rPr b="1" lang="en-US" sz="2800" spc="-1" strike="noStrike">
                <a:solidFill>
                  <a:srgbClr val="8ac8de"/>
                </a:solidFill>
                <a:latin typeface="Verdana"/>
                <a:ea typeface="宋体"/>
              </a:rPr>
              <a:t>Polyvidone-lodin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聚维酮与碘结合而成的松散络合物，在水中析出碘而起杀菌作用，其作用机制与碘伏相同</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术部位及手术者手的皮肤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过敏慎用，烧伤面积大于</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者，不宜局部应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47" name=""/>
          <p:cNvSpPr txBox="1"/>
          <p:nvPr/>
        </p:nvSpPr>
        <p:spPr>
          <a:xfrm>
            <a:off x="324000" y="1341000"/>
            <a:ext cx="8610480" cy="487692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卤素类</a:t>
            </a:r>
            <a:endParaRPr b="1" lang="en-US" sz="2800" spc="-1" strike="noStrike">
              <a:solidFill>
                <a:srgbClr val="8ac8de"/>
              </a:solidFill>
              <a:latin typeface="Verdan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碘仿（</a:t>
            </a:r>
            <a:r>
              <a:rPr b="1" lang="en-US" sz="2800" spc="-1" strike="noStrike">
                <a:solidFill>
                  <a:srgbClr val="8ac8de"/>
                </a:solidFill>
                <a:latin typeface="Verdana"/>
                <a:ea typeface="宋体"/>
              </a:rPr>
              <a:t>iodoform</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缓慢溶解并释放出碘，呈现防腐、杀菌、除臭的功效</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目前临床已较少使用</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制成</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的碘仿纱条用于填充易污染的伤口</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长期或大面积创面上应用，会出现碘全身性中毒症状</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碱、氧化剂、铅、银、盐禁忌配伍</a:t>
            </a:r>
            <a:endParaRPr b="0" lang="en-US" sz="22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5" name=""/>
          <p:cNvSpPr txBox="1"/>
          <p:nvPr/>
        </p:nvSpPr>
        <p:spPr>
          <a:xfrm>
            <a:off x="324000" y="1341000"/>
            <a:ext cx="8820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氧化剂，将微生物酶的巯基氧化成硫硫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效杀灭各种细菌繁殖体、真菌和结核杆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消毒、除臭消毒、水果、餐具的消毒以及中毒时洗胃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皮肤、黏膜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物体表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果蔬菜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过氧乙酸（</a:t>
            </a:r>
            <a:r>
              <a:rPr b="1" lang="en-US" sz="2800" spc="-1" strike="noStrike">
                <a:solidFill>
                  <a:srgbClr val="8ac8de"/>
                </a:solidFill>
                <a:latin typeface="Verdana"/>
                <a:ea typeface="宋体"/>
              </a:rPr>
              <a:t>pracetic ac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见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溶性强氧化剂，干扰其酶系统功能而发挥抗菌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用于创面处理和皮肤黏膜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溶液用于清洗创面，适用于厌氧菌感染</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过氧化氢（</a:t>
            </a:r>
            <a:r>
              <a:rPr b="1" lang="en-US" sz="2800" spc="-1" strike="noStrike">
                <a:solidFill>
                  <a:srgbClr val="8ac8de"/>
                </a:solidFill>
                <a:latin typeface="Verdana"/>
                <a:ea typeface="宋体"/>
              </a:rPr>
              <a:t>hydrogen di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高浓度对皮肤、黏膜产生刺激性灼伤，形成疼痛性</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白痂</a:t>
            </a:r>
            <a:r>
              <a:rPr b="0" lang="en-US" sz="2200" spc="-1" strike="noStrike">
                <a:solidFill>
                  <a:srgbClr val="046ca6"/>
                </a:solidFill>
                <a:latin typeface="Arial"/>
                <a:ea typeface="宋体"/>
              </a:rPr>
              <a:t>”</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用手直接接触浓溶液，与有机物、碱、生物碱、碘化物、高锰酸钾和其它较强氧化剂禁忌配伍，遇光、热等易分解变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59"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氧化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参考之前内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2"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的广谱抗菌作用，对革兰氏阳性、阴性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口腔感染，皮肤、器械的消毒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溶液含漱；</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水溶液，加入</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亚硝酸钠浸泡消毒器械；</a:t>
            </a:r>
            <a:r>
              <a:rPr b="0" lang="en-US" sz="2200" spc="-1" strike="noStrike">
                <a:solidFill>
                  <a:srgbClr val="046ca6"/>
                </a:solidFill>
                <a:latin typeface="Arial"/>
                <a:ea typeface="宋体"/>
              </a:rPr>
              <a:t>0.02%</a:t>
            </a:r>
            <a:r>
              <a:rPr b="0" lang="zh-CN" sz="2200" spc="-1" strike="noStrike">
                <a:solidFill>
                  <a:srgbClr val="046ca6"/>
                </a:solidFill>
                <a:latin typeface="Arial"/>
                <a:ea typeface="宋体"/>
              </a:rPr>
              <a:t>消毒泡手</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引起接触性皮炎，高浓度溶液对结膜刺激性强</a:t>
            </a:r>
            <a:endParaRPr b="0" lang="en-US" sz="2200" spc="-1" strike="noStrike">
              <a:solidFill>
                <a:srgbClr val="046ca6"/>
              </a:solidFill>
              <a:latin typeface="Arial"/>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醋酸氯己定（</a:t>
            </a:r>
            <a:r>
              <a:rPr b="1" lang="en-US" sz="2800" spc="-1" strike="noStrike">
                <a:solidFill>
                  <a:srgbClr val="8ac8de"/>
                </a:solidFill>
                <a:latin typeface="Verdana"/>
                <a:ea typeface="宋体"/>
              </a:rPr>
              <a:t>chlorhexidine acet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免高浓度药液接触眼睛或其他敏感组织</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洗必泰不能杀死乙型肝炎病毒、结核分枝杆菌和芽孢，故不适用于外科手术器械的灭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本品碘酊、甲醛等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长时间加热可分解，</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以上溶液不能高压灭菌，</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以下溶液高压灭菌时，不得超过</a:t>
            </a:r>
            <a:r>
              <a:rPr b="0" lang="en-US" sz="2200" spc="-1" strike="noStrike">
                <a:solidFill>
                  <a:srgbClr val="046ca6"/>
                </a:solidFill>
                <a:latin typeface="Arial"/>
                <a:ea typeface="宋体"/>
              </a:rPr>
              <a:t>1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16℃ 30</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6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季铵盐阳离子表面活性剂，对革兰氏阳性细菌作用较强，杀菌力强，穿透力好、毒性低，刺激性小等特点</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手、皮肤、黏膜、器械等的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0.0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溶液用于黏膜、手、器具的消毒；</a:t>
            </a:r>
            <a:r>
              <a:rPr b="0" lang="en-US" sz="2200" spc="-1" strike="noStrike">
                <a:solidFill>
                  <a:srgbClr val="046ca6"/>
                </a:solidFill>
                <a:latin typeface="Arial"/>
                <a:ea typeface="宋体"/>
              </a:rPr>
              <a:t>0.1%</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0.5%</a:t>
            </a:r>
            <a:r>
              <a:rPr b="0" lang="zh-CN" sz="2200" spc="-1" strike="noStrike">
                <a:solidFill>
                  <a:srgbClr val="046ca6"/>
                </a:solidFill>
                <a:latin typeface="Arial"/>
                <a:ea typeface="宋体"/>
              </a:rPr>
              <a:t>用于病室物品等擦拭消毒</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表面活性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苯扎溴铵（</a:t>
            </a:r>
            <a:r>
              <a:rPr b="1" lang="en-US" sz="2800" spc="-1" strike="noStrike">
                <a:solidFill>
                  <a:srgbClr val="8ac8de"/>
                </a:solidFill>
                <a:latin typeface="Verdana"/>
                <a:ea typeface="宋体"/>
              </a:rPr>
              <a:t>benzalkonium brom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洁尔灭可致变态反应性结膜炎、视力减退、接触性皮炎</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口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适用于膀胱镜、眼科器械、合成橡胶制品、饮水、排泄物及铝制品的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阴离子表面活性剂合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en-US" sz="2800" spc="-1" strike="noStrike">
                <a:solidFill>
                  <a:srgbClr val="8ac8de"/>
                </a:solidFill>
                <a:latin typeface="Verdana"/>
                <a:ea typeface="宋体"/>
              </a:rPr>
              <a:t>汞溴红</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rbromin</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机汞化合物，杀菌作用弱</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毒性大，目前已很少使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溶液作皮肤及表浅创面消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酸、大多数生物碱盐和多种局部麻醉药禁忌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可与碘酊同时涂抹一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7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en-US" sz="2800" spc="-1" strike="noStrike">
                <a:solidFill>
                  <a:srgbClr val="8ac8de"/>
                </a:solidFill>
                <a:latin typeface="Verdana"/>
                <a:ea typeface="宋体"/>
              </a:rPr>
              <a:t>甲紫</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methyl viole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与微生物酶系统竞争氢离子，对革兰氏阳性菌、真菌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少引起接触性皮炎，局部吸收后可引起恶心、腹泻、肠绞痛、头晕目眩、黏膜溃疡等</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皮肤、黏膜、创伤感染及真菌感染</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面部溃疡性损伤禁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 </a:t>
            </a:r>
            <a:r>
              <a:rPr b="0" lang="zh-CN" sz="2200" spc="-1" strike="noStrike">
                <a:solidFill>
                  <a:srgbClr val="046ca6"/>
                </a:solidFill>
                <a:latin typeface="Arial"/>
                <a:ea typeface="宋体"/>
              </a:rPr>
              <a:t>有伤口应禁用</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1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高锰酸钾（</a:t>
            </a:r>
            <a:r>
              <a:rPr b="1" lang="en-US" sz="2800" spc="-1" strike="noStrike">
                <a:solidFill>
                  <a:srgbClr val="8ac8de"/>
                </a:solidFill>
                <a:latin typeface="Verdana"/>
                <a:ea typeface="宋体"/>
              </a:rPr>
              <a:t>potassium permanganat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反复多次外用可引起灼伤，口服有恶心、呕吐、水肿、口腔黏膜着色</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损害、循环衰竭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避光保存，水溶液不稳定，易分解</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0"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重金属化合物及染料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en-US" sz="2800" spc="-1" strike="noStrike">
                <a:solidFill>
                  <a:srgbClr val="8ac8de"/>
                </a:solidFill>
                <a:latin typeface="Verdana"/>
                <a:ea typeface="宋体"/>
              </a:rPr>
              <a:t>雷佛奴尔</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ivanol</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药物作用及特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较强抗菌作用，对各种化脓菌均有效</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肝肾功能损伤者不宜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用法及注意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外科创伤，皮肤和黏膜炎症，溃疡等局部治疗</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宜与氧化物或碱性溶液配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避光保存</a:t>
            </a:r>
            <a:endParaRPr b="0" lang="en-US" sz="22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类烷基化合物，使菌体蛋白烷基化，阻碍细菌新陈代谢，对细菌、病毒、芽孢及各种致病微生物均有效，本品穿透力强</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于器械、仪器、被服、敷料、塑料及橡胶制品、包装材料以及某些药物和食物的干燥冷（常温）消毒</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使用的浓度为</a:t>
            </a:r>
            <a:r>
              <a:rPr b="0" lang="en-US" sz="2200" spc="-1" strike="noStrike">
                <a:solidFill>
                  <a:srgbClr val="046ca6"/>
                </a:solidFill>
                <a:latin typeface="Arial"/>
                <a:ea typeface="宋体"/>
              </a:rPr>
              <a:t>45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800mg/L</a:t>
            </a:r>
            <a:r>
              <a:rPr b="0" lang="zh-CN" sz="2200" spc="-1" strike="noStrike">
                <a:solidFill>
                  <a:srgbClr val="046ca6"/>
                </a:solidFill>
                <a:latin typeface="Arial"/>
                <a:ea typeface="宋体"/>
              </a:rPr>
              <a:t>，温度在</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或更高，消毒</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小时</a:t>
            </a:r>
            <a:endParaRPr b="0" lang="en-US" sz="22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消毒防腐药</a:t>
            </a:r>
            <a:endParaRPr b="0" lang="en-US" sz="3200" spc="-1" strike="noStrike">
              <a:solidFill>
                <a:srgbClr val="ffffff"/>
              </a:solidFill>
              <a:latin typeface="Verdana"/>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其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氧乙烷（</a:t>
            </a:r>
            <a:r>
              <a:rPr b="1" lang="en-US" sz="2800" spc="-1" strike="noStrike">
                <a:solidFill>
                  <a:srgbClr val="8ac8de"/>
                </a:solidFill>
                <a:latin typeface="Verdana"/>
                <a:ea typeface="宋体"/>
              </a:rPr>
              <a:t>ethylene oxide</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与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是毒性相当高的气体，如在消毒后不清除干净，会引起严重的刺激和烧伤</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毒作用最适宜温度为</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左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液态或气态的环氧乙烷有刺激性和腐蚀性，吸入多量可致急性中毒</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环氧乙烷与空气混合后易燃烧爆炸</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经常检查环氧乙烷泄漏情况</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1"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与表面活性剂（载体）及增溶剂（碘化钾）形成的不定型的络合物，是一种含碘表面活性剂</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过碘化作用及破坏细胞外层结构</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应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属于中效消毒剂，但其杀菌谱比其他中效消毒剂广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要用于手术野皮肤消毒，注射和穿刺部位消毒，污染伤口处理，黏膜冲洗消毒等</a:t>
            </a:r>
            <a:endParaRPr b="0" lang="en-US" sz="22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野皮肤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均匀涂擦</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每次不少于</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手术前刷手：外科洗手消毒用</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的碘伏溶液，一般刷两遍，每遍</a:t>
            </a:r>
            <a:r>
              <a:rPr b="0" lang="en-US" sz="2200" spc="-1" strike="noStrike">
                <a:solidFill>
                  <a:srgbClr val="046ca6"/>
                </a:solidFill>
                <a:latin typeface="Arial"/>
                <a:ea typeface="宋体"/>
              </a:rPr>
              <a:t>3min</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脐带消毒：</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至少</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射和穿刺部位消毒：</a:t>
            </a:r>
            <a:r>
              <a:rPr b="0" lang="en-US" sz="2200" spc="-1" strike="noStrike">
                <a:solidFill>
                  <a:srgbClr val="046ca6"/>
                </a:solidFill>
                <a:latin typeface="Arial"/>
                <a:ea typeface="宋体"/>
              </a:rPr>
              <a:t> </a:t>
            </a:r>
            <a:r>
              <a:rPr b="0" lang="en-US" sz="2200" spc="-1" strike="noStrike">
                <a:solidFill>
                  <a:srgbClr val="046ca6"/>
                </a:solidFill>
                <a:latin typeface="Arial"/>
                <a:ea typeface="宋体"/>
              </a:rPr>
              <a:t>2.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5g/L</a:t>
            </a:r>
            <a:r>
              <a:rPr b="0" lang="zh-CN" sz="2200" spc="-1" strike="noStrike">
                <a:solidFill>
                  <a:srgbClr val="046ca6"/>
                </a:solidFill>
                <a:latin typeface="Arial"/>
                <a:ea typeface="宋体"/>
              </a:rPr>
              <a:t>有效碘，连续擦拭</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污染伤口处理、烧伤创面处理、术前灌肠预防感染、黏膜冲洗消毒、饮用水消毒</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外科用药</a:t>
            </a:r>
            <a:endParaRPr b="0" lang="en-US" sz="3200" spc="-1" strike="noStrike">
              <a:solidFill>
                <a:srgbClr val="ffffff"/>
              </a:solidFill>
              <a:latin typeface="Verdana"/>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清洁消毒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碘伏</a:t>
            </a:r>
            <a:r>
              <a:rPr b="1" lang="en-US" sz="2800" spc="-1" strike="noStrike">
                <a:solidFill>
                  <a:srgbClr val="8ac8de"/>
                </a:solidFill>
                <a:latin typeface="Verdana"/>
                <a:ea typeface="宋体"/>
              </a:rPr>
              <a:t>(iodophor)</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良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常规使用溶度下对皮肤和黏膜无刺激性和致敏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禁忌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对碘过敏者禁用</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疗监护须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碘伏的杀菌作用受有机物的影响，皮肤、黏膜消毒前应做好清洁卫生，否则影响消毒效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偏酸性条件有助于杀菌效果的提高</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8:07:29Z</dcterms:modified>
  <cp:revision>120</cp:revision>
  <dc:subject/>
  <dc:title>内科护理学</dc:title>
</cp:coreProperties>
</file>