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78DA-7059-40DD-B099-1C51E543BC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E166-E0BB-4A5B-960A-F1D89E2C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1F79-2ABA-4350-8B55-ED4247D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A2C4-C8A0-4F6D-93BC-9774AC1B1D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BDF8-60B4-48F3-9949-CE31328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A634-A9A1-47BE-B5F0-C64625F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7C81-B250-4E33-B5C0-BC2CCA23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A119-C338-4479-9571-3CAAFB2A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F273-E593-45FE-AF33-8BEF27D7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C3C1-8BFE-4651-BE0D-186A127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FC6A-8C39-474B-A84C-5727BB54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C51F-347D-405E-8FEC-EFBB801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023-9029-41D3-A40A-E16BDC9FA5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组胺与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组胺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在人体内与相应的组胺受体结合起抗组胺作用，根据药物选择性的不同，抗组胺药可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作用  选择性阻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完全对抗组胺的平滑肌兴奋、血管扩张和通透性增加作用，防止因毛细血管通透性增加所致水肿、瘙痒和支气管平滑肌收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抑制作用  可通过血脑屏障，具有不同程度的中枢抑制作用，以苯海拉明和异丙嗪为甚，表现有镇静、嗜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胆碱作用  大多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具有抗胆碱作用，以苯海拉明、异丙嗪等表现明显，故可用于抗晕动病及止吐，但特那非定和氯雷他定无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999720"/>
            <a:ext cx="857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变态反应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皮肤黏膜的变态反应性疾病疗效好，如荨麻疹、过敏性鼻炎、对昆虫咬伤致皮肤瘙痒有良效，对药疹、接触性皮炎有效，对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晕动症及呕吐  苯海拉明、异丙嗪等对晕动症，妊娠呕吐及放射病呕吐等均有止吐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用于血管神经性水肿、输血反应、美尼尔综合征、血清病等。对帕金森病、药物所致锥体外系反应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和注射均易吸收，大部分在肝内代谢，代谢物经肾排出。口服后多数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~3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起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作用达高峰，一般持续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，咪唑斯汀的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时。阿司咪唑口服后其代谢产物仍具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活性，存在肝肠循环，故其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长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745400" cy="4857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5"/>
          <p:cNvSpPr/>
          <p:nvPr/>
        </p:nvSpPr>
        <p:spPr>
          <a:xfrm>
            <a:off x="500040" y="1285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用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枢神经系统反应  第一代药物多见镇静、嗜睡等中枢抑制作用。第二代多无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反应  口干、厌食、恶心、呕吐、上腹不适、腹泻、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血管系统  胸闷、心悸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视物模糊、耳鸣、皮疹、排尿困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光眼、前列腺肥大、溃疡病患者及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代药物易产生嗜睡、乏力等中枢抑制作用，应告知驾驶员、高空作业、机器操纵员等在工作期间不宜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减少胃肠道反应，告知患者可在进餐时服药或与牛奶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肌注者应作深部肌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宜给儿童、孕妇、哺乳患者服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：西咪替丁、雷尼替丁、法莫替丁、尼扎替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具有高度选择性，通过阻断胃粘膜壁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对抗组胺刺激胃酸分泌作用，此外还有对抗组胺扩张血管和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371240"/>
            <a:ext cx="855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广泛分布于中枢和外周神经末梢。它是一种突触前受体，在突触后也有分布，既能调节组胺的合成和释放，又能调节其他神经递质的释放，进而调节中枢和外周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与阿尔茨海默病、注意力缺陷多动症、帕金森病等神经行为失调有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剂能够损害大鼠目标认识能力及被动避免反应能力，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则能改善大鼠的学习与记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的药理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组胺药物的分类及作用机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的药理作用、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istamin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（速发型）过敏反应的重要介质，广泛分布于体内各组织。外周组胺主要存在于肥大细胞内，以无活性的形式（结合型）存在。在组织损伤、炎症、神经刺激或一些抗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体反应条件下，以活性的形式（游离型）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组胺通过与体内组胺受体结合产生效应。组胺受体主要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的作用：组胺激动血管平滑肌细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均能使小动脉、小静脉血管扩张，回心血量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作用：在人体及某些种属动物，组胺可直接作用于心脏，激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产生正性肌力作用，但在豚鼠则表现为负性肌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腺体的作用：作用于胃壁细胞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使胃壁细胞分泌胃液显著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血管以外平滑肌的作用： 组胺使多种平滑肌表现为兴奋收缩，很少松弛。收缩时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而大部分松弛是由于激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胃液分泌功能的检查，以鉴别恶性贫血的绝对胃酸缺乏和胃癌的相对缺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图片 4" descr="u=225852429,1426577765&amp;fm=21&amp;gp=0.jpg"/>
          <p:cNvPicPr/>
          <p:nvPr/>
        </p:nvPicPr>
        <p:blipFill>
          <a:blip r:embed="rId1"/>
          <a:stretch/>
        </p:blipFill>
        <p:spPr>
          <a:xfrm>
            <a:off x="2571840" y="3143160"/>
            <a:ext cx="61434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内过程和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过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无效，易被肠内细菌和胃肠黏膜内组胺酶所破坏。皮下、肌内或静脉注射给药，产生作用快速、短暂。在体内主要经甲基化和氧化被代谢，由尿中排出的原形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% ~ 3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起空腹皮内注射磷酸组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25 ~ 0.5m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若无胃酸分泌，即为恶性贫血导致的绝对胃酸缺乏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良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量注射后可能出现面色潮红、心率加快、血压下降、支气管收缩、呼吸困难、视觉障碍、呕吐和腹泻等副作用，还可出现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支气管哮喘、溃疡病、胃肠出血患者及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胺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3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一定要询问患者有无支气管哮喘、溃疡病、胃肠出血、妊娠及有关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时必须严格按医嘱的正确用量，因剂量过大或高敏感性者可引起休克，此时用肾上腺素解救，反应轻者可用抗组胺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前应作皮内过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05:37Z</dcterms:modified>
  <cp:revision>116</cp:revision>
  <dc:subject/>
  <dc:title>内科护理学</dc:title>
</cp:coreProperties>
</file>