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F825D-CD58-4A1E-B455-E148DDFB503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59266-8F2F-47D8-9D65-44044C0C660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熟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药疗期间的护理须知（药疗监护内容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了解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护士在合理用药中的作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F371C-5DCB-4837-8ABA-6BD4C967FCB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28EA8-9441-4000-9B01-086B382FE60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D36CA-ED77-4386-B84D-62DDE20BCCB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93A80-1339-4550-85C6-63FF5438850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A4FE9-1B84-444B-A9CB-DFF66A97CED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0E9F5-38A9-4497-A9E1-CB6093A3D1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FEFC8-4480-4326-A91D-A1A97662B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FF8E5-16DC-4D81-BA51-B1EA23BD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0D252-3887-4EFA-9D71-F5921310DA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25B00-E21F-46EE-88D5-E08BCAB53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C3D52-BF3E-4D98-BDCB-C12C4D39A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24FAB-D095-443A-A6E4-C4F16DAB0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52C0D-0A2C-47BB-8AB0-EC8E859E5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F26A0-E5C4-466A-966F-E2A0F1573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9A515-AE8D-4E8F-9F21-6A3AC9DAD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9B45E-2816-4331-BFF0-D406A94A6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45E5F-6510-45A6-98FE-AC6DBE26B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102FD-1EB1-4FA3-BF3A-380161E3086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92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三十五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影响免疫功能药物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治疗自身免疫性溶血性贫血的首选药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环磷酰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硫唑嘌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甲氨蝶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波尼松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白消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4360" y="1557000"/>
            <a:ext cx="79437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免疫抑制剂和免疫增强剂的临床常用药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免疫抑制剂的作用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常用的影响免疫功能药物的不良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50920" y="1267920"/>
            <a:ext cx="8664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圆角矩形 1"/>
          <p:cNvSpPr/>
          <p:nvPr/>
        </p:nvSpPr>
        <p:spPr>
          <a:xfrm>
            <a:off x="539640" y="1125360"/>
            <a:ext cx="8280360" cy="532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f2ff"/>
              </a:gs>
              <a:gs pos="100000">
                <a:srgbClr val="e8fcff"/>
              </a:gs>
            </a:gsLst>
            <a:lin ang="16200000"/>
          </a:gradFill>
          <a:ln w="9360">
            <a:solidFill>
              <a:srgbClr val="85c4d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3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主因“间断咳嗽、咳痰、发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年，加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月余”入院。入院查体：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8.5 ℃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心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12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，双肺可闻及小水泡音，右手中指两侧有粟粒样结节，食指红肿，伴触痛，右足趾肿胀，可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个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mm×5mm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紫癜，余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-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。实验室检查：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WBC 1.7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  <a:ea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L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红细胞沉降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10mm/h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反应蛋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73ug/ml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类风湿因子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+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。医生考虑为变态反应性疾病，医嘱给予地塞米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mg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id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静脉滴注，地塞米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0mg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、庆大霉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6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U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喷咽，每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4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次。给药后患者体温逐渐降至正常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5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天后症状明显改善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圆角矩形 1"/>
          <p:cNvSpPr/>
          <p:nvPr/>
        </p:nvSpPr>
        <p:spPr>
          <a:xfrm>
            <a:off x="755640" y="2205000"/>
            <a:ext cx="7777080" cy="295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1b8e3"/>
              </a:gs>
              <a:gs pos="100000">
                <a:srgbClr val="f7ebf8"/>
              </a:gs>
            </a:gsLst>
            <a:lin ang="16200000"/>
          </a:gradFill>
          <a:ln w="9360">
            <a:solidFill>
              <a:srgbClr val="9762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请思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 地塞米松治疗该病的作用原理和临床应用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地塞米松的不良反应和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免疫抑制剂是一类非特异性地抑制机体免疫功能的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作用特点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作用缺乏特异性和选择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对初次免疫应答反应抑制作用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 药物作用与给药时间和抗原刺激的时间间隔及先后顺序密切相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多数免疫抑制剂尚有非特异性抗炎作用，抑制红、肿、热、痛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第一节 免疫抑制剂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755640" y="1628640"/>
            <a:ext cx="79200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糖皮质激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环孢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硫唑嘌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他克莫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第一节 免疫抑制剂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免疫增强剂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免疫增强剂是指可激活免疫活性细胞、增强机体的特异性或非特异性免疫功能或能加速诱导免疫应答反应，使低下的免疫功能恢复正常的一大类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卡介苗、干扰素、胸腺激素、左旋咪唑、香茹多糖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圆角矩形 1"/>
          <p:cNvSpPr/>
          <p:nvPr/>
        </p:nvSpPr>
        <p:spPr>
          <a:xfrm>
            <a:off x="1835280" y="134136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植物药增强免疫功能的主要有效成分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生物碱类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有机酸类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黄酮苷类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多糖类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植物雌激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常用于器官移植的免疫抑制剂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强的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环磷酰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环孢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硫唑嘌呤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甲氨蝶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7:53:28Z</dcterms:modified>
  <cp:revision>105</cp:revision>
  <dc:subject/>
  <dc:title>内科护理学</dc:title>
</cp:coreProperties>
</file>