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A6DFF-1F3D-4770-80CC-43A0085132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CBD94-A667-4EBF-B3D7-4730E6E3F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BB491-FC10-4D2D-9955-7F6434BF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893B7-3C00-4C98-921B-F351998E00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69A53-4059-4778-8214-548295144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17888-06E4-4294-B0B4-2F04B97DC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5E8E9-AA28-4C39-A66D-2C5C10AB5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487B7-AC8D-455E-889F-4FCB7E455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BD8E2-74A2-4049-B74F-726265DF0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540E0-F656-4BC2-A2B2-0C6BC3D79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C4108-5B47-4B77-8F42-F742C77A9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70247-D37E-402F-881D-0AAF393EF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85D92-2411-4D58-86C8-E121E6E13C2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000"/>
              <a:ext cx="9115560" cy="1808640"/>
              <a:chOff x="28440" y="5049000"/>
              <a:chExt cx="9115560" cy="18086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000"/>
                <a:ext cx="9115560" cy="18086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0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68911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十六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抗寄生虫药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哌 嗪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Piperraz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阻断虫体神经肌肉接头处的乙酰胆碱受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麻痹蛔虫的肌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蛔虫病，蛲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哌 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6g/kg·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＜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g/d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睡前顿服，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蛲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mg/kg·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服， ＜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g/d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.5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睡前顿服，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蛲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哌 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28760" y="1371600"/>
            <a:ext cx="848664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哌嗪毒性低，比较安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引起头痛、恶心、呕吐、眩晕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量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可出现神经系统中毒症状，如眩晕、震颤、共济失调、乏力、健忘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、肾功能不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神经系统疾病或有癫痫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本药过敏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及哺乳期妇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哌 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避免长期或反复过量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肾功能不良者应减少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应先纠止营养不良或贫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无需禁食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;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便秘者需导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避免与以下药物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氯丙嗪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噻嘧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硫氯酚或左旋咪唑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吩噻嗪类药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嘧啶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 Pyrantel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13840" y="1371240"/>
            <a:ext cx="892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抑制胆碱酯酶，对蠕虫的神经肌肉接头处产生阻滞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蛔虫、钩虫、蛲虫及其混合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钩虫疗效最佳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嘧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钩虫、蛔虫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g/(kg·d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睡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顿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 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驱钩虫应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蛲虫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g/(kg·d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每晚顿服，连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肛用软膏：每晚睡前涂于肛门周围，再插入肛内挤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即可，连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嘧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恶心、呕吐、眩晕、头痛、腰痛、腹痛、腹泻、畏寒和皮疹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功能不全患者、冠心病、肾脏病及严重溃疡病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嘧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得擅自超量或增加服药次数，不可漏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驱蛲虫应在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后，再进行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对营养不良、贫血患者应先给予支持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需空腹或服用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哌嗪类药物不能合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5680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左旋咪唑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Levamisole 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选择性抑制虫体肌肉中的琥珀酸脱氢酶，使延胡索酸不能还原为琥珀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影响虫体肌肉的无氧代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免疫调节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驱蛔虫效果最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钩虫、蛲虫及钩、蛔、丝虫的混合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左旋咪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mg/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晚饭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，必要时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后再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钩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.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饭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丝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饭后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：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0mg/d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用法同儿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钩虫：剂量用法同儿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丝虫病：剂量用法同儿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85560" y="1357200"/>
            <a:ext cx="7389720" cy="437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肠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驱绦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丝虫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吸虫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阿米巴病药和抗滴虫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疟原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785960" y="2000160"/>
            <a:ext cx="688680" cy="593640"/>
            <a:chOff x="1785960" y="2000160"/>
            <a:chExt cx="688680" cy="593640"/>
          </a:xfrm>
        </p:grpSpPr>
        <p:sp>
          <p:nvSpPr>
            <p:cNvPr id="108" name="AutoShape 5"/>
            <p:cNvSpPr/>
            <p:nvPr/>
          </p:nvSpPr>
          <p:spPr>
            <a:xfrm>
              <a:off x="1791360" y="201024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785960" y="200016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25920" y="2035080"/>
              <a:ext cx="600480" cy="513360"/>
            </a:xfrm>
            <a:prstGeom prst="hexagon">
              <a:avLst>
                <a:gd name="adj" fmla="val 2924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22400" y="207180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785960" y="128592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28880" y="135720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785960" y="2786040"/>
            <a:ext cx="686880" cy="593640"/>
            <a:chOff x="1785960" y="2786040"/>
            <a:chExt cx="686880" cy="593640"/>
          </a:xfrm>
        </p:grpSpPr>
        <p:sp>
          <p:nvSpPr>
            <p:cNvPr id="115" name="AutoShape 12"/>
            <p:cNvSpPr/>
            <p:nvPr/>
          </p:nvSpPr>
          <p:spPr>
            <a:xfrm>
              <a:off x="1791360" y="27961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785960" y="27860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825920" y="282096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28880" y="285768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6"/>
          <p:cNvSpPr/>
          <p:nvPr/>
        </p:nvSpPr>
        <p:spPr>
          <a:xfrm>
            <a:off x="1785960" y="3500280"/>
            <a:ext cx="679320" cy="594000"/>
          </a:xfrm>
          <a:prstGeom prst="hexagon">
            <a:avLst>
              <a:gd name="adj" fmla="val 28591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869120" y="35719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357280" y="18572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357280" y="25718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286000" y="3357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2357280" y="40719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5" name="Group 4"/>
          <p:cNvGrpSpPr/>
          <p:nvPr/>
        </p:nvGrpSpPr>
        <p:grpSpPr>
          <a:xfrm>
            <a:off x="1785960" y="4143240"/>
            <a:ext cx="688680" cy="594000"/>
            <a:chOff x="1785960" y="4143240"/>
            <a:chExt cx="688680" cy="594000"/>
          </a:xfrm>
        </p:grpSpPr>
        <p:sp>
          <p:nvSpPr>
            <p:cNvPr id="126" name="AutoShape 5"/>
            <p:cNvSpPr/>
            <p:nvPr/>
          </p:nvSpPr>
          <p:spPr>
            <a:xfrm>
              <a:off x="1791360" y="415332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AutoShape 6"/>
            <p:cNvSpPr/>
            <p:nvPr/>
          </p:nvSpPr>
          <p:spPr>
            <a:xfrm>
              <a:off x="1785960" y="414324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AutoShape 7"/>
            <p:cNvSpPr/>
            <p:nvPr/>
          </p:nvSpPr>
          <p:spPr>
            <a:xfrm>
              <a:off x="1825920" y="4178160"/>
              <a:ext cx="600480" cy="513720"/>
            </a:xfrm>
            <a:prstGeom prst="hexagon">
              <a:avLst>
                <a:gd name="adj" fmla="val 29222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9" name="Text Box 8"/>
          <p:cNvSpPr/>
          <p:nvPr/>
        </p:nvSpPr>
        <p:spPr>
          <a:xfrm>
            <a:off x="1922400" y="421488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21"/>
          <p:cNvSpPr/>
          <p:nvPr/>
        </p:nvSpPr>
        <p:spPr>
          <a:xfrm>
            <a:off x="2357280" y="4714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" name="Group 11"/>
          <p:cNvGrpSpPr/>
          <p:nvPr/>
        </p:nvGrpSpPr>
        <p:grpSpPr>
          <a:xfrm>
            <a:off x="1785960" y="4857840"/>
            <a:ext cx="686880" cy="593640"/>
            <a:chOff x="1785960" y="4857840"/>
            <a:chExt cx="686880" cy="593640"/>
          </a:xfrm>
        </p:grpSpPr>
        <p:sp>
          <p:nvSpPr>
            <p:cNvPr id="132" name="AutoShape 12"/>
            <p:cNvSpPr/>
            <p:nvPr/>
          </p:nvSpPr>
          <p:spPr>
            <a:xfrm>
              <a:off x="1791360" y="48679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AutoShape 13"/>
            <p:cNvSpPr/>
            <p:nvPr/>
          </p:nvSpPr>
          <p:spPr>
            <a:xfrm>
              <a:off x="1785960" y="48578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AutoShape 14"/>
            <p:cNvSpPr/>
            <p:nvPr/>
          </p:nvSpPr>
          <p:spPr>
            <a:xfrm>
              <a:off x="1825920" y="489276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5" name="Line 21"/>
          <p:cNvSpPr/>
          <p:nvPr/>
        </p:nvSpPr>
        <p:spPr>
          <a:xfrm>
            <a:off x="2357280" y="5429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1922400" y="49291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7"/>
          <p:cNvSpPr/>
          <p:nvPr/>
        </p:nvSpPr>
        <p:spPr>
          <a:xfrm>
            <a:off x="1940400" y="56437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 Box 17"/>
          <p:cNvSpPr/>
          <p:nvPr/>
        </p:nvSpPr>
        <p:spPr>
          <a:xfrm>
            <a:off x="1993680" y="571500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左旋咪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头晕、恶心、呕吐及腹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见流感样症状、血压降低、脉管炎、蛋白尿、白细胞减少、血小板减少、共济失调、感觉异常、视物模糊和肝功能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丝虫病主要反应为发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妊娠早期、肝炎活动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功能异常及肾功能减退的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左旋咪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宜与四氯乙烯合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需服泻剂，不忌油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噻嘧啶合用对治疗严重钩虫感染有协同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甲苯咪唑合用可增强驱虫效果，并避免蛔虫游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圆角矩形 3"/>
          <p:cNvSpPr/>
          <p:nvPr/>
        </p:nvSpPr>
        <p:spPr>
          <a:xfrm>
            <a:off x="500040" y="1214280"/>
            <a:ext cx="7786800" cy="19288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半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月前出现肛门周围瘙痒，以夜间为甚，睡眠不安，夜间时有突发哭闹。患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以来胃纳欠佳，无恶心、呕吐。患儿家长在患儿熟睡后见肛周有乳白色线头样小虫在爬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矩形 5"/>
          <p:cNvSpPr/>
          <p:nvPr/>
        </p:nvSpPr>
        <p:spPr>
          <a:xfrm>
            <a:off x="285840" y="3500280"/>
            <a:ext cx="8215200" cy="30718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查体：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T36.6℃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P94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次分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R27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分，体重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14kg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。神志清，营养中等，面色可，全身皮肤粘膜无黄染、无皮疹。两肺呼吸音清，未闻及啰音，心率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96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分，律齐，心音有力，腹平软。神经系统无异常。化验检查结果：血红蛋白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120g/L,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白细胞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7.8×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  <a:ea typeface="宋体"/>
              </a:rPr>
              <a:t>9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/L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N48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％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E3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％。尿便常规正常。患儿家长在护士的指导下，于夜间患儿熟睡时用透明胶纸在患儿肛门周围处轻压取虫卵送检，确诊为蛲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圆角矩形 3"/>
          <p:cNvSpPr/>
          <p:nvPr/>
        </p:nvSpPr>
        <p:spPr>
          <a:xfrm>
            <a:off x="357120" y="1643040"/>
            <a:ext cx="7929720" cy="314316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请写出能治疗该患儿的几种驱虫药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.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请说出阿苯达唑的作用机制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.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若医生让患儿服用驱蛔灵治疗，请你告知家长此药的不良反应和禁忌证及服药时的注意事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节  驱绦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硝柳胺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Niclosamid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绦虫线粒体氧化磷酸化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阻碍绦虫对氧和葡萄糖的摄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节片中的虫卵无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绦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硝柳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57120" y="1143000"/>
            <a:ext cx="842976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牛、猪绦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以下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7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及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每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 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均隔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后再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宜在清晨空腹服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服药时将药片充分咬碎后吞下，并应尽量少喝水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服药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需服硫酸镁导泻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短膜壳绦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每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g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间隔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起每日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按上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硝柳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较少而轻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乏力、头晕、胸闷、恶心、呕吐、腹痛和胃、腹部不适以及发热、瘙痒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硝柳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56760" y="12855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前晚宜进软食，有慢性便秘者在治疗前先用一剂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儿服药时应压碎，调成糊状，让小儿吞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猪带绦虫时服药前宜先服止吐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后粪便中出现虫卵或节片，应重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疗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驱绦虫时注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留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粪便寻找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在排便时应坐在与体温相同的生理盐水中排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治疗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无虫卵和节片排出为治愈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鹤草酚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grimophol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从中草药仙鹤草根中提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虫体细胞代谢，切断能量供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驱绦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也可治疗滴虫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掌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肠虫药阿苯达唑、甲苯达唑、哌 嗪、噻嘧啶、左旋咪唑及抗滴虫病药的作用机制、临床应用、不良反应和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熟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丝虫病药、抗疟原虫药主要代表药物及临床应用和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驱绦虫药、抗吸虫病药、抗阿米巴病药主要代表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鹤草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：口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mg/kg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7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8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牛肉绦虫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2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清晨空腹顿服，当日禁食早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后服酚酞或硫酸镁导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恶心、呕吐、头晕、冷汗，或于服药半月后有一过性腹泻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可导致虚脱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鹤草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硝唑脒合用可使疗效显著提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期间忌食油腻及饮酒，避免用蓖麻油导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年老体弱、小儿营养不良、心脏病患者宜用酚酞导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鹤草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三节  抗丝虫病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Diethylcarbamazine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微丝蚴和成虫均有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使血中微丝蚴迅速集中到肝脏的微血管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部分可被肝脏吞噬细胞杀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并可改变微丝蚴体表的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治疗马来丝虫病、斑氏丝虫病、罗阿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盘尾丝虫病，不能根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嗜酸粒细胞增多症和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mg/(kg·d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;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2g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每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4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疗程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疗程，疗程间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月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短程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马来丝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或分两次服，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斑氏丝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成人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.2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马来丝虫病、斑氏丝虫病、罗阿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盘尾丝虫病，不能根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嗜酸粒细胞增多症和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头痛、乏力、食欲不振、恶心、呕吐、关节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部淋巴结炎、淋巴管炎、精索炎、附睾炎等，并出现结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轻度蛋白尿和血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出现肝脏肿大和压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量微丝蚴及成虫被杀死后释放出的异体蛋白可引起畏寒、发热、皮疹、喉头水肿、哮喘、淋巴结肿大等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活动性肺结核、严重肝肾病、心脏病、急性传染病、孕妇、哺乳期妇女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乙胺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于餐后服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应先驱蛔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卡巴胂合用可增强对成虫的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严重马来丝虫病患者，在治疗前可先服抗组胺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剂量短程疗法易出现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呋喃嘧酮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Furapyrimidon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具有较强的杀灭鼠丝虫微丝蚴和成虫的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成虫的作用优于微丝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与乙胺嗪相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治疗班氏丝虫病和马来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疗效优于乙胺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呋喃嘧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mg/(kg·d)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饭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h~1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，连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总剂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40mg/k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消化道症状、发热、心悸、胸闷、四肢麻木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LT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轻微上升及个别心电图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波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、心、肝、肾等疾病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一节  抗肠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呋喃嘧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戒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后尿可染成浅绿黄色似出现浓茶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其余参阅乙胺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伊维菌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Lvermectin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机制尚未阐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成虫无效，对微丝蚴有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盘尾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淋巴丝虫病及驱除肠道其它寄生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伊维菌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盘尾丝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以上或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以上，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5mg/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早餐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，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5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早餐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，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蛔虫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儿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mg/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0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mg/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重复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共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伊维菌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发生率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疹或瘙痒及颈部、腋窝、腹股沟等部位的淋巴结肿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剂量可致嗜睡、运动失调、瞳孔放大及震颤等甚至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患者、孕妇、哺乳妇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足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k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小于５岁的儿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伊维菌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宜进餐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服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后大便可染成红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阿苯达唑联用可增强对马来丝虫、班氏丝虫病的疗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成虫无效，故不能根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四节 抗吸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吡喹酮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Praziquantel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吸虫活动兴奋，肌肉痉挛，破坏虫体表膜和肠道，促使成虫立即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幼虫作用差，对虫卵无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防治血吸虫、肺吸虫、绦虫、丝虫、华支睾吸虫、囊虫及姜虫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吡喹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血吸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均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急性血吸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4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均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丝虫病、姜片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15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顿服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囊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血吸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均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急性血吸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0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均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服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丝虫病、姜片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~15mg/(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囊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吡喹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头晕、头痛、恶心、腹痛、腹胀、腹泻、关节酸痛、失眠、乏力、多汗、胸闷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见心电图改变及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LT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升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别可有精神失常、消化道出血、脑疝。亦可发生哮喘及皮疹等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者、孕妇、眼囊虫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严重心、肝、肾功能不全及精神病史和癫痫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吡喹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宜在饭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餐间服用；宜吞服，不宜嚼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期间与停药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应避免驾驶、机械操作和高空作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哺乳期妇女于服药期间，直至停药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2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不宜哺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脑囊尾蚴病时，应加用地塞米松和脱水剂防治颅内压增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 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lbendazol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85840" y="14288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谢为砜和亚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虫体对葡萄糖的摄入，导致虫体糖原耗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延胡索酸还原酶系统，阻碍三磷酸腺苷的产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虫体无法生存和繁殖，导致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杀死虫卵的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五节  抗阿米巴药和抗滴虫药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依米丁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Emet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干扰阿米巴滋养体的分裂与繁殖，从而杀灭滋养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作用于肠道和肝脏组织的阿米巴原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肠和肠外阿米巴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依米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下或深部肌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痢疾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1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每日量不宜超过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，不得连续用药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总剂量不可超过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0m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肝炎或肝脓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；如未愈，间隔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后再予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痢疾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 1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二次注射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d~6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一疗程，每日最大量按年龄计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以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以上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m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肝炎或肝脓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同成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盐酸依米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恶心、呕吐、腹痛、腹泻、肌无力等。偶见周围神经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压下降、心前区痛、脉细弱、心律失常、心力衰竭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重症心脏病、重度贫血、肝、肾功能明显减退患者、婴幼儿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依米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宜长期连续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前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必须卧床休息，检查心脏与血压有无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可口服、静脉和肌内注射给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前静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葡萄糖酸钙注射液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减轻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应禁服刺激性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期间避免剧烈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有心电图变化，应立即停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需重复治疗至少间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硝唑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Metronidazol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滴虫、阿米巴原虫有强大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阴道滴虫和阿米巴原虫的首选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梨形鞭毛虫、丝虫、毛囊虫、绦虫亦有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抗厌氧菌的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滴虫、阿米巴痢疾、急性肠外阿米巴病、梨形鞭毛虫、丝虫、毛囊虫、绦虫及厌氧菌感染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腔感染内、呼吸系统感染、消化系统感染及溃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硝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04920" y="1371240"/>
            <a:ext cx="86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：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滴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0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另外每晚阴道用栓剂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粒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痢疾及无症状带虫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00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梨形鞭毛虫病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00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连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厌氧菌感染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2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50m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Q8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也可静脉滴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滴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15mg~20mg/ 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,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阿米巴痢疾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0mg/ kg·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口服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厌氧菌感染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.5mg/ kg·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/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硝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轻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食欲减退、恶心、腹泻、上腹部绞痛等胃肠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有舌炎、胃炎、口腔炎、口中有金属味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阴道和尿道有烧灼感、尿色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、哺乳期妇女、中枢神经系统疾病、血液病和过敏体质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硝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期间禁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期间应每日更换内裤，防止重复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物相互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甲硝唑能增强华法林和双香豆素的抗凝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苯巴比妥、苯妥英钠可加速其代谢而减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西咪替丁抑制本药代谢使血药浓度升高，毒性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双硫仑合用可致精神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六节  抗疟原虫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驱蛔虫、蛲虫、钩虫、鞭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旋毛虫、绦虫和囊虫病、包虫、华支睾吸虫、粪类圆线虫病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家畜的驱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蒿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rtemisinin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于疟原虫的红细胞内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干扰疟原虫的细胞表膜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线粒体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阻断了营养摄取，抑制原虫蛋白质合成，使其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恶性疟、间日疟、特别是抢救脑型疟有良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血吸虫亦有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蒿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先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再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各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疗程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总量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按上述方法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内服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深部肌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后再给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各肌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总剂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按上述方法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内注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直肠给药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6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.2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蒿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过性氨基转移酶升高及轻度皮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轻度恶心、呕吐、腹泻等副反应，可自行恢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妊娠妇女慎用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蒿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注宜深，并注意更换注射部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采用栓剂是如肛塞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内排便，应再不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甲苄胺嘧啶并用有增效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hloroquin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于红内期裂殖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干扰疟原虫裂殖体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复制与转录过程或阻碍其内吞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虫体因缺乏氨基酸而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氯喹敏感的恶性疟、间日疟及三日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疟疾症状的抑制性预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肠外阿米巴病、结缔组织病、光敏感性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疟疾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首剂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后再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ｇ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各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ｇ，全疗程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首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6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后及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各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性预防疟疾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 每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每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 每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8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肠外阿米巴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小儿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mg/k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均每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后改为每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总疗程为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脑型恶性疟：静脉滴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成人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.5g,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总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药量在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h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内全部输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儿首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8mg/k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5mg/kg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可能出现的反应有：头晕、头痛、眼花、食欲减退、恶心、呕吐、腹痛、腹泻、皮肤瘙痒、皮疹、甚至剥脱性皮炎、耳鸣、烦躁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量大，疗程长，可能会对眼有毒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久服可现暗点，影响视力，常为不可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氯喹还可损害听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妊娠妇女大量服用可造成小儿先天性耳聋，智力迟钝、脑积水、四肢缺陷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氯喹偶可引起窦房结的抑制，导致心律失常、休克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孕妇及对本品过敏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哺乳期妇女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肾功能不全、心脏病、重型多型红斑、血卟啉病、牛皮癣及精神病患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于餐时或餐后给药，以减轻胃肠道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输液浓度和速度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止静脉推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期间尿液可变为棕色或锈黄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长期服用本品治疗以前，应先作眼部详细检查，排除原有病变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上患者宜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长期用药者应定期进行血象、听力、眼科及肌强度和深反射的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儿童剂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蛔虫、蛲虫、钩虫、粪类圆线虫、鞭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顿服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后重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旋毛线虫、绦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1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/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每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囊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mg/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包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l0m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，间隔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0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重复治疗，一般需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驱吸虫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2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或分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及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上儿童剂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上述剂量加倍给予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氯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物相互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保泰松同用，易引起过敏性皮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氯丙嗪等合用，易加重肝脏负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氯化铵合用可加速排泄而降低血药浓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伯氨喹合用时，部分患者可产生严重心血管系统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氯喹同类物（氨酚喹、羟基氯喹等）同用时，可使氯喹血中浓度提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伯氨喹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Primaquine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抑制线粒体的氧化作用，使疟原虫摄氧量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干扰疟原虫红外期三磷酸吡啶核苷酸的还原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影响疟原虫的能量代谢和呼吸而导致死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红外期与配子体有较强的杀灭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治间日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控制疟疾传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伯氨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法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儿童剂量：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根治间日疟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39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0.53mg/( kg·d)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服此药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同服氯喹，或在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同服乙胺嘧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杀灭恶性疟配子体时，剂量相同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剂量：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根治间日疟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6.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52.8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顿服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服此药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，同服氯喹，或在第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同服乙胺嘧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杀灭恶性疟配子体时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6.4 mg/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连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伯氨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疲倦、头晕、恶心、呕吐、腹痛等不良反应，停药后即可恢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葡萄糖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6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磷酸脱氢酶缺乏、系统性红斑狼疮及类风湿性关节患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妊娠期妇女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哺乳期妇女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、肾及血液系统疾患、糖尿病患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伯氨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213840" y="1371240"/>
            <a:ext cx="892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少数葡萄糖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6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磷酸脱氢酶缺乏患者可发生急性溶血性贫血，应立即停药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发生高铁血红蛋白血症，可静脉注射亚甲蓝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mg/k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定期检查红细胞计数及血红蛋白量含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氯喹合用，可根治间日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伯氨喹与米帕林及氯胍同用后，毒性增加，但疗效未见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宜与其他具有溶血作用和抑制骨髓造血功能的药物合用</a:t>
            </a:r>
            <a:br>
              <a:rPr sz="2400"/>
            </a:b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少，均较轻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口干、恶心、呕吐、乏力、头晕、轻度头痛、胃肠道不适及食欲减退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部分患者会出现发热、荨麻疹、癫痫、视力障碍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、孕妇、哺乳期妇女，有癫痫病史、急性疾病、脓性或弥漫性皮炎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严重肝、肾、心功能不全、活动性溃疡患者、药物过敏史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阿苯达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服药前不需空腹或清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嚼服、吞服或研碎后与食物同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富含脂肪的食物可增加生物利用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致畸作用和胚胎毒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8:01:10Z</dcterms:modified>
  <cp:revision>158</cp:revision>
  <dc:subject/>
  <dc:title>内科护理学</dc:title>
</cp:coreProperties>
</file>