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A44F-B8BA-4D57-BB1B-CBD51F428E3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C89B-6D50-4C8A-B8D3-78276AA31B5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A7D5-484D-4ADD-A559-12384188C0B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9499-FB84-4DE4-A2B8-2B197844E5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3B61-06B7-4699-93B7-A7C71CD533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594D-9A42-4A86-9201-47E1464D06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B86B-F33B-48D4-A81B-D78F81E7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D2A9-3C7D-4B76-BBDA-6530D169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31F6-7166-48AB-8FBA-8D08D90A41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4D21-E1B8-40FE-A4C1-A79F5FA1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5D38-3B9D-4AF3-8B3F-9CE80F01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DDC9-BC30-4B4C-827B-FB19E86A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05C1-BC08-4DC9-8A8A-103B7B28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8596-2288-4182-8608-FBF72E38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0956-CEC8-483B-8793-12EA79FA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43F4-6BA1-492C-BA4B-62DFFA3B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6A187-8810-4916-BE39-24A69F2B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064E-A8F7-40A8-BCA2-2F30F3E53D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二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药效学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部分激动剂是（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无内在活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强，内在活性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与受体亲和力弱，内在活性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用药敏感性下降产生药效下降，称之为（    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抗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快速耐受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成瘾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跳现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197000"/>
            <a:ext cx="830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掌握：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选择性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掌握药物不良反应有哪些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作用的个体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熟悉药物治疗量和极量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药物的作用方式有哪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治疗指数的含义和比值表示方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完全激动剂、拮抗剂和部分激动剂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了解药物的协同作用和拮抗作用的含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10920" y="1341360"/>
            <a:ext cx="7705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基本作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兴奋、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选择性：指某些药物只对机体一个或几个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器官产生明显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作用方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局部作用和吸收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直接作用和间接作用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lvl="2" marL="741240" indent="-342720">
              <a:lnSpc>
                <a:spcPct val="150000"/>
              </a:lnSpc>
              <a:spcBef>
                <a:spcPts val="649"/>
              </a:spcBef>
              <a:buClr>
                <a:srgbClr val="44a7ca"/>
              </a:buClr>
              <a:buSzPct val="60000"/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华文新魏"/>
              </a:rPr>
              <a:t>治疗作用和不良反应</a:t>
            </a:r>
            <a:endParaRPr b="0" lang="en-US" sz="2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44a7c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87280" y="836280"/>
            <a:ext cx="756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作用：症状较轻。如麻黄碱引起失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对机体器官有损害性。如氯霉素引起骨髓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发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遗效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畸和致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74560" y="1412640"/>
            <a:ext cx="817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剂      量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极      量：比治疗量大，比最小中毒量小，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医生用药选量的最大限度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安全范围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治疗指数：动物实验中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L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/ED</a:t>
            </a:r>
            <a:r>
              <a:rPr b="0" lang="en-US" sz="2800" spc="-1" strike="noStrike" baseline="-25000">
                <a:solidFill>
                  <a:srgbClr val="8ac8de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，是估计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华文新魏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华文新魏"/>
              </a:rPr>
              <a:t>物安全性指标，比值越大越好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080" y="30780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剂量和量效关系示意图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grpSp>
        <p:nvGrpSpPr>
          <p:cNvPr id="119" name="Group 40"/>
          <p:cNvGrpSpPr/>
          <p:nvPr/>
        </p:nvGrpSpPr>
        <p:grpSpPr>
          <a:xfrm>
            <a:off x="1440000" y="1844640"/>
            <a:ext cx="6400800" cy="3639960"/>
            <a:chOff x="1440000" y="1844640"/>
            <a:chExt cx="6400800" cy="3639960"/>
          </a:xfrm>
        </p:grpSpPr>
        <p:sp>
          <p:nvSpPr>
            <p:cNvPr id="120" name="Line 3"/>
            <p:cNvSpPr/>
            <p:nvPr/>
          </p:nvSpPr>
          <p:spPr>
            <a:xfrm>
              <a:off x="2925720" y="5244840"/>
              <a:ext cx="68580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4"/>
            <p:cNvSpPr/>
            <p:nvPr/>
          </p:nvSpPr>
          <p:spPr>
            <a:xfrm flipH="1">
              <a:off x="4811760" y="5244840"/>
              <a:ext cx="743040" cy="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1440000" y="4025520"/>
              <a:ext cx="640080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2572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 flipV="1">
              <a:off x="5554800" y="3644280"/>
              <a:ext cx="0" cy="160020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 flipV="1">
              <a:off x="33829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 flipV="1">
              <a:off x="504036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 flipV="1">
              <a:off x="3611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 flipV="1">
              <a:off x="37260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38401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39542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40687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41832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42973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V="1">
              <a:off x="441180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5259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464004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V="1">
              <a:off x="4754520" y="3872880"/>
              <a:ext cx="0" cy="15228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V="1">
              <a:off x="589752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V="1">
              <a:off x="7211880" y="3720960"/>
              <a:ext cx="0" cy="30456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7211880" y="4025520"/>
              <a:ext cx="0" cy="381240"/>
            </a:xfrm>
            <a:prstGeom prst="line">
              <a:avLst/>
            </a:prstGeom>
            <a:ln w="284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3917880" y="30351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常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980520" y="4101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治疗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965400" y="4964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安全范围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8560" y="3436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68440" y="41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无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497240" y="2882520"/>
              <a:ext cx="1028520" cy="457200"/>
            </a:xfrm>
            <a:prstGeom prst="rect">
              <a:avLst/>
            </a:prstGeom>
            <a:solidFill>
              <a:srgbClr val="19e7c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剂  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1497240" y="4711320"/>
              <a:ext cx="1028520" cy="45720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效  应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2239920" y="1917360"/>
              <a:ext cx="91188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有效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5191560" y="2694240"/>
              <a:ext cx="54612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db523"/>
                  </a:solidFill>
                  <a:latin typeface="Tahoma"/>
                  <a:ea typeface="宋体"/>
                </a:rPr>
                <a:t>极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5226120" y="1844640"/>
              <a:ext cx="91188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最小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35"/>
            <p:cNvSpPr/>
            <p:nvPr/>
          </p:nvSpPr>
          <p:spPr>
            <a:xfrm>
              <a:off x="6260760" y="3416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中毒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6849000" y="2409840"/>
              <a:ext cx="5461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致死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6209280" y="4025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毒性作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7054920" y="4406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ahoma"/>
                  <a:ea typeface="宋体"/>
                </a:rPr>
                <a:t>死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2680" y="333360"/>
            <a:ext cx="7792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药物作用的个体差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628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高敏性：机体用较小剂量就可达到应有效应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耐受性（</a:t>
            </a: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tolerance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</a:rPr>
              <a:t>机体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对药物敏感性低，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华文新魏"/>
              </a:rPr>
              <a:t>                                    </a:t>
            </a:r>
            <a:r>
              <a:rPr b="0" lang="zh-CN" sz="3200" spc="-1" strike="noStrike">
                <a:solidFill>
                  <a:srgbClr val="8ac8de"/>
                </a:solidFill>
                <a:latin typeface="华文新魏"/>
              </a:rPr>
              <a:t>需较大剂量产生预期效应。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药性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sista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</a:rPr>
              <a:t>细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药物产生抗药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4360" y="1341360"/>
            <a:ext cx="820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受体学说：   亲和力   内在活性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动剂             强            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剂             强            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激动剂      有            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联合用药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同：相加、增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拮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8920" y="264960"/>
            <a:ext cx="5856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药物的治疗指数是（    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1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9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.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E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D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的比值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0:10Z</dcterms:modified>
  <cp:revision>98</cp:revision>
  <dc:subject/>
  <dc:title>内科护理学</dc:title>
</cp:coreProperties>
</file>