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DA3-F90D-42C3-96BB-868DA5FCB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7FF6-2105-4F48-B05A-FB4FD8AD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7532-B73B-40DB-A941-23C6B572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E719-D38F-489E-810C-51B533BC6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67B5-1568-437C-9BB6-8237CA38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D68D-E440-4692-AAC0-4FC1996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520B-59A3-4CF2-9DD5-6170D6F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75B0-1A95-4BCD-A900-85869E70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A1F1-2CBF-4524-8430-53B1A819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7C4D-4E18-448C-98A4-6389E1D6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8BE9-A84E-4955-9D69-6129AC2C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8DE4-6244-4F02-97FC-4B63E2C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AC5F-D7CA-4432-B961-1C7742392C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59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结核药和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080" y="1081080"/>
            <a:ext cx="8610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向患者说明遵医嘱按时、按剂量服用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向患者说明服药后可能出现肝功能损害，若出现症状应及时就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神经系统反应，发现异常应及时报告医生。长期服用异烟肼时，应加服用维生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服药期间应禁酒，以减轻肝功能损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应空腹服用，以增加药物的吸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酸药尤其是氢氧化铝可抑制异烟肼的吸收，应避免两者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糖尿病患者应注意血糖的变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3691-C93B-4527-AC18-5E84CFC3BB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RFP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为利福霉素类半合成广谱抗菌药，对多种病原微生物均有抗菌活性，具有高效，低毒，口服方便等优点，是目前最有效的抗结核药物之一，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其他抗结核药联合应用可治疗各种类型的结核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麻风病、耐药金葡菌和其他敏感菌引起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重症胆道感染及无症状脑膜炎奈瑟菌带菌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可用于治疗沙眼、急性结膜炎及病毒性角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913B-FED7-4D9D-BF20-2FB96D9E75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流感综合征、血液系统反应；个别患者出现皮疹、药热等重症反应；偶见疲倦、嗜睡、眩晕、运动失调、致畸等；另外，患者服用该药后，二便、唾液、汗液、痰液、泪液等可呈橘红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胆道梗阻的患者、婴儿、及妊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的孕妇禁用；老年人、长期酗酒者、肝功能损害者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619B-BE8D-4002-BFE7-8410F467C0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食物可影响药物的吸收，故宜空腹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是常见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应注意有无肝功能损害的表现，在常规剂量下应用时亦应定期检查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嘱患者出现皮肤瘙痒、皮疹等过敏反应时应立即停药，并及时报告医生，以便进行必要的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还可引起白细胞和血小板减少，肾功能损害，应定期监测血象及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的代谢物可将尿液、粪便、泪液、唾液、汗液及痰等染成橘红色，应提前告知患者对健康无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对氨水杨酸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155-D232-41F1-B79E-B7DE878CB6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圆角矩形 3"/>
          <p:cNvSpPr/>
          <p:nvPr/>
        </p:nvSpPr>
        <p:spPr>
          <a:xfrm>
            <a:off x="468360" y="119700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。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低热、咳嗽、咳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就诊。主诉：近来有乏力、胸闷、夜间盗汗、食欲不振等症状。诊断：左肺浸润性肺结核。给予利福平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5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异烟肼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4 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护肝片口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日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治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后患者唾液、泪液、汗液、尿液等呈橘红色。患者因怀疑用药问题拒绝继续用药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剪去单角的矩形 6"/>
          <p:cNvSpPr/>
          <p:nvPr/>
        </p:nvSpPr>
        <p:spPr>
          <a:xfrm>
            <a:off x="611280" y="5013360"/>
            <a:ext cx="8001000" cy="108108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护理人员在这一案例中有什么不妥之处？给药前护理人员应做哪些工作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EM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是人工合成的抗结核病药，本品可渗入结核分枝杆菌体内干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从而抑制细菌的繁殖，对各型分枝杆菌都有高度的抗菌作用。但单独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各型结核病，特别是经链霉素和异烟肼治疗无效的患者。与其他抗结核药物合用可提高疗效，降低不良反应的发生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70A0-DF16-4898-8D61-1678660662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球后视神经炎，它是最严重的不良反应；胃肠道反应；偶见过敏反应、肝功能损害、周围神经炎、高尿酸血症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乙醇中毒、乳幼儿、对本品过敏者、年幼及色觉分辨不清者禁用；孕妇、哺乳期妇女、有视神经炎、痛风、糖尿病性视网膜病变者应慎用；肾功能减退者有引起蓄积中毒的危险，应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3E1-4D96-489E-8CF6-9FD0F2FAED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胺丁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事先告诉患者如果出现视力减退、对红绿色分辨能力减低或视野异常时，应立即停药并及时就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进行一次眼科检查，若有异常，应及时减量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如果出现四肢远端麻木、刺痛、烧灼感等，可用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抗，可使症状较快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定期检测肝功能、肾功能及血清尿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与食物同服，以减少胃肠道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哺乳期妇女用药期间宜停止哺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8382-865A-4696-95D0-9E49EDADB3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Z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烟酰胺的衍生物，对结核分枝杆菌有抑制或杀灭作用，对细胞内结核分枝杆菌有较强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结核分枝杆菌作用不及异烟肼、利福平，但比对氨基水杨酸钠、环丝氨酸作用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易产生耐药性，与其他抗结核药之间无交叉耐药性。常与其他抗结核药联合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于结核病短程化疗的强化期，也用于治疗其他抗结核药治疗无效的病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期大量应用该药可发生严重的胃肠道反应和肝功能损害，用药期间应定期检查肝功能，肝功能不良者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E21-DF06-4B89-8566-8A31B0B362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二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343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二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水杨酸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丙硫异烟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卷曲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环丝氨酸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049E-BD76-4FB4-AF65-B0D4CBF070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898640"/>
            <a:ext cx="688320" cy="593640"/>
            <a:chOff x="1819440" y="189864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898640"/>
              <a:ext cx="688320" cy="593640"/>
              <a:chOff x="1819440" y="189864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90872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8986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93356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80000" y="1955880"/>
              <a:ext cx="335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3483000"/>
            <a:ext cx="687240" cy="593640"/>
            <a:chOff x="1819440" y="348300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348300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3565440"/>
              <a:ext cx="354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5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9495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2771640" y="1773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结核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916360" y="335772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抗真菌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对氨基水杨酸钠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AS-Na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基水杨酸钠仅对细胞外结核分枝杆菌有抑菌作用，且作用弱，抗菌谱窄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核菌对本品产生耐药性较慢，并可延缓细菌产生抗药性，常作为治疗结核病的辅助药，主要与异烟肼联合使用，延缓耐药性产生，增加疗效，现多用于复治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为胃肠道反应，如食欲不振、恶心、呕吐、胃烧灼感、腹上区疼痛、腹胀及腹泻等，个别可引起胃溃疡和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肾功能减退者、孕妇及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7594-BE38-420D-B57B-55F5EFC616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乙硫异烟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其对结核分枝杆菌有抑菌作用，抗菌活性仅为异烟肼的十分之一，毒性较强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耐药性产生快，所以单独应用少，仅用于一线抗结核药无效的患者，常与其他抗结核病药联合应用以增强疗效和避免病菌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较多且发生率高，以胃肠道反应最常见，表现为恶心、呕吐、腹痛、腹泻、厌食、胃部不适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、精神病患者、孕妇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；肝、肾功能不良、糖尿病、酗酒、哺乳期妇女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E197-DE4A-487C-810A-6164CCB025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氨硫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氨硫脲对结核分枝杆菌和麻风分枝杆菌均有抑菌作用。与其他抗结核药物之间无交叉耐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单用易产生耐药，与异烟肼合用可延缓耐药性产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较大，不良反应与剂量大小有关。主要不良反应为胃肠道症状及肝脏损害，出现食欲不振、恶心、呕吐、便秘以及转氨酶升高，偶见黄疸等症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病、肾病、贫血及糖尿病的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80D-0914-43D3-A49E-BABC13509E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新一代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51C-0F13-41A8-9D73-4659AE19E3A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利福定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利福平相同，抗菌作用强于利福平，并与利福平有交叉耐药。与其他抗结核药，如异烟肼、乙胺丁醇等有协同抗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肺结核和其他结核病、麻风病、化脓性皮肤病、结膜炎、沙眼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少而轻，偶有胃肠道反应；可能引起白细胞和血小板减少，导致齿龈出血和感染、伤口愈合延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酒精中毒、精神病、癫痫、肝功能损害者慎用。婴儿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以上孕妇和哺乳期妇女也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715-898B-474C-8458-50C6183D95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喹诺酮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喹诺酮类是目前我国治疗耐多药结核病的二线抗结核药之一，氟喹诺酮类中有一些具有良好的抗结核分枝杆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的有司氟沙星、氧氟沙星、环丙沙星、左氧氟沙星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司氟沙星为目前氟喹诺酮类药物中抗结核活性最强的药物，抗菌谱广。被认为是一类有发展前景的新型抗结核病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主要为光敏反应，宜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F40-0725-4271-BC19-D09D07FDC8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罗红霉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罗红霉素为新大环内酯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新大环内酯类均有抗结核分枝杆菌作用，罗红霉素是其中抗结核分枝杆菌作用最强的一个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异烟肼或利福平联合用药，有协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315-B3BD-4366-A73C-47402C97F8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527-DF9E-4216-A71A-CFD8FE2CE2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13C-32EC-4264-81F3-175CA35DA0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感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13"/>
          <p:cNvSpPr/>
          <p:nvPr/>
        </p:nvSpPr>
        <p:spPr>
          <a:xfrm>
            <a:off x="2916360" y="1414440"/>
            <a:ext cx="360360" cy="1582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深部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浅真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3059280" y="4076640"/>
            <a:ext cx="360360" cy="18511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8240 h 1851120"/>
              <a:gd name="textAreaBottom" fmla="*/ 1802880 h 18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348000" y="1268280"/>
            <a:ext cx="525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由各种癣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皮肤、毛发、指（趾）甲、口腔或阴道黏膜等体表部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高，危害性较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492360" y="3882960"/>
            <a:ext cx="49672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是多由念珠菌和新型隐球菌引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侵犯深部组织及内脏器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病率低，危害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048E-CA6D-4176-ABB4-9231D3C311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真菌所致疾病与常用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3851280" y="1773360"/>
            <a:ext cx="194472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甲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1041480" y="2276640"/>
            <a:ext cx="1512720" cy="576000"/>
          </a:xfrm>
          <a:prstGeom prst="roundRect">
            <a:avLst>
              <a:gd name="adj" fmla="val 16667"/>
            </a:avLst>
          </a:prstGeom>
          <a:solidFill>
            <a:srgbClr val="00ff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种癣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1041480" y="4437000"/>
            <a:ext cx="1584360" cy="792360"/>
          </a:xfrm>
          <a:prstGeom prst="roundRect">
            <a:avLst>
              <a:gd name="adj" fmla="val 16667"/>
            </a:avLst>
          </a:prstGeom>
          <a:solidFill>
            <a:srgbClr val="00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新型隐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白色念珠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2625840" y="2565360"/>
            <a:ext cx="72216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2698920" y="4797360"/>
            <a:ext cx="72072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3778200" y="1413000"/>
            <a:ext cx="136836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浅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227640" y="1773360"/>
            <a:ext cx="1800360" cy="1512720"/>
          </a:xfrm>
          <a:prstGeom prst="roundRect">
            <a:avLst>
              <a:gd name="adj" fmla="val 16667"/>
            </a:avLst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灰黄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霉菌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特比萘芬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康 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508720" y="2421000"/>
            <a:ext cx="647640" cy="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3852720" y="4292640"/>
            <a:ext cx="194472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内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3780000" y="3932280"/>
            <a:ext cx="136836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深部真菌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2"/>
          <p:cNvSpPr/>
          <p:nvPr/>
        </p:nvSpPr>
        <p:spPr>
          <a:xfrm>
            <a:off x="6229440" y="4292640"/>
            <a:ext cx="1800000" cy="1512720"/>
          </a:xfrm>
          <a:prstGeom prst="roundRect">
            <a:avLst>
              <a:gd name="adj" fmla="val 16667"/>
            </a:avLst>
          </a:prstGeom>
          <a:solidFill>
            <a:srgbClr val="ff99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两性霉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咪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三 唑 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V="1">
            <a:off x="5580000" y="4940280"/>
            <a:ext cx="577800" cy="14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及抗真菌药代表药物的不良反应及药疗监护须知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一线抗结核药、二线抗结核药及抗真菌药各代表药物的药理作用和临床应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抗结核药及抗真菌药各代表药物的体内过程和用法；其他常用药物的作用特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B4BC-C871-412F-BB7A-C8B847DDA9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浅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5" descr="手癣"/>
          <p:cNvPicPr/>
          <p:nvPr/>
        </p:nvPicPr>
        <p:blipFill>
          <a:blip r:embed="rId1"/>
          <a:stretch/>
        </p:blipFill>
        <p:spPr>
          <a:xfrm>
            <a:off x="111240" y="3429000"/>
            <a:ext cx="3198600" cy="2259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1120680" y="587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手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668480" y="249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足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" name="Picture 8" descr="足癣2"/>
          <p:cNvPicPr/>
          <p:nvPr/>
        </p:nvPicPr>
        <p:blipFill>
          <a:blip r:embed="rId2"/>
          <a:srcRect l="0" t="0" r="0" b="16191"/>
          <a:stretch/>
        </p:blipFill>
        <p:spPr>
          <a:xfrm>
            <a:off x="3367080" y="165240"/>
            <a:ext cx="3198960" cy="2232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794160" y="2638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甲癣（灰指甲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912920" y="595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头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15" descr="u=416759491,364312515&amp;fm=21&amp;gp=0"/>
          <p:cNvPicPr/>
          <p:nvPr/>
        </p:nvPicPr>
        <p:blipFill>
          <a:blip r:embed="rId3"/>
          <a:stretch/>
        </p:blipFill>
        <p:spPr>
          <a:xfrm>
            <a:off x="324000" y="189000"/>
            <a:ext cx="2741400" cy="2208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u=1571559471,849855513&amp;fm=21&amp;gp=0"/>
          <p:cNvPicPr/>
          <p:nvPr/>
        </p:nvPicPr>
        <p:blipFill>
          <a:blip r:embed="rId4"/>
          <a:srcRect l="27566" t="0" r="4023" b="0"/>
          <a:stretch/>
        </p:blipFill>
        <p:spPr>
          <a:xfrm>
            <a:off x="3811680" y="3029040"/>
            <a:ext cx="27414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深部真菌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387040" y="530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伪膜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37412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鹅口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14" descr="u=2073475935,3213033707&amp;fm=21&amp;gp=0"/>
          <p:cNvPicPr/>
          <p:nvPr/>
        </p:nvPicPr>
        <p:blipFill>
          <a:blip r:embed="rId1"/>
          <a:stretch/>
        </p:blipFill>
        <p:spPr>
          <a:xfrm>
            <a:off x="324000" y="1197000"/>
            <a:ext cx="3198600" cy="4164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u=1561719512,3905960394&amp;fm=21&amp;gp=0"/>
          <p:cNvPicPr/>
          <p:nvPr/>
        </p:nvPicPr>
        <p:blipFill>
          <a:blip r:embed="rId2"/>
          <a:stretch/>
        </p:blipFill>
        <p:spPr>
          <a:xfrm>
            <a:off x="4427640" y="1844640"/>
            <a:ext cx="3198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真菌药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化学结构的不同可将抗真菌药分为以下四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生素类抗真菌药，如两性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类抗真菌药，如酮康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丙烯胺类抗真菌药，如特比萘芬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1225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嘧啶类抗真菌药，如氟胞嘧啶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FDD3-D24E-478E-AADD-6F75E421F3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抗生素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71640" y="1052280"/>
            <a:ext cx="5256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灰黄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0261-411A-4140-8735-CE1C0D1F6E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两性霉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属于多烯类抗真菌药，为广谱抗真菌药。对多种深部真菌如白色念珠菌、新型隐球菌、荚膜组织胞浆菌、皮炎芽生菌、粗球孢子菌、孢子丝菌等具有极强的抑菌作用，高浓度有杀菌作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目前治疗深部真菌感染的首选药。但由于其毒性明显，临床主要用于治疗诊断明确且病情危重的深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CB09-6C2E-4858-89D8-B91D5A168C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常见的不良反应有寒战、高热、头痛、眩晕、全身不适等输注相关的不良反应；胃肠道反应；肾功能损害；心血管系统反应；局部反应；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者禁用，肝、肾功能减退、孕妇应慎用，哺乳期妇女用药期间应暂停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D5D6-B77F-4D61-9250-2D084ED8AA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两性霉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毒性大，且不良反应多，临床只用于有绝对用药指征者，不可用于一般真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此药时必须在医护人员严格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血栓性静脉炎的发生，静脉滴注液应适当稀释，切勿将药液漏于血管外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引起的高热、头痛和过敏反应发生，静滴前半小时常需给患者服用解热镇痛药和抗组胺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由于该药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避光密闭保存，静脉滴注时，应避光缓慢滴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期间应检查：肾功能、周围血象和血清镁测定、肝功能检查、血钾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93B7-383E-424B-9BC3-8C034B9D26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作用、作用机制与两性霉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且不易产生耐药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上主要局部外用治疗皮肤、黏膜浅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应用时不良反应少见，口服后可发生恶心、呕吐、腹泻等；局部应用可引起皮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抗真菌谱较窄，对各种浅部真菌有较强的抑制作用，但对深部真菌和细菌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主要用于治疗各种癣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后可引起胃肠道反应、神经系统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61EB-E7C0-410B-8334-D6AA466330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唑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5256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酮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氟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伊曲康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A657-2CC1-4E0E-89E0-6D1E0303B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5" descr="2005615104729373"/>
          <p:cNvPicPr/>
          <p:nvPr/>
        </p:nvPicPr>
        <p:blipFill>
          <a:blip r:embed="rId1"/>
          <a:stretch/>
        </p:blipFill>
        <p:spPr>
          <a:xfrm>
            <a:off x="6012000" y="1268280"/>
            <a:ext cx="2741400" cy="2741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41760" cy="20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2006615180204"/>
          <p:cNvPicPr/>
          <p:nvPr/>
        </p:nvPicPr>
        <p:blipFill>
          <a:blip r:embed="rId3"/>
          <a:srcRect l="3117" t="13543" r="5249" b="11918"/>
          <a:stretch/>
        </p:blipFill>
        <p:spPr>
          <a:xfrm>
            <a:off x="2941560" y="4392720"/>
            <a:ext cx="54849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37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广谱抗真菌药，也是第一个可口服的广谱抗真菌药，对多种浅部和深部真菌均有抗菌作用。低浓度抑菌，高浓度杀菌。其对皮肤癣菌、酵母菌以及其他致病真菌等均有抗菌活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可有效地治疗深部、皮下及浅表真菌感染。局部外用可用于治疗表浅部真菌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849-05B6-4EC7-AA24-165A7E55A1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圆角矩形 3"/>
          <p:cNvSpPr/>
          <p:nvPr/>
        </p:nvSpPr>
        <p:spPr>
          <a:xfrm>
            <a:off x="468360" y="1341360"/>
            <a:ext cx="7858080" cy="331164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因发热，咳嗽，胸痛，血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入院。主诉：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来有低热，明显厌食，消瘦，疲乏，夜间盗汗等症状；入院检查：体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脉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呼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，血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9/81 mmH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营养稍差，消瘦，神志清楚，查体合作。胸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线平片检查：双肺纹理增粗，两肺散在性大小不等密度一致的片状阴影。取痰液做细菌培养和抗酸检查均为阳性。诊断：肺结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3"/>
          <p:cNvSpPr/>
          <p:nvPr/>
        </p:nvSpPr>
        <p:spPr>
          <a:xfrm>
            <a:off x="601560" y="4941720"/>
            <a:ext cx="7858080" cy="12956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问题：该患者诊断为肺结核的依据？如何治疗？用药治疗时应注意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肝功能损害、可导致女性月经紊乱、男性乳房增大、性欲减退及精液减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、急慢性肝病患者、有肝病史者、慢性酒精中毒、哺乳期妇女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儿童禁用。胃酸缺乏、老年人及肝肾功能减退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E902-005B-4288-8880-8AA0DE9FB5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酮康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早期可出现眩晕，应告知患者注意避免意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食物同服可减轻胃肠道不适，但不能与抗酸剂同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治疗前及治疗期间应定期监测肝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肾上腺功能不全及长时间处于应激状态的患者，应监测其肾上腺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服药期间禁止服用含酒精类的饮料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引起光敏反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用药无效或有刺激症状、恶化时，应通知医生，考虑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426-D5FB-4FC4-95CE-B7BEA91A30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7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制霉菌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抗菌谱与酮康唑相似。抗菌活性比酮康唑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主要用于白色念珠菌及隐球菌感染所致的深部真菌病，为治疗艾滋病患者隐球菌性脑膜炎的首选药物。不良反应较少，常见恶心、呕吐、腹痛等胃肠道反应。可能导致胎儿缺陷，孕妇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广谱抗真菌药，在目前唑类药物中抗真菌作用最强。可有效治疗深部、皮下及浅表真菌，已成为治疗罕见真菌如组织胞浆菌感染和芽生菌感染的首选药物。不良反应较轻，一般能较好地耐受，主要为胃肠道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3326-61BC-4607-BE61-D8E8967EBE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三、嘧啶类抗真菌药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--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人工合成的广谱抗真菌药，对新型隐球菌、白色念珠菌等具有较高抗菌活性，非白色念珠菌对该药的敏感性不如白色念珠菌；对着色真菌、少数曲霉菌属有一定抗菌活性；对其他真菌的抗菌作用均较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敏感的念珠菌、新型隐球菌和其他敏感真菌所致的严重感染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3AA3-BCB2-40A3-9E10-3388EEE97B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过敏反应、肝功能损害、肾功能损害、血液系统反应、神经系统毒性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本品过敏及严重肾功能不全者禁用。骨髓抑制、血液系统疾病、肝功能减退、肾功能减退者及孕妇应慎用。哺乳期妇女不宜使用或使用期间停止哺乳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7B1-D0B5-4402-8684-2164CEDECD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氟胞嘧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前及使用期间应进行下列检查：造血功能；肝功能；肾功能；肾功能减退者需监测血药浓度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患者有无胃肠道不适、贫血、肝功能损害等不良反应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嘱患者多饮水，并注意尿量的观察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减退者需减量用药，并根据血药浓度测定结果调整剂量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氟胞嘧啶过量时应予以洗胃、催吐、补充液体加速排泄，必要时采用血液透析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FCF3-3E0B-4D52-882F-8671A2C020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丙烯胺类抗真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70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特比萘芬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为丙烯胺类抗浅部真菌药，有广谱抗真菌作用，对浅部真菌如皮肤真菌、曲霉菌、皮炎芽白菌、荚膜组织胞浆菌有杀菌作用，对念珠菌则起抑菌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浅表真菌引起的皮肤、指甲感染，如对皮肤癣菌等引起的体癣、股癣、甲癣、足癣疗效较好，对酵母菌和白色念珠菌引起的癣病无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最常见的不良反应常为胃肠道症状、可见皮疹、荨麻疹、关节痛、肌痛等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过敏者禁用。孕妇及哺乳期妇女慎用。肝功能受损患者用本品时，应服用正常剂量的一半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007-C2D1-443B-8992-3C3C9AB53E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抗结核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DBED-F4D1-4A69-B600-C8BF7C7470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5" descr="u=4243327077,4111749206&amp;fm=21&amp;gp=0"/>
          <p:cNvPicPr/>
          <p:nvPr/>
        </p:nvPicPr>
        <p:blipFill>
          <a:blip r:embed="rId1"/>
          <a:stretch/>
        </p:blipFill>
        <p:spPr>
          <a:xfrm>
            <a:off x="900000" y="321300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u=1856927059,2883438388&amp;fm=21&amp;gp=0"/>
          <p:cNvPicPr/>
          <p:nvPr/>
        </p:nvPicPr>
        <p:blipFill>
          <a:blip r:embed="rId2"/>
          <a:stretch/>
        </p:blipFill>
        <p:spPr>
          <a:xfrm>
            <a:off x="5292720" y="328464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96F5-D62F-4BCF-A092-BC241FBB35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结核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916360" y="134136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250920" y="4508640"/>
            <a:ext cx="2736720" cy="10810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50920" y="1700280"/>
            <a:ext cx="2592360" cy="1008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线抗结核病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3059280" y="3933720"/>
            <a:ext cx="360360" cy="19940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1840 h 1994040"/>
              <a:gd name="textAreaBottom" fmla="*/ 1942200 h 19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348000" y="1125360"/>
            <a:ext cx="54738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较高、不良反应较少、患者较易耐受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异烟肼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利福平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胺丁醇、吡嗪酰胺和链霉素等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492360" y="3716280"/>
            <a:ext cx="53294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类药物疗效低于一线抗结核病药，毒性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buClr>
                <a:srgbClr val="fe230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包括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6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对氨水杨酸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乙硫异烟胺、丙硫异烟胺、氨硫脲、卷曲霉素、环丝氨酸等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一线抗结核病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34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一线抗结核病药物包括：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利福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乙胺丁醇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吡嗪酰胺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38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链霉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FCD-6DC3-42A4-BBE8-12EC6D071A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INH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125360"/>
            <a:ext cx="8450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对结核分枝杆菌具有高度的选择性，具有疗效好，毒性小、口服方便、价格低廉等优点，是目前临床首选的一线抗结核病药，但单用易产生耐药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异烟肼是预防和治疗结核病的首选药物，尤其是活动性结核。适用于各种类型的结核病，如肺、淋巴、骨、肾、肠等结核，结核性脑膜炎、胸膜炎及腹膜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FC75-3ED6-4C67-9AE9-42BE951588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异烟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神经系统毒性、肝功能损害、胃肠道反应、过敏反应、血液系统毒性、内分泌功能紊乱、可出现排尿困难、心律失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不良者禁用；肾病患者及有癫痫、嗜酒、精神病史者及孕妇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390E-5CC1-4A22-8DF2-14FD14A6BF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47:16Z</dcterms:modified>
  <cp:revision>29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