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ED3A-AAD8-404B-A202-D6AB13BC86C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B496-C9A4-4ADC-B10C-38EBBC84FF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14AB-3F26-4608-AE1C-235A98366A0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578D-8F5E-47F9-BD2B-E372BB515F7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FEFF-407B-4665-BEF9-436CC36922C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BCCF-2AC9-4E40-BCE4-1E851909715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75F5-5EB7-42A9-ACEC-100EA64A2CF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B5AE-6D2A-4D98-BF32-A8C2C50BAD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4284-1D39-4170-90DB-C8A40546687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BDAF-4ACD-485B-91BB-77123687A32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C1E0-00DE-4771-96FA-3FD0311EAB1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52D3-19CE-4ADB-B62C-E01076E26E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A30F-A672-4180-AF96-442CE5D2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3DC7-7231-48FF-B8D6-FF138178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0FA6-8090-4294-9389-0E27E53C74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9922-9DD3-461A-AD15-CAAC29AA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E0DB-7A6F-4575-86C2-7957C4C7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D837-B267-495A-87DC-F8433F33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B02F-DD86-43CB-9060-5301A458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7DE7-36C3-4B4D-877D-835A8C6C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7312-1794-4391-8D34-84D3DCB5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B139-11F5-4E19-B60F-70B7DD76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6D3C-86A0-4678-A955-7F86C35F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6284-F19A-44E7-9BAB-95ECF2BA40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华文新魏"/>
              </a:rPr>
              <a:t>治疗心绞痛药物</a:t>
            </a:r>
            <a:endParaRPr b="1" lang="en-US" sz="4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多因血管扩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颈部和面部皮肤潮红、搏动性头痛及眼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及青光眼患者禁用本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大剂量可引起高铁血红蛋白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硝酸甘油连续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易产生耐受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服药前应告诉患者可能出现搏动性头痛及面颈部皮肤潮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发作时应取坐位或半卧位用药，将药片放于舌下含服，不可吞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含服一片硝酸甘油后心绞痛未能缓解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可再用一次，紧急时可用牙齿咬碎使药物尽快溶化。连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片不能缓解应立即就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口服药物使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药物的保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应放置患者和家属都知道的地方，以备急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储存在棕褐色的密闭的小玻璃瓶中，防止受潮受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存期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失效药物不宜再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89160"/>
            <a:ext cx="86104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用药物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要保证皮肤清洁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膏药应帖敷于躯干、前胸、上腹部或上肢干燥无毛发处，勿贴于皮肤皱折，关节及瘢痕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软膏用药棒（棉签）均匀涂在专用的药用纸上，每次涂抹的范围大小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每次用药前将皮肤表面残存的药物清理干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要按摩敷药局部，经常变换用药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052280"/>
            <a:ext cx="8610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静脉滴注硝酸甘油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前及用药中应监测血压、脉搏和面部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掌握好给药速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~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用现配，分次少量配制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液瓶和莫非管要用玻璃容器或特殊胶管须用黑布或黑纸包裹，药液要避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外出时随身携带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告诉患者有关冠心病的自我护理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硝酸异山梨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属长效硝酸酯类，作用较弱，用于预防和缓解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舌下含化起效较硝酸甘油稍慢，但维持时间较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须注意患者对硝酸异山梨酯个体反应差异较大，一些患者更容易发生体位性低血压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单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的活性代谢产物，口服经胃肠道迅速吸收，生物利用度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与硝酸异山梨酯相同，用于防治心绞痛的发作及心肌梗死后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初期可出现血压降低，偶见头痛、心悸、头晕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：阻断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１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使心率减慢，心肌收缩力减弱，血压降低等，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缺血区心肌的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改善心肌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稳定型及不稳定型心绞痛，减少发作次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硝酸酯类不敏感或疗效差的稳定型心绞痛有效，伴有高血压、心率快或心律失常者更适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变异型心绞痛无效或甚至使症状加重，病情恶化，可能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被阻断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活性相对增高，致外周血管和冠状动脉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首关效应明显，生物利用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个体差异大，</a:t>
            </a:r>
            <a:r>
              <a:rPr b="0" i="1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约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效慢，口服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才出现降压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个体差异大，应从小剂量开始，根据病情增减剂量，以达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抗心肌缺血的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硝酸甘油、普萘洛尔治疗心绞痛的药理作用、临床应用、不良反应和药疗监护须知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两类药物合用的药理学基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异山梨酯、钙拮抗剂的作用及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心绞痛药物的分类及主要代表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和禁忌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的不良反应为消化道症状如恶心、呕吐或轻度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动过缓、房室传导阻滞、心功能不全患者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哮喘患者禁用非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，慎用美托洛尔等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普萘洛尔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propranolo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须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长期服用此药者不能随意骤然停药、漏服，必须于停药前两周内逐渐减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过程中监测心率、血压和心电图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因食物能延缓普萘洛尔吸收，故应在饭前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用本药应戒烟，以免降低药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阿替洛尔（氨酰心安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两药均为选择性心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剂，作用与普萘洛尔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血管及支气管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影响小，但较大剂量时对血管及支气管平滑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也有作用，有哮喘的患者仍应慎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受体阻断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196640"/>
            <a:ext cx="8610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富马酸比索洛尔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bisoprolol fumarat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选择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治疗剂量范围内，没有明显的膜稳定作用或内在拟交感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肝肾功能不全的患者，使用初始剂量要减低，在剂量递增时要谨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呼吸道反应以及糖脂代谢的影响较美托洛尔小，但在大剂量使用时，由于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的作用增强，应特别加强监测呼吸道症状和心率、血压，定期检查血糖、血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保护缺血心肌细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抑制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三）体内过程和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吸收良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达最大效应，作用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部分经肝代谢，由尿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，急用时可舌下含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咽部喷药；缓释片拜心痛；控释片拜心同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mg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；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四）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常见不良反应与其扩张血管作用相关，表现为颜面潮红、头痛、反射性心率加快等。严重者可出现低血压、外周组织水肿，以踝、足、小腿水肿较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胃肠功能紊乱可引起恶心、腹胀或便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血压过度降低可导致脑组织或心肌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偶可发生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五）药疗监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监测血压和心率，控制好剂量和给药时间，以防血压过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本药的缓释或控释剂型应整片服用，指导患者勿掰开或嚼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服药期间不要饮用含酒精的饮料，以防发生眩晕及低血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药期间应注意保持口腔卫生，以降低牙龈增生发生率及严重程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 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二氢吡啶类钙通道阻滞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用于兼有冠心病、高血压的心律失常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及禁忌证与硝苯地平相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不全者禁用。洋地黄中毒时，绝对禁用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合用，易引起低血压、心动过缓、传导阻滞，甚至停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钙拮抗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其他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地尔硫䓬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苯噻氮䓬类钙拮抗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接减慢心率的作用较强，可减轻心脏工作负荷及减少心肌耗氧量，解除冠脉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良反应和禁忌证与硝苯地平类同，其发生率较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地尔硫䓬和维拉帕米的患者心率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时，应警惕可能发生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绞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冠状动脉供血不足，心肌急剧并暂时性地缺血和缺氧所引起的临床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治疗心绞痛药物达到治疗目的主要通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或扩张冠脉增加心肌供血供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临床上常用抗心绞痛药物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钙拮抗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不具有的作用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率加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室壁肌张力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扩张小静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回心血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异性心绞痛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引起耐受性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圆角矩形 1"/>
          <p:cNvSpPr/>
          <p:nvPr/>
        </p:nvSpPr>
        <p:spPr>
          <a:xfrm>
            <a:off x="1835280" y="162864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心苷中毒最常见的不良反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电图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Q-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间期缩短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头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房室传导阻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恶心、呕吐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468360" y="1413000"/>
            <a:ext cx="8280360" cy="48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患有高血压多年。近期常于休息时感心前区憋闷，诊为变异型心绞痛者，该患者治疗心绞痛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戊四硝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圆角矩形 1"/>
          <p:cNvSpPr/>
          <p:nvPr/>
        </p:nvSpPr>
        <p:spPr>
          <a:xfrm>
            <a:off x="826920" y="1628640"/>
            <a:ext cx="7632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女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诊断为心绞痛，该患者伴有青光眼，则心绞痛治疗不宜选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维拉帕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圆角矩形 1"/>
          <p:cNvSpPr/>
          <p:nvPr/>
        </p:nvSpPr>
        <p:spPr>
          <a:xfrm>
            <a:off x="1857240" y="1628640"/>
            <a:ext cx="561672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首过效应大，不宜口服的抗心绞痛药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地尔硫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1"/>
          <p:cNvSpPr/>
          <p:nvPr/>
        </p:nvSpPr>
        <p:spPr>
          <a:xfrm>
            <a:off x="611280" y="1628640"/>
            <a:ext cx="792144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近期明确诊断为稳定型心绞痛。为迅速缓解心绞痛， 患者应随身携带的药物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普萘洛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苯地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硝酸甘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消心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美托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26792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539640" y="1268280"/>
            <a:ext cx="8280360" cy="518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建筑工人。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作性心前区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余天，再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急诊入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前骑车上班途中，突感胸痛，并向左肩部放射，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，此后间断发作数次，未予诊治。一天前，工作中再次出现上述症状，含服硝酸甘油后胸痛逐渐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内缓解。就诊当日晨，无明显诱因胸痛再次发作，遂来就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初步诊断为：冠状动脉粥样硬化性心脏病：心绞痛。医嘱予以：普蔡洛尔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 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；硝酸酸异山梨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ti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P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1"/>
          <p:cNvSpPr/>
          <p:nvPr/>
        </p:nvSpPr>
        <p:spPr>
          <a:xfrm>
            <a:off x="1116000" y="1989000"/>
            <a:ext cx="7416720" cy="316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为什么舌下含服硝酸甘油有助于缓解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入院后此联合用药是否合理？为什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作为该患者的责任护士，在使用抗心绞痛药物过程中应注意哪些事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一）药理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扩张冠状动脉，改善缺血区的血液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二）临床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稳定型心绞痛胸痛症状的首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心绞痛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选用其油膏或贴膜等制剂敷于胸部和背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急性心肌梗死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心肌耗氧量，并增加缺血区供血及抗血小板聚集和黏附作用，使梗死面积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3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用于治疗重度和难治性心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心脏前、后负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易受首过消除等影响，不宜口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溶性高，常舌下含化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起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作用达高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疗效维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~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硝酸甘油也可经皮肤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生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时间可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硝酸酯类药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610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终止心绞痛发作：片剂需舌下含服，喷雾剂对口腔喷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预防用药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缓释片（胶囊）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软膏制剂：涂于前胸或上腹部皮肤上，面积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~5.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每隔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一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贴膜：剂量大小与接触面积有关，疗效可保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除去药膜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内血药浓度迅速下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针剂溶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生理盐水中，稀释后静脉滴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07:43Z</dcterms:modified>
  <cp:revision>126</cp:revision>
  <dc:subject/>
  <dc:title>内科护理学</dc:title>
</cp:coreProperties>
</file>