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23F5-27E5-4E61-BF1D-17B4252A7D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0C68-2AEE-4E5A-9600-DEF11B01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F3217-09BC-4BD9-8CCE-B35BE4A4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6D9C-8395-41C8-89DC-15D45ED3A1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B4591-9FA7-4022-BBB7-09E7511F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1190F-DD2D-4EB7-954E-5C06CB63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4355F-12A3-4F41-9FE3-5A86680F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1928C-E43C-446F-B552-A17B2442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C23C-C349-4200-B548-FA7DA5FE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D697-2C47-476F-B66D-B00AC353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85B91-1673-444E-BC6C-B5AED788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2DE01-3386-410C-B1E3-6F9FD1D9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D803-F1AF-40AE-83C5-17FC91C9130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5616720" cy="18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八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79280" y="1557360"/>
            <a:ext cx="84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饥饿感、头晕、心悸、冷汗、震颤、惊厥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 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77mmol/L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致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：摄食或饮糖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：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：一般：轻微、短暂；偶见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必要时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糖皮质激素治疗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改用口服降糖药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皮下注射部位红肿、硬结、皮下脂肪萎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更换注射部位，改用高纯度胰岛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胰岛素抵抗：对某种类型的胰岛素产生耐受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换用其他类型制剂，并适当调整剂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7176-2CD8-4EA1-94C6-46BC892CCB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4000" y="1849320"/>
            <a:ext cx="8424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密切观察低血糖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特别注意，有些老年患者，发生低血糖时往往缺乏典型 症状，迅速表现为昏迷，称为“无警觉性低血糖昏迷”， 应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注意观察糖尿病酮症酸中毒的症状及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告诉患者注意注射胰岛素与进餐的时间关系，如进餐的时间改变，则必须相应改变注射胰岛素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教会患者检查尿糖及血糖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68360" y="15573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胰岛素制剂类型、有效期、如药液有变色、凝固或出现絮状物均不能应用。注射剂量必须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射时应抽回血，绝不可注入血管，以防发生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轮换注射部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应正确保存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混胰岛素使用前应充分摇匀，如需将短效与长效胰岛素混合使用，应先抽取短效胰岛素后再抽取长效胰岛素并充分混匀。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11600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口服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258920" y="1557360"/>
            <a:ext cx="626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磺酰脲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双胍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苷酶抑制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口服降糖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262320" y="404640"/>
            <a:ext cx="5881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磺酰脲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1403280" y="1484280"/>
            <a:ext cx="579276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苯磺丁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olbutamide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86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磺丙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lorpropam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本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benclamid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优降糖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吡嗪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piz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齐特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clazip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达美康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美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mepr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磺脲类药物的作用机制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5084640"/>
            <a:ext cx="7343640" cy="1152720"/>
          </a:xfrm>
          <a:prstGeom prst="rect">
            <a:avLst/>
          </a:prstGeom>
          <a:solidFill>
            <a:srgbClr val="046ca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磺脲类药物与细胞膜磺脲类受体结合，影响钾离子通道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钾离子外流受阻，细胞去极化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放电压依赖性</a:t>
            </a:r>
            <a:r>
              <a:rPr b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a</a:t>
            </a:r>
            <a:r>
              <a:rPr b="1" lang="en-US" sz="1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2+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道，钙离子内流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④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钙离子刺激胰岛素颗粒移动至细胞膜，并释放胰岛素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Object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43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6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55640" y="14832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苯磺丁脲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olbutam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又名甲唐宁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8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95280" y="216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：对正常人及胰岛功能尚存的糖尿病患者均有降血糖作用，但对严重糖尿病患者或完全切除胰腺的糖尿病患者则无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95280" y="411480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：用于胰岛功能尚存的轻、中度糖尿病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），且经饮食控制无效的糖尿病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468360" y="210132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胃肠道反应：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恶心、呕吐、胃痛、厌食和腹泻，多与剂量有关，减少剂量或继续 服药可消失。偶见肝损伤和胆汁淤积性黄疸，应注意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低血糖：较严重的是持续性低血糖，虽不多见，也应提高警惕，老年患者和肝肾功能不良者更易发生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其他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敏反应，嗜睡、眩晕、共济失调等，白细胞和血小板减少、溶血性贫血等血液系统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人及肝肾功能不良者慎用，孕妇禁用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4"/>
          <p:cNvSpPr/>
          <p:nvPr/>
        </p:nvSpPr>
        <p:spPr>
          <a:xfrm>
            <a:off x="395280" y="2105640"/>
            <a:ext cx="806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按时服药，一般在餐前数分钟服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劝告患者服药期间戒酒，饮酒可加强降血糖作用，导致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老年人及肾功能不良者应密切观察低血糖反应，这类患者应随身携带糖果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E75F-8B24-4465-929C-322807C6B52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24000" y="1916280"/>
            <a:ext cx="84470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剂量     半衰期     每日给药   作用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mg)     (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小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（次数）     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甲苯磺丁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00      8           3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氯磺丙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0      33-36       1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吡嗪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        2-4         3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本脲（优降糖）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.5      10-16      1-2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。</a:t>
            </a:r>
            <a:r>
              <a:rPr b="1" lang="zh-CN" sz="1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格列齐特（达美康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0       10-12      1-2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强、降低血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板黏附、改善微循环作用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其他常用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胰岛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服降血糖药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磺酰脲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双胍类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葡萄糖苷酶抑制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其他口服降糖药物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277164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95280" y="2060640"/>
            <a:ext cx="6408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应用的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福明（二甲双胍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tformin,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糖片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苯乙福明（苯乙双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henformi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1" name="Object 13"/>
          <p:cNvGraphicFramePr/>
          <p:nvPr/>
        </p:nvGraphicFramePr>
        <p:xfrm>
          <a:off x="1403280" y="3789360"/>
          <a:ext cx="3024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3024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684360" y="1341360"/>
          <a:ext cx="712764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1276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降低糖尿患者血糖，但对正常人血糖无影响。对胰岛功能完全丧失的糖尿患者仍有降血糖作用。不增加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轻、中度糖尿病患者，尤其是肥胖患者。也可与胰岛素或磺酰脲类合用于中、重度患者，以增强疗效，减少胰岛素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560240"/>
            <a:ext cx="885816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常见的不良反应有恶心、呕吐、腹泻，口中有金属味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抑制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肠道吸收，产生巨幼红细胞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易引起乳酸性酸中毒，应严格掌握适应证并限制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肾功能不良，慢性心功能不全和尿酮体阳性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注意观察本药引起的不良反应，发现后及时停药，并报告医生，定期查血象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11280" y="1773360"/>
            <a:ext cx="77040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用于临床的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卡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ar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拜糖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伏格列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vogli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格列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glit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4140360" y="119700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物中的淀粉等多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5148360" y="206064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92720" y="2133720"/>
            <a:ext cx="14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淀粉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716360" y="2709720"/>
            <a:ext cx="137016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4716360" y="4005360"/>
            <a:ext cx="144144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718160" y="5373720"/>
            <a:ext cx="1295280" cy="503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5148360" y="472608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148360" y="335772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565440" y="3502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糖苷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29272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入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4068720" y="3933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06072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及吸收减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4068720" y="5157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060720" y="59500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避免餐后血糖升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044720" y="335772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楷体_GB2312"/>
              </a:rPr>
              <a:t>拜糖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2557440" y="3718080"/>
            <a:ext cx="100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407680" y="3141720"/>
            <a:ext cx="1102320" cy="36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112608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降糖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50920" y="17740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小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苷酶，使淀粉和蔗糖分解为葡萄糖的速度减慢，吸收延缓，而使餐后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、中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，尤其适用于老年患者。对其他药物疗效不佳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反应，可有腹胀、嗳气、排气增多，甚有腹泻或便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溃疡患者慎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24000" y="22788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加强胰岛素或其他口服降血糖药的作用而导致低血糖，因此与其他降糖药合用时应注意低血糖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发生低血糖口服糖块等因吸收延缓而难迅速奏效，需补充葡萄糖解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0920" y="162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一）胰岛素增敏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603800" y="23493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胰岛素抵抗，提高机体对胰岛素敏感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869760" y="3141720"/>
            <a:ext cx="282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噻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格列酮（文迪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吡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3995640" y="3645000"/>
            <a:ext cx="4897440" cy="2448000"/>
          </a:xfrm>
          <a:prstGeom prst="wedgeRectCallout">
            <a:avLst>
              <a:gd name="adj1" fmla="val -59592"/>
              <a:gd name="adj2" fmla="val -61152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素抵抗，降低血糖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善脂肪代谢紊乱，增加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D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型糖尿病血管并发症的防治作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抑制血小板聚集、炎症反应和内皮细胞增生，抗动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功能：阻止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的衰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抵抗的糖尿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（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、水潴留和贫血：常见的副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嗜睡、水肿、血液稀释、肌肉及骨骼痛、头痛、消化道症状、上呼吸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曲格列酮明显肝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增加，与水潴留、脂肪含量增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能诱发心力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：胰岛素和磺酰脲类药物的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熟悉：二甲双胍、阿卡波糖、罗格列酮的作用特点、临床应用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：其他降血糖药的药理作用和临床应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2054880" y="131040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餐时血糖调节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瑞格列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95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一种促胰岛素分泌药。最大优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仿胰岛素的生理性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胰岛</a:t>
            </a:r>
            <a:r>
              <a:rPr b="1" lang="el-GR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胞膜上的特异性受体结合来促进胰岛细胞膜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敏感性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道关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糖尿病患者，可与二甲双胍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良反应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血糖、视觉异常、胃肠道反应、肝功酶指标升高、过敏反应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24000" y="1413000"/>
            <a:ext cx="2438280" cy="691560"/>
          </a:xfrm>
          <a:prstGeom prst="rect">
            <a:avLst/>
          </a:prstGeom>
          <a:solidFill>
            <a:srgbClr val="0000cc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糖尿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54200" y="3330720"/>
            <a:ext cx="1523880" cy="106884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口服降糖药服用时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059280" y="234936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磺 酰 脲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316560" y="2411280"/>
            <a:ext cx="1762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分钟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040200" y="346392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双 胍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265440" y="3478320"/>
            <a:ext cx="9122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后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380400" y="5445000"/>
            <a:ext cx="16452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糖苷酶抑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388920" y="5445000"/>
            <a:ext cx="12780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进食同时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51000" y="4425840"/>
            <a:ext cx="236232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噻唑烷二酮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6463080" y="4468680"/>
            <a:ext cx="18266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早餐前后均可服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2"/>
          <p:cNvSpPr/>
          <p:nvPr/>
        </p:nvSpPr>
        <p:spPr>
          <a:xfrm rot="5400000">
            <a:off x="5555880" y="54068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13"/>
          <p:cNvSpPr/>
          <p:nvPr/>
        </p:nvSpPr>
        <p:spPr>
          <a:xfrm rot="5400000">
            <a:off x="5555880" y="44244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AutoShape 14"/>
          <p:cNvSpPr/>
          <p:nvPr/>
        </p:nvSpPr>
        <p:spPr>
          <a:xfrm rot="5400000">
            <a:off x="5555880" y="34290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 rot="5400000">
            <a:off x="5555880" y="23954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1973160" y="254952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1973160" y="567360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73160" y="2549520"/>
            <a:ext cx="0" cy="76212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1973160" y="4911840"/>
            <a:ext cx="0" cy="76176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2278080" y="369252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2297160" y="468324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55796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口服降糖药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79280" y="2173320"/>
            <a:ext cx="868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因患糖尿病接受胰岛素治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年，血糖基本控制在正常水平，尿糖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范围。昨晚因多食后，今上午尿糖定性试验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自行增加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突然感到心悸、饥饿、出冷汗，立即测血糖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4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判断其发生了低血糖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低血糖反应的可能原因、主要表现和急救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简述胰岛素治疗的监护要点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520240" y="333360"/>
            <a:ext cx="26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降血糖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病 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13744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胰岛素的作用、临床应用与不良反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磺酰脲类口服降血糖药的作用、应用、不良反应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糖尿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什么是糖尿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是一种以高血糖为共同特征的常见的内分泌代谢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胰岛素绝对或相对不足而引起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3514680"/>
            <a:ext cx="7488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临床症状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、多饮、多食、消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多一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B17F-7451-4705-A34A-07E0C786E9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603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胰岛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胰岛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sul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由胰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分泌的一种蛋白质，是机体内降低血糖的激素，同时促进糖原、脂肪、蛋白质合成。外源性胰岛素主要用来治疗糖尿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4044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0B86-FCF1-41BC-8A60-8D3F187B82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8360" y="1341360"/>
            <a:ext cx="806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靶组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11280" y="3213000"/>
            <a:ext cx="3744720" cy="1782720"/>
          </a:xfrm>
          <a:prstGeom prst="roundRect">
            <a:avLst>
              <a:gd name="adj" fmla="val 13745"/>
            </a:avLst>
          </a:pr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速葡萄糖的氧化和酵解，促进糖原合成和贮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692360" y="5300640"/>
            <a:ext cx="6048360" cy="865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糖来源减少，去路增加，导致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0" y="3141720"/>
            <a:ext cx="3745080" cy="1854000"/>
          </a:xfrm>
          <a:prstGeom prst="roundRect">
            <a:avLst>
              <a:gd name="adj" fmla="val 13745"/>
            </a:avLst>
          </a:pr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制糖原分解和异生，增加葡萄糖转变为脂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2556000" y="2275920"/>
            <a:ext cx="3795480" cy="735840"/>
          </a:xfrm>
          <a:prstGeom prst="ellipse">
            <a:avLst/>
          </a:prstGeom>
          <a:noFill/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076720" y="4797360"/>
            <a:ext cx="792360" cy="720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916360" y="4726080"/>
            <a:ext cx="720720" cy="792000"/>
          </a:xfrm>
          <a:custGeom>
            <a:avLst/>
            <a:gdLst>
              <a:gd name="textAreaLeft" fmla="*/ 96480 w 720720"/>
              <a:gd name="textAreaRight" fmla="*/ 624240 w 7207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3487680" y="3179880"/>
            <a:ext cx="2305080" cy="2520720"/>
          </a:xfrm>
          <a:custGeom>
            <a:avLst/>
            <a:gdLst>
              <a:gd name="textAreaLeft" fmla="*/ 92520 w 2305080"/>
              <a:gd name="textAreaRight" fmla="*/ 2212560 w 2305080"/>
              <a:gd name="textAreaTop" fmla="*/ 92520 h 2520720"/>
              <a:gd name="textAreaBottom" fmla="*/ 2428200 h 2520720"/>
            </a:gdLst>
            <a:ahLst/>
            <a:rect l="textAreaLeft" t="textAreaTop" r="textAreaRight" b="textAreaBottom"/>
            <a:pathLst>
              <a:path w="21600" h="23620">
                <a:moveTo>
                  <a:pt x="2969" y="0"/>
                </a:moveTo>
                <a:arcTo wR="2969" hR="2969" stAng="16200000" swAng="-5400000"/>
                <a:lnTo>
                  <a:pt x="0" y="20651"/>
                </a:lnTo>
                <a:arcTo wR="2969" hR="2969" stAng="10800000" swAng="-5400000"/>
                <a:lnTo>
                  <a:pt x="18631" y="2362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蛋白质合成，抑制蛋白质分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79320" y="3179880"/>
            <a:ext cx="2448000" cy="252072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20720"/>
              <a:gd name="textAreaBottom" fmla="*/ 2422440 h 2520720"/>
            </a:gdLst>
            <a:ahLst/>
            <a:rect l="textAreaLeft" t="textAreaTop" r="textAreaRight" b="textAreaBottom"/>
            <a:pathLst>
              <a:path w="21600" h="22242">
                <a:moveTo>
                  <a:pt x="2969" y="0"/>
                </a:moveTo>
                <a:arcTo wR="2969" hR="2969" stAng="16200000" swAng="-5400000"/>
                <a:lnTo>
                  <a:pt x="0" y="19273"/>
                </a:lnTo>
                <a:arcTo wR="2969" hR="2969" stAng="10800000" swAng="-5400000"/>
                <a:lnTo>
                  <a:pt x="18631" y="2224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脂肪酸转运与脂肪合成，抑制脂肪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降低脂肪酸和酮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080040" y="3179880"/>
            <a:ext cx="2448000" cy="251928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2229">
                <a:moveTo>
                  <a:pt x="2969" y="0"/>
                </a:moveTo>
                <a:arcTo wR="2969" hR="2969" stAng="16200000" swAng="-5400000"/>
                <a:lnTo>
                  <a:pt x="0" y="19260"/>
                </a:lnTo>
                <a:arcTo wR="2969" hR="2969" stAng="10800000" swAng="-5400000"/>
                <a:lnTo>
                  <a:pt x="18631" y="2222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66ff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率↑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收缩力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血流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钾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细胞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445000" y="2031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6008760" y="1379520"/>
            <a:ext cx="283536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6126120" y="158760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6151680" y="159552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6205680" y="1658880"/>
            <a:ext cx="22222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463680" y="1379520"/>
            <a:ext cx="2906640" cy="171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679320" y="1450800"/>
            <a:ext cx="2527560" cy="151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860400" y="1592280"/>
            <a:ext cx="22320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895320" y="1611360"/>
            <a:ext cx="2160360" cy="1278000"/>
            <a:chOff x="895320" y="1611360"/>
            <a:chExt cx="2160360" cy="1278000"/>
          </a:xfrm>
        </p:grpSpPr>
        <p:sp>
          <p:nvSpPr>
            <p:cNvPr id="148" name="Oval 17"/>
            <p:cNvSpPr/>
            <p:nvPr/>
          </p:nvSpPr>
          <p:spPr>
            <a:xfrm>
              <a:off x="895320" y="1611360"/>
              <a:ext cx="21603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922680" y="1618200"/>
              <a:ext cx="21088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19"/>
            <p:cNvSpPr/>
            <p:nvPr/>
          </p:nvSpPr>
          <p:spPr>
            <a:xfrm>
              <a:off x="945360" y="1630800"/>
              <a:ext cx="2005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0"/>
            <p:cNvSpPr/>
            <p:nvPr/>
          </p:nvSpPr>
          <p:spPr>
            <a:xfrm>
              <a:off x="1062720" y="1663200"/>
              <a:ext cx="17823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Oval 21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3303720" y="1523880"/>
            <a:ext cx="2604960" cy="146700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3305160" y="1525680"/>
            <a:ext cx="2604960" cy="146664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3416400" y="1595520"/>
            <a:ext cx="23446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Group 26"/>
          <p:cNvGrpSpPr/>
          <p:nvPr/>
        </p:nvGrpSpPr>
        <p:grpSpPr>
          <a:xfrm>
            <a:off x="3416400" y="1595520"/>
            <a:ext cx="2447640" cy="1278000"/>
            <a:chOff x="3416400" y="1595520"/>
            <a:chExt cx="2447640" cy="1278000"/>
          </a:xfrm>
        </p:grpSpPr>
        <p:sp>
          <p:nvSpPr>
            <p:cNvPr id="158" name="Oval 27"/>
            <p:cNvSpPr/>
            <p:nvPr/>
          </p:nvSpPr>
          <p:spPr>
            <a:xfrm>
              <a:off x="3416400" y="1595520"/>
              <a:ext cx="2447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447360" y="1602360"/>
              <a:ext cx="23893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Oval 29"/>
            <p:cNvSpPr/>
            <p:nvPr/>
          </p:nvSpPr>
          <p:spPr>
            <a:xfrm>
              <a:off x="3472920" y="1614960"/>
              <a:ext cx="22716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Oval 30"/>
            <p:cNvSpPr/>
            <p:nvPr/>
          </p:nvSpPr>
          <p:spPr>
            <a:xfrm>
              <a:off x="3606120" y="1647360"/>
              <a:ext cx="201960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6329520" y="1658880"/>
            <a:ext cx="2150640" cy="1278000"/>
            <a:chOff x="6329520" y="1658880"/>
            <a:chExt cx="2150640" cy="1278000"/>
          </a:xfrm>
        </p:grpSpPr>
        <p:sp>
          <p:nvSpPr>
            <p:cNvPr id="163" name="Oval 32"/>
            <p:cNvSpPr/>
            <p:nvPr/>
          </p:nvSpPr>
          <p:spPr>
            <a:xfrm>
              <a:off x="6329520" y="1658880"/>
              <a:ext cx="2150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33"/>
            <p:cNvSpPr/>
            <p:nvPr/>
          </p:nvSpPr>
          <p:spPr>
            <a:xfrm>
              <a:off x="6356520" y="1665720"/>
              <a:ext cx="20995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34"/>
            <p:cNvSpPr/>
            <p:nvPr/>
          </p:nvSpPr>
          <p:spPr>
            <a:xfrm>
              <a:off x="6379200" y="1678320"/>
              <a:ext cx="1996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Oval 35"/>
            <p:cNvSpPr/>
            <p:nvPr/>
          </p:nvSpPr>
          <p:spPr>
            <a:xfrm>
              <a:off x="6496200" y="1710720"/>
              <a:ext cx="177444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7" name="Text Box 36"/>
          <p:cNvSpPr/>
          <p:nvPr/>
        </p:nvSpPr>
        <p:spPr>
          <a:xfrm>
            <a:off x="392040" y="1811160"/>
            <a:ext cx="30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脂肪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3487680" y="19558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蛋白质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595920" y="2011320"/>
            <a:ext cx="14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标题 6"/>
          <p:cNvSpPr/>
          <p:nvPr/>
        </p:nvSpPr>
        <p:spPr>
          <a:xfrm>
            <a:off x="4356000" y="333360"/>
            <a:ext cx="4259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324000" y="1654200"/>
            <a:ext cx="7993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：胰岛素可用于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饮食和口服降血糖药治疗无效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或高渗性高血糖昏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重症感染、消耗性疾病、高热、妊娠、创伤及手术的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细胞内缺钾：高钾血症及防治心肌梗死时的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4932360" y="260280"/>
            <a:ext cx="40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临床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标题 6"/>
          <p:cNvSpPr/>
          <p:nvPr/>
        </p:nvSpPr>
        <p:spPr>
          <a:xfrm>
            <a:off x="3276720" y="333360"/>
            <a:ext cx="575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胰岛素制剂及给药方法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414440" y="123876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785080" cy="3809880"/>
        </p:xfrm>
        <a:graphic>
          <a:graphicData uri="http://schemas.openxmlformats.org/drawingml/2006/table">
            <a:tbl>
              <a:tblPr/>
              <a:tblGrid>
                <a:gridCol w="503280"/>
                <a:gridCol w="2017440"/>
                <a:gridCol w="792360"/>
                <a:gridCol w="1800000"/>
                <a:gridCol w="136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制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i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频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h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速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赖脯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门冬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或晚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血糖波动大，不易控制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甘精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重型选用短效制剂，后改此类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5:55Z</dcterms:modified>
  <cp:revision>145</cp:revision>
  <dc:subject/>
  <dc:title>内科护理学</dc:title>
</cp:coreProperties>
</file>