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C6EB-EF98-4D67-B8D6-C436512618B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59A1-8F15-40DA-B51F-7951E0F5B0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0D54-D531-4C1E-A338-785C2674936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699B-B0AC-41C8-BF4A-7998D98F90C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6751-1E99-4B75-8C44-F16E8D4EADF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E356-165D-4F05-A60D-15CEB6D690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60D8-895C-4D3E-BECA-34A48431D9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20DC-505C-4225-BD53-D68B0C5F311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F3E9-CD5F-4A63-A2E6-105D6A61A3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F101-6C2C-469E-A45F-D53A32E6E33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D293-C7FF-4B1B-AE37-F2A2042180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AEBD-4151-4286-8AA1-8C3DFE0493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DDA1-FD84-4BFB-BFA7-E35B3B3148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FE82-8D41-4847-9C1C-C6F15198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1AAD-4EE3-4840-BAF0-DF55C8E3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61DD-114E-4453-9A44-AB33AD3EF5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63EB-F962-4BBD-AE98-974C700C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EFB-DAB3-4532-8941-E0172989BA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C12-B282-4122-82C2-2C142CF9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66A-F1D5-4E0B-9F67-8CAFBACF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D0E-E2E2-4CC4-B6F8-74D456C4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94F-0FE9-4F30-915E-6370A7A7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20A3-39C1-4A93-95B0-2EAE6F26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3CF-5DAC-43A5-B0A6-8DBD8E68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EDF-B555-4AD6-9A41-06A232C4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059-D82E-4C00-8781-62626B5E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650-6533-4C85-8741-D53A6D34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8F39-AA78-4041-96D5-CD99DDFA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D63-1BAE-4721-B994-D4E7E0BB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7FA-B32C-4647-81DB-908A17E920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0E60-DBE4-4BB6-94ED-829E7FC1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1906-0134-4003-A501-0763A076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910F-5616-4B6C-B4C9-F55345E9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F007-AAFB-4BA9-A701-6D90620F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D0D5-5FFD-41DF-88F1-589903F3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E86C-611D-40B3-9743-95983F23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3C2E-971B-44E8-81DA-3D1D3ED1E8E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3"/>
          </p:nvPr>
        </p:nvSpPr>
        <p:spPr>
          <a:xfrm>
            <a:off x="3634920" y="6530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9AF0-E352-405D-851D-D09DF2902A8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7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治疗癫痫药和惊厥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的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~2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由于血药浓度个体差异较大，易引起蓄积，应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临床药物监测下给药，注意剂量的个体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癫痫是慢性疾病，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甚至终身用药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过程中切忌突然停药或更换其他药物；必须换药时，应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采取逐步过渡的方式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用药后可出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红色尿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，应预先告知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CCDF-0D52-404E-A1A7-15158D7E888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105444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2349360"/>
            <a:ext cx="86868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英钠是肝药酶诱导剂，可使皮质激素、洋地黄类和避孕药等的代谢加快而降低药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卡马西平、安定和乙醇等能够通过肝药酶诱导作用加速苯妥英钠的代谢，降低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磺胺类、异烟肼、水杨酸类和口服抗凝药等可与苯妥英钠竞争血浆蛋白结合部位，增加游离型血药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72CC-BE2E-4080-94A3-C9A33C778EF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carbamazep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矩形 4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用与苯妥英钠相似，能阻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道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癫痫病灶及其周围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较苯妥英钠抗癫痫作用更为广谱，对精神运动性发作最有效，也可用于对其他药无效的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及部分性发作，对三叉神经痛的疗效优于苯妥英钠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3B59-5066-46E8-B799-A6B592DE50EE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矩形 8"/>
          <p:cNvSpPr/>
          <p:nvPr/>
        </p:nvSpPr>
        <p:spPr>
          <a:xfrm>
            <a:off x="124344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与用法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缓慢且不规则，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6~1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血药浓度达高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有效血药浓度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~10 μg/ml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时从小剂量开始，逐渐增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矩形 12"/>
          <p:cNvSpPr/>
          <p:nvPr/>
        </p:nvSpPr>
        <p:spPr>
          <a:xfrm>
            <a:off x="80172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用药早期可出现头昏、眩晕、恶心、呕吐和共济失调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和心血管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偶见粒细胞减少、血小板减少和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D2A9-92BB-4BB4-812B-0B5B6D0997E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卡马西平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carbamazepine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1054440" y="1700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28600" y="2276640"/>
            <a:ext cx="8915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卡马西平用药初期可出现神经精神症状，故需加强护理，尤其注意观察老年人的临床表现。用药期间定期监测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054440" y="3759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物相互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4268880"/>
            <a:ext cx="86850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苯巴比妥、苯妥英钠、扑米酮加快卡马西平代谢，使其血药浓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256C-7A29-42EE-BC3C-D24390F1E8BB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obarbit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矩形 10"/>
          <p:cNvSpPr/>
          <p:nvPr/>
        </p:nvSpPr>
        <p:spPr>
          <a:xfrm>
            <a:off x="395280" y="21337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个用于抗癫痫的有机化合物。既能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病灶神经元的异常放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亦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抑制异常放电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95280" y="4221000"/>
            <a:ext cx="8520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具有镇静、催眠和抗惊厥作用，临床上主要用于治疗癫痫大发作及癫痫持续状态，对单纯局限性发作及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也有效，对复杂部分性发作及小发作往往无效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71C1-2F81-4B21-8107-F883B237CFD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704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巴比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phenobarbital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81920" y="14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4200" y="198900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常见嗜睡、眩晕和共济失调等神经毒性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致巨幼红细胞性贫血、白细胞减少和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少数患者有皮疹、黄疸、高热、粒细胞缺乏等过敏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矩形 9"/>
          <p:cNvSpPr/>
          <p:nvPr/>
        </p:nvSpPr>
        <p:spPr>
          <a:xfrm>
            <a:off x="1143360" y="390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疗监护须知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35080" y="4424400"/>
            <a:ext cx="8686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本药为镇静催眠药物。用药初期最常见反应为嗜睡、精神萎靡等；偶见中枢兴奋作用，多见于儿童和老年人，故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加强护理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187A-0FE9-46DC-BD75-BFCCF4BAF109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568440" y="162864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扑米酮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imido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矩形 3"/>
          <p:cNvSpPr/>
          <p:nvPr/>
        </p:nvSpPr>
        <p:spPr>
          <a:xfrm>
            <a:off x="835200" y="220500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强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阵挛性发作、单纯及复杂部分性发作，与苯妥英钠和卡马西平合用具有协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矩形 8"/>
          <p:cNvSpPr/>
          <p:nvPr/>
        </p:nvSpPr>
        <p:spPr>
          <a:xfrm>
            <a:off x="570240" y="328464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乙琥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thosuximi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835200" y="3860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要用于小发作，尤其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失神小发作，是临床治疗的首选药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对肌阵挛及婴儿痉挛也有一定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12"/>
          <p:cNvSpPr/>
          <p:nvPr/>
        </p:nvSpPr>
        <p:spPr>
          <a:xfrm>
            <a:off x="633600" y="4941720"/>
            <a:ext cx="35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丙戊酸钠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dium valpro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13"/>
          <p:cNvSpPr/>
          <p:nvPr/>
        </p:nvSpPr>
        <p:spPr>
          <a:xfrm>
            <a:off x="835200" y="55166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广谱抗癫痫药物，对各型癫痫均有不同程度的疗效，尤其对大发作、局限性发作、失神发作和肌阵挛发作效果较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9F97-8EC5-4622-BA40-1B6FBA116A9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癫痫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矩形 2"/>
          <p:cNvSpPr/>
          <p:nvPr/>
        </p:nvSpPr>
        <p:spPr>
          <a:xfrm>
            <a:off x="696600" y="162864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苯二氮䓬类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nzodiazepin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2276640"/>
            <a:ext cx="8686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地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di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控制癫痫持续状态的首选药物。静脉注射见效快，安全性较大。由于静脉注射维持药效时间不长，应配合肌注苯巴比妥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nitr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对肌阵挛性癫痫、不典型小发作和婴儿痉挛有较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氯硝西泮（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clonazepam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）：具有高度脂溶性，宜透过血脑屏障。对各型癫痫均有效，尤其是失神小发作、婴儿痉挛、肌阵挛发作为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6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BDDD-AC14-467C-8072-7E4C5E147EA1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药物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7000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依据发作类型选择药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发作类型诊断不准，选药不当是治疗失败的重要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用药方案的制定和执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尽量采用单一药物治疗，以减少药物相互作用、减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D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并易于评定疗效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从小剂量开始，逐渐增量。一般抗癫痫药物的治疗指数较低，临床应配合血药浓度监测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换药原则：新药加量、老药减量交替过渡撤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停药原则：逐渐减量，剂量越大、撤药时间越长，一般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密切注意不良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定期随访，应测查血、肝、肾功能以及神经系统症状和认知功能，判定药效和有无毒性反应，作出个体化剂量调整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孕妇用药问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药物致畸问题、癫痫反复发作对胎儿的影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B0F9-4381-41DF-AACA-D848041BB2F4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苯妥英钠抗癫痫的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熟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抗癫痫药注意事项和常用抗癫痫药的选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癫痫的主要临床分型与临床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2997-DE41-4EF3-88A5-7A913A32E760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分型与药物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8000" y="1195560"/>
          <a:ext cx="8915400" cy="5329080"/>
        </p:xfrm>
        <a:graphic>
          <a:graphicData uri="http://schemas.openxmlformats.org/drawingml/2006/table">
            <a:tbl>
              <a:tblPr/>
              <a:tblGrid>
                <a:gridCol w="1832040"/>
                <a:gridCol w="2049480"/>
                <a:gridCol w="2624040"/>
                <a:gridCol w="24098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大  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亚  类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具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选择药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0404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局限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单纯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局灶性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运动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2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感觉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3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植物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性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4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卡马西平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妥英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巴比妥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扑米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1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复杂部分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颞叶癫痫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意识障碍起病者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精神运动性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继发于单纯部分性发作的意识障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219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全身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非局部开始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强直阵挛大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同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失神小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乙琥胺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肌阵挛发作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无张力发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丙戊酸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苯二氮卓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未能分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婴儿痉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CTH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糖皮质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癫痫持续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地西泮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,</a:t>
                      </a: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巴比妥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E6A2-CD0F-42C7-A1A0-7ECD62398876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76140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179280" y="2227320"/>
            <a:ext cx="87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5C73-3DC5-4513-88A3-EA2DF96072E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惊厥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矩形 2"/>
          <p:cNvSpPr/>
          <p:nvPr/>
        </p:nvSpPr>
        <p:spPr>
          <a:xfrm>
            <a:off x="2823840" y="1035000"/>
            <a:ext cx="36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硫酸镁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gnesium sulfat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4"/>
          <p:cNvSpPr/>
          <p:nvPr/>
        </p:nvSpPr>
        <p:spPr>
          <a:xfrm>
            <a:off x="1376640" y="1722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和禁忌证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179280" y="22273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钙离子化学性质相近，可竞争性的拮抗钙离子结合位点，从而抑制神经化学传递和骨骼肌收缩中钙离子的作用，也可以直接作用于中枢，引起感觉和意识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761400" y="3954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96920" y="4549680"/>
            <a:ext cx="85201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主要用于缓解子痫、破伤风等惊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浓度镁离子具有心肌抑制和扩张血管的作用，故也可用于高血压危象。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控制好用药剂量、浓度及滴注速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8747-6D6D-40F5-80E7-E33304F8BECD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395280" y="1488960"/>
            <a:ext cx="8319960" cy="35146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岁，高中生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前患者于学校上课时突然大叫一声，四肢抽搐，双眼上翻且口吐白沫，急诊入院。入院后查脑电图示“癫痫样放电”，初步诊断为“癫痫大发作”，医嘱给予苯妥英钠，口服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Bi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。抽搐未能控制，住院期间癫痫发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次。于入院后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宋体"/>
              </a:rPr>
              <a:t>1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  <a:ea typeface="宋体"/>
              </a:rPr>
              <a:t>天出现高热，伴全身性皮疹。医嘱继续给予苯妥英钠（剂量同前），加服苯巴比妥。抽搐得到有效控制。住院后，患者逐渐认识到癫痫是一种慢性病、需要长期服药治疗、症状控制不好会再发作，因此产生严重的心理负担，变得内向、寡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428760" y="5157720"/>
            <a:ext cx="8286480" cy="1295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1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苯妥英钠治疗癫痫的作用机制及其不良反应。加用苯巴比妥的原因及其注意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（</a:t>
            </a:r>
            <a:r>
              <a:rPr b="0" lang="en-US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2</a:t>
            </a:r>
            <a:r>
              <a:rPr b="0" lang="zh-CN" sz="2200" spc="-1" strike="noStrike">
                <a:solidFill>
                  <a:srgbClr val="fe230c"/>
                </a:solidFill>
                <a:latin typeface="Times New Roman"/>
                <a:ea typeface="黑体"/>
              </a:rPr>
              <a:t>）针对该患者的疾病和心理状态，药疗监护应注意的事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3505320" y="6576840"/>
            <a:ext cx="21333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90F4-D2CE-416C-B821-43CD5B9B1128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癫痫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(Epilepsy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4000" y="2305080"/>
            <a:ext cx="3822480" cy="360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4348080" y="1916280"/>
            <a:ext cx="45673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类由于脑局部病灶神经元异常高频放电、并向周围组织扩散引起的大脑功能失调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突发性、短暂性和反复发作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运动、感觉、意识和自主神经功能等多种异常，并伴有脑电图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8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DA0E-B3B1-49BF-9841-F7CEC03810C2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简单分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0920" y="1916280"/>
            <a:ext cx="849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分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单纯部分性发作（局限性发作，不伴有意识障碍）和精神运动性发作（复杂部分性发作，伴有意识障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面性发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包括失神发作（小发作，主要以意识障碍起病）和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性发作（大发作，以意识障碍和全身抽搐为主要特征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灯片编号占位符 2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CF95-5E8F-4841-8F56-EC826A70A1B3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癫痫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2987640" y="868320"/>
            <a:ext cx="331308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药物治疗环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79280" y="1989000"/>
            <a:ext cx="86868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病灶神经元过度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作用于病灶周围正常神经组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遏制异常放电的扩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妥因钠、卡马西平、乙琥胺等干扰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Ca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2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K</a:t>
            </a:r>
            <a:r>
              <a:rPr b="0" lang="en-US" sz="2000" spc="-1" strike="noStrike" baseline="30000">
                <a:solidFill>
                  <a:srgbClr val="0d0d0d"/>
                </a:solidFill>
                <a:latin typeface="Times New Roman"/>
                <a:ea typeface="黑体"/>
              </a:rPr>
              <a:t>+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等阳离子通道，膜稳定作用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增强脑内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γ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氨基丁酸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(GABA)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介导的抑制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苯二氮卓类、苯巴比妥类增加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释放；丙戊酸等抑制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GAB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分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抑制兴奋性递质（谷氨酸、天冬氨酸）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AMP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、</a:t>
            </a:r>
            <a:r>
              <a:rPr b="0" lang="en-US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NMDA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受体的拮抗剂、托吡酯等减少兴奋性递质的释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0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B688-95E0-4D89-9D30-DCC3DF967E8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药理作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395280" y="213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降低细胞膜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通透性，抑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流，从而降低神经细胞细胞膜的兴奋性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阻滞癫痫病灶异常放电向周围正常脑组织的扩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747000" y="3716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临床应用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4221000"/>
            <a:ext cx="84582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癫痫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：苯妥英钠是治疗强直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-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阵挛性发作（大发作）的首选药，对单纯部分发作、复杂部分发作均有效，对失神小发作无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治疗外周神经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抗心律失常（见第十七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42E6-38CC-4C1F-8FE5-A1C8AF7E657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体内过程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346680" y="3687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2039760"/>
            <a:ext cx="86868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为碱性药，刺激性大，不宜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吸收慢而不规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高于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 μg/ml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时，血浆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 baseline="-25000">
                <a:solidFill>
                  <a:srgbClr val="0d0d0d"/>
                </a:solidFill>
                <a:latin typeface="Times New Roman"/>
                <a:ea typeface="黑体"/>
              </a:rPr>
              <a:t>1/2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延至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0~60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小时，易引起蓄积中毒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219240" y="4221000"/>
            <a:ext cx="86468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从小剂量开始，逐渐增加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口服一般用量为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100~200 mg/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每日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2~3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次，不宜超过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400 mg/d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因其治疗量和中毒量接近，故容易出现中毒反应，需严密监测血药浓度，观察中毒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灯片编号占位符 1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5F9C-7B53-42FD-BDE7-EA43D423D14F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2"/>
          <p:cNvSpPr/>
          <p:nvPr/>
        </p:nvSpPr>
        <p:spPr>
          <a:xfrm>
            <a:off x="747000" y="14842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【不良反应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2133720"/>
            <a:ext cx="86868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局部刺激：厌食、恶心、呕吐和腹痛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齿龈增生：长期应用可引起齿龈增生，多见于青少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神经系统反应：多见头晕，剂量过大引起中毒则可出现眼球震颤、复视、眩晕、共济失调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血液系统：巨幼红细胞性贫血，偶见粒细胞、血小板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骨骼系统反应：低钙血症、佝偻病样改变和骨软化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可见皮疹、血小板减少、粒细胞缺乏、再生障碍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其他：致畸胎，故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苯妥英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(phenytoin sodiu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635280" y="6531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7815-0FB3-43C7-8037-5D6DF9168EF7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10:30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