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921E4-1E25-4EA4-BB39-1DF047EA2E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CCE75-F0A1-4FE3-B23B-A26339C7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96B7D-3131-4805-A5B1-908E3AC1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E8F10-A72A-4F3E-9F11-09D5E78943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57450-6C67-4E2F-8CA2-2FAF054F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C6935-BF45-4D1D-824C-BB783A50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D4B7C-D037-4DDC-ABFF-F0438C7C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EADBA-9542-4373-844A-E1654DAB1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D4181-2F4D-40D2-AF1D-2E88465A3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17682-9746-4D0B-AD6D-6350262D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BB6EE-D096-4198-B90B-416AC719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6B7EE-BA69-4F9A-8A46-9E3F4678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58B5-ED6C-4CCF-A389-8CDAFD7BD77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9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抗恶性肿瘤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泌尿道症状、骨髓抑制、胃肠道反应、脱发、心脏毒性、肝功能损害等；另外，还有致癌、致畸和致突变作用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显恶液质者、心功能不全、孕妇、哺乳期妇女禁用。有痛风病史、肝功能损害、感染、肾功能损害、有泌尿系结石史及肝病患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06FF-40F6-4BAF-8ACB-CF5E7229A1F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920" y="133992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鼓励患者多饮水，达到水化利尿，减少充血性膀胱炎的发生。还可以配合应用巯乙磺酸钠预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对组织有刺激作用，静滴过程中需注意观察局部皮肤变化，一旦发现药液外溢应立即更换静脉通道，局部给予冷、热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注意监测血象，每周检测白细胞、血小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心功能及肝、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D60E-0912-44CD-B8DF-B5659439791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圆角矩形 3"/>
          <p:cNvSpPr/>
          <p:nvPr/>
        </p:nvSpPr>
        <p:spPr>
          <a:xfrm>
            <a:off x="468360" y="1771560"/>
            <a:ext cx="7858080" cy="194472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涕血，后鼻镜检查发现咽隐窝有肉芽肿样隆起，表面粗糙不平。诊断为鼻咽癌，并伴有心功能不全。医嘱：环磷酰胺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静脉注射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剪去单角的矩形 6"/>
          <p:cNvSpPr/>
          <p:nvPr/>
        </p:nvSpPr>
        <p:spPr>
          <a:xfrm>
            <a:off x="539640" y="393372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治疗方案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3211560" y="110412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圆角矩形 3"/>
          <p:cNvSpPr/>
          <p:nvPr/>
        </p:nvSpPr>
        <p:spPr>
          <a:xfrm>
            <a:off x="601560" y="4941720"/>
            <a:ext cx="7858080" cy="151308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虽然环磷酰胺可用于鼻咽癌的治疗，但是该药有明显的心脏毒性，心功能不全者禁用，而该患者伴有心功能不全，所以不宜使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白消安又名马利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莫司汀又名卡氮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罗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司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美法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C711-4529-44AD-B881-753DCE1C84A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抗代谢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412640"/>
            <a:ext cx="8783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此类药物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，属细胞周期特异性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二氢叶酸还原酶的药物，如甲氨蝶呤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阻止嘧啶类核苷酸形成的抗代谢药物，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氟尿嘧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多聚酶的药物，如阿糖胞苷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阻止嘌呤类核苷酸形成的抗代谢药物，如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-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巯嘌呤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抑制核苷酸还原酶的药物，如羟基脲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83BC-8AFA-497E-B858-D184AB5F4CB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MTX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甲氨蝶呤为抗叶酸类抗肿瘤药，化学结构与叶酸相似，主要通过抑制二氢叶酸还原酶，阻止脱氧胸苷酸合成，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；也可通过阻止嘌呤核苷酸合成，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和蛋白质的合成。该药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儿童急性白血病和绒毛膜上皮癌的治疗。对恶性葡萄胎、骨肉瘤、软组织肉瘤、肺癌、乳腺癌、肝癌、卵巢癌、睾丸肿瘤、头颈部肿瘤等有良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A217-FDEB-4A9F-8354-71F8A1DD666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骨髓抑制、肝功能损害、肾功能损害、中枢神经系统毒性、肺毒性及脱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肝、肾功能异常、孕妇和哺乳期妇女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4329-A2CF-4895-8067-744E774B1A4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甲氨蝶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大量饮水，预防肾功能衰竭，碱化尿液以降低毒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药浓度与骨髓抑制密切相关，用药期间应监测血药浓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为减轻甲氨蝶呤的骨髓抑制作用，可在大剂量应用甲氨蝶呤后肌注甲酰四氢叶酸钙作为救援剂，以保护骨髓正常细胞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肝、肾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3722-9B98-4308-A14D-B19127AA6FB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圆角矩形 3"/>
          <p:cNvSpPr/>
          <p:nvPr/>
        </p:nvSpPr>
        <p:spPr>
          <a:xfrm>
            <a:off x="468360" y="1771560"/>
            <a:ext cx="7858080" cy="158616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支气管肺癌，并伴有肝功能障碍、重度脂肪肝。医嘱：甲氨蝶呤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口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剪去单角的矩形 6"/>
          <p:cNvSpPr/>
          <p:nvPr/>
        </p:nvSpPr>
        <p:spPr>
          <a:xfrm>
            <a:off x="539640" y="3645000"/>
            <a:ext cx="8001000" cy="71424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药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3211560" y="110412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圆角矩形 3"/>
          <p:cNvSpPr/>
          <p:nvPr/>
        </p:nvSpPr>
        <p:spPr>
          <a:xfrm>
            <a:off x="601560" y="4581360"/>
            <a:ext cx="7858080" cy="187344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甲氨蝶呤属于抗代谢药，是细胞特异性药物，可以用于支气管肺癌的治疗，但此药有明显的肝脏毒性，肝功能异常者禁用，而该患者有肝功能障碍，所以不宜选择此药物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氟尿嘧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-F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阿糖胞苷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ra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巯嘌呤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-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羟基脲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西他滨又名环胞苷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yclo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3612-3FDC-4935-9078-F563FDB90E9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816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29"/>
          <p:cNvGrpSpPr/>
          <p:nvPr/>
        </p:nvGrpSpPr>
        <p:grpSpPr>
          <a:xfrm>
            <a:off x="1819440" y="1322280"/>
            <a:ext cx="688320" cy="593640"/>
            <a:chOff x="1819440" y="1322280"/>
            <a:chExt cx="688320" cy="593640"/>
          </a:xfrm>
        </p:grpSpPr>
        <p:grpSp>
          <p:nvGrpSpPr>
            <p:cNvPr id="107" name="Group 4"/>
            <p:cNvGrpSpPr/>
            <p:nvPr/>
          </p:nvGrpSpPr>
          <p:grpSpPr>
            <a:xfrm>
              <a:off x="1819440" y="1322280"/>
              <a:ext cx="688320" cy="593640"/>
              <a:chOff x="1819440" y="1322280"/>
              <a:chExt cx="688320" cy="593640"/>
            </a:xfrm>
          </p:grpSpPr>
          <p:sp>
            <p:nvSpPr>
              <p:cNvPr id="108" name="AutoShape 5"/>
              <p:cNvSpPr/>
              <p:nvPr/>
            </p:nvSpPr>
            <p:spPr>
              <a:xfrm>
                <a:off x="1824840" y="133236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AutoShape 6"/>
              <p:cNvSpPr/>
              <p:nvPr/>
            </p:nvSpPr>
            <p:spPr>
              <a:xfrm>
                <a:off x="1819440" y="132228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7"/>
              <p:cNvSpPr/>
              <p:nvPr/>
            </p:nvSpPr>
            <p:spPr>
              <a:xfrm>
                <a:off x="1859400" y="135720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1" name="Text Box 8"/>
            <p:cNvSpPr/>
            <p:nvPr/>
          </p:nvSpPr>
          <p:spPr>
            <a:xfrm>
              <a:off x="1999440" y="13795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1819440" y="2025720"/>
            <a:ext cx="687240" cy="593640"/>
            <a:chOff x="1819440" y="2025720"/>
            <a:chExt cx="687240" cy="593640"/>
          </a:xfrm>
        </p:grpSpPr>
        <p:sp>
          <p:nvSpPr>
            <p:cNvPr id="113" name="AutoShape 9"/>
            <p:cNvSpPr/>
            <p:nvPr/>
          </p:nvSpPr>
          <p:spPr>
            <a:xfrm>
              <a:off x="1819440" y="2025720"/>
              <a:ext cx="687240" cy="593640"/>
            </a:xfrm>
            <a:prstGeom prst="hexagon">
              <a:avLst>
                <a:gd name="adj" fmla="val 28942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1954080" y="2108160"/>
              <a:ext cx="354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5" name="Group 31"/>
          <p:cNvGrpSpPr/>
          <p:nvPr/>
        </p:nvGrpSpPr>
        <p:grpSpPr>
          <a:xfrm>
            <a:off x="1803240" y="4076640"/>
            <a:ext cx="687240" cy="593640"/>
            <a:chOff x="1803240" y="4076640"/>
            <a:chExt cx="687240" cy="593640"/>
          </a:xfrm>
        </p:grpSpPr>
        <p:grpSp>
          <p:nvGrpSpPr>
            <p:cNvPr id="116" name="Group 11"/>
            <p:cNvGrpSpPr/>
            <p:nvPr/>
          </p:nvGrpSpPr>
          <p:grpSpPr>
            <a:xfrm>
              <a:off x="1803240" y="4076640"/>
              <a:ext cx="687240" cy="593640"/>
              <a:chOff x="1803240" y="4076640"/>
              <a:chExt cx="687240" cy="593640"/>
            </a:xfrm>
          </p:grpSpPr>
          <p:sp>
            <p:nvSpPr>
              <p:cNvPr id="117" name="AutoShape 12"/>
              <p:cNvSpPr/>
              <p:nvPr/>
            </p:nvSpPr>
            <p:spPr>
              <a:xfrm>
                <a:off x="1808640" y="4086720"/>
                <a:ext cx="681840" cy="583560"/>
              </a:xfrm>
              <a:prstGeom prst="hexagon">
                <a:avLst>
                  <a:gd name="adj" fmla="val 29210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AutoShape 13"/>
              <p:cNvSpPr/>
              <p:nvPr/>
            </p:nvSpPr>
            <p:spPr>
              <a:xfrm>
                <a:off x="1803240" y="4076640"/>
                <a:ext cx="681840" cy="583560"/>
              </a:xfrm>
              <a:prstGeom prst="hexagon">
                <a:avLst>
                  <a:gd name="adj" fmla="val 29210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9" name="AutoShape 14"/>
              <p:cNvSpPr/>
              <p:nvPr/>
            </p:nvSpPr>
            <p:spPr>
              <a:xfrm>
                <a:off x="1843200" y="4111560"/>
                <a:ext cx="599400" cy="513360"/>
              </a:xfrm>
              <a:prstGeom prst="hexagon">
                <a:avLst>
                  <a:gd name="adj" fmla="val 29190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0" name="Text Box 15"/>
            <p:cNvSpPr/>
            <p:nvPr/>
          </p:nvSpPr>
          <p:spPr>
            <a:xfrm>
              <a:off x="1971720" y="4152960"/>
              <a:ext cx="35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5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33"/>
          <p:cNvGrpSpPr/>
          <p:nvPr/>
        </p:nvGrpSpPr>
        <p:grpSpPr>
          <a:xfrm>
            <a:off x="1805040" y="2708280"/>
            <a:ext cx="679320" cy="593640"/>
            <a:chOff x="1805040" y="2708280"/>
            <a:chExt cx="679320" cy="593640"/>
          </a:xfrm>
        </p:grpSpPr>
        <p:sp>
          <p:nvSpPr>
            <p:cNvPr id="122" name="AutoShape 16"/>
            <p:cNvSpPr/>
            <p:nvPr/>
          </p:nvSpPr>
          <p:spPr>
            <a:xfrm>
              <a:off x="1805040" y="2708280"/>
              <a:ext cx="679320" cy="593640"/>
            </a:xfrm>
            <a:prstGeom prst="hexagon">
              <a:avLst>
                <a:gd name="adj" fmla="val 28608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1983240" y="27655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3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4" name="Line 18"/>
          <p:cNvSpPr/>
          <p:nvPr/>
        </p:nvSpPr>
        <p:spPr>
          <a:xfrm>
            <a:off x="255600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2556000" y="2492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484360" y="3860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2484360" y="4508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22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484360" y="595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Group 34"/>
          <p:cNvGrpSpPr/>
          <p:nvPr/>
        </p:nvGrpSpPr>
        <p:grpSpPr>
          <a:xfrm>
            <a:off x="1835280" y="3411360"/>
            <a:ext cx="688320" cy="593640"/>
            <a:chOff x="1835280" y="3411360"/>
            <a:chExt cx="688320" cy="593640"/>
          </a:xfrm>
        </p:grpSpPr>
        <p:grpSp>
          <p:nvGrpSpPr>
            <p:cNvPr id="132" name="Group 4"/>
            <p:cNvGrpSpPr/>
            <p:nvPr/>
          </p:nvGrpSpPr>
          <p:grpSpPr>
            <a:xfrm>
              <a:off x="1835280" y="3411360"/>
              <a:ext cx="688320" cy="593640"/>
              <a:chOff x="1835280" y="3411360"/>
              <a:chExt cx="688320" cy="593640"/>
            </a:xfrm>
          </p:grpSpPr>
          <p:sp>
            <p:nvSpPr>
              <p:cNvPr id="133" name="AutoShape 5"/>
              <p:cNvSpPr/>
              <p:nvPr/>
            </p:nvSpPr>
            <p:spPr>
              <a:xfrm>
                <a:off x="1840680" y="342144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4" name="AutoShape 6"/>
              <p:cNvSpPr/>
              <p:nvPr/>
            </p:nvSpPr>
            <p:spPr>
              <a:xfrm>
                <a:off x="1835280" y="341136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5" name="AutoShape 7"/>
              <p:cNvSpPr/>
              <p:nvPr/>
            </p:nvSpPr>
            <p:spPr>
              <a:xfrm>
                <a:off x="1875240" y="344628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6" name="Text Box 8"/>
            <p:cNvSpPr/>
            <p:nvPr/>
          </p:nvSpPr>
          <p:spPr>
            <a:xfrm>
              <a:off x="2015280" y="346860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4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7" name="Group 40"/>
          <p:cNvGrpSpPr/>
          <p:nvPr/>
        </p:nvGrpSpPr>
        <p:grpSpPr>
          <a:xfrm>
            <a:off x="1805040" y="4780080"/>
            <a:ext cx="679320" cy="593640"/>
            <a:chOff x="1805040" y="4780080"/>
            <a:chExt cx="679320" cy="593640"/>
          </a:xfrm>
        </p:grpSpPr>
        <p:sp>
          <p:nvSpPr>
            <p:cNvPr id="138" name="AutoShape 16"/>
            <p:cNvSpPr/>
            <p:nvPr/>
          </p:nvSpPr>
          <p:spPr>
            <a:xfrm>
              <a:off x="1805040" y="4780080"/>
              <a:ext cx="679320" cy="593640"/>
            </a:xfrm>
            <a:prstGeom prst="hexagon">
              <a:avLst>
                <a:gd name="adj" fmla="val 28608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Text Box 17"/>
            <p:cNvSpPr/>
            <p:nvPr/>
          </p:nvSpPr>
          <p:spPr>
            <a:xfrm>
              <a:off x="1983240" y="483732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6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0" name="Group 43"/>
          <p:cNvGrpSpPr/>
          <p:nvPr/>
        </p:nvGrpSpPr>
        <p:grpSpPr>
          <a:xfrm>
            <a:off x="1835280" y="5499000"/>
            <a:ext cx="688320" cy="593640"/>
            <a:chOff x="1835280" y="5499000"/>
            <a:chExt cx="688320" cy="593640"/>
          </a:xfrm>
        </p:grpSpPr>
        <p:grpSp>
          <p:nvGrpSpPr>
            <p:cNvPr id="141" name="Group 4"/>
            <p:cNvGrpSpPr/>
            <p:nvPr/>
          </p:nvGrpSpPr>
          <p:grpSpPr>
            <a:xfrm>
              <a:off x="1835280" y="5499000"/>
              <a:ext cx="688320" cy="593640"/>
              <a:chOff x="1835280" y="5499000"/>
              <a:chExt cx="688320" cy="593640"/>
            </a:xfrm>
          </p:grpSpPr>
          <p:sp>
            <p:nvSpPr>
              <p:cNvPr id="142" name="AutoShape 5"/>
              <p:cNvSpPr/>
              <p:nvPr/>
            </p:nvSpPr>
            <p:spPr>
              <a:xfrm>
                <a:off x="1840680" y="550908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3" name="AutoShape 6"/>
              <p:cNvSpPr/>
              <p:nvPr/>
            </p:nvSpPr>
            <p:spPr>
              <a:xfrm>
                <a:off x="1835280" y="5499000"/>
                <a:ext cx="682920" cy="583560"/>
              </a:xfrm>
              <a:prstGeom prst="hexagon">
                <a:avLst>
                  <a:gd name="adj" fmla="val 29257"/>
                  <a:gd name="vf" fmla="val 115470"/>
                </a:avLst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4" name="AutoShape 7"/>
              <p:cNvSpPr/>
              <p:nvPr/>
            </p:nvSpPr>
            <p:spPr>
              <a:xfrm>
                <a:off x="1875240" y="5533920"/>
                <a:ext cx="600120" cy="513360"/>
              </a:xfrm>
              <a:prstGeom prst="hexagon">
                <a:avLst>
                  <a:gd name="adj" fmla="val 29225"/>
                  <a:gd name="vf" fmla="val 115470"/>
                </a:avLst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5" name="Text Box 8"/>
            <p:cNvSpPr/>
            <p:nvPr/>
          </p:nvSpPr>
          <p:spPr>
            <a:xfrm>
              <a:off x="2015280" y="555624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7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6" name="Text Box 49"/>
          <p:cNvSpPr/>
          <p:nvPr/>
        </p:nvSpPr>
        <p:spPr>
          <a:xfrm>
            <a:off x="3635280" y="13161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烷化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50"/>
          <p:cNvSpPr/>
          <p:nvPr/>
        </p:nvSpPr>
        <p:spPr>
          <a:xfrm>
            <a:off x="3635280" y="19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代谢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51"/>
          <p:cNvSpPr/>
          <p:nvPr/>
        </p:nvSpPr>
        <p:spPr>
          <a:xfrm>
            <a:off x="3132000" y="2637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抗肿瘤抗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52"/>
          <p:cNvSpPr/>
          <p:nvPr/>
        </p:nvSpPr>
        <p:spPr>
          <a:xfrm>
            <a:off x="3276720" y="33321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植物抗肿瘤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53"/>
          <p:cNvSpPr/>
          <p:nvPr/>
        </p:nvSpPr>
        <p:spPr>
          <a:xfrm>
            <a:off x="3203640" y="39798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激素类抗肿瘤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54"/>
          <p:cNvSpPr/>
          <p:nvPr/>
        </p:nvSpPr>
        <p:spPr>
          <a:xfrm>
            <a:off x="2627280" y="4724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抗肿瘤药及辅助治疗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55"/>
          <p:cNvSpPr/>
          <p:nvPr/>
        </p:nvSpPr>
        <p:spPr>
          <a:xfrm>
            <a:off x="2556000" y="5445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化疗药物不良反应的防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抗肿瘤抗生素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1412-4970-4FF9-93E2-1D6C13056FB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DAC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是多肽类抗生素，可嵌入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双螺旋链中相邻的鸟嘌呤和胞嘧啶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G-C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）碱基对之间，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成复合体，阻碍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多聚酶的功能，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合成，从而妨碍蛋白质合成而抑制肿瘤细胞生长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抗瘤谱较窄，临床主要用于肾母细胞瘤、绒毛膜上皮癌、恶性葡萄胎、霍奇金病、恶性淋巴瘤、骨骼肌肉瘤和神经母细胞瘤等。也可提高放射线治疗的敏感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AEB6-E5CE-4502-82AE-FCABB98F3B6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骨髓抑制、肝功能损害、局部刺激、长期应用可抑制睾丸或卵巢功能、有免疫抑制作用，对妊娠者可引起畸胎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、骨髓功能低下、有痛风病史、肝功能损害、感染、有尿酸盐性肾结石病史、近期接受过放射治疗或抗癌药治疗者慎用。水痘或最近患过水痘患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F9EE-21A8-45DC-B50A-50D28544DD4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放线菌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注射漏出血管外，应立即停止注射，以氯化钠注射剂稀释，或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普鲁卡因注射剂局部封闭，温湿敷或冷敷，发生皮肤破溃后按溃疡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出现胃肠道反应，应对症处理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查周围血象及肝、肾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影响细胞动力学，可引起突变，对胎儿有致畸性，所以孕妇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可使血及尿中尿酸升高，所以痛风患者要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氯霉素、磺胺类、氨基比林合用可加重骨髓抑制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896F-8B11-4C4A-B089-6143BF27BF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柔比星又名阿霉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丝裂霉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M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博来霉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L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又名平阳霉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C625-C65C-41D2-8DA6-499214F5D4B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四节  植物抗肿瘤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FF57-F993-4FAD-8F62-D1932A599BF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VLB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主要作用于增生细胞有丝分裂的中期，对增生旺盛的细胞作用最强。主要通过抑制微管蛋白的聚合，而妨碍纺锤体微管的形成，使核分裂停止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。属于细胞周期特异性抗肿瘤药，主要作用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期细胞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治疗急性淋巴细胞性白血病、恶性淋巴瘤、睾丸肿瘤、绒毛膜癌疗效较好，对肺癌、乳腺癌、卵巢癌、皮肤癌及单核细胞白血病也有一定疗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142E-95EC-4723-91CD-EB8D853B081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骨髓抑制、胃肠道反应、周围神经毒性、局部刺激、其他如少数患者可出现脱发、直立性低血压、失眠、头痛及肝、肾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妊娠、哺乳期妇女禁用。已发生骨髓抑制、肿瘤已侵犯骨髓和正在接受放疗的患者慎用。有痛风病史和有尿酸盐性肾结石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0BA1-694E-46F9-8165-F40B0B9C45A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长春碱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7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注射勿漏于血管外，如不慎将药液漏于血管外，应立即局部皮下注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0.25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硫代硫酸钠或生理盐水及冷敷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 h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定期检测肝、肾功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一般发生于用药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应预先向患者说明，头发可再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1D97-1DEF-4214-8407-9C88F2A806A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6048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长春新碱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C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5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紫杉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2224-63AF-4EBB-98BB-6C553D8496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抗恶性肿瘤药的不良反应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抗恶性肿瘤药的临床应用和禁忌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恶性肿瘤药分类及代表药；各代表药物的药理作用和用法；其他常用药物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02EE-75CC-485B-84DD-D551E888A7C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4920" y="2781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五节  激素类抗肿瘤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FBBF-0753-4EB0-BA29-9C7FD249BDF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为合成的抗雌激素类药，可与雌二醇竞争结合肿瘤雌激素受体，阻止受体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上的雌激素反应元件相结合，使转录等过程不能进行，从而抑制激素依赖性乳腺肿瘤细胞的生长繁殖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乳腺癌术后辅助治疗，雌激素受体阳性患者疗效较好，特别是绝经后年龄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上的患者；用于晚期乳腺癌或治疗后复发者，对皮肤、淋巴结及软组织转移疗效较好；也用于子宫内膜癌、不排卵性不孕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9318-3867-4C90-8898-82F6CE26038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继发性抗雌激素作用、神经精神症状、骨髓抑制、大剂量长期应用可导致视力障碍及皮疹、脱发、肝脏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绝经前、孕妇、哺乳期妇女禁用。有视力障碍，肝、肾功能不全者慎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BFF8-67AE-455D-8641-5862B07CD94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他莫昔芬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前及用药期间应定期做眼科检查和肝、肾功能检查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对长期服用本品并有血栓栓塞危险的患者，治疗期间应定期检查血象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当出现异常的阴道出血时，应立即就诊，并进行全面检查。阴道大量出血时应停药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用本品治疗的患者有增加子宫内膜癌发生的危险，所以应进行妇科检查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62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本品可出现月经过多及不规则子宫出血。因此，若绝经前必须使用本药者，应同时服用抗促性腺激素药物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E3CC-8C24-4975-AB3D-B86AB374EB4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64105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福美司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雌莫司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BDCA-D223-498E-BF8F-D9B0920DEF7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圆角矩形 3"/>
          <p:cNvSpPr/>
          <p:nvPr/>
        </p:nvSpPr>
        <p:spPr>
          <a:xfrm>
            <a:off x="468360" y="1484280"/>
            <a:ext cx="7858080" cy="158580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男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前列腺癌晚期。医嘱：雌二醇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 mg/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口服。治疗一段时间后效果不佳，改用多柔比星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缓慢静脉注射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剪去单角的矩形 6"/>
          <p:cNvSpPr/>
          <p:nvPr/>
        </p:nvSpPr>
        <p:spPr>
          <a:xfrm>
            <a:off x="539640" y="321300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雌二醇治疗效果不佳后，改用多柔比星是否合理，为什么？应该改用什么药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641400" y="984960"/>
            <a:ext cx="146088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药物选择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圆角矩形 3"/>
          <p:cNvSpPr/>
          <p:nvPr/>
        </p:nvSpPr>
        <p:spPr>
          <a:xfrm>
            <a:off x="601560" y="4076640"/>
            <a:ext cx="7858080" cy="259236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因为该患者为前列腺癌晚期，不适合手术治疗，只能采用药物治疗，选择调节激素平衡的药物雌二醇是合理的，但改用多柔比星是不合理的，因为多柔比星是抗肿瘤抗生素类药物，没有调节激素平衡的作用。该患者属于激素治疗效果不佳者，应改用雌莫司汀，该药物主要用于晚期前列腺癌，尤其适用于对雌二醇治疗不敏感的前列腺癌的患者。</a:t>
            </a:r>
            <a:endParaRPr b="0" lang="en-US" sz="2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07732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5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六节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其他抗肿瘤药及辅助治疗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0FD0-6DC1-49FA-A920-E8778DE6656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能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链上的鸟嘌呤、腺嘌呤和胞嘧啶形成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单链内两点的交叉联结，也可能形成双链间的交叉联结，从而破坏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，阻止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再复制；对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和蛋白质合成的抑制作用较弱。属细胞周期非特异性药物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2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抗瘤谱广。主要用于治疗转移性睾丸癌和卵巢癌，是治疗非精原细胞性睾丸肿瘤最有效的药物之一，亦可用于绒癌、宫颈癌等其他生殖系统肿瘤；对头颈部癌、肺非小细胞癌、膀胱癌、胃癌、骨髓癌等也有一定疗效。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38EE-6A2D-46CB-B43E-87E1C446F59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497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胃肠道反应、肾功能损害、骨髓抑制、神经毒性、过敏反应、电解质紊乱、少数患者出现心电图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ST-T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改变、肝功能损害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损害、严重骨髓抑制、对本品有过敏史者及孕妇、哺乳期妇女禁用。听力受损、中耳炎或听神经功能障碍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0BD4-818A-41D9-8E1B-16658E5250D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顺  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前宜备好各类止吐药，同时备用肾上腺素、皮质激素、抗组胺药，以便急救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用药前、中、后均应监测血、尿、肝、肾及听力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应鼓励患者多饮水或输液强迫利尿，以降低肾功能损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严重的消化道反应恶心、呕吐应给于高效的止吐药物，并做好患者的饮食宣教，以少食多餐、清淡饮食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次顺铂静脉给药剂量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0 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必须先水化，并用生理盐水配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4837-2A9F-49EF-8F81-C01A66F9C15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B828-55D1-45E3-BBFB-9FE2A1DDB39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肿瘤药物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Oval 5"/>
          <p:cNvSpPr/>
          <p:nvPr/>
        </p:nvSpPr>
        <p:spPr>
          <a:xfrm>
            <a:off x="250920" y="1341360"/>
            <a:ext cx="3544920" cy="84780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作用生化机制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4211640" y="1079640"/>
            <a:ext cx="4105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核酸生物合成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影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构与功能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转录过程和阻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N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合成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干扰蛋白质合成与功能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调节激素平衡的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4903920" y="2997360"/>
            <a:ext cx="2009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e1c"/>
                </a:solidFill>
                <a:latin typeface="Arial"/>
                <a:ea typeface="宋体"/>
              </a:rPr>
              <a:t>细胞周期非特异性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e1c"/>
                </a:solidFill>
                <a:latin typeface="Arial"/>
                <a:ea typeface="宋体"/>
              </a:rPr>
              <a:t>细胞周期特异性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13"/>
          <p:cNvSpPr/>
          <p:nvPr/>
        </p:nvSpPr>
        <p:spPr>
          <a:xfrm>
            <a:off x="3851280" y="1074600"/>
            <a:ext cx="360360" cy="13464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4920 h 1346400"/>
              <a:gd name="textAreaBottom" fmla="*/ 1311480 h 134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50920" y="5029200"/>
            <a:ext cx="3544920" cy="8478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来源和化学结构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250920" y="3157560"/>
            <a:ext cx="3544920" cy="8478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作用的周期分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4427640" y="4352760"/>
            <a:ext cx="4105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烷化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抗代谢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抗肿瘤抗生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植物抗肿瘤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激素类抗肿瘤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其他药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AutoShape 13"/>
          <p:cNvSpPr/>
          <p:nvPr/>
        </p:nvSpPr>
        <p:spPr>
          <a:xfrm>
            <a:off x="3924360" y="4602240"/>
            <a:ext cx="431640" cy="1706400"/>
          </a:xfrm>
          <a:custGeom>
            <a:avLst/>
            <a:gdLst>
              <a:gd name="textAreaLeft" fmla="*/ 275760 w 431640"/>
              <a:gd name="textAreaRight" fmla="*/ 432000 w 431640"/>
              <a:gd name="textAreaTop" fmla="*/ 44280 h 1706400"/>
              <a:gd name="textAreaBottom" fmla="*/ 1662120 h 170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Line 23"/>
          <p:cNvSpPr/>
          <p:nvPr/>
        </p:nvSpPr>
        <p:spPr>
          <a:xfrm flipV="1">
            <a:off x="3803760" y="3284640"/>
            <a:ext cx="480960" cy="24768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Line 24"/>
          <p:cNvSpPr/>
          <p:nvPr/>
        </p:nvSpPr>
        <p:spPr>
          <a:xfrm>
            <a:off x="3780000" y="3645000"/>
            <a:ext cx="576000" cy="14436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圆角矩形 3"/>
          <p:cNvSpPr/>
          <p:nvPr/>
        </p:nvSpPr>
        <p:spPr>
          <a:xfrm>
            <a:off x="468360" y="1557360"/>
            <a:ext cx="7858080" cy="1585800"/>
          </a:xfrm>
          <a:prstGeom prst="roundRect">
            <a:avLst>
              <a:gd name="adj" fmla="val 12264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，诊断为卵巢癌，并伴有神经功能传导异常、听力功能下降。医嘱：顺铂联合紫杉醇化疗，顺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紫杉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0 mg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平均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周一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剪去单角的矩形 6"/>
          <p:cNvSpPr/>
          <p:nvPr/>
        </p:nvSpPr>
        <p:spPr>
          <a:xfrm>
            <a:off x="539640" y="3213000"/>
            <a:ext cx="8001000" cy="714600"/>
          </a:xfrm>
          <a:prstGeom prst="pie">
            <a:avLst/>
          </a:prstGeom>
          <a:solidFill>
            <a:srgbClr val="fe23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选择该治疗方案是否合理？为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211560" y="984960"/>
            <a:ext cx="301392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忽视禁忌证，致不良反应增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圆角矩形 3"/>
          <p:cNvSpPr/>
          <p:nvPr/>
        </p:nvSpPr>
        <p:spPr>
          <a:xfrm>
            <a:off x="601560" y="4076640"/>
            <a:ext cx="7858080" cy="2519280"/>
          </a:xfrm>
          <a:prstGeom prst="roundRect">
            <a:avLst>
              <a:gd name="adj" fmla="val 12264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分析：不合理。虽然使用顺铂与紫杉醇联合化疗是卵巢癌常用的化疗方法，但是紫杉醇具有神经毒性，而该患者伴有神经功能传导异常情况，使用紫杉醇是禁忌的，不宜使用；又因为顺铂有听神经毒性，禁用于听力受损、中耳炎或听神经功能障碍者。而该患者伴有听力功能受损，不宜使用。该患者有上述两种禁忌，所以使用这两种药物治疗是不合理的。</a:t>
            </a:r>
            <a:endParaRPr b="0" lang="en-US" sz="2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常用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558800"/>
            <a:ext cx="78501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卡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22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去甲斑蝥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FCDD-90E2-4F4C-8AFD-7DB1E360254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807732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第七节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化疗药物不良反应的防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7AD3-D375-4F19-879F-F419A6F098E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化疗药物常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71280" y="1197000"/>
            <a:ext cx="360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骨髓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功能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脏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87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脱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78E6-BC06-4EE9-9546-3B24DBE90E1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3946680" y="1053000"/>
            <a:ext cx="21618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栓塞性静脉炎防治措施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组织坏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外渗防治措施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059280" y="1125360"/>
            <a:ext cx="360360" cy="1151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29880 h 1151280"/>
              <a:gd name="textAreaBottom" fmla="*/ 1121400 h 11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920" y="112392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312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栓塞性静脉炎防治措施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为预防静脉炎的发生，应避免直接推注药物，而将化疗药物稀释后静注或静滴，然后用生理盐水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葡萄糖充分冲洗输液血管，以减轻药物对静脉的刺激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如需多次用药或患者静脉过细，均可采用锁骨下静脉穿刺法，将导管插入上腔静脉，则不会引起静脉炎，并可保留导管，使患者减少多次穿刺之痛苦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56CA-4D7A-4B58-90F4-A0FABE93C2C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560" y="112392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组织坏死防治措施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时发现，当化疗药物漏于皮下时患者即刻感到局部明显疼痛，此时应立即停注药物，用生理盐水冲洗输液管道内的化疗药物，拔出针头，重新选择其他血管进行穿刺输液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时处理：用生理盐水作局部皮下注入，以稀释化疗药物的浓度，并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%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普鲁卡因局部封闭，然后根据化疗药物的特性予以冷敷或热敷以防增加吸收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88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外用醋酸可地松软膏以防局部溃烂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DC31-BD22-4725-8266-9D739B1FBB6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局部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0560" y="112392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外渗防治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应识别是发疱性还是非发疱性药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注发疱性药物，如发现生理盐水或葡萄糖外渗明显，则应另选注射部位，避免使用同一静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静注给药部位尽量抽吸，以清除残留针头及皮管内的药液，吸取皮下水疱液，以尽可能除去残留液体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抬高患肢，注射部位宜用冷敷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输注部位使用适宜的解毒剂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有严重的局部组织损伤或坏死，可考虑局部切除和整形外科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5D69-0627-4FF3-A630-ECF61E33F13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胃肠道反应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69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保护口腔清洁，作好口腔护理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少吃多餐，给患者所喜欢的食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给高蛋白、富含维生素、高纤维素、易消化的饮食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采用嗽口药液，常用有盐水、硼砂水、呋喃西林等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37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时给予经肠道内或肠道外补充营养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809C-47D8-4652-A972-31F0BBC4837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骨髓抑制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后检查血象，一般每周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必要时每周检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感染征兆可用抗生素预防和治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贫血明显时应予以纠正，输注红细胞成分血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给促红细胞生长素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必要时吸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有明显眩晕、乏力者适当休息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观察出血倾向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静脉穿刺拔针时，应该压迫局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 min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以防皮下出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C954-A198-4246-B187-E5119195457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4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肾功能损害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353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为预防肾损伤的发生，对甲氨蝶呤、顺铂等肾毒性较强的药物应用前要进行水化治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尿素增高时，可口服包醛氧淀粉，每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 g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每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尿毒症时则需作肾透析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肾功能异常时应调整抗肿瘤药物的剂量或停药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E16C-A1E9-4FA3-830A-AA9F95F28D1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烷化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4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本类药物抗瘤谱广，选择性高，化学结构中有一个或两个活泼的烷化基团，可与细胞中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或蛋白质分子中亲核基团发生烷化作用，形成交叉联结或引起脱嘌呤，使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链断裂，或在下一次复制时使碱基配对错码，从而造成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与功能的破坏，严重时可导致肿瘤细胞死亡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药物包括：氮芥、环磷酰胺、白消安、卡莫司汀、罗莫司汀、司莫司汀、美法仑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15B9-FD7C-4095-96F3-1D5FED00D7B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5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肝功能损害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恶性肿瘤患者在化疗前、中、后都应定期作肝功检查，根据化验结果调整药物剂量，对肝功重度异常者禁用化疗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轻度肝功异常、脂肪肝或轻度肝硬化者，在必须化疗的情况下同时应用护肝药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对化疗过程中出现轻度单项谷丙转氨酶升高者，应同时应用护肝药物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严重肝损害尤其是发生药物性黄疸者应停止使用化疗药物，积极进行护肝治疗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8A23-D99D-4458-B2E9-54ACECFA0C2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6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心脏毒性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569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以预防为主，限制具有心脏毒性药物的剂量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与洋地黄并用可提高使用具有心脏毒性药物的安全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具有心脏毒性药物的滴注时间也可降低心毒性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1301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心肌病时，可给洋地黄、利尿剂、少盐饮食和卧床休息等措施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9771-CE23-43A2-9B9C-66A73AD864C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7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脱发的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化疗前告诉患者脱发的可能，并说明脱发是暂时的，可以恢复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后避免过分洗发和用力梳头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温和的洗发液和护发液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在头发上使用不适当的化学用品，不烫发染发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75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在注药前戴冰帽，使头皮冷却，血管痉挛，减少药物到达毛囊而减轻脱发，或用头皮止血带，减少药液进入头皮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13CC-E1DD-4BE1-A8E3-515123E6184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HN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氮芥是最早用于临床并取得突出疗效的抗肿瘤药物。本品可与鸟嘌呤第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位上的氮呈双键缩和，使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双链内发生交叉联结或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同链内的不同碱基发生交叉联结，导致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构和功能破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霍奇金病、非霍奇金淋巴瘤等，尤其适用于纵膈压迫症状明显的恶性淋巴瘤患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A49F-69DD-45A6-B57D-3492815759A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不良反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包括：局部反应、胃肠道反应、骨髓抑制；也可有眩晕、乏力、视力减退、耳鸣、听力丧失、脱发、月经不调、男性不育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禁忌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、哺乳期妇女及心功能不全者禁用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71C4-BAE2-414C-867F-BEF31243D6E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氮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26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疗监护须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有明显的局部刺激作用，易引起组织坏死，仅供动脉、静脉及腔内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溶解后极不稳定，使用时应新鲜配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注射勿漏于血管外，如不慎将药液漏于血管外，应立即局部皮下注射硫代硫酸钠或生理盐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可刺激延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T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能引起剧烈的呕吐，可应用恩丹西酮或胃复安及地塞米松止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期间每周应检查血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如果白细胞和血小板数量过低必须立即停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烷化剂有致突变或致畸胎作用，孕妇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有致癌性，长期应用可使继发性肿瘤发生的危险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03BA-FE15-4479-9724-DF13B5B596C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环磷酰胺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CTX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药理作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环磷酰胺是双功能烷化剂及细胞周期非特异性药物，可干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及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功能，尤以对前者的影响更大，它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发生烷化，形成交叉联结，抑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14"/>
              </a:spcBef>
              <a:buClr>
                <a:srgbClr val="fe230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应用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】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环磷酰胺抗瘤谱广，为目前广泛应用的烷化剂。对恶性淋巴瘤疗效显著，对多发性骨髓瘤、急性淋巴细胞白血病、神经性细胞瘤、乳腺癌、卵巢癌、肺癌、睾丸肿瘤等均有一定的疗效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7E0C-B55E-4E9E-B477-FD689F00E09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7:52:29Z</dcterms:modified>
  <cp:revision>17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