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9A2E-499E-416D-9C91-A23347E77F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2475-B9B3-4896-BB2A-A229780C3B3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DE9B-9207-4812-AF30-CB0D7954E2F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19FF-1EE0-4482-AAFC-2D12DE6EEB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D7D5-D176-4EAA-B643-E917531B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8E9C-587E-4D5C-ADDB-9AD02D6F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072B-6B72-49D0-B561-5407067B77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EB0B-6F16-4D45-B48C-62AF3BE7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1031-4C75-4427-A2E6-0B9028CD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8BBA-FAE3-413B-99EC-24A55C92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ADFE-0161-4DF9-9830-E44BA75A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71A9-27D9-426B-8537-C75A06FD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4E38-A32C-46A2-A4FF-9067B4C4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3EAD-D0F9-4768-9D8D-39D951BE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CED6-00EA-4D34-9B8F-21619D42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49C4-8ABC-4873-9A90-83A64D5132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26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发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9" name="组合 13"/>
          <p:cNvGrpSpPr/>
          <p:nvPr/>
        </p:nvGrpSpPr>
        <p:grpSpPr>
          <a:xfrm>
            <a:off x="857160" y="1785960"/>
            <a:ext cx="7816680" cy="4200840"/>
            <a:chOff x="857160" y="1785960"/>
            <a:chExt cx="7816680" cy="4200840"/>
          </a:xfrm>
        </p:grpSpPr>
        <p:pic>
          <p:nvPicPr>
            <p:cNvPr id="160" name="Picture 2" descr="http://netclass.csu.edu.cn/jpkc2005/bingsheng/xxfd/jxfdgp/5.files/Image00020.jpg"/>
            <p:cNvPicPr/>
            <p:nvPr/>
          </p:nvPicPr>
          <p:blipFill>
            <a:blip r:embed="rId1"/>
            <a:srcRect l="0" t="0" r="0" b="38891"/>
            <a:stretch/>
          </p:blipFill>
          <p:spPr>
            <a:xfrm>
              <a:off x="857160" y="3945960"/>
              <a:ext cx="7500240" cy="13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5"/>
            <p:cNvSpPr/>
            <p:nvPr/>
          </p:nvSpPr>
          <p:spPr>
            <a:xfrm>
              <a:off x="272016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4576"/>
                </a:gs>
                <a:gs pos="100000">
                  <a:srgbClr val="005fa1"/>
                </a:gs>
              </a:gsLst>
              <a:lin ang="16200000"/>
            </a:gradFill>
            <a:ln w="9360">
              <a:solidFill>
                <a:srgbClr val="005a8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线形标注 3(带边框和强调线) 7"/>
            <p:cNvSpPr/>
            <p:nvPr/>
          </p:nvSpPr>
          <p:spPr>
            <a:xfrm>
              <a:off x="1071720" y="1857240"/>
              <a:ext cx="2214360" cy="22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1822" y="27586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b0f2ff"/>
                </a:gs>
                <a:gs pos="100000">
                  <a:srgbClr val="e8fcff"/>
                </a:gs>
              </a:gsLst>
              <a:lin ang="16200000"/>
            </a:gradFill>
            <a:ln w="9360">
              <a:solidFill>
                <a:srgbClr val="85c4d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畏寒或寒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全身不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疲乏无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肌肉酸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干燥无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线形标注 3(带边框和强调线) 8"/>
            <p:cNvSpPr/>
            <p:nvPr/>
          </p:nvSpPr>
          <p:spPr>
            <a:xfrm flipH="1">
              <a:off x="6500880" y="2243160"/>
              <a:ext cx="171432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9179" y="42149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9fc3f5"/>
                </a:gs>
                <a:gs pos="100000">
                  <a:srgbClr val="e5eef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潮湿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线形标注 3(带边框和强调线) 10"/>
            <p:cNvSpPr/>
            <p:nvPr/>
          </p:nvSpPr>
          <p:spPr>
            <a:xfrm>
              <a:off x="3929040" y="1785960"/>
              <a:ext cx="2071440" cy="21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574" y="261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e1b8e3"/>
                </a:gs>
                <a:gs pos="100000">
                  <a:srgbClr val="f7ebf8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寒战消失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呼吸加快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自觉全身灼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转为潮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>
              <a:off x="4119480" y="4919760"/>
              <a:ext cx="942840" cy="398880"/>
            </a:xfrm>
            <a:prstGeom prst="rect">
              <a:avLst/>
            </a:prstGeom>
            <a:gradFill rotWithShape="0">
              <a:gsLst>
                <a:gs pos="0">
                  <a:srgbClr val="764478"/>
                </a:gs>
                <a:gs pos="100000">
                  <a:srgbClr val="9d5aa0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＝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12"/>
            <p:cNvSpPr/>
            <p:nvPr/>
          </p:nvSpPr>
          <p:spPr>
            <a:xfrm>
              <a:off x="550620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538c"/>
                </a:gs>
                <a:gs pos="100000">
                  <a:srgbClr val="0071b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13"/>
            <p:cNvSpPr/>
            <p:nvPr/>
          </p:nvSpPr>
          <p:spPr>
            <a:xfrm>
              <a:off x="104184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升型及缓升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712152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降型及缓降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9" name="矩形 15"/>
          <p:cNvSpPr/>
          <p:nvPr/>
        </p:nvSpPr>
        <p:spPr>
          <a:xfrm>
            <a:off x="654120" y="12859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的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热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稽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持续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40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间体温变动范围不超过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，高热可持续数日或数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大叶性肺炎、伤寒、副伤寒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1" descr="图片11-1"/>
          <p:cNvPicPr/>
          <p:nvPr/>
        </p:nvPicPr>
        <p:blipFill>
          <a:blip r:embed="rId1"/>
          <a:stretch/>
        </p:blipFill>
        <p:spPr>
          <a:xfrm>
            <a:off x="3000240" y="3571920"/>
            <a:ext cx="3541680" cy="2786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560" y="1214280"/>
            <a:ext cx="81961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弛张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变动范围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但最低温度仍高于正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化脓性感染、败血症、严重结核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2" descr="图片11-2"/>
          <p:cNvPicPr/>
          <p:nvPr/>
        </p:nvPicPr>
        <p:blipFill>
          <a:blip r:embed="rId1"/>
          <a:stretch/>
        </p:blipFill>
        <p:spPr>
          <a:xfrm>
            <a:off x="2786040" y="3071880"/>
            <a:ext cx="3632400" cy="30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间歇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时，体温骤升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持续数小时后骤降至正常或以下；持续数小时或数日后，体温又突然升高，如此高热期与无热期反复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疟疾、急性肾盂肾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3" descr="图片11-3"/>
          <p:cNvPicPr/>
          <p:nvPr/>
        </p:nvPicPr>
        <p:blipFill>
          <a:blip r:embed="rId1"/>
          <a:stretch/>
        </p:blipFill>
        <p:spPr>
          <a:xfrm>
            <a:off x="3000240" y="3714840"/>
            <a:ext cx="3929040" cy="2654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波状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逐渐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数日后逐渐降至正常体温，持续数日后又逐渐上升，如此反复，使体温曲线呈波浪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布鲁菌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图片 4" descr="图片11-4"/>
          <p:cNvPicPr/>
          <p:nvPr/>
        </p:nvPicPr>
        <p:blipFill>
          <a:blip r:embed="rId1"/>
          <a:stretch/>
        </p:blipFill>
        <p:spPr>
          <a:xfrm>
            <a:off x="2714760" y="3429000"/>
            <a:ext cx="3605040" cy="2836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1214280"/>
            <a:ext cx="8772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回归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骤然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持续数日后体温骤然下降至正常，这样高热期和无热期各持续数日后，规律地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回归热、霍奇金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图片 5" descr="图片11-5"/>
          <p:cNvPicPr/>
          <p:nvPr/>
        </p:nvPicPr>
        <p:blipFill>
          <a:blip r:embed="rId1"/>
          <a:stretch/>
        </p:blipFill>
        <p:spPr>
          <a:xfrm>
            <a:off x="2714760" y="3500280"/>
            <a:ext cx="3527280" cy="2803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214280"/>
            <a:ext cx="89154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不规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无规律，每日体温波动范围不定，为临床常见的热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结核病、风湿热、支气管肺炎、胸膜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6" descr="图片11-6"/>
          <p:cNvPicPr/>
          <p:nvPr/>
        </p:nvPicPr>
        <p:blipFill>
          <a:blip r:embed="rId1"/>
          <a:stretch/>
        </p:blipFill>
        <p:spPr>
          <a:xfrm>
            <a:off x="2357280" y="3141720"/>
            <a:ext cx="39722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寒战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感染性疾病、输液输血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咳嗽、咳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呼吸道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腹痛、腹泻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消化系统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意识障碍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中枢神经系统病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皮疹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出疹性传染病、药物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结核、传染性单核细胞增多症、淋巴瘤、白血病、恶性肿瘤淋巴结转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对患者身心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组合 5"/>
          <p:cNvGrpSpPr/>
          <p:nvPr/>
        </p:nvGrpSpPr>
        <p:grpSpPr>
          <a:xfrm>
            <a:off x="857160" y="2714760"/>
            <a:ext cx="7358040" cy="3179520"/>
            <a:chOff x="857160" y="2714760"/>
            <a:chExt cx="7358040" cy="3179520"/>
          </a:xfrm>
        </p:grpSpPr>
        <p:pic>
          <p:nvPicPr>
            <p:cNvPr id="202" name="Picture 4" descr="http://img2.imgtn.bdimg.com/it/u=3709648299,3701873481&amp;fm=21&amp;gp=0.jpg"/>
            <p:cNvPicPr/>
            <p:nvPr/>
          </p:nvPicPr>
          <p:blipFill>
            <a:blip r:embed="rId1"/>
            <a:stretch/>
          </p:blipFill>
          <p:spPr>
            <a:xfrm>
              <a:off x="6053400" y="2714760"/>
              <a:ext cx="2133360" cy="317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组合 16"/>
            <p:cNvGrpSpPr/>
            <p:nvPr/>
          </p:nvGrpSpPr>
          <p:grpSpPr>
            <a:xfrm>
              <a:off x="857160" y="2769840"/>
              <a:ext cx="2143080" cy="2346120"/>
              <a:chOff x="857160" y="2769840"/>
              <a:chExt cx="2143080" cy="2346120"/>
            </a:xfrm>
          </p:grpSpPr>
          <p:pic>
            <p:nvPicPr>
              <p:cNvPr id="204" name="Picture 2" descr="http://img5.imgtn.bdimg.com/it/u=1604391921,2739947916&amp;fm=21&amp;gp=0.jpg"/>
              <p:cNvPicPr/>
              <p:nvPr/>
            </p:nvPicPr>
            <p:blipFill>
              <a:blip r:embed="rId2"/>
              <a:stretch/>
            </p:blipFill>
            <p:spPr>
              <a:xfrm>
                <a:off x="857160" y="2769840"/>
                <a:ext cx="2143080" cy="23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11"/>
              <p:cNvSpPr/>
              <p:nvPr/>
            </p:nvSpPr>
            <p:spPr>
              <a:xfrm>
                <a:off x="872640" y="3897000"/>
                <a:ext cx="2064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精神状态：心情烦躁或焦虑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13"/>
            <p:cNvGrpSpPr/>
            <p:nvPr/>
          </p:nvGrpSpPr>
          <p:grpSpPr>
            <a:xfrm>
              <a:off x="3500280" y="2716200"/>
              <a:ext cx="2095560" cy="2400120"/>
              <a:chOff x="3500280" y="2716200"/>
              <a:chExt cx="2095560" cy="2400120"/>
            </a:xfrm>
          </p:grpSpPr>
          <p:pic>
            <p:nvPicPr>
              <p:cNvPr id="207" name="Picture 6" descr="http://img2.imgtn.bdimg.com/it/u=1592856059,3444524725&amp;fm=21&amp;gp=0.jp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2716200"/>
                <a:ext cx="2095560" cy="24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Box 12"/>
              <p:cNvSpPr/>
              <p:nvPr/>
            </p:nvSpPr>
            <p:spPr>
              <a:xfrm>
                <a:off x="3519360" y="3897720"/>
                <a:ext cx="2035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睡眠障碍及二便异常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9" name="TextBox 15"/>
            <p:cNvSpPr/>
            <p:nvPr/>
          </p:nvSpPr>
          <p:spPr>
            <a:xfrm>
              <a:off x="6072120" y="4280040"/>
              <a:ext cx="214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食欲缺乏及体重下降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疲劳、受寒及饮食不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传染病或疫水接触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手术、外伤、分娩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输血、服药、药物过敏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慢性病及家族遗传病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、治疗与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采取过的治疗及护理措施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501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受到致热原的作用，或其体温调节中枢发生功能障碍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产热增多，散热减少，体温升高超过正常范围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grpSp>
        <p:nvGrpSpPr>
          <p:cNvPr id="114" name="组合 11"/>
          <p:cNvGrpSpPr/>
          <p:nvPr/>
        </p:nvGrpSpPr>
        <p:grpSpPr>
          <a:xfrm>
            <a:off x="1546560" y="4214880"/>
            <a:ext cx="6087240" cy="852480"/>
            <a:chOff x="1546560" y="4214880"/>
            <a:chExt cx="6087240" cy="852480"/>
          </a:xfrm>
        </p:grpSpPr>
        <p:sp>
          <p:nvSpPr>
            <p:cNvPr id="115" name="TextBox 4"/>
            <p:cNvSpPr/>
            <p:nvPr/>
          </p:nvSpPr>
          <p:spPr>
            <a:xfrm>
              <a:off x="154656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产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376128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散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Box 8"/>
            <p:cNvSpPr/>
            <p:nvPr/>
          </p:nvSpPr>
          <p:spPr>
            <a:xfrm>
              <a:off x="2571480" y="4432320"/>
              <a:ext cx="784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692aa2"/>
                  </a:solidFill>
                  <a:latin typeface="Arial"/>
                </a:rPr>
                <a:t>&gt;</a:t>
              </a:r>
              <a:endParaRPr b="0" lang="en-US" sz="8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90444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230c"/>
                  </a:solidFill>
                  <a:latin typeface="黑体"/>
                  <a:ea typeface="黑体"/>
                </a:rPr>
                <a:t>发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19" name="AutoShape 20"/>
          <p:cNvCxnSpPr/>
          <p:nvPr/>
        </p:nvCxnSpPr>
        <p:spPr>
          <a:xfrm>
            <a:off x="5214960" y="4571640"/>
            <a:ext cx="1038600" cy="1080"/>
          </a:xfrm>
          <a:prstGeom prst="straightConnector1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皮肤黏膜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浅表淋巴结有无肿大、压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音有无增强、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干性或湿性啰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压痛、反跳痛及肌紧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包块、肝脾等脏器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肾区叩击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神经系统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病理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脑膜刺激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必要时作病原体培养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骨髓、脑脊液、浆膜腔积液或深部脓肿穿刺检查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免疫学及电解质检查、结核菌素试验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温过高</a:t>
            </a: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病原体感染有关；与体温调节中枢功能障碍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高热期及体温下降期体液丢失过多有关；与液体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营养失调的危险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的危险  与发热所致机体消耗增加、消化吸收功能减退、营养物质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诊断不明、治疗效果不佳、预后不良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意识障碍、惊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体温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785880" y="2500200"/>
            <a:ext cx="8072280" cy="3714840"/>
            <a:chOff x="785880" y="2500200"/>
            <a:chExt cx="8072280" cy="3714840"/>
          </a:xfrm>
        </p:grpSpPr>
        <p:sp>
          <p:nvSpPr>
            <p:cNvPr id="124" name="Rectangle 5"/>
            <p:cNvSpPr/>
            <p:nvPr/>
          </p:nvSpPr>
          <p:spPr>
            <a:xfrm>
              <a:off x="78588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体温调节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（大脑皮质、下丘脑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5" name="AutoShape 11"/>
            <p:cNvCxnSpPr/>
            <p:nvPr/>
          </p:nvCxnSpPr>
          <p:spPr>
            <a:xfrm>
              <a:off x="328572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6" name="Rectangle 5"/>
            <p:cNvSpPr/>
            <p:nvPr/>
          </p:nvSpPr>
          <p:spPr>
            <a:xfrm>
              <a:off x="4000320" y="2500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神经、体液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因素调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7" name="AutoShape 11"/>
            <p:cNvCxnSpPr/>
            <p:nvPr/>
          </p:nvCxnSpPr>
          <p:spPr>
            <a:xfrm>
              <a:off x="564336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8" name="Rectangle 5"/>
            <p:cNvSpPr/>
            <p:nvPr/>
          </p:nvSpPr>
          <p:spPr>
            <a:xfrm>
              <a:off x="635796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产热和散热动态平衡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内容占位符 12"/>
            <p:cNvSpPr/>
            <p:nvPr/>
          </p:nvSpPr>
          <p:spPr>
            <a:xfrm>
              <a:off x="928440" y="3786120"/>
              <a:ext cx="3986280" cy="2428920"/>
            </a:xfrm>
            <a:prstGeom prst="rect">
              <a:avLst/>
            </a:prstGeom>
            <a:noFill/>
            <a:ln w="28440">
              <a:solidFill>
                <a:srgbClr val="1d14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清晨安静状态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口腔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3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2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腋窝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直肠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5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7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24h</a:t>
              </a:r>
              <a:r>
                <a:rPr b="0" lang="zh-CN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波动范围不超过</a:t>
              </a: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1℃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AutoShape 9"/>
            <p:cNvCxnSpPr/>
            <p:nvPr/>
          </p:nvCxnSpPr>
          <p:spPr>
            <a:xfrm>
              <a:off x="7643520" y="3142800"/>
              <a:ext cx="1080" cy="53244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31" name="Rectangle 5"/>
            <p:cNvSpPr/>
            <p:nvPr/>
          </p:nvSpPr>
          <p:spPr>
            <a:xfrm>
              <a:off x="6786720" y="3643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体温恒定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468360" y="2500200"/>
            <a:ext cx="8143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357280"/>
            <a:ext cx="8143920" cy="402444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5"/>
          <p:cNvSpPr/>
          <p:nvPr/>
        </p:nvSpPr>
        <p:spPr>
          <a:xfrm>
            <a:off x="5000760" y="692280"/>
            <a:ext cx="4143240" cy="3000240"/>
          </a:xfrm>
          <a:prstGeom prst="cloudCallout">
            <a:avLst>
              <a:gd name="adj1" fmla="val -132259"/>
              <a:gd name="adj2" fmla="val 9629"/>
            </a:avLst>
          </a:prstGeom>
          <a:gradFill rotWithShape="0">
            <a:gsLst>
              <a:gs pos="0">
                <a:srgbClr val="dab8dc"/>
              </a:gs>
              <a:gs pos="100000">
                <a:srgbClr val="f5ecf6"/>
              </a:gs>
            </a:gsLst>
            <a:lin ang="16200000"/>
          </a:gradFill>
          <a:ln w="9360">
            <a:solidFill>
              <a:srgbClr val="8859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外</a:t>
            </a:r>
            <a:r>
              <a:rPr b="0" lang="zh-CN" sz="20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细菌、病毒、真菌、螺旋体、疟原虫等病原体及其分泌的内、外毒素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内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炎性渗出物、无菌性坏死组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760" y="105264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785880" y="2286000"/>
            <a:ext cx="785808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云形标注 5"/>
          <p:cNvSpPr/>
          <p:nvPr/>
        </p:nvSpPr>
        <p:spPr>
          <a:xfrm>
            <a:off x="4788000" y="1179360"/>
            <a:ext cx="3286080" cy="2213280"/>
          </a:xfrm>
          <a:prstGeom prst="cloudCallout">
            <a:avLst>
              <a:gd name="adj1" fmla="val -87101"/>
              <a:gd name="adj2" fmla="val 51324"/>
            </a:avLst>
          </a:prstGeom>
          <a:gradFill rotWithShape="0">
            <a:gsLst>
              <a:gs pos="0">
                <a:srgbClr val="5b98ae"/>
              </a:gs>
              <a:gs pos="100000">
                <a:srgbClr val="78c9e6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720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肿瘤坏死因子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NF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干扰素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FN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286000"/>
            <a:ext cx="8143920" cy="4095720"/>
          </a:xfrm>
          <a:prstGeom prst="rect">
            <a:avLst/>
          </a:prstGeom>
          <a:ln w="0">
            <a:noFill/>
          </a:ln>
        </p:spPr>
      </p:pic>
      <p:sp>
        <p:nvSpPr>
          <p:cNvPr id="149" name="云形标注 5"/>
          <p:cNvSpPr/>
          <p:nvPr/>
        </p:nvSpPr>
        <p:spPr>
          <a:xfrm>
            <a:off x="5310360" y="846000"/>
            <a:ext cx="3833640" cy="2880000"/>
          </a:xfrm>
          <a:prstGeom prst="cloudCallout">
            <a:avLst>
              <a:gd name="adj1" fmla="val 722"/>
              <a:gd name="adj2" fmla="val 108041"/>
            </a:avLst>
          </a:prstGeom>
          <a:gradFill rotWithShape="0">
            <a:gsLst>
              <a:gs pos="0">
                <a:srgbClr val="8ca8b3"/>
              </a:gs>
              <a:gs pos="100000">
                <a:srgbClr val="b8ddec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体温调节中枢受损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颅脑外伤、出血、炎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产热↑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甲状腺功能亢进症、癫痫持续状态等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散热↓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广泛性皮肤病、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295200" y="438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（三）病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如机体的细菌、病毒、支原体、寄生虫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非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无菌坏死物质的吸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原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-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体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中枢神经性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内分泌及代谢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散热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主神经功能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程度 （口腔温度为标准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低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7.3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中等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超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以上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的过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2:13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