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36B02-D267-4CA4-9967-0FC715B022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CF13C-8359-469A-83A8-A2330392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488B2-331E-44CE-97F1-41CAF125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45EB9-419F-40A7-9CF0-C4374F5ADC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1D62D-F30E-4C71-B044-FF21D177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B6F5D-C69C-44B6-BD60-90A1D466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2A399-462E-4EE6-88BB-9A66B050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732E6-50C6-4DD7-93C2-1E21AB077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10550-5FB7-4D81-96C4-11AE74CD1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B4F1E-3ACD-40B4-9A4B-8A4F77AA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6D3E8-50E9-4F12-B8C1-2A0D764F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18223-8668-4B40-8898-9B8F10E7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a2b5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b8fb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DC4D-0E6D-4D39-8DB7-6601A7E366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第八节   心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04920" y="1214280"/>
            <a:ext cx="83390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三）实验室及其他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常规、甲状腺功能、血糖、脑钠肽、肌钙蛋白、心肌酶等。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电图、胸部 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X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线、心脏彩超、甲状腺彩超、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24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小时动态心电图等。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4857840" y="3859200"/>
            <a:ext cx="31464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b8fb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2407"/>
                </a:solidFill>
                <a:latin typeface="Verdana"/>
                <a:ea typeface="隶书"/>
              </a:rPr>
              <a:t>舒适度减弱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心悸发作所致不适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b8fb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2407"/>
                </a:solidFill>
                <a:latin typeface="Verdana"/>
                <a:ea typeface="隶书"/>
              </a:rPr>
              <a:t>活动无耐力 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心悸发作时所致的疲乏无力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b8fb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2407"/>
                </a:solidFill>
                <a:latin typeface="Verdana"/>
                <a:ea typeface="隶书"/>
              </a:rPr>
              <a:t>睡眠型态紊乱 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心悸发作所致不适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b8fb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2407"/>
                </a:solidFill>
                <a:latin typeface="Verdana"/>
                <a:ea typeface="隶书"/>
              </a:rPr>
              <a:t>焦虑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心悸发作所致不适及担心预后有关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悸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是一种自觉心脏搏动的不适感或心慌感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悸可以是病理性的，也可以是生理性的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悸时，心率可快可慢，或有心律失常，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率和心律正常者也可有心悸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" name="Picture 2" descr="C:\Documents and Settings\Administrator\Application Data\360se6\Application\User Data\temp\u=2824109337,324773309&amp;fm=11&amp;gp=0.jpg"/>
          <p:cNvPicPr/>
          <p:nvPr/>
        </p:nvPicPr>
        <p:blipFill>
          <a:blip r:embed="rId1"/>
          <a:stretch/>
        </p:blipFill>
        <p:spPr>
          <a:xfrm>
            <a:off x="5430960" y="4145040"/>
            <a:ext cx="28540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悸发生机制尚未完全清楚，一般认为心脏活动过度是心悸发生的基础。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2" name="组合 68"/>
          <p:cNvGrpSpPr/>
          <p:nvPr/>
        </p:nvGrpSpPr>
        <p:grpSpPr>
          <a:xfrm>
            <a:off x="857160" y="2928960"/>
            <a:ext cx="7786800" cy="2874960"/>
            <a:chOff x="857160" y="2928960"/>
            <a:chExt cx="7786800" cy="2874960"/>
          </a:xfrm>
        </p:grpSpPr>
        <p:grpSp>
          <p:nvGrpSpPr>
            <p:cNvPr id="113" name="组合 32"/>
            <p:cNvGrpSpPr/>
            <p:nvPr/>
          </p:nvGrpSpPr>
          <p:grpSpPr>
            <a:xfrm>
              <a:off x="857160" y="2928960"/>
              <a:ext cx="3428280" cy="374760"/>
              <a:chOff x="857160" y="2928960"/>
              <a:chExt cx="3428280" cy="374760"/>
            </a:xfrm>
          </p:grpSpPr>
          <p:grpSp>
            <p:nvGrpSpPr>
              <p:cNvPr id="114" name="Group 21"/>
              <p:cNvGrpSpPr/>
              <p:nvPr/>
            </p:nvGrpSpPr>
            <p:grpSpPr>
              <a:xfrm>
                <a:off x="2071440" y="2928960"/>
                <a:ext cx="2214000" cy="357120"/>
                <a:chOff x="2071440" y="2928960"/>
                <a:chExt cx="2214000" cy="357120"/>
              </a:xfrm>
            </p:grpSpPr>
            <p:sp>
              <p:nvSpPr>
                <p:cNvPr id="115" name="Rectangle 6"/>
                <p:cNvSpPr/>
                <p:nvPr/>
              </p:nvSpPr>
              <p:spPr>
                <a:xfrm>
                  <a:off x="2571480" y="2928960"/>
                  <a:ext cx="1713960" cy="357120"/>
                </a:xfrm>
                <a:prstGeom prst="rect">
                  <a:avLst/>
                </a:prstGeom>
                <a:noFill/>
                <a:ln w="2844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Arial"/>
                      <a:ea typeface="华文新魏"/>
                    </a:rPr>
                    <a:t>舒张期缩短</a:t>
                  </a:r>
                  <a:endParaRPr b="0" lang="en-US" sz="20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  <p:cxnSp>
              <p:nvCxnSpPr>
                <p:cNvPr id="116" name="AutoShape 19"/>
                <p:cNvCxnSpPr/>
                <p:nvPr/>
              </p:nvCxnSpPr>
              <p:spPr>
                <a:xfrm>
                  <a:off x="2071440" y="3142440"/>
                  <a:ext cx="489600" cy="1800"/>
                </a:xfrm>
                <a:prstGeom prst="straightConnector1">
                  <a:avLst/>
                </a:prstGeom>
                <a:ln w="28440">
                  <a:solidFill>
                    <a:srgbClr val="6600cc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117" name="Rectangle 8"/>
              <p:cNvSpPr/>
              <p:nvPr/>
            </p:nvSpPr>
            <p:spPr>
              <a:xfrm>
                <a:off x="857160" y="2928960"/>
                <a:ext cx="1182960" cy="37476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心动过速</a:t>
                </a:r>
                <a:endParaRPr b="0" lang="en-US" sz="20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sp>
          <p:nvSpPr>
            <p:cNvPr id="118" name="Rectangle 6"/>
            <p:cNvSpPr/>
            <p:nvPr/>
          </p:nvSpPr>
          <p:spPr>
            <a:xfrm>
              <a:off x="4786200" y="2928960"/>
              <a:ext cx="2214360" cy="357120"/>
            </a:xfrm>
            <a:prstGeom prst="rect">
              <a:avLst/>
            </a:prstGeom>
            <a:noFill/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心室充盈程度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</p:txBody>
        </p:sp>
        <p:cxnSp>
          <p:nvCxnSpPr>
            <p:cNvPr id="119" name="AutoShape 19"/>
            <p:cNvCxnSpPr/>
            <p:nvPr/>
          </p:nvCxnSpPr>
          <p:spPr>
            <a:xfrm>
              <a:off x="4285800" y="3142800"/>
              <a:ext cx="489240" cy="180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cxnSp>
          <p:nvCxnSpPr>
            <p:cNvPr id="120" name="形状 39"/>
            <p:cNvCxnSpPr>
              <a:stCxn id="118" idx="3"/>
            </p:cNvCxnSpPr>
            <p:nvPr/>
          </p:nvCxnSpPr>
          <p:spPr>
            <a:xfrm>
              <a:off x="7000920" y="3106440"/>
              <a:ext cx="714960" cy="751680"/>
            </a:xfrm>
            <a:prstGeom prst="bentConnector2">
              <a:avLst/>
            </a:prstGeom>
            <a:ln w="28440">
              <a:solidFill>
                <a:srgbClr val="692aa2"/>
              </a:solidFill>
              <a:miter/>
              <a:tailEnd len="med" type="arrow" w="med"/>
            </a:ln>
          </p:spPr>
        </p:cxnSp>
        <p:sp>
          <p:nvSpPr>
            <p:cNvPr id="121" name="Rectangle 8"/>
            <p:cNvSpPr/>
            <p:nvPr/>
          </p:nvSpPr>
          <p:spPr>
            <a:xfrm>
              <a:off x="6929640" y="3857400"/>
              <a:ext cx="1714320" cy="857160"/>
            </a:xfrm>
            <a:prstGeom prst="rect">
              <a:avLst/>
            </a:prstGeom>
            <a:noFill/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心室肌与心脏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瓣膜紧张度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</p:txBody>
        </p:sp>
        <p:cxnSp>
          <p:nvCxnSpPr>
            <p:cNvPr id="122" name="直接箭头连接符 46"/>
            <p:cNvCxnSpPr/>
            <p:nvPr/>
          </p:nvCxnSpPr>
          <p:spPr>
            <a:xfrm flipV="1">
              <a:off x="8501400" y="4285440"/>
              <a:ext cx="2160" cy="286200"/>
            </a:xfrm>
            <a:prstGeom prst="straightConnector1">
              <a:avLst/>
            </a:prstGeom>
            <a:ln w="28440">
              <a:solidFill>
                <a:srgbClr val="fe230c"/>
              </a:solidFill>
              <a:miter/>
              <a:tailEnd len="med" type="arrow" w="med"/>
            </a:ln>
          </p:spPr>
        </p:cxnSp>
        <p:cxnSp>
          <p:nvCxnSpPr>
            <p:cNvPr id="123" name="AutoShape 19"/>
            <p:cNvCxnSpPr/>
            <p:nvPr/>
          </p:nvCxnSpPr>
          <p:spPr>
            <a:xfrm flipH="1" flipV="1">
              <a:off x="6357240" y="4285800"/>
              <a:ext cx="572040" cy="21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24" name="Rectangle 6"/>
            <p:cNvSpPr/>
            <p:nvPr/>
          </p:nvSpPr>
          <p:spPr>
            <a:xfrm>
              <a:off x="4143240" y="4143240"/>
              <a:ext cx="2214360" cy="357120"/>
            </a:xfrm>
            <a:prstGeom prst="rect">
              <a:avLst/>
            </a:prstGeom>
            <a:noFill/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心尖搏动增强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</p:txBody>
        </p:sp>
        <p:cxnSp>
          <p:nvCxnSpPr>
            <p:cNvPr id="125" name="AutoShape 19"/>
            <p:cNvCxnSpPr/>
            <p:nvPr/>
          </p:nvCxnSpPr>
          <p:spPr>
            <a:xfrm flipH="1" flipV="1">
              <a:off x="3571200" y="4285800"/>
              <a:ext cx="572040" cy="21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26" name="TextBox 52"/>
            <p:cNvSpPr/>
            <p:nvPr/>
          </p:nvSpPr>
          <p:spPr>
            <a:xfrm>
              <a:off x="2714400" y="4000320"/>
              <a:ext cx="1000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心悸</a:t>
              </a:r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27" name="TextBox 53"/>
            <p:cNvSpPr/>
            <p:nvPr/>
          </p:nvSpPr>
          <p:spPr>
            <a:xfrm>
              <a:off x="7358040" y="3071520"/>
              <a:ext cx="9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心室收缩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</p:txBody>
        </p:sp>
        <p:grpSp>
          <p:nvGrpSpPr>
            <p:cNvPr id="128" name="组合 32"/>
            <p:cNvGrpSpPr/>
            <p:nvPr/>
          </p:nvGrpSpPr>
          <p:grpSpPr>
            <a:xfrm>
              <a:off x="857160" y="5429160"/>
              <a:ext cx="3428280" cy="374760"/>
              <a:chOff x="857160" y="5429160"/>
              <a:chExt cx="3428280" cy="374760"/>
            </a:xfrm>
          </p:grpSpPr>
          <p:grpSp>
            <p:nvGrpSpPr>
              <p:cNvPr id="129" name="Group 21"/>
              <p:cNvGrpSpPr/>
              <p:nvPr/>
            </p:nvGrpSpPr>
            <p:grpSpPr>
              <a:xfrm>
                <a:off x="2071440" y="5429160"/>
                <a:ext cx="2214000" cy="357120"/>
                <a:chOff x="2071440" y="5429160"/>
                <a:chExt cx="2214000" cy="357120"/>
              </a:xfrm>
            </p:grpSpPr>
            <p:sp>
              <p:nvSpPr>
                <p:cNvPr id="130" name="Rectangle 6"/>
                <p:cNvSpPr/>
                <p:nvPr/>
              </p:nvSpPr>
              <p:spPr>
                <a:xfrm>
                  <a:off x="2571480" y="5429160"/>
                  <a:ext cx="1713960" cy="357120"/>
                </a:xfrm>
                <a:prstGeom prst="rect">
                  <a:avLst/>
                </a:prstGeom>
                <a:noFill/>
                <a:ln w="2844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Arial"/>
                      <a:ea typeface="华文新魏"/>
                    </a:rPr>
                    <a:t>舒张期延长</a:t>
                  </a:r>
                  <a:endParaRPr b="0" lang="en-US" sz="20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  <p:cxnSp>
              <p:nvCxnSpPr>
                <p:cNvPr id="131" name="AutoShape 19"/>
                <p:cNvCxnSpPr/>
                <p:nvPr/>
              </p:nvCxnSpPr>
              <p:spPr>
                <a:xfrm>
                  <a:off x="2071440" y="5642640"/>
                  <a:ext cx="489600" cy="1800"/>
                </a:xfrm>
                <a:prstGeom prst="straightConnector1">
                  <a:avLst/>
                </a:prstGeom>
                <a:ln w="28440">
                  <a:solidFill>
                    <a:srgbClr val="6600cc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132" name="Rectangle 8"/>
              <p:cNvSpPr/>
              <p:nvPr/>
            </p:nvSpPr>
            <p:spPr>
              <a:xfrm>
                <a:off x="857160" y="5429160"/>
                <a:ext cx="1182960" cy="37476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心动过缓</a:t>
                </a:r>
                <a:endParaRPr b="0" lang="en-US" sz="20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cxnSp>
          <p:nvCxnSpPr>
            <p:cNvPr id="133" name="AutoShape 19"/>
            <p:cNvCxnSpPr/>
            <p:nvPr/>
          </p:nvCxnSpPr>
          <p:spPr>
            <a:xfrm>
              <a:off x="4285800" y="5643000"/>
              <a:ext cx="489240" cy="180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34" name="Rectangle 6"/>
            <p:cNvSpPr/>
            <p:nvPr/>
          </p:nvSpPr>
          <p:spPr>
            <a:xfrm>
              <a:off x="4786200" y="5429160"/>
              <a:ext cx="1857240" cy="357120"/>
            </a:xfrm>
            <a:prstGeom prst="rect">
              <a:avLst/>
            </a:prstGeom>
            <a:noFill/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心室充盈程度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</p:txBody>
        </p:sp>
        <p:cxnSp>
          <p:nvCxnSpPr>
            <p:cNvPr id="135" name="直接箭头连接符 61"/>
            <p:cNvCxnSpPr/>
            <p:nvPr/>
          </p:nvCxnSpPr>
          <p:spPr>
            <a:xfrm flipV="1">
              <a:off x="6715080" y="2999520"/>
              <a:ext cx="2160" cy="214920"/>
            </a:xfrm>
            <a:prstGeom prst="straightConnector1">
              <a:avLst/>
            </a:prstGeom>
            <a:ln w="28440">
              <a:solidFill>
                <a:srgbClr val="fe230c"/>
              </a:solidFill>
              <a:miter/>
              <a:tailEnd len="med" type="arrow" w="med"/>
            </a:ln>
          </p:spPr>
        </p:cxnSp>
        <p:cxnSp>
          <p:nvCxnSpPr>
            <p:cNvPr id="136" name="直接箭头连接符 63"/>
            <p:cNvCxnSpPr/>
            <p:nvPr/>
          </p:nvCxnSpPr>
          <p:spPr>
            <a:xfrm flipH="1">
              <a:off x="6500520" y="5500440"/>
              <a:ext cx="2160" cy="214920"/>
            </a:xfrm>
            <a:prstGeom prst="straightConnector1">
              <a:avLst/>
            </a:prstGeom>
            <a:ln w="28440">
              <a:solidFill>
                <a:srgbClr val="fe230c"/>
              </a:solidFill>
              <a:miter/>
              <a:tailEnd len="med" type="arrow" w="med"/>
            </a:ln>
          </p:spPr>
        </p:cxnSp>
        <p:cxnSp>
          <p:nvCxnSpPr>
            <p:cNvPr id="137" name="AutoShape 19"/>
            <p:cNvCxnSpPr/>
            <p:nvPr/>
          </p:nvCxnSpPr>
          <p:spPr>
            <a:xfrm flipV="1">
              <a:off x="5500800" y="4571640"/>
              <a:ext cx="1440" cy="7869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04560" y="1214280"/>
            <a:ext cx="85532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脏搏动增强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生理情况下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健康人在剧烈运动或精神过度紧张时；</a:t>
            </a:r>
            <a:endParaRPr b="0" lang="en-US" sz="26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饮酒、喝浓茶或咖啡后；</a:t>
            </a:r>
            <a:endParaRPr b="0" lang="en-US" sz="26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应用某些药物，如氨茶碱、肾上腺素等；</a:t>
            </a:r>
            <a:endParaRPr b="0" lang="en-US" sz="26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妊娠。</a:t>
            </a:r>
            <a:endParaRPr b="0" lang="en-US" sz="2600" spc="-1" strike="noStrike">
              <a:solidFill>
                <a:srgbClr val="66669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1" name="Object 2"/>
          <p:cNvGraphicFramePr/>
          <p:nvPr/>
        </p:nvGraphicFramePr>
        <p:xfrm>
          <a:off x="5292360" y="4437000"/>
          <a:ext cx="3097080" cy="195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360" y="4437000"/>
                    <a:ext cx="3097080" cy="19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04920" y="1214280"/>
            <a:ext cx="826776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脏搏动增强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病理情况下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各种原因引起的心室肥大，如高血压性心脏病、主动脉瓣关闭不全等；</a:t>
            </a:r>
            <a:endParaRPr b="0" lang="en-US" sz="26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可引起心排出量增加的疾病，如发热、甲状腺功能亢进、贫血、低血糖症、嗜铬细胞瘤等。</a:t>
            </a:r>
            <a:endParaRPr b="0" lang="en-US" sz="2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6" name="Picture 5" descr="心脏解剖，左侧位（左室和Mashell)b"/>
          <p:cNvPicPr/>
          <p:nvPr/>
        </p:nvPicPr>
        <p:blipFill>
          <a:blip r:embed="rId1"/>
          <a:stretch/>
        </p:blipFill>
        <p:spPr>
          <a:xfrm>
            <a:off x="5145120" y="4857840"/>
            <a:ext cx="2451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律失常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动过速：各种原因引起的窦性心动过速、阵发性室上性心动过速或室性心动过速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动过缓：高度房室传导阻滞（二、三度房室传导阻滞）、窦性心动过缓或病态窦房结综合征等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律不齐：期前收缩、心房扑动或颤动等均可引起心悸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力衰竭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脏神经症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 </a:t>
            </a: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由自主神经功能紊乱所引起，青年女性多见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悸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注意询问心悸发作的时间、频率、性质及程度，有无先兆症状及加重缓解的因素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呼吸困难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发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晕厥、抽搐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前区疼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消瘦、出汗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3" name="Picture 27" descr="www"/>
          <p:cNvPicPr/>
          <p:nvPr/>
        </p:nvPicPr>
        <p:blipFill>
          <a:blip r:embed="rId1"/>
          <a:stretch/>
        </p:blipFill>
        <p:spPr>
          <a:xfrm>
            <a:off x="5499000" y="3432240"/>
            <a:ext cx="2822760" cy="27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相关病史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器质性心脏病、贫血、内分泌疾病等病史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氨茶碱、肾上腺素等药物的使用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烟、酒、浓茶、咖啡的嗜好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过度劳累、精神刺激等诱发因素。 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对机体的影响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重点是心悸对患者的日常活动有无影响及其程度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诊疗及护理过程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一般状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发热、脉搏增快或减慢、血压的异常；有无营养不良；有无甲亢、贫血面容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头面部及颈部评估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眼球震颤、甲状腺肿大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肺部评估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呼吸困难、呼吸音异常及干湿啰音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脏及血管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其他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双下肢水肿、双手震颤等。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31:30Z</dcterms:modified>
  <cp:revision>17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