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EB1E-5DFB-410C-BD0E-B0874187A07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19B4-BFFA-44D0-B290-72F8ED9049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2444-8486-4255-A93A-0143BF79BD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F697-D08D-4ACD-8225-85659AB15D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FF583-C7D7-4071-BA4B-71867EB24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C5528F97-CFA0-41E2-949F-C7CC78B99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4754AE3C-FBAE-425E-B946-6ED168BB2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0A3F90CB-521A-4D2F-BEE1-EA6222746B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25B77DA-E272-4BE9-A5E7-CD7D9DEE1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317445-F739-432D-A817-29E6DAD7286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6FDBB82-BC65-4740-9330-D2024A886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C3382FD-D99F-4645-B8DF-4B4C9A42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F1E972DD-867B-4D18-8E47-4B57EFB98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F56CBAB7-6233-46F6-B028-A2226FFDA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C731A023-E3FE-441A-8405-702643760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99199351-218A-44B9-8646-ECEE43DBC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4E2F715-BA25-4D1A-8D94-4E26F1321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2D45805-3C5A-46D4-BD8B-372CFDB07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16BF7FD0-0508-459D-9514-8BABAA68E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526E3714-8CA2-4847-A196-2A0DC60CA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727B996A-0F0B-4483-BA60-598BE02E5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B2674D81-92D1-4D48-A4EC-C09288B874B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148BA16-D679-41E3-8E21-422172B23B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406D3F-37B2-41F8-8B39-869C5C8F50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FB7EBB-C170-4093-B4CF-B79FE616EF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CFDC818C-C635-4AA4-AF65-1F433F3C5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F93B547-1425-4CCF-82E9-66949ED5F0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463E35-9F6E-47EF-995E-C454359B60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B89AD0-B25B-41F8-9368-E4222BFC79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2B01EC-582B-420C-817D-46D6B9B099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CF18A2-EEFF-4D05-B5E2-1BB5FA185C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C2FFCF-4008-4015-A94D-33CC346F1E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F3EE58F-7484-4AB8-AFE3-DD7FC611E8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54FB5CD-452B-4FB8-BFCD-8B7211CE981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1344645-54BC-4559-85E6-5D31B80A252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46151CD-0E9A-4667-8558-0012B51ED4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64BE145C-208D-481D-9ACB-9AF19CF1F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F1664EC-A501-4F40-AAB6-5594977856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78F4D2-6BEE-4963-9D0D-218FA50D6F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7FD56E-6312-4C82-8BA4-F1A7A3327C4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F33100-515C-4AC6-82D4-A66842113F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7B9903-E4DF-401F-BB29-FD5A975DD85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71B712D-984A-4F33-9BCB-04477B0ADA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2DE57D-4139-450A-A331-5FF54D3312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6CBE22-F41D-4C62-B449-4701BEA29F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289072-F670-462D-96A8-83BE7CFFB91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988CE94-68A5-47F7-9560-122496146B8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AFBF8B9B-D629-4AA4-B086-6A94B6F58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BECE0CB-6665-46A8-941A-094BF3A1596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ABB47BA-D085-4897-ACBD-53CAA3BA2EA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FDC7960-20D8-404D-B011-77A891C19C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14AA51-5E4A-4EC6-90FC-A96854862A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FB3A176-A917-4A47-B81D-4A60945D65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FC714C-3864-4D19-AD81-614D10AE7B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E54C97-D680-4C92-B0C0-BDFED62011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B6E637-E67D-4967-B7EE-BFE57E3980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AFBF94-024F-4A6F-AD6F-D86C1C450B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56ABF6-614A-43FF-969C-BDA416C6C4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CDE6E1A9-D17E-4620-91B7-B97E1AE2F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8F884BE-238E-482C-8C46-3E71186B46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A48E1EF-AB8B-4F7E-9129-4F605FFB05D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0322115-50F4-49E3-A352-95C6C519FB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FF6E96E-094B-4244-8B8C-01D8BB5FB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2601770-E94D-493E-916B-3AF2D8C135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AC18-C993-4139-9E62-9C48AE0A78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40D2-DBB1-4DE9-A8FD-B61C8681E9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ABF1-2276-4972-9D52-DBF2BF1965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3AF-31ED-4328-9313-79CBCD40EC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C3BF-7466-4F2B-910F-03EC8B515A8B}"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F6BA-4A1A-41EA-8B55-4E7517CB88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596C-0579-4244-AC64-2415E764B821}" type="datetime">
              <a:rPr b="0" lang="zh-CN" sz="1000" spc="-1" strike="noStrike">
                <a:solidFill>
                  <a:srgbClr val="ffffff"/>
                </a:solidFill>
                <a:latin typeface="Verdana"/>
                <a:ea typeface="宋体"/>
              </a:rPr>
              <a:t>26/7/31</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863A-E8B9-43DD-83FE-629BABC794C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DB8A-8E4D-417F-8067-DB285928EB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AA4C-0574-4E8C-90DA-940F78942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E1BB-ADBA-4707-B455-12CA624F7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4020-412C-482D-9EB3-A9C68D4BD6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7A06-8E27-4E3D-AAF8-5A5BE28B6C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D87B-4272-4CDE-B893-B9FA1D9876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EB7B-124B-466F-BCFB-1546CC3259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7179-8A7A-4643-9F5F-1F7ABB1E7C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32FC-A106-4F0C-ACD7-4885351C97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9227-C998-48C8-9DE0-EC31F3ABD5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0EF9-CF61-4642-BE91-9AA868375E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FCB8-9B1E-4189-82FC-ABCE8093A8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4329-FD3F-4A1D-843A-6A959B7A47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5D15-E894-45E7-9DC0-8B26F0FDF0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5E54-5CD9-45E9-AD15-E0E6ACFC09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5718-74CA-443A-8E62-79102EC0A0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EBAB-172C-4627-B9AE-62D9861DFF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68EB-E9FE-4A12-A8C8-89DB24827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5B89-D083-48F3-B632-6D6CF08132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4163-7E02-4DBE-9E9A-BDB9C215F0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A6DD-FFE9-419C-A157-C982E920BA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B0C1-CCE4-4ED0-90AA-8D65C4DCE4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721E-524F-4B02-9154-1CDF04CEE4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4E7A-D03C-4E7B-88D5-3650585737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917B-C427-480A-A1B9-BD2DD0D911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CED0-CF95-4DE6-85A8-338884210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BADD-EDF3-4487-AC10-2F41F93AB3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F24B-8781-4856-9624-92C992128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038F-D983-4567-B62D-C7F84DF8C0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0A5E-DC55-4C1A-B25D-FA3259B1C5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8151-FBE4-45FF-A373-73E0BF3B26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A9EC-4889-4610-A672-4142E37859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A83E-EAA4-4B89-9F48-EF95B81101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30F7-9172-4624-BA95-975185AE18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8346-6C57-466C-9996-29E72BBD63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6B92-FB79-4E74-B167-1805993A2E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C46B-03D2-46F3-A732-4B2552A0F2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D667-6C59-43AB-8546-BC84588DE1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772C-C762-4BAF-ABC4-769297616A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3655-F81D-4592-B325-790C201CE1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C93B-D366-4980-BB9F-D428E6D4C5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DAA2-2358-47F7-9664-21043899D4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C473-D616-4170-ACDD-7936FF870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81AC-9C7E-4A52-9F30-4424B2219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8BFB-42EA-4A8F-A134-3923176F84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1CCE-469F-4634-A85B-4E5E5EFCFC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2E00-78D3-4B4A-81AB-83C98240DF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5A8D-4A08-4F0C-9F07-5C2702B02B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5205-EA64-4834-ADC5-E0D845F232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857D-2EC1-43B1-930E-94B4AC996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E684-BD86-40ED-9350-BD6BE68DEE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FD7E-EF3D-452B-8308-1CDE17A28B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6B00-5920-487D-8E49-C5173FF22C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2DCC-D169-46D0-9B83-2C671EB81A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