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03C16-0608-4767-B49C-C91C84C79E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D1B85-827A-4C36-8779-33CF1C78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75F25-05AD-40DC-8E1F-57625524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D50B4-6599-4A23-AE95-02C993A2FC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D18DB-9917-4BFB-8281-63AC9D50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7F127-2F1F-4AA8-B027-AD24F1E8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69121-069F-4C55-93D8-0EF60BCD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1B2D-A390-4373-BB8A-06928E62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5E578-E8C1-4FCA-AF13-2E946682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4F1B-5C9C-4BD4-82CB-23B8061F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76559-3D37-46FF-83B1-3176CC4C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5D52B-2BD6-4E61-A0D9-B8E37F9A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7508-7393-4D25-A098-C549C2F35CB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aike.so.com/doc/217269.html" TargetMode="External"/><Relationship Id="rId2" Type="http://schemas.openxmlformats.org/officeDocument/2006/relationships/hyperlink" Target="http://baike.so.com/doc/6095788.html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489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三节  排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675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护士的辅助手法：手置于患者的肋骨下角处，当其准备咳嗽时，护士的手向上向里用力推帮助患者快速呼气，引起咳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：咳嗽训练一般不宜长时间进行，可在晨起后、晚睡前或餐前半小时进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4360" y="2493720"/>
            <a:ext cx="74880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是指对分泌物的重力引流。将患者的身体置于不同的位置，利用重力的作用使肺内分泌物引流至大气管，再配合正确的呼吸和咳痰，将痰液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413000"/>
            <a:ext cx="12222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原理</a:t>
            </a: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呼吸道通畅，促进排痰，预防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患者的通气功能，提高通气血流比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患者的肺功能得到改善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200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身体虚弱（特别是老年患者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高度疲乏或有术后不能咳出肺内分泌物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痰量多且黏稠并位于气管末端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04472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适应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8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内科及外科急症（胸部外伤、肺水肿、心肌梗死等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疼痛明显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、重度认知障碍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不合作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明显呼吸困难及患有严重心脏病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部膨胀、进食后半小时内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971280" y="1270080"/>
            <a:ext cx="2089080" cy="79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禁忌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000" y="2638080"/>
            <a:ext cx="80010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护理  排痰前解释此方法的目的，消除紧张情绪，得到患者配合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准备用物：枕头、毛巾和听诊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确定痰液潴留的部位：采用听诊器听诊和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判定痰液潴留的部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68360" y="1341000"/>
            <a:ext cx="2016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确定引流体位：病变部位位于高处，以利于痰液从高处向低处引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3" descr="排痰图3"/>
          <p:cNvPicPr/>
          <p:nvPr/>
        </p:nvPicPr>
        <p:blipFill>
          <a:blip r:embed="rId1"/>
          <a:srcRect l="0" t="56570" r="0" b="2373"/>
          <a:stretch/>
        </p:blipFill>
        <p:spPr>
          <a:xfrm>
            <a:off x="1042920" y="2781360"/>
            <a:ext cx="6480360" cy="3600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2420640"/>
            <a:ext cx="8001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间：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左右，不要超过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配合饮温水、雾化吸入等，使痰液稀释，以及进行有效咳嗽、局部的叩击可以增加疗效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估与记录  评估在引流过的肺叶（段）上听诊呼吸音的改变；记录：痰液潴留的部位，痰液排除的颜色、质感、数量及气味，患者对引流的忍受程度，血压、心率情况，呼吸模式，胸壁扩张的对称性等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900000" y="126972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256536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选择 选在早餐前、晚间睡前进行为宜，绝对不能在餐后直接进行体位排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果患者体位排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仍未咳出分泌物，则进行下一个体位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的过程中的反应，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近期有肋骨骨折、肩滑囊炎等慎用侧卧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539640" y="141264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认真做好宣教，使患者认识到即使引流时未咳出痰液，未必无效，松动的痰液可能需要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才能咳出，坚持训练则利于痰液咳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结束后让患者缓慢坐起并休息一会儿，防止出现直立性低血压的征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室内空气新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244944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9668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通过叩击背部，促进附着在气管、支气管、肺内的分泌物松动以利其排出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86920" y="1628280"/>
            <a:ext cx="158436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定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6360" y="2349360"/>
            <a:ext cx="8425080" cy="28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协助患者坐位或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1"/>
              </a:rPr>
              <a:t>侧卧位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护士双手五指并拢，使掌侧呈杯状，以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2"/>
              </a:rPr>
              <a:t>腕关节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力量，用中等以患者能承受为宜的力量、以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0~18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／分的频率叩击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叩击时指导患者深吸气，然后用力咳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971280" y="1125360"/>
            <a:ext cx="230508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图5-7  叩击"/>
          <p:cNvPicPr/>
          <p:nvPr/>
        </p:nvPicPr>
        <p:blipFill>
          <a:blip r:embed="rId1"/>
          <a:stretch/>
        </p:blipFill>
        <p:spPr>
          <a:xfrm>
            <a:off x="1979640" y="2421000"/>
            <a:ext cx="5402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开乳房、心脏、骨突出部位（如脊柱、肩胛骨、胸骨）及衣服拉链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时间和强度饭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或饭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进行。每天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~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。若痰多，可增加次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由下至上、由外至内叩击，力量中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力量直接作用于胸壁的，因此存在凝血障碍、肋骨骨折的患者禁用此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044360" y="1196640"/>
            <a:ext cx="237492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42472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者双手重叠置于胸廓并与皮肤紧贴，在患者吸气时施以快速、细微的颤性振动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~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每部位振动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禁忌症同叩击排痰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28720" y="1125360"/>
            <a:ext cx="244800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震颤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图5-8  振动"/>
          <p:cNvPicPr/>
          <p:nvPr/>
        </p:nvPicPr>
        <p:blipFill>
          <a:blip r:embed="rId1"/>
          <a:stretch/>
        </p:blipFill>
        <p:spPr>
          <a:xfrm>
            <a:off x="1979640" y="2133720"/>
            <a:ext cx="46562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508360" y="189000"/>
            <a:ext cx="350028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23A6-FA0F-451F-938A-0D332B650CD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的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有效咳嗽的训练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位引流的目的、适应证、禁忌证、操作方法、护理要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辅助排痰技术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FFD4-9053-4CBE-845E-9D33169B34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52360" y="1486080"/>
            <a:ext cx="8567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排痰技术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体位引流的操作方法、适应证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有效咳嗽在排痰技术中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引流的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有效咳嗽技术和体位引流方法对患者实施操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2916360" y="2709720"/>
            <a:ext cx="29527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280" y="2420640"/>
            <a:ext cx="8001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又称为气道分泌物去除技术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cretion removal techniqu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具有促进呼吸道分泌物的排出，保持呼吸道通畅，改善患者的通气功能，增加肺活量，防止或减轻肺部感染，改善患者肺功能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16000" y="1486080"/>
            <a:ext cx="15130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2916360" y="2709720"/>
            <a:ext cx="381636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排痰技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000" y="2205000"/>
            <a:ext cx="8001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有效咳嗽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辅助排痰技术：叩击排痰法、振动排痰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66720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用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意义：可以排除呼吸道阻塞物并保持肺部清洁，是呼吸功能训练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675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：患者取放松舒适姿势，坐位或身体前倾，头前屈，下颌内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咳嗽方法：先轻轻咳几次，使痰松动，再由鼻深吸气直到无法吸入为止，短暂闭气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声门关闭及腹肌收缩，然后突然将声门打开，由肺内冲出的高速气流，促使分泌物移动，随咳嗽排出体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3:09Z</dcterms:modified>
  <cp:revision>1</cp:revision>
  <dc:subject/>
  <dc:title>   第五章  康复护理技术</dc:title>
</cp:coreProperties>
</file>