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D3E2-F28A-470E-A315-81C825249B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39704-A64A-49B2-987B-77CC1347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1573-C13A-4163-88CF-5BE4A97C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81F59-4739-4462-B271-684CC9E774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DD2A-5621-489D-ADCD-5EEE2E45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D37-426F-4347-B59B-4B891A4E75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3145-8C4F-4DCC-9131-2D7E73E6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EEE2-B978-4825-9A8F-C52399B0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B02-0DB4-4E90-8ACD-10C72807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24EA-4BE1-4AF5-93FD-C8772082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8847-BF6D-41A4-9B25-20D9E73C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64F-F5C3-4CCB-957D-17FA740E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CB6-2317-4A97-982E-0FC003B4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D0C-1DF6-43D2-9ABC-0ECFBFAF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B038-2701-498F-BBDF-54B0CC24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7F46-0026-4D5A-87BC-B81B2281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759-2180-4792-AA67-15E00000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146-8DB3-4746-A055-FD25032295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E1DC23-96F6-47AF-835D-ABB9C253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D12777-BD2C-4CDA-8D69-B6D4C922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149383-D4EC-4DB5-BB8E-6AE99ABF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6DFA-DB81-4A86-BAF8-2FDAAA42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4D1EE3-D0B1-4C8B-B622-EE13822E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93965C-92EB-4569-BAB2-B50B42DD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C676A9-ED64-4C1B-8A0B-B7F63E1A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38C1DB-64A6-4E1C-8046-C9711A2C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C7584C-0FC1-4AE8-B3F6-128D2F23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804F5D-1303-4D1E-846D-A420D33B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C4408A-9D6D-4009-B1E6-00122BCA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4E73E0-CFC1-4E9F-A62C-6E4E5EA2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D47DC4-174A-4558-8FD0-5ED8B458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8623F6-03CF-4DF3-BCA2-AF56D0CA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B55B-A0A8-45FF-A103-2539C1DD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B11C4-F79A-4B24-909A-3B28F1AB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3306EA-BE63-42C0-8618-BC3F30C4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0135A9-5993-462A-8B4D-17C4BBCB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1D0979-5E49-43AB-9169-BFB0E9BE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189709-36FA-4009-B416-3F76F881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CBA541-9351-404C-9523-ACF9BBCC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1FA133-6B0C-4A80-A862-4B589C06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B680FC-6E64-4B06-9238-9BF7F86C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B0A404-D4F8-4045-85CB-80402589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D1C605-E634-4C51-9749-D7594B4F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C2F0-8607-4339-BE1A-AE0C4B3F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92821E-AC79-4D0B-A069-A8194FBB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139535-F94C-48C8-9FBF-C1DC7005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0AE33A-2A05-4D96-8466-DEA7901A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905266-6654-463D-8D9A-AB3AE2EA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C17E22-55E8-4754-9299-50991EE3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564C3A-D183-46F7-B7A9-282A1725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678BF0-6214-45A8-9516-C737EB93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BADD8E-BB3B-44BD-99C4-3C6522D9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737C03-696E-4493-930D-0170B766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275E13-E4F8-471D-830F-985B1551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EBF0-4C09-4769-BD71-DD6AC8C0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7316C9-1D96-4CD9-9D11-94980E6A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3946EF-6A55-484B-ADBA-DD7E4B13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EDA564-C36D-4783-A871-5B18D1E2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F42CCC-2DCC-4EAC-9468-1D8A004C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6B4D7E-53B2-4694-B3B7-FD744ED9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44ACC3-98E6-4525-8DB2-251830E0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C816E0-4FF4-42E6-89A4-3E9DAB05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AD8179-6741-43B3-BC55-388B82F7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826ADF-A200-4999-B62D-883244FF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5EE126-807B-4541-B18B-B6DF725A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D010-734C-4169-9EB4-F667FB87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8D54A6-E29D-4E5B-8415-2F99C48D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3E62BF-49E4-4A13-8E43-AD6364F6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41EB23-DFFA-4D2E-A318-063A26D4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BBFB66-EEAA-44CE-9A30-DEEA3998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BA64A4-030F-45B0-AF4B-B18554FD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DFE59B-4E0E-4D1F-8AEE-0D2355D9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A4CC4D-F511-4CF9-95D3-03C29494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3CFAD3-607A-4875-BF11-1250363A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22F02E-CE61-4344-B1F8-71EDAB32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A80D9A-A2BB-4035-80BB-2B8A8331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04A4-9703-446A-983D-5DC8E508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BCDC5C-35AA-4205-B89D-E993B16C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C12909-CAF9-4CCD-BB74-B78CF3D3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8C965C-7717-4C7A-AA79-277A8907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A4E800-84A9-47F1-9F8F-C1DD8773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4946F8-E4BA-45EA-9D5B-E56A880A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CF98E4-FFD0-4917-94CD-8C392C0A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3031DA-B45C-4C9C-979D-A3B1E310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3549-1527-4DEA-9AA7-7324979707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E4E5-6E61-4018-AA31-3143EC4F311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7178-29A5-47FF-9E12-AAB1E58C86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0435-7484-47DF-8C3E-D58A3AB795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8788-2A8F-4E82-91F1-E27105FB004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1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A440-BAB5-442F-9FFB-740D3E09CCE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5DE7-BB5E-4E1E-BDAD-3B6B9E3CC4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B636-B319-45A1-8118-96059B4F2F9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78D8-0B44-4428-BCC5-B1570B001E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同部位、程度的脊髓损伤产生不同类型的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觉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具体表现为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完全性损伤：感觉障碍呈不完全性丧失，其范围和部位差异明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完全性损伤：损伤平面以上可有痛觉过敏；损伤平面以下感觉完全丧失，包括肛门周围的粘膜感觉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5BD3-E520-48CE-9927-EBB95207F26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921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障碍还可以出现在以下这些症状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250920" y="4797360"/>
            <a:ext cx="8497800" cy="1143000"/>
            <a:chOff x="250920" y="4797360"/>
            <a:chExt cx="8497800" cy="1143000"/>
          </a:xfrm>
        </p:grpSpPr>
        <p:sp>
          <p:nvSpPr>
            <p:cNvPr id="421" name="AutoShape 3"/>
            <p:cNvSpPr/>
            <p:nvPr/>
          </p:nvSpPr>
          <p:spPr>
            <a:xfrm>
              <a:off x="250920" y="4797360"/>
              <a:ext cx="198108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疼       痛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AutoShape 3"/>
            <p:cNvSpPr/>
            <p:nvPr/>
          </p:nvSpPr>
          <p:spPr>
            <a:xfrm>
              <a:off x="2484360" y="4797360"/>
              <a:ext cx="187164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异常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AutoShape 3"/>
            <p:cNvSpPr/>
            <p:nvPr/>
          </p:nvSpPr>
          <p:spPr>
            <a:xfrm>
              <a:off x="457200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丧失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3"/>
            <p:cNvSpPr/>
            <p:nvPr/>
          </p:nvSpPr>
          <p:spPr>
            <a:xfrm>
              <a:off x="673272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分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5" name="AutoShape 11"/>
          <p:cNvSpPr/>
          <p:nvPr/>
        </p:nvSpPr>
        <p:spPr>
          <a:xfrm>
            <a:off x="468360" y="2565360"/>
            <a:ext cx="7848720" cy="1008000"/>
          </a:xfrm>
          <a:prstGeom prst="flowChartTerminator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Freeform 14"/>
          <p:cNvSpPr/>
          <p:nvPr/>
        </p:nvSpPr>
        <p:spPr>
          <a:xfrm flipH="1" rot="6229800">
            <a:off x="1223640" y="3607920"/>
            <a:ext cx="1006200" cy="1079640"/>
          </a:xfrm>
          <a:custGeom>
            <a:avLst/>
            <a:gdLst>
              <a:gd name="textAreaLeft" fmla="*/ -360 w 1006200"/>
              <a:gd name="textAreaRight" fmla="*/ 1006200 w 1006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AutoShape 16"/>
          <p:cNvSpPr/>
          <p:nvPr/>
        </p:nvSpPr>
        <p:spPr>
          <a:xfrm>
            <a:off x="320364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AutoShape 16"/>
          <p:cNvSpPr/>
          <p:nvPr/>
        </p:nvSpPr>
        <p:spPr>
          <a:xfrm>
            <a:off x="529272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Freeform 15"/>
          <p:cNvSpPr/>
          <p:nvPr/>
        </p:nvSpPr>
        <p:spPr>
          <a:xfrm flipH="1" flipV="1" rot="3382800">
            <a:off x="7002360" y="3732840"/>
            <a:ext cx="1336680" cy="871200"/>
          </a:xfrm>
          <a:custGeom>
            <a:avLst/>
            <a:gdLst>
              <a:gd name="textAreaLeft" fmla="*/ -360 w 1336680"/>
              <a:gd name="textAreaRight" fmla="*/ 1336680 w 1336680"/>
              <a:gd name="textAreaTop" fmla="*/ 360 h 871200"/>
              <a:gd name="textAreaBottom" fmla="*/ 871920 h 8712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4C50-FC33-481D-AD92-824FB39282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排尿、排便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功能障碍  主要表现为膀胱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功能障碍  主要表现为肛门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"/>
          <p:cNvSpPr/>
          <p:nvPr/>
        </p:nvSpPr>
        <p:spPr>
          <a:xfrm>
            <a:off x="395280" y="1341360"/>
            <a:ext cx="817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知识链接</a:t>
            </a:r>
            <a:r>
              <a:rPr b="0" i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便携式膀胱</a:t>
            </a:r>
            <a:r>
              <a:rPr b="1" lang="en-US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超在脊髓损伤患者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脊髓损伤的患者往往伴有尿潴留，所以对患者进行残余尿量的测定是非常重要的环节，以往主要采取导尿术、腹部叩击法、放射性扫描、辅助检查室超声波检查法等方法检查，对患者具有一定的损伤性和不方便性，便携式膀胱</a:t>
            </a: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超可以克服这些检查的缺点，具有无痛性、安全、简便、舒适，目前在临床上应用广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40EF-72A8-433C-9C92-9523572DFF8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74872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自主性反射障碍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自主性反射障碍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utonomic dysreflex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一种急性的交感兴奋综合征，常发生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T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以上的脊髓损伤患者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1908000" y="4346640"/>
            <a:ext cx="7020000" cy="1584360"/>
          </a:xfrm>
          <a:prstGeom prst="cloudCallout">
            <a:avLst>
              <a:gd name="adj1" fmla="val -32925"/>
              <a:gd name="adj2" fmla="val -7905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771640" y="44370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其特征为严重的高血压、搏动性头痛、视物不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心动过缓、损伤平面以上出汗、潮红和鼻塞等症状。</a:t>
            </a:r>
            <a:r>
              <a:rPr b="1" lang="zh-CN" sz="1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7EED-22F2-4A60-87CD-2069F3C41F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脊髓休克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shock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指脊髓受到外力损伤后，脊髓与大脑高级中枢的联系中断，损伤平面以下所有神经反射消失，肢体呈完全性迟缓性瘫痪，出现尿潴留、便失禁等症状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5B88-E85B-49DF-95BD-380DEE83B7E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893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六）其他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交感神经损伤，患者可出现排汗功能、血管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和体温调节障碍。除此之外，患者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还可出现心动过缓、直立性低血压、皮肤脱屑、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水肿、指甲松脆和角化过度等症状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A522-0A18-47C2-A192-1B843609757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23640" y="1857240"/>
            <a:ext cx="85690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的神经功能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损伤平面的评定：损伤平面是指保留身体双侧正常运动和感觉功能的最低脊髓节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755640" y="4221000"/>
            <a:ext cx="7632720" cy="10688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运动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motor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感觉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sensory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330E-20E8-42A3-A64C-5BCE5338A47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损伤严重程度评定  常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损伤分级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可表现为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完全性损伤时，即无感觉也无运动功能，可有部分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能保留区（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one of partial preservation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PP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，但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不完全性损伤时保留部分感觉和（或）运动功能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保留区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功能保留区只适用于完全性脊髓损伤患者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270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35BA-FB2D-447C-8596-1D7BBB77CCD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的评定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阳性表现：损伤平面以下所有神经反射消失，肢体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呈完全性迟缓性瘫痪、尿潴留、便失禁。阳性体征：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射消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结束表现：损伤水平以下出现任何感觉、运动或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肉张力升高和痉挛。阳性体征：球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射再出现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53AC-BFE7-4182-B43D-8D8EA3D762A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的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评分：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ISCO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运动评分法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痉挛评定：目前多采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hworth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量表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的评定  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感觉指数评分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ensory index score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I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选择身体两侧共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8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皮区关键点，在每个关键点上检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种感觉，即针刺觉和轻触觉，按三个等级分别评定打分：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0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缺失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异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正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NT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无法检查。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日常生活活动能力评估  截瘫患者可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MB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量表进行评定；四肢瘫患者用四肢瘫功能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uadriplegic index of function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IF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、社会状况评估  脊髓损伤患者因发病急、病情重，会产生严重的心理负担及社会压力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平面和功能预后关系的评定  对完全性脊髓损伤的患者，根据损伤平面预测其功能恢复情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517680" y="2276280"/>
            <a:ext cx="7534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脊髓损伤患者的临床表现，常用的康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复护理诊断如下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活动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失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清理呼吸道无效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87640" y="3499920"/>
            <a:ext cx="392436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焦虑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受伤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感染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皮肤完整性受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468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4716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B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1280" y="1992240"/>
            <a:ext cx="8137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该患者经保守治疗病情稳定，颅骨牵引已经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周。康复护理评估：腕背伸级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肱三头肌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天排便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次，且粪便干结，尿失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该患者应采取哪些康复护理措施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820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患者现存的康复护理问题进行排序后，制定近期目标和远期目标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近期目标：①稳定患者情绪，减轻焦虑程度，帮助患者面对疾病，配合治疗和护理。②康复护理措施的实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远期目标：利用多种手段，使患者受限或丧失的功能和能力得到最大限度的恢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正确体位的摆放：正确的体位可以促进患者肢体功能恢复，有助于预防关节挛缩和压疮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仰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侧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被动活动：为防止关节挛缩和畸形，从脊髓损伤急性休克期开始，直至患者能够主动进行全关节活动范围运动均应进行被动活动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主动活动：针对患者肢体残存功能进行训练，扩大代偿功能，为日后的其他训练打好基础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体位变换：脊髓损伤患者应根据病情变换体位，一般每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小时变换一次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呼吸及排痰训练：指导患者进行呼吸训练和辅助咳嗽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43280" y="907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8072280" cy="29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概念、分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患者存在的主要功能障碍及护理评估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脊髓损伤的病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对完全性脊髓损伤患者设计康复护理方案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C585-8554-45BF-9188-99FDB7036B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532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、排便的处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914400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增强肌力训练：脊髓损伤患者为了应用轮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椅、拐杖或自助器，在卧床或坐位时，要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肌力的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按照患者的肌力水平选择适宜的运动训练方式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主要训练方法为被动活动、肌肉电刺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激及生物反馈治疗；②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较大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范围的辅助、主动及器械性运动，根据患者肌力情况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调节辅助量；③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抗阻力运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动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5889240" y="4149720"/>
            <a:ext cx="159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翻身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肘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手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床上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" name="Group 15"/>
          <p:cNvGrpSpPr/>
          <p:nvPr/>
        </p:nvGrpSpPr>
        <p:grpSpPr>
          <a:xfrm>
            <a:off x="5292720" y="3789360"/>
            <a:ext cx="3022200" cy="3604680"/>
            <a:chOff x="5292720" y="3789360"/>
            <a:chExt cx="3022200" cy="3604680"/>
          </a:xfrm>
        </p:grpSpPr>
        <p:sp>
          <p:nvSpPr>
            <p:cNvPr id="489" name="AutoShape 16"/>
            <p:cNvSpPr/>
            <p:nvPr/>
          </p:nvSpPr>
          <p:spPr>
            <a:xfrm>
              <a:off x="5292720" y="3939840"/>
              <a:ext cx="3022200" cy="26488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AutoShape 17"/>
            <p:cNvSpPr/>
            <p:nvPr/>
          </p:nvSpPr>
          <p:spPr>
            <a:xfrm>
              <a:off x="5577120" y="3819960"/>
              <a:ext cx="2453760" cy="24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AutoShape 18"/>
            <p:cNvSpPr/>
            <p:nvPr/>
          </p:nvSpPr>
          <p:spPr>
            <a:xfrm flipH="1">
              <a:off x="7794360" y="3879720"/>
              <a:ext cx="943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AutoShape 19"/>
            <p:cNvSpPr/>
            <p:nvPr/>
          </p:nvSpPr>
          <p:spPr>
            <a:xfrm flipH="1">
              <a:off x="5709960" y="3879720"/>
              <a:ext cx="961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3" name="Text Box 20"/>
            <p:cNvSpPr/>
            <p:nvPr/>
          </p:nvSpPr>
          <p:spPr>
            <a:xfrm>
              <a:off x="6695280" y="3789360"/>
              <a:ext cx="175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" name="Text Box 21"/>
            <p:cNvSpPr/>
            <p:nvPr/>
          </p:nvSpPr>
          <p:spPr>
            <a:xfrm>
              <a:off x="5393160" y="4159800"/>
              <a:ext cx="28090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5" name="Freeform 12"/>
          <p:cNvSpPr/>
          <p:nvPr/>
        </p:nvSpPr>
        <p:spPr>
          <a:xfrm>
            <a:off x="3780000" y="3213000"/>
            <a:ext cx="259056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42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坐位训练：脊髓损伤患者多采用长坐位和端坐位进行平衡维持训练，包括静态平衡训练和动态平衡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转移训练：根据患者脊髓损伤平面、残存肌力及关节活动度等情况选择不同的转移方法，包括辅助转移和独立转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将训练内容与日常生活活动相结合，如进食训练在三餐时进行。②训练前做好各种准备，如辅助患者排空二便，妥善固定各种导管，以防训练中脱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③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训练过程中鼓励患者尽量自己完成所有步骤，必要时才给予协助。④让家庭成员共同参与训练过程，指导其用最恰当的方式帮助患者生活自理。⑤训练前、后观察患者身体状况和精神状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站立训练：在坐位训练完成较好后可以开始站立训练，首先进行体位适应性训练，以防止直立性低血压，站立训练过程中应注意协助患者保持脊柱的稳定性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步行训练：脊髓损伤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个月，已完成上述训练者配带矫形器进行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468360" y="73836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矫形器、辅助器具和环境改造的护理：具体包括：①指导患者及家属如何正确佩戴和使用矫形器、辅助器具和轮椅。②告之注意事项。③与医生、康复治疗师、矫形器技师、患者、家属一同对患者所处的环境进行无障碍设计和改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48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心理护理：建立良好护患关系、疏导负性情绪、帮助患者正视疾病与残疾、指导患者家属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68360" y="7048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7389-8530-41E0-873F-471A1163DCE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209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cord injury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C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由外伤、疾病和先天发育不良等因素引起的脊髓结构和功能的损害，造成损伤水平以下运动、感觉、自主神经功能的异常以及相应的并发症，导致不同程度的残疾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并发症的护理  多数脊髓损伤患者死于并发症，只有及时有效的防治，才能提高患者的生存质量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常见的并发症包括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102720" y="5084640"/>
            <a:ext cx="601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压疮、泌尿系感染、疼痛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下肢深静脉血栓、异位骨化等</a:t>
            </a:r>
            <a:r>
              <a:rPr b="0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3419640" y="4941720"/>
            <a:ext cx="5364000" cy="1656000"/>
          </a:xfrm>
          <a:prstGeom prst="cloudCallout">
            <a:avLst>
              <a:gd name="adj1" fmla="val -8625"/>
              <a:gd name="adj2" fmla="val -112777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424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自我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合理膳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心理调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持之以恒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回归社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5253480" y="2349360"/>
            <a:ext cx="292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学会自我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养成良好的卫生习惯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药物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加强二便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" name="Group 15"/>
          <p:cNvGrpSpPr/>
          <p:nvPr/>
        </p:nvGrpSpPr>
        <p:grpSpPr>
          <a:xfrm>
            <a:off x="4500720" y="1989000"/>
            <a:ext cx="4392000" cy="3618720"/>
            <a:chOff x="4500720" y="1989000"/>
            <a:chExt cx="4392000" cy="3618720"/>
          </a:xfrm>
        </p:grpSpPr>
        <p:sp>
          <p:nvSpPr>
            <p:cNvPr id="519" name="AutoShape 16"/>
            <p:cNvSpPr/>
            <p:nvPr/>
          </p:nvSpPr>
          <p:spPr>
            <a:xfrm>
              <a:off x="4500720" y="2145960"/>
              <a:ext cx="4392000" cy="27586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AutoShape 17"/>
            <p:cNvSpPr/>
            <p:nvPr/>
          </p:nvSpPr>
          <p:spPr>
            <a:xfrm>
              <a:off x="4914000" y="2021040"/>
              <a:ext cx="3565800" cy="250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AutoShape 18"/>
            <p:cNvSpPr/>
            <p:nvPr/>
          </p:nvSpPr>
          <p:spPr>
            <a:xfrm flipH="1">
              <a:off x="8136360" y="2083320"/>
              <a:ext cx="13680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AutoShape 19"/>
            <p:cNvSpPr/>
            <p:nvPr/>
          </p:nvSpPr>
          <p:spPr>
            <a:xfrm flipH="1">
              <a:off x="5108040" y="2083320"/>
              <a:ext cx="13968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3" name="Text Box 20"/>
            <p:cNvSpPr/>
            <p:nvPr/>
          </p:nvSpPr>
          <p:spPr>
            <a:xfrm>
              <a:off x="6575400" y="1989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4" name="Text Box 21"/>
            <p:cNvSpPr/>
            <p:nvPr/>
          </p:nvSpPr>
          <p:spPr>
            <a:xfrm>
              <a:off x="4646520" y="2373480"/>
              <a:ext cx="408204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25" name="Freeform 12"/>
          <p:cNvSpPr/>
          <p:nvPr/>
        </p:nvSpPr>
        <p:spPr>
          <a:xfrm>
            <a:off x="3348000" y="1268280"/>
            <a:ext cx="259092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病因包括：①外伤性脊髓损伤致病因素：高空坠落、交通事故和体育运动等导致脊髓受压甚至完全断裂、刀伤、枪伤等脊髓外伤。②非外伤性脊髓损伤致病因素：炎症、肿瘤、血管病变、退行性病变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主要功能包括障碍运动功能障碍、感觉功能障碍、排尿、排便功能障碍、自主性反射障碍、脊髓休克、其他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2"/>
          <p:cNvSpPr/>
          <p:nvPr/>
        </p:nvSpPr>
        <p:spPr>
          <a:xfrm>
            <a:off x="755640" y="1996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脊髓损伤急性期康复护理措施包括：正确体位的摆放、被动活动、主动活动、体位变换、呼吸及排痰训练、排尿、排便的处理。恢复期康复护理措施包括：运动功能训练、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ADL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能力训练、矫形器、辅助器具和环境改造的护理、心理护理。另外，还需进行并发症的预防和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指导患者进行自我管理、调整饮食、合理膳食、调节心理、坚持康复训练、回归社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8FAD-CF61-4645-8391-B3EEED6079A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致病因素分为外伤性脊髓损伤和非外伤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损伤程度可分为完全性脊髓损伤和不完全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病因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高空坠落、交通事故和体育运动等导致脊髓受压甚至完全断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刀伤、枪伤等脊髓外伤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非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572000" y="4869000"/>
            <a:ext cx="41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炎症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肿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血管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退行性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Freeform 12"/>
          <p:cNvSpPr/>
          <p:nvPr/>
        </p:nvSpPr>
        <p:spPr>
          <a:xfrm rot="1061400">
            <a:off x="5940000" y="4005000"/>
            <a:ext cx="1800360" cy="8697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15"/>
          <p:cNvGrpSpPr/>
          <p:nvPr/>
        </p:nvGrpSpPr>
        <p:grpSpPr>
          <a:xfrm>
            <a:off x="4643280" y="4724280"/>
            <a:ext cx="3814560" cy="3733920"/>
            <a:chOff x="4643280" y="4724280"/>
            <a:chExt cx="3814560" cy="3733920"/>
          </a:xfrm>
        </p:grpSpPr>
        <p:sp>
          <p:nvSpPr>
            <p:cNvPr id="400" name="AutoShape 16"/>
            <p:cNvSpPr/>
            <p:nvPr/>
          </p:nvSpPr>
          <p:spPr>
            <a:xfrm>
              <a:off x="4643280" y="4815720"/>
              <a:ext cx="3814560" cy="160776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17"/>
            <p:cNvSpPr/>
            <p:nvPr/>
          </p:nvSpPr>
          <p:spPr>
            <a:xfrm>
              <a:off x="5002200" y="4743720"/>
              <a:ext cx="3097080" cy="14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18"/>
            <p:cNvSpPr/>
            <p:nvPr/>
          </p:nvSpPr>
          <p:spPr>
            <a:xfrm flipH="1">
              <a:off x="7800840" y="4779000"/>
              <a:ext cx="11880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flipH="1">
              <a:off x="5169960" y="4779000"/>
              <a:ext cx="12132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20"/>
            <p:cNvSpPr/>
            <p:nvPr/>
          </p:nvSpPr>
          <p:spPr>
            <a:xfrm>
              <a:off x="6432120" y="4724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1"/>
            <p:cNvSpPr/>
            <p:nvPr/>
          </p:nvSpPr>
          <p:spPr>
            <a:xfrm>
              <a:off x="4801680" y="5223960"/>
              <a:ext cx="35452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D8C2-1F41-4E46-BC67-26E623BB48B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68000" y="2249640"/>
            <a:ext cx="8429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流行病学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各国研究资料表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0%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患者年龄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以下的青年人，男女比例为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: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且发病率呈逐年上升的趋势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A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赵某，男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，建筑工人，因工作不慎从高处坠落，入院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小时，临床诊断：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颈椎骨折脱位，脊髓损伤。患者入院后意识清晰，语言流利，生命体征平稳，无其他脏器损伤。查体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:C6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平面以下感觉缺失、四肢瘫、肌张力低、腱反射消失、排尿、排便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该患者存在哪些功能障碍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对该患者应进行哪些康复护理评估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6E8C-A529-47EA-8F78-895FF48D117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运动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根据损伤部位不同，可表现为不同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张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反射功能的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27:03Z</dcterms:modified>
  <cp:revision>11</cp:revision>
  <dc:subject/>
  <dc:title>第一章 儿科疾病的护理</dc:title>
</cp:coreProperties>
</file>