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3248A-7902-4752-89F5-CA150A3313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3297-D793-40FD-92FE-CCE5ECA5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4A5F9-3C73-416E-B352-9A7B4040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5831-B40D-4FDE-BA0B-46F40D3C40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6AC6-1E38-4C21-BA2B-5215A7F7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253A-2A40-47CA-8C24-901C23070E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54AA-90F1-4B30-AE33-77AE7FC8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3197-5D81-40A2-9EB2-F7A8B604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0B4C-BB0E-430D-9ADF-B74318F4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4FC8-945E-4098-B0E9-E7D22071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FF4D-12FE-4358-A674-AD1BB2A6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71E1-3AA5-4777-ADCD-679F8BBC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6BA8-1EE5-47EA-9C93-B984C95D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C50-9952-4547-84A4-9EC0E14C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1BA6-E285-4DEB-980E-23813C12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0F6D-C0F0-46D4-AB1B-A5692DAA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9057-784D-4946-A04A-B9E0BA0A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5A02-A51D-4A2B-814A-F52E08BD10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CEAF9C-4E71-49FF-ADDC-D5080569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571BD9-E779-404B-94F9-E51AF5F4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E2E69C-11B1-4688-BFD4-76898D33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F6FE-0EF3-4B9D-A6C0-D2F6B751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5D010A-E94A-458F-AB63-205EFCFB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A7CF69-7761-4262-8201-74A4BFA8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768C30-E191-4242-891E-112AB973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E28CAB-549D-48F9-9421-53E678B2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955F63-AE07-4928-8ACC-EF8F05F1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4295AC-7D73-4D6D-964B-0D1D2DA9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20BEF1-9A6E-4F30-AFA9-0540F587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543CC6-026C-47C1-BAF5-09146160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E08D5E-B5C6-4028-A3E1-B876150E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18AFCE-C4E1-4235-8F98-9CB025A9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24E5-A031-4D62-9558-8454321D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C5C5AB-4978-4AAD-914D-9378B79F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E3012F-C068-4F94-A483-8ADC8C77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E63E83-F7D6-4094-BBF5-DDD79630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C216B7-DC12-4973-AB69-932D1BBA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74CE9C-2A85-478E-A81F-2E62D026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375841-30E9-443B-B69C-99595C3A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D0CC91-2905-433E-8CC7-5F27B801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883A8F-33D7-49D8-998B-EEB6BBAD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C9E759-71B0-4652-A4BA-B28E83B4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33F2F9-B02B-4AB7-AAF3-49C2486E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BC43D-03B4-49AF-A14E-867380E6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E2A7DB-F3E1-4B82-8538-35F77D14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FD9F-342A-4DC7-AB78-F8D8F18F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578B5-BDF8-454B-9843-83B5C674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14DAE-6D0B-4BE6-B576-0E18A1AF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6492-680D-482D-8546-C745AF0CDF4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95C9-C8CB-406B-B621-CEBC92157BB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F240-98E2-4DAE-A1D7-0B033D1B2F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4B2E-2689-4BAA-B27B-7186450A785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829D-BB07-41A3-9904-5B914FF957F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性瘫痪</a:t>
            </a: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808200" y="1197000"/>
            <a:ext cx="70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6-3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患儿，男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3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周出生，生后出现黄疸，持续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17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天。现运动发育落后，竖颈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翻身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角弓反张；原始反射残存非对称性颈紧张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侧弯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；流涎，吞咽及咀嚼困难，发音障碍；睡眠不佳，便秘。患儿自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半开始出现癫痫发作，脑电图检查示：双侧对称同步尖慢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问题与思考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：该患儿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900000" y="2205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中枢性运动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伴随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4748040" y="1484280"/>
            <a:ext cx="4381560" cy="2651040"/>
          </a:xfrm>
          <a:prstGeom prst="wedgeRectCallout">
            <a:avLst>
              <a:gd name="adj1" fmla="val -55208"/>
              <a:gd name="adj2" fmla="val 171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痉挛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偏瘫、双瘫、四肢瘫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不随意运动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自主无意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共济失调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障碍，肌张力低下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强直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扭转痉挛或强直，常伴智力低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肌张力低下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为显著特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两种或两种症状同时存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3924360" y="4365720"/>
            <a:ext cx="3240000" cy="1366920"/>
          </a:xfrm>
          <a:prstGeom prst="wedgeRectCallout">
            <a:avLst>
              <a:gd name="adj1" fmla="val -62087"/>
              <a:gd name="adj2" fmla="val -33245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语言、听觉、视觉、行为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癫痫、智能、情绪问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其他感觉和认知功能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1"/>
          <p:cNvSpPr/>
          <p:nvPr/>
        </p:nvSpPr>
        <p:spPr>
          <a:xfrm>
            <a:off x="468360" y="1197000"/>
            <a:ext cx="828036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楷体"/>
                <a:ea typeface="楷体"/>
              </a:rPr>
              <a:t>知识链接</a:t>
            </a:r>
            <a:r>
              <a:rPr b="1" lang="en-US" sz="2800" spc="-1" strike="noStrike">
                <a:solidFill>
                  <a:srgbClr val="03517d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      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非对称性紧张性颈反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非对称性紧张性颈反射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(asymmetrical tonic neck reflex, ATNR)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：小儿仰卧，头居中，四肢伸展位，当旋转头部时，阳性表现为颜面侧上、下肢伸肌张力增高成伸展位，后头侧屈肌张力增强，上、下肢屈曲。正常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月消失，持续阳性阻碍小儿头和四肢运动发育。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ATNR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在新生儿出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周左右出现，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呈优势，以后受上位中枢的控制而逐渐消失，若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仍然持续存在则为异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81B9-0CD0-44B3-B648-04ADAAD9837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116000" y="162864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4159080" y="1136520"/>
            <a:ext cx="4896000" cy="1351080"/>
          </a:xfrm>
          <a:prstGeom prst="wedgeRectCallout">
            <a:avLst>
              <a:gd name="adj1" fmla="val -75064"/>
              <a:gd name="adj2" fmla="val 14097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高、僵硬、强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仰卧位时，呈上肢屈曲、下肢伸展痉挛。患儿俯卧位时</a:t>
            </a:r>
            <a:r>
              <a:rPr b="1" lang="en-US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竖颈困难，四肢屈曲模式</a:t>
            </a:r>
            <a:r>
              <a:rPr b="0" lang="zh-CN" sz="1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4699080" y="2492280"/>
            <a:ext cx="3959280" cy="935280"/>
          </a:xfrm>
          <a:prstGeom prst="wedgeRectCallout">
            <a:avLst>
              <a:gd name="adj1" fmla="val -67041"/>
              <a:gd name="adj2" fmla="val -17740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流涎、咀嚼吞咽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非对称性紧张性颈反射姿势多见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5132520" y="3494160"/>
            <a:ext cx="3092400" cy="934920"/>
          </a:xfrm>
          <a:prstGeom prst="wedgeRectCallout">
            <a:avLst>
              <a:gd name="adj1" fmla="val -98518"/>
              <a:gd name="adj2" fmla="val -70254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无痉挛，病理反射阳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伴有眼球震颤、言语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5167440" y="4462560"/>
            <a:ext cx="3887640" cy="1655640"/>
          </a:xfrm>
          <a:prstGeom prst="wedgeRectCallout">
            <a:avLst>
              <a:gd name="adj1" fmla="val -109495"/>
              <a:gd name="adj2" fmla="val -77625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全身肌张力增加，呈强直状，肢体僵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严重障碍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伴有角弓反张，智力低下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0"/>
          <p:cNvSpPr/>
          <p:nvPr/>
        </p:nvSpPr>
        <p:spPr>
          <a:xfrm>
            <a:off x="3968640" y="6164280"/>
            <a:ext cx="2979720" cy="431640"/>
          </a:xfrm>
          <a:prstGeom prst="wedgeRectCallout">
            <a:avLst>
              <a:gd name="adj1" fmla="val -69958"/>
              <a:gd name="adj2" fmla="val -367435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抬头无力，坐或站立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1"/>
          <p:cNvSpPr/>
          <p:nvPr/>
        </p:nvSpPr>
        <p:spPr>
          <a:xfrm>
            <a:off x="395280" y="6118200"/>
            <a:ext cx="3276720" cy="527040"/>
          </a:xfrm>
          <a:prstGeom prst="wedgeRectCallout">
            <a:avLst>
              <a:gd name="adj1" fmla="val 5263"/>
              <a:gd name="adj2" fmla="val -164875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可能以一种类型的表现为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BABA-B125-4294-8AAA-1EA737ED295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826920" y="1197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语言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视觉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智能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听觉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行为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76760" y="1335240"/>
            <a:ext cx="4686120" cy="1055520"/>
          </a:xfrm>
          <a:prstGeom prst="wedgeRectCallout">
            <a:avLst>
              <a:gd name="adj1" fmla="val -67435"/>
              <a:gd name="adj2" fmla="val 36259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语言发育迟缓，发音困难、构音不清，不能成句说话，不能正确表达，有的患儿完全失语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3789360" y="2386080"/>
            <a:ext cx="4680000" cy="900000"/>
          </a:xfrm>
          <a:prstGeom prst="wedgeRectCallout">
            <a:avLst>
              <a:gd name="adj1" fmla="val -69740"/>
              <a:gd name="adj2" fmla="val -3115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内、外斜视，视神经萎缩，动眼神经麻痹，眼球震颤，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近视、远视 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780000" y="3308400"/>
            <a:ext cx="4679640" cy="647640"/>
          </a:xfrm>
          <a:prstGeom prst="wedgeRectCallout">
            <a:avLst>
              <a:gd name="adj1" fmla="val -69708"/>
              <a:gd name="adj2" fmla="val -15199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能低下 ，多动、情绪不稳、自闭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3789360" y="3973680"/>
            <a:ext cx="4680000" cy="576000"/>
          </a:xfrm>
          <a:prstGeom prst="wedgeRectCallout">
            <a:avLst>
              <a:gd name="adj1" fmla="val -68490"/>
              <a:gd name="adj2" fmla="val -10879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华文新魏"/>
              </a:rPr>
              <a:t>听力减退甚至丧失听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3789360" y="4564080"/>
            <a:ext cx="4680000" cy="934920"/>
          </a:xfrm>
          <a:prstGeom prst="wedgeRectCallout">
            <a:avLst>
              <a:gd name="adj1" fmla="val -69231"/>
              <a:gd name="adj2" fmla="val -21476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固执任性、情绪不稳定、注意力不集中有自残行为和暴力倾向 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3780000" y="5499000"/>
            <a:ext cx="4679640" cy="1081080"/>
          </a:xfrm>
          <a:prstGeom prst="wedgeRectCallout">
            <a:avLst>
              <a:gd name="adj1" fmla="val -85106"/>
              <a:gd name="adj2" fmla="val -54990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全身性阵挛发作、部分发作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继发性大发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920" y="206028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健康状态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功能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知、认知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社会及家庭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智能评估   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"/>
          <p:cNvSpPr/>
          <p:nvPr/>
        </p:nvSpPr>
        <p:spPr>
          <a:xfrm>
            <a:off x="971640" y="162864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3200" spc="-1" strike="noStrike">
                <a:solidFill>
                  <a:srgbClr val="c00000"/>
                </a:solidFill>
                <a:latin typeface="楷体"/>
                <a:ea typeface="楷体"/>
              </a:rPr>
              <a:t>6-3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该患儿口语不流利，流涎，智力落后，能简单回答问题，右侧眼球斜视，吞咽有呛咳，四肢肌张力高，行走呈剪刀步态，足跟不能着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问题与思考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：为该患儿制订康复护理计划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769F-738E-4D13-B05B-4B74C5D2845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原则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干预，综合康复，正确指导，积极配合，持之以恒，预防继发残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6093-10C4-4D5C-9510-E5F861AD972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标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纠正异常姿势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②指导正确抱姿与喂养姿势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③无跌伤造成二次损伤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实现最佳功能和独立性；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最大限度恢复身体、心理、社会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方面功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50B9-CFBB-43B4-B3FA-41546199091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EC37-C440-4665-B814-664AB2A4E6E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02792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环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宽敞、整洁、典雅、舒适、安全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房间内设无障碍设施 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684360" y="1916280"/>
            <a:ext cx="7704000" cy="36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睡眠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痉挛型采用侧卧，利于降低肌张力，促进动作对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重者取俯卧位，胸前放一低枕，使其双臂向前伸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当头能向前抬起或能转动时，可去掉枕头取俯卧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720720" y="1432080"/>
            <a:ext cx="77040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坐姿</a:t>
            </a:r>
            <a:r>
              <a:rPr b="0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伸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　　　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盘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4194000" y="2143080"/>
            <a:ext cx="4321440" cy="2592360"/>
          </a:xfrm>
          <a:prstGeom prst="wedgeRectCallout">
            <a:avLst>
              <a:gd name="adj1" fmla="val -77810"/>
              <a:gd name="adj2" fmla="val 909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4194000" y="4159080"/>
            <a:ext cx="4321440" cy="2521080"/>
          </a:xfrm>
          <a:prstGeom prst="wedgeRectCallout">
            <a:avLst>
              <a:gd name="adj1" fmla="val -78694"/>
              <a:gd name="adj2" fmla="val -42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6" descr="图13-11-1 伸腿坐位"/>
          <p:cNvPicPr/>
          <p:nvPr/>
        </p:nvPicPr>
        <p:blipFill>
          <a:blip r:embed="rId1"/>
          <a:stretch/>
        </p:blipFill>
        <p:spPr>
          <a:xfrm>
            <a:off x="4267080" y="2214720"/>
            <a:ext cx="2105280" cy="2232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图13-11-2伸腿坐位"/>
          <p:cNvPicPr/>
          <p:nvPr/>
        </p:nvPicPr>
        <p:blipFill>
          <a:blip r:embed="rId2"/>
          <a:stretch/>
        </p:blipFill>
        <p:spPr>
          <a:xfrm>
            <a:off x="6427800" y="2286000"/>
            <a:ext cx="2019240" cy="2160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图13-12-1 盘坐位"/>
          <p:cNvPicPr/>
          <p:nvPr/>
        </p:nvPicPr>
        <p:blipFill>
          <a:blip r:embed="rId3"/>
          <a:stretch/>
        </p:blipFill>
        <p:spPr>
          <a:xfrm>
            <a:off x="4338720" y="4446720"/>
            <a:ext cx="2057400" cy="2028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图13-12-2 盘坐位"/>
          <p:cNvPicPr/>
          <p:nvPr/>
        </p:nvPicPr>
        <p:blipFill>
          <a:blip r:embed="rId4"/>
          <a:stretch/>
        </p:blipFill>
        <p:spPr>
          <a:xfrm>
            <a:off x="6427800" y="4375080"/>
            <a:ext cx="1942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595440" y="141300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48" name="组合 15"/>
          <p:cNvGrpSpPr/>
          <p:nvPr/>
        </p:nvGrpSpPr>
        <p:grpSpPr>
          <a:xfrm>
            <a:off x="3564000" y="2276640"/>
            <a:ext cx="5075280" cy="4349520"/>
            <a:chOff x="3564000" y="2276640"/>
            <a:chExt cx="5075280" cy="4349520"/>
          </a:xfrm>
        </p:grpSpPr>
        <p:sp>
          <p:nvSpPr>
            <p:cNvPr id="349" name="AutoShape 4"/>
            <p:cNvSpPr/>
            <p:nvPr/>
          </p:nvSpPr>
          <p:spPr>
            <a:xfrm>
              <a:off x="3564000" y="2276640"/>
              <a:ext cx="5075280" cy="4349520"/>
            </a:xfrm>
            <a:prstGeom prst="wedgeRectCallout">
              <a:avLst>
                <a:gd name="adj1" fmla="val -23046"/>
                <a:gd name="adj2" fmla="val 504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痉挛型角弓反张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0" name="Picture 5" descr="图13-23-1 痉挛型抱姿"/>
            <p:cNvPicPr/>
            <p:nvPr/>
          </p:nvPicPr>
          <p:blipFill>
            <a:blip r:embed="rId1"/>
            <a:stretch/>
          </p:blipFill>
          <p:spPr>
            <a:xfrm>
              <a:off x="4410360" y="2956680"/>
              <a:ext cx="3669480" cy="32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6"/>
          <p:cNvGrpSpPr/>
          <p:nvPr/>
        </p:nvGrpSpPr>
        <p:grpSpPr>
          <a:xfrm>
            <a:off x="4572000" y="2297160"/>
            <a:ext cx="3456000" cy="3705120"/>
            <a:chOff x="4572000" y="2297160"/>
            <a:chExt cx="3456000" cy="3705120"/>
          </a:xfrm>
        </p:grpSpPr>
        <p:sp>
          <p:nvSpPr>
            <p:cNvPr id="352" name="AutoShape 6"/>
            <p:cNvSpPr/>
            <p:nvPr/>
          </p:nvSpPr>
          <p:spPr>
            <a:xfrm>
              <a:off x="4572000" y="2297160"/>
              <a:ext cx="3456000" cy="3705120"/>
            </a:xfrm>
            <a:prstGeom prst="wedgeRectCallout">
              <a:avLst>
                <a:gd name="adj1" fmla="val -19986"/>
                <a:gd name="adj2" fmla="val -5012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　不随意运动型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3" name="Picture 7" descr="图13-24-1 不随意运动型抱姿"/>
            <p:cNvPicPr/>
            <p:nvPr/>
          </p:nvPicPr>
          <p:blipFill>
            <a:blip r:embed="rId1"/>
            <a:stretch/>
          </p:blipFill>
          <p:spPr>
            <a:xfrm>
              <a:off x="5181480" y="2884320"/>
              <a:ext cx="2236680" cy="253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AutoShape 12"/>
          <p:cNvSpPr/>
          <p:nvPr/>
        </p:nvSpPr>
        <p:spPr>
          <a:xfrm>
            <a:off x="684360" y="2205000"/>
            <a:ext cx="3348000" cy="3889440"/>
          </a:xfrm>
          <a:prstGeom prst="wedgeRectCallout">
            <a:avLst>
              <a:gd name="adj1" fmla="val 29685"/>
              <a:gd name="adj2" fmla="val -5005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不随意运动型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肌张力低下型患儿抱法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5" name="Picture 13" descr="图13-24-2 不随意运动型抱姿"/>
          <p:cNvPicPr/>
          <p:nvPr/>
        </p:nvPicPr>
        <p:blipFill>
          <a:blip r:embed="rId2"/>
          <a:stretch/>
        </p:blipFill>
        <p:spPr>
          <a:xfrm>
            <a:off x="1225440" y="2903400"/>
            <a:ext cx="2430720" cy="274824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"/>
          <p:cNvSpPr/>
          <p:nvPr/>
        </p:nvSpPr>
        <p:spPr>
          <a:xfrm>
            <a:off x="61128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684360" y="191628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59" name="组合 1"/>
          <p:cNvGrpSpPr/>
          <p:nvPr/>
        </p:nvGrpSpPr>
        <p:grpSpPr>
          <a:xfrm>
            <a:off x="522360" y="1773360"/>
            <a:ext cx="8028000" cy="4367160"/>
            <a:chOff x="522360" y="1773360"/>
            <a:chExt cx="8028000" cy="4367160"/>
          </a:xfrm>
        </p:grpSpPr>
        <p:sp>
          <p:nvSpPr>
            <p:cNvPr id="360" name="AutoShape 8"/>
            <p:cNvSpPr/>
            <p:nvPr/>
          </p:nvSpPr>
          <p:spPr>
            <a:xfrm>
              <a:off x="522360" y="1773360"/>
              <a:ext cx="8028000" cy="4367160"/>
            </a:xfrm>
            <a:prstGeom prst="wedgeRectCallout">
              <a:avLst>
                <a:gd name="adj1" fmla="val -24092"/>
                <a:gd name="adj2" fmla="val 4626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重度角弓反张患儿侧卧位抱起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1" name="Picture 9" descr="图13-29 重度角弓反张的特殊抱法"/>
            <p:cNvPicPr/>
            <p:nvPr/>
          </p:nvPicPr>
          <p:blipFill>
            <a:blip r:embed="rId1"/>
            <a:stretch/>
          </p:blipFill>
          <p:spPr>
            <a:xfrm>
              <a:off x="3052080" y="2781000"/>
              <a:ext cx="2514600" cy="305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63" name="组合 1"/>
          <p:cNvGrpSpPr/>
          <p:nvPr/>
        </p:nvGrpSpPr>
        <p:grpSpPr>
          <a:xfrm>
            <a:off x="2054160" y="2060640"/>
            <a:ext cx="5256360" cy="3960720"/>
            <a:chOff x="2054160" y="2060640"/>
            <a:chExt cx="5256360" cy="3960720"/>
          </a:xfrm>
        </p:grpSpPr>
        <p:sp>
          <p:nvSpPr>
            <p:cNvPr id="364" name="AutoShape 10"/>
            <p:cNvSpPr/>
            <p:nvPr/>
          </p:nvSpPr>
          <p:spPr>
            <a:xfrm>
              <a:off x="2054160" y="2060640"/>
              <a:ext cx="5256360" cy="3960720"/>
            </a:xfrm>
            <a:prstGeom prst="wedgeRectCallout">
              <a:avLst>
                <a:gd name="adj1" fmla="val -49643"/>
                <a:gd name="adj2" fmla="val -2956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屈曲占优势患儿抱法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5" name="Picture 11" descr="图13-28 屈曲占优势的特殊抱法"/>
            <p:cNvPicPr/>
            <p:nvPr/>
          </p:nvPicPr>
          <p:blipFill>
            <a:blip r:embed="rId1"/>
            <a:stretch/>
          </p:blipFill>
          <p:spPr>
            <a:xfrm>
              <a:off x="3021120" y="2826720"/>
              <a:ext cx="3182040" cy="319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684360" y="1916280"/>
            <a:ext cx="770400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洗浴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洗浴时应注意不加重异常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体位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患儿有安全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684360" y="1916280"/>
            <a:ext cx="77040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衣服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套头衫或背心时，穿先患侧再健侧，脱健侧后患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对襟衣服，先将其下面纽扣扣好，根据患儿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留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上面的纽扣不扣，再按照套头衫脱穿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84360" y="2133720"/>
            <a:ext cx="7704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裤子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取坐位，先患侧套入裤筒，再穿另一侧，然后躺下，边蹬健足，边向上提拉裤子到腰部并系好。脱与穿相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459640" cy="30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识记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．陈述脑瘫概念、常见类型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描述脑瘫的临床表现和主要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理解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解释脑瘫的致病因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归纳各型脑瘫的典型体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运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评估各型脑瘫患儿并为其制订康复护理计划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58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D231-D57F-4B2D-8013-92095BD2383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1700280"/>
            <a:ext cx="82072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进食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抱坐喂食；②面对面进食；③坐位进食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④坐在固定椅子上进食；⑤侧卧位进食；⑥俯卧位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喂饮时应注意，勺进入口腔的位置要低于患儿的口唇，从口唇的中央部位插入，喂食者避免从患儿头的上方或侧方喂饮，防止引起患儿的头部过度伸展和向一侧回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84360" y="1916280"/>
            <a:ext cx="770400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排泄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培养定时排便的习惯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能座位排便的患儿应注意增加稳定性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注意座位的高度，双脚能踏到地面为宜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障碍的护理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早期给予言语刺激及动作模仿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强调早期干预并融入日常生活活动中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加强心理护理增强社会交往能力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创造机会参与社会活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增强社会交往能力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932A-C60E-4565-BD4D-DCC9FC63291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7775640" cy="38880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介绍脑瘫致病因素、临床表现、预防措施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提倡早发现、早期综合干预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积极开展产前检查，防止感染性疾病发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避免早产、低体重儿和巨大儿出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导正确进食姿势、正确抱姿、正确睡眠体位 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771640" y="25992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3E8B-9B85-4CC2-AD47-1A18DEF5454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85520" y="1999800"/>
            <a:ext cx="742932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主要致病因素是脑缺氧或脑部血液灌注不足。胎儿宫内窘迫、早产儿、低出生体重儿、新生儿窒息、新生儿缺血缺氧性脑病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所致的主要功能障碍有竖颈困难、流涎、咀嚼吞咽困难、平衡障碍、语言障碍、听觉障碍、视觉障碍、行为障碍、癫痫、感觉和认知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1"/>
          <p:cNvSpPr/>
          <p:nvPr/>
        </p:nvSpPr>
        <p:spPr>
          <a:xfrm>
            <a:off x="900000" y="148428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评估包括健康状态、躯体功能、言语功能、感知及认知功能、日常生活活动能力、心理社会状况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措施可根据脑瘫各型特点有针对性的进行异常姿势的矫正，防止关节强直挛缩发生；加强日常生活活动能力指导；早期语言刺激与干预；强化心理护理与自信心的培养，最大限度恢复心理、躯体功能，提高社会参与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矩形 1"/>
          <p:cNvSpPr/>
          <p:nvPr/>
        </p:nvSpPr>
        <p:spPr>
          <a:xfrm>
            <a:off x="900000" y="1916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指导包括介绍脑瘫致病因素、临床表现、治疗方法，预防措施；指导患儿家长如何控制脑瘫患儿的异常姿势、如何保持患儿正确进食姿势、指导家长对患儿的正确抱姿及正确的睡眠体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3C83-6BD5-49A5-8EBF-AB92BA359E6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脑性瘫痪（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cerebral palsy, CP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简称脑瘫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定义：自受孕开始至婴儿期非进行性脑损伤和发育缺陷所导致的综合征，其主要表现为运动障碍及姿势异常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2195280" y="83664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5480-9C8C-4C75-88FB-462459786C2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569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世界范围内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5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01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年脑瘫流行病学调查：黑龙江、北京、山西、山东、青海、陕西、河南、安徽、重庆、湖南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广西、广东共涉及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万名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儿童患病率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青海最高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.4‰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山东最低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0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71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黑龙江省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8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42600" y="785880"/>
            <a:ext cx="60166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脑瘫发病率</a:t>
            </a:r>
            <a:endParaRPr b="1" lang="en-US" sz="32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913C-5D8D-475A-94B0-5FD21C763ED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3132000" y="1700280"/>
            <a:ext cx="2952720" cy="100800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缺氧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2987640" y="3141720"/>
            <a:ext cx="3240000" cy="1366920"/>
          </a:xfrm>
          <a:prstGeom prst="ellipse">
            <a:avLst/>
          </a:prstGeom>
          <a:solidFill>
            <a:srgbClr val="ffabe3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4500720" y="270828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572000" y="4508640"/>
            <a:ext cx="142920" cy="360360"/>
          </a:xfrm>
          <a:prstGeom prst="upArrow">
            <a:avLst>
              <a:gd name="adj1" fmla="val 50000"/>
              <a:gd name="adj2" fmla="val 6303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2484360" y="4941720"/>
            <a:ext cx="4319640" cy="108108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部血液灌注不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2723-D9D8-4733-9510-3C38A73441D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276720" y="155736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发育迟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3276720" y="3141720"/>
            <a:ext cx="2663640" cy="1584360"/>
          </a:xfrm>
          <a:prstGeom prst="ellipse">
            <a:avLst/>
          </a:prstGeom>
          <a:solidFill>
            <a:srgbClr val="ffdd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主要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1187280" y="5084640"/>
            <a:ext cx="3456000" cy="107964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糖和高胆红素血症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468360" y="3789360"/>
            <a:ext cx="23032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早产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6516720" y="3645000"/>
            <a:ext cx="2411280" cy="107928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窒息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684360" y="2276640"/>
            <a:ext cx="259236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宫内窘迫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5867280" y="220500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低出生体重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4859280" y="5157720"/>
            <a:ext cx="35290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缺血缺氧性脑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V="1">
            <a:off x="2771640" y="4076640"/>
            <a:ext cx="505080" cy="21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3203640" y="2997360"/>
            <a:ext cx="431640" cy="360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643280" y="2565360"/>
            <a:ext cx="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V="1">
            <a:off x="3780000" y="4724280"/>
            <a:ext cx="287280" cy="4334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 flipV="1">
            <a:off x="5940000" y="4005000"/>
            <a:ext cx="576360" cy="144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 flipH="1" flipV="1">
            <a:off x="5219640" y="4652640"/>
            <a:ext cx="43200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 flipH="1">
            <a:off x="5724000" y="2997360"/>
            <a:ext cx="36036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C15F-17AD-4021-B272-ABEF02BABEE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3000" y="549360"/>
            <a:ext cx="746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250920" y="2997360"/>
            <a:ext cx="2089080" cy="863280"/>
          </a:xfrm>
          <a:prstGeom prst="rect">
            <a:avLst/>
          </a:prstGeom>
          <a:solidFill>
            <a:srgbClr val="ffe1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2843280" y="2276640"/>
            <a:ext cx="244800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中枢运动功能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2987640" y="4076640"/>
            <a:ext cx="201600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姿势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384280" y="2637000"/>
            <a:ext cx="316080" cy="2087280"/>
          </a:xfrm>
          <a:custGeom>
            <a:avLst/>
            <a:gdLst>
              <a:gd name="textAreaLeft" fmla="*/ 201960 w 316080"/>
              <a:gd name="textAreaRight" fmla="*/ 316440 w 31608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5867280" y="1844640"/>
            <a:ext cx="2448000" cy="4176720"/>
          </a:xfrm>
          <a:prstGeom prst="rect">
            <a:avLst/>
          </a:prstGeom>
          <a:solidFill>
            <a:srgbClr val="ffffe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伴有不同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力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视听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知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行为异常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5435640" y="2565360"/>
            <a:ext cx="288720" cy="2448000"/>
          </a:xfrm>
          <a:custGeom>
            <a:avLst/>
            <a:gdLst>
              <a:gd name="textAreaLeft" fmla="*/ 0 w 288720"/>
              <a:gd name="textAreaRight" fmla="*/ 104040 w 28872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7F34-570D-4978-8196-5DC6AC5C4CE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755964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1187280" y="2924280"/>
            <a:ext cx="2089440" cy="1008000"/>
          </a:xfrm>
          <a:prstGeom prst="rect">
            <a:avLst/>
          </a:prstGeom>
          <a:solidFill>
            <a:srgbClr val="ffe5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分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427640" y="2133720"/>
            <a:ext cx="3600360" cy="3816360"/>
          </a:xfrm>
          <a:prstGeom prst="rect">
            <a:avLst/>
          </a:prstGeom>
          <a:solidFill>
            <a:srgbClr val="e1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⑤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⑥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492360" y="3357720"/>
            <a:ext cx="792360" cy="215640"/>
          </a:xfrm>
          <a:prstGeom prst="rightArrow">
            <a:avLst>
              <a:gd name="adj1" fmla="val 50000"/>
              <a:gd name="adj2" fmla="val 9186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16:56Z</dcterms:modified>
  <cp:revision>8</cp:revision>
  <dc:subject/>
  <dc:title>第一章 儿科疾病的护理</dc:title>
</cp:coreProperties>
</file>