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48D8A-C647-4179-A210-4D6694E99D7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FA65A-1405-406F-9D75-7A368C569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25748-70BF-49ED-ABCF-84518C29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D6E85-4F77-4AF3-8B78-5C0625B84D3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E7E55-F2D0-47F7-BCBB-CB3414213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5DB90-61FE-429D-8888-D86911638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D7BC9-B29A-4362-BCDE-879597D25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E6884-4E39-4E10-8983-BB24348EC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47B5E-B0A8-4935-923E-97D2034F7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26643-6A16-45B7-88FA-6B013E00C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4CFC8-E631-494B-8636-800B3A418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002C9-C596-4770-9FDE-B41EFAE41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F89BB-500A-4552-AEF8-2F625EBAF22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2360" y="2205000"/>
            <a:ext cx="4319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五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康复护理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1044720" y="5013360"/>
            <a:ext cx="3816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一节 体位摆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90923-AF9E-451B-AA4D-EA848BC166F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571320" y="2285640"/>
            <a:ext cx="7816680" cy="3143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预防或减轻痉挛和畸形的出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使躯干和肢体保持在功能状态的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时变换体位有助于预防并发症的发生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6294240" y="40464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体位摆放的目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A482D-F64F-45C4-B044-67EA1911BAA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尽早进行体位摆放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定时变换体位，预防并发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动作轻柔，保证患者安全；选择合适体位，避免半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手、脚底不放置东西，预防足下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及时调整体位，保证患者舒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5736960" y="47772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体位摆放的注意事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2124000" y="2998440"/>
            <a:ext cx="612144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华文新魏"/>
              </a:rPr>
              <a:t>二、常见疾病体位摆放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8C9C9-BD42-478B-ABE4-22F6618A1DD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健侧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2195640" y="2708280"/>
            <a:ext cx="4533840" cy="272556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7152120" y="404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脑损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3BB1F-1DAB-4B81-B862-CBAE764F592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患侧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1908000" y="2781360"/>
            <a:ext cx="4591080" cy="264168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7152120" y="404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脑损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6E8FE-AFCE-4B30-8066-FEB9CFCD375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仰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2124000" y="2492280"/>
            <a:ext cx="4572000" cy="30178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"/>
          <p:cNvSpPr/>
          <p:nvPr/>
        </p:nvSpPr>
        <p:spPr>
          <a:xfrm>
            <a:off x="7152120" y="404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脑损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51416-4003-4689-BA66-53767850F06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仰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2268360" y="2565360"/>
            <a:ext cx="4658040" cy="296712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"/>
          <p:cNvSpPr/>
          <p:nvPr/>
        </p:nvSpPr>
        <p:spPr>
          <a:xfrm>
            <a:off x="7243560" y="404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脊髓损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34421-BE91-4A35-ADF2-C3ACD268A1E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侧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6" name="Picture 4" descr="1"/>
          <p:cNvPicPr/>
          <p:nvPr/>
        </p:nvPicPr>
        <p:blipFill>
          <a:blip r:embed="rId1"/>
          <a:stretch/>
        </p:blipFill>
        <p:spPr>
          <a:xfrm>
            <a:off x="1547640" y="2708280"/>
            <a:ext cx="5905800" cy="304488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5"/>
          <p:cNvSpPr/>
          <p:nvPr/>
        </p:nvSpPr>
        <p:spPr>
          <a:xfrm>
            <a:off x="7243560" y="404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脊髓损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17C6C-F5E6-40F6-82D4-F2AD9163BA4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4608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上肢功能位： 肩关节屈曲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5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外展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0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无内、外旋）；肘关节屈曲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90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；前臂中间位你（无旋前、旋后）；腕关节背伸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°~45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并稍内收（即稍尺侧屈）；各掌指关节和指间关节稍屈曲，由示指至小指屈曲度有规律地递增；拇指在对掌中间位（即在掌平面前方，其掌指关节半屈曲，指间关节轻微屈曲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6543000" y="3333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骨关节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41CE7-CF56-4737-9871-45A33698ADF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539640" y="1989000"/>
            <a:ext cx="781704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下肢功能位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: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下肢髋伸直，无内、外旋，膝稍屈曲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20°~30°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踝处于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90°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中间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ts val="4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6543000" y="3333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骨关节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6920" y="1942920"/>
            <a:ext cx="4248360" cy="46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体位摆放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常见疾病体位摆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252360" y="1268280"/>
          <a:ext cx="8783640" cy="5480280"/>
        </p:xfrm>
        <a:graphic>
          <a:graphicData uri="http://schemas.openxmlformats.org/drawingml/2006/table">
            <a:tbl>
              <a:tblPr/>
              <a:tblGrid>
                <a:gridCol w="1282680"/>
                <a:gridCol w="3757680"/>
                <a:gridCol w="3743280"/>
              </a:tblGrid>
              <a:tr h="47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烧伤部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可能出现的畸形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抗挛缩体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头面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眼睑外翻，小口畸形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戴面具，使用开口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颈前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挛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去枕，颈部轻度伸展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上提、后撤、内收、内旋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肩关节外展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90°~100°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并外旋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肘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并前臂旋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肘关节处于伸展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手背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M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过伸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P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D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，拇指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并内收，掌弓变平（鹰爪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腕关节背伸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20°~30°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MP90°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P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D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均为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0°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，拇指外展及对展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手掌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P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D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，拇指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并内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M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P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D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均为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0°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，拇指外展，腕背伸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20°~30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脊柱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脊柱侧凸，脊柱后凸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脊柱伸展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髋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、内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髋关节中立伸展位：如大腿内侧烧伤，则髋外展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15°~30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膝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膝关节伸直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踝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足趾屈并内翻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踝关节背屈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90°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位，防止跟腱挛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Text Box 53"/>
          <p:cNvSpPr/>
          <p:nvPr/>
        </p:nvSpPr>
        <p:spPr>
          <a:xfrm>
            <a:off x="5324400" y="40464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烧伤患者抗挛缩体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B6B92-E16C-4910-A1F8-01961185554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571320" y="1844280"/>
            <a:ext cx="8103960" cy="4032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  体位、良肢位、功能位、烧伤患者抗挛缩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注意事项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常见疾病体位摆放方法  脑损伤患者的体位摆放（健侧卧位、患侧卧位、仰卧位）；脊髓损伤患者的体位摆放（仰卧位、侧卧位）；骨关节疾病患者的体位摆放（上肢功能位、下肢功能位）；烧伤患者体位摆放（身体各部位抗挛缩体位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64515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课程总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28360" y="1341000"/>
            <a:ext cx="7507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，男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岁，脑梗塞后左侧偏瘫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天，查体：神志清楚，生命体征稳定；左侧肌张力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，肌力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0~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，不能自主翻身及体位移动，根据患者症状体征，早期进行康复护理介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请为患者进行良肢位摆放，并向患者及家属讲解其目的及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16794-9392-4266-A821-1AD67EBC211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684360" y="1628640"/>
            <a:ext cx="8064360" cy="37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陈述体位、良肢位、功能位、抗挛缩体位的定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列举体位摆放的目的、注意事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描述不同疾病体位摆放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能针对不同疾病给予正确的体位摆放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123640" y="2997000"/>
            <a:ext cx="52563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华文新魏"/>
              </a:rPr>
              <a:t>一、体位摆放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21BA6-2AB7-4606-9C05-AFA366D3B79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84360" y="1413000"/>
            <a:ext cx="748008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体位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body position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）是指人体所处的某种姿势或某种位置。在临床上是指根据患者病情，针对护理、治疗或者康复需要所采取的治疗性姿势或身体所摆放的位置。康复护理中常用的体位摆放技术有良肢位、功能位、烧伤患者抗痉挛体位的摆放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6987240" y="333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定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43B4A-7EF1-4C9C-B767-3C7BCE53A8A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618920" y="1917360"/>
            <a:ext cx="5946840" cy="3143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Times New Roman"/>
                <a:ea typeface="华文新魏"/>
              </a:rPr>
              <a:t>良肢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Times New Roman"/>
                <a:ea typeface="华文新魏"/>
              </a:rPr>
              <a:t>功能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Times New Roman"/>
                <a:ea typeface="华文新魏"/>
              </a:rPr>
              <a:t>烧伤患者抗挛缩体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6987240" y="333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常见类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66BB8-717F-42BD-8BDC-9D9066D5D26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23640" y="2349360"/>
            <a:ext cx="8358120" cy="37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良肢位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为预防和减轻痉挛姿势的出现，保护肩关节，早期诱发分离运动而设计的一种治疗体位。在脑损伤患者的康复护理中，良肢位摆放具有防止畸形，减轻症状，使躯干和肢体保持在功能状态的作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1547640" y="1486080"/>
            <a:ext cx="22622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7553520" y="404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良肢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A2DB3-B60C-4321-80EC-90127A9F59C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252000" y="2133360"/>
            <a:ext cx="83581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功能位  指当肌肉、关节功能不能或尚未恢复时，必须使肢体处于发挥最佳功能活动的体位。这种体位就称为功能位，临床上常采用绷带、石膏、矫形支具、系列夹板等固定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403280" y="1196640"/>
            <a:ext cx="1542960" cy="654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7553520" y="404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功能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55664-8A4A-4C9B-AC14-F2E957F345B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96720" y="2420640"/>
            <a:ext cx="835848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烧伤患者的抗挛缩体位  指烧伤患者应保持的正确体位，即应与烧伤部位软组织收缩方面相反的体位。这种体位有助于预防挛缩，因此在卧床期间应始终保持正确的体位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1763280" y="1557360"/>
            <a:ext cx="22338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4521960" y="40464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烧伤患者的抗挛缩体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8:26:32Z</dcterms:modified>
  <cp:revision>1</cp:revision>
  <dc:subject/>
  <dc:title>   第五章  康复护理技术</dc:title>
</cp:coreProperties>
</file>