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91FAB-2A1E-4924-A7E2-EFCBB09B6E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AF90C-172C-4007-B4D2-13745604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ABC95-B175-4454-A053-35A69C2A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AFE59-5D53-4106-A551-14D168B7F4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FDC11-1FF6-4254-88B3-C2BDA5CA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31FD9-1C89-48FD-A687-E7F23BFD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166CB-5A15-4D5C-8AB7-FE058CE9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CF83A-D560-401C-A34A-2BEAF25AC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98D14-E289-4171-B38F-78841BAEB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5F6C2-9DEC-49EE-A58D-D2E8677A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33B39-5534-4535-BB6B-573CD8CF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46A5D-C469-403A-8A5C-92D7DC28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BCE5-F4F3-4870-BCB1-8148EA5835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2214720"/>
            <a:ext cx="50007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七章  常见骨骼肌肉疾病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908000" y="4221000"/>
            <a:ext cx="50007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肩周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A7A4-4BC2-4BA9-94DF-84E4E4265E7C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临 床 表 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42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多见于中老年人，女性多于男性，左侧多于右侧，亦可两侧先后发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肩关节疼痛是突出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患者初期能指出疼痛点，后期随着范围扩大，感觉疼痛来自肱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关节活动受限，三角肌出现萎缩，斜方肌痉挛。肩关节以外展、内旋、外旋受限明显，前屈受限较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E11E-662B-4E80-9998-BEC55456E465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主要功能障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82152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肩关节疼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放射至三角肌附着点下缘甚至可达肘关节，有的反射至后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肩关节活动障碍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关节周围软组织粘连，肌肉萎缩，肩关节活动受限，以外展、内旋受限为主，其次是外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日常生活活动障碍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关节疼痛和活动障碍常严重影响日常生活的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9A09-76E8-4B90-8AFF-D92A18FDDB33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28400" y="1341000"/>
            <a:ext cx="8429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周炎的评估主要侧重于疼痛的评估（可采用视觉类比法）及肩关节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肩关节活动受限而严重影响日常生活活动，可进行综合性评估，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w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功能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Rewe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肩功能评定标准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秀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好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：≤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B678-5923-4369-97F8-3F367B4908F0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0" y="1785960"/>
          <a:ext cx="9144000" cy="35211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352116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评分   项目                                评分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I.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疼痛 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稳定性                              评分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无疼痛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正常：肩部在任何部位都坚强而稳定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活动时轻微疼痛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2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肩部功能基本正常，无半脱位或脱位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在无疼痛基础上活动时疼痛增加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肩部外展，外旋受限，轻度半脱位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活动时中度或严重的疼痛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复发性半脱位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5      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严重疼痛，需依靠药物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复发性脱位  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   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68D0-F08D-4109-925B-C8CD9E41B3F5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87520" y="1109520"/>
          <a:ext cx="8099280" cy="5265720"/>
        </p:xfrm>
        <a:graphic>
          <a:graphicData uri="http://schemas.openxmlformats.org/drawingml/2006/table">
            <a:tbl>
              <a:tblPr/>
              <a:tblGrid>
                <a:gridCol w="8099280"/>
              </a:tblGrid>
              <a:tr h="526572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 评分     项目                                 评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Ⅲ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运动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Ⅴ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肌力（与对侧肩部对比，可用徒手，拉力器或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Cybex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ⅰ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外展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70°        15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正常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前屈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20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0°        12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良好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9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19°          7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一般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0°           5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差  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﹤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0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ⅲ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外旋（上臂放在一侧）                  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80°                 5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0°                 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  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﹤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ⅳ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内旋 拇指触至肩胛角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骶尾部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股骨粗隆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股骨粗隆以下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B7F3-521C-48F9-A404-F121176D5C71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79280" y="1413000"/>
          <a:ext cx="8686800" cy="484668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484668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                               评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Ⅳ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功能  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ⅰ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正常功能   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以进行所有的日常生活和体育娱乐活动；可提重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12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以上；可游泳、打网球和投掷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中等程度受限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以进行一般的日常生活活动；可游泳和提重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8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；可打网球但打垒球受限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ⅲ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 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头上方的工作中度受限；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提重中度受限﹤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4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；田径运动中度受限；不能投掷和打网球，生活自理能力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如洗脸、梳头等活动，有时需要帮助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ⅳ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明显功能受限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不能进行通常的工作和提物；不能参加体育活动； 没有帮助不能照顾自己的日常生活活动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ⅴ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上肢完全残疾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C8E4-10EF-4845-996A-E97564F0AB71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原则及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56760" y="1928520"/>
            <a:ext cx="85726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原则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针对肩周炎的不同时期，不同症状的严重程度采取相应的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目标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除疼痛，增强肌肉力量，提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水平，消除恢复期残余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圆角矩形 3"/>
          <p:cNvSpPr/>
          <p:nvPr/>
        </p:nvSpPr>
        <p:spPr>
          <a:xfrm>
            <a:off x="285840" y="1428840"/>
            <a:ext cx="8215200" cy="1428840"/>
          </a:xfrm>
          <a:prstGeom prst="roundRect">
            <a:avLst>
              <a:gd name="adj" fmla="val 12264"/>
            </a:avLst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患者，王某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岁，右肩部疼痛伴活动受限半年，四天前应受凉感肩部疼痛症状加重，活动受限亦加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285840" y="3214800"/>
            <a:ext cx="8215200" cy="1214280"/>
          </a:xfrm>
          <a:prstGeom prst="rect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体检发现右肩上举、外展和外旋受限。诊断为肩关节周围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剪去单角的矩形 6"/>
          <p:cNvSpPr/>
          <p:nvPr/>
        </p:nvSpPr>
        <p:spPr>
          <a:xfrm>
            <a:off x="285840" y="4929120"/>
            <a:ext cx="8215200" cy="1143000"/>
          </a:xfrm>
          <a:prstGeom prst="pie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问题与思考： ①该患者应如何保护肩关节？②对此患者如何进行康复护理指导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3A4C-4B9B-4091-8313-A10798205A9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53"/>
          <p:cNvSpPr/>
          <p:nvPr/>
        </p:nvSpPr>
        <p:spPr>
          <a:xfrm>
            <a:off x="3500280" y="1643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圆角矩形 55"/>
          <p:cNvSpPr/>
          <p:nvPr/>
        </p:nvSpPr>
        <p:spPr>
          <a:xfrm>
            <a:off x="4429080" y="1571760"/>
            <a:ext cx="3786120" cy="3857400"/>
          </a:xfrm>
          <a:custGeom>
            <a:avLst/>
            <a:gdLst>
              <a:gd name="textAreaLeft" fmla="*/ 184680 w 3786120"/>
              <a:gd name="textAreaRight" fmla="*/ 3601440 w 3786120"/>
              <a:gd name="textAreaTop" fmla="*/ 184680 h 3857400"/>
              <a:gd name="textAreaBottom" fmla="*/ 3672720 h 3857400"/>
            </a:gdLst>
            <a:ahLst/>
            <a:rect l="textAreaLeft" t="textAreaTop" r="textAreaRight" b="textAreaBottom"/>
            <a:pathLst>
              <a:path w="21600" h="22007">
                <a:moveTo>
                  <a:pt x="3600" y="0"/>
                </a:moveTo>
                <a:arcTo wR="3600" hR="3600" stAng="16200000" swAng="-5400000"/>
                <a:lnTo>
                  <a:pt x="0" y="18407"/>
                </a:lnTo>
                <a:arcTo wR="3600" hR="3600" stAng="10800000" swAng="-5400000"/>
                <a:lnTo>
                  <a:pt x="18000" y="220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明显时需药物控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口服类：消炎镇痛、缓解肌肉痉挛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外用类：止痛喷雾剂、红花油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药：活血化瘀、通经活络、散寒祛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183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184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5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7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0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191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192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5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8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199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200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1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2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3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6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207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208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1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4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215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216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9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223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224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7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0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1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232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233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5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6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9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C219-0FEC-4DC5-AC9D-78E26CD63EE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AutoShape 53"/>
          <p:cNvSpPr/>
          <p:nvPr/>
        </p:nvSpPr>
        <p:spPr>
          <a:xfrm>
            <a:off x="3500280" y="24289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圆角矩形 55"/>
          <p:cNvSpPr/>
          <p:nvPr/>
        </p:nvSpPr>
        <p:spPr>
          <a:xfrm>
            <a:off x="4429080" y="1357200"/>
            <a:ext cx="3643200" cy="3571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改善萎缩肌肉肌力，松解局部粘连，扩大肩部活动范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采用主动运动，包括肩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和增强肩胛带肌力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5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246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247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0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3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254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255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7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8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1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262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263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4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5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6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9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270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271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2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3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4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6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7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278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279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0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2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5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286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287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0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3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4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295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296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9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2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57680" y="157140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3480" y="1731960"/>
            <a:ext cx="688680" cy="593280"/>
            <a:chOff x="1833480" y="173196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38880" y="174168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3480" y="17319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3440" y="176688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2520" y="1714680"/>
            <a:ext cx="427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3480" y="249408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2000160" y="2500200"/>
            <a:ext cx="357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17640" y="3262320"/>
            <a:ext cx="687240" cy="593280"/>
            <a:chOff x="1817640" y="326232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23040" y="32720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17640" y="326232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57600" y="329724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2000160" y="3286080"/>
            <a:ext cx="352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17640" y="402444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28880" y="4000680"/>
            <a:ext cx="428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70040" y="229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70040" y="3086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70040" y="3878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819440" y="485604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928880" y="4857840"/>
            <a:ext cx="463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0"/>
          <p:cNvSpPr/>
          <p:nvPr/>
        </p:nvSpPr>
        <p:spPr>
          <a:xfrm>
            <a:off x="2571840" y="4710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2571840" y="5429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0DA9-6EBB-4E2A-B244-E8D70D4F574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AutoShape 53"/>
          <p:cNvSpPr/>
          <p:nvPr/>
        </p:nvSpPr>
        <p:spPr>
          <a:xfrm>
            <a:off x="3429000" y="24289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圆角矩形 55"/>
          <p:cNvSpPr/>
          <p:nvPr/>
        </p:nvSpPr>
        <p:spPr>
          <a:xfrm>
            <a:off x="4214880" y="1285920"/>
            <a:ext cx="4857840" cy="5214960"/>
          </a:xfrm>
          <a:custGeom>
            <a:avLst/>
            <a:gdLst>
              <a:gd name="textAreaLeft" fmla="*/ 236880 w 4857840"/>
              <a:gd name="textAreaRight" fmla="*/ 4620960 w 4857840"/>
              <a:gd name="textAreaTop" fmla="*/ 236880 h 5214960"/>
              <a:gd name="textAreaBottom" fmla="*/ 4978080 h 5214960"/>
            </a:gdLst>
            <a:ahLst/>
            <a:rect l="textAreaLeft" t="textAreaTop" r="textAreaRight" b="textAreaBottom"/>
            <a:pathLst>
              <a:path w="21600" h="23188">
                <a:moveTo>
                  <a:pt x="3600" y="0"/>
                </a:moveTo>
                <a:arcTo wR="3600" hR="3600" stAng="16200000" swAng="-5400000"/>
                <a:lnTo>
                  <a:pt x="0" y="19588"/>
                </a:lnTo>
                <a:arcTo wR="3600" hR="3600" stAng="10800000" swAng="-5400000"/>
                <a:lnTo>
                  <a:pt x="18000" y="23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具体训练方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下垂摆动练习：躯体前倾位，使患臂自然下垂，做前后、内外绕臂摆动练习，幅度可逐渐增大。然后手持重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重复上述方法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。亦可在仰卧位下进行，即将患肩垂于床外，然后作放松摆动或提物摆动练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8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309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310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1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2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13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16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317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318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9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1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4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325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326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7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9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2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333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334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5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6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7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0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341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342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3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4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5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8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349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350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1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2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3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4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6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57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358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359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2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5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D35A-7523-4AFA-BCD1-221B58E3126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AutoShape 53"/>
          <p:cNvSpPr/>
          <p:nvPr/>
        </p:nvSpPr>
        <p:spPr>
          <a:xfrm>
            <a:off x="3500280" y="2357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圆角矩形 55"/>
          <p:cNvSpPr/>
          <p:nvPr/>
        </p:nvSpPr>
        <p:spPr>
          <a:xfrm>
            <a:off x="4286160" y="1143000"/>
            <a:ext cx="4714920" cy="5357880"/>
          </a:xfrm>
          <a:custGeom>
            <a:avLst/>
            <a:gdLst>
              <a:gd name="textAreaLeft" fmla="*/ 230040 w 4714920"/>
              <a:gd name="textAreaRight" fmla="*/ 4484880 w 4714920"/>
              <a:gd name="textAreaTop" fmla="*/ 230040 h 5357880"/>
              <a:gd name="textAreaBottom" fmla="*/ 5127840 h 5357880"/>
            </a:gdLst>
            <a:ahLst/>
            <a:rect l="textAreaLeft" t="textAreaTop" r="textAreaRight" b="textAreaBottom"/>
            <a:pathLst>
              <a:path w="21600" h="24545">
                <a:moveTo>
                  <a:pt x="3600" y="0"/>
                </a:moveTo>
                <a:arcTo wR="3600" hR="3600" stAng="16200000" swAng="-5400000"/>
                <a:lnTo>
                  <a:pt x="0" y="20945"/>
                </a:lnTo>
                <a:arcTo wR="3600" hR="3600" stAng="10800000" swAng="-5400000"/>
                <a:lnTo>
                  <a:pt x="18000" y="245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具体训练方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上肢无痛或轻痛范围内的功能练：在无痛或轻痛（可承受）范围内作牵张练习，包括用体操棒或吊环等，用健侧带动患侧的各轴位练习。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。以活动后不使疼痛加重为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372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373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6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8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9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380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381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4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5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6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87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388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389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0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5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396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397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404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405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1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412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413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0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421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422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5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8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48ED-2A63-44CE-9E99-851377F2902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AutoShape 53"/>
          <p:cNvSpPr/>
          <p:nvPr/>
        </p:nvSpPr>
        <p:spPr>
          <a:xfrm>
            <a:off x="3500280" y="31431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" name="圆角矩形 55"/>
          <p:cNvSpPr/>
          <p:nvPr/>
        </p:nvSpPr>
        <p:spPr>
          <a:xfrm>
            <a:off x="4286160" y="1500120"/>
            <a:ext cx="42148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期宜采用轻手法，待疼痛减轻后可加主动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的：解除痉挛，消除水肿，促进血液循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法：推法、拿法、揉法、滚法、弹拨法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4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435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436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9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2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443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444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7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0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451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452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5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8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459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460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3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6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467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468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1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4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475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476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7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8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9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2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3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484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485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8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1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2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8309-1ACB-41DC-A23B-4077FE2FF9D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AutoShape 53"/>
          <p:cNvSpPr/>
          <p:nvPr/>
        </p:nvSpPr>
        <p:spPr>
          <a:xfrm>
            <a:off x="3500280" y="2857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5" name="圆角矩形 55"/>
          <p:cNvSpPr/>
          <p:nvPr/>
        </p:nvSpPr>
        <p:spPr>
          <a:xfrm>
            <a:off x="4286160" y="1857240"/>
            <a:ext cx="4572000" cy="2500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冻结期和恢复期可采用稍重手法，并结合被动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的：缓解疼痛，松解粘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法：摇法、抖法、分筋法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7" name="Group 4"/>
          <p:cNvGrpSpPr/>
          <p:nvPr/>
        </p:nvGrpSpPr>
        <p:grpSpPr>
          <a:xfrm>
            <a:off x="428760" y="1143000"/>
            <a:ext cx="2879640" cy="665280"/>
            <a:chOff x="428760" y="1143000"/>
            <a:chExt cx="2879640" cy="665280"/>
          </a:xfrm>
        </p:grpSpPr>
        <p:grpSp>
          <p:nvGrpSpPr>
            <p:cNvPr id="498" name="Group 5"/>
            <p:cNvGrpSpPr/>
            <p:nvPr/>
          </p:nvGrpSpPr>
          <p:grpSpPr>
            <a:xfrm>
              <a:off x="428760" y="1143000"/>
              <a:ext cx="762120" cy="665280"/>
              <a:chOff x="428760" y="1143000"/>
              <a:chExt cx="762120" cy="665280"/>
            </a:xfrm>
          </p:grpSpPr>
          <p:sp>
            <p:nvSpPr>
              <p:cNvPr id="499" name="AutoShape 6"/>
              <p:cNvSpPr/>
              <p:nvPr/>
            </p:nvSpPr>
            <p:spPr>
              <a:xfrm>
                <a:off x="434880" y="11541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0" name="AutoShape 7"/>
              <p:cNvSpPr/>
              <p:nvPr/>
            </p:nvSpPr>
            <p:spPr>
              <a:xfrm>
                <a:off x="428760" y="114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" name="AutoShape 8"/>
              <p:cNvSpPr/>
              <p:nvPr/>
            </p:nvSpPr>
            <p:spPr>
              <a:xfrm>
                <a:off x="473040" y="11826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" name="Line 9"/>
            <p:cNvSpPr/>
            <p:nvPr/>
          </p:nvSpPr>
          <p:spPr>
            <a:xfrm flipV="1">
              <a:off x="1005120" y="17373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" name="Text Box 10"/>
            <p:cNvSpPr/>
            <p:nvPr/>
          </p:nvSpPr>
          <p:spPr>
            <a:xfrm>
              <a:off x="1771200" y="12142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4" name="Text Box 11"/>
            <p:cNvSpPr/>
            <p:nvPr/>
          </p:nvSpPr>
          <p:spPr>
            <a:xfrm>
              <a:off x="613080" y="119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5" name="Group 12"/>
          <p:cNvGrpSpPr/>
          <p:nvPr/>
        </p:nvGrpSpPr>
        <p:grpSpPr>
          <a:xfrm>
            <a:off x="428760" y="1857240"/>
            <a:ext cx="2879640" cy="665280"/>
            <a:chOff x="428760" y="1857240"/>
            <a:chExt cx="2879640" cy="665280"/>
          </a:xfrm>
        </p:grpSpPr>
        <p:grpSp>
          <p:nvGrpSpPr>
            <p:cNvPr id="506" name="Group 13"/>
            <p:cNvGrpSpPr/>
            <p:nvPr/>
          </p:nvGrpSpPr>
          <p:grpSpPr>
            <a:xfrm>
              <a:off x="428760" y="1857240"/>
              <a:ext cx="762120" cy="665280"/>
              <a:chOff x="428760" y="1857240"/>
              <a:chExt cx="762120" cy="665280"/>
            </a:xfrm>
          </p:grpSpPr>
          <p:sp>
            <p:nvSpPr>
              <p:cNvPr id="507" name="AutoShape 14"/>
              <p:cNvSpPr/>
              <p:nvPr/>
            </p:nvSpPr>
            <p:spPr>
              <a:xfrm>
                <a:off x="434880" y="1868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AutoShape 15"/>
              <p:cNvSpPr/>
              <p:nvPr/>
            </p:nvSpPr>
            <p:spPr>
              <a:xfrm>
                <a:off x="428760" y="1857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AutoShape 16"/>
              <p:cNvSpPr/>
              <p:nvPr/>
            </p:nvSpPr>
            <p:spPr>
              <a:xfrm>
                <a:off x="473040" y="1896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0" name="Line 17"/>
            <p:cNvSpPr/>
            <p:nvPr/>
          </p:nvSpPr>
          <p:spPr>
            <a:xfrm flipV="1">
              <a:off x="1005120" y="2451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" name="Text Box 18"/>
            <p:cNvSpPr/>
            <p:nvPr/>
          </p:nvSpPr>
          <p:spPr>
            <a:xfrm>
              <a:off x="1771200" y="1908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" name="Text Box 19"/>
            <p:cNvSpPr/>
            <p:nvPr/>
          </p:nvSpPr>
          <p:spPr>
            <a:xfrm>
              <a:off x="613080" y="1908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3" name="Group 20"/>
          <p:cNvGrpSpPr/>
          <p:nvPr/>
        </p:nvGrpSpPr>
        <p:grpSpPr>
          <a:xfrm>
            <a:off x="428760" y="2571840"/>
            <a:ext cx="2879640" cy="664920"/>
            <a:chOff x="428760" y="2571840"/>
            <a:chExt cx="2879640" cy="664920"/>
          </a:xfrm>
        </p:grpSpPr>
        <p:grpSp>
          <p:nvGrpSpPr>
            <p:cNvPr id="514" name="Group 21"/>
            <p:cNvGrpSpPr/>
            <p:nvPr/>
          </p:nvGrpSpPr>
          <p:grpSpPr>
            <a:xfrm>
              <a:off x="428760" y="2571840"/>
              <a:ext cx="762120" cy="664920"/>
              <a:chOff x="428760" y="2571840"/>
              <a:chExt cx="762120" cy="664920"/>
            </a:xfrm>
          </p:grpSpPr>
          <p:sp>
            <p:nvSpPr>
              <p:cNvPr id="515" name="AutoShape 22"/>
              <p:cNvSpPr/>
              <p:nvPr/>
            </p:nvSpPr>
            <p:spPr>
              <a:xfrm>
                <a:off x="434880" y="2583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AutoShape 23"/>
              <p:cNvSpPr/>
              <p:nvPr/>
            </p:nvSpPr>
            <p:spPr>
              <a:xfrm>
                <a:off x="428760" y="2571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" name="AutoShape 24"/>
              <p:cNvSpPr/>
              <p:nvPr/>
            </p:nvSpPr>
            <p:spPr>
              <a:xfrm>
                <a:off x="473040" y="2611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8" name="Line 25"/>
            <p:cNvSpPr/>
            <p:nvPr/>
          </p:nvSpPr>
          <p:spPr>
            <a:xfrm flipV="1">
              <a:off x="1005120" y="3165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9" name="Text Box 26"/>
            <p:cNvSpPr/>
            <p:nvPr/>
          </p:nvSpPr>
          <p:spPr>
            <a:xfrm>
              <a:off x="1771200" y="2642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0" name="Text Box 27"/>
            <p:cNvSpPr/>
            <p:nvPr/>
          </p:nvSpPr>
          <p:spPr>
            <a:xfrm>
              <a:off x="613080" y="2622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1" name="Group 28"/>
          <p:cNvGrpSpPr/>
          <p:nvPr/>
        </p:nvGrpSpPr>
        <p:grpSpPr>
          <a:xfrm>
            <a:off x="428760" y="3286080"/>
            <a:ext cx="2879640" cy="665280"/>
            <a:chOff x="428760" y="3286080"/>
            <a:chExt cx="2879640" cy="665280"/>
          </a:xfrm>
        </p:grpSpPr>
        <p:grpSp>
          <p:nvGrpSpPr>
            <p:cNvPr id="522" name="Group 29"/>
            <p:cNvGrpSpPr/>
            <p:nvPr/>
          </p:nvGrpSpPr>
          <p:grpSpPr>
            <a:xfrm>
              <a:off x="428760" y="3286080"/>
              <a:ext cx="762120" cy="665280"/>
              <a:chOff x="428760" y="3286080"/>
              <a:chExt cx="762120" cy="665280"/>
            </a:xfrm>
          </p:grpSpPr>
          <p:sp>
            <p:nvSpPr>
              <p:cNvPr id="523" name="AutoShape 30"/>
              <p:cNvSpPr/>
              <p:nvPr/>
            </p:nvSpPr>
            <p:spPr>
              <a:xfrm>
                <a:off x="434880" y="3297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4" name="AutoShape 31"/>
              <p:cNvSpPr/>
              <p:nvPr/>
            </p:nvSpPr>
            <p:spPr>
              <a:xfrm>
                <a:off x="428760" y="3286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5" name="AutoShape 32"/>
              <p:cNvSpPr/>
              <p:nvPr/>
            </p:nvSpPr>
            <p:spPr>
              <a:xfrm>
                <a:off x="473040" y="3325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6" name="Line 33"/>
            <p:cNvSpPr/>
            <p:nvPr/>
          </p:nvSpPr>
          <p:spPr>
            <a:xfrm flipV="1">
              <a:off x="1005120" y="3880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7" name="Text Box 34"/>
            <p:cNvSpPr/>
            <p:nvPr/>
          </p:nvSpPr>
          <p:spPr>
            <a:xfrm>
              <a:off x="1474920" y="33368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8" name="Text Box 35"/>
            <p:cNvSpPr/>
            <p:nvPr/>
          </p:nvSpPr>
          <p:spPr>
            <a:xfrm>
              <a:off x="613080" y="3336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9" name="Group 36"/>
          <p:cNvGrpSpPr/>
          <p:nvPr/>
        </p:nvGrpSpPr>
        <p:grpSpPr>
          <a:xfrm>
            <a:off x="428760" y="4000680"/>
            <a:ext cx="2879640" cy="664920"/>
            <a:chOff x="428760" y="4000680"/>
            <a:chExt cx="2879640" cy="664920"/>
          </a:xfrm>
        </p:grpSpPr>
        <p:grpSp>
          <p:nvGrpSpPr>
            <p:cNvPr id="530" name="Group 37"/>
            <p:cNvGrpSpPr/>
            <p:nvPr/>
          </p:nvGrpSpPr>
          <p:grpSpPr>
            <a:xfrm>
              <a:off x="428760" y="4000680"/>
              <a:ext cx="762120" cy="664920"/>
              <a:chOff x="428760" y="4000680"/>
              <a:chExt cx="762120" cy="664920"/>
            </a:xfrm>
          </p:grpSpPr>
          <p:sp>
            <p:nvSpPr>
              <p:cNvPr id="531" name="AutoShape 38"/>
              <p:cNvSpPr/>
              <p:nvPr/>
            </p:nvSpPr>
            <p:spPr>
              <a:xfrm>
                <a:off x="434880" y="4011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AutoShape 39"/>
              <p:cNvSpPr/>
              <p:nvPr/>
            </p:nvSpPr>
            <p:spPr>
              <a:xfrm>
                <a:off x="428760" y="4000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3" name="AutoShape 40"/>
              <p:cNvSpPr/>
              <p:nvPr/>
            </p:nvSpPr>
            <p:spPr>
              <a:xfrm>
                <a:off x="473040" y="4040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4" name="Line 41"/>
            <p:cNvSpPr/>
            <p:nvPr/>
          </p:nvSpPr>
          <p:spPr>
            <a:xfrm flipV="1">
              <a:off x="1005120" y="4594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5" name="Text Box 42"/>
            <p:cNvSpPr/>
            <p:nvPr/>
          </p:nvSpPr>
          <p:spPr>
            <a:xfrm>
              <a:off x="1474920" y="40716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6" name="Text Box 43"/>
            <p:cNvSpPr/>
            <p:nvPr/>
          </p:nvSpPr>
          <p:spPr>
            <a:xfrm>
              <a:off x="613080" y="40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7" name="Group 44"/>
          <p:cNvGrpSpPr/>
          <p:nvPr/>
        </p:nvGrpSpPr>
        <p:grpSpPr>
          <a:xfrm>
            <a:off x="428760" y="4714920"/>
            <a:ext cx="2879640" cy="665280"/>
            <a:chOff x="428760" y="4714920"/>
            <a:chExt cx="2879640" cy="665280"/>
          </a:xfrm>
        </p:grpSpPr>
        <p:grpSp>
          <p:nvGrpSpPr>
            <p:cNvPr id="538" name="Group 45"/>
            <p:cNvGrpSpPr/>
            <p:nvPr/>
          </p:nvGrpSpPr>
          <p:grpSpPr>
            <a:xfrm>
              <a:off x="428760" y="4714920"/>
              <a:ext cx="762120" cy="665280"/>
              <a:chOff x="428760" y="4714920"/>
              <a:chExt cx="762120" cy="665280"/>
            </a:xfrm>
          </p:grpSpPr>
          <p:sp>
            <p:nvSpPr>
              <p:cNvPr id="539" name="AutoShape 46"/>
              <p:cNvSpPr/>
              <p:nvPr/>
            </p:nvSpPr>
            <p:spPr>
              <a:xfrm>
                <a:off x="434880" y="4726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0" name="AutoShape 47"/>
              <p:cNvSpPr/>
              <p:nvPr/>
            </p:nvSpPr>
            <p:spPr>
              <a:xfrm>
                <a:off x="428760" y="4714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1" name="AutoShape 48"/>
              <p:cNvSpPr/>
              <p:nvPr/>
            </p:nvSpPr>
            <p:spPr>
              <a:xfrm>
                <a:off x="473040" y="4754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2" name="Line 49"/>
            <p:cNvSpPr/>
            <p:nvPr/>
          </p:nvSpPr>
          <p:spPr>
            <a:xfrm flipV="1">
              <a:off x="1005120" y="5309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Text Box 50"/>
            <p:cNvSpPr/>
            <p:nvPr/>
          </p:nvSpPr>
          <p:spPr>
            <a:xfrm>
              <a:off x="1845000" y="47656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4" name="Text Box 51"/>
            <p:cNvSpPr/>
            <p:nvPr/>
          </p:nvSpPr>
          <p:spPr>
            <a:xfrm>
              <a:off x="613080" y="4765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45" name="矩形 55"/>
          <p:cNvSpPr/>
          <p:nvPr/>
        </p:nvSpPr>
        <p:spPr>
          <a:xfrm>
            <a:off x="1500120" y="33354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46" name="Group 36"/>
          <p:cNvGrpSpPr/>
          <p:nvPr/>
        </p:nvGrpSpPr>
        <p:grpSpPr>
          <a:xfrm>
            <a:off x="428760" y="5478480"/>
            <a:ext cx="2879640" cy="665280"/>
            <a:chOff x="428760" y="5478480"/>
            <a:chExt cx="2879640" cy="665280"/>
          </a:xfrm>
        </p:grpSpPr>
        <p:grpSp>
          <p:nvGrpSpPr>
            <p:cNvPr id="547" name="Group 37"/>
            <p:cNvGrpSpPr/>
            <p:nvPr/>
          </p:nvGrpSpPr>
          <p:grpSpPr>
            <a:xfrm>
              <a:off x="428760" y="5478480"/>
              <a:ext cx="762120" cy="665280"/>
              <a:chOff x="428760" y="5478480"/>
              <a:chExt cx="762120" cy="665280"/>
            </a:xfrm>
          </p:grpSpPr>
          <p:sp>
            <p:nvSpPr>
              <p:cNvPr id="548" name="AutoShape 38"/>
              <p:cNvSpPr/>
              <p:nvPr/>
            </p:nvSpPr>
            <p:spPr>
              <a:xfrm>
                <a:off x="434880" y="54896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9" name="AutoShape 39"/>
              <p:cNvSpPr/>
              <p:nvPr/>
            </p:nvSpPr>
            <p:spPr>
              <a:xfrm>
                <a:off x="428760" y="54784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0" name="AutoShape 40"/>
              <p:cNvSpPr/>
              <p:nvPr/>
            </p:nvSpPr>
            <p:spPr>
              <a:xfrm>
                <a:off x="473040" y="55180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1" name="Line 41"/>
            <p:cNvSpPr/>
            <p:nvPr/>
          </p:nvSpPr>
          <p:spPr>
            <a:xfrm flipV="1">
              <a:off x="1005120" y="60728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Text Box 42"/>
            <p:cNvSpPr/>
            <p:nvPr/>
          </p:nvSpPr>
          <p:spPr>
            <a:xfrm>
              <a:off x="1474920" y="55497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3" name="Text Box 43"/>
            <p:cNvSpPr/>
            <p:nvPr/>
          </p:nvSpPr>
          <p:spPr>
            <a:xfrm>
              <a:off x="614160" y="552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54" name="矩形 56"/>
          <p:cNvSpPr/>
          <p:nvPr/>
        </p:nvSpPr>
        <p:spPr>
          <a:xfrm>
            <a:off x="1461960" y="54673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矩形 56"/>
          <p:cNvSpPr/>
          <p:nvPr/>
        </p:nvSpPr>
        <p:spPr>
          <a:xfrm>
            <a:off x="1500120" y="40006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83FE-AD73-4FC4-913A-FA4EEFC0636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圆角矩形 55"/>
          <p:cNvSpPr/>
          <p:nvPr/>
        </p:nvSpPr>
        <p:spPr>
          <a:xfrm>
            <a:off x="4286160" y="2714760"/>
            <a:ext cx="4286520" cy="2357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用：缓解肌肉痉挛，止痛消炎，增强组织的新陈代谢，减轻疼痛，改善关节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AutoShape 53"/>
          <p:cNvSpPr/>
          <p:nvPr/>
        </p:nvSpPr>
        <p:spPr>
          <a:xfrm>
            <a:off x="3429000" y="385776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60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561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562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3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4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5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6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8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569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570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1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3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4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6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577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578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9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0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1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2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84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585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586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7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8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9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0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1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2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593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594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5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6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7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8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9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0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601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602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3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4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5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7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08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09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610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611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2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3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4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5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17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8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9820-F5BD-47BD-901D-ACB31F9F928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圆角矩形 55"/>
          <p:cNvSpPr/>
          <p:nvPr/>
        </p:nvSpPr>
        <p:spPr>
          <a:xfrm>
            <a:off x="4286160" y="2214720"/>
            <a:ext cx="4643640" cy="3071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超短波疗法、微波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超声波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调制中频电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红外线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蜡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AutoShape 53"/>
          <p:cNvSpPr/>
          <p:nvPr/>
        </p:nvSpPr>
        <p:spPr>
          <a:xfrm>
            <a:off x="3429000" y="385776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23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624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625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632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633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640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641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47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648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649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0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1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52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3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4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55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656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657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8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9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60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1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2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63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664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665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6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7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68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9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0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71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72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673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674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5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6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77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8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9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80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1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5736-7ABC-4524-84C8-D208FA7A041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3" name="圆角矩形 55"/>
          <p:cNvSpPr/>
          <p:nvPr/>
        </p:nvSpPr>
        <p:spPr>
          <a:xfrm>
            <a:off x="4286160" y="2357280"/>
            <a:ext cx="4429080" cy="2786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针刺肩贞、肩井、曲池，合谷等穴位，可以减轻疼痛，缓解肌肉痉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临床常与推拿配合使用，有通经活络，活血化瘀之功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AutoShape 53"/>
          <p:cNvSpPr/>
          <p:nvPr/>
        </p:nvSpPr>
        <p:spPr>
          <a:xfrm>
            <a:off x="3429000" y="450072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86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687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688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9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0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1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2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3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94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695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696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7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8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9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0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1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02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703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704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6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7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8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9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0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711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712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3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4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5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6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7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8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719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720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1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2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3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4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5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26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727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728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9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0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1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2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3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34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35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736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737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8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9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0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1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2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43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4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B92C-A876-4958-84C8-A5BAFD1229E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AutoShape 53"/>
          <p:cNvSpPr/>
          <p:nvPr/>
        </p:nvSpPr>
        <p:spPr>
          <a:xfrm>
            <a:off x="3643200" y="5143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圆角矩形 55"/>
          <p:cNvSpPr/>
          <p:nvPr/>
        </p:nvSpPr>
        <p:spPr>
          <a:xfrm>
            <a:off x="4532400" y="2962440"/>
            <a:ext cx="4000320" cy="3500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保持良肢位，减轻对患肢的挤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维持足够关节活动范围和肌力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减轻时，尽量使用患侧进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技能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49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750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751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2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3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4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5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6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57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758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759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0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1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2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3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4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65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766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767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8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9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0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1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2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3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774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775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6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7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8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9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0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1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782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783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4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5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6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7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8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9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790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791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2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3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94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5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6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97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98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799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800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1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2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3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4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5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06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7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5CCA-F948-4920-8DEA-9232DB6ED77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9" name="AutoShape 53"/>
          <p:cNvSpPr/>
          <p:nvPr/>
        </p:nvSpPr>
        <p:spPr>
          <a:xfrm>
            <a:off x="3500280" y="59292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0" name="圆角矩形 55"/>
          <p:cNvSpPr/>
          <p:nvPr/>
        </p:nvSpPr>
        <p:spPr>
          <a:xfrm>
            <a:off x="4643280" y="2638440"/>
            <a:ext cx="3714840" cy="3929040"/>
          </a:xfrm>
          <a:custGeom>
            <a:avLst/>
            <a:gdLst>
              <a:gd name="textAreaLeft" fmla="*/ 181080 w 3714840"/>
              <a:gd name="textAreaRight" fmla="*/ 3533760 w 3714840"/>
              <a:gd name="textAreaTop" fmla="*/ 181080 h 3929040"/>
              <a:gd name="textAreaBottom" fmla="*/ 3747960 h 3929040"/>
            </a:gdLst>
            <a:ahLst/>
            <a:rect l="textAreaLeft" t="textAreaTop" r="textAreaRight" b="textAreaBottom"/>
            <a:pathLst>
              <a:path w="21600" h="22845">
                <a:moveTo>
                  <a:pt x="3600" y="0"/>
                </a:moveTo>
                <a:arcTo wR="3600" hR="3600" stAng="16200000" swAng="-5400000"/>
                <a:lnTo>
                  <a:pt x="0" y="19245"/>
                </a:lnTo>
                <a:arcTo wR="3600" hR="3600" stAng="10800000" swAng="-5400000"/>
                <a:lnTo>
                  <a:pt x="18000" y="22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理想体位是仰卧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健侧卧位时在胸前放一普通薄枕，患肢置于其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俯卧位及患侧卧位减少对患肩的挤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12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813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814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5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6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17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8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9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0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821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822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3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5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6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7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8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829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830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1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2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33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4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5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36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837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838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9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0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1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2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3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44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845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846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7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8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9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0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1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52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853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854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6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57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8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9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60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61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862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863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4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5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66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7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8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69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0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E47B-DD18-4C66-8788-91F28102050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2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73" name="Group 4"/>
          <p:cNvGrpSpPr/>
          <p:nvPr/>
        </p:nvGrpSpPr>
        <p:grpSpPr>
          <a:xfrm>
            <a:off x="714240" y="2500200"/>
            <a:ext cx="2879640" cy="665280"/>
            <a:chOff x="714240" y="2500200"/>
            <a:chExt cx="2879640" cy="665280"/>
          </a:xfrm>
        </p:grpSpPr>
        <p:grpSp>
          <p:nvGrpSpPr>
            <p:cNvPr id="874" name="Group 5"/>
            <p:cNvGrpSpPr/>
            <p:nvPr/>
          </p:nvGrpSpPr>
          <p:grpSpPr>
            <a:xfrm>
              <a:off x="714240" y="2500200"/>
              <a:ext cx="762120" cy="665280"/>
              <a:chOff x="714240" y="2500200"/>
              <a:chExt cx="762120" cy="665280"/>
            </a:xfrm>
          </p:grpSpPr>
          <p:sp>
            <p:nvSpPr>
              <p:cNvPr id="875" name="AutoShape 6"/>
              <p:cNvSpPr/>
              <p:nvPr/>
            </p:nvSpPr>
            <p:spPr>
              <a:xfrm>
                <a:off x="720360" y="2511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6" name="AutoShape 7"/>
              <p:cNvSpPr/>
              <p:nvPr/>
            </p:nvSpPr>
            <p:spPr>
              <a:xfrm>
                <a:off x="714240" y="2500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7" name="AutoShape 8"/>
              <p:cNvSpPr/>
              <p:nvPr/>
            </p:nvSpPr>
            <p:spPr>
              <a:xfrm>
                <a:off x="758520" y="2539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78" name="Line 9"/>
            <p:cNvSpPr/>
            <p:nvPr/>
          </p:nvSpPr>
          <p:spPr>
            <a:xfrm flipV="1">
              <a:off x="1290600" y="3094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9" name="Text Box 10"/>
            <p:cNvSpPr/>
            <p:nvPr/>
          </p:nvSpPr>
          <p:spPr>
            <a:xfrm>
              <a:off x="1867680" y="2571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0" name="Text Box 11"/>
            <p:cNvSpPr/>
            <p:nvPr/>
          </p:nvSpPr>
          <p:spPr>
            <a:xfrm>
              <a:off x="898560" y="255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81" name="Group 12"/>
          <p:cNvGrpSpPr/>
          <p:nvPr/>
        </p:nvGrpSpPr>
        <p:grpSpPr>
          <a:xfrm>
            <a:off x="714240" y="3357720"/>
            <a:ext cx="2879640" cy="664920"/>
            <a:chOff x="714240" y="3357720"/>
            <a:chExt cx="2879640" cy="664920"/>
          </a:xfrm>
        </p:grpSpPr>
        <p:grpSp>
          <p:nvGrpSpPr>
            <p:cNvPr id="882" name="Group 13"/>
            <p:cNvGrpSpPr/>
            <p:nvPr/>
          </p:nvGrpSpPr>
          <p:grpSpPr>
            <a:xfrm>
              <a:off x="714240" y="3357720"/>
              <a:ext cx="762120" cy="664920"/>
              <a:chOff x="714240" y="3357720"/>
              <a:chExt cx="762120" cy="664920"/>
            </a:xfrm>
          </p:grpSpPr>
          <p:sp>
            <p:nvSpPr>
              <p:cNvPr id="883" name="AutoShape 14"/>
              <p:cNvSpPr/>
              <p:nvPr/>
            </p:nvSpPr>
            <p:spPr>
              <a:xfrm>
                <a:off x="720360" y="33688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4" name="AutoShape 15"/>
              <p:cNvSpPr/>
              <p:nvPr/>
            </p:nvSpPr>
            <p:spPr>
              <a:xfrm>
                <a:off x="714240" y="3357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5" name="AutoShape 16"/>
              <p:cNvSpPr/>
              <p:nvPr/>
            </p:nvSpPr>
            <p:spPr>
              <a:xfrm>
                <a:off x="758520" y="33973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86" name="Line 17"/>
            <p:cNvSpPr/>
            <p:nvPr/>
          </p:nvSpPr>
          <p:spPr>
            <a:xfrm flipV="1">
              <a:off x="1290600" y="39513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7" name="Text Box 18"/>
            <p:cNvSpPr/>
            <p:nvPr/>
          </p:nvSpPr>
          <p:spPr>
            <a:xfrm>
              <a:off x="1867680" y="342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8" name="Text Box 19"/>
            <p:cNvSpPr/>
            <p:nvPr/>
          </p:nvSpPr>
          <p:spPr>
            <a:xfrm>
              <a:off x="898560" y="34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89" name="Group 20"/>
          <p:cNvGrpSpPr/>
          <p:nvPr/>
        </p:nvGrpSpPr>
        <p:grpSpPr>
          <a:xfrm>
            <a:off x="714240" y="4286160"/>
            <a:ext cx="2879640" cy="665280"/>
            <a:chOff x="714240" y="4286160"/>
            <a:chExt cx="2879640" cy="665280"/>
          </a:xfrm>
        </p:grpSpPr>
        <p:grpSp>
          <p:nvGrpSpPr>
            <p:cNvPr id="890" name="Group 21"/>
            <p:cNvGrpSpPr/>
            <p:nvPr/>
          </p:nvGrpSpPr>
          <p:grpSpPr>
            <a:xfrm>
              <a:off x="714240" y="4286160"/>
              <a:ext cx="762120" cy="665280"/>
              <a:chOff x="714240" y="4286160"/>
              <a:chExt cx="762120" cy="665280"/>
            </a:xfrm>
          </p:grpSpPr>
          <p:sp>
            <p:nvSpPr>
              <p:cNvPr id="891" name="AutoShape 22"/>
              <p:cNvSpPr/>
              <p:nvPr/>
            </p:nvSpPr>
            <p:spPr>
              <a:xfrm>
                <a:off x="72036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AutoShape 23"/>
              <p:cNvSpPr/>
              <p:nvPr/>
            </p:nvSpPr>
            <p:spPr>
              <a:xfrm>
                <a:off x="71424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AutoShape 24"/>
              <p:cNvSpPr/>
              <p:nvPr/>
            </p:nvSpPr>
            <p:spPr>
              <a:xfrm>
                <a:off x="75852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94" name="Line 25"/>
            <p:cNvSpPr/>
            <p:nvPr/>
          </p:nvSpPr>
          <p:spPr>
            <a:xfrm flipV="1">
              <a:off x="129060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5" name="Text Box 26"/>
            <p:cNvSpPr/>
            <p:nvPr/>
          </p:nvSpPr>
          <p:spPr>
            <a:xfrm>
              <a:off x="1720800" y="4357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6" name="Text Box 27"/>
            <p:cNvSpPr/>
            <p:nvPr/>
          </p:nvSpPr>
          <p:spPr>
            <a:xfrm>
              <a:off x="89856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97" name="AutoShape 53"/>
          <p:cNvSpPr/>
          <p:nvPr/>
        </p:nvSpPr>
        <p:spPr>
          <a:xfrm>
            <a:off x="3643200" y="2857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8" name="圆角矩形 55"/>
          <p:cNvSpPr/>
          <p:nvPr/>
        </p:nvSpPr>
        <p:spPr>
          <a:xfrm>
            <a:off x="4429080" y="1357200"/>
            <a:ext cx="4429080" cy="4500720"/>
          </a:xfrm>
          <a:custGeom>
            <a:avLst/>
            <a:gdLst>
              <a:gd name="textAreaLeft" fmla="*/ 216000 w 4429080"/>
              <a:gd name="textAreaRight" fmla="*/ 4213080 w 4429080"/>
              <a:gd name="textAreaTop" fmla="*/ 216000 h 4500720"/>
              <a:gd name="textAreaBottom" fmla="*/ 4284720 h 4500720"/>
            </a:gdLst>
            <a:ahLst/>
            <a:rect l="textAreaLeft" t="textAreaTop" r="textAreaRight" b="textAreaBottom"/>
            <a:pathLst>
              <a:path w="21600" h="21949">
                <a:moveTo>
                  <a:pt x="3600" y="0"/>
                </a:moveTo>
                <a:arcTo wR="3600" hR="3600" stAng="16200000" swAng="-5400000"/>
                <a:lnTo>
                  <a:pt x="0" y="18349"/>
                </a:lnTo>
                <a:arcTo wR="3600" hR="3600" stAng="10800000" swAng="-5400000"/>
                <a:lnTo>
                  <a:pt x="18000" y="219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意局部保暖，避免病痛关节受风寒和潮湿刺激而加重病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训练应劳逸结合，适量运动避免肩关节受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肩部长时间制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患侧上肢负重或过多的活动，以免造成疲劳性损伤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486640" cy="47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描述肩周炎发病的病因、临床分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描述肩周炎的临床表现和主要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解释肩周炎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比较肩周炎各分期的典型体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确评估肩周炎患者并为其制订康复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35C3-67F2-4B3D-ABD7-D46845D6B6C1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69D9-19C6-4F5F-A6A8-5FD12F76BC7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01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02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03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4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5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06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7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8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09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10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11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14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5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16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17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18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9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1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2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3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24" name="AutoShape 53"/>
          <p:cNvSpPr/>
          <p:nvPr/>
        </p:nvSpPr>
        <p:spPr>
          <a:xfrm>
            <a:off x="3071880" y="3500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5" name="圆角矩形 55"/>
          <p:cNvSpPr/>
          <p:nvPr/>
        </p:nvSpPr>
        <p:spPr>
          <a:xfrm>
            <a:off x="3786120" y="1428840"/>
            <a:ext cx="3643560" cy="4786200"/>
          </a:xfrm>
          <a:custGeom>
            <a:avLst/>
            <a:gdLst>
              <a:gd name="textAreaLeft" fmla="*/ 177840 w 3643560"/>
              <a:gd name="textAreaRight" fmla="*/ 3465720 w 3643560"/>
              <a:gd name="textAreaTop" fmla="*/ 177840 h 4786200"/>
              <a:gd name="textAreaBottom" fmla="*/ 4608360 h 4786200"/>
            </a:gdLst>
            <a:ahLst/>
            <a:rect l="textAreaLeft" t="textAreaTop" r="textAreaRight" b="textAreaBottom"/>
            <a:pathLst>
              <a:path w="21600" h="28373">
                <a:moveTo>
                  <a:pt x="3600" y="0"/>
                </a:moveTo>
                <a:arcTo wR="3600" hR="3600" stAng="16200000" swAng="-5400000"/>
                <a:lnTo>
                  <a:pt x="0" y="24773"/>
                </a:lnTo>
                <a:arcTo wR="3600" hR="3600" stAng="10800000" swAng="-5400000"/>
                <a:lnTo>
                  <a:pt x="18000" y="283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指爬墙：患者手指沿墙缓慢向上爬动，使上肢尽量高举到最大限度，然后再向下回原处，反复进行，逐渐增加高度。患侧靠墙站立，上肢外展，沿墙壁手指向上方爬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26" name="Picture 2" descr="C:\Users\apple\Desktop\北医PPT\书中图片\图7-5  手指爬墙.jpg"/>
          <p:cNvPicPr/>
          <p:nvPr/>
        </p:nvPicPr>
        <p:blipFill>
          <a:blip r:embed="rId1"/>
          <a:stretch/>
        </p:blipFill>
        <p:spPr>
          <a:xfrm>
            <a:off x="7513560" y="1928880"/>
            <a:ext cx="1630440" cy="3714840"/>
          </a:xfrm>
          <a:prstGeom prst="rect">
            <a:avLst/>
          </a:prstGeom>
          <a:ln w="0">
            <a:noFill/>
          </a:ln>
        </p:spPr>
      </p:pic>
      <p:sp>
        <p:nvSpPr>
          <p:cNvPr id="927" name="Text Box 18"/>
          <p:cNvSpPr/>
          <p:nvPr/>
        </p:nvSpPr>
        <p:spPr>
          <a:xfrm>
            <a:off x="1439280" y="3214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7707-9BAF-4C38-8EE4-169A0069750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9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30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31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32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3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4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35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6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7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38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39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40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1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2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43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5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46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47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48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0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51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2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3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54" name="AutoShape 53"/>
          <p:cNvSpPr/>
          <p:nvPr/>
        </p:nvSpPr>
        <p:spPr>
          <a:xfrm>
            <a:off x="3071880" y="3500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5" name="圆角矩形 55"/>
          <p:cNvSpPr/>
          <p:nvPr/>
        </p:nvSpPr>
        <p:spPr>
          <a:xfrm>
            <a:off x="3786120" y="2357280"/>
            <a:ext cx="3429000" cy="3143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揽腰：即将两手在腰后相握，以健手拉患肢，使肩内旋、内收、逐渐增加摸背程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56" name="Picture 2" descr="C:\Users\apple\Desktop\北医PPT\书中图片\图7-6揽腰.jpg"/>
          <p:cNvPicPr/>
          <p:nvPr/>
        </p:nvPicPr>
        <p:blipFill>
          <a:blip r:embed="rId1"/>
          <a:stretch/>
        </p:blipFill>
        <p:spPr>
          <a:xfrm>
            <a:off x="7358040" y="2143080"/>
            <a:ext cx="156528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3CFA-0691-41C8-8FC9-CEAE8BFCAE1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59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60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61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2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3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64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65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66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67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68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69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0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1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72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73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74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75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76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77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8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9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80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81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82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83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4" name="圆角矩形 55"/>
          <p:cNvSpPr/>
          <p:nvPr/>
        </p:nvSpPr>
        <p:spPr>
          <a:xfrm>
            <a:off x="4357800" y="2071800"/>
            <a:ext cx="3643200" cy="3357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抱颈：患者双手交叉抱住颈部，相当于双耳垂水平线，双肘臂加住双耳，然后用力向后活动双肘，反复进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C3D0-C7DB-4A9F-AAEF-14729B16871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6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87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88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89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0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1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92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93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94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95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96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97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8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9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00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1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2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03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04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05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6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7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08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9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10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11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2" name="圆角矩形 55"/>
          <p:cNvSpPr/>
          <p:nvPr/>
        </p:nvSpPr>
        <p:spPr>
          <a:xfrm>
            <a:off x="4357800" y="2071800"/>
            <a:ext cx="4000320" cy="3357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展翅：站立，双脚同肩宽，两臂伸直向两侧抬起（外展）和身体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手心向下缓慢向上抬起，然后回到原处，反复进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9D27-39EB-4EF0-8691-CC2CF0A006E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15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16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17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8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9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20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1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2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23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24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25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6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7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28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9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0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31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32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33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4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5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36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7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8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39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40" name="圆角矩形 55"/>
          <p:cNvSpPr/>
          <p:nvPr/>
        </p:nvSpPr>
        <p:spPr>
          <a:xfrm>
            <a:off x="4357800" y="2571840"/>
            <a:ext cx="3714480" cy="30002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操棒练习：双手握棒距离大于肩，做前平举，向上举过肩，上举逐步落颈后，进行内收外旋的动作。重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6085-EB20-47C6-B5CE-5364408A960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42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43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44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45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6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7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48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49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0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51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52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53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4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5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56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7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8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59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60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61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2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3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64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65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66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67" name="AutoShape 53"/>
          <p:cNvSpPr/>
          <p:nvPr/>
        </p:nvSpPr>
        <p:spPr>
          <a:xfrm>
            <a:off x="3286080" y="43578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8" name="圆角矩形 55"/>
          <p:cNvSpPr/>
          <p:nvPr/>
        </p:nvSpPr>
        <p:spPr>
          <a:xfrm>
            <a:off x="4214880" y="2071800"/>
            <a:ext cx="3357360" cy="3714480"/>
          </a:xfrm>
          <a:custGeom>
            <a:avLst/>
            <a:gdLst>
              <a:gd name="textAreaLeft" fmla="*/ 163800 w 3357360"/>
              <a:gd name="textAreaRight" fmla="*/ 3193560 w 3357360"/>
              <a:gd name="textAreaTop" fmla="*/ 163800 h 3714480"/>
              <a:gd name="textAreaBottom" fmla="*/ 3550680 h 3714480"/>
            </a:gdLst>
            <a:ahLst/>
            <a:rect l="textAreaLeft" t="textAreaTop" r="textAreaRight" b="textAreaBottom"/>
            <a:pathLst>
              <a:path w="21600" h="23897">
                <a:moveTo>
                  <a:pt x="3600" y="0"/>
                </a:moveTo>
                <a:arcTo wR="3600" hR="3600" stAng="16200000" swAng="-5400000"/>
                <a:lnTo>
                  <a:pt x="0" y="20297"/>
                </a:lnTo>
                <a:arcTo wR="3600" hR="3600" stAng="10800000" swAng="-5400000"/>
                <a:lnTo>
                  <a:pt x="18000" y="238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局部外伤，如劳损、受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工作劳逸结合，肩关节劳损或损伤后及时治疗，老人应每日进行各种体育锻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4871-7FD6-4B36-A730-B34250642A5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71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72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73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4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5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76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77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78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79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80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81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2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3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84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5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6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87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88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89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0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1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92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3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4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95" name="AutoShape 53"/>
          <p:cNvSpPr/>
          <p:nvPr/>
        </p:nvSpPr>
        <p:spPr>
          <a:xfrm>
            <a:off x="3286080" y="43578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6" name="圆角矩形 55"/>
          <p:cNvSpPr/>
          <p:nvPr/>
        </p:nvSpPr>
        <p:spPr>
          <a:xfrm>
            <a:off x="4214880" y="2571840"/>
            <a:ext cx="3071880" cy="2928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待肩周炎疼痛缓解后，需坚持运动训练，持之以恒，以防肩周炎再次复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灯片编号占位符 3"/>
          <p:cNvSpPr/>
          <p:nvPr/>
        </p:nvSpPr>
        <p:spPr>
          <a:xfrm>
            <a:off x="3571920" y="6500880"/>
            <a:ext cx="1981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FB1C-DBD2-4EDC-BB76-967F48D3877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713880" y="1642680"/>
            <a:ext cx="76438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肩周炎是多种原因导致肩盂肱关节囊炎性粘连、僵硬，以肩关节周围疼痛，各方向活动受限为临床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主要功能障碍肩关节疼痛、肩关节活动障碍、关节周围软组织粘连，肌肉萎缩，进一步限制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课程总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灯片编号占位符 3"/>
          <p:cNvSpPr/>
          <p:nvPr/>
        </p:nvSpPr>
        <p:spPr>
          <a:xfrm>
            <a:off x="3571920" y="6500880"/>
            <a:ext cx="1981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D4AC-7C5E-48F8-9ACC-FB5BBFE9C56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571320" y="1500120"/>
            <a:ext cx="8001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评估主要侧重于疼痛评估及肩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测量。也可进行综合性评估，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定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ew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肩功能评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措施有药物疗法、运动疗法、物理疗法、中国传统医学治疗、保护肩关节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指导包括生活护理、功能训练及安全预防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课程总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4795-FFFB-41E6-AD5D-6FD2111F7BD1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肩 周 炎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71680" y="1571400"/>
            <a:ext cx="812448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周炎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capulohumeral periarthriti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由于肩关节周围的肌肉、肌腱、韧带、滑囊和关节囊等软组织发生慢性损伤性炎症，导致关节内外粘连，阻碍肩关节活动所致，又称为粘连性肩关节炎、欲称凝肩、冻结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14240" y="1714320"/>
            <a:ext cx="807264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肩周炎是多种原因导致肩盂肱关节囊炎性粘连、僵硬，以肩关节周围疼痛，各方向活动受限，影像学显示关节腔变狭窄和轻度骨质疏松为临床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AAA9-2DE9-44E1-B3F5-0DD2DE4F3C39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9680" y="1714320"/>
            <a:ext cx="828684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肩关节的发病可能与软组织退行性变、长期过度活动、代谢障碍或局部循环障碍、局部外伤后肩部固定过长、肩部受潮及受寒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9CB7-1817-4ED4-8490-6758257FCFA0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5570-219C-46AF-879A-8602F174BFE0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疼痛期（凝结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发病阶段，病变主要位于肩关节囊，肩关节造影常显示有关节囊挛缩，肱二头肌肌腱粘连，关节腔容量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以疼痛和肩关节的功能障碍为主要特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941B-B5EA-4DBC-B955-962DC2F15C4E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僵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期（冰冻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发病过程迁延至慢性的发病阶段，软组织发生器质性改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为持续性肩痛，肩关节活动受限，日常生活能力受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2EC8-A6EB-4083-BA76-4C5215216BB5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恢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期（解冻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炎症自行消退，疼痛基本消失，肩关节活动度较前明显改善，但仍有不同程度的活动障碍，如坚持锻炼，功能可逐渐得到恢复，否则功能不会自行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00:20:14Z</dcterms:created>
  <dc:creator>apple</dc:creator>
  <dc:description/>
  <cp:keywords/>
  <dc:language>en-US</dc:language>
  <cp:lastModifiedBy>微软用户</cp:lastModifiedBy>
  <dcterms:modified xsi:type="dcterms:W3CDTF">2015-12-16T02:49:37Z</dcterms:modified>
  <cp:revision>35</cp:revision>
  <dc:subject/>
  <dc:title>第一章 儿科疾病的护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