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4FFC-EECF-4537-9A75-841AD886EA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BDB2E-7098-420E-BBFE-6528BD13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A61F6-4451-45EC-8648-63C6518C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5F2B3-C966-4E42-8461-B98960B52B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46E0F-C4C7-42FB-8E7E-62B59BE6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5AFD2-75F9-4B7E-9C1E-BF55A0BC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15BB6-EEAF-4FF4-8C72-6DD37494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2196-3C6D-4FA2-A74C-66679D42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B19F4-EC5E-400B-826D-ED1973AC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965DC-C1D2-479E-8E98-E3B3DBFC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A086B-9979-437E-ABA0-B56A45FB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9AE1-66C9-4432-88DE-DA9942CE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D254-7C9E-48E7-82E4-0F46DD887EA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37080" y="2133720"/>
            <a:ext cx="9433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第二节  </a:t>
            </a:r>
            <a:br>
              <a:rPr sz="7200"/>
            </a:b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颅脑损伤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"/>
          <p:cNvSpPr/>
          <p:nvPr/>
        </p:nvSpPr>
        <p:spPr>
          <a:xfrm>
            <a:off x="684360" y="148428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6-2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李某，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已婚，因头部外伤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入院。入院诊断：重型颅脑损伤。经积极的对症治疗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苏醒。查体可基本配合，但沟通困难，语速慢，认识家人，但记忆、计算、定向力等能力较差，生命体征平稳，右侧肢体瘫痪，肌张力高，左侧肢体肌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级，肌张力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问题与思考：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该患者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如何对其进行护理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BF8A-2F78-4AF9-ABE9-65E491148B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640" y="764640"/>
            <a:ext cx="486072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意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大脑功能活动的综合表现，是机体对自身及周围环境的知觉状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disorders of 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指机体对自身及周围环境缺乏反应的一种精神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E742-01B1-4DF6-8153-873C7426775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障碍是颅脑损伤后的重要功能障碍之一，其原因是由于颅脑损伤时常累及大脑皮质，主要表现为不能对事物进行正确的理解、认识和反应，出现记忆障碍、注意力障碍、听力理解异常、智力障碍、沟通交流障碍、执行功能障碍、空间辨别障碍等</a:t>
            </a:r>
            <a:r>
              <a:rPr b="1" lang="zh-CN" sz="2600" spc="-1" strike="noStrike">
                <a:solidFill>
                  <a:srgbClr val="38b5fa"/>
                </a:solidFill>
                <a:latin typeface="Verdana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3754-6A86-4944-8806-F0B33CF9418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记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memory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后的常见症状，表现为近期记忆障碍，不能记住伤后发生的事情，但对以前的远期记忆影响不大，部分患者的记忆障碍可在颅脑损伤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后出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注意力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ttention/concentration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指做一项工作时，不能持续注意，是颅脑损伤的常见后遗症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61EB-4202-4787-A172-920E19F826C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推理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/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判断 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reasoning/judgment problem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障碍  广泛性颅脑损伤可出现高水平的思维障碍，表现为分析和综合信息困难，抽象、推理能力降低，判断和解决问题能力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执行能力障碍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(executive function deficit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指进行有目标的活动时，有多个认知成分，但不能正常选择和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沟通交流障碍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mmunication disorder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的常见表现，主要为语言表达和理解障碍。</a:t>
            </a:r>
            <a:r>
              <a:rPr b="1" lang="zh-CN" sz="1700" spc="-1" strike="noStrike">
                <a:solidFill>
                  <a:srgbClr val="38b5fa"/>
                </a:solidFill>
                <a:latin typeface="Verdana"/>
                <a:ea typeface="宋体"/>
              </a:rPr>
              <a:t> </a:t>
            </a: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2DA8-2347-41FC-8D29-5C0D091A437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感知觉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感知觉功能障碍是指颅脑损伤时，大脑对感觉刺激的解释和整合发生障碍。患者可表现为躯体构图障碍、视空间关系障碍、失认症、失用症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11280" y="836640"/>
            <a:ext cx="457344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B3A2-8AE0-44AC-81B4-764158748CA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运动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由于受伤原因、部位、病情严重程度等不同，运动功能障碍表现具有多样性，可因锥体束损害表现为偏瘫、单瘫、双侧瘫，也可出现帕金森综合征、共济失调、舞蹈样动作等锥体外系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"/>
          <p:cNvSpPr/>
          <p:nvPr/>
        </p:nvSpPr>
        <p:spPr>
          <a:xfrm>
            <a:off x="950760" y="1123920"/>
            <a:ext cx="784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楷体"/>
              </a:rPr>
              <a:t>知识链接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颅脑损伤患者的认知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认知功能障碍是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的主要后果，常与损伤部位有关，主要表现在注意力和记忆力两个方面。当损伤网状结构、颞叶（尤其海马）、额叶和顶叶及轴索的任何部位时，都能破坏其维持注意看力集中的正常功能，典型表现为难以完成交谈、阅读、观看电视节目及进行一连串的思考。边缘系统、丘脑、脑干网状结构、前额叶等部位参与记忆活动，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不能对事物在集中注意力，因而不能有效的接受信息及将其储存导致日后不能回忆，所以康复护士应该根据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的损伤部位和严重程度进行认知功能的评估，有针对性的进行康复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972E-CF45-4C5E-B3FA-6604F457CCA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言语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可导致失语、构音障碍或言语失用等语言功能障碍，其中以失语症最为常见。失语症患者在语音的理解、形成及表达等方面的能力受限或丧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CE59-8533-40B2-9C83-DAC6FD9E20B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吞咽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的患者常见吞咽障碍，临床表现为液体或固体食物进入口腔，吞下过程发生障碍或吞下时发生呛咳、哽噎，伴有此类障碍的患者由于摄食困难可导致营养不良、水电解质紊乱等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8AC9-26B5-4853-8743-F4D730DDE5D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8B1F-7A8F-418B-B17C-EB0380D6FD4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七）精神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后除产生神经功能障碍外，还可出现各种类型的精神异常、情感障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八）心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因病情的轻重程度、不同阶段可有不同的心理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．损伤严重程度的评估   主要根据意识障程度与持续时间、创伤后遗忘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ost traumatic amnesi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T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的持续时间来确定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具体可以通过以下量表判断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格拉斯哥昏迷量表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lasgow coma scale, GCS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盖尔维斯顿定向遗忘实验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alveston orientation and amnesia tes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OA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ancho Los Amigos(RLA)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分级量表  是反映患者颅脑损伤后一般认知与行为状态的常用量表之一，将认知功能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8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个等级，级别越高，认知功能越好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记忆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韦氏记忆量表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echsler memory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M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行为记忆测试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behayioral memory tes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BM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注意力功能评定：可以通过视跟踪、形态辨认、划消字母测试、听认字母测试、背诵数字、词辨认、声音辨认、在杂音背景中辨认词等方法对患者进行测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执行功能评估：执行力是注意力、记忆力和运动等多项功能的综合表现，一般可通过启动能力评定、变换能力评定、解决问题能力评定和观察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来评估，另外，还可以使用一些量表，具体如下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韦氏成人智力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echsler adult intelligence scal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AIS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简易智能状态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ini-mental state examination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MS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威斯康星卡片分类测验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isconsin card sorting te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C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感知觉功能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运动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言语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其他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-2B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Rancho Los Amigos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分级评级为Ⅵ级，右侧上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，下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肌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问题与思考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请针对患者的认知功能评分和运动功能分级制订康复护理计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近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情绪稳定，焦虑程度减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呼吸道保持通畅，呼吸平稳，无误吸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营养状态维持良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运动功能改善，活动能力提高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言语、认知功能改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2565360"/>
            <a:ext cx="807228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患者存在的主要功能障碍及护理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解释颅脑损伤的病因和治疗原则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结合所学知识为颅脑损伤患者进行认知功能康复护理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21E2-4DB4-4962-B715-DE9D64D990A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远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并发症和合并症，减轻后遗症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改善患者的各项功能，提高日常生活活动能力和生存质量，重返社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74200" y="1757160"/>
            <a:ext cx="8001000" cy="13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894400" y="3192480"/>
            <a:ext cx="3046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保持呼吸道的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改善营养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定时翻身叩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早期康复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促醒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15"/>
          <p:cNvGrpSpPr/>
          <p:nvPr/>
        </p:nvGrpSpPr>
        <p:grpSpPr>
          <a:xfrm>
            <a:off x="2073240" y="2887560"/>
            <a:ext cx="4535280" cy="3612240"/>
            <a:chOff x="2073240" y="2887560"/>
            <a:chExt cx="4535280" cy="3612240"/>
          </a:xfrm>
        </p:grpSpPr>
        <p:sp>
          <p:nvSpPr>
            <p:cNvPr id="195" name="AutoShape 16"/>
            <p:cNvSpPr/>
            <p:nvPr/>
          </p:nvSpPr>
          <p:spPr>
            <a:xfrm>
              <a:off x="2073240" y="3042360"/>
              <a:ext cx="4535280" cy="272484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2499840" y="2919240"/>
              <a:ext cx="3682080" cy="248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AutoShape 18"/>
            <p:cNvSpPr/>
            <p:nvPr/>
          </p:nvSpPr>
          <p:spPr>
            <a:xfrm flipH="1">
              <a:off x="5826600" y="2980800"/>
              <a:ext cx="14148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 flipH="1">
              <a:off x="2699640" y="2980800"/>
              <a:ext cx="14436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215600" y="2887560"/>
              <a:ext cx="181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Text Box 21"/>
            <p:cNvSpPr/>
            <p:nvPr/>
          </p:nvSpPr>
          <p:spPr>
            <a:xfrm>
              <a:off x="2223720" y="3265560"/>
              <a:ext cx="42148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1" name="Freeform 12"/>
          <p:cNvSpPr/>
          <p:nvPr/>
        </p:nvSpPr>
        <p:spPr>
          <a:xfrm rot="1277400">
            <a:off x="4493880" y="1760040"/>
            <a:ext cx="2521080" cy="100836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360"/>
              <a:gd name="textAreaBottom" fmla="*/ 1008720 h 10083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3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恢复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运动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认知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言语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日常生活活动能力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132000" y="386064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记忆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注意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思维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2162160" y="3584520"/>
            <a:ext cx="6875640" cy="1295280"/>
          </a:xfrm>
          <a:prstGeom prst="cloudCallout">
            <a:avLst>
              <a:gd name="adj1" fmla="val -47000"/>
              <a:gd name="adj2" fmla="val -62009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并发症的预防和护理  颅脑损伤患者在损伤急性期或者长期卧床可以引起多种并发症，包括颅内压增高、脑疝、压疮、失用综合征等，护士应密切观察患者的病情变化，并采取有效措施进行预防和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心理护理   应与患者多沟通交流，注意安慰、开导患者，向他们解释病情，使其能面对现实，逐步消除恐惧、焦虑，稳定其心理状态和情绪，更好地取得患者的合作，促使各项功能的恢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五）康复护理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对整个康复护理效果进行评价，观察康复护理目标是否实现，发现存在的问题，并制订新的护理计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6484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脑损伤后遗留的语言、运动或智力障碍在伤后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内有部分恢复的可能，应提高患者的自信心，协助患者制订康复计划，指导患者利用社区和家庭康复资源，坚持康复训练，尤其是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指导患者合理饮食、适当的运动和充足的睡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9280" y="1412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指导出院患者正确服药，耐心向患者及家属讲解可能出现的合并症和并发症，并指导如何预防和护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指导患者正确对待疾病及其残疾。多参加社会活动，争取获得有效的社会支持系统，包括家庭、朋友、同事、单位等社会支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5120" y="134100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7491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按损伤方式颅脑损伤可分为闭合性损伤和开放性损伤；按损伤病理机制颅脑损伤可分为原发性损伤和继发性损伤；根据脑损伤部位可分为局部损伤和弥漫性损伤；根据格拉斯哥昏迷量表的评定结果，按损伤程度分为轻型、中型、重型颅脑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2"/>
          <p:cNvSpPr/>
          <p:nvPr/>
        </p:nvSpPr>
        <p:spPr>
          <a:xfrm>
            <a:off x="971640" y="234936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主要功能障碍意识功能障碍、认知功能障碍、感觉功能障碍、运动功能障碍、言语功能障碍、吞咽功能障碍、精神障碍、心理功能障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611280" y="1484280"/>
            <a:ext cx="79977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8317-C282-462C-9829-1CC50600C88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49280" y="2205000"/>
            <a:ext cx="84297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traumatic brain injury, TBI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又称脑外伤或头损伤，是指头部，尤其是脑组织受各种外力作用后，引起脑组织结构及功能改变，导致较严重的神经功能缺损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35240" y="115092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矩形 3"/>
          <p:cNvSpPr/>
          <p:nvPr/>
        </p:nvSpPr>
        <p:spPr>
          <a:xfrm>
            <a:off x="826920" y="206064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护理颅脑损伤急性期康复护理措施包括：保持呼吸道的通畅、改善营养状况、定时翻身叩背、早期康复训练、促醒训练。恢复期康复护理措施包括：运动功能障碍训练的康复护理、认知功能障碍训练的康复护理、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、言语功能训练的康复护理。另外，还需进行并发症的预防和护理及心理护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2"/>
          <p:cNvSpPr/>
          <p:nvPr/>
        </p:nvSpPr>
        <p:spPr>
          <a:xfrm>
            <a:off x="993600" y="2276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教育指导患者坚持康复训练、合理饮食、适当运动、正确服药、预防和护理并发症和合并症、正确对待疾病及其残疾、加强社会支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1392-92EB-47B9-A636-156EAFA4087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方式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闭合性损伤和开放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病理机制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原发性损伤和继发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脑损伤部位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局部损伤和弥漫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格拉斯哥昏迷量表的评定结果，按损伤程度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轻型、中型、重型颅脑损伤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722F-909B-4E90-ACB0-17E3716B10F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流行病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是一类发病率高、病情急的疾病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占全身损伤的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5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0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仅次于四肢创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常与身体其他部位的损伤复合存在，致残率及致死率均居首位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8F95-8D4F-49F0-B482-B6C090B9A3C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病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主要见于交通事故、工伤事故、运动损伤、高空坠落、爆炸、跌倒和撞击、各种锐器伤、钝器伤、火器伤等，另外，分娩过程中婴儿脑损伤也偶有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856C-A0A0-489C-893A-11418C0C6AC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8424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因致病因素、损伤部位和就诊时间的不同，临床表现不一，但其具有共性。具体表现为：意识障碍、头痛、呕吐、神经系统局灶症状和体征、眼部征象、生命体征变化、脑疝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88E7-99A3-46AD-957B-829F38C2D52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1916280"/>
            <a:ext cx="583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850000" y="192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15"/>
          <p:cNvGrpSpPr/>
          <p:nvPr/>
        </p:nvGrpSpPr>
        <p:grpSpPr>
          <a:xfrm>
            <a:off x="4284720" y="3716280"/>
            <a:ext cx="3814200" cy="3500280"/>
            <a:chOff x="4284720" y="3716280"/>
            <a:chExt cx="3814200" cy="3500280"/>
          </a:xfrm>
        </p:grpSpPr>
        <p:sp>
          <p:nvSpPr>
            <p:cNvPr id="131" name="AutoShape 16"/>
            <p:cNvSpPr/>
            <p:nvPr/>
          </p:nvSpPr>
          <p:spPr>
            <a:xfrm>
              <a:off x="4284720" y="3825360"/>
              <a:ext cx="3814200" cy="19180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7"/>
            <p:cNvSpPr/>
            <p:nvPr/>
          </p:nvSpPr>
          <p:spPr>
            <a:xfrm>
              <a:off x="4643640" y="3738600"/>
              <a:ext cx="3096720" cy="174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8"/>
            <p:cNvSpPr/>
            <p:nvPr/>
          </p:nvSpPr>
          <p:spPr>
            <a:xfrm flipH="1">
              <a:off x="7441920" y="3781800"/>
              <a:ext cx="11880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9"/>
            <p:cNvSpPr/>
            <p:nvPr/>
          </p:nvSpPr>
          <p:spPr>
            <a:xfrm flipH="1">
              <a:off x="4811400" y="3781800"/>
              <a:ext cx="12132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Text Box 20"/>
            <p:cNvSpPr/>
            <p:nvPr/>
          </p:nvSpPr>
          <p:spPr>
            <a:xfrm>
              <a:off x="6073200" y="3716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21"/>
            <p:cNvSpPr/>
            <p:nvPr/>
          </p:nvSpPr>
          <p:spPr>
            <a:xfrm>
              <a:off x="4411440" y="3982320"/>
              <a:ext cx="354492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40"/>
          <p:cNvSpPr/>
          <p:nvPr/>
        </p:nvSpPr>
        <p:spPr>
          <a:xfrm>
            <a:off x="4988520" y="4221000"/>
            <a:ext cx="23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非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2"/>
          <p:cNvSpPr/>
          <p:nvPr/>
        </p:nvSpPr>
        <p:spPr>
          <a:xfrm rot="1791000">
            <a:off x="4571640" y="2565360"/>
            <a:ext cx="2521080" cy="100800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198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8:22Z</dcterms:modified>
  <cp:revision>10</cp:revision>
  <dc:subject/>
  <dc:title>第二节   颅脑损伤</dc:title>
</cp:coreProperties>
</file>