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DDD94-A997-4CB4-8107-F232A2E18C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2380C-AFFC-4CC2-9E3E-1337593A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B3F4E-6789-42F0-8FE0-E3BC4571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1B4AF-19D6-4E81-8617-5251F66026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62571-9D8C-4C2C-B542-D1A4297B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2C51-AE2F-4F09-9929-0211B56D49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0806-A5B8-4828-A26F-819CADC3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F8B4-70B7-4B18-AD74-74921907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2A81-419D-409C-BAE1-AE871DCD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E6D6-9F64-4C03-B519-E402EF4D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1DD5D-4BB2-4DD9-B32F-B57969C8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448B-1FC2-4B64-B933-0B383A4F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D734-87FB-4285-BBAB-D95E214B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BFE6-3B0F-4BCA-860F-0F38D580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8486-6267-41E4-9AD9-3353AE86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D8DF-7FD5-4EAF-B3CE-FB89A304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EAEE-F6A0-4E0F-A9C5-A2376F7C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4822-61A8-4B9D-8B14-5F704D0E22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D38CEA-26E7-4FBC-91CE-06F5ABB2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3EEDFC-FC2B-4855-9ACE-3F982FAD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DF62A7-0F20-4667-A936-99649D32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1060-9905-4B95-BB60-E491A2A2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1368CF-7901-4BCA-BD70-292784EA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DEF46C-4F84-4B64-B782-6974C75D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65E58D-AAB2-489C-9764-D0DDBA1F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BEFC55-72F7-4F15-903D-CF8FE39F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419A37-9A4A-4EEF-9D8B-799C86C2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5B06B5-DC57-4EC9-AD53-0C5039A9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85C100-0C13-41CE-B3F5-5892B5BC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222CEF-0744-40EC-B1F9-ACDCC63D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D936C6-FF3E-4F25-B125-AFD5AB8B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B04791-6190-4656-B3F8-2C6E72C6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9CF81-E120-4A8D-9290-E7E386A8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218CA0-52CE-4C03-8320-F772DF59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2959CA-E8BC-4B66-B666-7D1E0BFA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F96501-4C4A-4776-98E0-15B3F822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9D7DFC-742E-4781-B916-C7DEB8C1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3934E0-867E-4B10-9DBB-28F540C0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7F8B62-5C4C-4121-8D32-F9670F58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0AE4C4-8D7A-495E-9A85-8C801CB3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C4E4C2-F23F-4589-91F8-19FA32C4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4E2292-D089-45DC-AF98-D35AFB5C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4B3272-570F-458D-8AD0-02E224DA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58CD9-9194-4403-93FB-45CC9968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F13042-5BAB-4344-B64E-A084A1BE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10FA1-D9AB-4C9B-8619-225A8B72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2345F-21D4-4FFA-A00B-AC7845BB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33335-102C-4306-8C19-D9CEA8D9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B3CE-0C2D-4652-BC46-79325216208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2AA4-A2CE-438E-9D65-0930FFD3979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C428-A72C-49A6-905C-DC2FA7F2C2E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CB8C-25AD-420D-BD0A-A162E6AC6E7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9854-7BB0-41E7-AE41-EBA432B1A06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性瘫痪</a:t>
            </a: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808200" y="1197000"/>
            <a:ext cx="70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6-3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患儿，男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3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周出生，生后出现黄疸，持续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17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天。现运动发育落后，竖颈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翻身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角弓反张；原始反射残存非对称性颈紧张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侧弯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；流涎，吞咽及咀嚼困难，发音障碍；睡眠不佳，便秘。患儿自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半开始出现癫痫发作，脑电图检查示：双侧对称同步尖慢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问题与思考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：该患儿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900000" y="2205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中枢性运动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伴随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4748040" y="1484280"/>
            <a:ext cx="4381560" cy="2651040"/>
          </a:xfrm>
          <a:prstGeom prst="wedgeRectCallout">
            <a:avLst>
              <a:gd name="adj1" fmla="val -55208"/>
              <a:gd name="adj2" fmla="val 171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痉挛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偏瘫、双瘫、四肢瘫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不随意运动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自主无意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共济失调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障碍，肌张力低下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强直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扭转痉挛或强直，常伴智力低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肌张力低下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为显著特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两种或两种症状同时存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3924360" y="4365720"/>
            <a:ext cx="3240000" cy="1366920"/>
          </a:xfrm>
          <a:prstGeom prst="wedgeRectCallout">
            <a:avLst>
              <a:gd name="adj1" fmla="val -62087"/>
              <a:gd name="adj2" fmla="val -33245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语言、听觉、视觉、行为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癫痫、智能、情绪问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其他感觉和认知功能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矩形 1"/>
          <p:cNvSpPr/>
          <p:nvPr/>
        </p:nvSpPr>
        <p:spPr>
          <a:xfrm>
            <a:off x="468360" y="1197000"/>
            <a:ext cx="828036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楷体"/>
                <a:ea typeface="楷体"/>
              </a:rPr>
              <a:t>知识链接</a:t>
            </a:r>
            <a:r>
              <a:rPr b="1" lang="en-US" sz="2800" spc="-1" strike="noStrike">
                <a:solidFill>
                  <a:srgbClr val="03517d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      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非对称性紧张性颈反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非对称性紧张性颈反射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(asymmetrical tonic neck reflex, ATNR)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：小儿仰卧，头居中，四肢伸展位，当旋转头部时，阳性表现为颜面侧上、下肢伸肌张力增高成伸展位，后头侧屈肌张力增强，上、下肢屈曲。正常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月消失，持续阳性阻碍小儿头和四肢运动发育。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ATNR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在新生儿出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周左右出现，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呈优势，以后受上位中枢的控制而逐渐消失，若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仍然持续存在则为异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C69A-327E-4FA3-8F07-B754B3D11E0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116000" y="162864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4159080" y="1136520"/>
            <a:ext cx="4896000" cy="1351080"/>
          </a:xfrm>
          <a:prstGeom prst="wedgeRectCallout">
            <a:avLst>
              <a:gd name="adj1" fmla="val -75064"/>
              <a:gd name="adj2" fmla="val 14097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高、僵硬、强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仰卧位时，呈上肢屈曲、下肢伸展痉挛。患儿俯卧位时</a:t>
            </a:r>
            <a:r>
              <a:rPr b="1" lang="en-US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竖颈困难，四肢屈曲模式</a:t>
            </a:r>
            <a:r>
              <a:rPr b="0" lang="zh-CN" sz="1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4699080" y="2492280"/>
            <a:ext cx="3959280" cy="935280"/>
          </a:xfrm>
          <a:prstGeom prst="wedgeRectCallout">
            <a:avLst>
              <a:gd name="adj1" fmla="val -67041"/>
              <a:gd name="adj2" fmla="val -17740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流涎、咀嚼吞咽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非对称性紧张性颈反射姿势多见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8"/>
          <p:cNvSpPr/>
          <p:nvPr/>
        </p:nvSpPr>
        <p:spPr>
          <a:xfrm>
            <a:off x="5132520" y="3494160"/>
            <a:ext cx="3092400" cy="934920"/>
          </a:xfrm>
          <a:prstGeom prst="wedgeRectCallout">
            <a:avLst>
              <a:gd name="adj1" fmla="val -98518"/>
              <a:gd name="adj2" fmla="val -70254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无痉挛，病理反射阳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伴有眼球震颤、言语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9"/>
          <p:cNvSpPr/>
          <p:nvPr/>
        </p:nvSpPr>
        <p:spPr>
          <a:xfrm>
            <a:off x="5167440" y="4462560"/>
            <a:ext cx="3887640" cy="1655640"/>
          </a:xfrm>
          <a:prstGeom prst="wedgeRectCallout">
            <a:avLst>
              <a:gd name="adj1" fmla="val -109495"/>
              <a:gd name="adj2" fmla="val -77625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全身肌张力增加，呈强直状，肢体僵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严重障碍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伴有角弓反张，智力低下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0"/>
          <p:cNvSpPr/>
          <p:nvPr/>
        </p:nvSpPr>
        <p:spPr>
          <a:xfrm>
            <a:off x="3968640" y="6164280"/>
            <a:ext cx="2979720" cy="431640"/>
          </a:xfrm>
          <a:prstGeom prst="wedgeRectCallout">
            <a:avLst>
              <a:gd name="adj1" fmla="val -69958"/>
              <a:gd name="adj2" fmla="val -367435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抬头无力，坐或站立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1"/>
          <p:cNvSpPr/>
          <p:nvPr/>
        </p:nvSpPr>
        <p:spPr>
          <a:xfrm>
            <a:off x="395280" y="6118200"/>
            <a:ext cx="3276720" cy="527040"/>
          </a:xfrm>
          <a:prstGeom prst="wedgeRectCallout">
            <a:avLst>
              <a:gd name="adj1" fmla="val 5263"/>
              <a:gd name="adj2" fmla="val -164875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可能以一种类型的表现为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55D7-2403-443A-B466-8771E7C77EF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826920" y="1197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语言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视觉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智能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听觉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行为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76760" y="1335240"/>
            <a:ext cx="4686120" cy="1055520"/>
          </a:xfrm>
          <a:prstGeom prst="wedgeRectCallout">
            <a:avLst>
              <a:gd name="adj1" fmla="val -67435"/>
              <a:gd name="adj2" fmla="val 36259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语言发育迟缓，发音困难、构音不清，不能成句说话，不能正确表达，有的患儿完全失语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3789360" y="2386080"/>
            <a:ext cx="4680000" cy="900000"/>
          </a:xfrm>
          <a:prstGeom prst="wedgeRectCallout">
            <a:avLst>
              <a:gd name="adj1" fmla="val -69740"/>
              <a:gd name="adj2" fmla="val -3115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内、外斜视，视神经萎缩，动眼神经麻痹，眼球震颤，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近视、远视 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8"/>
          <p:cNvSpPr/>
          <p:nvPr/>
        </p:nvSpPr>
        <p:spPr>
          <a:xfrm>
            <a:off x="3780000" y="3308400"/>
            <a:ext cx="4679640" cy="647640"/>
          </a:xfrm>
          <a:prstGeom prst="wedgeRectCallout">
            <a:avLst>
              <a:gd name="adj1" fmla="val -69708"/>
              <a:gd name="adj2" fmla="val -15199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能低下 ，多动、情绪不稳、自闭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3789360" y="3973680"/>
            <a:ext cx="4680000" cy="576000"/>
          </a:xfrm>
          <a:prstGeom prst="wedgeRectCallout">
            <a:avLst>
              <a:gd name="adj1" fmla="val -68490"/>
              <a:gd name="adj2" fmla="val -10879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华文新魏"/>
              </a:rPr>
              <a:t>听力减退甚至丧失听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3789360" y="4564080"/>
            <a:ext cx="4680000" cy="934920"/>
          </a:xfrm>
          <a:prstGeom prst="wedgeRectCallout">
            <a:avLst>
              <a:gd name="adj1" fmla="val -69231"/>
              <a:gd name="adj2" fmla="val -21476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固执任性、情绪不稳定、注意力不集中有自残行为和暴力倾向 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1"/>
          <p:cNvSpPr/>
          <p:nvPr/>
        </p:nvSpPr>
        <p:spPr>
          <a:xfrm>
            <a:off x="3780000" y="5499000"/>
            <a:ext cx="4679640" cy="1081080"/>
          </a:xfrm>
          <a:prstGeom prst="wedgeRectCallout">
            <a:avLst>
              <a:gd name="adj1" fmla="val -85106"/>
              <a:gd name="adj2" fmla="val -54990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全身性阵挛发作、部分发作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继发性大发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42920" y="206028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健康状态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功能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知、认知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社会及家庭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智能评估   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"/>
          <p:cNvSpPr/>
          <p:nvPr/>
        </p:nvSpPr>
        <p:spPr>
          <a:xfrm>
            <a:off x="971640" y="162864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3200" spc="-1" strike="noStrike">
                <a:solidFill>
                  <a:srgbClr val="c00000"/>
                </a:solidFill>
                <a:latin typeface="楷体"/>
                <a:ea typeface="楷体"/>
              </a:rPr>
              <a:t>6-3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该患儿口语不流利，流涎，智力落后，能简单回答问题，右侧眼球斜视，吞咽有呛咳，四肢肌张力高，行走呈剪刀步态，足跟不能着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问题与思考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：为该患儿制订康复护理计划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A924-4956-4969-BDDB-D30189EC9A2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原则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干预，综合康复，正确指导，积极配合，持之以恒，预防继发残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01A9-528B-4A0C-AC00-C9EA0F69068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标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纠正异常姿势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②指导正确抱姿与喂养姿势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③无跌伤造成二次损伤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实现最佳功能和独立性；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最大限度恢复身体、心理、社会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方面功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488C-A317-4F85-8B91-CD2D6A8D46A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C889-D643-49BA-950B-F4D001B1FBB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02792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环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宽敞、整洁、典雅、舒适、安全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房间内设无障碍设施 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684360" y="1916280"/>
            <a:ext cx="7704000" cy="36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睡眠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痉挛型采用侧卧，利于降低肌张力，促进动作对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重者取俯卧位，胸前放一低枕，使其双臂向前伸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当头能向前抬起或能转动时，可去掉枕头取俯卧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720720" y="1432080"/>
            <a:ext cx="77040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坐姿</a:t>
            </a:r>
            <a:r>
              <a:rPr b="0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伸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　　　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盘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4194000" y="2143080"/>
            <a:ext cx="4321440" cy="2592360"/>
          </a:xfrm>
          <a:prstGeom prst="wedgeRectCallout">
            <a:avLst>
              <a:gd name="adj1" fmla="val -77810"/>
              <a:gd name="adj2" fmla="val 909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4194000" y="4159080"/>
            <a:ext cx="4321440" cy="2521080"/>
          </a:xfrm>
          <a:prstGeom prst="wedgeRectCallout">
            <a:avLst>
              <a:gd name="adj1" fmla="val -78694"/>
              <a:gd name="adj2" fmla="val -42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6" descr="图13-11-1 伸腿坐位"/>
          <p:cNvPicPr/>
          <p:nvPr/>
        </p:nvPicPr>
        <p:blipFill>
          <a:blip r:embed="rId1"/>
          <a:stretch/>
        </p:blipFill>
        <p:spPr>
          <a:xfrm>
            <a:off x="4267080" y="2214720"/>
            <a:ext cx="2105280" cy="2232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图13-11-2伸腿坐位"/>
          <p:cNvPicPr/>
          <p:nvPr/>
        </p:nvPicPr>
        <p:blipFill>
          <a:blip r:embed="rId2"/>
          <a:stretch/>
        </p:blipFill>
        <p:spPr>
          <a:xfrm>
            <a:off x="6427800" y="2286000"/>
            <a:ext cx="2019240" cy="2160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图13-12-1 盘坐位"/>
          <p:cNvPicPr/>
          <p:nvPr/>
        </p:nvPicPr>
        <p:blipFill>
          <a:blip r:embed="rId3"/>
          <a:stretch/>
        </p:blipFill>
        <p:spPr>
          <a:xfrm>
            <a:off x="4338720" y="4446720"/>
            <a:ext cx="2057400" cy="2028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图13-12-2 盘坐位"/>
          <p:cNvPicPr/>
          <p:nvPr/>
        </p:nvPicPr>
        <p:blipFill>
          <a:blip r:embed="rId4"/>
          <a:stretch/>
        </p:blipFill>
        <p:spPr>
          <a:xfrm>
            <a:off x="6427800" y="4375080"/>
            <a:ext cx="1942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595440" y="141300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48" name="组合 15"/>
          <p:cNvGrpSpPr/>
          <p:nvPr/>
        </p:nvGrpSpPr>
        <p:grpSpPr>
          <a:xfrm>
            <a:off x="3564000" y="2276640"/>
            <a:ext cx="5075280" cy="4349520"/>
            <a:chOff x="3564000" y="2276640"/>
            <a:chExt cx="5075280" cy="4349520"/>
          </a:xfrm>
        </p:grpSpPr>
        <p:sp>
          <p:nvSpPr>
            <p:cNvPr id="349" name="AutoShape 4"/>
            <p:cNvSpPr/>
            <p:nvPr/>
          </p:nvSpPr>
          <p:spPr>
            <a:xfrm>
              <a:off x="3564000" y="2276640"/>
              <a:ext cx="5075280" cy="4349520"/>
            </a:xfrm>
            <a:prstGeom prst="wedgeRectCallout">
              <a:avLst>
                <a:gd name="adj1" fmla="val -23046"/>
                <a:gd name="adj2" fmla="val 504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痉挛型角弓反张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0" name="Picture 5" descr="图13-23-1 痉挛型抱姿"/>
            <p:cNvPicPr/>
            <p:nvPr/>
          </p:nvPicPr>
          <p:blipFill>
            <a:blip r:embed="rId1"/>
            <a:stretch/>
          </p:blipFill>
          <p:spPr>
            <a:xfrm>
              <a:off x="4410360" y="2956680"/>
              <a:ext cx="3669480" cy="32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组合 6"/>
          <p:cNvGrpSpPr/>
          <p:nvPr/>
        </p:nvGrpSpPr>
        <p:grpSpPr>
          <a:xfrm>
            <a:off x="4572000" y="2297160"/>
            <a:ext cx="3456000" cy="3705120"/>
            <a:chOff x="4572000" y="2297160"/>
            <a:chExt cx="3456000" cy="3705120"/>
          </a:xfrm>
        </p:grpSpPr>
        <p:sp>
          <p:nvSpPr>
            <p:cNvPr id="352" name="AutoShape 6"/>
            <p:cNvSpPr/>
            <p:nvPr/>
          </p:nvSpPr>
          <p:spPr>
            <a:xfrm>
              <a:off x="4572000" y="2297160"/>
              <a:ext cx="3456000" cy="3705120"/>
            </a:xfrm>
            <a:prstGeom prst="wedgeRectCallout">
              <a:avLst>
                <a:gd name="adj1" fmla="val -19986"/>
                <a:gd name="adj2" fmla="val -5012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　不随意运动型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3" name="Picture 7" descr="图13-24-1 不随意运动型抱姿"/>
            <p:cNvPicPr/>
            <p:nvPr/>
          </p:nvPicPr>
          <p:blipFill>
            <a:blip r:embed="rId1"/>
            <a:stretch/>
          </p:blipFill>
          <p:spPr>
            <a:xfrm>
              <a:off x="5181480" y="2884320"/>
              <a:ext cx="2236680" cy="253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AutoShape 12"/>
          <p:cNvSpPr/>
          <p:nvPr/>
        </p:nvSpPr>
        <p:spPr>
          <a:xfrm>
            <a:off x="684360" y="2205000"/>
            <a:ext cx="3348000" cy="3889440"/>
          </a:xfrm>
          <a:prstGeom prst="wedgeRectCallout">
            <a:avLst>
              <a:gd name="adj1" fmla="val 29685"/>
              <a:gd name="adj2" fmla="val -5005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不随意运动型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肌张力低下型患儿抱法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5" name="Picture 13" descr="图13-24-2 不随意运动型抱姿"/>
          <p:cNvPicPr/>
          <p:nvPr/>
        </p:nvPicPr>
        <p:blipFill>
          <a:blip r:embed="rId2"/>
          <a:stretch/>
        </p:blipFill>
        <p:spPr>
          <a:xfrm>
            <a:off x="1225440" y="2903400"/>
            <a:ext cx="2430720" cy="274824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5"/>
          <p:cNvSpPr/>
          <p:nvPr/>
        </p:nvSpPr>
        <p:spPr>
          <a:xfrm>
            <a:off x="61128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684360" y="191628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59" name="组合 1"/>
          <p:cNvGrpSpPr/>
          <p:nvPr/>
        </p:nvGrpSpPr>
        <p:grpSpPr>
          <a:xfrm>
            <a:off x="522360" y="1773360"/>
            <a:ext cx="8028000" cy="4367160"/>
            <a:chOff x="522360" y="1773360"/>
            <a:chExt cx="8028000" cy="4367160"/>
          </a:xfrm>
        </p:grpSpPr>
        <p:sp>
          <p:nvSpPr>
            <p:cNvPr id="360" name="AutoShape 8"/>
            <p:cNvSpPr/>
            <p:nvPr/>
          </p:nvSpPr>
          <p:spPr>
            <a:xfrm>
              <a:off x="522360" y="1773360"/>
              <a:ext cx="8028000" cy="4367160"/>
            </a:xfrm>
            <a:prstGeom prst="wedgeRectCallout">
              <a:avLst>
                <a:gd name="adj1" fmla="val -24092"/>
                <a:gd name="adj2" fmla="val 4626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重度角弓反张患儿侧卧位抱起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1" name="Picture 9" descr="图13-29 重度角弓反张的特殊抱法"/>
            <p:cNvPicPr/>
            <p:nvPr/>
          </p:nvPicPr>
          <p:blipFill>
            <a:blip r:embed="rId1"/>
            <a:stretch/>
          </p:blipFill>
          <p:spPr>
            <a:xfrm>
              <a:off x="3052080" y="2781000"/>
              <a:ext cx="2514600" cy="305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63" name="组合 1"/>
          <p:cNvGrpSpPr/>
          <p:nvPr/>
        </p:nvGrpSpPr>
        <p:grpSpPr>
          <a:xfrm>
            <a:off x="2054160" y="2060640"/>
            <a:ext cx="5256360" cy="3960720"/>
            <a:chOff x="2054160" y="2060640"/>
            <a:chExt cx="5256360" cy="3960720"/>
          </a:xfrm>
        </p:grpSpPr>
        <p:sp>
          <p:nvSpPr>
            <p:cNvPr id="364" name="AutoShape 10"/>
            <p:cNvSpPr/>
            <p:nvPr/>
          </p:nvSpPr>
          <p:spPr>
            <a:xfrm>
              <a:off x="2054160" y="2060640"/>
              <a:ext cx="5256360" cy="3960720"/>
            </a:xfrm>
            <a:prstGeom prst="wedgeRectCallout">
              <a:avLst>
                <a:gd name="adj1" fmla="val -49643"/>
                <a:gd name="adj2" fmla="val -2956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屈曲占优势患儿抱法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5" name="Picture 11" descr="图13-28 屈曲占优势的特殊抱法"/>
            <p:cNvPicPr/>
            <p:nvPr/>
          </p:nvPicPr>
          <p:blipFill>
            <a:blip r:embed="rId1"/>
            <a:stretch/>
          </p:blipFill>
          <p:spPr>
            <a:xfrm>
              <a:off x="3021120" y="2826720"/>
              <a:ext cx="3182040" cy="319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684360" y="1916280"/>
            <a:ext cx="770400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洗浴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洗浴时应注意不加重异常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体位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患儿有安全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684360" y="1916280"/>
            <a:ext cx="770400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衣服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套头衫或背心时，穿先患侧再健侧，脱健侧后患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对襟衣服，先将其下面纽扣扣好，根据患儿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留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上面的纽扣不扣，再按照套头衫脱穿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684360" y="2133720"/>
            <a:ext cx="7704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裤子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取坐位，先患侧套入裤筒，再穿另一侧，然后躺下，边蹬健足，边向上提拉裤子到腰部并系好。脱与穿相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459640" cy="30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识记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．陈述脑瘫概念、常见类型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描述脑瘫的临床表现和主要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理解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解释脑瘫的致病因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归纳各型脑瘫的典型体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运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评估各型脑瘫患儿并为其制订康复护理计划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58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5C1E-27FB-402B-A27E-1A86C281002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1700280"/>
            <a:ext cx="820728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进食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抱坐喂食；②面对面进食；③坐位进食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④坐在固定椅子上进食；⑤侧卧位进食；⑥俯卧位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喂饮时应注意，勺进入口腔的位置要低于患儿的口唇，从口唇的中央部位插入，喂食者避免从患儿头的上方或侧方喂饮，防止引起患儿的头部过度伸展和向一侧回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684360" y="1916280"/>
            <a:ext cx="770400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排泄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培养定时排便的习惯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能座位排便的患儿应注意增加稳定性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注意座位的高度，双脚能踏到地面为宜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障碍的护理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早期给予言语刺激及动作模仿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强调早期干预并融入日常生活活动中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加强心理护理增强社会交往能力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创造机会参与社会活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增强社会交往能力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56760" y="50004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91D3-E6B0-4FFC-82AA-2EE5CE99302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7775640" cy="38880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介绍脑瘫致病因素、临床表现、预防措施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提倡早发现、早期综合干预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积极开展产前检查，防止感染性疾病发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避免早产、低体重儿和巨大儿出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导正确进食姿势、正确抱姿、正确睡眠体位 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771640" y="25992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A89F-A6CF-45F8-A1B9-942F7A6A7C0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85520" y="1999800"/>
            <a:ext cx="742932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主要致病因素是脑缺氧或脑部血液灌注不足。胎儿宫内窘迫、早产儿、低出生体重儿、新生儿窒息、新生儿缺血缺氧性脑病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所致的主要功能障碍有竖颈困难、流涎、咀嚼吞咽困难、平衡障碍、语言障碍、听觉障碍、视觉障碍、行为障碍、癫痫、感觉和认知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矩形 1"/>
          <p:cNvSpPr/>
          <p:nvPr/>
        </p:nvSpPr>
        <p:spPr>
          <a:xfrm>
            <a:off x="900000" y="148428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评估包括健康状态、躯体功能、言语功能、感知及认知功能、日常生活活动能力、心理社会状况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措施可根据脑瘫各型特点有针对性的进行异常姿势的矫正，防止关节强直挛缩发生；加强日常生活活动能力指导；早期语言刺激与干预；强化心理护理与自信心的培养，最大限度恢复心理、躯体功能，提高社会参与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矩形 1"/>
          <p:cNvSpPr/>
          <p:nvPr/>
        </p:nvSpPr>
        <p:spPr>
          <a:xfrm>
            <a:off x="900000" y="19162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指导包括介绍脑瘫致病因素、临床表现、治疗方法，预防措施；指导患儿家长如何控制脑瘫患儿的异常姿势、如何保持患儿正确进食姿势、指导家长对患儿的正确抱姿及正确的睡眠体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E5DE-67B9-4982-A9A3-CFD3606FDB4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脑性瘫痪（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cerebral palsy, CP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简称脑瘫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定义：自受孕开始至婴儿期非进行性脑损伤和发育缺陷所导致的综合征，其主要表现为运动障碍及姿势异常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2195280" y="83664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FB34-1E2F-489B-8C73-4960DCA9A3F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569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世界范围内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5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01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年脑瘫流行病学调查：黑龙江、北京、山西、山东、青海、陕西、河南、安徽、重庆、湖南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广西、广东共涉及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万名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儿童患病率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青海最高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.4‰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山东最低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0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71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黑龙江省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8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42600" y="785880"/>
            <a:ext cx="60166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脑瘫发病率</a:t>
            </a:r>
            <a:endParaRPr b="1" lang="en-US" sz="32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E5E9-56BE-4CBC-8B22-A60377F5D7D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Oval 4"/>
          <p:cNvSpPr/>
          <p:nvPr/>
        </p:nvSpPr>
        <p:spPr>
          <a:xfrm>
            <a:off x="3132000" y="1700280"/>
            <a:ext cx="2952720" cy="100800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缺氧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Oval 5"/>
          <p:cNvSpPr/>
          <p:nvPr/>
        </p:nvSpPr>
        <p:spPr>
          <a:xfrm>
            <a:off x="2987640" y="3141720"/>
            <a:ext cx="3240000" cy="1366920"/>
          </a:xfrm>
          <a:prstGeom prst="ellipse">
            <a:avLst/>
          </a:prstGeom>
          <a:solidFill>
            <a:srgbClr val="ffabe3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4500720" y="270828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4572000" y="4508640"/>
            <a:ext cx="142920" cy="360360"/>
          </a:xfrm>
          <a:prstGeom prst="upArrow">
            <a:avLst>
              <a:gd name="adj1" fmla="val 50000"/>
              <a:gd name="adj2" fmla="val 6303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2484360" y="4941720"/>
            <a:ext cx="4319640" cy="108108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部血液灌注不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D4BC-A30B-4E73-AD45-80A21FF5EC9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6" name="Oval 4"/>
          <p:cNvSpPr/>
          <p:nvPr/>
        </p:nvSpPr>
        <p:spPr>
          <a:xfrm>
            <a:off x="3276720" y="155736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发育迟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Oval 5"/>
          <p:cNvSpPr/>
          <p:nvPr/>
        </p:nvSpPr>
        <p:spPr>
          <a:xfrm>
            <a:off x="3276720" y="3141720"/>
            <a:ext cx="2663640" cy="1584360"/>
          </a:xfrm>
          <a:prstGeom prst="ellipse">
            <a:avLst/>
          </a:prstGeom>
          <a:solidFill>
            <a:srgbClr val="ffdd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主要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1187280" y="5084640"/>
            <a:ext cx="3456000" cy="107964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糖和高胆红素血症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468360" y="3789360"/>
            <a:ext cx="23032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早产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8"/>
          <p:cNvSpPr/>
          <p:nvPr/>
        </p:nvSpPr>
        <p:spPr>
          <a:xfrm>
            <a:off x="6516720" y="3645000"/>
            <a:ext cx="2411280" cy="107928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窒息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684360" y="2276640"/>
            <a:ext cx="259236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宫内窘迫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5867280" y="220500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低出生体重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11"/>
          <p:cNvSpPr/>
          <p:nvPr/>
        </p:nvSpPr>
        <p:spPr>
          <a:xfrm>
            <a:off x="4859280" y="5157720"/>
            <a:ext cx="35290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缺血缺氧性脑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2"/>
          <p:cNvSpPr/>
          <p:nvPr/>
        </p:nvSpPr>
        <p:spPr>
          <a:xfrm flipV="1">
            <a:off x="2771640" y="4076640"/>
            <a:ext cx="505080" cy="21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3203640" y="2997360"/>
            <a:ext cx="431640" cy="360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643280" y="2565360"/>
            <a:ext cx="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5"/>
          <p:cNvSpPr/>
          <p:nvPr/>
        </p:nvSpPr>
        <p:spPr>
          <a:xfrm flipV="1">
            <a:off x="3780000" y="4724280"/>
            <a:ext cx="287280" cy="4334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 flipV="1">
            <a:off x="5940000" y="4005000"/>
            <a:ext cx="576360" cy="144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 flipH="1" flipV="1">
            <a:off x="5219640" y="4652640"/>
            <a:ext cx="43200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 flipH="1">
            <a:off x="5724000" y="2997360"/>
            <a:ext cx="36036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9EB6-8917-4457-A66D-D006A7F52BF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3000" y="549360"/>
            <a:ext cx="746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250920" y="2997360"/>
            <a:ext cx="2089080" cy="863280"/>
          </a:xfrm>
          <a:prstGeom prst="rect">
            <a:avLst/>
          </a:prstGeom>
          <a:solidFill>
            <a:srgbClr val="ffe1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2843280" y="2276640"/>
            <a:ext cx="244800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中枢运动功能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2987640" y="4076640"/>
            <a:ext cx="201600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姿势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2384280" y="2637000"/>
            <a:ext cx="316080" cy="2087280"/>
          </a:xfrm>
          <a:custGeom>
            <a:avLst/>
            <a:gdLst>
              <a:gd name="textAreaLeft" fmla="*/ 201960 w 316080"/>
              <a:gd name="textAreaRight" fmla="*/ 316440 w 31608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5867280" y="1844640"/>
            <a:ext cx="2448000" cy="4176720"/>
          </a:xfrm>
          <a:prstGeom prst="rect">
            <a:avLst/>
          </a:prstGeom>
          <a:solidFill>
            <a:srgbClr val="ffffe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伴有不同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力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视听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知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行为异常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9"/>
          <p:cNvSpPr/>
          <p:nvPr/>
        </p:nvSpPr>
        <p:spPr>
          <a:xfrm>
            <a:off x="5435640" y="2565360"/>
            <a:ext cx="288720" cy="2448000"/>
          </a:xfrm>
          <a:custGeom>
            <a:avLst/>
            <a:gdLst>
              <a:gd name="textAreaLeft" fmla="*/ 0 w 288720"/>
              <a:gd name="textAreaRight" fmla="*/ 104040 w 28872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4438-A2DF-418A-BA36-FDD7D631170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755964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1187280" y="2924280"/>
            <a:ext cx="2089440" cy="1008000"/>
          </a:xfrm>
          <a:prstGeom prst="rect">
            <a:avLst/>
          </a:prstGeom>
          <a:solidFill>
            <a:srgbClr val="ffe5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分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4427640" y="2133720"/>
            <a:ext cx="3600360" cy="3816360"/>
          </a:xfrm>
          <a:prstGeom prst="rect">
            <a:avLst/>
          </a:prstGeom>
          <a:solidFill>
            <a:srgbClr val="e1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⑤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⑥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492360" y="3357720"/>
            <a:ext cx="792360" cy="215640"/>
          </a:xfrm>
          <a:prstGeom prst="rightArrow">
            <a:avLst>
              <a:gd name="adj1" fmla="val 50000"/>
              <a:gd name="adj2" fmla="val 9186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16:56Z</dcterms:modified>
  <cp:revision>8</cp:revision>
  <dc:subject/>
  <dc:title>第一章 儿科疾病的护理</dc:title>
</cp:coreProperties>
</file>