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1DFD65-C24F-4DE9-9339-2EC334AF443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4A0794-B47E-46D1-B7EC-00C9DB2D6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3CA74D-E0A0-4631-825E-3DD330320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C64892-B276-4F46-AEE3-5A2D92BD4F8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2632C9-AD99-40A4-A467-19389FE60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97FC0C-56D5-4348-8A21-2BDE8A074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50D419-78ED-4C91-8569-732A19711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EA7464-4105-496A-877D-F6C743D73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D2C537-CC08-4D60-8B18-789D3E634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B8260C-58F7-4A4D-B190-19CD12896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45F103-7F03-444E-9C69-C38BBE594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3A68AA-9952-4983-B939-CFB7F2C80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A0BC6-82D2-4AC9-BA76-2CD231369A91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9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第六章</a:t>
            </a:r>
            <a:br>
              <a:rPr sz="4800"/>
            </a:b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常见神经系统疾病</a:t>
            </a:r>
            <a:br>
              <a:rPr sz="4800"/>
            </a:b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康复护理</a:t>
            </a:r>
            <a:br>
              <a:rPr sz="3600"/>
            </a:b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42680" y="549000"/>
            <a:ext cx="6000840" cy="5922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二、主要功能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灯片编号占位符 5"/>
          <p:cNvSpPr/>
          <p:nvPr/>
        </p:nvSpPr>
        <p:spPr>
          <a:xfrm>
            <a:off x="6588000" y="638172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A3DA2-557A-4662-A2BF-C3C4931C0358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Rectangle 3"/>
          <p:cNvSpPr/>
          <p:nvPr/>
        </p:nvSpPr>
        <p:spPr>
          <a:xfrm>
            <a:off x="826920" y="1700280"/>
            <a:ext cx="763272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447840">
              <a:lnSpc>
                <a:spcPct val="110000"/>
              </a:lnSpc>
              <a:spcBef>
                <a:spcPts val="799"/>
              </a:spcBef>
              <a:buClr>
                <a:srgbClr val="8ac8d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运动功能障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47840" indent="-447840">
              <a:lnSpc>
                <a:spcPct val="110000"/>
              </a:lnSpc>
              <a:spcBef>
                <a:spcPts val="799"/>
              </a:spcBef>
              <a:buClr>
                <a:srgbClr val="8ac8d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感觉障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47840" indent="-447840">
              <a:lnSpc>
                <a:spcPct val="110000"/>
              </a:lnSpc>
              <a:spcBef>
                <a:spcPts val="799"/>
              </a:spcBef>
              <a:buClr>
                <a:srgbClr val="8ac8d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言语功能障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47840" indent="-447840">
              <a:lnSpc>
                <a:spcPct val="110000"/>
              </a:lnSpc>
              <a:spcBef>
                <a:spcPts val="799"/>
              </a:spcBef>
              <a:buClr>
                <a:srgbClr val="8ac8d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摄食和吞咽功能障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47840" indent="-447840">
              <a:lnSpc>
                <a:spcPct val="110000"/>
              </a:lnSpc>
              <a:spcBef>
                <a:spcPts val="799"/>
              </a:spcBef>
              <a:buClr>
                <a:srgbClr val="8ac8d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认知障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47840" indent="-447840">
              <a:lnSpc>
                <a:spcPct val="110000"/>
              </a:lnSpc>
              <a:spcBef>
                <a:spcPts val="799"/>
              </a:spcBef>
              <a:buClr>
                <a:srgbClr val="8ac8d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日常生活活动能力障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47840" indent="-447840">
              <a:lnSpc>
                <a:spcPct val="110000"/>
              </a:lnSpc>
              <a:spcBef>
                <a:spcPts val="799"/>
              </a:spcBef>
              <a:buClr>
                <a:srgbClr val="8ac8d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心理障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AutoShape 10"/>
          <p:cNvSpPr/>
          <p:nvPr/>
        </p:nvSpPr>
        <p:spPr>
          <a:xfrm>
            <a:off x="4427640" y="549360"/>
            <a:ext cx="3960720" cy="1584360"/>
          </a:xfrm>
          <a:prstGeom prst="wedgeRectCallout">
            <a:avLst>
              <a:gd name="adj1" fmla="val -65472"/>
              <a:gd name="adj2" fmla="val 40180"/>
            </a:avLst>
          </a:prstGeom>
          <a:solidFill>
            <a:srgbClr val="defdc7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偏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根据肌张力状态分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驰缓期、痉挛期、恢复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AutoShape 11"/>
          <p:cNvSpPr/>
          <p:nvPr/>
        </p:nvSpPr>
        <p:spPr>
          <a:xfrm>
            <a:off x="4427640" y="1628640"/>
            <a:ext cx="3960720" cy="936720"/>
          </a:xfrm>
          <a:prstGeom prst="wedgeRectCallout">
            <a:avLst>
              <a:gd name="adj1" fmla="val -77537"/>
              <a:gd name="adj2" fmla="val 58305"/>
            </a:avLst>
          </a:prstGeom>
          <a:solidFill>
            <a:srgbClr val="f7ffa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痛觉、温度觉、运动觉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位置觉、实体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AutoShape 12"/>
          <p:cNvSpPr/>
          <p:nvPr/>
        </p:nvSpPr>
        <p:spPr>
          <a:xfrm>
            <a:off x="4427640" y="2276640"/>
            <a:ext cx="4465440" cy="1296720"/>
          </a:xfrm>
          <a:prstGeom prst="wedgeRectCallout">
            <a:avLst>
              <a:gd name="adj1" fmla="val -59347"/>
              <a:gd name="adj2" fmla="val 32986"/>
            </a:avLst>
          </a:prstGeom>
          <a:solidFill>
            <a:srgbClr val="baeef4"/>
          </a:solidFill>
          <a:ln w="9360">
            <a:solidFill>
              <a:srgbClr val="baeef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Arial"/>
                <a:ea typeface="华文新魏"/>
              </a:rPr>
              <a:t>失语症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（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华文新魏"/>
              </a:rPr>
              <a:t>听说读写能力障碍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Arial"/>
                <a:ea typeface="华文新魏"/>
              </a:rPr>
              <a:t>构音障碍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（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华文新魏"/>
              </a:rPr>
              <a:t>发音不准、吐字不清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华文新魏"/>
              </a:rPr>
              <a:t>　　　　　　语调及速率节奏异常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AutoShape 13"/>
          <p:cNvSpPr/>
          <p:nvPr/>
        </p:nvSpPr>
        <p:spPr>
          <a:xfrm>
            <a:off x="4932360" y="3213000"/>
            <a:ext cx="3887640" cy="1081080"/>
          </a:xfrm>
          <a:prstGeom prst="wedgeRectCallout">
            <a:avLst>
              <a:gd name="adj1" fmla="val -66250"/>
              <a:gd name="adj2" fmla="val 22541"/>
            </a:avLst>
          </a:prstGeom>
          <a:solidFill>
            <a:srgbClr val="ffcc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口腔周围肌群协调能力失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摄食和吞咽运动控制失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AutoShape 14"/>
          <p:cNvSpPr/>
          <p:nvPr/>
        </p:nvSpPr>
        <p:spPr>
          <a:xfrm>
            <a:off x="4932360" y="3933720"/>
            <a:ext cx="3887640" cy="1008000"/>
          </a:xfrm>
          <a:prstGeom prst="wedgeRectCallout">
            <a:avLst>
              <a:gd name="adj1" fmla="val -89444"/>
              <a:gd name="adj2" fmla="val 21652"/>
            </a:avLst>
          </a:prstGeom>
          <a:solidFill>
            <a:srgbClr val="dcfce9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意识、注意力、记忆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智力障碍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失认证、失用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AutoShape 15"/>
          <p:cNvSpPr/>
          <p:nvPr/>
        </p:nvSpPr>
        <p:spPr>
          <a:xfrm>
            <a:off x="5148360" y="4581360"/>
            <a:ext cx="3671640" cy="1440000"/>
          </a:xfrm>
          <a:prstGeom prst="wedgeRectCallout">
            <a:avLst>
              <a:gd name="adj1" fmla="val -62407"/>
              <a:gd name="adj2" fmla="val 6671"/>
            </a:avLst>
          </a:prstGeom>
          <a:solidFill>
            <a:srgbClr val="f8d98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更衣、进食、卫生、行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上下楼梯等基本动作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技巧能力下降或丧失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AutoShape 16"/>
          <p:cNvSpPr/>
          <p:nvPr/>
        </p:nvSpPr>
        <p:spPr>
          <a:xfrm>
            <a:off x="5148360" y="5877000"/>
            <a:ext cx="3671640" cy="718920"/>
          </a:xfrm>
          <a:prstGeom prst="wedgeRectCallout">
            <a:avLst>
              <a:gd name="adj1" fmla="val -103953"/>
              <a:gd name="adj2" fmla="val -47569"/>
            </a:avLst>
          </a:prstGeom>
          <a:solidFill>
            <a:srgbClr val="efe4f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抑郁、焦躁、恐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矩形 2"/>
          <p:cNvSpPr/>
          <p:nvPr/>
        </p:nvSpPr>
        <p:spPr>
          <a:xfrm>
            <a:off x="755640" y="1163520"/>
            <a:ext cx="7848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楷体"/>
                <a:ea typeface="楷体"/>
              </a:rPr>
              <a:t>案例</a:t>
            </a:r>
            <a:r>
              <a:rPr b="1" lang="en-US" sz="2800" spc="-1" strike="noStrike">
                <a:solidFill>
                  <a:srgbClr val="c00000"/>
                </a:solidFill>
                <a:latin typeface="楷体"/>
                <a:ea typeface="楷体"/>
              </a:rPr>
              <a:t> </a:t>
            </a:r>
            <a:r>
              <a:rPr b="1" lang="en-US" sz="2800" spc="-1" strike="noStrike">
                <a:solidFill>
                  <a:srgbClr val="c00000"/>
                </a:solidFill>
                <a:latin typeface="楷体"/>
                <a:ea typeface="楷体"/>
              </a:rPr>
              <a:t>6-1 A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患者杨某，男性，</a:t>
            </a: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69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岁，主因左侧肢体活动不利</a:t>
            </a: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天入院。既往有</a:t>
            </a: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高血压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病</a:t>
            </a: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12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年，</a:t>
            </a: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冠心病</a:t>
            </a: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年。患者于</a:t>
            </a: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天前晨起发现左侧肢体无力，急到本区医院就诊，行头颅</a:t>
            </a: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CT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检查，未见异常。经药物治疗病情仍进一步加重，复查头颅</a:t>
            </a: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CT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：右侧基底节区脑梗塞。于</a:t>
            </a: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天前左侧肢体完全瘫痪。查体：血压</a:t>
            </a: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160/90mmHg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，心肺查体大致正常。神智清楚，言语流利，智力正常，饮水偶有轻度呛咳，左鼻唇沟浅，肌张力低，腱反射稍弱，</a:t>
            </a: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Babinski sign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+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）。不能保持坐位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云形 3"/>
          <p:cNvSpPr/>
          <p:nvPr/>
        </p:nvSpPr>
        <p:spPr>
          <a:xfrm>
            <a:off x="1403280" y="1968480"/>
            <a:ext cx="6840720" cy="3013200"/>
          </a:xfrm>
          <a:prstGeom prst="pie">
            <a:avLst/>
          </a:prstGeom>
          <a:solidFill>
            <a:srgbClr val="8ac8de"/>
          </a:solidFill>
          <a:ln w="93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92aa2"/>
                </a:solidFill>
                <a:latin typeface="楷体"/>
                <a:ea typeface="楷体"/>
              </a:rPr>
              <a:t>问题与思考：患者存在哪些障碍（包括功能和能力障碍）？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28760" y="714240"/>
            <a:ext cx="7997760" cy="66384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三、康复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矩形 1"/>
          <p:cNvSpPr/>
          <p:nvPr/>
        </p:nvSpPr>
        <p:spPr>
          <a:xfrm>
            <a:off x="755640" y="1628640"/>
            <a:ext cx="73454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99"/>
                </a:solidFill>
                <a:latin typeface="华文新魏"/>
                <a:ea typeface="华文新魏"/>
              </a:rPr>
              <a:t>案例 </a:t>
            </a:r>
            <a:r>
              <a:rPr b="1" lang="en-US" sz="2800" spc="-1" strike="noStrike">
                <a:solidFill>
                  <a:srgbClr val="ff3399"/>
                </a:solidFill>
                <a:latin typeface="华文新魏"/>
                <a:ea typeface="华文新魏"/>
              </a:rPr>
              <a:t>6-1B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该患者应用降纤酶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0U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奥扎格雷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80mg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丁咯地尔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00 mg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胞二磷酸钠等综合治疗，同时应用硝苯地平缓释片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0mg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口服，血压控制在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40/90mmHg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经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天治疗，病情稳定，现患者仍有轻度饮水呛咳，左侧肢体不能活动，肌张力高，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Babinski sign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），日常生活需要帮助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问题与思考：该患者能否进行康复训练？应怎样进行功能评估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nodeType="clickEffect" fill="hold">
                      <p:stCondLst>
                        <p:cond delay="0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3"/>
          <p:cNvSpPr/>
          <p:nvPr/>
        </p:nvSpPr>
        <p:spPr>
          <a:xfrm>
            <a:off x="826920" y="1557360"/>
            <a:ext cx="749160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ts val="4598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运动功能</a:t>
            </a:r>
            <a:r>
              <a:rPr b="1" lang="zh-CN" sz="3600" spc="-1" strike="noStrike">
                <a:solidFill>
                  <a:srgbClr val="ff00ff"/>
                </a:solidFill>
                <a:latin typeface="华文新魏"/>
                <a:ea typeface="华文新魏"/>
              </a:rPr>
              <a:t>评估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45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        运动功能评估主要是对运动模式、肌张力、肌肉协调能力进行评估，运动模式改变评估多采用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Brunnstrom 6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阶段评估法，肌力状况评估多采用徒手肌力和器械肌力评估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Rectangle 4"/>
          <p:cNvSpPr/>
          <p:nvPr/>
        </p:nvSpPr>
        <p:spPr>
          <a:xfrm>
            <a:off x="428760" y="714240"/>
            <a:ext cx="7997760" cy="66384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三、康复护理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nodeType="clickEffect" fill="hold">
                      <p:stCondLst>
                        <p:cond delay="0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0" y="-79200"/>
          <a:ext cx="9144000" cy="6949800"/>
        </p:xfrm>
        <a:graphic>
          <a:graphicData uri="http://schemas.openxmlformats.org/drawingml/2006/table">
            <a:tbl>
              <a:tblPr/>
              <a:tblGrid>
                <a:gridCol w="692280"/>
                <a:gridCol w="2690640"/>
                <a:gridCol w="3113280"/>
                <a:gridCol w="2647800"/>
              </a:tblGrid>
              <a:tr h="3664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楷体"/>
                          <a:ea typeface="楷体"/>
                        </a:rPr>
                        <a:t>阶段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楷体"/>
                          <a:ea typeface="楷体"/>
                        </a:rPr>
                        <a:t>手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楷体"/>
                          <a:ea typeface="楷体"/>
                        </a:rPr>
                        <a:t>上肢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楷体"/>
                          <a:ea typeface="楷体"/>
                        </a:rPr>
                        <a:t>下肢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3650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楷体"/>
                          <a:ea typeface="楷体"/>
                        </a:rPr>
                        <a:t>1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无任何运动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无任何运动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无任何运动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3654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楷体"/>
                          <a:ea typeface="楷体"/>
                        </a:rPr>
                        <a:t>2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仅有极细微的屈曲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仅出现协同运动模式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仅有极少的随意运动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7318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楷体"/>
                          <a:ea typeface="楷体"/>
                        </a:rPr>
                        <a:t>3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可有勾状抓握，但不能伸指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可随意发起协同运动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在坐和站立位上，有髋、膝、踝的协同性屈曲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18288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楷体"/>
                          <a:ea typeface="楷体"/>
                        </a:rPr>
                        <a:t>4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能侧捏及松开拇指，手指有半随意的小范围伸展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66600"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出现脱离协同运动的活动：肩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0°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，肘屈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90°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的条件下，前臂可旋前、旋后；肘伸直的情况下，肩可前屈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90°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；手臂可触及腰骶部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在座位上，可屈膝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90°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以上，足可向后滑动。在足跟不离地的情况下踝能背屈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18288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楷体"/>
                          <a:ea typeface="楷体"/>
                        </a:rPr>
                        <a:t>5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可作球状和圆柱状抓握，手指同时伸展，但不能单独伸展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66600"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出现相对独立于协同运动的活动；肩伸直时肩可外展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90°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；肘伸直，肩前屈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30°-90°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时，前臂可旋前、旋后；肘伸直，前臂中立位，上肢可举过头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健腿站，病腿可先屈膝，后伸髋；伸膝下，踝可背屈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14634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楷体"/>
                          <a:ea typeface="楷体"/>
                        </a:rPr>
                        <a:t>6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所有抓握均能完成，但速度和准确性比健侧差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66600"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运动协调近于正常，手指指鼻无明显辨距不良，但速度比健侧慢（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≤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5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秒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在站立位可使髋外展到抬起该侧骨盆所能达到的范围；坐位下伸直膝可内外旋下肢，合并足内外翻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28760" y="714240"/>
            <a:ext cx="7997760" cy="66384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三、康复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26920" y="1483920"/>
            <a:ext cx="74916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598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华文新魏"/>
                <a:ea typeface="华文新魏"/>
              </a:rPr>
              <a:t>感觉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评估患者的痛觉、温度觉、触觉、运动觉、位置觉、实体觉和图形觉是否减退或丧失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华文新魏"/>
                <a:ea typeface="华文新魏"/>
              </a:rPr>
              <a:t>言语功能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脑卒中后主要为构音障碍与失语症。言语功能评估主要是通过交流、观察、使用通用的量表以及仪器检查等方法进行判断其性质、类型及程度，确定是否需要进行言语治疗以及采取何种治疗及护理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nodeType="clickEffect" fill="hold">
                      <p:stCondLst>
                        <p:cond delay="0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2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28760" y="714240"/>
            <a:ext cx="7997760" cy="66384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三、康复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00000" y="2060280"/>
            <a:ext cx="74916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华文新魏"/>
                <a:ea typeface="华文新魏"/>
              </a:rPr>
              <a:t>摄食和吞咽功能评估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评估患者是否存在吞咽困难，有无伴随症状，如梗阻感、咽喉痛、鼻腔反流、胃食管反流、误咽等症状，并对其程度进行量化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nodeType="clickEffect" fill="hold">
                      <p:stCondLst>
                        <p:cond delay="0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矩形 2"/>
          <p:cNvSpPr/>
          <p:nvPr/>
        </p:nvSpPr>
        <p:spPr>
          <a:xfrm>
            <a:off x="826920" y="1484280"/>
            <a:ext cx="7561440" cy="26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15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认知与心理评估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571680" indent="-5716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常用的评估方法有简易精神状态量表、神经行为认知状态测试、蒙特利尔认知评估量表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buClr>
                <a:srgbClr val="ff33cc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心理评估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评估患者的心理状态，人际关系与环境适应能力，了解心理困扰问题，有无抑郁、焦虑、恐惧等心理障碍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矩形 1"/>
          <p:cNvSpPr/>
          <p:nvPr/>
        </p:nvSpPr>
        <p:spPr>
          <a:xfrm>
            <a:off x="900000" y="1989000"/>
            <a:ext cx="741708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15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日常生活活动功能评估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571680" indent="-5716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由于脑卒中患者存在运动功能、言语功能、感觉功能、认知功能等多种功能障碍，常导致日常生活活动基本动作和技巧能力的下降或丧失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9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第一节  脑卒中 </a:t>
            </a:r>
            <a:br>
              <a:rPr sz="3600"/>
            </a:b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矩形 2"/>
          <p:cNvSpPr/>
          <p:nvPr/>
        </p:nvSpPr>
        <p:spPr>
          <a:xfrm>
            <a:off x="1258920" y="2205000"/>
            <a:ext cx="73454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案例</a:t>
            </a: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6-1C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该患者经评价左侧上肢</a:t>
            </a: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Brunnstrom 2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级，左侧下肢</a:t>
            </a: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Brunnstrom 3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级，肌张力高，</a:t>
            </a: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Barthel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指数</a:t>
            </a: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46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分，饮水试验</a:t>
            </a: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分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问题与思考：该患者康复护理介入的时机是什么？应采取哪些康复护理措施进行预防和训练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Rectangle 5"/>
          <p:cNvSpPr/>
          <p:nvPr/>
        </p:nvSpPr>
        <p:spPr>
          <a:xfrm>
            <a:off x="604800" y="1092240"/>
            <a:ext cx="8321760" cy="6634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r>
              <a:rPr b="1" lang="en-US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—</a:t>
            </a: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原则及目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71320" y="785520"/>
            <a:ext cx="8321400" cy="6634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r>
              <a:rPr b="1" lang="en-US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—</a:t>
            </a: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原则及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B0B0B-9426-49A0-BC3A-806025516156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393040" cy="438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早期康复、循序渐进、持之以衡、预防复发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目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598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华文新魏"/>
                <a:ea typeface="华文新魏"/>
              </a:rPr>
              <a:t>  </a:t>
            </a:r>
            <a:r>
              <a:rPr b="1" lang="zh-CN" sz="2800" spc="-1" strike="noStrike">
                <a:solidFill>
                  <a:srgbClr val="99669b"/>
                </a:solidFill>
                <a:latin typeface="华文新魏"/>
                <a:ea typeface="华文新魏"/>
              </a:rPr>
              <a:t>短期：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未出现因活动受限引起的并发症或并发症能及时发现和处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598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华文新魏"/>
                <a:ea typeface="华文新魏"/>
              </a:rPr>
              <a:t>  </a:t>
            </a:r>
            <a:r>
              <a:rPr b="1" lang="zh-CN" sz="2800" spc="-1" strike="noStrike">
                <a:solidFill>
                  <a:srgbClr val="99669b"/>
                </a:solidFill>
                <a:latin typeface="华文新魏"/>
                <a:ea typeface="华文新魏"/>
              </a:rPr>
              <a:t>长期：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最大限度地恢复功能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1320" y="713880"/>
            <a:ext cx="7529400" cy="5922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r>
              <a:rPr b="1" lang="en-US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—</a:t>
            </a: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护理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C9976-C341-4D8C-9CA3-A24D2658E672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928440" y="2071800"/>
            <a:ext cx="7964280" cy="371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799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软瘫期康复护理（发病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周内 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799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※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临床特点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799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　意识清楚或轻度意识障碍，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799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　生命体征平稳，　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799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　肌力、肌张力、腱反射均低。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0" dur="5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3" dur="500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9" dur="500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4"/>
          <p:cNvSpPr/>
          <p:nvPr/>
        </p:nvSpPr>
        <p:spPr>
          <a:xfrm>
            <a:off x="684360" y="1916280"/>
            <a:ext cx="7704000" cy="32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901"/>
              </a:spcBef>
              <a:buClr>
                <a:srgbClr val="99669b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软瘫期康复护理（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发病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a50021"/>
                </a:solidFill>
                <a:latin typeface="华文新魏"/>
                <a:ea typeface="华文新魏"/>
              </a:rPr>
              <a:t>～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  <a:ea typeface="华文新魏"/>
              </a:rPr>
              <a:t>3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周内</a:t>
            </a: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 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●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良肢位摆放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●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肢体被动运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●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肢体主动运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10920" y="620640"/>
            <a:ext cx="8001000" cy="720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四、康复护理措施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华文新魏"/>
              </a:rPr>
              <a:t>—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护理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AutoShape 6"/>
          <p:cNvSpPr/>
          <p:nvPr/>
        </p:nvSpPr>
        <p:spPr>
          <a:xfrm>
            <a:off x="3203640" y="836640"/>
            <a:ext cx="5689440" cy="1798560"/>
          </a:xfrm>
          <a:prstGeom prst="wedgeRectCallout">
            <a:avLst>
              <a:gd name="adj1" fmla="val -48046"/>
              <a:gd name="adj2" fmla="val 86273"/>
            </a:avLst>
          </a:prstGeom>
          <a:solidFill>
            <a:srgbClr val="fdf9c3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防止或对抗痉挛模式的出现，保护肩关节防止半脱位，防止骨盆后倾、髋关节外展外旋及早期诱发分离运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AutoShape 7"/>
          <p:cNvSpPr/>
          <p:nvPr/>
        </p:nvSpPr>
        <p:spPr>
          <a:xfrm>
            <a:off x="3995640" y="1125360"/>
            <a:ext cx="4897440" cy="3816360"/>
          </a:xfrm>
          <a:prstGeom prst="wedgeRectCallout">
            <a:avLst>
              <a:gd name="adj1" fmla="val -55606"/>
              <a:gd name="adj2" fmla="val 28995"/>
            </a:avLst>
          </a:prstGeom>
          <a:solidFill>
            <a:srgbClr val="cc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从健侧到患侧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运动顺序应从</a:t>
            </a:r>
            <a:r>
              <a:rPr b="1" lang="zh-CN" sz="2400" spc="-1" strike="noStrike">
                <a:solidFill>
                  <a:srgbClr val="99669b"/>
                </a:solidFill>
                <a:latin typeface="Arial"/>
                <a:ea typeface="华文新魏"/>
              </a:rPr>
              <a:t>大到小关节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循序渐进动作要轻柔缓慢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Arial"/>
                <a:ea typeface="华文新魏"/>
              </a:rPr>
              <a:t>肩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关节外旋、外展和屈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Arial"/>
                <a:ea typeface="华文新魏"/>
              </a:rPr>
              <a:t>肘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关节伸展，腕和手指伸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Arial"/>
                <a:ea typeface="华文新魏"/>
              </a:rPr>
              <a:t>髋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关节外展和伸展，膝关节伸展，</a:t>
            </a:r>
            <a:r>
              <a:rPr b="1" lang="zh-CN" sz="2400" spc="-1" strike="noStrike">
                <a:solidFill>
                  <a:srgbClr val="99669b"/>
                </a:solidFill>
                <a:latin typeface="Arial"/>
                <a:ea typeface="华文新魏"/>
              </a:rPr>
              <a:t>足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背屈和外翻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AutoShape 8"/>
          <p:cNvSpPr/>
          <p:nvPr/>
        </p:nvSpPr>
        <p:spPr>
          <a:xfrm>
            <a:off x="3995640" y="2924280"/>
            <a:ext cx="4897440" cy="3241440"/>
          </a:xfrm>
          <a:prstGeom prst="wedgeRectCallout">
            <a:avLst>
              <a:gd name="adj1" fmla="val -56027"/>
              <a:gd name="adj2" fmla="val 11018"/>
            </a:avLst>
          </a:prstGeom>
          <a:solidFill>
            <a:srgbClr val="c7fdd4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被动向健侧翻身运动：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被动向患侧翻身训练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主动向健侧翻身运动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主动向患侧翻身运动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5</a:t>
            </a: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动态桥式运动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6</a:t>
            </a: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双侧桥式运动 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7</a:t>
            </a: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单桥式运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矩形 3"/>
          <p:cNvSpPr/>
          <p:nvPr/>
        </p:nvSpPr>
        <p:spPr>
          <a:xfrm>
            <a:off x="900000" y="1844640"/>
            <a:ext cx="75596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华文新魏"/>
                <a:ea typeface="华文新魏"/>
              </a:rPr>
              <a:t>案例</a:t>
            </a:r>
            <a:r>
              <a:rPr b="1" lang="en-US" sz="3600" spc="-1" strike="noStrike">
                <a:solidFill>
                  <a:srgbClr val="a50021"/>
                </a:solidFill>
                <a:latin typeface="华文新魏"/>
                <a:ea typeface="华文新魏"/>
              </a:rPr>
              <a:t>6-1 D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该患者临床诊断为“右侧基底节区脑梗死”。发病以来无头痛、恶心、呕吐、意识障碍及二便障碍。采用相应康复训练与治疗后症状进一步好转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92aa2"/>
                </a:solidFill>
                <a:latin typeface="华文新魏"/>
                <a:ea typeface="华文新魏"/>
              </a:rPr>
              <a:t>问题与思考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：①患者被动训练的项目有哪些？②康复训练时的注意事项有哪些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华文新魏"/>
                <a:ea typeface="华文新魏"/>
              </a:rPr>
              <a:t>偏瘫患者典型的痉挛模式：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　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上肢为肩下沉后缩、肘关节屈曲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前臂旋前、腕关节掌屈、手指屈曲；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下肢为外旋，髋膝关节伸直、足下垂内翻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title"/>
          </p:nvPr>
        </p:nvSpPr>
        <p:spPr>
          <a:xfrm>
            <a:off x="539280" y="620280"/>
            <a:ext cx="8001000" cy="68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四、康复护理措施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华文新魏"/>
              </a:rPr>
              <a:t>—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护理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nodeType="clickEffect" fill="hold">
                      <p:stCondLst>
                        <p:cond delay="0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8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71320" y="713880"/>
            <a:ext cx="7529400" cy="5922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r>
              <a:rPr b="1" lang="en-US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—</a:t>
            </a: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护理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16459-9900-414A-8BA1-D4198EF26B88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826920" y="1915920"/>
            <a:ext cx="7715520" cy="44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7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痉挛期康复护理（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发病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周内 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799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抗痉挛训练 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799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卧位抗痉挛、被动活动肩关节和肩胛带、下肢的控制能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799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坐位训练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799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坐位耐力训练、床边坐起训练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9" name="AutoShape 5"/>
          <p:cNvSpPr/>
          <p:nvPr/>
        </p:nvSpPr>
        <p:spPr>
          <a:xfrm>
            <a:off x="2484360" y="836640"/>
            <a:ext cx="5472360" cy="1728720"/>
          </a:xfrm>
          <a:prstGeom prst="wedgeRectCallout">
            <a:avLst>
              <a:gd name="adj1" fmla="val -43152"/>
              <a:gd name="adj2" fmla="val 105462"/>
            </a:avLst>
          </a:prstGeom>
          <a:solidFill>
            <a:srgbClr val="fbffd1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采用</a:t>
            </a:r>
            <a:r>
              <a:rPr b="1" lang="en-US" sz="20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Bobath</a:t>
            </a: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式握手，上肢上举，使患侧肩胛骨向前，患肘伸直。针对下肢可采用仰卧位，双腿屈曲，</a:t>
            </a:r>
            <a:r>
              <a:rPr b="1" lang="en-US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Bobath</a:t>
            </a: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式握手抱住双膝，将头抬起，轻轻前后摆动使下肢更加屈曲。</a:t>
            </a:r>
            <a:r>
              <a:rPr b="0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" name="AutoShape 6"/>
          <p:cNvSpPr/>
          <p:nvPr/>
        </p:nvSpPr>
        <p:spPr>
          <a:xfrm>
            <a:off x="3492360" y="1628640"/>
            <a:ext cx="4464360" cy="1152720"/>
          </a:xfrm>
          <a:prstGeom prst="wedgeRectCallout">
            <a:avLst>
              <a:gd name="adj1" fmla="val -34425"/>
              <a:gd name="adj2" fmla="val 115013"/>
            </a:avLst>
          </a:prstGeom>
          <a:solidFill>
            <a:srgbClr val="9cfed9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患者仰卧，以</a:t>
            </a:r>
            <a:r>
              <a:rPr b="1" lang="en-US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Bobath</a:t>
            </a: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式握手，用健手带动患手上举上肢，肘关节尽量伸直</a:t>
            </a:r>
            <a:r>
              <a:rPr b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AutoShape 7"/>
          <p:cNvSpPr/>
          <p:nvPr/>
        </p:nvSpPr>
        <p:spPr>
          <a:xfrm>
            <a:off x="3995640" y="2349360"/>
            <a:ext cx="3961080" cy="1295640"/>
          </a:xfrm>
          <a:prstGeom prst="wedgeRectCallout">
            <a:avLst>
              <a:gd name="adj1" fmla="val -68115"/>
              <a:gd name="adj2" fmla="val 93504"/>
            </a:avLst>
          </a:prstGeom>
          <a:solidFill>
            <a:srgbClr val="97d9f7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①</a:t>
            </a: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屈髋、屈膝训练，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②</a:t>
            </a: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屈踝训练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③</a:t>
            </a: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下肢内收、外展控制训练</a:t>
            </a:r>
            <a:r>
              <a:rPr b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AutoShape 8"/>
          <p:cNvSpPr/>
          <p:nvPr/>
        </p:nvSpPr>
        <p:spPr>
          <a:xfrm>
            <a:off x="3995640" y="3284640"/>
            <a:ext cx="3961080" cy="1800000"/>
          </a:xfrm>
          <a:prstGeom prst="wedgeRectCallout">
            <a:avLst>
              <a:gd name="adj1" fmla="val -76972"/>
              <a:gd name="adj2" fmla="val 80245"/>
            </a:avLst>
          </a:prstGeom>
          <a:solidFill>
            <a:srgbClr val="f7d48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开始坐起时可能发生体位性低血压首先进行坐位耐力训练。坐起角度可先取</a:t>
            </a:r>
            <a:r>
              <a:rPr b="1" lang="en-US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30°</a:t>
            </a: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坚持</a:t>
            </a:r>
            <a:r>
              <a:rPr b="1" lang="en-US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30</a:t>
            </a: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分钟后，逐步过渡到</a:t>
            </a:r>
            <a:r>
              <a:rPr b="1" lang="en-US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60°</a:t>
            </a: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，直至最后</a:t>
            </a:r>
            <a:r>
              <a:rPr b="1" lang="en-US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90°</a:t>
            </a:r>
            <a:r>
              <a:rPr b="1" lang="en-US" sz="20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AutoShape 10"/>
          <p:cNvSpPr/>
          <p:nvPr/>
        </p:nvSpPr>
        <p:spPr>
          <a:xfrm>
            <a:off x="4932360" y="3789360"/>
            <a:ext cx="3960720" cy="2232000"/>
          </a:xfrm>
          <a:prstGeom prst="wedgeRectCallout">
            <a:avLst>
              <a:gd name="adj1" fmla="val -59620"/>
              <a:gd name="adj2" fmla="val 37412"/>
            </a:avLst>
          </a:prstGeom>
          <a:solidFill>
            <a:srgbClr val="f9bdf2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患者先侧移至床边，仰卧位，从患侧坐起时，将患腿置于床边外膝关节屈曲，头向上抬，躯干向患侧旋转，健手横过身体，在患侧用手推床支撑身体至坐位，同时摆动健腿下床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71320" y="713880"/>
            <a:ext cx="7529400" cy="5922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r>
              <a:rPr b="1" lang="en-US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—</a:t>
            </a: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护理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B2D91-658B-4EC8-B48A-0B7866AD1EFB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68000" y="1699920"/>
            <a:ext cx="7715160" cy="44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恢复期康复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6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平衡训练 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6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　坐位平衡、立位训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6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步行训练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6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　步行前准备、扶持步行、复杂步态训练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6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　上下楼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6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上肢控制能力训练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6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　臂、肘、腕、手的训练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7" name="AutoShape 5"/>
          <p:cNvSpPr/>
          <p:nvPr/>
        </p:nvSpPr>
        <p:spPr>
          <a:xfrm>
            <a:off x="2484360" y="1484280"/>
            <a:ext cx="2232000" cy="1081080"/>
          </a:xfrm>
          <a:prstGeom prst="wedgeRectCallout">
            <a:avLst>
              <a:gd name="adj1" fmla="val -47370"/>
              <a:gd name="adj2" fmla="val 101393"/>
            </a:avLst>
          </a:prstGeom>
          <a:solidFill>
            <a:srgbClr val="fcffd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①</a:t>
            </a: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左右平衡训练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②</a:t>
            </a: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前后平衡训练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AutoShape 6"/>
          <p:cNvSpPr/>
          <p:nvPr/>
        </p:nvSpPr>
        <p:spPr>
          <a:xfrm>
            <a:off x="4716360" y="1484280"/>
            <a:ext cx="2303640" cy="1081080"/>
          </a:xfrm>
          <a:prstGeom prst="wedgeRectCallout">
            <a:avLst>
              <a:gd name="adj1" fmla="val -69365"/>
              <a:gd name="adj2" fmla="val 108148"/>
            </a:avLst>
          </a:prstGeom>
          <a:solidFill>
            <a:srgbClr val="edfdbb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①</a:t>
            </a: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起立训练</a:t>
            </a:r>
            <a:r>
              <a:rPr b="0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②</a:t>
            </a: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站位平衡训练</a:t>
            </a:r>
            <a:r>
              <a:rPr b="0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AutoShape 7"/>
          <p:cNvSpPr/>
          <p:nvPr/>
        </p:nvSpPr>
        <p:spPr>
          <a:xfrm>
            <a:off x="2916360" y="2565360"/>
            <a:ext cx="4392360" cy="1368360"/>
          </a:xfrm>
          <a:prstGeom prst="wedgeRectCallout">
            <a:avLst>
              <a:gd name="adj1" fmla="val -46856"/>
              <a:gd name="adj2" fmla="val 72851"/>
            </a:avLst>
          </a:prstGeom>
          <a:solidFill>
            <a:srgbClr val="e5fcb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先扶持站立位练习，再进行患肢前后摆动、踏步、屈膝、伸髋、患肢负重双腿交替前后迈步及患肢平衡活动</a:t>
            </a:r>
            <a:r>
              <a:rPr b="0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AutoShape 8"/>
          <p:cNvSpPr/>
          <p:nvPr/>
        </p:nvSpPr>
        <p:spPr>
          <a:xfrm>
            <a:off x="3995640" y="2060640"/>
            <a:ext cx="4608720" cy="1873080"/>
          </a:xfrm>
          <a:prstGeom prst="wedgeRectCallout">
            <a:avLst>
              <a:gd name="adj1" fmla="val -46175"/>
              <a:gd name="adj2" fmla="val 67458"/>
            </a:avLst>
          </a:prstGeom>
          <a:solidFill>
            <a:srgbClr val="dcfce9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护理人员站在偏瘫侧，一手握住患手，掌心向前；另一手从患侧腋下穿出置于胸前，手背靠在胸前处，与患者一起缓慢向前步行，然后扶杖步行到徒手步行</a:t>
            </a:r>
            <a:r>
              <a:rPr b="0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AutoShape 9"/>
          <p:cNvSpPr/>
          <p:nvPr/>
        </p:nvSpPr>
        <p:spPr>
          <a:xfrm>
            <a:off x="5724360" y="2492280"/>
            <a:ext cx="2880000" cy="1513080"/>
          </a:xfrm>
          <a:prstGeom prst="wedgeRectCallout">
            <a:avLst>
              <a:gd name="adj1" fmla="val -38587"/>
              <a:gd name="adj2" fmla="val 62171"/>
            </a:avLst>
          </a:prstGeom>
          <a:solidFill>
            <a:srgbClr val="baeef4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高抬腿步、走直线、绕圈走、跨越障碍训练步行稳定性和协调性</a:t>
            </a:r>
            <a:r>
              <a:rPr b="0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AutoShape 10"/>
          <p:cNvSpPr/>
          <p:nvPr/>
        </p:nvSpPr>
        <p:spPr>
          <a:xfrm>
            <a:off x="2916360" y="3933720"/>
            <a:ext cx="3166920" cy="649440"/>
          </a:xfrm>
          <a:prstGeom prst="wedgeRectCallout">
            <a:avLst>
              <a:gd name="adj1" fmla="val -44037"/>
              <a:gd name="adj2" fmla="val 89365"/>
            </a:avLst>
          </a:prstGeom>
          <a:solidFill>
            <a:srgbClr val="defdc7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健腿先上、患腿先下原则</a:t>
            </a:r>
            <a:r>
              <a:rPr b="0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" name="AutoShape 11"/>
          <p:cNvSpPr/>
          <p:nvPr/>
        </p:nvSpPr>
        <p:spPr>
          <a:xfrm>
            <a:off x="5435640" y="3789360"/>
            <a:ext cx="3168720" cy="1800360"/>
          </a:xfrm>
          <a:prstGeom prst="wedgeRectCallout">
            <a:avLst>
              <a:gd name="adj1" fmla="val -60171"/>
              <a:gd name="adj2" fmla="val 61990"/>
            </a:avLst>
          </a:prstGeom>
          <a:solidFill>
            <a:srgbClr val="f8d98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①</a:t>
            </a: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前臂的旋前、旋后训练②肘的控制训练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③</a:t>
            </a: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腕指伸展训练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④</a:t>
            </a: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手的抓握训练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2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2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55280" y="692280"/>
            <a:ext cx="7529400" cy="5918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r>
              <a:rPr b="1" lang="en-US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—</a:t>
            </a: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护理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C0505-76FF-4F4F-B798-E2E7498D60AB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26920" y="2421000"/>
            <a:ext cx="771552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言语障碍康复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提高患者残存的言语功能，补充多种其他交流途径，改善实际交流能力 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nodeType="clickEffect" fill="hold">
                      <p:stCondLst>
                        <p:cond delay="0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9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115640" y="549000"/>
            <a:ext cx="7024680" cy="7347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r>
              <a:rPr b="1" lang="en-US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—</a:t>
            </a: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护理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4D6F7-011D-4831-A115-223C06BEF9A1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258560" y="2142720"/>
            <a:ext cx="6769080" cy="38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摄食和吞咽障碍的康复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预防因吞咽障碍导致的误吸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营养不良等并发症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认知功能障碍的康复护理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心理和情感障碍的康复护理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nodeType="clickEffect" fill="hold">
                      <p:stCondLst>
                        <p:cond delay="0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6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87640" y="83664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  <a:ea typeface="华文新魏"/>
              </a:rPr>
              <a:t>教学目标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50560" y="1844640"/>
            <a:ext cx="8893080" cy="4176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3000"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楷体"/>
                <a:ea typeface="楷体"/>
              </a:rPr>
              <a:t>识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楷体"/>
                <a:ea typeface="楷体"/>
              </a:rPr>
              <a:t>	</a:t>
            </a:r>
            <a:r>
              <a:rPr b="1" lang="en-US" sz="2800" spc="-1" strike="noStrike">
                <a:solidFill>
                  <a:srgbClr val="1d1496"/>
                </a:solidFill>
                <a:latin typeface="楷体"/>
                <a:ea typeface="楷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楷体"/>
                <a:ea typeface="楷体"/>
              </a:rPr>
              <a:t>．列举脑卒中发病的病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楷体"/>
                <a:ea typeface="楷体"/>
              </a:rPr>
              <a:t>	</a:t>
            </a:r>
            <a:r>
              <a:rPr b="1" lang="en-US" sz="2800" spc="-1" strike="noStrike">
                <a:solidFill>
                  <a:srgbClr val="1d1496"/>
                </a:solidFill>
                <a:latin typeface="楷体"/>
                <a:ea typeface="楷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楷体"/>
                <a:ea typeface="楷体"/>
              </a:rPr>
              <a:t>．描述脑卒中的临床表现和主要功能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8728c"/>
                </a:solidFill>
                <a:latin typeface="楷体"/>
                <a:ea typeface="楷体"/>
              </a:rPr>
              <a:t>理解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楷体"/>
                <a:ea typeface="楷体"/>
              </a:rPr>
              <a:t>	</a:t>
            </a:r>
            <a:r>
              <a:rPr b="1" lang="en-US" sz="2800" spc="-1" strike="noStrike">
                <a:solidFill>
                  <a:srgbClr val="1d1496"/>
                </a:solidFill>
                <a:latin typeface="楷体"/>
                <a:ea typeface="楷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楷体"/>
                <a:ea typeface="楷体"/>
              </a:rPr>
              <a:t>．解释脑卒中发病的危险因素及预防内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楷体"/>
                <a:ea typeface="楷体"/>
              </a:rPr>
              <a:t>	</a:t>
            </a:r>
            <a:r>
              <a:rPr b="1" lang="en-US" sz="2800" spc="-1" strike="noStrike">
                <a:solidFill>
                  <a:srgbClr val="1d1496"/>
                </a:solidFill>
                <a:latin typeface="楷体"/>
                <a:ea typeface="楷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楷体"/>
                <a:ea typeface="楷体"/>
              </a:rPr>
              <a:t>．比较脑卒中运动障碍不同时期康复护理内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d334e"/>
                </a:solidFill>
                <a:latin typeface="楷体"/>
                <a:ea typeface="楷体"/>
              </a:rPr>
              <a:t>运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楷体"/>
                <a:ea typeface="楷体"/>
              </a:rPr>
              <a:t>      </a:t>
            </a:r>
            <a:r>
              <a:rPr b="1" lang="zh-CN" sz="2800" spc="-1" strike="noStrike">
                <a:solidFill>
                  <a:srgbClr val="1d1496"/>
                </a:solidFill>
                <a:latin typeface="楷体"/>
                <a:ea typeface="楷体"/>
              </a:rPr>
              <a:t>评估脑卒中患者并为其制订康复护理计划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AB763-3AC8-4AEF-8147-AEE27B7DEEC3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204560" y="549000"/>
            <a:ext cx="7023240" cy="7347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r>
              <a:rPr b="1" lang="en-US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—</a:t>
            </a: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护理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491F4-A743-43C6-B028-BF109B3B1910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258560" y="1628280"/>
            <a:ext cx="67690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日常生活活动能力的康复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 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3" name="AutoShape 5"/>
          <p:cNvSpPr/>
          <p:nvPr/>
        </p:nvSpPr>
        <p:spPr>
          <a:xfrm>
            <a:off x="1908000" y="2637000"/>
            <a:ext cx="2449800" cy="3457440"/>
          </a:xfrm>
          <a:prstGeom prst="rightArrowCallout">
            <a:avLst>
              <a:gd name="adj1" fmla="val 35286"/>
              <a:gd name="adj2" fmla="val 35283"/>
              <a:gd name="adj3" fmla="val 16667"/>
              <a:gd name="adj4" fmla="val 66667"/>
            </a:avLst>
          </a:prstGeom>
          <a:solidFill>
            <a:srgbClr val="f7ffaf"/>
          </a:solidFill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进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床椅转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穿脱衣裤鞋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个人卫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洗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Rectangle 6"/>
          <p:cNvSpPr/>
          <p:nvPr/>
        </p:nvSpPr>
        <p:spPr>
          <a:xfrm>
            <a:off x="4716360" y="4221000"/>
            <a:ext cx="3600720" cy="520560"/>
          </a:xfrm>
          <a:prstGeom prst="rect">
            <a:avLst/>
          </a:prstGeom>
          <a:solidFill>
            <a:srgbClr val="baeef4"/>
          </a:solidFill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华文新魏"/>
              </a:rPr>
              <a:t>早期干预，持之以恒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1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矩形 1"/>
          <p:cNvSpPr/>
          <p:nvPr/>
        </p:nvSpPr>
        <p:spPr>
          <a:xfrm>
            <a:off x="1042920" y="1557360"/>
            <a:ext cx="7632720" cy="86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030a0"/>
                </a:solidFill>
                <a:latin typeface="Calibri"/>
                <a:ea typeface="楷体"/>
              </a:rPr>
              <a:t>知识链接</a:t>
            </a:r>
            <a:r>
              <a:rPr b="1" lang="en-US" sz="2400" spc="-1" strike="noStrike">
                <a:solidFill>
                  <a:srgbClr val="7030a0"/>
                </a:solidFill>
                <a:latin typeface="Calibri"/>
                <a:ea typeface="楷体"/>
              </a:rPr>
              <a:t>      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Calibri"/>
                <a:ea typeface="楷体"/>
              </a:rPr>
              <a:t>脑卒中康复新技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近年来对脑的研究中脑功能重建的方法不断涌现。脑功能重建的方法是根据脑的可塑性理论，利用神经生理学、神经发育学、分子生物学、细胞生物学、神经心理学、神经电磁学等新技术，促进脑功能重建。目前临床上应用的技术有运动想象疗法、强制性运动疗法、双侧训练、减重平板步行训练、主动音乐疗法、主动性肌电生物反馈、功能性电刺激和重复经颅磁刺激等。另外，由于信息技术的应用。全自动康复机器人、虚拟现实技术，精神认知训练也用于脑损伤患者的康复治疗中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楷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050560" y="549000"/>
            <a:ext cx="5426280" cy="7347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五、康复护理指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45E62-9205-41B2-ACE5-F72F0AF7D7FF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68360" y="2852640"/>
            <a:ext cx="4464000" cy="3214800"/>
          </a:xfrm>
          <a:prstGeom prst="rect">
            <a:avLst/>
          </a:prstGeom>
          <a:noFill/>
          <a:ln w="9360">
            <a:solidFill>
              <a:srgbClr val="ff0000"/>
            </a:solidFill>
            <a:prstDash val="lgDash"/>
            <a:miter/>
          </a:ln>
        </p:spPr>
        <p:txBody>
          <a:bodyPr anchor="t">
            <a:normAutofit/>
          </a:bodyPr>
          <a:p>
            <a:pPr marL="343080" indent="-343080">
              <a:lnSpc>
                <a:spcPts val="4399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正确用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399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耐心解释各类药物的作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399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不良反应及使用注意事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399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出院后积极锻炼并定期随诊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9" name="Rectangle 5"/>
          <p:cNvSpPr/>
          <p:nvPr/>
        </p:nvSpPr>
        <p:spPr>
          <a:xfrm>
            <a:off x="1000080" y="1857240"/>
            <a:ext cx="3427560" cy="571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1</a:t>
            </a: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、</a:t>
            </a: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华文新魏"/>
              </a:rPr>
              <a:t>用药指导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0" name="Picture 2" descr="http://pic26.nipic.com/20121216/2457331_153723044344_2.jpg"/>
          <p:cNvPicPr/>
          <p:nvPr/>
        </p:nvPicPr>
        <p:blipFill>
          <a:blip r:embed="rId1"/>
          <a:stretch/>
        </p:blipFill>
        <p:spPr>
          <a:xfrm>
            <a:off x="5292720" y="2060640"/>
            <a:ext cx="3414600" cy="36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8" dur="indefinite" restart="never" nodeType="tmRoot">
          <p:childTnLst>
            <p:seq>
              <p:cTn id="599" dur="indefinite" nodeType="mainSeq">
                <p:childTnLst>
                  <p:par>
                    <p:cTn id="600" nodeType="clickEffect" fill="hold">
                      <p:stCondLst>
                        <p:cond delay="0"/>
                      </p:stCondLst>
                      <p:childTnLst>
                        <p:par>
                          <p:cTn id="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4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8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979640" y="476280"/>
            <a:ext cx="5425920" cy="7351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五、康复护理指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灯片编号占位符 5"/>
          <p:cNvSpPr/>
          <p:nvPr/>
        </p:nvSpPr>
        <p:spPr>
          <a:xfrm>
            <a:off x="6588000" y="626580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5E641-F3FF-440D-B943-53620684B78C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68000" y="2636640"/>
            <a:ext cx="4608360" cy="3214440"/>
          </a:xfrm>
          <a:prstGeom prst="rect">
            <a:avLst/>
          </a:prstGeom>
          <a:noFill/>
          <a:ln w="9360">
            <a:solidFill>
              <a:srgbClr val="ff0000"/>
            </a:solidFill>
            <a:prstDash val="lgDash"/>
            <a:miter/>
          </a:ln>
        </p:spPr>
        <p:txBody>
          <a:bodyPr anchor="t">
            <a:normAutofit/>
          </a:bodyPr>
          <a:p>
            <a:pPr marL="343080" indent="-343080">
              <a:lnSpc>
                <a:spcPts val="4499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宣传板、宣传卡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499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健康教育手册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499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养成良好的生活习惯，合理饮食、控制体重、戒烟禁酒睡眠充足，劳逸结合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4" name="Rectangle 5"/>
          <p:cNvSpPr/>
          <p:nvPr/>
        </p:nvSpPr>
        <p:spPr>
          <a:xfrm>
            <a:off x="1000080" y="1857240"/>
            <a:ext cx="3427560" cy="571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、</a:t>
            </a: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华文新魏"/>
              </a:rPr>
              <a:t>计划性指导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5" name="Picture 2" descr="http://pic26.nipic.com/20121216/2457331_153723044344_2.jpg"/>
          <p:cNvPicPr/>
          <p:nvPr/>
        </p:nvPicPr>
        <p:blipFill>
          <a:blip r:embed="rId1"/>
          <a:stretch/>
        </p:blipFill>
        <p:spPr>
          <a:xfrm>
            <a:off x="5364000" y="2205000"/>
            <a:ext cx="3311640" cy="35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9" dur="indefinite" restart="never" nodeType="tmRoot">
          <p:childTnLst>
            <p:seq>
              <p:cTn id="610" dur="indefinite" nodeType="mainSeq">
                <p:childTnLst>
                  <p:par>
                    <p:cTn id="611" nodeType="clickEffect" fill="hold">
                      <p:stCondLst>
                        <p:cond delay="0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5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1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9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117880" y="549000"/>
            <a:ext cx="5425920" cy="7347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五、康复护理指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AC4F1-B6C4-41CB-95CD-7347001ACA4A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10920" y="2852280"/>
            <a:ext cx="4321080" cy="2737080"/>
          </a:xfrm>
          <a:prstGeom prst="rect">
            <a:avLst/>
          </a:prstGeom>
          <a:noFill/>
          <a:ln w="9360">
            <a:solidFill>
              <a:srgbClr val="ff0000"/>
            </a:solidFill>
            <a:prstDash val="lgDash"/>
            <a:miter/>
          </a:ln>
        </p:spPr>
        <p:txBody>
          <a:bodyPr anchor="t">
            <a:normAutofit/>
          </a:bodyPr>
          <a:p>
            <a:pPr marL="343080" indent="-343080">
              <a:lnSpc>
                <a:spcPts val="4499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体位摆放及肢体训练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499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教会患者及家属自行操作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499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最大限度发挥潜能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9" name="Rectangle 5"/>
          <p:cNvSpPr/>
          <p:nvPr/>
        </p:nvSpPr>
        <p:spPr>
          <a:xfrm>
            <a:off x="971640" y="1916280"/>
            <a:ext cx="3427200" cy="571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3</a:t>
            </a: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、</a:t>
            </a: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华文新魏"/>
              </a:rPr>
              <a:t>示范性指导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40" name="Picture 2" descr="http://pic26.nipic.com/20121216/2457331_153723044344_2.jpg"/>
          <p:cNvPicPr/>
          <p:nvPr/>
        </p:nvPicPr>
        <p:blipFill>
          <a:blip r:embed="rId1"/>
          <a:stretch/>
        </p:blipFill>
        <p:spPr>
          <a:xfrm>
            <a:off x="5292720" y="2205000"/>
            <a:ext cx="3414600" cy="35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0" dur="indefinite" restart="never" nodeType="tmRoot">
          <p:childTnLst>
            <p:seq>
              <p:cTn id="621" dur="indefinite" nodeType="mainSeq">
                <p:childTnLst>
                  <p:par>
                    <p:cTn id="622" nodeType="clickEffect" fill="hold">
                      <p:stCondLst>
                        <p:cond delay="0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6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0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907640" y="476280"/>
            <a:ext cx="5426280" cy="7351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五、康复护理指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2D787-BBD4-4B20-B1AD-DD4BF48E829B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0920" y="2852280"/>
            <a:ext cx="4143240" cy="2737080"/>
          </a:xfrm>
          <a:prstGeom prst="rect">
            <a:avLst/>
          </a:prstGeom>
          <a:noFill/>
          <a:ln w="9360">
            <a:solidFill>
              <a:srgbClr val="ff0000"/>
            </a:solidFill>
            <a:prstDash val="lgDash"/>
            <a:miter/>
          </a:ln>
        </p:spPr>
        <p:txBody>
          <a:bodyPr anchor="t">
            <a:normAutofit/>
          </a:bodyPr>
          <a:p>
            <a:pPr marL="343080" indent="-343080">
              <a:lnSpc>
                <a:spcPts val="4499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可在晨、晚间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499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巡视病房；护理操作中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499"/>
              </a:lnSpc>
              <a:spcBef>
                <a:spcPts val="524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视时间等向患者及亲属讲解脑卒中相关知识</a:t>
            </a:r>
            <a:r>
              <a:rPr b="1" lang="zh-CN" sz="21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endParaRPr b="1" lang="en-US" sz="21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4" name="Rectangle 5"/>
          <p:cNvSpPr/>
          <p:nvPr/>
        </p:nvSpPr>
        <p:spPr>
          <a:xfrm>
            <a:off x="971640" y="1916280"/>
            <a:ext cx="3427200" cy="571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4</a:t>
            </a: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、</a:t>
            </a: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华文新魏"/>
              </a:rPr>
              <a:t>随机指导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45" name="Picture 2" descr="http://pic26.nipic.com/20121216/2457331_153723044344_2.jpg"/>
          <p:cNvPicPr/>
          <p:nvPr/>
        </p:nvPicPr>
        <p:blipFill>
          <a:blip r:embed="rId1"/>
          <a:stretch/>
        </p:blipFill>
        <p:spPr>
          <a:xfrm>
            <a:off x="5292720" y="2205000"/>
            <a:ext cx="3414600" cy="35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1" dur="indefinite" restart="never" nodeType="tmRoot">
          <p:childTnLst>
            <p:seq>
              <p:cTn id="632" dur="indefinite" nodeType="mainSeq">
                <p:childTnLst>
                  <p:par>
                    <p:cTn id="633" nodeType="clickEffect" fill="hold">
                      <p:stCondLst>
                        <p:cond delay="0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7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3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1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859040" y="476280"/>
            <a:ext cx="5425920" cy="7351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五、康复护理指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7C0A2-BEB9-4345-912A-824FA03060C8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10920" y="2852640"/>
            <a:ext cx="4105080" cy="3214800"/>
          </a:xfrm>
          <a:prstGeom prst="rect">
            <a:avLst/>
          </a:prstGeom>
          <a:noFill/>
          <a:ln w="9360">
            <a:solidFill>
              <a:srgbClr val="ff0000"/>
            </a:solidFill>
            <a:prstDash val="lgDash"/>
            <a:miter/>
          </a:ln>
        </p:spPr>
        <p:txBody>
          <a:bodyPr anchor="t">
            <a:normAutofit/>
          </a:bodyPr>
          <a:p>
            <a:pPr marL="343080" indent="-343080">
              <a:lnSpc>
                <a:spcPts val="4499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调整不良习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499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培养良好的兴趣爱好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499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下棋、写字、晨晚间锻炼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499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坚持不懈至关重要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9" name="Rectangle 5"/>
          <p:cNvSpPr/>
          <p:nvPr/>
        </p:nvSpPr>
        <p:spPr>
          <a:xfrm>
            <a:off x="1000080" y="1857240"/>
            <a:ext cx="3427560" cy="571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5</a:t>
            </a: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、</a:t>
            </a: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华文新魏"/>
              </a:rPr>
              <a:t>出院指导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50" name="Picture 2" descr="http://pic26.nipic.com/20121216/2457331_153723044344_2.jpg"/>
          <p:cNvPicPr/>
          <p:nvPr/>
        </p:nvPicPr>
        <p:blipFill>
          <a:blip r:embed="rId1"/>
          <a:stretch/>
        </p:blipFill>
        <p:spPr>
          <a:xfrm>
            <a:off x="5219640" y="2205000"/>
            <a:ext cx="3487680" cy="35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2" dur="indefinite" restart="never" nodeType="tmRoot">
          <p:childTnLst>
            <p:seq>
              <p:cTn id="643" dur="indefinite" nodeType="mainSeq">
                <p:childTnLst>
                  <p:par>
                    <p:cTn id="644" nodeType="clickEffect" fill="hold">
                      <p:stCondLst>
                        <p:cond delay="0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8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5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2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050920" y="907560"/>
            <a:ext cx="3500640" cy="87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课程小结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灯片编号占位符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22C8F-3FAD-4AA2-9A2F-2BCC4C89A682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785520" y="2000160"/>
            <a:ext cx="7429320" cy="432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798"/>
              </a:lnSpc>
              <a:spcBef>
                <a:spcPts val="700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．病因   高血压、心脏病、糖尿病、高血脂、酗酒、短暂性脑缺血发作及遗传等是脑卒中发病的最重要的危险因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798"/>
              </a:lnSpc>
              <a:spcBef>
                <a:spcPts val="700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．主要功能障碍   偏瘫是脑卒中主要的运动功能障碍，是致残的重要因素，由于脑卒中患者存在运动功能、认知功能、感觉功能、言语功能等多种功能障碍，所以导致其衣、食、住、行、卫生、洗浴等日常生活活动能力低下或丧失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399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29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29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矩形 2"/>
          <p:cNvSpPr/>
          <p:nvPr/>
        </p:nvSpPr>
        <p:spPr>
          <a:xfrm>
            <a:off x="804960" y="1762200"/>
            <a:ext cx="6912000" cy="11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ts val="3798"/>
              </a:lnSpc>
              <a:spcBef>
                <a:spcPts val="700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．康复护理评估   可从运动功能、感觉功能、言语功能、肌力等方面进行单项评定，也可根据临床症状、日常生活能力进行综合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	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3798"/>
              </a:lnSpc>
              <a:spcBef>
                <a:spcPts val="700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．康复护理措施   根据病程发展不同时期进行主被动训练指导，言语训练指导、摄食和吞咽训练指导、认知训练指导、日常生活活动能力训练指导及心理情感疏导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5" name="标题 1"/>
          <p:cNvSpPr/>
          <p:nvPr/>
        </p:nvSpPr>
        <p:spPr>
          <a:xfrm>
            <a:off x="2050920" y="907920"/>
            <a:ext cx="3500640" cy="8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课程小结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矩形 2"/>
          <p:cNvSpPr/>
          <p:nvPr/>
        </p:nvSpPr>
        <p:spPr>
          <a:xfrm>
            <a:off x="971640" y="2133720"/>
            <a:ext cx="7200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ts val="3798"/>
              </a:lnSpc>
              <a:spcBef>
                <a:spcPts val="700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．康复护理指导   用药指导、计划性指导、随机指导、示范性指导及出院指导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7" name="标题 1"/>
          <p:cNvSpPr/>
          <p:nvPr/>
        </p:nvSpPr>
        <p:spPr>
          <a:xfrm>
            <a:off x="2050920" y="907920"/>
            <a:ext cx="3500640" cy="8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课程小结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C126F-AE9C-48A8-A7D8-E076D307A6DA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26560" y="112536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669b"/>
                </a:solidFill>
                <a:latin typeface="华文新魏"/>
                <a:ea typeface="华文新魏"/>
              </a:rPr>
              <a:t>主要内容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58560" y="1915920"/>
            <a:ext cx="7031160" cy="366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概述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主要功能障碍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康复护理评估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康复护理措施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康复护理指导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5B042-7015-4188-8E66-2CFA5AC40833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669b"/>
                </a:solidFill>
                <a:latin typeface="华文新魏"/>
                <a:ea typeface="华文新魏"/>
              </a:rPr>
              <a:t>前言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Oval 5"/>
          <p:cNvSpPr/>
          <p:nvPr/>
        </p:nvSpPr>
        <p:spPr>
          <a:xfrm>
            <a:off x="3203640" y="1413000"/>
            <a:ext cx="2879640" cy="115236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华文新魏"/>
              </a:rPr>
              <a:t>脑卒中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Rectangle 6"/>
          <p:cNvSpPr/>
          <p:nvPr/>
        </p:nvSpPr>
        <p:spPr>
          <a:xfrm>
            <a:off x="1332000" y="3141720"/>
            <a:ext cx="1942920" cy="64764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高发病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Rectangle 7"/>
          <p:cNvSpPr/>
          <p:nvPr/>
        </p:nvSpPr>
        <p:spPr>
          <a:xfrm>
            <a:off x="3780000" y="3141720"/>
            <a:ext cx="1873080" cy="64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高致残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Rectangle 8"/>
          <p:cNvSpPr/>
          <p:nvPr/>
        </p:nvSpPr>
        <p:spPr>
          <a:xfrm>
            <a:off x="6516720" y="3141720"/>
            <a:ext cx="1871640" cy="64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高复发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Rectangle 9"/>
          <p:cNvSpPr/>
          <p:nvPr/>
        </p:nvSpPr>
        <p:spPr>
          <a:xfrm>
            <a:off x="1332000" y="4149720"/>
            <a:ext cx="2519280" cy="719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康复训练与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AutoShape 10"/>
          <p:cNvSpPr/>
          <p:nvPr/>
        </p:nvSpPr>
        <p:spPr>
          <a:xfrm flipV="1">
            <a:off x="4140360" y="4292640"/>
            <a:ext cx="1439640" cy="216000"/>
          </a:xfrm>
          <a:prstGeom prst="rightArrow">
            <a:avLst>
              <a:gd name="adj1" fmla="val 50000"/>
              <a:gd name="adj2" fmla="val 166625"/>
            </a:avLst>
          </a:prstGeom>
          <a:solidFill>
            <a:srgbClr val="99669b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Rectangle 11"/>
          <p:cNvSpPr/>
          <p:nvPr/>
        </p:nvSpPr>
        <p:spPr>
          <a:xfrm>
            <a:off x="3780000" y="5084640"/>
            <a:ext cx="2016000" cy="6494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致残率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华文新魏"/>
              </a:rPr>
              <a:t>↓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AutoShape 12"/>
          <p:cNvSpPr/>
          <p:nvPr/>
        </p:nvSpPr>
        <p:spPr>
          <a:xfrm>
            <a:off x="5867280" y="3500280"/>
            <a:ext cx="649440" cy="2305080"/>
          </a:xfrm>
          <a:custGeom>
            <a:avLst/>
            <a:gdLst>
              <a:gd name="textAreaLeft" fmla="*/ 86760 w 649440"/>
              <a:gd name="textAreaRight" fmla="*/ 562680 w 649440"/>
              <a:gd name="textAreaTop" fmla="*/ 403200 h 2305080"/>
              <a:gd name="textAreaBottom" fmla="*/ 1671120 h 23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ca068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AutoShape 13"/>
          <p:cNvSpPr/>
          <p:nvPr/>
        </p:nvSpPr>
        <p:spPr>
          <a:xfrm>
            <a:off x="4643280" y="2565360"/>
            <a:ext cx="73080" cy="576360"/>
          </a:xfrm>
          <a:prstGeom prst="downArrow">
            <a:avLst>
              <a:gd name="adj1" fmla="val 50000"/>
              <a:gd name="adj2" fmla="val 197167"/>
            </a:avLst>
          </a:prstGeom>
          <a:solidFill>
            <a:srgbClr val="db0758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17"/>
          <p:cNvSpPr/>
          <p:nvPr/>
        </p:nvSpPr>
        <p:spPr>
          <a:xfrm>
            <a:off x="5867280" y="2349360"/>
            <a:ext cx="792360" cy="574920"/>
          </a:xfrm>
          <a:prstGeom prst="line">
            <a:avLst/>
          </a:prstGeom>
          <a:ln w="7632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Line 18"/>
          <p:cNvSpPr/>
          <p:nvPr/>
        </p:nvSpPr>
        <p:spPr>
          <a:xfrm flipH="1">
            <a:off x="2916360" y="2349360"/>
            <a:ext cx="503280" cy="648000"/>
          </a:xfrm>
          <a:prstGeom prst="line">
            <a:avLst/>
          </a:prstGeom>
          <a:ln w="7632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7AA2C-5D0E-446B-9EC2-0DAD7F12A898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610920" y="1915920"/>
            <a:ext cx="810396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脑卒中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cerebral apoplexy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）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又称脑血管意外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cerebral vascular acciden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CVA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）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定义：是指各种原因引起的急性脑血管循环障碍导致的持续性（大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24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小时）、局限性或弥漫性脑功能缺损的一组疾病的总称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● 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缺血性（血栓形成性脑梗死，脑栓塞 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● 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出血性（脑实质内出血，蛛网膜下腔出血 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title"/>
          </p:nvPr>
        </p:nvSpPr>
        <p:spPr>
          <a:xfrm>
            <a:off x="2195280" y="764640"/>
            <a:ext cx="4857480" cy="6526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一、概 述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22261-9D1A-4119-B30C-F61EB46FB35C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126880" y="549360"/>
            <a:ext cx="471492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一、概  述</a:t>
            </a:r>
            <a:r>
              <a:rPr b="1" lang="en-US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—</a:t>
            </a: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Oval 7"/>
          <p:cNvSpPr/>
          <p:nvPr/>
        </p:nvSpPr>
        <p:spPr>
          <a:xfrm>
            <a:off x="3132000" y="1557360"/>
            <a:ext cx="2952720" cy="1008000"/>
          </a:xfrm>
          <a:prstGeom prst="ellipse">
            <a:avLst/>
          </a:prstGeom>
          <a:solidFill>
            <a:srgbClr val="ffffcc"/>
          </a:soli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华文新魏"/>
              </a:rPr>
              <a:t>血管壁病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Oval 12"/>
          <p:cNvSpPr/>
          <p:nvPr/>
        </p:nvSpPr>
        <p:spPr>
          <a:xfrm>
            <a:off x="3203640" y="3141720"/>
            <a:ext cx="2881080" cy="1584360"/>
          </a:xfrm>
          <a:prstGeom prst="ellipse">
            <a:avLst/>
          </a:prstGeom>
          <a:solidFill>
            <a:srgbClr val="ff66cc"/>
          </a:solidFill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华文新魏"/>
              </a:rPr>
              <a:t>脑卒中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华文新魏"/>
              </a:rPr>
              <a:t>致病因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Oval 13"/>
          <p:cNvSpPr/>
          <p:nvPr/>
        </p:nvSpPr>
        <p:spPr>
          <a:xfrm>
            <a:off x="3132000" y="5229360"/>
            <a:ext cx="3095640" cy="10792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华文新魏"/>
              </a:rPr>
              <a:t>血液成分异常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Oval 14"/>
          <p:cNvSpPr/>
          <p:nvPr/>
        </p:nvSpPr>
        <p:spPr>
          <a:xfrm>
            <a:off x="0" y="3357720"/>
            <a:ext cx="2592360" cy="1295280"/>
          </a:xfrm>
          <a:prstGeom prst="ellipse">
            <a:avLst/>
          </a:prstGeom>
          <a:solidFill>
            <a:srgbClr val="ccffcc"/>
          </a:soli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华文新魏"/>
              </a:rPr>
              <a:t>心脏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Oval 15"/>
          <p:cNvSpPr/>
          <p:nvPr/>
        </p:nvSpPr>
        <p:spPr>
          <a:xfrm>
            <a:off x="6443640" y="3429000"/>
            <a:ext cx="2700360" cy="1079640"/>
          </a:xfrm>
          <a:prstGeom prst="ellipse">
            <a:avLst/>
          </a:prstGeom>
          <a:solidFill>
            <a:srgbClr val="ffccff"/>
          </a:soli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华文新魏"/>
              </a:rPr>
              <a:t>血流动力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AutoShape 16"/>
          <p:cNvSpPr/>
          <p:nvPr/>
        </p:nvSpPr>
        <p:spPr>
          <a:xfrm>
            <a:off x="4500720" y="2637000"/>
            <a:ext cx="142560" cy="431640"/>
          </a:xfrm>
          <a:prstGeom prst="downArrow">
            <a:avLst>
              <a:gd name="adj1" fmla="val 50000"/>
              <a:gd name="adj2" fmla="val 7569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AutoShape 17"/>
          <p:cNvSpPr/>
          <p:nvPr/>
        </p:nvSpPr>
        <p:spPr>
          <a:xfrm>
            <a:off x="6012000" y="3860640"/>
            <a:ext cx="433080" cy="216000"/>
          </a:xfrm>
          <a:prstGeom prst="leftArrow">
            <a:avLst>
              <a:gd name="adj1" fmla="val 50000"/>
              <a:gd name="adj2" fmla="val 50125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AutoShape 18"/>
          <p:cNvSpPr/>
          <p:nvPr/>
        </p:nvSpPr>
        <p:spPr>
          <a:xfrm>
            <a:off x="2771640" y="3860640"/>
            <a:ext cx="432000" cy="2160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AutoShape 19"/>
          <p:cNvSpPr/>
          <p:nvPr/>
        </p:nvSpPr>
        <p:spPr>
          <a:xfrm>
            <a:off x="4500720" y="4797360"/>
            <a:ext cx="142560" cy="360360"/>
          </a:xfrm>
          <a:prstGeom prst="upArrow">
            <a:avLst>
              <a:gd name="adj1" fmla="val 50000"/>
              <a:gd name="adj2" fmla="val 6319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6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6D4AE-187C-4136-A58E-F167104208EA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268000" y="549360"/>
            <a:ext cx="471492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一、概  述</a:t>
            </a:r>
            <a:r>
              <a:rPr b="1" lang="en-US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—</a:t>
            </a: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Oval 5"/>
          <p:cNvSpPr/>
          <p:nvPr/>
        </p:nvSpPr>
        <p:spPr>
          <a:xfrm>
            <a:off x="3348000" y="1916280"/>
            <a:ext cx="2303640" cy="208908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9966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华文新魏"/>
              </a:rPr>
              <a:t>脑卒中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华文新魏"/>
              </a:rPr>
              <a:t>危险因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Oval 7"/>
          <p:cNvSpPr/>
          <p:nvPr/>
        </p:nvSpPr>
        <p:spPr>
          <a:xfrm>
            <a:off x="179280" y="2349360"/>
            <a:ext cx="2521080" cy="1150920"/>
          </a:xfrm>
          <a:prstGeom prst="ellipse">
            <a:avLst/>
          </a:prstGeom>
          <a:solidFill>
            <a:srgbClr val="ccffcc"/>
          </a:solidFill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华文新魏"/>
              </a:rPr>
              <a:t>可干预因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Oval 8"/>
          <p:cNvSpPr/>
          <p:nvPr/>
        </p:nvSpPr>
        <p:spPr>
          <a:xfrm>
            <a:off x="6300720" y="2421000"/>
            <a:ext cx="2627280" cy="10792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4399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华文新魏"/>
              </a:rPr>
              <a:t>不可干预因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AutoShape 10"/>
          <p:cNvSpPr/>
          <p:nvPr/>
        </p:nvSpPr>
        <p:spPr>
          <a:xfrm>
            <a:off x="5651640" y="2852640"/>
            <a:ext cx="649080" cy="217440"/>
          </a:xfrm>
          <a:prstGeom prst="leftArrow">
            <a:avLst>
              <a:gd name="adj1" fmla="val 50000"/>
              <a:gd name="adj2" fmla="val 7462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AutoShape 11"/>
          <p:cNvSpPr/>
          <p:nvPr/>
        </p:nvSpPr>
        <p:spPr>
          <a:xfrm>
            <a:off x="2700360" y="2781360"/>
            <a:ext cx="647640" cy="217440"/>
          </a:xfrm>
          <a:prstGeom prst="rightArrow">
            <a:avLst>
              <a:gd name="adj1" fmla="val 50000"/>
              <a:gd name="adj2" fmla="val 74462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Rectangle 15"/>
          <p:cNvSpPr/>
          <p:nvPr/>
        </p:nvSpPr>
        <p:spPr>
          <a:xfrm>
            <a:off x="5940360" y="4221000"/>
            <a:ext cx="2808360" cy="1729080"/>
          </a:xfrm>
          <a:prstGeom prst="rect">
            <a:avLst/>
          </a:prstGeom>
          <a:solidFill>
            <a:srgbClr val="ffffc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华文新魏"/>
              </a:rPr>
              <a:t>年龄、性别、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华文新魏"/>
              </a:rPr>
              <a:t>种族和家族遗传性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Rectangle 16"/>
          <p:cNvSpPr/>
          <p:nvPr/>
        </p:nvSpPr>
        <p:spPr>
          <a:xfrm>
            <a:off x="395280" y="4149720"/>
            <a:ext cx="2952720" cy="1943280"/>
          </a:xfrm>
          <a:prstGeom prst="rect">
            <a:avLst/>
          </a:prstGeom>
          <a:solidFill>
            <a:srgbClr val="ffffc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华文新魏"/>
              </a:rPr>
              <a:t>高血压、心脏病、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华文新魏"/>
              </a:rPr>
              <a:t>糖尿病、高脂血症、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华文新魏"/>
              </a:rPr>
              <a:t>血黏度增高、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华文新魏"/>
              </a:rPr>
              <a:t>吸烟、酗酒、饮食因素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AutoShape 17"/>
          <p:cNvSpPr/>
          <p:nvPr/>
        </p:nvSpPr>
        <p:spPr>
          <a:xfrm>
            <a:off x="1403280" y="3573360"/>
            <a:ext cx="144360" cy="503280"/>
          </a:xfrm>
          <a:prstGeom prst="upArrow">
            <a:avLst>
              <a:gd name="adj1" fmla="val 50000"/>
              <a:gd name="adj2" fmla="val 8715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AutoShape 18"/>
          <p:cNvSpPr/>
          <p:nvPr/>
        </p:nvSpPr>
        <p:spPr>
          <a:xfrm>
            <a:off x="7524720" y="3573360"/>
            <a:ext cx="144360" cy="503280"/>
          </a:xfrm>
          <a:prstGeom prst="upArrow">
            <a:avLst>
              <a:gd name="adj1" fmla="val 50000"/>
              <a:gd name="adj2" fmla="val 8715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9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1F8A4-4CAF-4723-82DA-F21E68B8C652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907640" y="549360"/>
            <a:ext cx="535788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一、概  述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—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Rectangle 6"/>
          <p:cNvSpPr/>
          <p:nvPr/>
        </p:nvSpPr>
        <p:spPr>
          <a:xfrm>
            <a:off x="250920" y="2852640"/>
            <a:ext cx="2089080" cy="1584360"/>
          </a:xfrm>
          <a:prstGeom prst="rect">
            <a:avLst/>
          </a:prstGeom>
          <a:solidFill>
            <a:srgbClr val="ffccff"/>
          </a:solidFill>
          <a:ln w="28440">
            <a:solidFill>
              <a:srgbClr val="9966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（起病较急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Rectangle 7"/>
          <p:cNvSpPr/>
          <p:nvPr/>
        </p:nvSpPr>
        <p:spPr>
          <a:xfrm>
            <a:off x="2843280" y="1844640"/>
            <a:ext cx="6265800" cy="2305080"/>
          </a:xfrm>
          <a:prstGeom prst="rect">
            <a:avLst/>
          </a:prstGeom>
          <a:solidFill>
            <a:srgbClr val="cc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华文新魏"/>
                <a:ea typeface="华文新魏"/>
              </a:rPr>
              <a:t>缺血性脑卒中</a:t>
            </a: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常在安静或睡眠中发病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表现为偏瘫、偏身感觉障碍、失语、共济失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当发生基底动脑血栓或大面积脑梗死时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可有意识障碍，甚至危及生命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Rectangle 8"/>
          <p:cNvSpPr/>
          <p:nvPr/>
        </p:nvSpPr>
        <p:spPr>
          <a:xfrm>
            <a:off x="2843280" y="4437000"/>
            <a:ext cx="5257800" cy="1656000"/>
          </a:xfrm>
          <a:prstGeom prst="rect">
            <a:avLst/>
          </a:prstGeom>
          <a:solidFill>
            <a:srgbClr val="ffffc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华文新魏"/>
                <a:ea typeface="华文新魏"/>
              </a:rPr>
              <a:t>出血性脑卒中</a:t>
            </a: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多在情绪激动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兴奋、用力或活动过程中突然发病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发病后大多患者血压明显升高</a:t>
            </a: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AutoShape 9"/>
          <p:cNvSpPr/>
          <p:nvPr/>
        </p:nvSpPr>
        <p:spPr>
          <a:xfrm>
            <a:off x="2384280" y="2637000"/>
            <a:ext cx="387360" cy="2879640"/>
          </a:xfrm>
          <a:custGeom>
            <a:avLst/>
            <a:gdLst>
              <a:gd name="textAreaLeft" fmla="*/ 247680 w 387360"/>
              <a:gd name="textAreaRight" fmla="*/ 387720 w 387360"/>
              <a:gd name="textAreaTop" fmla="*/ 74880 h 2879640"/>
              <a:gd name="textAreaBottom" fmla="*/ 2804760 h 28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7154"/>
                </a:lnTo>
                <a:cubicBezTo>
                  <a:pt x="10800" y="8054"/>
                  <a:pt x="5400" y="8954"/>
                  <a:pt x="0" y="8954"/>
                </a:cubicBezTo>
                <a:cubicBezTo>
                  <a:pt x="5400" y="8954"/>
                  <a:pt x="10800" y="9854"/>
                  <a:pt x="10800" y="10754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赵欣</cp:lastModifiedBy>
  <dcterms:modified xsi:type="dcterms:W3CDTF">2015-12-15T09:03:54Z</dcterms:modified>
  <cp:revision>8</cp:revision>
  <dc:subject/>
  <dc:title>第一章 儿科疾病的护理</dc:title>
</cp:coreProperties>
</file>