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F4F570D-A4AB-46B7-80F7-29C89674AC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sldNum" idx="4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5C8E809-182F-4EF1-AFD4-8CCF6100E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sldNum" idx="4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F480C29-473E-47AD-96C7-766D4A3F9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sldNum" idx="4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85F798B-7E0B-4C06-A139-3C5A50E0A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sldNum" idx="4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D1DF297-CC4B-4302-963E-FE118863A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sldNum" idx="5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7FB76A6-B332-4276-872D-D25878693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sldNum" idx="5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5509651-EAC8-4A3F-82E0-322A15DFD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sldNum" idx="5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FF1A59D-610A-44B4-9391-424C56474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sldNum" idx="5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F4BBCF1-C819-483B-AD69-13789989E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4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3CD3F25-17FE-41C5-A0A9-41B6D262F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sldNum" idx="4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28C773B-D81A-45CD-A3EE-3EC1994B9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Num" idx="4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2394EF1-9ACC-4945-8B2E-01A473FE9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sldNum" idx="4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A065A27-0806-40C0-A82B-4E4BA99A4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4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7F35D53-B7CE-4A3D-8F51-E4CB4E864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433E4-12CE-452B-80EA-52ADB5E118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5A3DB-71ED-49BD-811C-2EFF54504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059F6-D380-4CC5-B9D8-BDBEF7AAE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C214A-45EC-4E31-84E7-26FE79723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70DE8-25DD-4571-AD00-74A0525A8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C2C29-DBEA-4075-AA0D-5286F7CD2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79C7E-D39E-4CE0-B768-F0EF9168B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7A882-4262-412B-85BC-A3E5506C0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41D4E-5D2C-492D-98A1-54D0AF2A2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D41B4-B38B-47CA-9E97-3A2BC5E5F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DE856-2A32-4CD2-A8BA-62956E15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37CAE-2AF4-4399-B7FC-EE92548909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6C51-EDED-46E0-97B6-5CB38BEF7D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0CEE-077F-4E62-8D16-A456223BD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215B-EEDA-483F-8AD2-647402921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45CE-702F-493E-9979-A0DCFCB72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A5E4-B0F1-4257-B92C-97C6AA30A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C615-4539-458C-BD29-71D8875A9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78BC-8141-4242-88F4-A38F2A45D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88E4-9151-4DA4-9906-F01B00D6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9904-F369-4BE9-A162-5F8F41F7A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FFC1-E34A-43EB-9FBD-149ED73D3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A47E-DD01-4EED-83D8-93BBD96C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462E-CB9A-48F9-8FCF-0219424AE3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3640" cy="10472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 hidden="1"/>
          <p:cNvSpPr/>
          <p:nvPr/>
        </p:nvSpPr>
        <p:spPr>
          <a:xfrm>
            <a:off x="0" y="0"/>
            <a:ext cx="9143640" cy="24084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2" name="未知" hidden="1"/>
          <p:cNvSpPr/>
          <p:nvPr/>
        </p:nvSpPr>
        <p:spPr>
          <a:xfrm>
            <a:off x="0" y="950760"/>
            <a:ext cx="9150120" cy="461520"/>
          </a:xfrm>
          <a:custGeom>
            <a:avLst/>
            <a:gdLst>
              <a:gd name="textAreaLeft" fmla="*/ 0 w 9150120"/>
              <a:gd name="textAreaRight" fmla="*/ 9150480 w 9150120"/>
              <a:gd name="textAreaTop" fmla="*/ 0 h 461520"/>
              <a:gd name="textAreaBottom" fmla="*/ 461880 h 46152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3" name="Line 8"/>
          <p:cNvSpPr/>
          <p:nvPr/>
        </p:nvSpPr>
        <p:spPr>
          <a:xfrm>
            <a:off x="425160" y="6524280"/>
            <a:ext cx="8353440" cy="360"/>
          </a:xfrm>
          <a:prstGeom prst="line">
            <a:avLst/>
          </a:prstGeom>
          <a:ln w="9525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360" cy="259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21"/>
          <p:cNvPicPr/>
          <p:nvPr/>
        </p:nvPicPr>
        <p:blipFill>
          <a:blip r:embed="rId4"/>
          <a:stretch/>
        </p:blipFill>
        <p:spPr>
          <a:xfrm>
            <a:off x="0" y="6480"/>
            <a:ext cx="9143640" cy="6086160"/>
          </a:xfrm>
          <a:prstGeom prst="rect">
            <a:avLst/>
          </a:prstGeom>
          <a:ln w="0">
            <a:noFill/>
          </a:ln>
        </p:spPr>
      </p:pic>
      <p:sp>
        <p:nvSpPr>
          <p:cNvPr id="6" name="未知"/>
          <p:cNvSpPr/>
          <p:nvPr/>
        </p:nvSpPr>
        <p:spPr>
          <a:xfrm>
            <a:off x="0" y="1792440"/>
            <a:ext cx="9097560" cy="340920"/>
          </a:xfrm>
          <a:custGeom>
            <a:avLst/>
            <a:gdLst>
              <a:gd name="textAreaLeft" fmla="*/ 0 w 9097560"/>
              <a:gd name="textAreaRight" fmla="*/ 9097920 w 9097560"/>
              <a:gd name="textAreaTop" fmla="*/ 0 h 340920"/>
              <a:gd name="textAreaBottom" fmla="*/ 341280 h 34092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grpSp>
        <p:nvGrpSpPr>
          <p:cNvPr id="7" name="Group 4"/>
          <p:cNvGrpSpPr/>
          <p:nvPr/>
        </p:nvGrpSpPr>
        <p:grpSpPr>
          <a:xfrm>
            <a:off x="0" y="-360"/>
            <a:ext cx="9143640" cy="2089080"/>
            <a:chOff x="0" y="-360"/>
            <a:chExt cx="9143640" cy="2089080"/>
          </a:xfrm>
        </p:grpSpPr>
        <p:grpSp>
          <p:nvGrpSpPr>
            <p:cNvPr id="8" name="Group 5"/>
            <p:cNvGrpSpPr/>
            <p:nvPr/>
          </p:nvGrpSpPr>
          <p:grpSpPr>
            <a:xfrm>
              <a:off x="28440" y="-360"/>
              <a:ext cx="9115200" cy="1790640"/>
              <a:chOff x="28440" y="-360"/>
              <a:chExt cx="9115200" cy="1790640"/>
            </a:xfrm>
          </p:grpSpPr>
          <p:sp>
            <p:nvSpPr>
              <p:cNvPr id="9" name="Rectangle 6"/>
              <p:cNvSpPr/>
              <p:nvPr/>
            </p:nvSpPr>
            <p:spPr>
              <a:xfrm flipV="1">
                <a:off x="28440" y="-720"/>
                <a:ext cx="9115200" cy="1790280"/>
              </a:xfrm>
              <a:prstGeom prst="rect">
                <a:avLst/>
              </a:pr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0" name="Rectangle 7"/>
              <p:cNvSpPr/>
              <p:nvPr/>
            </p:nvSpPr>
            <p:spPr>
              <a:xfrm flipV="1">
                <a:off x="28440" y="1689120"/>
                <a:ext cx="9115200" cy="100800"/>
              </a:xfrm>
              <a:prstGeom prst="rect">
                <a:avLst/>
              </a:pr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11" name="未知"/>
            <p:cNvSpPr/>
            <p:nvPr/>
          </p:nvSpPr>
          <p:spPr>
            <a:xfrm>
              <a:off x="0" y="1733400"/>
              <a:ext cx="9097560" cy="355320"/>
            </a:xfrm>
            <a:custGeom>
              <a:avLst/>
              <a:gdLst>
                <a:gd name="textAreaLeft" fmla="*/ 0 w 9097560"/>
                <a:gd name="textAreaRight" fmla="*/ 9097920 w 9097560"/>
                <a:gd name="textAreaTop" fmla="*/ 0 h 355320"/>
                <a:gd name="textAreaBottom" fmla="*/ 355680 h 35532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12" name="Group 9"/>
          <p:cNvGrpSpPr/>
          <p:nvPr/>
        </p:nvGrpSpPr>
        <p:grpSpPr>
          <a:xfrm>
            <a:off x="0" y="4689000"/>
            <a:ext cx="9143640" cy="2168640"/>
            <a:chOff x="0" y="4689000"/>
            <a:chExt cx="9143640" cy="2168640"/>
          </a:xfrm>
        </p:grpSpPr>
        <p:grpSp>
          <p:nvGrpSpPr>
            <p:cNvPr id="13" name="Group 10"/>
            <p:cNvGrpSpPr/>
            <p:nvPr/>
          </p:nvGrpSpPr>
          <p:grpSpPr>
            <a:xfrm>
              <a:off x="28440" y="5042160"/>
              <a:ext cx="9115200" cy="1815480"/>
              <a:chOff x="28440" y="5042160"/>
              <a:chExt cx="9115200" cy="1815480"/>
            </a:xfrm>
          </p:grpSpPr>
          <p:sp>
            <p:nvSpPr>
              <p:cNvPr id="14" name="Rectangle 11"/>
              <p:cNvSpPr/>
              <p:nvPr/>
            </p:nvSpPr>
            <p:spPr>
              <a:xfrm>
                <a:off x="28440" y="5042160"/>
                <a:ext cx="9115200" cy="1815480"/>
              </a:xfrm>
              <a:prstGeom prst="rect">
                <a:avLst/>
              </a:prstGeom>
              <a:solidFill>
                <a:schemeClr val="accent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5" name="Rectangle 12"/>
              <p:cNvSpPr/>
              <p:nvPr/>
            </p:nvSpPr>
            <p:spPr>
              <a:xfrm>
                <a:off x="28440" y="5042160"/>
                <a:ext cx="9115200" cy="101520"/>
              </a:xfrm>
              <a:prstGeom prst="rect">
                <a:avLst/>
              </a:prstGeom>
              <a:solidFill>
                <a:schemeClr val="accent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16" name="Group 13"/>
            <p:cNvGrpSpPr/>
            <p:nvPr/>
          </p:nvGrpSpPr>
          <p:grpSpPr>
            <a:xfrm>
              <a:off x="0" y="4689000"/>
              <a:ext cx="9097560" cy="405360"/>
              <a:chOff x="0" y="4689000"/>
              <a:chExt cx="9097560" cy="405360"/>
            </a:xfrm>
          </p:grpSpPr>
          <p:sp>
            <p:nvSpPr>
              <p:cNvPr id="17" name="未知"/>
              <p:cNvSpPr/>
              <p:nvPr/>
            </p:nvSpPr>
            <p:spPr>
              <a:xfrm flipV="1">
                <a:off x="0" y="4688280"/>
                <a:ext cx="9097560" cy="345960"/>
              </a:xfrm>
              <a:custGeom>
                <a:avLst/>
                <a:gdLst>
                  <a:gd name="textAreaLeft" fmla="*/ 0 w 9097560"/>
                  <a:gd name="textAreaRight" fmla="*/ 9097920 w 9097560"/>
                  <a:gd name="textAreaTop" fmla="*/ -360 h 345960"/>
                  <a:gd name="textAreaBottom" fmla="*/ 345960 h 34596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8" name="未知"/>
              <p:cNvSpPr/>
              <p:nvPr/>
            </p:nvSpPr>
            <p:spPr>
              <a:xfrm flipV="1">
                <a:off x="0" y="4733280"/>
                <a:ext cx="9097560" cy="360360"/>
              </a:xfrm>
              <a:custGeom>
                <a:avLst/>
                <a:gdLst>
                  <a:gd name="textAreaLeft" fmla="*/ 0 w 9097560"/>
                  <a:gd name="textAreaRight" fmla="*/ 9097920 w 9097560"/>
                  <a:gd name="textAreaTop" fmla="*/ -360 h 360360"/>
                  <a:gd name="textAreaBottom" fmla="*/ 360360 h 36036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chemeClr val="accent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</p:grpSp>
      <p:grpSp>
        <p:nvGrpSpPr>
          <p:cNvPr id="1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20" name="AutoShape 17"/>
            <p:cNvSpPr/>
            <p:nvPr/>
          </p:nvSpPr>
          <p:spPr>
            <a:xfrm>
              <a:off x="42840" y="38160"/>
              <a:ext cx="9062640" cy="6781320"/>
            </a:xfrm>
            <a:prstGeom prst="roundRect">
              <a:avLst>
                <a:gd name="adj" fmla="val 6227"/>
              </a:avLst>
            </a:prstGeom>
            <a:noFill/>
            <a:ln w="762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1" name="未知"/>
            <p:cNvSpPr/>
            <p:nvPr/>
          </p:nvSpPr>
          <p:spPr>
            <a:xfrm>
              <a:off x="4680" y="0"/>
              <a:ext cx="456840" cy="45684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2" name="未知"/>
            <p:cNvSpPr/>
            <p:nvPr/>
          </p:nvSpPr>
          <p:spPr>
            <a:xfrm rot="16191600">
              <a:off x="-74520" y="6397920"/>
              <a:ext cx="533160" cy="38376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383760"/>
                <a:gd name="textAreaBottom" fmla="*/ 384120 h 38376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3" name="未知"/>
            <p:cNvSpPr/>
            <p:nvPr/>
          </p:nvSpPr>
          <p:spPr>
            <a:xfrm>
              <a:off x="8763120" y="6315120"/>
              <a:ext cx="380520" cy="552240"/>
            </a:xfrm>
            <a:custGeom>
              <a:avLst/>
              <a:gdLst>
                <a:gd name="textAreaLeft" fmla="*/ 0 w 380520"/>
                <a:gd name="textAreaRight" fmla="*/ 380880 w 38052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4" name="未知"/>
            <p:cNvSpPr/>
            <p:nvPr/>
          </p:nvSpPr>
          <p:spPr>
            <a:xfrm rot="5400000">
              <a:off x="8687160" y="0"/>
              <a:ext cx="456840" cy="45684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pic>
        <p:nvPicPr>
          <p:cNvPr id="25" name="Picture 24" descr=""/>
          <p:cNvPicPr/>
          <p:nvPr/>
        </p:nvPicPr>
        <p:blipFill>
          <a:blip r:embed="rId5"/>
          <a:stretch/>
        </p:blipFill>
        <p:spPr>
          <a:xfrm>
            <a:off x="324000" y="333360"/>
            <a:ext cx="6479640" cy="1037880"/>
          </a:xfrm>
          <a:prstGeom prst="rect">
            <a:avLst/>
          </a:prstGeom>
          <a:ln w="0">
            <a:noFill/>
          </a:ln>
        </p:spPr>
      </p:pic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1120" cy="2285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单击此处编辑母版标题样式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chemeClr val="accent1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3640" cy="10472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0" y="0"/>
            <a:ext cx="9143640" cy="24084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66" name="未知"/>
          <p:cNvSpPr/>
          <p:nvPr/>
        </p:nvSpPr>
        <p:spPr>
          <a:xfrm>
            <a:off x="0" y="950760"/>
            <a:ext cx="9150120" cy="461520"/>
          </a:xfrm>
          <a:custGeom>
            <a:avLst/>
            <a:gdLst>
              <a:gd name="textAreaLeft" fmla="*/ 0 w 9150120"/>
              <a:gd name="textAreaRight" fmla="*/ 9150480 w 9150120"/>
              <a:gd name="textAreaTop" fmla="*/ 0 h 461520"/>
              <a:gd name="textAreaBottom" fmla="*/ 461880 h 46152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67" name="Line 8"/>
          <p:cNvSpPr/>
          <p:nvPr/>
        </p:nvSpPr>
        <p:spPr>
          <a:xfrm>
            <a:off x="425160" y="6524280"/>
            <a:ext cx="8353440" cy="360"/>
          </a:xfrm>
          <a:prstGeom prst="line">
            <a:avLst/>
          </a:prstGeom>
          <a:ln w="9525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360" cy="2599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单击此处编辑母版标题样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chemeClr val="accent1"/>
                </a:solidFill>
                <a:latin typeface="Verdana"/>
              </a:rPr>
              <a:t>单击此处编辑母版文本样式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第二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第三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</a:rPr>
              <a:t>第四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46ca6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</a:rPr>
              <a:t>第五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sldNum" idx="1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B7AC502-E1EA-4A76-9F22-84E09ED2160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dt" idx="2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3640" cy="10472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0" y="0"/>
            <a:ext cx="9143640" cy="24084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111" name="未知"/>
          <p:cNvSpPr/>
          <p:nvPr/>
        </p:nvSpPr>
        <p:spPr>
          <a:xfrm>
            <a:off x="0" y="950760"/>
            <a:ext cx="9150120" cy="461520"/>
          </a:xfrm>
          <a:custGeom>
            <a:avLst/>
            <a:gdLst>
              <a:gd name="textAreaLeft" fmla="*/ 0 w 9150120"/>
              <a:gd name="textAreaRight" fmla="*/ 9150480 w 9150120"/>
              <a:gd name="textAreaTop" fmla="*/ 0 h 461520"/>
              <a:gd name="textAreaBottom" fmla="*/ 461880 h 46152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112" name="Line 8"/>
          <p:cNvSpPr/>
          <p:nvPr/>
        </p:nvSpPr>
        <p:spPr>
          <a:xfrm>
            <a:off x="425160" y="6524280"/>
            <a:ext cx="8353440" cy="360"/>
          </a:xfrm>
          <a:prstGeom prst="line">
            <a:avLst/>
          </a:prstGeom>
          <a:ln w="9525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360" cy="2599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sldNum" idx="3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8FB5D01-0DFF-4EDC-AFE0-BACC3FFD5F2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4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chemeClr val="accent1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1120" cy="2285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急性中毒患者的救护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120" cy="533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Num" idx="15"/>
          </p:nvPr>
        </p:nvSpPr>
        <p:spPr>
          <a:xfrm>
            <a:off x="4572000" y="6524640"/>
            <a:ext cx="115200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6174EE2-12B1-43CF-B86A-5C8B61D80D8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755640" y="1413000"/>
            <a:ext cx="8208720" cy="4803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三、促进已吸收毒物的排出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利尿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静脉补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利尿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调节尿液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pH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值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Num" idx="16"/>
          </p:nvPr>
        </p:nvSpPr>
        <p:spPr>
          <a:xfrm>
            <a:off x="442764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5343DFB-8462-45E1-9FCD-D006BCCD6FF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179280" y="1413000"/>
            <a:ext cx="8784720" cy="4803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吸氧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血液净化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透析疗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灌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浆置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Num" idx="17"/>
          </p:nvPr>
        </p:nvSpPr>
        <p:spPr>
          <a:xfrm>
            <a:off x="450072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56F9553-0681-4368-935E-BA7795AD126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640" y="1341360"/>
            <a:ext cx="849672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四、特效解毒剂的应用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高铁血红蛋白血症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小剂量亚甲蓝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可使高铁血红蛋白还原为正常的血红蛋白，可用于亚硝酸盐、硝基苯、苯胺等中毒引起的高铁血红蛋白血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Num" idx="18"/>
          </p:nvPr>
        </p:nvSpPr>
        <p:spPr>
          <a:xfrm>
            <a:off x="471636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37CAD99-9403-4C03-B9A6-35BC2F98781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71280" y="1341360"/>
            <a:ext cx="867852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金属中毒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依地酸钙钠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最常用的氨酸螯合剂，适用于铅、锰、铜、镉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二巯基丙醇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最常用的巯基螯合剂，适用于砷、汞、金、锑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二巯基丁二酸钠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广谱金属解毒剂，适用于铅、汞、银、铜、砷、锑、镍等金属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Num" idx="19"/>
          </p:nvPr>
        </p:nvSpPr>
        <p:spPr>
          <a:xfrm>
            <a:off x="4356000" y="6524640"/>
            <a:ext cx="107928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E97F273-E845-4B1E-9531-DC563DB96FE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0" y="1341360"/>
            <a:ext cx="896436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抑制剂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纳洛酮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吗啡受体拮抗剂，是阿片类麻醉药的解毒剂，对麻醉镇痛引起的呼吸抑制有特异的拮抗作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氟马西尼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苯二氮䓬类药物中毒的拮抗剂，用于地西泮、氯氮䓬等中毒的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Num" idx="20"/>
          </p:nvPr>
        </p:nvSpPr>
        <p:spPr>
          <a:xfrm>
            <a:off x="4572000" y="6524640"/>
            <a:ext cx="10076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6BF627A-14B6-4AB2-848D-04EF7C6CED5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0" y="1341360"/>
            <a:ext cx="896436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2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有机磷杀虫药中毒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常用的有阿托品、解磷定、酸戊已奎醚注射液（长托宁）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2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五）氰化物中毒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采用亚硝酸盐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硫代硫酸钠疗法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Num" idx="21"/>
          </p:nvPr>
        </p:nvSpPr>
        <p:spPr>
          <a:xfrm>
            <a:off x="450072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CA3CB83-BD8D-4EFB-98E7-A235DC18CB6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640" y="1341360"/>
            <a:ext cx="842544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五、对症治疗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大多数急性中毒并无特效解毒剂，或短时间内很难明确毒物的种类和性质，因此对症支持治疗非常重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另外，还应采取积极措施维护心、脑、肺、肝、肾等重要脏器功能，防治并发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57120" y="150012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催吐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洗胃技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sldNum" idx="22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D73CB32-4A99-4F8A-9669-85495C1E22A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57120" y="1413000"/>
            <a:ext cx="8610120" cy="4963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催吐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（一）适应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适用于神志清醒且能合作的非腐蚀性毒物中毒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（二）禁忌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昏迷、惊厥状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腐蚀性毒物中毒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食管胃底静脉曲张、主动脉瘤、消化性溃疡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休克、高血压、肺水肿、冠心病、妊娠、年老体弱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饮用汽油、柴油、煤油等石油蒸馏物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sldNum" idx="23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68C3E6A-15FD-42E3-90BB-E9B73963A5C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50920" y="1500120"/>
            <a:ext cx="871668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三）方法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机械催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药物催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sldNum" idx="24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92A4A2D-9156-410B-BA66-74549026320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660360" y="285840"/>
            <a:ext cx="2232000" cy="785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843280" y="2061000"/>
            <a:ext cx="3960360" cy="3695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711360" indent="0" algn="ctr">
              <a:lnSpc>
                <a:spcPct val="2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中毒的基本救治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用的中毒抢救技术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见急性中毒患者的救护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grpSp>
        <p:nvGrpSpPr>
          <p:cNvPr id="164" name="Group 4"/>
          <p:cNvGrpSpPr/>
          <p:nvPr/>
        </p:nvGrpSpPr>
        <p:grpSpPr>
          <a:xfrm>
            <a:off x="1819440" y="2219400"/>
            <a:ext cx="688680" cy="593280"/>
            <a:chOff x="1819440" y="2219400"/>
            <a:chExt cx="688680" cy="593280"/>
          </a:xfrm>
        </p:grpSpPr>
        <p:sp>
          <p:nvSpPr>
            <p:cNvPr id="165" name="AutoShape 5"/>
            <p:cNvSpPr/>
            <p:nvPr/>
          </p:nvSpPr>
          <p:spPr>
            <a:xfrm>
              <a:off x="1825200" y="2229480"/>
              <a:ext cx="6829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66" name="AutoShape 6"/>
            <p:cNvSpPr/>
            <p:nvPr/>
          </p:nvSpPr>
          <p:spPr>
            <a:xfrm>
              <a:off x="1819440" y="2219400"/>
              <a:ext cx="6829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67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68" name="Text Box 8"/>
          <p:cNvSpPr/>
          <p:nvPr/>
        </p:nvSpPr>
        <p:spPr>
          <a:xfrm>
            <a:off x="1990800" y="2276640"/>
            <a:ext cx="315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9"/>
          <p:cNvSpPr/>
          <p:nvPr/>
        </p:nvSpPr>
        <p:spPr>
          <a:xfrm>
            <a:off x="1819440" y="2981160"/>
            <a:ext cx="686880" cy="593280"/>
          </a:xfrm>
          <a:prstGeom prst="hexagon">
            <a:avLst>
              <a:gd name="adj" fmla="val 28944"/>
              <a:gd name="vf" fmla="val 115470"/>
            </a:avLst>
          </a:prstGeom>
          <a:gradFill rotWithShape="0">
            <a:gsLst>
              <a:gs pos="0">
                <a:srgbClr val="3f5c66"/>
              </a:gs>
              <a:gs pos="100000">
                <a:srgbClr val="8ac8de"/>
              </a:gs>
            </a:gsLst>
            <a:lin ang="27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1954080" y="3063960"/>
            <a:ext cx="35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11"/>
          <p:cNvGrpSpPr/>
          <p:nvPr/>
        </p:nvGrpSpPr>
        <p:grpSpPr>
          <a:xfrm>
            <a:off x="1803240" y="3749760"/>
            <a:ext cx="686880" cy="593280"/>
            <a:chOff x="1803240" y="3749760"/>
            <a:chExt cx="686880" cy="593280"/>
          </a:xfrm>
        </p:grpSpPr>
        <p:sp>
          <p:nvSpPr>
            <p:cNvPr id="172" name="AutoShape 12"/>
            <p:cNvSpPr/>
            <p:nvPr/>
          </p:nvSpPr>
          <p:spPr>
            <a:xfrm>
              <a:off x="1809000" y="3759840"/>
              <a:ext cx="6811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73" name="AutoShape 13"/>
            <p:cNvSpPr/>
            <p:nvPr/>
          </p:nvSpPr>
          <p:spPr>
            <a:xfrm>
              <a:off x="1803240" y="3749760"/>
              <a:ext cx="6811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74" name="AutoShape 14"/>
            <p:cNvSpPr/>
            <p:nvPr/>
          </p:nvSpPr>
          <p:spPr>
            <a:xfrm>
              <a:off x="1843200" y="3784680"/>
              <a:ext cx="598680" cy="51300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75" name="Text Box 15"/>
          <p:cNvSpPr/>
          <p:nvPr/>
        </p:nvSpPr>
        <p:spPr>
          <a:xfrm>
            <a:off x="1971720" y="3825720"/>
            <a:ext cx="352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8"/>
          <p:cNvSpPr/>
          <p:nvPr/>
        </p:nvSpPr>
        <p:spPr>
          <a:xfrm>
            <a:off x="2555640" y="2781000"/>
            <a:ext cx="4800600" cy="360"/>
          </a:xfrm>
          <a:prstGeom prst="line">
            <a:avLst/>
          </a:prstGeom>
          <a:ln w="25400">
            <a:solidFill>
              <a:srgbClr val="c0c0c0"/>
            </a:solidFill>
            <a:prstDash val="sys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Line 19"/>
          <p:cNvSpPr/>
          <p:nvPr/>
        </p:nvSpPr>
        <p:spPr>
          <a:xfrm>
            <a:off x="2555640" y="3573360"/>
            <a:ext cx="4800600" cy="360"/>
          </a:xfrm>
          <a:prstGeom prst="line">
            <a:avLst/>
          </a:prstGeom>
          <a:ln w="25400">
            <a:solidFill>
              <a:srgbClr val="c0c0c0"/>
            </a:solidFill>
            <a:prstDash val="sys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20"/>
          <p:cNvSpPr/>
          <p:nvPr/>
        </p:nvSpPr>
        <p:spPr>
          <a:xfrm>
            <a:off x="2555640" y="4365360"/>
            <a:ext cx="4800600" cy="360"/>
          </a:xfrm>
          <a:prstGeom prst="line">
            <a:avLst/>
          </a:prstGeom>
          <a:ln w="25400">
            <a:solidFill>
              <a:srgbClr val="c0c0c0"/>
            </a:solidFill>
            <a:prstDash val="sys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91504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注意事项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急性中毒者，应迅速采用口服催吐法，必要时进行洗胃，减少毒物的吸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当呕吐发生时，患者采取左侧卧位，头部放低，面向左侧，臀部略抬高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幼儿应俯卧，头向下，臀部略抬高，以防止呕吐物吸入气管发生窒息或引起肺炎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50920" y="1500120"/>
            <a:ext cx="853560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洗胃技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一）适应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口服毒物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6h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内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洗胃效果最好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非腐蚀性毒物中毒，如镇静催眠药、有机磷杀虫剂、生物碱、重金属类及食物中毒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幽门梗阻伴有明显胃潴留扩张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25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F3DBBFA-ED7A-4CC7-9397-0932191E46F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0" y="1500120"/>
            <a:ext cx="896760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二）禁忌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强酸、强碱等腐蚀性毒物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消化性溃疡、食管胃底静脉曲张、胃癌、上消化道大出血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胸主动脉瘤、重度心肺功能不全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惊厥或抽搐未控制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26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E4F5F12-0CDC-422F-B7EC-109655125D3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424360" cy="5035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74304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三）常用洗胃液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保护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吸附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和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沉淀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溶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27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C9F36F4-4A36-4978-94E9-AB3EEB8A7D2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线形标注 2 2"/>
          <p:cNvSpPr/>
          <p:nvPr/>
        </p:nvSpPr>
        <p:spPr>
          <a:xfrm>
            <a:off x="3692520" y="1165320"/>
            <a:ext cx="5343120" cy="756720"/>
          </a:xfrm>
          <a:prstGeom prst="borderCallout2">
            <a:avLst>
              <a:gd name="adj1" fmla="val 52809"/>
              <a:gd name="adj2" fmla="val -1313"/>
              <a:gd name="adj3" fmla="val 52810"/>
              <a:gd name="adj4" fmla="val -651"/>
              <a:gd name="adj5" fmla="val 130744"/>
              <a:gd name="adj6" fmla="val -24901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豆浆、牛奶、蛋清、米汤、植物油保护胃黏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线形标注 1 3"/>
          <p:cNvSpPr/>
          <p:nvPr/>
        </p:nvSpPr>
        <p:spPr>
          <a:xfrm>
            <a:off x="3692520" y="1995480"/>
            <a:ext cx="5343120" cy="576000"/>
          </a:xfrm>
          <a:prstGeom prst="borderCallout1">
            <a:avLst>
              <a:gd name="adj1" fmla="val 49265"/>
              <a:gd name="adj2" fmla="val 4"/>
              <a:gd name="adj3" fmla="val 124941"/>
              <a:gd name="adj4" fmla="val -24623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活性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线形标注 1 4"/>
          <p:cNvSpPr/>
          <p:nvPr/>
        </p:nvSpPr>
        <p:spPr>
          <a:xfrm>
            <a:off x="3692520" y="2690640"/>
            <a:ext cx="5343120" cy="1025280"/>
          </a:xfrm>
          <a:prstGeom prst="borderCallout1">
            <a:avLst>
              <a:gd name="adj1" fmla="val 49615"/>
              <a:gd name="adj2" fmla="val 4"/>
              <a:gd name="adj3" fmla="val 54583"/>
              <a:gd name="adj4" fmla="val -2498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吞服强碱时：选择弱酸，如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食醋、果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等进行中和。吞服强酸时：选择弱碱，如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氢氧化铝凝胶、镁乳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等进行中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线形标注 1 5"/>
          <p:cNvSpPr/>
          <p:nvPr/>
        </p:nvSpPr>
        <p:spPr>
          <a:xfrm>
            <a:off x="3708360" y="3860640"/>
            <a:ext cx="5327280" cy="576000"/>
          </a:xfrm>
          <a:prstGeom prst="borderCallout1">
            <a:avLst>
              <a:gd name="adj1" fmla="val 53333"/>
              <a:gd name="adj2" fmla="val -191"/>
              <a:gd name="adj3" fmla="val -6051"/>
              <a:gd name="adj4" fmla="val -25071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∶50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高锰酸钾或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碳酸氢钠溶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线形标注 1 6"/>
          <p:cNvSpPr/>
          <p:nvPr/>
        </p:nvSpPr>
        <p:spPr>
          <a:xfrm>
            <a:off x="3708360" y="4653000"/>
            <a:ext cx="5327280" cy="720360"/>
          </a:xfrm>
          <a:prstGeom prst="borderCallout1">
            <a:avLst>
              <a:gd name="adj1" fmla="val 48028"/>
              <a:gd name="adj2" fmla="val -411"/>
              <a:gd name="adj3" fmla="val -44821"/>
              <a:gd name="adj4" fmla="val -25044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硫酸钠与可溶性钡盐作用生成不溶性硫酸钡，生理盐水与硝酸盐作用生成氯化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线形标注 1 7"/>
          <p:cNvSpPr/>
          <p:nvPr/>
        </p:nvSpPr>
        <p:spPr>
          <a:xfrm>
            <a:off x="3708360" y="5567400"/>
            <a:ext cx="5316120" cy="828360"/>
          </a:xfrm>
          <a:prstGeom prst="borderCallout1">
            <a:avLst>
              <a:gd name="adj1" fmla="val 51288"/>
              <a:gd name="adj2" fmla="val -395"/>
              <a:gd name="adj3" fmla="val -79080"/>
              <a:gd name="adj4" fmla="val -31346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饮用汽油、煤油等脂溶性毒物者，先用液体石蜡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5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0m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86480" y="1484640"/>
            <a:ext cx="896760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方法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五）注意事项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严格把握洗胃的适应证和禁忌证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插胃管应缓慢、轻柔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插入胃管后抽出的胃内容物，应留取标本及时送检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液每次注入量不宜过多或过少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液温度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28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800071C-4C00-441C-81C5-0F7BA6631A4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23640" y="1484640"/>
            <a:ext cx="84247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五）注意事项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洗胃过程中要密切观察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机使用过程中的注意事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应尽早尽早、彻底、反复、多次，直到洗出液澄清无味为止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完毕后有时需要保留胃管，以方便再次洗胃，尤其是有机磷中毒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sldNum" idx="29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7F3AD7A-7674-4462-9250-71E57897C08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Num" idx="30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35F3263-0DFE-442B-9D61-F89A2B1A37B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826920" y="33336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急性中毒患者的救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6" name="Group 4"/>
          <p:cNvGrpSpPr/>
          <p:nvPr/>
        </p:nvGrpSpPr>
        <p:grpSpPr>
          <a:xfrm>
            <a:off x="468360" y="907920"/>
            <a:ext cx="4601520" cy="720360"/>
            <a:chOff x="468360" y="907920"/>
            <a:chExt cx="4601520" cy="720360"/>
          </a:xfrm>
        </p:grpSpPr>
        <p:grpSp>
          <p:nvGrpSpPr>
            <p:cNvPr id="257" name="Group 5"/>
            <p:cNvGrpSpPr/>
            <p:nvPr/>
          </p:nvGrpSpPr>
          <p:grpSpPr>
            <a:xfrm>
              <a:off x="468360" y="907920"/>
              <a:ext cx="761760" cy="720360"/>
              <a:chOff x="468360" y="907920"/>
              <a:chExt cx="761760" cy="720360"/>
            </a:xfrm>
          </p:grpSpPr>
          <p:sp>
            <p:nvSpPr>
              <p:cNvPr id="258" name="AutoShape 6"/>
              <p:cNvSpPr/>
              <p:nvPr/>
            </p:nvSpPr>
            <p:spPr>
              <a:xfrm>
                <a:off x="474840" y="920160"/>
                <a:ext cx="755280" cy="70812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59" name="AutoShape 7"/>
              <p:cNvSpPr/>
              <p:nvPr/>
            </p:nvSpPr>
            <p:spPr>
              <a:xfrm>
                <a:off x="468360" y="907920"/>
                <a:ext cx="755280" cy="70812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60" name="AutoShape 8"/>
              <p:cNvSpPr/>
              <p:nvPr/>
            </p:nvSpPr>
            <p:spPr>
              <a:xfrm>
                <a:off x="468360" y="950760"/>
                <a:ext cx="720360" cy="60624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61" name="Line 9"/>
            <p:cNvSpPr/>
            <p:nvPr/>
          </p:nvSpPr>
          <p:spPr>
            <a:xfrm>
              <a:off x="1044360" y="1532160"/>
              <a:ext cx="3888000" cy="2412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Text Box 10"/>
            <p:cNvSpPr/>
            <p:nvPr/>
          </p:nvSpPr>
          <p:spPr>
            <a:xfrm>
              <a:off x="1279440" y="1131840"/>
              <a:ext cx="379044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有机磷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1"/>
            <p:cNvSpPr/>
            <p:nvPr/>
          </p:nvSpPr>
          <p:spPr>
            <a:xfrm>
              <a:off x="652320" y="9630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12"/>
          <p:cNvGrpSpPr/>
          <p:nvPr/>
        </p:nvGrpSpPr>
        <p:grpSpPr>
          <a:xfrm>
            <a:off x="468360" y="1700280"/>
            <a:ext cx="4462200" cy="664560"/>
            <a:chOff x="468360" y="1700280"/>
            <a:chExt cx="4462200" cy="664560"/>
          </a:xfrm>
        </p:grpSpPr>
        <p:grpSp>
          <p:nvGrpSpPr>
            <p:cNvPr id="265" name="Group 13"/>
            <p:cNvGrpSpPr/>
            <p:nvPr/>
          </p:nvGrpSpPr>
          <p:grpSpPr>
            <a:xfrm>
              <a:off x="468360" y="1700280"/>
              <a:ext cx="811440" cy="664560"/>
              <a:chOff x="468360" y="1700280"/>
              <a:chExt cx="811440" cy="664560"/>
            </a:xfrm>
          </p:grpSpPr>
          <p:sp>
            <p:nvSpPr>
              <p:cNvPr id="266" name="AutoShape 14"/>
              <p:cNvSpPr/>
              <p:nvPr/>
            </p:nvSpPr>
            <p:spPr>
              <a:xfrm>
                <a:off x="475200" y="1711440"/>
                <a:ext cx="8046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67" name="AutoShape 15"/>
              <p:cNvSpPr/>
              <p:nvPr/>
            </p:nvSpPr>
            <p:spPr>
              <a:xfrm>
                <a:off x="468360" y="1700280"/>
                <a:ext cx="8046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68" name="AutoShape 16"/>
              <p:cNvSpPr/>
              <p:nvPr/>
            </p:nvSpPr>
            <p:spPr>
              <a:xfrm>
                <a:off x="515880" y="1740240"/>
                <a:ext cx="70596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69" name="Line 17"/>
            <p:cNvSpPr/>
            <p:nvPr/>
          </p:nvSpPr>
          <p:spPr>
            <a:xfrm>
              <a:off x="1081800" y="2276280"/>
              <a:ext cx="384876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Text Box 18"/>
            <p:cNvSpPr/>
            <p:nvPr/>
          </p:nvSpPr>
          <p:spPr>
            <a:xfrm>
              <a:off x="1843200" y="1822320"/>
              <a:ext cx="17049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百草枯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19"/>
            <p:cNvSpPr/>
            <p:nvPr/>
          </p:nvSpPr>
          <p:spPr>
            <a:xfrm>
              <a:off x="675720" y="175104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20"/>
          <p:cNvGrpSpPr/>
          <p:nvPr/>
        </p:nvGrpSpPr>
        <p:grpSpPr>
          <a:xfrm>
            <a:off x="468360" y="2492280"/>
            <a:ext cx="4536720" cy="664920"/>
            <a:chOff x="468360" y="2492280"/>
            <a:chExt cx="4536720" cy="664920"/>
          </a:xfrm>
        </p:grpSpPr>
        <p:grpSp>
          <p:nvGrpSpPr>
            <p:cNvPr id="273" name="Group 21"/>
            <p:cNvGrpSpPr/>
            <p:nvPr/>
          </p:nvGrpSpPr>
          <p:grpSpPr>
            <a:xfrm>
              <a:off x="468360" y="2492280"/>
              <a:ext cx="761760" cy="664920"/>
              <a:chOff x="468360" y="2492280"/>
              <a:chExt cx="761760" cy="664920"/>
            </a:xfrm>
          </p:grpSpPr>
          <p:sp>
            <p:nvSpPr>
              <p:cNvPr id="274" name="AutoShape 22"/>
              <p:cNvSpPr/>
              <p:nvPr/>
            </p:nvSpPr>
            <p:spPr>
              <a:xfrm>
                <a:off x="474840" y="250380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75" name="AutoShape 23"/>
              <p:cNvSpPr/>
              <p:nvPr/>
            </p:nvSpPr>
            <p:spPr>
              <a:xfrm>
                <a:off x="468360" y="249228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76" name="AutoShape 24"/>
              <p:cNvSpPr/>
              <p:nvPr/>
            </p:nvSpPr>
            <p:spPr>
              <a:xfrm>
                <a:off x="512640" y="2532240"/>
                <a:ext cx="66312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77" name="Line 25"/>
            <p:cNvSpPr/>
            <p:nvPr/>
          </p:nvSpPr>
          <p:spPr>
            <a:xfrm>
              <a:off x="1044360" y="3068280"/>
              <a:ext cx="396072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Text Box 26"/>
            <p:cNvSpPr/>
            <p:nvPr/>
          </p:nvSpPr>
          <p:spPr>
            <a:xfrm>
              <a:off x="2000520" y="2619360"/>
              <a:ext cx="200988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急性灭鼠剂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27"/>
            <p:cNvSpPr/>
            <p:nvPr/>
          </p:nvSpPr>
          <p:spPr>
            <a:xfrm>
              <a:off x="652320" y="254304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28"/>
          <p:cNvGrpSpPr/>
          <p:nvPr/>
        </p:nvGrpSpPr>
        <p:grpSpPr>
          <a:xfrm>
            <a:off x="468360" y="3284640"/>
            <a:ext cx="4535280" cy="664560"/>
            <a:chOff x="468360" y="3284640"/>
            <a:chExt cx="4535280" cy="664560"/>
          </a:xfrm>
        </p:grpSpPr>
        <p:grpSp>
          <p:nvGrpSpPr>
            <p:cNvPr id="281" name="Group 29"/>
            <p:cNvGrpSpPr/>
            <p:nvPr/>
          </p:nvGrpSpPr>
          <p:grpSpPr>
            <a:xfrm>
              <a:off x="468360" y="3284640"/>
              <a:ext cx="810720" cy="664560"/>
              <a:chOff x="468360" y="3284640"/>
              <a:chExt cx="810720" cy="664560"/>
            </a:xfrm>
          </p:grpSpPr>
          <p:sp>
            <p:nvSpPr>
              <p:cNvPr id="282" name="AutoShape 30"/>
              <p:cNvSpPr/>
              <p:nvPr/>
            </p:nvSpPr>
            <p:spPr>
              <a:xfrm>
                <a:off x="475200" y="3295800"/>
                <a:ext cx="8038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83" name="AutoShape 31"/>
              <p:cNvSpPr/>
              <p:nvPr/>
            </p:nvSpPr>
            <p:spPr>
              <a:xfrm>
                <a:off x="468360" y="3284640"/>
                <a:ext cx="8038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84" name="AutoShape 32"/>
              <p:cNvSpPr/>
              <p:nvPr/>
            </p:nvSpPr>
            <p:spPr>
              <a:xfrm>
                <a:off x="515880" y="3324240"/>
                <a:ext cx="67248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85" name="Line 33"/>
            <p:cNvSpPr/>
            <p:nvPr/>
          </p:nvSpPr>
          <p:spPr>
            <a:xfrm>
              <a:off x="1081440" y="3860640"/>
              <a:ext cx="392220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6" name="Text Box 34"/>
            <p:cNvSpPr/>
            <p:nvPr/>
          </p:nvSpPr>
          <p:spPr>
            <a:xfrm>
              <a:off x="1581840" y="3335400"/>
              <a:ext cx="195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87" name="Text Box 35"/>
            <p:cNvSpPr/>
            <p:nvPr/>
          </p:nvSpPr>
          <p:spPr>
            <a:xfrm>
              <a:off x="675720" y="33354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36"/>
          <p:cNvGrpSpPr/>
          <p:nvPr/>
        </p:nvGrpSpPr>
        <p:grpSpPr>
          <a:xfrm>
            <a:off x="468360" y="4076640"/>
            <a:ext cx="4535280" cy="664920"/>
            <a:chOff x="468360" y="4076640"/>
            <a:chExt cx="4535280" cy="664920"/>
          </a:xfrm>
        </p:grpSpPr>
        <p:grpSp>
          <p:nvGrpSpPr>
            <p:cNvPr id="289" name="Group 37"/>
            <p:cNvGrpSpPr/>
            <p:nvPr/>
          </p:nvGrpSpPr>
          <p:grpSpPr>
            <a:xfrm>
              <a:off x="468360" y="4076640"/>
              <a:ext cx="798480" cy="664920"/>
              <a:chOff x="468360" y="4076640"/>
              <a:chExt cx="798480" cy="664920"/>
            </a:xfrm>
          </p:grpSpPr>
          <p:sp>
            <p:nvSpPr>
              <p:cNvPr id="290" name="AutoShape 38"/>
              <p:cNvSpPr/>
              <p:nvPr/>
            </p:nvSpPr>
            <p:spPr>
              <a:xfrm>
                <a:off x="474840" y="4088160"/>
                <a:ext cx="7920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91" name="AutoShape 39"/>
              <p:cNvSpPr/>
              <p:nvPr/>
            </p:nvSpPr>
            <p:spPr>
              <a:xfrm>
                <a:off x="468360" y="4076640"/>
                <a:ext cx="7920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92" name="AutoShape 40"/>
              <p:cNvSpPr/>
              <p:nvPr/>
            </p:nvSpPr>
            <p:spPr>
              <a:xfrm>
                <a:off x="514080" y="4155840"/>
                <a:ext cx="69480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93" name="Line 41"/>
            <p:cNvSpPr/>
            <p:nvPr/>
          </p:nvSpPr>
          <p:spPr>
            <a:xfrm>
              <a:off x="1072440" y="4652640"/>
              <a:ext cx="393120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42"/>
            <p:cNvSpPr/>
            <p:nvPr/>
          </p:nvSpPr>
          <p:spPr>
            <a:xfrm>
              <a:off x="1565280" y="4148280"/>
              <a:ext cx="19260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2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95" name="Text Box 43"/>
            <p:cNvSpPr/>
            <p:nvPr/>
          </p:nvSpPr>
          <p:spPr>
            <a:xfrm>
              <a:off x="669960" y="41562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44"/>
          <p:cNvGrpSpPr/>
          <p:nvPr/>
        </p:nvGrpSpPr>
        <p:grpSpPr>
          <a:xfrm>
            <a:off x="468360" y="4869000"/>
            <a:ext cx="4608360" cy="664560"/>
            <a:chOff x="468360" y="4869000"/>
            <a:chExt cx="4608360" cy="664560"/>
          </a:xfrm>
        </p:grpSpPr>
        <p:grpSp>
          <p:nvGrpSpPr>
            <p:cNvPr id="297" name="Group 45"/>
            <p:cNvGrpSpPr/>
            <p:nvPr/>
          </p:nvGrpSpPr>
          <p:grpSpPr>
            <a:xfrm>
              <a:off x="468360" y="4869000"/>
              <a:ext cx="761760" cy="664560"/>
              <a:chOff x="468360" y="4869000"/>
              <a:chExt cx="761760" cy="664560"/>
            </a:xfrm>
          </p:grpSpPr>
          <p:sp>
            <p:nvSpPr>
              <p:cNvPr id="298" name="AutoShape 46"/>
              <p:cNvSpPr/>
              <p:nvPr/>
            </p:nvSpPr>
            <p:spPr>
              <a:xfrm>
                <a:off x="474840" y="488016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99" name="AutoShape 47"/>
              <p:cNvSpPr/>
              <p:nvPr/>
            </p:nvSpPr>
            <p:spPr>
              <a:xfrm>
                <a:off x="468360" y="486900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00" name="AutoShape 48"/>
              <p:cNvSpPr/>
              <p:nvPr/>
            </p:nvSpPr>
            <p:spPr>
              <a:xfrm>
                <a:off x="512640" y="4908600"/>
                <a:ext cx="66312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301" name="Line 49"/>
            <p:cNvSpPr/>
            <p:nvPr/>
          </p:nvSpPr>
          <p:spPr>
            <a:xfrm>
              <a:off x="1044360" y="5445000"/>
              <a:ext cx="403236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Text Box 50"/>
            <p:cNvSpPr/>
            <p:nvPr/>
          </p:nvSpPr>
          <p:spPr>
            <a:xfrm>
              <a:off x="2007720" y="5006880"/>
              <a:ext cx="23148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急性镇静催眠药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51"/>
            <p:cNvSpPr/>
            <p:nvPr/>
          </p:nvSpPr>
          <p:spPr>
            <a:xfrm>
              <a:off x="641160" y="50022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矩形 55"/>
          <p:cNvSpPr/>
          <p:nvPr/>
        </p:nvSpPr>
        <p:spPr>
          <a:xfrm>
            <a:off x="1260360" y="3318480"/>
            <a:ext cx="4222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一氧化碳中毒患者的救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56"/>
          <p:cNvSpPr/>
          <p:nvPr/>
        </p:nvSpPr>
        <p:spPr>
          <a:xfrm>
            <a:off x="1272600" y="4184640"/>
            <a:ext cx="41508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急性酒精中毒患者的救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44"/>
          <p:cNvGrpSpPr/>
          <p:nvPr/>
        </p:nvGrpSpPr>
        <p:grpSpPr>
          <a:xfrm>
            <a:off x="468360" y="5732640"/>
            <a:ext cx="4608360" cy="666360"/>
            <a:chOff x="468360" y="5732640"/>
            <a:chExt cx="4608360" cy="666360"/>
          </a:xfrm>
        </p:grpSpPr>
        <p:grpSp>
          <p:nvGrpSpPr>
            <p:cNvPr id="307" name="Group 45"/>
            <p:cNvGrpSpPr/>
            <p:nvPr/>
          </p:nvGrpSpPr>
          <p:grpSpPr>
            <a:xfrm>
              <a:off x="468360" y="5732640"/>
              <a:ext cx="761760" cy="666360"/>
              <a:chOff x="468360" y="5732640"/>
              <a:chExt cx="761760" cy="666360"/>
            </a:xfrm>
          </p:grpSpPr>
          <p:sp>
            <p:nvSpPr>
              <p:cNvPr id="308" name="AutoShape 46"/>
              <p:cNvSpPr/>
              <p:nvPr/>
            </p:nvSpPr>
            <p:spPr>
              <a:xfrm>
                <a:off x="474840" y="5743800"/>
                <a:ext cx="755280" cy="6552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09" name="AutoShape 47"/>
              <p:cNvSpPr/>
              <p:nvPr/>
            </p:nvSpPr>
            <p:spPr>
              <a:xfrm>
                <a:off x="468360" y="5732640"/>
                <a:ext cx="755280" cy="6552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10" name="AutoShape 48"/>
              <p:cNvSpPr/>
              <p:nvPr/>
            </p:nvSpPr>
            <p:spPr>
              <a:xfrm>
                <a:off x="512640" y="5771880"/>
                <a:ext cx="663120" cy="5760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311" name="Line 49"/>
            <p:cNvSpPr/>
            <p:nvPr/>
          </p:nvSpPr>
          <p:spPr>
            <a:xfrm>
              <a:off x="1044360" y="6310080"/>
              <a:ext cx="403236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Text Box 50"/>
            <p:cNvSpPr/>
            <p:nvPr/>
          </p:nvSpPr>
          <p:spPr>
            <a:xfrm>
              <a:off x="1910520" y="5845320"/>
              <a:ext cx="18576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强酸强碱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51"/>
            <p:cNvSpPr/>
            <p:nvPr/>
          </p:nvSpPr>
          <p:spPr>
            <a:xfrm>
              <a:off x="667800" y="587412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57120" y="150012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有机磷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sldNum" idx="31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D2B7921-8F6D-43D5-8C83-811AB48DA46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圆角矩形 4"/>
          <p:cNvSpPr/>
          <p:nvPr/>
        </p:nvSpPr>
        <p:spPr>
          <a:xfrm>
            <a:off x="357120" y="2286000"/>
            <a:ext cx="8496000" cy="3526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，男性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。因突然昏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h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急诊入院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6.2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1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95/60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处于浅昏迷状态，面色苍白，口唇发绀，口吐白沫，皮肤湿冷，呼吸困难，双侧瞳孔缩小如针尖，呼吸有大蒜样臭味，听诊肺部湿啰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问题：该患者最可能发生什么状况？为进一步明确诊断，需要做哪些检查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抑制胆碱酯酶的活性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导致胆碱能神经递质大量积聚，作用于胆碱受体，引起胆碱能神经先兴奋后抑制的一系列毒蕈碱样、烟碱样及中枢神经系统中毒的症状和体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610120" cy="497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蕈碱样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烟碱样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全血胆碱酯酶活性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有机磷杀虫药代谢产物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32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85840" y="1125360"/>
            <a:ext cx="8572320" cy="5122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急性中毒的基本救治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洗胃的适应证、禁忌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常见毒物中毒的临床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ffc000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催吐和洗胃两种中毒抢救技术的异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释常见毒物中毒的中毒机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强酸中毒与强碱中毒在临床表现及救护措施上的区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ffc000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评估各种常见急性中毒患者的健康状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施各种常见急性中毒患者的救护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Num" idx="8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E4E0DF3-C44F-4BEA-9DD6-B518063A7BD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610120" cy="497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：立即脱离中毒现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药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抗胆碱药和胆碱酯酶复能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处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33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1" lang="en-US" sz="32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病情观察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用药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心理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34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百草枯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35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32" name="圆角矩形 4"/>
          <p:cNvSpPr/>
          <p:nvPr/>
        </p:nvSpPr>
        <p:spPr>
          <a:xfrm>
            <a:off x="324000" y="2276640"/>
            <a:ext cx="8496000" cy="3168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，女性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。因家庭矛盾将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0%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百草枯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0ml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兑水后吞服，出现恶心、呕吐，呕吐物为草绿色胃内容物，平车入院。入院查体：体温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6.5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7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98/62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患者意识清楚，咽部充血，口腔黏膜损伤。胸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线示：双肺纹理增强。诊断为百草枯中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问题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百草枯是一种被广泛应用于园艺和农业生产中的除草剂，对人、畜具有很强毒性，且无特效解毒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百草枯作用于细胞的氧化还原反应，在细胞内活化氧自由基是中毒作用的基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610120" cy="5122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局部刺激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呼吸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消化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泌尿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循环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120" cy="5122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物鉴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胸部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立即脱离中毒现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促进已吸收毒物的排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治疗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病情观察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心理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急性灭鼠剂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45" name="圆角矩形 3"/>
          <p:cNvSpPr/>
          <p:nvPr/>
        </p:nvSpPr>
        <p:spPr>
          <a:xfrm>
            <a:off x="179280" y="2276640"/>
            <a:ext cx="8784720" cy="3096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，男性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7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因误服含毒鼠强成分的饼干后出现头晕、心悸，后神志不清，二便失禁，平车入院。入院查体：体温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9.2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6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31/77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SP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00%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患者面色青灰，口唇、指端重度发绀，反复强直抽搐，双肺布满湿啰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问题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鼠强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氟乙酸钠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磷化锌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Num" idx="9"/>
          </p:nvPr>
        </p:nvSpPr>
        <p:spPr>
          <a:xfrm>
            <a:off x="4067280" y="6524640"/>
            <a:ext cx="113148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638D6BA-1833-45EF-B475-4399AA3D166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39640" y="1785960"/>
            <a:ext cx="8299080" cy="443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性中毒是指大量毒物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短时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进入人体或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毒性剧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毒物突然进入人体，导致机体受损并发生功能障碍，甚至危及生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溴鼠隆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毒鼠强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氟乙酸钠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磷化锌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50" name="线形标注 2 1"/>
          <p:cNvSpPr/>
          <p:nvPr/>
        </p:nvSpPr>
        <p:spPr>
          <a:xfrm>
            <a:off x="4245120" y="1197000"/>
            <a:ext cx="4647960" cy="1152000"/>
          </a:xfrm>
          <a:prstGeom prst="borderCallout2">
            <a:avLst>
              <a:gd name="adj1" fmla="val 53334"/>
              <a:gd name="adj2" fmla="val -515"/>
              <a:gd name="adj3" fmla="val 52316"/>
              <a:gd name="adj4" fmla="val -274"/>
              <a:gd name="adj5" fmla="val 152763"/>
              <a:gd name="adj6" fmla="val -22286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特效解毒剂：维生素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K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线形标注 2 4"/>
          <p:cNvSpPr/>
          <p:nvPr/>
        </p:nvSpPr>
        <p:spPr>
          <a:xfrm>
            <a:off x="4290840" y="2637000"/>
            <a:ext cx="4647960" cy="1079280"/>
          </a:xfrm>
          <a:prstGeom prst="borderCallout2">
            <a:avLst>
              <a:gd name="adj1" fmla="val 50243"/>
              <a:gd name="adj2" fmla="val -262"/>
              <a:gd name="adj3" fmla="val 48071"/>
              <a:gd name="adj4" fmla="val -526"/>
              <a:gd name="adj5" fmla="val 85019"/>
              <a:gd name="adj6" fmla="val -23058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 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控制抽搐 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解毒剂：二巯基丙磺酸钠、维生素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6 4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线形标注 2 5"/>
          <p:cNvSpPr/>
          <p:nvPr/>
        </p:nvSpPr>
        <p:spPr>
          <a:xfrm>
            <a:off x="4290840" y="3933000"/>
            <a:ext cx="4647960" cy="1150560"/>
          </a:xfrm>
          <a:prstGeom prst="borderCallout2">
            <a:avLst>
              <a:gd name="adj1" fmla="val 49307"/>
              <a:gd name="adj2" fmla="val -515"/>
              <a:gd name="adj3" fmla="val 18750"/>
              <a:gd name="adj4" fmla="val -16667"/>
              <a:gd name="adj5" fmla="val 18246"/>
              <a:gd name="adj6" fmla="val -16549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特效解毒剂：乙酰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线形标注 2 6"/>
          <p:cNvSpPr/>
          <p:nvPr/>
        </p:nvSpPr>
        <p:spPr>
          <a:xfrm>
            <a:off x="4290840" y="5300640"/>
            <a:ext cx="4647960" cy="1007640"/>
          </a:xfrm>
          <a:prstGeom prst="borderCallout2">
            <a:avLst>
              <a:gd name="adj1" fmla="val 52475"/>
              <a:gd name="adj2" fmla="val -262"/>
              <a:gd name="adj3" fmla="val 54801"/>
              <a:gd name="adj4" fmla="val -526"/>
              <a:gd name="adj5" fmla="val -51036"/>
              <a:gd name="adj6" fmla="val -22909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一氧化碳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58" name="圆角矩形 3"/>
          <p:cNvSpPr/>
          <p:nvPr/>
        </p:nvSpPr>
        <p:spPr>
          <a:xfrm>
            <a:off x="179280" y="2276640"/>
            <a:ext cx="8784720" cy="3816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患儿，男性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。因误吸入煤气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h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余，昏睡约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h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平车入院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8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4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87/57mmH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患儿呈昏迷状，面色苍白，口唇发绀，对外界刺激无反应，双侧瞳孔等大等圆，直径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m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对光反射存在，压眶反射存在，四肢肌力、肌张力减弱，颈软，巴宾斯基征阳性，腱反射减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问题：患者出现上述症状，最可能的原因是什么？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2920" y="1371600"/>
            <a:ext cx="83437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人体吸入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后，通过肺泡进入血液循环，与血液中红细胞的血红蛋白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(Hb)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结合，形成稳定的碳氧血红蛋白（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Hb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Hb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不能携带氧，且不易解离，使血红蛋白氧解离曲线左移，血液的携氧能力降低，从而导致组织缺氧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轻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重度中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毒后迟发性脑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血液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COHb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撤离现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氧疗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预防中毒后迟发性脑病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氧疗的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五、急性酒精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69" name="圆角矩形 4"/>
          <p:cNvSpPr/>
          <p:nvPr/>
        </p:nvSpPr>
        <p:spPr>
          <a:xfrm>
            <a:off x="324000" y="2349360"/>
            <a:ext cx="8496000" cy="2592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男性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46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。因同事生日聚会饮用高度白酒至少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00m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意识不清，呕吐物有酒精气味，平车入院。入院查体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 36.5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 12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 2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P 90/60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诊断为急性酒精中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请问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68360" y="1371600"/>
            <a:ext cx="844668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酒精，学名乙醇，是日常生活中各类酒饮料的主要成分，也可用作医用消毒剂、工业原料等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毒机制：中枢神经系统损害、代谢异常、心脏损害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兴奋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共济失调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昏迷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Num" idx="10"/>
          </p:nvPr>
        </p:nvSpPr>
        <p:spPr>
          <a:xfrm>
            <a:off x="4284720" y="6524640"/>
            <a:ext cx="12236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3D63EE4-6C73-45A7-BBA2-A729DC1E43E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4000" y="1628640"/>
            <a:ext cx="8515080" cy="4587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一、立即终止接触毒物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吸入性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将患者从有毒环境转移到空气新鲜的地方，并解开衣扣、裤带，保持呼吸道通畅，给氧，注意保暖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接触性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脱离中毒现场，脱去污染衣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清乙醇浓度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和电解质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电图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糖检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肝功能检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：催吐、洗胃、促进乙醇的体内代谢和排出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剂：纳洛酮是阿片类受体拮抗剂，具有改善呼吸和循环功能、兴奋呼吸和催醒的作用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治疗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安全防护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六、急性镇静催眠药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82" name="圆角矩形 3"/>
          <p:cNvSpPr/>
          <p:nvPr/>
        </p:nvSpPr>
        <p:spPr>
          <a:xfrm>
            <a:off x="324000" y="2349360"/>
            <a:ext cx="8496000" cy="2808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男性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，因昏迷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平车入院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7.8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5/83mmH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患者瞳孔等大等圆，直径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&lt;2m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对光反射消失。颈软，气管偏右，双肺布满鼾音。胃内容物及尿检为巴比妥类药物阳性，诊断为重度巴比妥中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请问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64120" cy="4474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静催眠药是中枢神经系统抑制剂，在临床上广泛应用于镇静、催眠、抗惊厥以及麻醉前给药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，巴比妥类和苯二氮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微软雅黑"/>
              </a:rPr>
              <a:t>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类镇静催眠药中毒最常见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巴比妥类药物中毒：轻度中毒、中度中毒、重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苯二氮䓬类药物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、尿液、胃液中药物浓度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生化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电图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立即清除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剂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氟马西尼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苯二氮䓬类药物中毒的特效解毒药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维持重要器官功能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防治并发症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七、强酸强碱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36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96" name="圆角矩形 4"/>
          <p:cNvSpPr/>
          <p:nvPr/>
        </p:nvSpPr>
        <p:spPr>
          <a:xfrm>
            <a:off x="179280" y="2133720"/>
            <a:ext cx="8784720" cy="4319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男性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h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前因情绪不佳口服实验室用稀硫酸约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ml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服后即感咽喉部、食道灼痛，眼部刺痛，畏光流泪，频发恶心、呕吐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min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后呕吐咖啡渣样物约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800ml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6.5℃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脉搏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1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0/60mmH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患者急性痛苦貌，呼吸急促，烦躁不安。口腔黏膜呈深褐色，双肺散在中、细湿啰音，胸片表现为双肺纹理增粗、紊乱呈现模糊或斑片状。心电图示：窦性心动过速，偶见室性早搏、房室传导阻滞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问题：患者出现上述症状，最可能的原因是什么？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Num" idx="11"/>
          </p:nvPr>
        </p:nvSpPr>
        <p:spPr>
          <a:xfrm>
            <a:off x="4427640" y="6524640"/>
            <a:ext cx="914040" cy="561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130E54F-CB93-4B7D-B738-5E7E227333D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5640" y="1413000"/>
            <a:ext cx="8568720" cy="4803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二、清除尚未吸收的毒物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清除皮肤黏膜上的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脱去污染的衣物，先用毛巾、棉花或卫生纸等拭去肉眼可见的毒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然后用清水或肥皂水反复清洗患者体表、毛发、皮肤皱褶处、甲缝内的毒物，冲洗时间应达到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15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～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30min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毒物种类明确者可使用特殊清洗液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68360" y="1371600"/>
            <a:ext cx="844668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强酸（如硫酸、盐酸和硝酸等）和强碱（如氢氧化钠、氢氧化钾、氧化钠和氧化钾等）均具有强烈的刺激和腐蚀作用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37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消化道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呼吸道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皮肤黏膜接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眼睛接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全身表现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38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强酸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强碱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05" name="线形标注 1 4"/>
          <p:cNvSpPr/>
          <p:nvPr/>
        </p:nvSpPr>
        <p:spPr>
          <a:xfrm>
            <a:off x="3419640" y="1125360"/>
            <a:ext cx="5544720" cy="3671640"/>
          </a:xfrm>
          <a:prstGeom prst="borderCallout1">
            <a:avLst>
              <a:gd name="adj1" fmla="val 20346"/>
              <a:gd name="adj2" fmla="val 123"/>
              <a:gd name="adj3" fmla="val 49305"/>
              <a:gd name="adj4" fmla="val -8818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口服中毒者：尽早给予镁乳、氢氧化铝凝胶或石灰水等弱碱溶液中和强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呼吸道吸入者：立即吸氧，给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碳酸氢钠溶液雾化吸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皮肤灼伤者：快速用大量流动水冲洗，然后给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碳酸氢钠或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氨水或肥皂水中和强酸，然后再用水冲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眼睛接触者：立即用大量清水或生理盐水彻底清洗，然后给予可的松及抗生素眼药水交替滴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线形标注 1 5"/>
          <p:cNvSpPr/>
          <p:nvPr/>
        </p:nvSpPr>
        <p:spPr>
          <a:xfrm>
            <a:off x="3429000" y="1714320"/>
            <a:ext cx="5513040" cy="4817880"/>
          </a:xfrm>
          <a:prstGeom prst="borderCallout1">
            <a:avLst>
              <a:gd name="adj1" fmla="val 49651"/>
              <a:gd name="adj2" fmla="val -678"/>
              <a:gd name="adj3" fmla="val 38799"/>
              <a:gd name="adj4" fmla="val -872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口服强碱者：立即用食醋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醋酸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稀盐酸、柠檬汁或橘汁等弱酸溶液中和，然后服用生蛋清或牛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吸入强碱者：吸入性氨中毒者，保持呼吸道通畅，积极氧疗，必要时气管切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皮肤接触者：尽快用大量流动水冲洗，然后涂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醋酸溶液中和强碱，应避免在冲洗前使用中和剂，以防发生中和热而加重损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眼部接触者：立即用清水反复冲洗，然后滴入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的硫酸阿托品。石灰灼伤者，先将石灰粉末擦拭干净，再用大量流动清水冲洗，防止石灰遇水生热而加重烧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营养支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口腔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39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dt" idx="40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矩形 4"/>
          <p:cNvSpPr/>
          <p:nvPr/>
        </p:nvSpPr>
        <p:spPr>
          <a:xfrm>
            <a:off x="3178800" y="2709000"/>
            <a:ext cx="2750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9600" spc="299" strike="noStrike">
                <a:solidFill>
                  <a:srgbClr val="8adeff"/>
                </a:solidFill>
                <a:latin typeface="Arial"/>
              </a:rPr>
              <a:t>谢   谢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92" name="内容占位符 4"/>
          <p:cNvGraphicFramePr/>
          <p:nvPr/>
        </p:nvGraphicFramePr>
        <p:xfrm>
          <a:off x="539640" y="2133720"/>
          <a:ext cx="7703640" cy="3400920"/>
        </p:xfrm>
        <a:graphic>
          <a:graphicData uri="http://schemas.openxmlformats.org/drawingml/2006/table">
            <a:tbl>
              <a:tblPr/>
              <a:tblGrid>
                <a:gridCol w="3852000"/>
                <a:gridCol w="3852000"/>
              </a:tblGrid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毒物种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肤清洁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酸性（有机磷、甲醛、强酸等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碳酸氢钠或肥皂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碱性（氨水、氢氧化钠等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醋酸、食醋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硼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无机磷（磷化锌等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碳酸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苯类、香蕉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酒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PlaceHolder 2"/>
          <p:cNvSpPr>
            <a:spLocks noGrp="1"/>
          </p:cNvSpPr>
          <p:nvPr>
            <p:ph type="dt" idx="12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94" name="TextBox 8"/>
          <p:cNvSpPr/>
          <p:nvPr/>
        </p:nvSpPr>
        <p:spPr>
          <a:xfrm>
            <a:off x="2484360" y="1476000"/>
            <a:ext cx="3958920" cy="7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见皮肤清洁剂及适应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Num" idx="13"/>
          </p:nvPr>
        </p:nvSpPr>
        <p:spPr>
          <a:xfrm>
            <a:off x="4284720" y="6524640"/>
            <a:ext cx="1223640" cy="561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8D1451D-5132-420A-BFB6-7042044EDEB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179280" y="1628640"/>
            <a:ext cx="8659440" cy="4587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清除眼内的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眼内毒物可用清水或生理盐水反复冲洗，冲洗时间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不少于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5min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避免使用中和性溶液冲洗，以免发生化学反应，造成角膜、结膜的损伤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冲洗后给予抗生素眼药水或眼膏，防治继发感染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Num" idx="14"/>
          </p:nvPr>
        </p:nvSpPr>
        <p:spPr>
          <a:xfrm>
            <a:off x="4356000" y="6524640"/>
            <a:ext cx="120132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594B1DB-3E93-42D6-9187-3DB5407DEAD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0" y="1628640"/>
            <a:ext cx="8838720" cy="4587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清除胃肠道内的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催吐：是排空胃内容物最简单、最有效的方法，但此方法仅限于清醒且合作的患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洗胃：是彻底清除胃内容物的有效方法，也是口服毒物中毒患者抢救成功的重要措施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导泻 ：在催吐或彻底洗胃后，通过口服或由胃管注入泻药，加速肠蠕动，减少毒物在肠道内的停留时间，减少毒物的吸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灌肠：是快速有效的肠道毒物清除方法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课件模板">
  <a:themeElements>
    <a:clrScheme name="课件模板 1">
      <a:dk1>
        <a:srgbClr val="046ca6"/>
      </a:dk1>
      <a:lt1>
        <a:srgbClr val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课件模板">
  <a:themeElements>
    <a:clrScheme name="课件模板 1">
      <a:dk1>
        <a:srgbClr val="046ca6"/>
      </a:dk1>
      <a:lt1>
        <a:srgbClr val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课件模板">
  <a:themeElements>
    <a:clrScheme name="课件模板 1">
      <a:dk1>
        <a:srgbClr val="046ca6"/>
      </a:dk1>
      <a:lt1>
        <a:srgbClr val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1</TotalTime>
  <Application>LibreOffice/7.4.7.2$Linux_X86_64 LibreOffice_project/40$Build-2</Application>
  <AppVersion>15.0000</AppVersion>
  <Pages>0</Pages>
  <Words>3539</Words>
  <Characters>0</Characters>
  <CharactersWithSpaces>0</CharactersWithSpaces>
  <Paragraphs>452</Paragraphs>
  <Company>pump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12-10T08:04:14Z</dcterms:modified>
  <cp:revision>1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  <property fmtid="{D5CDD505-2E9C-101B-9397-08002B2CF9AE}" pid="3" name="Notes">
    <vt:r8>13</vt:r8>
  </property>
  <property fmtid="{D5CDD505-2E9C-101B-9397-08002B2CF9AE}" pid="4" name="PresentationFormat">
    <vt:lpwstr>全屏显示(4:3)</vt:lpwstr>
  </property>
  <property fmtid="{D5CDD505-2E9C-101B-9397-08002B2CF9AE}" pid="5" name="Slides">
    <vt:r8>64</vt:r8>
  </property>
</Properties>
</file>