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16826-7ACB-4269-8ABE-1F7C3E83C2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8AE34-E0CC-45AF-BC78-DC25E0700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36199-5249-4D04-8C4C-E7DF133BE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CC290-746F-4D55-92AB-61937527C5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ADA9C-CDC4-46E0-B617-E58DA25D1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40BE6-EF2B-40D3-AA4D-32489C6FA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60F9B-098C-4017-89E6-4273DA5F6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F07AF-644F-4B14-9FBA-B7BE026F0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EEB66-7165-4C85-980C-150E5CDA5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7EF7B-3192-4FC9-B2E3-3FB72ACDA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A433D-E7CF-461B-884D-19815F094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3D78C-DD0D-45E2-9B10-326858887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C2060-3D39-4E60-93A6-FB8D23ABC0F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250560" y="227664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第十一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产后并发症妇女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主要护理诊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作性问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疼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一般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证休息和睡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证营养摄入；及时补液防脱水；监测并纠正水电解质失衡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半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提供心理支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做好病情观察和记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会阴部护理，保持外阴清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0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锰酸钾溶液冲洗外阴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天后可温水坐浴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确执行医嘱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出现高热、疼痛、呕吐时按症状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健康教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产妇了解产褥感染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休息、饮食、活动、服药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识别自身及新生儿异常状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随访、检查相关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971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二节  产后心理障碍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心理障碍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沮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抑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6" name="图表 1" descr=""/>
          <p:cNvPicPr/>
          <p:nvPr/>
        </p:nvPicPr>
        <p:blipFill>
          <a:blip r:embed="rId1"/>
          <a:stretch/>
        </p:blipFill>
        <p:spPr>
          <a:xfrm>
            <a:off x="291960" y="1316160"/>
            <a:ext cx="865044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临床表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沮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情绪不稳定，易哭，感觉焦虑、疲劳、失眠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日出现，产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天为高峰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抑郁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多在两周内出现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周明显，持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个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至今无统一诊断标准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41" name="图片 1" descr="6BC93707-4BF0-4C7A-BD80-D389D33FDB56.png"/>
          <p:cNvPicPr/>
          <p:nvPr/>
        </p:nvPicPr>
        <p:blipFill>
          <a:blip r:embed="rId1"/>
          <a:stretch/>
        </p:blipFill>
        <p:spPr>
          <a:xfrm>
            <a:off x="228600" y="1197000"/>
            <a:ext cx="8915400" cy="52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辅助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爱丁堡产后抑郁量表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dinburgh postnatal depression scal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PDS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抑郁筛查量表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postpartum depression screening scal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PDSS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68436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一节  产褥感染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46" name="图片 1" descr="461AF471-A08C-412F-A5F6-63134BB0C655.png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4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与疾病相关健康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四）心理社会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五）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病情，识别诱因，缓解压力，对症处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避免刺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予指导和护理，重者药物治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定期家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主要护理诊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作性问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对无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暴力行为的危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一般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倾听问题，给予心理疏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帮助产妇适应母亲角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不良个性产妇给予心理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警惕伤害性行为，注意保护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重症患者在医师指导下给予药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健康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予产妇重视和帮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做好出院指导和随访工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WordArt 4"/>
          <p:cNvSpPr txBox="1"/>
          <p:nvPr/>
        </p:nvSpPr>
        <p:spPr>
          <a:xfrm>
            <a:off x="3419640" y="3141720"/>
            <a:ext cx="2900160" cy="106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黑体"/>
              </a:rPr>
              <a:t>谢谢！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褥感染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褥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内生殖道受病原体侵袭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局部和全身的炎性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褥病率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以后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日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每日间隔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口表测量体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≥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8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1" name="图表 1" descr=""/>
          <p:cNvPicPr/>
          <p:nvPr/>
        </p:nvPicPr>
        <p:blipFill>
          <a:blip r:embed="rId1"/>
          <a:stretch/>
        </p:blipFill>
        <p:spPr>
          <a:xfrm>
            <a:off x="317520" y="1292400"/>
            <a:ext cx="8624880" cy="49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发热、疼痛、异常恶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产褥感染三大主要症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感染部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50920" y="1773360"/>
          <a:ext cx="8569080" cy="4659120"/>
        </p:xfrm>
        <a:graphic>
          <a:graphicData uri="http://schemas.openxmlformats.org/drawingml/2006/table">
            <a:tbl>
              <a:tblPr/>
              <a:tblGrid>
                <a:gridCol w="2232000"/>
                <a:gridCol w="6337080"/>
              </a:tblGrid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外阴伤口感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会阴裂伤或会阴切开部感染，葡萄球菌和大肠埃希菌感染为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617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急性阴道、宫颈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黏膜充血、水肿、溃疡、分泌物增多，呈脓性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急性子宫内膜炎、子宫肌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恶露量多，浑浊有臭味；宫底部压痛；全身症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急性盆腔结缔组织炎、急性输卵管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局部感染扩散累及盆腔结缔组织和输卵管；“冰冻骨盆”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急性盆腔腹膜炎及弥漫性腹膜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严重全身中毒症状：高热、恶心、呕吐、腹胀；下腹压痛、反跳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17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血栓性静脉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局部静脉压痛、硬索状；“股白肿”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617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脓毒血症及败血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休克症状，可危及生命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辅助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腹部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妇科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验室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与疾病相关健康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产褥感染诱发因素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四）心理社会状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五）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积极控制感染并纠正全身状况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支持疗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清除感染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抗生素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辅助药物运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积极进行抢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1T08:45:24Z</dcterms:modified>
  <cp:revision>5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