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DB75-BE99-4D5A-A836-BDA64B492664}" type="datetime">
              <a:rPr b="0" lang="zh-CN" sz="1200" spc="-1" strike="noStrike">
                <a:solidFill>
                  <a:srgbClr val="000000"/>
                </a:solidFill>
                <a:latin typeface="Arial"/>
                <a:ea typeface="宋体"/>
              </a:rPr>
              <a:t>26/7/29</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53E9-4A9A-4BD1-B126-60FE52658CB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39B3-6BBD-4930-A988-362ACEBFE0D5}"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53E4-B717-4F96-A4BB-421789C50DC6}"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8CA8-759F-47D7-B0FC-5D35C0D93F28}"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32A0-1100-4D8D-A8D9-0CF1824F12DF}"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1B32-87F0-40ED-8470-3DAEA4A257AB}"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05D8-C9F4-42FB-BED9-E0AF678FDB61}"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394E-A27C-4962-84F9-474A34C6810C}"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6D99-1807-482A-9257-246E2C62A724}"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E4CA-9D16-4D82-A323-D714AF561521}"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ACBD-0DEA-4C10-A5BB-F8E0EBF7D882}"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22D8C-F20D-41DC-9DA2-45EA43F6DD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8DE210-A5F6-42E9-9E36-41ABEE8B2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88A4C0-E6A4-4572-AED9-75042603A4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BD8074-8960-403A-96CE-7923975BA8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DBD779-8F5E-475B-9C1D-E676BBE9F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ECF12C-05F0-43F4-8CBA-4DCE5CFE79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620765-4F2B-4FF9-B628-21173029F6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D37D5E-8245-4658-A09F-5DB299FB2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09CF9D-BD65-4F73-A01A-C305E01CB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94F017-33D1-4A51-8138-ECEACD178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90FC72-CAC0-4DF6-9882-23E480DCA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BC894-CB6B-471F-93FD-0D527B1238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19EE4E-ABF2-40AE-9762-4B7C31A20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14D056-16D5-469E-A43D-057E7CFD75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9EDC8-E971-4282-928B-D008E2DD88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48D68C-E403-4080-86E7-E265F7C0C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4F843E-91CE-4D1D-8BDF-495A6FADAB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3F6B3B-FDC2-4A0C-8D84-1771AB1E21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98D223-DF9B-44EC-A637-219AF290F4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F95FC56-4EB0-48B9-A172-475C264577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712233-9E07-4BA5-9EDB-8EE0085292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877FD4-BECB-4710-BAD8-906C1F1EBC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946208-A722-4FEE-8570-CABCA250A6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97F23D-F4D0-40EF-BEE0-EAA89C71DB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F958-D78C-4BAC-B2FF-B9582275666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DFE4-FEA7-40A7-9F61-4D4041E13F3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