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735763" cy="9799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735600" cy="97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1600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1600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4429C-80B3-4DD4-8730-DD5A546B672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000000"/>
              </a:solidFill>
              <a:latin typeface="Times New Roman"/>
              <a:ea typeface="华文中宋"/>
            </a:endParaRPr>
          </a:p>
        </p:txBody>
      </p:sp>
      <p:sp>
        <p:nvSpPr>
          <p:cNvPr id="179" name="灯片编号占位符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0116C-4BB8-406A-919F-11D4EFCF8E7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灯片编号占位符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F6F57-FFA1-4060-AB37-BE66EAE553F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6E6C-5022-40FE-9564-0BE28065C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B66D-521B-4FE1-88F7-F8A7D81B9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4093-9E41-4438-8061-8033AD3B2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637E-7DCD-482D-92C0-772ACB19F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D2685-D4A4-4976-9894-D8438E90E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A9140-0A29-453B-8783-9ED4A7FE8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28968-DE52-4511-B334-8BC712CC3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0F084-664B-48F2-A025-372E9E55D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56863-73E0-46B2-9488-831848665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E05C3-0DD2-4BE2-9E8C-BF3A4B28E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F4574-5FE9-43D6-A03B-A3859EFC9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D176-3DED-44DF-B65D-37DAF33C8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A3324-90A2-4502-84CB-C0437DA94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B7115-3CE3-43E0-B3EC-1C6013D9F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05A21-0C9E-44E7-B6EF-1C5602EF9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EAB53-5FA0-4FA5-8345-72DE98BA6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6B321-866E-4BB4-A64A-1048639ED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619B-BCD6-4809-B97A-00039C97E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6DA8-D4D0-4807-BB38-DBAE67E9E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7B05-ABAD-48F4-B57C-0CAFCBB32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F190-A4D1-4660-BD74-3FF6DFD9F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7BA6-AE8F-4B9A-B6C0-D525709C5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F9D4-16D0-43D1-81D9-14151367D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DE11-064B-4CC9-9C32-1CE0EC865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3C54F-E765-4BD7-9AEE-DE1ABFBF3D7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ED342-D40F-478B-8930-5690FFB7D7D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Garamond"/>
              </a:rPr>
              <a:t>第七章  </a:t>
            </a:r>
            <a:r>
              <a:rPr b="1" lang="zh-CN" sz="3800" spc="-1" strike="noStrike">
                <a:solidFill>
                  <a:srgbClr val="3b812f"/>
                </a:solidFill>
                <a:latin typeface="Garamond"/>
              </a:rPr>
              <a:t>阿米巴 </a:t>
            </a:r>
            <a:br>
              <a:rPr sz="3800"/>
            </a:br>
            <a:r>
              <a:rPr b="1" lang="zh-CN" sz="3800" spc="-1" strike="noStrike">
                <a:solidFill>
                  <a:srgbClr val="3b812f"/>
                </a:solidFill>
                <a:latin typeface="Garamond"/>
              </a:rPr>
              <a:t> </a:t>
            </a:r>
            <a:r>
              <a:rPr b="1" lang="en-US" sz="3800" spc="-1" strike="noStrike">
                <a:solidFill>
                  <a:srgbClr val="3b812f"/>
                </a:solidFill>
                <a:latin typeface="Garamond"/>
              </a:rPr>
              <a:t>Amoeba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834920" y="4436640"/>
            <a:ext cx="6553080" cy="9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鱼艳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5759280" cy="9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b812f"/>
                </a:solidFill>
                <a:latin typeface="Times New Roman"/>
              </a:rPr>
              <a:t>三、致病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360" y="981000"/>
            <a:ext cx="8208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人体感染溶组织内阿米巴后，大多表现为带虫状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致病与以下因素有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虫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阿米巴侵袭力    半乳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乙酰氨基半乳糖凝集素；阿米巴穿孔素；半胱氨酸蛋白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寄生的环境 （宿主肠道内共生菌群、糖类饮食、黏膜损伤等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宿主的免疫状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26920" y="764640"/>
            <a:ext cx="79250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人体感染溶组织内阿米巴后大多数表现为</a:t>
            </a:r>
            <a:r>
              <a:rPr b="1" lang="zh-CN" sz="2400" spc="-1" strike="noStrike">
                <a:solidFill>
                  <a:srgbClr val="3b812f"/>
                </a:solidFill>
                <a:latin typeface="宋体"/>
              </a:rPr>
              <a:t>带虫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少数出现肠阿米巴病和肠外阿米巴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3b812f"/>
                </a:solidFill>
                <a:latin typeface="宋体"/>
              </a:rPr>
              <a:t>肠阿米巴病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                                                          急性患者临床症状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阿米巴痢疾：</a:t>
            </a:r>
            <a:r>
              <a:rPr b="1" lang="zh-CN" sz="2400" spc="-1" strike="noStrike">
                <a:solidFill>
                  <a:srgbClr val="006633"/>
                </a:solidFill>
                <a:latin typeface="宋体"/>
              </a:rPr>
              <a:t>黏液脓血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腹痛、腹泻、粪便恶臭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慢性患者： 便秘、腹泻交替出现，腹部的盲肠或乙状结肠部位可触及能移动的结节状包块。阿米巴肿导致肠腔狭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755640" y="105228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典型病变：烧瓶样溃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7" descr="ent-hist-flask"/>
          <p:cNvPicPr/>
          <p:nvPr/>
        </p:nvPicPr>
        <p:blipFill>
          <a:blip r:embed="rId1"/>
          <a:srcRect l="0" t="8883" r="0" b="6668"/>
          <a:stretch/>
        </p:blipFill>
        <p:spPr>
          <a:xfrm>
            <a:off x="1692360" y="2349360"/>
            <a:ext cx="576108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79200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3b812f"/>
                </a:solidFill>
                <a:latin typeface="Arial"/>
              </a:rPr>
              <a:t>肠外阿米巴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阿米巴肝脓肿 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多发生在肝右叶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患者出现肝大、肝区疼痛、发热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体重下降等临床表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阿米巴肺脓肿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多由肝脓肿穿过横膈转移到肺所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患者有胸痛、咳嗽、发热等临床表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其他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如皮肤阿米巴溃疡，脑、脾、肾等部位的阿米巴脓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Garamond"/>
              </a:rPr>
              <a:t>四、实验诊断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71640" y="1341360"/>
            <a:ext cx="73454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00"/>
                </a:solidFill>
                <a:latin typeface="宋体"/>
              </a:rPr>
              <a:t>病原学检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滋养体检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急性期腹泻的患者，生理盐水直接涂片法查滋养体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活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包囊检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在带虫者或慢性患者成形粪便中查包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46a32"/>
                </a:solidFill>
                <a:latin typeface="宋体"/>
              </a:rPr>
              <a:t>免疫学诊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685800" y="4191120"/>
            <a:ext cx="7848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Garamond"/>
              </a:rPr>
              <a:t>五、流行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55280" y="1484280"/>
            <a:ext cx="79246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溶组织内阿米巴的感染遍及全世界，流行与当地的环境卫生水平关系很大，以热带和亚热带地区的感染率较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传染源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慢性患者及无症状的带囊者为重要的传染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传播途径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水源被包囊污染是造成溶组织内阿米巴流行的重要因素，节肢动物机械携带包囊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感人群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不同年龄、性别的无免疫力人群均可感染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在欧美，高发人群为男性同性恋者和旅游者，该病被列为</a:t>
            </a:r>
            <a:r>
              <a:rPr b="1" i="1" lang="zh-CN" sz="2000" spc="-1" strike="noStrike">
                <a:solidFill>
                  <a:srgbClr val="cf2949"/>
                </a:solidFill>
                <a:latin typeface="华文中宋"/>
                <a:ea typeface="华文中宋"/>
              </a:rPr>
              <a:t>性传播疾病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宋体"/>
              </a:rPr>
              <a:t>六、治疗和预防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患者和带囊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甲硝唑为治疗阿米巴痢疾和肝脓肿的特效药，可杀灭滋养体；喹碘方消灭带虫者肠腔中的包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切断传播途径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加强粪便管理、保护水源，避免污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加强卫生宣传教育，注意个人卫生、饮水卫生和饮食卫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消灭蝇、蜚蠊等传播媒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62336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b812f"/>
                </a:solidFill>
                <a:latin typeface="Times New Roman"/>
              </a:rPr>
              <a:t>第二节  致病性自生生活阿米巴</a:t>
            </a:r>
            <a:br>
              <a:rPr sz="3600"/>
            </a:br>
            <a:r>
              <a:rPr b="1" lang="zh-CN" sz="5000" spc="-1" strike="noStrike">
                <a:solidFill>
                  <a:srgbClr val="006633"/>
                </a:solidFill>
                <a:latin typeface="Garamond"/>
              </a:rPr>
              <a:t>棘阿米巴</a:t>
            </a:r>
            <a:br>
              <a:rPr sz="5000"/>
            </a:br>
            <a:r>
              <a:rPr b="1" i="1" lang="en-US" sz="5000" spc="-1" strike="noStrike">
                <a:solidFill>
                  <a:srgbClr val="006633"/>
                </a:solidFill>
                <a:latin typeface="Garamond"/>
              </a:rPr>
              <a:t>Acanthamoeba </a:t>
            </a:r>
            <a:r>
              <a:rPr b="1" lang="en-US" sz="5000" spc="-1" strike="noStrike">
                <a:solidFill>
                  <a:srgbClr val="006633"/>
                </a:solidFill>
                <a:latin typeface="Garamond"/>
              </a:rPr>
              <a:t>spp</a:t>
            </a:r>
            <a:r>
              <a:rPr b="1" i="1" lang="en-US" sz="5000" spc="-1" strike="noStrike">
                <a:solidFill>
                  <a:srgbClr val="006633"/>
                </a:solidFill>
                <a:latin typeface="Garamond"/>
              </a:rPr>
              <a:t>.</a:t>
            </a:r>
            <a:br>
              <a:rPr sz="5000"/>
            </a:b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476000" y="4797360"/>
            <a:ext cx="6553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鱼艳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4"/>
          <p:cNvSpPr/>
          <p:nvPr/>
        </p:nvSpPr>
        <p:spPr>
          <a:xfrm>
            <a:off x="611280" y="549360"/>
            <a:ext cx="8229600" cy="20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9900"/>
                </a:solidFill>
                <a:latin typeface="Tahoma"/>
              </a:rPr>
              <a:t>形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：滋养体：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形态不规则，有棘刺样伪足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包囊：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球形，双层囊壁，外层皱折不平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00"/>
                </a:solidFill>
                <a:latin typeface="Tahoma"/>
              </a:rPr>
              <a:t>生活史：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棘阿米巴多见于污染的土壤和水体中，滋养体以细菌为食，二分裂方式生殖，并可形成包囊；人接触含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滋养体和包囊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的水体时，经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皮肤伤口、呼吸道及损伤的角膜、眼结膜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等侵入人体。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66" name="Picture 2" descr="棘阿米巴滋养体"/>
          <p:cNvPicPr/>
          <p:nvPr/>
        </p:nvPicPr>
        <p:blipFill>
          <a:blip r:embed="rId1"/>
          <a:stretch/>
        </p:blipFill>
        <p:spPr>
          <a:xfrm>
            <a:off x="1692360" y="3357720"/>
            <a:ext cx="2601720" cy="2120760"/>
          </a:xfrm>
          <a:prstGeom prst="rect">
            <a:avLst/>
          </a:prstGeom>
          <a:ln w="0">
            <a:noFill/>
          </a:ln>
        </p:spPr>
      </p:pic>
      <p:sp>
        <p:nvSpPr>
          <p:cNvPr id="167" name="TextBox 5"/>
          <p:cNvSpPr/>
          <p:nvPr/>
        </p:nvSpPr>
        <p:spPr>
          <a:xfrm>
            <a:off x="1979640" y="55166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棘阿米巴滋养体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8" name="TextBox 7"/>
          <p:cNvSpPr/>
          <p:nvPr/>
        </p:nvSpPr>
        <p:spPr>
          <a:xfrm>
            <a:off x="5076720" y="558972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棘阿米巴包囊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69" name="Picture 8" descr=""/>
          <p:cNvPicPr/>
          <p:nvPr/>
        </p:nvPicPr>
        <p:blipFill>
          <a:blip r:embed="rId2"/>
          <a:stretch/>
        </p:blipFill>
        <p:spPr>
          <a:xfrm>
            <a:off x="4859280" y="3359160"/>
            <a:ext cx="236232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5"/>
          <p:cNvSpPr/>
          <p:nvPr/>
        </p:nvSpPr>
        <p:spPr>
          <a:xfrm>
            <a:off x="826920" y="765000"/>
            <a:ext cx="7561440" cy="12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ahoma"/>
              </a:rPr>
              <a:t>致病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１、多见于慢性病患者和免疫力低下者，可能由呼吸道或皮肤侵入、血行传播引起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肉芽肿性阿米巴脑炎（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GAE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发病后数周或数月内死亡。临床以占位性病变为主，潜伏期较长，脑脊液中以淋巴细胞为主。病灶中滋养体和包囊可同时存在。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　   ２、角膜外伤、接触污水或配戴隐形眼镜可引起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角膜炎（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AK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）。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患者眼部有异物感，畏光、流泪、视物模糊等，反复发作可致角膜溃疡甚至角膜穿孔。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971640" y="4797360"/>
            <a:ext cx="7488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ahoma"/>
              </a:rPr>
              <a:t>病原学诊断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脑脊液或角膜刮取物查阿米巴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029"/>
          <p:cNvSpPr/>
          <p:nvPr/>
        </p:nvSpPr>
        <p:spPr>
          <a:xfrm>
            <a:off x="971640" y="1268280"/>
            <a:ext cx="59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</a:rPr>
              <a:t>寄生在人体内的阿米巴原虫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6" name="Text Box 1032"/>
          <p:cNvSpPr/>
          <p:nvPr/>
        </p:nvSpPr>
        <p:spPr>
          <a:xfrm>
            <a:off x="6012000" y="1989000"/>
            <a:ext cx="1800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致病情况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97" name="组合 11"/>
          <p:cNvGrpSpPr/>
          <p:nvPr/>
        </p:nvGrpSpPr>
        <p:grpSpPr>
          <a:xfrm>
            <a:off x="1403280" y="1916280"/>
            <a:ext cx="6245280" cy="4257360"/>
            <a:chOff x="1403280" y="1916280"/>
            <a:chExt cx="6245280" cy="4257360"/>
          </a:xfrm>
        </p:grpSpPr>
        <p:sp>
          <p:nvSpPr>
            <p:cNvPr id="98" name="Text Box 1028"/>
            <p:cNvSpPr/>
            <p:nvPr/>
          </p:nvSpPr>
          <p:spPr>
            <a:xfrm>
              <a:off x="1403280" y="2158560"/>
              <a:ext cx="251460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</a:t>
              </a: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</a:rPr>
                <a:t>　</a:t>
              </a:r>
              <a:endParaRPr b="0" lang="en-US" sz="1200" spc="-1" strike="noStrike">
                <a:solidFill>
                  <a:srgbClr val="ff33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溶组织内阿米巴结肠内阿米巴　哈氏内阿米巴　微小内蜒阿米巴布氏嗜碘阿米巴齿龈内阿米巴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99" name="Text Box 1030"/>
            <p:cNvSpPr/>
            <p:nvPr/>
          </p:nvSpPr>
          <p:spPr>
            <a:xfrm>
              <a:off x="2089080" y="1953720"/>
              <a:ext cx="838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种类　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0" name="Text Box 1033"/>
            <p:cNvSpPr/>
            <p:nvPr/>
          </p:nvSpPr>
          <p:spPr>
            <a:xfrm>
              <a:off x="3635640" y="1916280"/>
              <a:ext cx="171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　寄生部位　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1" name="Text Box 1034"/>
            <p:cNvSpPr/>
            <p:nvPr/>
          </p:nvSpPr>
          <p:spPr>
            <a:xfrm>
              <a:off x="4008600" y="2601720"/>
              <a:ext cx="1492560" cy="35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结肠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结肠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结肠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盲肠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盲肠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口腔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2" name="Text Box 1035"/>
            <p:cNvSpPr/>
            <p:nvPr/>
          </p:nvSpPr>
          <p:spPr>
            <a:xfrm>
              <a:off x="6156000" y="2780280"/>
              <a:ext cx="1492560" cy="339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sp>
        <p:nvSpPr>
          <p:cNvPr id="103" name="TextBox 11"/>
          <p:cNvSpPr/>
          <p:nvPr/>
        </p:nvSpPr>
        <p:spPr>
          <a:xfrm>
            <a:off x="1403280" y="573264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棘阿米巴        角膜或脑部    致病，自生生活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Box 1"/>
          <p:cNvSpPr/>
          <p:nvPr/>
        </p:nvSpPr>
        <p:spPr>
          <a:xfrm>
            <a:off x="900000" y="1125360"/>
            <a:ext cx="7559640" cy="17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46a32"/>
                </a:solidFill>
                <a:latin typeface="Arial"/>
              </a:rPr>
              <a:t>流行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世界流行，很多国家已有报导，多发生于免疫抑制患者，感染前有头或眼部受伤史或其他诱因，无明显发病季节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46a32"/>
                </a:solidFill>
                <a:latin typeface="Arial"/>
              </a:rPr>
              <a:t>预防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加强水源检查，避免接触疫水或佩戴不洁隐形眼镜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900000" y="3284640"/>
            <a:ext cx="5832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ahoma"/>
              </a:rPr>
              <a:t>治疗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磺胺类药物治疗角膜炎，脑炎无特效药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Garamond"/>
              </a:rPr>
              <a:t>第一节   溶组织内阿米巴</a:t>
            </a:r>
            <a:br>
              <a:rPr sz="3800"/>
            </a:br>
            <a:r>
              <a:rPr b="1" i="1" lang="en-US" sz="3600" spc="-1" strike="noStrike">
                <a:solidFill>
                  <a:srgbClr val="006633"/>
                </a:solidFill>
                <a:latin typeface="Times New Roman"/>
              </a:rPr>
              <a:t>Entamoeba histolytica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2852640"/>
            <a:ext cx="820728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溶组织内阿米巴主要寄生在人的结肠，在一定的条件下侵入肠壁组织导致阿米巴痢疾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moebic dysentery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），也可侵犯肝、肺、脑等器官引起肠外阿米巴病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468360" y="476280"/>
            <a:ext cx="37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Times New Roman"/>
                <a:ea typeface="黑体"/>
              </a:rPr>
              <a:t>一、形态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988920" y="3403440"/>
            <a:ext cx="51897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             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826920" y="1341360"/>
            <a:ext cx="7632720" cy="12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996600"/>
                </a:solidFill>
                <a:latin typeface="宋体"/>
              </a:rPr>
              <a:t>滋养体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虫体活动、摄食和生殖阶段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09" name="Picture 9" descr=""/>
          <p:cNvPicPr/>
          <p:nvPr/>
        </p:nvPicPr>
        <p:blipFill>
          <a:blip r:embed="rId1"/>
          <a:stretch/>
        </p:blipFill>
        <p:spPr>
          <a:xfrm>
            <a:off x="971640" y="2276640"/>
            <a:ext cx="6762600" cy="321912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8"/>
          <p:cNvSpPr/>
          <p:nvPr/>
        </p:nvSpPr>
        <p:spPr>
          <a:xfrm>
            <a:off x="1692360" y="5516640"/>
            <a:ext cx="309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吞噬红细胞的滋养体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5076720" y="5445000"/>
            <a:ext cx="309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未吞噬红细胞的滋养体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7" descr="tropzoite"/>
          <p:cNvPicPr/>
          <p:nvPr/>
        </p:nvPicPr>
        <p:blipFill>
          <a:blip r:embed="rId1"/>
          <a:stretch/>
        </p:blipFill>
        <p:spPr>
          <a:xfrm>
            <a:off x="3059280" y="981000"/>
            <a:ext cx="2895480" cy="265428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8"/>
          <p:cNvSpPr/>
          <p:nvPr/>
        </p:nvSpPr>
        <p:spPr>
          <a:xfrm>
            <a:off x="1476360" y="4365720"/>
            <a:ext cx="604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內质呈颗粒状，可见被吞噬的红细胞；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内质中有一泡状核，核膜上均匀分布一层大小一致的核周染色质粒；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核仁位于核中央。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86200" y="378936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铁苏木精染色的滋养体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10920" y="836640"/>
            <a:ext cx="80010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6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包囊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不摄食，不生殖的静止阶段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圆球形，直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~2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m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~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核，包囊中有拟染体和糖原泡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"/>
          <p:cNvPicPr/>
          <p:nvPr/>
        </p:nvPicPr>
        <p:blipFill>
          <a:blip r:embed="rId1"/>
          <a:stretch/>
        </p:blipFill>
        <p:spPr>
          <a:xfrm>
            <a:off x="1042920" y="2133720"/>
            <a:ext cx="6800760" cy="1981080"/>
          </a:xfrm>
          <a:prstGeom prst="rect">
            <a:avLst/>
          </a:prstGeom>
          <a:ln w="0">
            <a:noFill/>
          </a:ln>
        </p:spPr>
      </p:pic>
      <p:sp>
        <p:nvSpPr>
          <p:cNvPr id="117" name="TextBox 6"/>
          <p:cNvSpPr/>
          <p:nvPr/>
        </p:nvSpPr>
        <p:spPr>
          <a:xfrm>
            <a:off x="2268360" y="4221000"/>
            <a:ext cx="136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核包囊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6227640" y="4221000"/>
            <a:ext cx="13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四核包囊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9" name="TextBox 8"/>
          <p:cNvSpPr/>
          <p:nvPr/>
        </p:nvSpPr>
        <p:spPr>
          <a:xfrm>
            <a:off x="4356000" y="422100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二核包囊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027" descr=""/>
          <p:cNvPicPr/>
          <p:nvPr/>
        </p:nvPicPr>
        <p:blipFill>
          <a:blip r:embed="rId1"/>
          <a:stretch/>
        </p:blipFill>
        <p:spPr>
          <a:xfrm>
            <a:off x="4724280" y="1600200"/>
            <a:ext cx="3657600" cy="3124080"/>
          </a:xfrm>
          <a:prstGeom prst="rect">
            <a:avLst/>
          </a:prstGeom>
          <a:ln w="0">
            <a:noFill/>
          </a:ln>
        </p:spPr>
      </p:pic>
      <p:sp>
        <p:nvSpPr>
          <p:cNvPr id="121" name="TextBox 5"/>
          <p:cNvSpPr/>
          <p:nvPr/>
        </p:nvSpPr>
        <p:spPr>
          <a:xfrm>
            <a:off x="1835280" y="486900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碘液染色包囊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2" name="TextBox 6"/>
          <p:cNvSpPr/>
          <p:nvPr/>
        </p:nvSpPr>
        <p:spPr>
          <a:xfrm>
            <a:off x="5508720" y="4897440"/>
            <a:ext cx="23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铁苏木精染色包囊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23" name="Picture 8" descr="5-3"/>
          <p:cNvPicPr/>
          <p:nvPr/>
        </p:nvPicPr>
        <p:blipFill>
          <a:blip r:embed="rId2"/>
          <a:stretch/>
        </p:blipFill>
        <p:spPr>
          <a:xfrm>
            <a:off x="971640" y="1628640"/>
            <a:ext cx="30859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2381400" y="1494000"/>
            <a:ext cx="17967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四核包囊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3276720" y="2781360"/>
            <a:ext cx="1439640" cy="13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肠腔中滋养体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结肠）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26" name="Group 9"/>
          <p:cNvGrpSpPr/>
          <p:nvPr/>
        </p:nvGrpSpPr>
        <p:grpSpPr>
          <a:xfrm>
            <a:off x="4059360" y="1628280"/>
            <a:ext cx="1376280" cy="1800720"/>
            <a:chOff x="4059360" y="1628280"/>
            <a:chExt cx="1376280" cy="1800720"/>
          </a:xfrm>
        </p:grpSpPr>
        <p:sp>
          <p:nvSpPr>
            <p:cNvPr id="127" name="Line 10"/>
            <p:cNvSpPr/>
            <p:nvPr/>
          </p:nvSpPr>
          <p:spPr>
            <a:xfrm>
              <a:off x="4059360" y="1628280"/>
              <a:ext cx="137628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28" name="Line 11"/>
            <p:cNvSpPr/>
            <p:nvPr/>
          </p:nvSpPr>
          <p:spPr>
            <a:xfrm>
              <a:off x="5405760" y="1628640"/>
              <a:ext cx="29880" cy="180036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29" name="Line 12"/>
            <p:cNvSpPr/>
            <p:nvPr/>
          </p:nvSpPr>
          <p:spPr>
            <a:xfrm flipH="1">
              <a:off x="4499640" y="3428640"/>
              <a:ext cx="91224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sp>
        <p:nvSpPr>
          <p:cNvPr id="130" name="Rectangle 13"/>
          <p:cNvSpPr/>
          <p:nvPr/>
        </p:nvSpPr>
        <p:spPr>
          <a:xfrm>
            <a:off x="5364000" y="2133720"/>
            <a:ext cx="5032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经口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31" name="Group 14"/>
          <p:cNvGrpSpPr/>
          <p:nvPr/>
        </p:nvGrpSpPr>
        <p:grpSpPr>
          <a:xfrm>
            <a:off x="957240" y="1655640"/>
            <a:ext cx="2364840" cy="1843920"/>
            <a:chOff x="957240" y="1655640"/>
            <a:chExt cx="2364840" cy="1843920"/>
          </a:xfrm>
        </p:grpSpPr>
        <p:sp>
          <p:nvSpPr>
            <p:cNvPr id="132" name="Line 15"/>
            <p:cNvSpPr/>
            <p:nvPr/>
          </p:nvSpPr>
          <p:spPr>
            <a:xfrm flipH="1">
              <a:off x="2698920" y="3428280"/>
              <a:ext cx="62316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33" name="Line 16"/>
            <p:cNvSpPr/>
            <p:nvPr/>
          </p:nvSpPr>
          <p:spPr>
            <a:xfrm flipV="1">
              <a:off x="971640" y="1668240"/>
              <a:ext cx="0" cy="183132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34" name="Line 17"/>
            <p:cNvSpPr/>
            <p:nvPr/>
          </p:nvSpPr>
          <p:spPr>
            <a:xfrm>
              <a:off x="957240" y="1655640"/>
              <a:ext cx="129636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sp>
        <p:nvSpPr>
          <p:cNvPr id="135" name="Text Box 20"/>
          <p:cNvSpPr/>
          <p:nvPr/>
        </p:nvSpPr>
        <p:spPr>
          <a:xfrm>
            <a:off x="108720" y="1916280"/>
            <a:ext cx="9118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排出体外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6" name="Rectangle 22"/>
          <p:cNvSpPr/>
          <p:nvPr/>
        </p:nvSpPr>
        <p:spPr>
          <a:xfrm>
            <a:off x="3348000" y="5229360"/>
            <a:ext cx="1511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组织中滋养体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7" name="Rectangle 30"/>
          <p:cNvSpPr/>
          <p:nvPr/>
        </p:nvSpPr>
        <p:spPr>
          <a:xfrm>
            <a:off x="4211640" y="3860640"/>
            <a:ext cx="792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吞噬红细胞、组织细胞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8" name="Rectangle 31"/>
          <p:cNvSpPr/>
          <p:nvPr/>
        </p:nvSpPr>
        <p:spPr>
          <a:xfrm>
            <a:off x="3381480" y="4049640"/>
            <a:ext cx="360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溃疡脱落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9" name="Line 32"/>
          <p:cNvSpPr/>
          <p:nvPr/>
        </p:nvSpPr>
        <p:spPr>
          <a:xfrm>
            <a:off x="4716360" y="5516640"/>
            <a:ext cx="2016360" cy="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0" name="Rectangle 33"/>
          <p:cNvSpPr/>
          <p:nvPr/>
        </p:nvSpPr>
        <p:spPr>
          <a:xfrm>
            <a:off x="5148360" y="5516640"/>
            <a:ext cx="99036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入血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1" name="AutoShape 34"/>
          <p:cNvSpPr/>
          <p:nvPr/>
        </p:nvSpPr>
        <p:spPr>
          <a:xfrm>
            <a:off x="6732720" y="4797360"/>
            <a:ext cx="304560" cy="1460520"/>
          </a:xfrm>
          <a:custGeom>
            <a:avLst/>
            <a:gdLst>
              <a:gd name="textAreaLeft" fmla="*/ 194760 w 304560"/>
              <a:gd name="textAreaRight" fmla="*/ 304920 w 304560"/>
              <a:gd name="textAreaTop" fmla="*/ 31680 h 1460520"/>
              <a:gd name="textAreaBottom" fmla="*/ 1428840 h 1460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52"/>
                  <a:pt x="10800" y="1503"/>
                </a:cubicBezTo>
                <a:lnTo>
                  <a:pt x="10800" y="9297"/>
                </a:lnTo>
                <a:cubicBezTo>
                  <a:pt x="10800" y="10049"/>
                  <a:pt x="5400" y="10800"/>
                  <a:pt x="0" y="10800"/>
                </a:cubicBezTo>
                <a:cubicBezTo>
                  <a:pt x="5400" y="10800"/>
                  <a:pt x="10800" y="11552"/>
                  <a:pt x="10800" y="12303"/>
                </a:cubicBezTo>
                <a:lnTo>
                  <a:pt x="10800" y="20097"/>
                </a:lnTo>
                <a:cubicBezTo>
                  <a:pt x="10800" y="2084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2" name="Text Box 35"/>
          <p:cNvSpPr/>
          <p:nvPr/>
        </p:nvSpPr>
        <p:spPr>
          <a:xfrm>
            <a:off x="6391800" y="4869000"/>
            <a:ext cx="115524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肺脑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3" name="Rectangle 32"/>
          <p:cNvSpPr/>
          <p:nvPr/>
        </p:nvSpPr>
        <p:spPr>
          <a:xfrm>
            <a:off x="611280" y="360360"/>
            <a:ext cx="386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Times New Roman"/>
              </a:rPr>
              <a:t>二、生活史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4" name="Line 15"/>
          <p:cNvSpPr/>
          <p:nvPr/>
        </p:nvSpPr>
        <p:spPr>
          <a:xfrm flipH="1">
            <a:off x="971280" y="3500280"/>
            <a:ext cx="62388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5" name="TextBox 33"/>
          <p:cNvSpPr/>
          <p:nvPr/>
        </p:nvSpPr>
        <p:spPr>
          <a:xfrm>
            <a:off x="1619280" y="2924280"/>
            <a:ext cx="144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2,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核包囊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cxnSp>
        <p:nvCxnSpPr>
          <p:cNvPr id="146" name="直接箭头连接符 36"/>
          <p:cNvCxnSpPr/>
          <p:nvPr/>
        </p:nvCxnSpPr>
        <p:spPr>
          <a:xfrm>
            <a:off x="4066920" y="3933720"/>
            <a:ext cx="1080" cy="12247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147" name="直接箭头连接符 38"/>
          <p:cNvCxnSpPr/>
          <p:nvPr/>
        </p:nvCxnSpPr>
        <p:spPr>
          <a:xfrm flipV="1">
            <a:off x="3850920" y="3903120"/>
            <a:ext cx="1080" cy="12243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</p:spTree>
  </p:cSld>
  <p:transition spd="slow"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33"/>
                </a:solidFill>
                <a:latin typeface="Garamond"/>
                <a:ea typeface="黑体"/>
              </a:rPr>
              <a:t>生活史要点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6920" y="1988640"/>
            <a:ext cx="77774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感染阶段：四核包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感染方式：经口感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生活史的基本过程：包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→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滋养体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→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包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致病阶段：滋养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鱼艳荣</dc:creator>
  <dc:description/>
  <dc:language>en-US</dc:language>
  <cp:lastModifiedBy>hzg</cp:lastModifiedBy>
  <dcterms:modified xsi:type="dcterms:W3CDTF">2015-10-05T11:47:47Z</dcterms:modified>
  <cp:revision>401</cp:revision>
  <dc:subject/>
  <dc:title>PowerPoint Presentation</dc:title>
</cp:coreProperties>
</file>