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A024-71C9-4C26-8CF4-DDEA73368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B5AB-4C62-4761-81F1-13B8FDDD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FD20-6174-4B1D-B43C-FFD2FB0A7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C2F6-5325-4EC0-A286-305F0EBC6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EBD5-22E7-4CA1-BE13-38DD9B07B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682B-44A6-40D2-BD0C-F1E6002E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9B3F-AFFE-4480-9B0A-94E3DB25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D386-207E-4113-B23F-28D64F0C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F423-D1EB-4EC5-8120-78281057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9981-1E53-400C-908A-67EED247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2043-6D97-4E78-8354-B16CB131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2E15-CB7C-4225-A826-4D96CC7B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BEFE-0A43-42CE-9720-2FBB72D7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F807-E5B3-4A10-A514-44F0CDCE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2301-9351-42C5-9A01-F82F4D9E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92F6-3931-4016-89F0-FBBCBAB54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DCED-FFDE-4D50-94AF-FECBE7A77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A5C0-A549-4DED-8922-0AABE9D4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45EF-8FF2-434C-930A-79BE54B6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C5C1-B9EB-4314-97FC-5F586483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DAA0-7F9F-4CCC-9750-C3992CA0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F61B-AC44-4E09-88FD-E4CE3155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DAA7-F6DF-4B2D-B9EB-19D80D3E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2270-F5A8-4806-A490-3C951FC7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629E-28BF-4379-8249-B666AC0072A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58BE-154D-4C7C-8AC4-3444027438F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篇  总论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71640" y="3068280"/>
            <a:ext cx="7345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Introduction of Medical Parasit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现象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根据共同生活中两种生物之间的营养、居住和利害关系，可将两种生物共同生活方式分为三种类型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共栖 ：指在一起共同生活的两种生物，一方受益，而另一方既不受益也不受害，如 结肠内阿米巴寄生在人体结肠内 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843280" y="4292640"/>
            <a:ext cx="3600360" cy="24271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516720" y="5805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结肠内阿米巴滋养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互利共生：指共生生物与宿主之间在生理上相互依存，共生双方都受益，如   白蚁及其消化道中的鞭毛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生活 ：共生者中一方受益，另一方受害，如  链状带绦虫寄生在人体小肠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484360" y="3718080"/>
            <a:ext cx="432108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生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与宿主定义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两种生物在一起生活，其中一种生物从中获利并生存；而另一种生物受到损害的现象称寄生生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获利并生存的生物叫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受损害的一方称宿主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4360" y="4365720"/>
            <a:ext cx="4209840" cy="22651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203640" y="615636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8ae"/>
                </a:solidFill>
                <a:latin typeface="Arial"/>
              </a:rPr>
              <a:t>杜氏利什曼原虫无鞭毛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292720" y="3284640"/>
            <a:ext cx="3024360" cy="2617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364000" y="5950080"/>
            <a:ext cx="28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杜氏利什曼原虫寄生于人体单核巨噬细胞，引起人体损害。寄生虫：杜氏利什曼原虫，宿主：人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020000" y="5516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黑热病患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的类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在人体的寄生部位分体外寄生虫（主要为节肢动物）和体内寄生虫（寄生在宿主体内的寄生虫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16000" y="2924280"/>
            <a:ext cx="3313080" cy="30668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435640" y="2924280"/>
            <a:ext cx="2565360" cy="302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619280" y="609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外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蚤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76720" y="60674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内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似蚓蛔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生活的时间分永久性寄生虫（疟原虫、日本血吸虫、链状带绦虫、似蚓蛔线虫、毛首鞭形线虫等）和暂时性寄生虫（硬蜱、恙螨、蚤等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900000" y="2587680"/>
            <a:ext cx="4103640" cy="32288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388120" y="2587680"/>
            <a:ext cx="2687400" cy="3240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971640" y="599616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永久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毛首鞭形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11640" y="5972040"/>
            <a:ext cx="34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暂时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恙螨幼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对宿主的选择分为专性寄生虫（吸虫，大多数线虫）和兼性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2362320" cy="39621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116000" y="5805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专性寄生虫（华支睾吸虫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1964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兼性寄生虫（棘阿米巴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148360" y="2276640"/>
            <a:ext cx="1806480" cy="2808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7020000" y="2781360"/>
            <a:ext cx="15620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宿主的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寄生虫生活史不同发育阶段所寄生的宿主及其在流行中的作用，将宿主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终宿主：寄生虫的成虫或有性阶段寄生的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中间宿主：寄生虫的幼虫或无性阶段寄生的宿主，若有一个以上的中间宿主，依发育的先后顺序分别命名为第一中间宿主和第二中间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保虫宿主：有些寄生虫除了寄生在人体外，还可寄生在某些脊椎动物体內，完成与人体内相同的生活阶段，这种感染动物是此寄生虫的重要传染源，并在流行病学中起贮存和保虫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转续宿主：某些蠕虫幼虫侵入非正常宿主，虽能存活，但不能发育为成虫，长期保持幼虫阶段，当此幼虫有机会进入正常宿主，才能继续发育为成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1280" y="580536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终宿主人；第一中间宿主蜷螺；第二中间宿主溪蟹、蝲蛄；保虫宿主犬、猫；转续宿主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413080" y="2997360"/>
            <a:ext cx="43196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生活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生活史定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完成一代经历的生长、发育和繁殖及宿主转换的过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完成生活史的两个基本条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适宜的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外界环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284720" y="3789360"/>
            <a:ext cx="3889440" cy="30067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484360" y="587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肥胖带绦虫生活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生活史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是否需要中间宿主将生活史划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564000" y="4076640"/>
            <a:ext cx="1846080" cy="23497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435640" y="59500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140360" y="1700280"/>
            <a:ext cx="316836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学定义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58560" y="2421000"/>
            <a:ext cx="677844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医学寄生虫学是研究感染人的寄生虫和寄生虫病的科学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內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病的病原体和传播媒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病原体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1629000" cy="2881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564000" y="2781360"/>
            <a:ext cx="1628640" cy="28810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156360" y="2781360"/>
            <a:ext cx="1638360" cy="2881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26920" y="57340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原生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48000" y="57340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蠕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51640" y="57340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少数医学节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传播媒介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2953080" cy="23716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788000" y="981000"/>
            <a:ext cx="2592360" cy="2368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619280" y="3933720"/>
            <a:ext cx="5761080" cy="2398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411280" y="34290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蛛形纲医学节肢动物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如蜱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2720" y="628488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昆虫纲医学节肢动物（如蝇等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对人类的危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严重影响人体健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病原体引起寄生虫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传播媒介传播传染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造成无法估量的经济损失，严重影响社会和经济的发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联合国开发计划署、世界银行和世界卫生组织制定的热带病特别规划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(TDR)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要求在全世界范围内重点防治的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热带病中有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为寄生虫病。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000" y="2637000"/>
            <a:ext cx="41036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疟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血吸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淋巴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盘尾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利什曼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非洲锥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恰加斯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203640" y="2997360"/>
            <a:ext cx="2047680" cy="27050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362560" y="2997360"/>
            <a:ext cx="1654200" cy="2663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7162920" y="2997360"/>
            <a:ext cx="1555560" cy="2701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274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日本血吸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62560" y="577548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淋巴丝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46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内脏利什曼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近年来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WHO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用伤残调整寿命年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(DALYs)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表示疾病负担的严重程度，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DALYs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越大表示该病对健康损失及生存质量影响越大。</a:t>
            </a: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99840" y="1556640"/>
            <a:ext cx="37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常见寄生虫的全世界疾病负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8360" y="2216160"/>
          <a:ext cx="8229600" cy="4524480"/>
        </p:xfrm>
        <a:graphic>
          <a:graphicData uri="http://schemas.openxmlformats.org/drawingml/2006/table">
            <a:tbl>
              <a:tblPr/>
              <a:tblGrid>
                <a:gridCol w="4068720"/>
                <a:gridCol w="416088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寄生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DALYs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中疾病负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疟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228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血吸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76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淋巴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64.4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盘尾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98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利什曼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35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非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59.8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美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鞭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蛔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18.1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钩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82.5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在我国控制和消灭寄生虫病的任务仍十分艰巨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危害严重的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疟疾、血吸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疫情仍没有得到完全控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食源性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肝吸虫病、旋毛虫病、广州管圆线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断増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随着艾滋病在我国的迅速蔓延，机会性寄生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刚地弓形虫、隐孢子虫、粪类圆线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感染率有增长趋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68360" y="169236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章  寄生现象与寄生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sm, Parasite and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8:41:02Z</dcterms:modified>
  <cp:revision>123</cp:revision>
  <dc:subject/>
  <dc:title>医学寄生虫学总论</dc:title>
</cp:coreProperties>
</file>