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5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145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145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F225-7D78-4135-891D-F6213FF203A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25F9-CD49-4667-8230-4ACE27C621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336B-48FA-462D-BFE9-9A8F6AC83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7E89-CCDC-4DB9-98CC-00C64BEECF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灯片编号占位符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3219-DAD6-4B16-9A38-829DB7D7E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灯片编号占位符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5F29-A3E3-43A1-B366-61E1108A9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5D8C-88FB-4B60-89C8-22C5428C7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96B9-ECB8-4262-A72A-611CD8DDD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39B1-F184-4154-B18E-46CE6A5F5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06C5-0B5E-46A8-A475-51ABA0726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FF79-A623-4408-B318-FF849982A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83EE-B3EE-42E8-AA55-23A9D123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0AA3-7C52-4D4F-B59B-061DCA211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83EC-A1C5-4B22-AAA9-58906317C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F53A-DBB7-4DC4-A90F-213BF6F20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E8666-54E5-475B-A25A-B2CFFA09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2ED5D-4C4C-4EFA-8859-B6694475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8C03-7F7D-4467-8B95-CA5F4302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2125-1D9E-467B-883C-76F1AB9F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3D28-E9FD-41B3-BB7B-39B56056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E945F-19CC-4F2B-8ED5-A12BCD0B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647F-EDDC-4ED2-9428-57F8F5D4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8E06-3283-41B0-BBAD-512C451D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118D-F6B2-45A5-9E6D-53409648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471FF-AA65-49A3-8657-E37BFC3E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2DA2-B242-48A7-887C-6FD9BF9F6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3AF4-75CD-4757-B8A2-7872E4AA0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10F70A-74C9-46B6-9E7B-115530E66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ADE829-68F1-4C7D-8D16-010A3E92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355034-6852-4EE3-AD7A-B5EB99CA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D46ADA-D8B0-45C7-B88A-DD51B7D8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F4B0DC-049E-49AC-A814-87A7A96C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A4FE-7CB8-4239-9323-4B998A28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83A9B6-1700-4553-B9F3-A9E9EC0E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61C230-2948-48A4-B4CC-F7EC23D7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CC307E-BA57-4061-9899-97324089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A55729-A188-4DB0-B522-95A0452F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6B6348-FCE5-481E-A0CA-850F2A67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A3FD6B-C721-42FA-8B11-FFDD6F8E8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BF3DF1-6D12-4041-AD46-29D1367C5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09BD5-89E0-4E8B-B9D1-4C0EB4F03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43E23-DBCC-4A76-9983-1D6E7F69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8808D-DF94-4909-B109-DC8697DE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5C49-9DC3-4F2E-90A6-3EA23E29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01C3D-5348-4AB9-86EF-85483FE2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44516-949F-430D-8393-D2F17C33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1E2AF-B90B-4417-8399-9ADAA696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B4D55-91AF-4414-AD15-0869D5FB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41304-0A95-48FA-B050-B9A3014A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B5B3A-0E5A-4677-8C65-17CEC6F9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44C47-CC62-4C4C-B7C8-39AF1C9B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B2907-190C-46A9-95D8-CBEDF4E02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8ACA2-AF86-44F1-A02F-909681F7C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2034-0452-446C-A9A1-00C6A314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82F5-7420-4E7D-BADF-450631FE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58C1-5126-4C56-B3DC-E6A0FE86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00BF-2C24-48DE-8E98-263C3D5C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15D0-F394-4EF3-BB01-427E01E7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BCF9-8980-4FCB-A9F7-E8884C0DAF1B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BD78-11A4-40BB-B2C0-DA366C1AA1AE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731A-7D81-4D72-B0F7-566653CFEADE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A11A-A296-473D-913D-A488B1731C3E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92000" y="2060280"/>
            <a:ext cx="583236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rebuchet MS"/>
              </a:rPr>
              <a:t>第八章鞭毛虫       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Flagellates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rebuchet MS"/>
              </a:rPr>
              <a:t>第一节 杜氏利什曼原虫    </a:t>
            </a:r>
            <a:r>
              <a:rPr b="0" i="1" lang="en-US" sz="4000" spc="-1" strike="noStrike">
                <a:solidFill>
                  <a:srgbClr val="ffffff"/>
                </a:solidFill>
                <a:latin typeface="Trebuchet MS"/>
              </a:rPr>
              <a:t>Leishmani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TextBox 2"/>
          <p:cNvSpPr/>
          <p:nvPr/>
        </p:nvSpPr>
        <p:spPr>
          <a:xfrm>
            <a:off x="3492360" y="4797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395280" y="1341360"/>
            <a:ext cx="74167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1  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潜伏期长，</a:t>
            </a:r>
            <a:r>
              <a:rPr b="1" lang="en-US" sz="2800" spc="-1" strike="noStrike">
                <a:solidFill>
                  <a:srgbClr val="990000"/>
                </a:solidFill>
                <a:latin typeface="Perpetua"/>
              </a:rPr>
              <a:t>3~5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个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之后出现长期不规则</a:t>
            </a:r>
            <a:r>
              <a:rPr b="1" lang="zh-CN" sz="2800" spc="-1" strike="noStrike">
                <a:solidFill>
                  <a:srgbClr val="c00000"/>
                </a:solidFill>
                <a:latin typeface="Perpetua"/>
              </a:rPr>
              <a:t>发热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，进行性消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24000" y="270828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2 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脾大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（肝、骨髓、淋巴结均受累及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533520" y="3429000"/>
            <a:ext cx="5715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巨噬细胞和浆细胞大量增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脾血流受阻及纤维组织增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早期：脾充血，质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晚期：脾纤维化，质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468360" y="404640"/>
            <a:ext cx="67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临床表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826920" y="836640"/>
            <a:ext cx="632484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990000"/>
              </a:buClr>
              <a:buFont typeface="Perpetua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Perpetua"/>
              </a:rPr>
              <a:t>贫血（全血性贫血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白细胞、红细胞、血小板均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324000" y="2349360"/>
            <a:ext cx="8820000" cy="35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1) 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脾功能亢进  隔离和破坏血液细胞成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2) 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免疫溶血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患者红细胞表面有虫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虫体代谢 产物中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~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红细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相同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机体产生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这些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结合形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-A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复合物，激活补体，破坏红细胞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3)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骨髓造血功能受累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609480" y="457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4  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血清清蛋白</a:t>
            </a: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/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球蛋白（</a:t>
            </a: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A/G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）比例倒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3"/>
          <p:cNvGrpSpPr/>
          <p:nvPr/>
        </p:nvGrpSpPr>
        <p:grpSpPr>
          <a:xfrm>
            <a:off x="826920" y="1197000"/>
            <a:ext cx="7561080" cy="1053720"/>
            <a:chOff x="826920" y="1197000"/>
            <a:chExt cx="7561080" cy="1053720"/>
          </a:xfrm>
        </p:grpSpPr>
        <p:sp>
          <p:nvSpPr>
            <p:cNvPr id="286" name="Text Box 4"/>
            <p:cNvSpPr/>
            <p:nvPr/>
          </p:nvSpPr>
          <p:spPr>
            <a:xfrm>
              <a:off x="826920" y="150156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清蛋白减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5"/>
            <p:cNvSpPr/>
            <p:nvPr/>
          </p:nvSpPr>
          <p:spPr>
            <a:xfrm flipV="1">
              <a:off x="2808000" y="1501200"/>
              <a:ext cx="380880" cy="22860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6"/>
            <p:cNvSpPr/>
            <p:nvPr/>
          </p:nvSpPr>
          <p:spPr>
            <a:xfrm>
              <a:off x="2808000" y="1730160"/>
              <a:ext cx="380880" cy="22860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7"/>
            <p:cNvSpPr/>
            <p:nvPr/>
          </p:nvSpPr>
          <p:spPr>
            <a:xfrm>
              <a:off x="3341520" y="1197000"/>
              <a:ext cx="425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肝功能受损，合成减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8"/>
            <p:cNvSpPr/>
            <p:nvPr/>
          </p:nvSpPr>
          <p:spPr>
            <a:xfrm>
              <a:off x="3341520" y="1730160"/>
              <a:ext cx="504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肾功能受损，从尿排出增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9"/>
          <p:cNvGrpSpPr/>
          <p:nvPr/>
        </p:nvGrpSpPr>
        <p:grpSpPr>
          <a:xfrm>
            <a:off x="533520" y="2362320"/>
            <a:ext cx="8610480" cy="520560"/>
            <a:chOff x="533520" y="2362320"/>
            <a:chExt cx="8610480" cy="520560"/>
          </a:xfrm>
        </p:grpSpPr>
        <p:sp>
          <p:nvSpPr>
            <p:cNvPr id="292" name="Text Box 10"/>
            <p:cNvSpPr/>
            <p:nvPr/>
          </p:nvSpPr>
          <p:spPr>
            <a:xfrm>
              <a:off x="533520" y="236232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球蛋白增加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1"/>
            <p:cNvSpPr/>
            <p:nvPr/>
          </p:nvSpPr>
          <p:spPr>
            <a:xfrm>
              <a:off x="2590920" y="2362320"/>
              <a:ext cx="655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浆细胞增生，产生大量非特异性球蛋白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 Box 12"/>
          <p:cNvSpPr/>
          <p:nvPr/>
        </p:nvSpPr>
        <p:spPr>
          <a:xfrm>
            <a:off x="755640" y="335772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5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免疫复合物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肾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13"/>
          <p:cNvGrpSpPr/>
          <p:nvPr/>
        </p:nvGrpSpPr>
        <p:grpSpPr>
          <a:xfrm>
            <a:off x="684360" y="4005360"/>
            <a:ext cx="7924680" cy="1599840"/>
            <a:chOff x="684360" y="4005360"/>
            <a:chExt cx="7924680" cy="1599840"/>
          </a:xfrm>
        </p:grpSpPr>
        <p:sp>
          <p:nvSpPr>
            <p:cNvPr id="296" name="Text Box 14"/>
            <p:cNvSpPr/>
            <p:nvPr/>
          </p:nvSpPr>
          <p:spPr>
            <a:xfrm>
              <a:off x="684360" y="415764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Perpetua"/>
                </a:rPr>
                <a:t>Ag + A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5"/>
            <p:cNvSpPr/>
            <p:nvPr/>
          </p:nvSpPr>
          <p:spPr>
            <a:xfrm>
              <a:off x="3046320" y="4005360"/>
              <a:ext cx="2743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免疫复合物沉积肾小球基底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6"/>
            <p:cNvSpPr/>
            <p:nvPr/>
          </p:nvSpPr>
          <p:spPr>
            <a:xfrm>
              <a:off x="5869080" y="4510080"/>
              <a:ext cx="68580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17"/>
            <p:cNvSpPr/>
            <p:nvPr/>
          </p:nvSpPr>
          <p:spPr>
            <a:xfrm>
              <a:off x="6475320" y="423360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通透性增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8"/>
            <p:cNvSpPr/>
            <p:nvPr/>
          </p:nvSpPr>
          <p:spPr>
            <a:xfrm>
              <a:off x="2197080" y="5373720"/>
              <a:ext cx="106668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19"/>
            <p:cNvSpPr/>
            <p:nvPr/>
          </p:nvSpPr>
          <p:spPr>
            <a:xfrm>
              <a:off x="3132000" y="5084640"/>
              <a:ext cx="487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蛋白尿、血尿</a:t>
              </a:r>
              <a:r>
                <a:rPr b="1" lang="zh-CN" sz="1800" spc="-1" strike="noStrike">
                  <a:solidFill>
                    <a:srgbClr val="000000"/>
                  </a:solidFill>
                  <a:latin typeface="Perpetua"/>
                </a:rPr>
                <a:t>（</a:t>
              </a:r>
              <a:r>
                <a:rPr b="1" lang="en-US" sz="1800" spc="-1" strike="noStrike">
                  <a:solidFill>
                    <a:srgbClr val="000000"/>
                  </a:solidFill>
                  <a:latin typeface="Perpetua"/>
                </a:rPr>
                <a:t>Ⅲ</a:t>
              </a:r>
              <a:r>
                <a:rPr b="1" lang="zh-CN" sz="1800" spc="-1" strike="noStrike">
                  <a:solidFill>
                    <a:srgbClr val="000000"/>
                  </a:solidFill>
                  <a:latin typeface="Perpetua"/>
                </a:rPr>
                <a:t>型超敏反应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0"/>
            <p:cNvSpPr/>
            <p:nvPr/>
          </p:nvSpPr>
          <p:spPr>
            <a:xfrm>
              <a:off x="2413080" y="4437000"/>
              <a:ext cx="68580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380880" y="533520"/>
            <a:ext cx="8001000" cy="28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c00000"/>
              </a:buClr>
              <a:buFont typeface="Perpetua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Perpetua"/>
              </a:rPr>
              <a:t>我国的特殊临床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皮肤型黑热病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面部和颈部皮肤结节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治疗过程或治愈后发生（平原地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淋巴结型黑热病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浅表淋巴结肿大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无黑热病病史（荒漠地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468360" y="386064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7 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预后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取决于早期特效治疗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684360" y="4508640"/>
            <a:ext cx="784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未经治疗死亡率高达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7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~90%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特效药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葡萄糖酸锑钠、两性霉素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脂类复合物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治愈率较高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治愈后可获得牢固的免疫力（消除性免疫）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5" descr="皮肤利什曼"/>
          <p:cNvPicPr/>
          <p:nvPr/>
        </p:nvPicPr>
        <p:blipFill>
          <a:blip r:embed="rId6"/>
          <a:stretch/>
        </p:blipFill>
        <p:spPr>
          <a:xfrm>
            <a:off x="6516720" y="333360"/>
            <a:ext cx="22986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914400" y="457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Perpetu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55280" y="1483920"/>
            <a:ext cx="698508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宋体"/>
                <a:ea typeface="宋体"/>
              </a:rPr>
              <a:t>病原学诊断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755640" y="2707920"/>
            <a:ext cx="81374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穿刺检查  常用</a:t>
            </a:r>
            <a:r>
              <a:rPr b="1" lang="zh-CN" sz="2400" spc="-1" strike="noStrike">
                <a:solidFill>
                  <a:srgbClr val="aa103c"/>
                </a:solidFill>
                <a:latin typeface="宋体"/>
                <a:ea typeface="Times New Roman"/>
              </a:rPr>
              <a:t>骨髓穿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或淋巴结穿刺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皮肤活检               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外培养法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NN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培养基）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前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动物接种法             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395280" y="62064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四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诊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258560" y="764640"/>
            <a:ext cx="742788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Georgia"/>
              </a:rPr>
              <a:t>免疫学诊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Georgi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检测血清抗体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L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H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检测循环抗原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利什曼素实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NA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诊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539640" y="105264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五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流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685800" y="129528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914400" y="3429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914400" y="48006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468360" y="2349360"/>
            <a:ext cx="8064360" cy="42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70c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人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平原地区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人为传染源患者以青少年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传播媒介是家栖型中华白蛉和长管白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Perpetua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犬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丘陵山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犬为传染源      患者以婴幼儿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传播媒介是野栖型中华白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Perpetua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自然疫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荒漠地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野生保虫宿主为传染源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吴氏白蛉和亚历山大白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幼儿为主，成人为淋巴结型黑热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3"/>
          <p:cNvSpPr/>
          <p:nvPr/>
        </p:nvSpPr>
        <p:spPr>
          <a:xfrm>
            <a:off x="611280" y="83664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六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防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38080" y="190512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684360" y="1989000"/>
            <a:ext cx="8061120" cy="15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1.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治疗患者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葡萄糖酸锑钠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性霉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脂类复合物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戊脘脒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二脒替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脾切除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捕杀病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684360" y="386064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3.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灭蛉、防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3920" y="3786120"/>
            <a:ext cx="6643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蓝氏贾第鞭毛虫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116000" y="333360"/>
            <a:ext cx="68580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eorgia"/>
              </a:rPr>
              <a:t>第二节   蓝氏贾第鞭毛虫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eorgia"/>
              </a:rPr>
              <a:t>Giardia lamblia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   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TextBox 5"/>
          <p:cNvSpPr/>
          <p:nvPr/>
        </p:nvSpPr>
        <p:spPr>
          <a:xfrm>
            <a:off x="1116000" y="450864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俗称贾第虫，寄生于人体小肠上段、胆囊等处，引起腹痛、腹泻和吸收不良等症状，导致贾第虫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一、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形态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10920" y="1413000"/>
            <a:ext cx="3816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滋养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梨形，两侧对称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背面隆起，腹面凹陷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腹面前半部有吸器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个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吸器区两侧各有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个细胞核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对鞭毛均发自两核之间的基体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对中体位于吸器之后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26" name="组合 9"/>
          <p:cNvGrpSpPr/>
          <p:nvPr/>
        </p:nvGrpSpPr>
        <p:grpSpPr>
          <a:xfrm>
            <a:off x="4572000" y="2133720"/>
            <a:ext cx="4321080" cy="3220920"/>
            <a:chOff x="4572000" y="2133720"/>
            <a:chExt cx="4321080" cy="3220920"/>
          </a:xfrm>
        </p:grpSpPr>
        <p:pic>
          <p:nvPicPr>
            <p:cNvPr id="327" name="Picture 6" descr=""/>
            <p:cNvPicPr/>
            <p:nvPr/>
          </p:nvPicPr>
          <p:blipFill>
            <a:blip r:embed="rId1"/>
            <a:stretch/>
          </p:blipFill>
          <p:spPr>
            <a:xfrm>
              <a:off x="4677840" y="2133720"/>
              <a:ext cx="4215240" cy="32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TextBox 6"/>
            <p:cNvSpPr/>
            <p:nvPr/>
          </p:nvSpPr>
          <p:spPr>
            <a:xfrm>
              <a:off x="6662520" y="3086280"/>
              <a:ext cx="5680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前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Box 7"/>
            <p:cNvSpPr/>
            <p:nvPr/>
          </p:nvSpPr>
          <p:spPr>
            <a:xfrm>
              <a:off x="6396120" y="4289400"/>
              <a:ext cx="569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404040"/>
                  </a:solidFill>
                  <a:latin typeface="Arial"/>
                </a:rPr>
                <a:t>后</a:t>
              </a: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Box 8"/>
            <p:cNvSpPr/>
            <p:nvPr/>
          </p:nvSpPr>
          <p:spPr>
            <a:xfrm>
              <a:off x="4572000" y="3995640"/>
              <a:ext cx="566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腹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1042920" y="2276640"/>
            <a:ext cx="7201080" cy="28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内脏利什曼病 ：杜氏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皮肤利什曼病 ：热带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墨西哥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硕大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黏膜皮肤利什曼病 ： 巴西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971640" y="1125360"/>
            <a:ext cx="49687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利什曼病 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eishmanias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4" descr="蓝氏-滋养体-1"/>
          <p:cNvPicPr/>
          <p:nvPr/>
        </p:nvPicPr>
        <p:blipFill>
          <a:blip r:embed="rId1"/>
          <a:stretch/>
        </p:blipFill>
        <p:spPr>
          <a:xfrm>
            <a:off x="2050920" y="1268280"/>
            <a:ext cx="54738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5" descr="蓝贾包中"/>
          <p:cNvPicPr/>
          <p:nvPr/>
        </p:nvPicPr>
        <p:blipFill>
          <a:blip r:embed="rId1"/>
          <a:stretch/>
        </p:blipFill>
        <p:spPr>
          <a:xfrm>
            <a:off x="179280" y="2190600"/>
            <a:ext cx="4095720" cy="46674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755280" y="764640"/>
            <a:ext cx="80643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包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卵圆形，囊壁较厚，半透明；在囊壁与细胞质之间可见空隙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吉姆萨染色标本中显示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2~4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个细胞核、中体及鞭毛轴丝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4" name="Picture 6" descr=""/>
          <p:cNvPicPr/>
          <p:nvPr/>
        </p:nvPicPr>
        <p:blipFill>
          <a:blip r:embed="rId2"/>
          <a:stretch/>
        </p:blipFill>
        <p:spPr>
          <a:xfrm>
            <a:off x="4500720" y="3573360"/>
            <a:ext cx="435600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Giardia-life"/>
          <p:cNvPicPr/>
          <p:nvPr/>
        </p:nvPicPr>
        <p:blipFill>
          <a:blip r:embed="rId1"/>
          <a:stretch/>
        </p:blipFill>
        <p:spPr>
          <a:xfrm>
            <a:off x="2627280" y="404640"/>
            <a:ext cx="5786640" cy="60548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二、生活史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24456"/>
                </a:solidFill>
                <a:latin typeface="Trebuchet MS"/>
              </a:rPr>
              <a:t>生活史要点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964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生部位：滋养体寄生于人体小肠上段、胆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阶段：四核包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阶段：滋养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途径：经口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保虫宿主：家畜、鼠等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三、 致病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0" name="矩形 3"/>
          <p:cNvSpPr/>
          <p:nvPr/>
        </p:nvSpPr>
        <p:spPr>
          <a:xfrm>
            <a:off x="611280" y="1341360"/>
            <a:ext cx="81374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多数为带囊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虫株毒力、共生环境、宿主免疫状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吸器吸附，机械刺激，使肠黏膜细胞损伤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量虫体吸附，机械阻隔作用，引起肠功能紊乱，影响营养吸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吸收不良综合征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可侵入胆囊、胆管，引起胆管炎、胆囊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儿童感染率高于成年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慢性感染可影响儿童生长发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临床表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厌食、呕吐、发热、腹痛、腹泻、水样粪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粪便无脓血，含脂肪颗粒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四、诊断</a:t>
            </a:r>
            <a:r>
              <a:rPr b="0" lang="en-US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755640" y="2133360"/>
            <a:ext cx="742968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生理盐水直接涂片查滋养体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（腹泻患者稀便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碘液涂片查包囊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（慢性患者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带囊者成形粪便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十二指肠引流或胆汁检查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五、流行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68360" y="1628640"/>
            <a:ext cx="8229600" cy="463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传染源：慢性患者、带虫者与保虫宿主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传播途径：饮用污染的水而感染是重要途 径，包囊对外界抵抗力亦较强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易感人群：老年、儿童、体弱者尤为易感，免疫缺损、艾滋病患者常常导致死亡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TextBox 3"/>
          <p:cNvSpPr/>
          <p:nvPr/>
        </p:nvSpPr>
        <p:spPr>
          <a:xfrm>
            <a:off x="1116000" y="537372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Arial"/>
              </a:rPr>
              <a:t>近年来多见于旅游者中，故有“旅游者腹泻”之称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六、防治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42960" y="1916280"/>
            <a:ext cx="804384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治疗患者与带虫者：甲硝唑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切断传播途径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医学节肢动物机械性携带包囊，杀蝇和蜚蠊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饮食、饮水卫生和个人卫生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加强粪便管理，防止水源污染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9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e1a3d"/>
                </a:solidFill>
                <a:latin typeface="Trebuchet MS"/>
              </a:rPr>
              <a:t>第三节  阴 道 毛 滴 虫</a:t>
            </a:r>
            <a:br>
              <a:rPr sz="5400"/>
            </a:br>
            <a:r>
              <a:rPr b="1" i="1" lang="en-US" sz="4800" spc="-1" strike="noStrike">
                <a:solidFill>
                  <a:srgbClr val="3e1a3d"/>
                </a:solidFill>
                <a:latin typeface="Trebuchet MS"/>
              </a:rPr>
              <a:t>Trichomonas vaginalis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182600" y="5235480"/>
            <a:ext cx="67788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贾默稚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179280" y="33336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图片 1" descr=""/>
          <p:cNvPicPr/>
          <p:nvPr/>
        </p:nvPicPr>
        <p:blipFill>
          <a:blip r:embed="rId1"/>
          <a:stretch/>
        </p:blipFill>
        <p:spPr>
          <a:xfrm>
            <a:off x="5867280" y="3284640"/>
            <a:ext cx="3043440" cy="342396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4"/>
          <p:cNvSpPr/>
          <p:nvPr/>
        </p:nvSpPr>
        <p:spPr>
          <a:xfrm>
            <a:off x="228600" y="36385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24"/>
          <p:cNvGrpSpPr/>
          <p:nvPr/>
        </p:nvGrpSpPr>
        <p:grpSpPr>
          <a:xfrm>
            <a:off x="5535360" y="4354920"/>
            <a:ext cx="1654560" cy="1666080"/>
            <a:chOff x="5535360" y="4354920"/>
            <a:chExt cx="1654560" cy="1666080"/>
          </a:xfrm>
        </p:grpSpPr>
        <p:sp>
          <p:nvSpPr>
            <p:cNvPr id="354" name="Arc 22"/>
            <p:cNvSpPr/>
            <p:nvPr/>
          </p:nvSpPr>
          <p:spPr>
            <a:xfrm rot="3072000">
              <a:off x="5752800" y="4616280"/>
              <a:ext cx="1218960" cy="114300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</a:path>
                <a:path stroke="0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  <a:lnTo>
                    <a:pt x="21600" y="21600"/>
                  </a:lnTo>
                  <a:lnTo>
                    <a:pt x="1323" y="29045"/>
                  </a:lnTo>
                  <a:close/>
                </a:path>
              </a:pathLst>
            </a:cu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23"/>
            <p:cNvSpPr/>
            <p:nvPr/>
          </p:nvSpPr>
          <p:spPr>
            <a:xfrm flipH="1" flipV="1">
              <a:off x="5772960" y="5364720"/>
              <a:ext cx="9504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25"/>
          <p:cNvGrpSpPr/>
          <p:nvPr/>
        </p:nvGrpSpPr>
        <p:grpSpPr>
          <a:xfrm>
            <a:off x="1420560" y="4278240"/>
            <a:ext cx="1654560" cy="1666440"/>
            <a:chOff x="1420560" y="4278240"/>
            <a:chExt cx="1654560" cy="1666440"/>
          </a:xfrm>
        </p:grpSpPr>
        <p:sp>
          <p:nvSpPr>
            <p:cNvPr id="357" name="Arc 26"/>
            <p:cNvSpPr/>
            <p:nvPr/>
          </p:nvSpPr>
          <p:spPr>
            <a:xfrm rot="13872000">
              <a:off x="1638000" y="4539600"/>
              <a:ext cx="1219320" cy="114300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</a:path>
                <a:path stroke="0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  <a:lnTo>
                    <a:pt x="21600" y="21600"/>
                  </a:lnTo>
                  <a:lnTo>
                    <a:pt x="1323" y="29045"/>
                  </a:lnTo>
                  <a:close/>
                </a:path>
              </a:pathLst>
            </a:cu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27"/>
            <p:cNvSpPr/>
            <p:nvPr/>
          </p:nvSpPr>
          <p:spPr>
            <a:xfrm>
              <a:off x="2742120" y="4816440"/>
              <a:ext cx="9540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组合 21"/>
          <p:cNvGrpSpPr/>
          <p:nvPr/>
        </p:nvGrpSpPr>
        <p:grpSpPr>
          <a:xfrm>
            <a:off x="2057400" y="4883040"/>
            <a:ext cx="4267080" cy="534600"/>
            <a:chOff x="2057400" y="4883040"/>
            <a:chExt cx="4267080" cy="534600"/>
          </a:xfrm>
        </p:grpSpPr>
        <p:grpSp>
          <p:nvGrpSpPr>
            <p:cNvPr id="360" name="Group 34"/>
            <p:cNvGrpSpPr/>
            <p:nvPr/>
          </p:nvGrpSpPr>
          <p:grpSpPr>
            <a:xfrm>
              <a:off x="3657600" y="5035680"/>
              <a:ext cx="1371600" cy="304920"/>
              <a:chOff x="3657600" y="5035680"/>
              <a:chExt cx="1371600" cy="304920"/>
            </a:xfrm>
          </p:grpSpPr>
          <p:grpSp>
            <p:nvGrpSpPr>
              <p:cNvPr id="361" name="Group 30"/>
              <p:cNvGrpSpPr/>
              <p:nvPr/>
            </p:nvGrpSpPr>
            <p:grpSpPr>
              <a:xfrm>
                <a:off x="3657600" y="5035680"/>
                <a:ext cx="1371600" cy="76320"/>
                <a:chOff x="3657600" y="5035680"/>
                <a:chExt cx="1371600" cy="76320"/>
              </a:xfrm>
            </p:grpSpPr>
            <p:sp>
              <p:nvSpPr>
                <p:cNvPr id="362" name="Line 28"/>
                <p:cNvSpPr/>
                <p:nvPr/>
              </p:nvSpPr>
              <p:spPr>
                <a:xfrm>
                  <a:off x="3657600" y="5112000"/>
                  <a:ext cx="13716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Line 29"/>
                <p:cNvSpPr/>
                <p:nvPr/>
              </p:nvSpPr>
              <p:spPr>
                <a:xfrm flipH="1" flipV="1">
                  <a:off x="4876560" y="5035680"/>
                  <a:ext cx="152280" cy="7632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" name="Group 31"/>
              <p:cNvGrpSpPr/>
              <p:nvPr/>
            </p:nvGrpSpPr>
            <p:grpSpPr>
              <a:xfrm>
                <a:off x="3657600" y="5264280"/>
                <a:ext cx="1371600" cy="76320"/>
                <a:chOff x="3657600" y="5264280"/>
                <a:chExt cx="1371600" cy="76320"/>
              </a:xfrm>
            </p:grpSpPr>
            <p:sp>
              <p:nvSpPr>
                <p:cNvPr id="365" name="Line 32"/>
                <p:cNvSpPr/>
                <p:nvPr/>
              </p:nvSpPr>
              <p:spPr>
                <a:xfrm flipH="1">
                  <a:off x="3657600" y="5264280"/>
                  <a:ext cx="13716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Line 33"/>
                <p:cNvSpPr/>
                <p:nvPr/>
              </p:nvSpPr>
              <p:spPr>
                <a:xfrm>
                  <a:off x="3657960" y="5264280"/>
                  <a:ext cx="152280" cy="7632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7" name="组合 3"/>
            <p:cNvGrpSpPr/>
            <p:nvPr/>
          </p:nvGrpSpPr>
          <p:grpSpPr>
            <a:xfrm>
              <a:off x="2057400" y="4883040"/>
              <a:ext cx="4267080" cy="534600"/>
              <a:chOff x="2057400" y="4883040"/>
              <a:chExt cx="4267080" cy="534600"/>
            </a:xfrm>
          </p:grpSpPr>
          <p:sp>
            <p:nvSpPr>
              <p:cNvPr id="368" name="Text Box 37"/>
              <p:cNvSpPr/>
              <p:nvPr/>
            </p:nvSpPr>
            <p:spPr>
              <a:xfrm>
                <a:off x="2057400" y="4897080"/>
                <a:ext cx="1676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滋养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38"/>
              <p:cNvSpPr/>
              <p:nvPr/>
            </p:nvSpPr>
            <p:spPr>
              <a:xfrm>
                <a:off x="5029200" y="488304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滋养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Box 1"/>
              <p:cNvSpPr/>
              <p:nvPr/>
            </p:nvSpPr>
            <p:spPr>
              <a:xfrm>
                <a:off x="3809880" y="489348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660066"/>
                    </a:solidFill>
                    <a:latin typeface="Times New Roman"/>
                  </a:rPr>
                  <a:t>接触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1" name="TextBox 2"/>
          <p:cNvSpPr/>
          <p:nvPr/>
        </p:nvSpPr>
        <p:spPr>
          <a:xfrm>
            <a:off x="1258920" y="471024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以分裂法生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3"/>
          <p:cNvSpPr/>
          <p:nvPr/>
        </p:nvSpPr>
        <p:spPr>
          <a:xfrm>
            <a:off x="6224760" y="469728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以分裂法生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250920" y="981000"/>
            <a:ext cx="873576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滋养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虫体梨形或椭圆形，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前鞭毛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后鞭毛，后鞭毛向后沿波动膜外缘内侧呈波浪式延伸，末端不游离。细胞核泡状，在虫体前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/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处。鞭毛由基体发出，基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排成环状，位于细胞核上方。轴柱贯穿虫体并从末端伸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71640" y="2205000"/>
            <a:ext cx="768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8186a"/>
                </a:solidFill>
                <a:latin typeface="Trebuchet MS"/>
              </a:rPr>
              <a:t>Leishmania donovani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258920" y="3933720"/>
            <a:ext cx="63482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杜氏利什曼原虫引起内脏利什曼病，也称黑热病</a:t>
            </a:r>
            <a:r>
              <a:rPr b="1" lang="zh-CN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Kala-azar) 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971640" y="836640"/>
            <a:ext cx="7561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1619280" y="1125360"/>
            <a:ext cx="619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Perpetua"/>
              </a:rPr>
              <a:t>杜氏利什曼原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6"/>
          <p:cNvSpPr/>
          <p:nvPr/>
        </p:nvSpPr>
        <p:spPr>
          <a:xfrm>
            <a:off x="380880" y="150984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女性及男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泌尿生殖系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380880" y="22050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通过接触传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8"/>
          <p:cNvSpPr/>
          <p:nvPr/>
        </p:nvSpPr>
        <p:spPr>
          <a:xfrm>
            <a:off x="228600" y="29973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380880" y="381636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阴道的自净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组合 15"/>
          <p:cNvGrpSpPr/>
          <p:nvPr/>
        </p:nvGrpSpPr>
        <p:grpSpPr>
          <a:xfrm>
            <a:off x="324000" y="4494240"/>
            <a:ext cx="7220160" cy="586080"/>
            <a:chOff x="324000" y="4494240"/>
            <a:chExt cx="7220160" cy="586080"/>
          </a:xfrm>
        </p:grpSpPr>
        <p:sp>
          <p:nvSpPr>
            <p:cNvPr id="379" name="TextBox 12"/>
            <p:cNvSpPr/>
            <p:nvPr/>
          </p:nvSpPr>
          <p:spPr>
            <a:xfrm>
              <a:off x="324000" y="4498920"/>
              <a:ext cx="1923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乳酸杆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Box 13"/>
            <p:cNvSpPr/>
            <p:nvPr/>
          </p:nvSpPr>
          <p:spPr>
            <a:xfrm>
              <a:off x="2863800" y="4494240"/>
              <a:ext cx="394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酵解糖原，产生乳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1" name="直接箭头连接符 15"/>
            <p:cNvCxnSpPr/>
            <p:nvPr/>
          </p:nvCxnSpPr>
          <p:spPr>
            <a:xfrm>
              <a:off x="2151000" y="478584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2" name="直接箭头连接符 18"/>
            <p:cNvCxnSpPr/>
            <p:nvPr/>
          </p:nvCxnSpPr>
          <p:spPr>
            <a:xfrm>
              <a:off x="6804360" y="47811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83" name="组合 16"/>
          <p:cNvGrpSpPr/>
          <p:nvPr/>
        </p:nvGrpSpPr>
        <p:grpSpPr>
          <a:xfrm>
            <a:off x="393840" y="5130720"/>
            <a:ext cx="5513400" cy="581400"/>
            <a:chOff x="393840" y="5130720"/>
            <a:chExt cx="5513400" cy="581400"/>
          </a:xfrm>
        </p:grpSpPr>
        <p:cxnSp>
          <p:nvCxnSpPr>
            <p:cNvPr id="384" name="直接箭头连接符 17"/>
            <p:cNvCxnSpPr/>
            <p:nvPr/>
          </p:nvCxnSpPr>
          <p:spPr>
            <a:xfrm>
              <a:off x="2464920" y="5415840"/>
              <a:ext cx="74052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5" name="TextBox 13"/>
            <p:cNvSpPr/>
            <p:nvPr/>
          </p:nvSpPr>
          <p:spPr>
            <a:xfrm>
              <a:off x="393840" y="5130720"/>
              <a:ext cx="214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 3.8~4.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Box 14"/>
            <p:cNvSpPr/>
            <p:nvPr/>
          </p:nvSpPr>
          <p:spPr>
            <a:xfrm>
              <a:off x="3192840" y="5130720"/>
              <a:ext cx="27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抑制细菌繁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5"/>
          <p:cNvSpPr/>
          <p:nvPr/>
        </p:nvSpPr>
        <p:spPr>
          <a:xfrm>
            <a:off x="385920" y="77616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只有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滋养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期，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既是感染阶段又是致病阶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10"/>
          <p:cNvSpPr/>
          <p:nvPr/>
        </p:nvSpPr>
        <p:spPr>
          <a:xfrm>
            <a:off x="380880" y="4365720"/>
            <a:ext cx="72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阴道炎、尿道炎、前列腺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0"/>
          <p:cNvSpPr/>
          <p:nvPr/>
        </p:nvSpPr>
        <p:spPr>
          <a:xfrm>
            <a:off x="382680" y="5079960"/>
            <a:ext cx="78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滴虫可吞噬精子、感染分泌物增多影响精子活力：导致男性不育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组合 15"/>
          <p:cNvGrpSpPr/>
          <p:nvPr/>
        </p:nvGrpSpPr>
        <p:grpSpPr>
          <a:xfrm>
            <a:off x="324000" y="1125360"/>
            <a:ext cx="8463240" cy="586080"/>
            <a:chOff x="324000" y="1125360"/>
            <a:chExt cx="8463240" cy="586080"/>
          </a:xfrm>
        </p:grpSpPr>
        <p:sp>
          <p:nvSpPr>
            <p:cNvPr id="391" name="TextBox 12"/>
            <p:cNvSpPr/>
            <p:nvPr/>
          </p:nvSpPr>
          <p:spPr>
            <a:xfrm>
              <a:off x="324000" y="1130040"/>
              <a:ext cx="517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阴道毛滴虫竞争性消耗糖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Box 13"/>
            <p:cNvSpPr/>
            <p:nvPr/>
          </p:nvSpPr>
          <p:spPr>
            <a:xfrm>
              <a:off x="6183360" y="1125360"/>
              <a:ext cx="186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糖原减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3" name="直接箭头连接符 15"/>
            <p:cNvCxnSpPr/>
            <p:nvPr/>
          </p:nvCxnSpPr>
          <p:spPr>
            <a:xfrm>
              <a:off x="8047440" y="14097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4" name="直接箭头连接符 18"/>
            <p:cNvCxnSpPr/>
            <p:nvPr/>
          </p:nvCxnSpPr>
          <p:spPr>
            <a:xfrm>
              <a:off x="5441040" y="141120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95" name="组合 16"/>
          <p:cNvGrpSpPr/>
          <p:nvPr/>
        </p:nvGrpSpPr>
        <p:grpSpPr>
          <a:xfrm>
            <a:off x="345960" y="1795320"/>
            <a:ext cx="8440920" cy="581400"/>
            <a:chOff x="345960" y="1795320"/>
            <a:chExt cx="8440920" cy="581400"/>
          </a:xfrm>
        </p:grpSpPr>
        <p:sp>
          <p:nvSpPr>
            <p:cNvPr id="396" name="TextBox 13"/>
            <p:cNvSpPr/>
            <p:nvPr/>
          </p:nvSpPr>
          <p:spPr>
            <a:xfrm>
              <a:off x="345960" y="1795320"/>
              <a:ext cx="27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乳酸生成减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7" name="直接箭头连接符 18"/>
            <p:cNvCxnSpPr/>
            <p:nvPr/>
          </p:nvCxnSpPr>
          <p:spPr>
            <a:xfrm>
              <a:off x="3024000" y="208008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8" name="TextBox 13"/>
            <p:cNvSpPr/>
            <p:nvPr/>
          </p:nvSpPr>
          <p:spPr>
            <a:xfrm>
              <a:off x="3786120" y="1795320"/>
              <a:ext cx="500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上升（中性或偏碱性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17"/>
          <p:cNvGrpSpPr/>
          <p:nvPr/>
        </p:nvGrpSpPr>
        <p:grpSpPr>
          <a:xfrm>
            <a:off x="500040" y="2433600"/>
            <a:ext cx="7743960" cy="581400"/>
            <a:chOff x="500040" y="2433600"/>
            <a:chExt cx="7743960" cy="581400"/>
          </a:xfrm>
        </p:grpSpPr>
        <p:cxnSp>
          <p:nvCxnSpPr>
            <p:cNvPr id="400" name="直接箭头连接符 18"/>
            <p:cNvCxnSpPr/>
            <p:nvPr/>
          </p:nvCxnSpPr>
          <p:spPr>
            <a:xfrm>
              <a:off x="500040" y="271944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1" name="TextBox 13"/>
            <p:cNvSpPr/>
            <p:nvPr/>
          </p:nvSpPr>
          <p:spPr>
            <a:xfrm>
              <a:off x="1225800" y="2433600"/>
              <a:ext cx="701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有利于滴虫大量繁殖且导致继发性细菌感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Text Box 10"/>
          <p:cNvSpPr/>
          <p:nvPr/>
        </p:nvSpPr>
        <p:spPr>
          <a:xfrm>
            <a:off x="382680" y="404640"/>
            <a:ext cx="72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滴虫寄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组合 5"/>
          <p:cNvGrpSpPr/>
          <p:nvPr/>
        </p:nvGrpSpPr>
        <p:grpSpPr>
          <a:xfrm>
            <a:off x="498600" y="3530520"/>
            <a:ext cx="7751520" cy="581400"/>
            <a:chOff x="498600" y="3530520"/>
            <a:chExt cx="7751520" cy="581400"/>
          </a:xfrm>
        </p:grpSpPr>
        <p:cxnSp>
          <p:nvCxnSpPr>
            <p:cNvPr id="404" name="直接箭头连接符 18"/>
            <p:cNvCxnSpPr/>
            <p:nvPr/>
          </p:nvCxnSpPr>
          <p:spPr>
            <a:xfrm>
              <a:off x="498600" y="38469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5" name="TextBox 13"/>
            <p:cNvSpPr/>
            <p:nvPr/>
          </p:nvSpPr>
          <p:spPr>
            <a:xfrm>
              <a:off x="1232280" y="3530520"/>
              <a:ext cx="7017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Times New Roman"/>
                </a:rPr>
                <a:t>炎症病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250920" y="3333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395280" y="1052640"/>
            <a:ext cx="555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理盐水直接涂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395280" y="170028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吉姆萨或瑞氏染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380880" y="22780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汤培养基培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250920" y="29653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图片 10" descr="滴虫涂片.jpg"/>
          <p:cNvPicPr/>
          <p:nvPr/>
        </p:nvPicPr>
        <p:blipFill>
          <a:blip r:embed="rId1"/>
          <a:srcRect l="4571" t="6064" r="4058" b="3032"/>
          <a:stretch/>
        </p:blipFill>
        <p:spPr>
          <a:xfrm>
            <a:off x="5143680" y="785880"/>
            <a:ext cx="2857320" cy="214308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5"/>
          <p:cNvSpPr/>
          <p:nvPr/>
        </p:nvSpPr>
        <p:spPr>
          <a:xfrm>
            <a:off x="468360" y="3686040"/>
            <a:ext cx="8136000" cy="22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世界范围内最常见的性传播感染疾病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者感染阴道毛滴虫的机会是一般人群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5~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我国的感染率也很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7"/>
          <p:cNvSpPr/>
          <p:nvPr/>
        </p:nvSpPr>
        <p:spPr>
          <a:xfrm>
            <a:off x="324000" y="54936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治疗患者及带虫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甲硝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326880" y="11890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切断传播途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9"/>
          <p:cNvSpPr/>
          <p:nvPr/>
        </p:nvSpPr>
        <p:spPr>
          <a:xfrm>
            <a:off x="542880" y="1819440"/>
            <a:ext cx="7850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接接触：以性传播为主的一种传染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0"/>
          <p:cNvSpPr/>
          <p:nvPr/>
        </p:nvSpPr>
        <p:spPr>
          <a:xfrm>
            <a:off x="542880" y="2540160"/>
            <a:ext cx="56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间接接触：注意个人卫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1527120"/>
            <a:ext cx="7772400" cy="1687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第五节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致病性自生生活阿米巴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182600" y="4370040"/>
            <a:ext cx="6778800" cy="10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贾默稚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7772400" cy="1687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福氏耐格里阿米巴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Trebuchet MS"/>
              </a:rPr>
              <a:t>Naegleria fowleri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1481040"/>
            <a:ext cx="3409920" cy="62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rebuchet MS"/>
              </a:rPr>
              <a:t>滋养体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320760" y="3214800"/>
            <a:ext cx="77515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；囊壁双层，厚而光滑；囊内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细胞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9"/>
          <p:cNvSpPr/>
          <p:nvPr/>
        </p:nvSpPr>
        <p:spPr>
          <a:xfrm>
            <a:off x="223920" y="318960"/>
            <a:ext cx="4419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24456"/>
                </a:solidFill>
                <a:latin typeface="Times New Roman"/>
              </a:rPr>
              <a:t>一、形态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左大括号 26"/>
          <p:cNvSpPr/>
          <p:nvPr/>
        </p:nvSpPr>
        <p:spPr>
          <a:xfrm>
            <a:off x="2143080" y="1284120"/>
            <a:ext cx="285840" cy="107172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1071720"/>
              <a:gd name="textAreaBottom" fmla="*/ 1064520 h 107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27"/>
          <p:cNvSpPr/>
          <p:nvPr/>
        </p:nvSpPr>
        <p:spPr>
          <a:xfrm>
            <a:off x="2500200" y="476280"/>
            <a:ext cx="646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阿米巴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伪足宽大叶状；细胞核泡状，核仁大而致密位于中央；细胞质呈颗粒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3" descr="耐格里阿米巴滋养体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5143680" y="1628640"/>
            <a:ext cx="3730320" cy="27939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5" descr="福氏鞭毛型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5143680" y="2924280"/>
            <a:ext cx="3676320" cy="26654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耐格里阿米巴包囊"/>
          <p:cNvPicPr/>
          <p:nvPr/>
        </p:nvPicPr>
        <p:blipFill>
          <a:blip r:embed="rId3"/>
          <a:stretch/>
        </p:blipFill>
        <p:spPr>
          <a:xfrm>
            <a:off x="2019240" y="4000680"/>
            <a:ext cx="3338640" cy="2643120"/>
          </a:xfrm>
          <a:prstGeom prst="rect">
            <a:avLst/>
          </a:prstGeom>
          <a:ln w="0">
            <a:noFill/>
          </a:ln>
        </p:spPr>
      </p:pic>
      <p:sp>
        <p:nvSpPr>
          <p:cNvPr id="428" name="TextBox 28"/>
          <p:cNvSpPr/>
          <p:nvPr/>
        </p:nvSpPr>
        <p:spPr>
          <a:xfrm>
            <a:off x="2489040" y="2058840"/>
            <a:ext cx="62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鞭毛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梨形或卵形，前段长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根或多根鞭毛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1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40"/>
          <p:cNvSpPr/>
          <p:nvPr/>
        </p:nvSpPr>
        <p:spPr>
          <a:xfrm>
            <a:off x="214200" y="142920"/>
            <a:ext cx="85726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活史较简单，有滋养体和包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阶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组合 45"/>
          <p:cNvGrpSpPr/>
          <p:nvPr/>
        </p:nvGrpSpPr>
        <p:grpSpPr>
          <a:xfrm>
            <a:off x="1619280" y="1892160"/>
            <a:ext cx="5948280" cy="4586400"/>
            <a:chOff x="1619280" y="1892160"/>
            <a:chExt cx="5948280" cy="4586400"/>
          </a:xfrm>
        </p:grpSpPr>
        <p:pic>
          <p:nvPicPr>
            <p:cNvPr id="431" name="Picture 3" descr=""/>
            <p:cNvPicPr/>
            <p:nvPr/>
          </p:nvPicPr>
          <p:blipFill>
            <a:blip r:embed="rId1"/>
            <a:stretch/>
          </p:blipFill>
          <p:spPr>
            <a:xfrm>
              <a:off x="1619280" y="1892160"/>
              <a:ext cx="5948280" cy="45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TextBox 32"/>
            <p:cNvSpPr/>
            <p:nvPr/>
          </p:nvSpPr>
          <p:spPr>
            <a:xfrm>
              <a:off x="5977080" y="2653920"/>
              <a:ext cx="1214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在水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Box 33"/>
            <p:cNvSpPr/>
            <p:nvPr/>
          </p:nvSpPr>
          <p:spPr>
            <a:xfrm>
              <a:off x="5691240" y="6046920"/>
              <a:ext cx="164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鞭毛型滋养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Box 34"/>
            <p:cNvSpPr/>
            <p:nvPr/>
          </p:nvSpPr>
          <p:spPr>
            <a:xfrm>
              <a:off x="1976400" y="2463480"/>
              <a:ext cx="1857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阿米巴型滋养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Box 35"/>
            <p:cNvSpPr/>
            <p:nvPr/>
          </p:nvSpPr>
          <p:spPr>
            <a:xfrm>
              <a:off x="1785960" y="6070680"/>
              <a:ext cx="857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包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Box 36"/>
            <p:cNvSpPr/>
            <p:nvPr/>
          </p:nvSpPr>
          <p:spPr>
            <a:xfrm>
              <a:off x="1654200" y="3892320"/>
              <a:ext cx="1071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外环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Box 37"/>
            <p:cNvSpPr/>
            <p:nvPr/>
          </p:nvSpPr>
          <p:spPr>
            <a:xfrm>
              <a:off x="3976560" y="424980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人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8" name="直接箭头连接符 39"/>
            <p:cNvCxnSpPr/>
            <p:nvPr/>
          </p:nvCxnSpPr>
          <p:spPr>
            <a:xfrm flipV="1">
              <a:off x="2761920" y="5749200"/>
              <a:ext cx="857880" cy="214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439" name="直接箭头连接符 41"/>
            <p:cNvCxnSpPr/>
            <p:nvPr/>
          </p:nvCxnSpPr>
          <p:spPr>
            <a:xfrm>
              <a:off x="3904200" y="4178160"/>
              <a:ext cx="214920" cy="714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440" name="TextBox 42"/>
            <p:cNvSpPr/>
            <p:nvPr/>
          </p:nvSpPr>
          <p:spPr>
            <a:xfrm>
              <a:off x="2678040" y="589284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人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矩形 44"/>
            <p:cNvSpPr/>
            <p:nvPr/>
          </p:nvSpPr>
          <p:spPr>
            <a:xfrm>
              <a:off x="3679920" y="5702400"/>
              <a:ext cx="1857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Times New Roman"/>
                </a:rPr>
                <a:t>阿米巴型滋养体损伤脑组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40"/>
          <p:cNvSpPr/>
          <p:nvPr/>
        </p:nvSpPr>
        <p:spPr>
          <a:xfrm>
            <a:off x="250920" y="33336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15"/>
          <p:cNvSpPr/>
          <p:nvPr/>
        </p:nvSpPr>
        <p:spPr>
          <a:xfrm>
            <a:off x="324000" y="836640"/>
            <a:ext cx="8286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脑部病变多位于脑皮质表面和基底部，嗅叶、颞叶和小脑也可受到损害，以嗅叶受累严重，导致原发性阿米巴脑膜脑炎</a:t>
            </a:r>
            <a:r>
              <a:rPr b="1" lang="zh-CN" sz="3200" spc="-1" strike="noStrike">
                <a:solidFill>
                  <a:srgbClr val="67afbd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67afbd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7afbd"/>
                </a:solidFill>
                <a:latin typeface="Times New Roman"/>
              </a:rPr>
              <a:t>PAM </a:t>
            </a:r>
            <a:r>
              <a:rPr b="1" lang="zh-CN" sz="3200" spc="-1" strike="noStrike">
                <a:solidFill>
                  <a:srgbClr val="67afbd"/>
                </a:solidFill>
                <a:latin typeface="Times New Roman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临床症状：早期突发头痛、发热、恶心、呕吐；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后迅速转入瘫痪、昏迷、谵妄，患者常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周内死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发病者多为儿童和青壮年，起病急、病程短、死亡率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40"/>
          <p:cNvSpPr/>
          <p:nvPr/>
        </p:nvSpPr>
        <p:spPr>
          <a:xfrm>
            <a:off x="179280" y="47628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15"/>
          <p:cNvSpPr/>
          <p:nvPr/>
        </p:nvSpPr>
        <p:spPr>
          <a:xfrm>
            <a:off x="395280" y="981000"/>
            <a:ext cx="8286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检查：脑脊液查滋养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脑脊液接种、培养，镜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询问病史：是否曾游泳、嬉水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0"/>
          <p:cNvSpPr/>
          <p:nvPr/>
        </p:nvSpPr>
        <p:spPr>
          <a:xfrm>
            <a:off x="214200" y="3110040"/>
            <a:ext cx="7715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4"/>
          <p:cNvSpPr/>
          <p:nvPr/>
        </p:nvSpPr>
        <p:spPr>
          <a:xfrm>
            <a:off x="428760" y="3854520"/>
            <a:ext cx="8319960" cy="20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夏季以青壮年发病为主，多在游泳、潜水时感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：无理想药物，两性霉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缓解症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预防为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避免接触污染水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游泳、洗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3"/>
          <p:cNvSpPr/>
          <p:nvPr/>
        </p:nvSpPr>
        <p:spPr>
          <a:xfrm>
            <a:off x="539640" y="62064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一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形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684360" y="1700280"/>
            <a:ext cx="4367160" cy="19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无鞭毛体（利杜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椭圆形或圆形，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2.8~4.4µm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吉姆萨染色：细胞膜纤细，细胞质淡蓝色；细胞核位于虫体一侧；动基体位于虫体中部；核和动基体均呈红色或紫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7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2644920" cy="2736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"/>
          <p:cNvPicPr/>
          <p:nvPr/>
        </p:nvPicPr>
        <p:blipFill>
          <a:blip r:embed="rId2"/>
          <a:stretch/>
        </p:blipFill>
        <p:spPr>
          <a:xfrm>
            <a:off x="1692360" y="4724280"/>
            <a:ext cx="1447560" cy="1828800"/>
          </a:xfrm>
          <a:prstGeom prst="rect">
            <a:avLst/>
          </a:prstGeom>
          <a:ln w="0">
            <a:noFill/>
          </a:ln>
        </p:spPr>
      </p:pic>
      <p:grpSp>
        <p:nvGrpSpPr>
          <p:cNvPr id="233" name="组合 11"/>
          <p:cNvGrpSpPr/>
          <p:nvPr/>
        </p:nvGrpSpPr>
        <p:grpSpPr>
          <a:xfrm>
            <a:off x="2484360" y="5589720"/>
            <a:ext cx="1227240" cy="368280"/>
            <a:chOff x="2484360" y="5589720"/>
            <a:chExt cx="1227240" cy="368280"/>
          </a:xfrm>
        </p:grpSpPr>
        <p:sp>
          <p:nvSpPr>
            <p:cNvPr id="234" name="直接连接符 7"/>
            <p:cNvSpPr/>
            <p:nvPr/>
          </p:nvSpPr>
          <p:spPr>
            <a:xfrm>
              <a:off x="2484360" y="5705640"/>
              <a:ext cx="71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Box 8"/>
            <p:cNvSpPr/>
            <p:nvPr/>
          </p:nvSpPr>
          <p:spPr>
            <a:xfrm>
              <a:off x="3135960" y="5589720"/>
              <a:ext cx="57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直接连接符 16"/>
          <p:cNvSpPr/>
          <p:nvPr/>
        </p:nvSpPr>
        <p:spPr>
          <a:xfrm>
            <a:off x="2411280" y="5373720"/>
            <a:ext cx="86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8"/>
          <p:cNvSpPr/>
          <p:nvPr/>
        </p:nvSpPr>
        <p:spPr>
          <a:xfrm>
            <a:off x="3132000" y="5157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动基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9"/>
          <p:cNvSpPr/>
          <p:nvPr/>
        </p:nvSpPr>
        <p:spPr>
          <a:xfrm>
            <a:off x="5435640" y="49417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巨噬细胞内的无鞭毛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4356000" y="3933720"/>
            <a:ext cx="3324240" cy="24926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3"/>
          <p:cNvSpPr/>
          <p:nvPr/>
        </p:nvSpPr>
        <p:spPr>
          <a:xfrm>
            <a:off x="900000" y="981000"/>
            <a:ext cx="570888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前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梭形或长梭形，前端有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根伸岀体外的鞭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吉姆萨染色：胞质淡蓝色；核位于虫体中部；动基体横向于虫体前部，近基体；细胞核、动基体和鞭毛均呈红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"/>
          <p:cNvPicPr/>
          <p:nvPr/>
        </p:nvPicPr>
        <p:blipFill>
          <a:blip r:embed="rId2"/>
          <a:stretch/>
        </p:blipFill>
        <p:spPr>
          <a:xfrm>
            <a:off x="1187280" y="3716280"/>
            <a:ext cx="192420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609480" y="1600200"/>
            <a:ext cx="4267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11280" y="765000"/>
            <a:ext cx="502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Perpetua"/>
                <a:ea typeface="华文中宋"/>
              </a:rPr>
              <a:t>二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c00000"/>
                </a:solidFill>
                <a:latin typeface="Perpetua"/>
                <a:ea typeface="华文中宋"/>
              </a:rPr>
              <a:t> 生活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4495680" y="2590920"/>
            <a:ext cx="0" cy="35049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1905120" y="2666880"/>
            <a:ext cx="914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ded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8086"/>
                </a:solidFill>
                <a:latin typeface="Georgia"/>
              </a:rPr>
              <a:t>白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6172200" y="2514600"/>
            <a:ext cx="685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ded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8086"/>
                </a:solidFill>
                <a:latin typeface="Georgia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1676520" y="34290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前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5486400" y="3352680"/>
            <a:ext cx="19051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无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（巨噬细胞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9"/>
          <p:cNvGrpSpPr/>
          <p:nvPr/>
        </p:nvGrpSpPr>
        <p:grpSpPr>
          <a:xfrm>
            <a:off x="3733920" y="4343400"/>
            <a:ext cx="1752120" cy="152280"/>
            <a:chOff x="3733920" y="4343400"/>
            <a:chExt cx="1752120" cy="152280"/>
          </a:xfrm>
        </p:grpSpPr>
        <p:sp>
          <p:nvSpPr>
            <p:cNvPr id="250" name="Line 10"/>
            <p:cNvSpPr/>
            <p:nvPr/>
          </p:nvSpPr>
          <p:spPr>
            <a:xfrm>
              <a:off x="3733920" y="4495680"/>
              <a:ext cx="175212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1"/>
            <p:cNvSpPr/>
            <p:nvPr/>
          </p:nvSpPr>
          <p:spPr>
            <a:xfrm>
              <a:off x="5235840" y="4343400"/>
              <a:ext cx="250200" cy="15228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12"/>
          <p:cNvGrpSpPr/>
          <p:nvPr/>
        </p:nvGrpSpPr>
        <p:grpSpPr>
          <a:xfrm>
            <a:off x="3734280" y="4647960"/>
            <a:ext cx="1752120" cy="152280"/>
            <a:chOff x="3734280" y="4647960"/>
            <a:chExt cx="1752120" cy="152280"/>
          </a:xfrm>
        </p:grpSpPr>
        <p:sp>
          <p:nvSpPr>
            <p:cNvPr id="253" name="Line 13"/>
            <p:cNvSpPr/>
            <p:nvPr/>
          </p:nvSpPr>
          <p:spPr>
            <a:xfrm flipH="1">
              <a:off x="3734280" y="4647960"/>
              <a:ext cx="175212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4"/>
            <p:cNvSpPr/>
            <p:nvPr/>
          </p:nvSpPr>
          <p:spPr>
            <a:xfrm flipH="1" flipV="1">
              <a:off x="3734280" y="4647960"/>
              <a:ext cx="250200" cy="15228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15"/>
          <p:cNvSpPr/>
          <p:nvPr/>
        </p:nvSpPr>
        <p:spPr>
          <a:xfrm>
            <a:off x="5867280" y="4267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Perpetua"/>
              </a:rPr>
              <a:t>大量繁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1828800" y="4038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Perpetua"/>
              </a:rPr>
              <a:t>大量繁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17"/>
          <p:cNvGrpSpPr/>
          <p:nvPr/>
        </p:nvGrpSpPr>
        <p:grpSpPr>
          <a:xfrm>
            <a:off x="5257800" y="3733920"/>
            <a:ext cx="2514600" cy="1452600"/>
            <a:chOff x="5257800" y="3733920"/>
            <a:chExt cx="2514600" cy="1452600"/>
          </a:xfrm>
        </p:grpSpPr>
        <p:sp>
          <p:nvSpPr>
            <p:cNvPr id="258" name="Arc 18"/>
            <p:cNvSpPr/>
            <p:nvPr/>
          </p:nvSpPr>
          <p:spPr>
            <a:xfrm>
              <a:off x="5257800" y="3735360"/>
              <a:ext cx="2514600" cy="1451160"/>
            </a:xfrm>
            <a:prstGeom prst="pie">
              <a:avLst/>
            </a:prstGeom>
            <a:noFill/>
            <a:ln w="76320">
              <a:solidFill>
                <a:srgbClr val="5354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9"/>
            <p:cNvSpPr/>
            <p:nvPr/>
          </p:nvSpPr>
          <p:spPr>
            <a:xfrm flipV="1">
              <a:off x="5562360" y="3733920"/>
              <a:ext cx="152640" cy="76320"/>
            </a:xfrm>
            <a:prstGeom prst="line">
              <a:avLst/>
            </a:prstGeom>
            <a:ln w="76320">
              <a:solidFill>
                <a:srgbClr val="5354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20"/>
          <p:cNvGrpSpPr/>
          <p:nvPr/>
        </p:nvGrpSpPr>
        <p:grpSpPr>
          <a:xfrm>
            <a:off x="1219320" y="3809880"/>
            <a:ext cx="2514600" cy="1452600"/>
            <a:chOff x="1219320" y="3809880"/>
            <a:chExt cx="2514600" cy="1452600"/>
          </a:xfrm>
        </p:grpSpPr>
        <p:sp>
          <p:nvSpPr>
            <p:cNvPr id="261" name="Arc 21"/>
            <p:cNvSpPr/>
            <p:nvPr/>
          </p:nvSpPr>
          <p:spPr>
            <a:xfrm>
              <a:off x="1219320" y="3811320"/>
              <a:ext cx="2514600" cy="1451160"/>
            </a:xfrm>
            <a:prstGeom prst="pie">
              <a:avLst/>
            </a:prstGeom>
            <a:noFill/>
            <a:ln w="76320">
              <a:solidFill>
                <a:srgbClr val="5354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2"/>
            <p:cNvSpPr/>
            <p:nvPr/>
          </p:nvSpPr>
          <p:spPr>
            <a:xfrm flipV="1">
              <a:off x="1523880" y="3809880"/>
              <a:ext cx="152640" cy="76320"/>
            </a:xfrm>
            <a:prstGeom prst="line">
              <a:avLst/>
            </a:prstGeom>
            <a:ln w="76320">
              <a:solidFill>
                <a:srgbClr val="5354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Text Box 23"/>
          <p:cNvSpPr/>
          <p:nvPr/>
        </p:nvSpPr>
        <p:spPr>
          <a:xfrm>
            <a:off x="3733920" y="388620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白蛉叮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4876920" y="6858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6477120" y="10666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9"/>
          <p:cNvSpPr/>
          <p:nvPr/>
        </p:nvSpPr>
        <p:spPr>
          <a:xfrm>
            <a:off x="5029200" y="2362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I:\教学\大专教材\ch\10-1.tif"/>
          <p:cNvPicPr/>
          <p:nvPr/>
        </p:nvPicPr>
        <p:blipFill>
          <a:blip r:embed="rId1"/>
          <a:stretch/>
        </p:blipFill>
        <p:spPr>
          <a:xfrm>
            <a:off x="684360" y="614520"/>
            <a:ext cx="7827840" cy="61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1332000" y="2276640"/>
            <a:ext cx="705636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感染阶段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前鞭毛体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致病阶段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无鞭毛体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感染途径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白蛉叮咬  </a:t>
            </a:r>
            <a:r>
              <a:rPr b="1" lang="zh-CN" sz="2000" spc="-1" strike="noStrike">
                <a:solidFill>
                  <a:srgbClr val="000000"/>
                </a:solidFill>
                <a:latin typeface="Perpetua"/>
              </a:rPr>
              <a:t>也可经输血感染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寄生部位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单核巨噬细胞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826920" y="981000"/>
            <a:ext cx="236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38086"/>
                </a:solidFill>
                <a:latin typeface="Perpetua"/>
              </a:rPr>
              <a:t>要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755640" y="54936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38086"/>
                </a:solidFill>
                <a:latin typeface="Perpetua"/>
              </a:rPr>
              <a:t>三</a:t>
            </a:r>
            <a:r>
              <a:rPr b="1" lang="zh-CN" sz="2800" spc="-1" strike="noStrike">
                <a:solidFill>
                  <a:srgbClr val="67afbd"/>
                </a:solidFill>
                <a:latin typeface="Arial"/>
              </a:rPr>
              <a:t>、</a:t>
            </a:r>
            <a:r>
              <a:rPr b="1" lang="en-US" sz="4400" spc="-1" strike="noStrike">
                <a:solidFill>
                  <a:srgbClr val="438086"/>
                </a:solidFill>
                <a:latin typeface="Perpetua"/>
              </a:rPr>
              <a:t> </a:t>
            </a:r>
            <a:r>
              <a:rPr b="1" lang="zh-CN" sz="4400" spc="-1" strike="noStrike">
                <a:solidFill>
                  <a:srgbClr val="438086"/>
                </a:solidFill>
                <a:latin typeface="Perpetua"/>
              </a:rPr>
              <a:t>致病</a:t>
            </a:r>
            <a:r>
              <a:rPr b="1" lang="en-US" sz="4400" spc="-1" strike="noStrike">
                <a:solidFill>
                  <a:srgbClr val="438086"/>
                </a:solidFill>
                <a:latin typeface="Perpetu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826920" y="1557360"/>
            <a:ext cx="755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致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4"/>
          <p:cNvGrpSpPr/>
          <p:nvPr/>
        </p:nvGrpSpPr>
        <p:grpSpPr>
          <a:xfrm>
            <a:off x="2916360" y="2205000"/>
            <a:ext cx="3047760" cy="3431160"/>
            <a:chOff x="2916360" y="2205000"/>
            <a:chExt cx="3047760" cy="3431160"/>
          </a:xfrm>
        </p:grpSpPr>
        <p:sp>
          <p:nvSpPr>
            <p:cNvPr id="273" name="Text Box 5"/>
            <p:cNvSpPr/>
            <p:nvPr/>
          </p:nvSpPr>
          <p:spPr>
            <a:xfrm>
              <a:off x="3068640" y="2205000"/>
              <a:ext cx="2584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无鞭毛体寄生于单核巨噬细胞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6"/>
            <p:cNvSpPr/>
            <p:nvPr/>
          </p:nvSpPr>
          <p:spPr>
            <a:xfrm>
              <a:off x="3678120" y="35002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引起破坏、增生病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7"/>
            <p:cNvSpPr/>
            <p:nvPr/>
          </p:nvSpPr>
          <p:spPr>
            <a:xfrm>
              <a:off x="2916360" y="517644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主要病变器官：脾、肝、骨髓、淋巴结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8"/>
            <p:cNvSpPr/>
            <p:nvPr/>
          </p:nvSpPr>
          <p:spPr>
            <a:xfrm>
              <a:off x="4363920" y="3043080"/>
              <a:ext cx="0" cy="45684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9"/>
            <p:cNvSpPr/>
            <p:nvPr/>
          </p:nvSpPr>
          <p:spPr>
            <a:xfrm>
              <a:off x="4363920" y="4262040"/>
              <a:ext cx="0" cy="91404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3T00:42:54Z</dcterms:created>
  <dc:creator>鱼艳荣</dc:creator>
  <dc:description/>
  <dc:language>en-US</dc:language>
  <cp:lastModifiedBy>hzg</cp:lastModifiedBy>
  <dcterms:modified xsi:type="dcterms:W3CDTF">2015-10-05T12:13:51Z</dcterms:modified>
  <cp:revision>75</cp:revision>
  <dc:subject/>
  <dc:title>Leishmania donovani</dc:title>
</cp:coreProperties>
</file>