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dt" idx="3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move the slide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 type="ftr" idx="3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6"/>
          <p:cNvSpPr>
            <a:spLocks noGrp="1"/>
          </p:cNvSpPr>
          <p:nvPr>
            <p:ph type="sldNum" idx="3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2937D-C857-41B1-9202-DBC097AE5036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A939B-C716-4F61-86D1-5121382A625D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41A91-68F3-4249-A289-3CA67DDA2027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91518-35D4-4A8E-84EE-CB15FB303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6D522-9BDA-424D-9FE8-7D199E388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6051C2-9140-40C6-8593-421BA4BD2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402E0F-5E2F-4546-99EE-4FD0778C9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D58D2A-3341-4864-8CF6-6366D7059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061D47-08E1-442B-AFBD-23BB703A3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D1873E-7761-4844-A0E1-08700BCFA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75FB5B-5ED1-46A1-B53F-C2ADD6AD0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7B8308-ADCD-498E-8447-588293D9C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4A3D49-2838-4DB8-88E9-32E6AD921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8CCF70-BD99-4A13-B088-532680FD8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F8BFFD-C412-46AE-BE7D-233A2D94E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5D804-18E1-4ED6-8D30-A7438077E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4B58D9-AEC1-4478-B06E-ADFCAF604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0F7E17-3C7B-4021-9E78-2AE85C2E7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B5F3B7-55FD-4412-95E5-4E0951298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43C26B-DBA5-455D-B29F-B424FE35B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E61341-BA36-43E8-88CC-19353F85B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9FF90B-77DB-4BCD-A3DF-A587FF29D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931A87-F2C3-470C-BE62-6575B7106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5F0A9B-B2D7-46F6-BBDC-2CDF0E14C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C2ABEB-7DB1-4445-8C95-0B2127F08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7B55AA-0E11-4A7C-8E68-608218667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CC2C2-6B0F-4DD4-8951-00152D866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5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6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12786E-EC12-4F98-8BDD-B1E89AED0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FC3D0F-42E6-4E63-83BF-B939CA420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6B4CC6-0E9A-48D4-B6CB-D1DC734C5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04338F-8E8E-4021-BA44-7544DE7C6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0F530D-E5F6-4303-A15A-4FAD81033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D81F59-6FB4-4457-83FA-682E88DC4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7A4205-D602-4D49-896D-C985FFF62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098338-6BAC-49E2-92D5-1CC2DF3D5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BA882D-326E-4B71-953A-EC2DD1263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82FC64-C1DB-4FCC-A3B8-8C36CB2C7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8B368-746E-4C06-BEF6-16DB3A6CE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E6C2D8-CE2A-4958-A5B7-D6A391B45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EDA9E0-CED8-466D-875F-7AA6390EB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9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80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E45757-3371-47BE-ACFE-AFAAFAD45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C2522-1BF6-4A89-AFBE-20750996F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B520C-AD3B-4EF9-B48F-3FD991B24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5542F-C7B7-4A2D-9702-BD7AD3ED9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7A4C9-B841-4C55-BCF6-115670985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E8A35-96D0-433C-9920-3BEA9633E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EFEBE-6AAA-45FB-856A-2244F3855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AB21E-720E-475C-96F2-37EF2FD0D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C102E-9D67-4F41-8C41-2B6936C93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3E2F2-4403-4F6B-A721-E40487EEB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07CFE-E9B3-4545-96D9-A78C12C2A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1B3E2-3F2E-4B50-B615-E6EDDA305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62998-083A-4745-B2D1-BED2AFD17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92F0D5-94A9-4FCE-B49E-56A88800A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F5011C-678C-4C6B-BE95-FB0A97969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36ACFE-66F2-4DCA-BDA6-13AEE9EE1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7D25C6-4A7E-4F97-A083-2D5B524FB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F6F7B6-D64B-4B36-8782-5566B86A5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9D3B8-8FB6-438D-8188-9F1B363DC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FCEA83-EA84-467B-A069-1AFDBFC31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38768C-DC12-45A6-A075-A3673875A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9F6DE3-14AE-4B00-BB06-34DC0CA29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6A8256-3DC9-4670-9F9F-5FC02FF48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C038B5-C305-481E-9BA4-B921E0401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058844-D08C-4569-A41D-4FE904478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C2E56E-F8BE-42F3-93E5-2F1507B19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377C7F-439E-4509-8C1D-724F14ECF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151DA8-922A-4FBC-AF9C-F044C016A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B16A80-469E-4EB1-822E-826301F44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53D44-18D2-4F07-ACE5-21A4337F4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A9FE38-6A30-4346-BFF5-681A83809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90AE98-5E6B-4BE1-98A4-925272962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2298CC-A95B-4DEE-BC4C-0FE33BF02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7A46B8-B14C-45EA-9772-251D8C881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8E9169-6A8C-46C8-96CD-58F476C69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426A50-92C9-4207-BCAD-1C72A093F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748329-C1DD-4D8D-968D-104F970AA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00988E-B5D8-4D92-B83C-4E6CDF2A1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E3139A-29C2-4169-8E0D-DFC8C0CE9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BE1FFB-38B7-4C01-9D43-8D54FE9B8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CD171-9427-4C8C-8524-2E512671E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BD2870-A4F6-44AE-A4E6-8D7B05673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520495-53DF-40DA-A4FE-406353012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374DFF-E4F8-41F4-8892-C611F1305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C17A0B-E2DD-4937-A3EB-BE235A567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04559A-533B-472D-AA38-1648F1877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9E1722-8951-482A-B8BA-947FFE070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1CEF1A-35C8-486F-8947-CA437BC03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D4F235-DF27-4CEC-A0D9-24E9D6E23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85E168-1D26-401C-8793-66339A397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CE0D14-3624-434B-9469-A3020AC9F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DA43B-FE6A-4674-98ED-A71ECBE8B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8993C7-5139-45DA-8723-D9DEB29A5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7B492F-395B-405A-8FB6-579F752E8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229D9A-3F01-4327-ADDE-E84F13025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7C06A4-568E-491F-A047-6499D268C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198666-D993-4685-97A7-5BF4D0EF9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11A35D-4797-4632-A8EF-03D419D18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6C1256-79BB-42BC-B618-FFEF04C8A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29727A-8E4E-4201-AD56-978277F89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83157E-8B5F-4878-9B5F-E4E19551A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4DCA54-4DB5-4181-943D-8D7EC1C66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78171-54C1-492F-B522-B28C0F9EC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1B5599-FFDA-4A6D-8BB4-B98EEACE4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B97EEC-DD20-4E91-BA40-E3DEA6AE0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662D62-400E-4452-92A8-94339D3B4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3750CD-016A-4174-AA75-61ABAD001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96EC07-E692-48BA-8888-CAB653717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0878AD-F2A0-4D1D-985C-D426A1391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DC189C-7389-49BE-A19F-851709A11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1DD62B-DD5C-49FD-8D90-48E061F67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77309A-A4AD-4297-8DBE-DBA4E7881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20165F-B698-4817-851C-20713457A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A3F06-A790-43FE-9F7B-798BF2544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2B41F7-CA5D-4F25-A767-CE621F6AE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2E5450-B7DD-4E33-8DB0-A4C322408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7BC168-E584-49DE-87F1-D0A492C02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EDF3F7-D8A0-4C5B-BAD6-06BBE310E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37C3C3-DB97-4F6A-9C5A-80F832E56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645B1A-B3DD-45DA-8B37-A6ECC5E79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66A94F-0829-4E42-A4E2-1861ACBCF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D3A8E7-BD74-4929-960E-B30C0237C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021390-7DF6-4CE2-A1EA-9A9288992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8FE84C-AA1D-4357-924E-B2CD87925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858B3-3815-443F-8BF2-2EAB914ED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2460D4-09EB-4722-9277-D4F92F296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3DF7EE-B3F4-4408-A875-A2CE4DA76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1939C8-32B6-489A-93FA-1EC5545EB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9063C5-CA66-471A-8323-6287E8883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CEC7FB-709D-4000-BA4D-E15E4CB16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80B0B6-E852-4B70-82AD-5EECCE1A0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4FFDBC-4D90-40D4-AFFC-E9C876CD2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8D5639-4258-4239-9CF5-52B70708C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E803EC-21A0-450E-B7A4-8A969F0BF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AFFC23-2BB2-42D7-8771-2B6E888A1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A1076-D0A7-4CCF-AE97-C9AC1B1D8C64}" type="slidenum"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5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 type="dt" idx="28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 type="ftr" idx="29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 type="sldNum" idx="30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C3A98-837E-438E-8944-06F4AECD01DF}" type="slidenum"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8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9" name="矩形 8"/>
          <p:cNvSpPr/>
          <p:nvPr/>
        </p:nvSpPr>
        <p:spPr>
          <a:xfrm>
            <a:off x="457200" y="1411200"/>
            <a:ext cx="8229600" cy="17640"/>
          </a:xfrm>
          <a:prstGeom prst="rect">
            <a:avLst/>
          </a:prstGeom>
          <a:gradFill rotWithShape="0">
            <a:gsLst>
              <a:gs pos="0">
                <a:srgbClr val="dcd9cc">
                  <a:alpha val="50196"/>
                </a:srgbClr>
              </a:gs>
              <a:gs pos="100000">
                <a:srgbClr val="dcd9cc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 type="dt" idx="31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 type="ftr" idx="32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 type="sldNum" idx="33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B378F-2CA5-419B-AA9E-A0B64FE45B90}" type="slidenum"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" name="矩形 8"/>
          <p:cNvSpPr/>
          <p:nvPr/>
        </p:nvSpPr>
        <p:spPr>
          <a:xfrm>
            <a:off x="685800" y="3197160"/>
            <a:ext cx="7772400" cy="17640"/>
          </a:xfrm>
          <a:prstGeom prst="rect">
            <a:avLst/>
          </a:prstGeom>
          <a:gradFill rotWithShape="0">
            <a:gsLst>
              <a:gs pos="0">
                <a:srgbClr val="dcd9cc">
                  <a:alpha val="50196"/>
                </a:srgbClr>
              </a:gs>
              <a:gs pos="100000">
                <a:srgbClr val="dcd9cc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A0BB3-0C7A-43F9-85D6-A03FAF0B9C44}" type="slidenum"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8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9" name="矩形 8"/>
          <p:cNvSpPr/>
          <p:nvPr/>
        </p:nvSpPr>
        <p:spPr>
          <a:xfrm>
            <a:off x="457200" y="1411200"/>
            <a:ext cx="8229600" cy="17640"/>
          </a:xfrm>
          <a:prstGeom prst="rect">
            <a:avLst/>
          </a:prstGeom>
          <a:gradFill rotWithShape="0">
            <a:gsLst>
              <a:gs pos="0">
                <a:srgbClr val="dcd9cc">
                  <a:alpha val="50196"/>
                </a:srgbClr>
              </a:gs>
              <a:gs pos="100000">
                <a:srgbClr val="dcd9cc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7308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5330880" y="6400440"/>
            <a:ext cx="373392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D4461-794C-41B4-8B59-75E50AE54C2B}" type="slidenum"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2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3" name="矩形 8"/>
          <p:cNvSpPr/>
          <p:nvPr/>
        </p:nvSpPr>
        <p:spPr>
          <a:xfrm>
            <a:off x="685800" y="3143160"/>
            <a:ext cx="7772400" cy="17640"/>
          </a:xfrm>
          <a:prstGeom prst="rect">
            <a:avLst/>
          </a:prstGeom>
          <a:gradFill rotWithShape="0">
            <a:gsLst>
              <a:gs pos="0">
                <a:srgbClr val="dcd9cc">
                  <a:alpha val="50196"/>
                </a:srgbClr>
              </a:gs>
              <a:gs pos="100000">
                <a:srgbClr val="dcd9cc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31056-2BE6-4DB4-A577-5A800C99175D}" type="slidenum"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6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7" name="矩形 8"/>
          <p:cNvSpPr/>
          <p:nvPr/>
        </p:nvSpPr>
        <p:spPr>
          <a:xfrm>
            <a:off x="457200" y="1411200"/>
            <a:ext cx="8229600" cy="17640"/>
          </a:xfrm>
          <a:prstGeom prst="rect">
            <a:avLst/>
          </a:prstGeom>
          <a:gradFill rotWithShape="0">
            <a:gsLst>
              <a:gs pos="0">
                <a:srgbClr val="dcd9cc">
                  <a:alpha val="50196"/>
                </a:srgbClr>
              </a:gs>
              <a:gs pos="100000">
                <a:srgbClr val="dcd9cc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B9301-18EC-408E-9355-3AC4E7018D17}" type="slidenum"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0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1" name="矩形 8"/>
          <p:cNvSpPr/>
          <p:nvPr/>
        </p:nvSpPr>
        <p:spPr>
          <a:xfrm>
            <a:off x="457200" y="1411200"/>
            <a:ext cx="8229600" cy="17640"/>
          </a:xfrm>
          <a:prstGeom prst="rect">
            <a:avLst/>
          </a:prstGeom>
          <a:gradFill rotWithShape="0">
            <a:gsLst>
              <a:gs pos="0">
                <a:srgbClr val="dcd9cc">
                  <a:alpha val="50196"/>
                </a:srgbClr>
              </a:gs>
              <a:gs pos="100000">
                <a:srgbClr val="dcd9cc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6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7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8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998B0-9580-4EF1-AAF4-F6E6C0A6D224}" type="slidenum"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4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5" name="矩形 8"/>
          <p:cNvSpPr/>
          <p:nvPr/>
        </p:nvSpPr>
        <p:spPr>
          <a:xfrm>
            <a:off x="457200" y="1411200"/>
            <a:ext cx="8229600" cy="17640"/>
          </a:xfrm>
          <a:prstGeom prst="rect">
            <a:avLst/>
          </a:prstGeom>
          <a:gradFill rotWithShape="0">
            <a:gsLst>
              <a:gs pos="0">
                <a:srgbClr val="dcd9cc">
                  <a:alpha val="50196"/>
                </a:srgbClr>
              </a:gs>
              <a:gs pos="100000">
                <a:srgbClr val="dcd9cc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 type="dt" idx="19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 type="ftr" idx="20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 type="sldNum" idx="21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7A47D-45E5-4A0F-A057-6DAA79A7345A}" type="slidenum"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8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24656-2F38-4141-B231-7C516260F68B}" type="slidenum"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1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2" name="矩形 8"/>
          <p:cNvSpPr/>
          <p:nvPr/>
        </p:nvSpPr>
        <p:spPr>
          <a:xfrm>
            <a:off x="2786040" y="1054080"/>
            <a:ext cx="5904000" cy="17640"/>
          </a:xfrm>
          <a:prstGeom prst="rect">
            <a:avLst/>
          </a:prstGeom>
          <a:gradFill rotWithShape="0">
            <a:gsLst>
              <a:gs pos="0">
                <a:srgbClr val="dcd9cc">
                  <a:alpha val="50196"/>
                </a:srgbClr>
              </a:gs>
              <a:gs pos="100000">
                <a:srgbClr val="dcd9cc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ftr" idx="26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sldNum" idx="27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D7CF1-0D85-4574-8509-8206EC198D01}" type="slidenum"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4000" y="2852640"/>
            <a:ext cx="7848360" cy="139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6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cc"/>
                </a:solidFill>
                <a:latin typeface="宋体"/>
                <a:ea typeface="宋体"/>
              </a:rPr>
              <a:t>第十章 纤毛虫</a:t>
            </a:r>
            <a:br>
              <a:rPr sz="4800"/>
            </a:br>
            <a:r>
              <a:rPr b="1" lang="en-US" sz="4800" spc="-1" strike="noStrike">
                <a:solidFill>
                  <a:srgbClr val="0000cc"/>
                </a:solidFill>
                <a:latin typeface="宋体"/>
                <a:ea typeface="宋体"/>
              </a:rPr>
              <a:t>Ciliate</a:t>
            </a:r>
            <a:br>
              <a:rPr sz="4800"/>
            </a:br>
            <a:br>
              <a:rPr sz="4800"/>
            </a:br>
            <a:r>
              <a:rPr b="1" lang="zh-CN" sz="4800" spc="-1" strike="noStrike">
                <a:solidFill>
                  <a:srgbClr val="0000cc"/>
                </a:solidFill>
                <a:latin typeface="宋体"/>
                <a:ea typeface="宋体"/>
              </a:rPr>
              <a:t>结肠小袋纤毛虫</a:t>
            </a:r>
            <a:br>
              <a:rPr sz="4800"/>
            </a:br>
            <a:r>
              <a:rPr b="1" i="1" lang="en-US" sz="4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Balantidium coli</a:t>
            </a:r>
            <a:endParaRPr b="0" lang="en-US" sz="48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1403280" y="5300640"/>
            <a:ext cx="6400800" cy="7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贾默稚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0" name="图片 5" descr=""/>
          <p:cNvPicPr/>
          <p:nvPr/>
        </p:nvPicPr>
        <p:blipFill>
          <a:blip r:embed="rId2"/>
          <a:stretch/>
        </p:blipFill>
        <p:spPr>
          <a:xfrm>
            <a:off x="1835280" y="3976560"/>
            <a:ext cx="3201840" cy="2881440"/>
          </a:xfrm>
          <a:prstGeom prst="rect">
            <a:avLst/>
          </a:prstGeom>
          <a:ln w="0">
            <a:noFill/>
          </a:ln>
        </p:spPr>
      </p:pic>
      <p:pic>
        <p:nvPicPr>
          <p:cNvPr id="491" name="图片 4" descr=""/>
          <p:cNvPicPr/>
          <p:nvPr/>
        </p:nvPicPr>
        <p:blipFill>
          <a:blip r:embed="rId3"/>
          <a:stretch/>
        </p:blipFill>
        <p:spPr>
          <a:xfrm>
            <a:off x="5867280" y="2781360"/>
            <a:ext cx="3043440" cy="3024000"/>
          </a:xfrm>
          <a:prstGeom prst="rect">
            <a:avLst/>
          </a:prstGeom>
          <a:ln w="0">
            <a:noFill/>
          </a:ln>
        </p:spPr>
      </p:pic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34596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一、形态</a:t>
            </a:r>
            <a:endParaRPr b="0" lang="en-US" sz="32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468360" y="12682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滋养体：椭圆形，无色透明或淡灰绿色，全身披有纤毛。有胞口、胞肛结构。虫体中、后部各有一伸缩泡。染色标本可见大、小核各一个。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94" name="矩形 2"/>
          <p:cNvSpPr/>
          <p:nvPr/>
        </p:nvSpPr>
        <p:spPr>
          <a:xfrm>
            <a:off x="324000" y="3068640"/>
            <a:ext cx="79930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包囊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球形或近球形，淡黄或淡绿色，囊壁厚，染色后可见明显的大核。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2" dur="10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内容占位符 2" descr=""/>
          <p:cNvPicPr/>
          <p:nvPr/>
        </p:nvPicPr>
        <p:blipFill>
          <a:blip r:embed="rId2"/>
          <a:stretch/>
        </p:blipFill>
        <p:spPr>
          <a:xfrm>
            <a:off x="1990800" y="1262160"/>
            <a:ext cx="5533920" cy="5024520"/>
          </a:xfrm>
          <a:prstGeom prst="rect">
            <a:avLst/>
          </a:prstGeom>
          <a:ln w="0">
            <a:noFill/>
          </a:ln>
        </p:spPr>
      </p:pic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二、生活史</a:t>
            </a:r>
            <a:r>
              <a:rPr b="1" lang="zh-CN" sz="3200" spc="-1" strike="noStrike">
                <a:solidFill>
                  <a:srgbClr val="2f2f2f"/>
                </a:solidFill>
                <a:latin typeface="宋体"/>
                <a:ea typeface="宋体"/>
              </a:rPr>
              <a:t> </a:t>
            </a:r>
            <a:endParaRPr b="0" lang="en-US" sz="3200" spc="-1" strike="noStrike">
              <a:solidFill>
                <a:srgbClr val="2f2f2f"/>
              </a:solidFill>
              <a:latin typeface="Franklin Gothic Medium"/>
            </a:endParaRPr>
          </a:p>
        </p:txBody>
      </p:sp>
      <p:grpSp>
        <p:nvGrpSpPr>
          <p:cNvPr id="497" name="组合 5"/>
          <p:cNvGrpSpPr/>
          <p:nvPr/>
        </p:nvGrpSpPr>
        <p:grpSpPr>
          <a:xfrm>
            <a:off x="2241720" y="1346040"/>
            <a:ext cx="5287680" cy="4365720"/>
            <a:chOff x="2241720" y="1346040"/>
            <a:chExt cx="5287680" cy="4365720"/>
          </a:xfrm>
        </p:grpSpPr>
        <p:sp>
          <p:nvSpPr>
            <p:cNvPr id="498" name="TextBox 3"/>
            <p:cNvSpPr/>
            <p:nvPr/>
          </p:nvSpPr>
          <p:spPr>
            <a:xfrm>
              <a:off x="3852000" y="3285000"/>
              <a:ext cx="108000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c00000"/>
                  </a:solidFill>
                  <a:latin typeface="宋体"/>
                </a:rPr>
                <a:t>人体内</a:t>
              </a: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499" name="TextBox 6"/>
            <p:cNvSpPr/>
            <p:nvPr/>
          </p:nvSpPr>
          <p:spPr>
            <a:xfrm>
              <a:off x="2241720" y="3295800"/>
              <a:ext cx="108000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cc"/>
                  </a:solidFill>
                  <a:latin typeface="宋体"/>
                </a:rPr>
                <a:t>外环境</a:t>
              </a: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500" name="TextBox 7"/>
            <p:cNvSpPr/>
            <p:nvPr/>
          </p:nvSpPr>
          <p:spPr>
            <a:xfrm>
              <a:off x="3973680" y="1699920"/>
              <a:ext cx="108000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脱囊</a:t>
              </a: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501" name="TextBox 8"/>
            <p:cNvSpPr/>
            <p:nvPr/>
          </p:nvSpPr>
          <p:spPr>
            <a:xfrm>
              <a:off x="6372000" y="2915280"/>
              <a:ext cx="1080000" cy="36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502" name="TextBox 9"/>
            <p:cNvSpPr/>
            <p:nvPr/>
          </p:nvSpPr>
          <p:spPr>
            <a:xfrm>
              <a:off x="6197760" y="4016160"/>
              <a:ext cx="1331640" cy="64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c00000"/>
                  </a:solidFill>
                  <a:latin typeface="宋体"/>
                </a:rPr>
                <a:t>结肠内</a:t>
              </a: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c00000"/>
                  </a:solidFill>
                  <a:latin typeface="宋体"/>
                </a:rPr>
                <a:t>定居</a:t>
              </a: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503" name="TextBox 10"/>
            <p:cNvSpPr/>
            <p:nvPr/>
          </p:nvSpPr>
          <p:spPr>
            <a:xfrm>
              <a:off x="2700000" y="1346040"/>
              <a:ext cx="144828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0000"/>
                  </a:solidFill>
                  <a:latin typeface="宋体"/>
                </a:rPr>
                <a:t>感染期包囊</a:t>
              </a: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504" name="矩形 4"/>
            <p:cNvSpPr/>
            <p:nvPr/>
          </p:nvSpPr>
          <p:spPr>
            <a:xfrm>
              <a:off x="3973680" y="5229360"/>
              <a:ext cx="669600" cy="360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505" name="矩形 12"/>
            <p:cNvSpPr/>
            <p:nvPr/>
          </p:nvSpPr>
          <p:spPr>
            <a:xfrm>
              <a:off x="2268360" y="5351400"/>
              <a:ext cx="669600" cy="360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"/>
          <p:cNvSpPr txBox="1"/>
          <p:nvPr/>
        </p:nvSpPr>
        <p:spPr>
          <a:xfrm>
            <a:off x="1187280" y="691920"/>
            <a:ext cx="7777440" cy="46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63320" indent="-46332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生活史过程：包囊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滋养体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包囊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463320" indent="-46332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寄生部位：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结肠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463320" indent="-46332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生殖方式：以二分裂为主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463320" indent="-46332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传染源：猪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463320" indent="-46332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5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感染阶段：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感染期包囊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463320" indent="-46332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6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感染方式：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经口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三、致病与诊断</a:t>
            </a:r>
            <a:r>
              <a:rPr b="1" lang="zh-CN" sz="3200" spc="-1" strike="noStrike">
                <a:solidFill>
                  <a:srgbClr val="2f2f2f"/>
                </a:solidFill>
                <a:latin typeface="宋体"/>
                <a:ea typeface="宋体"/>
              </a:rPr>
              <a:t> </a:t>
            </a:r>
            <a:endParaRPr b="0" lang="en-US" sz="32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457200" y="1599840"/>
            <a:ext cx="822960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ts val="41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致病：滋养体分泌透明质酸酶并借助机械运动侵入结肠黏膜及黏膜下层，引起溃疡（似溶组织内阿米巴痢疾）。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ts val="41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可能是一种机会致病原虫。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ts val="41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表现：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无症状型、急性型和慢性型。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ts val="41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无症状型：即初期潜伏型。在粪便中可找到虫体，但无相关症状。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矩形 2"/>
          <p:cNvSpPr/>
          <p:nvPr/>
        </p:nvSpPr>
        <p:spPr>
          <a:xfrm>
            <a:off x="468360" y="3429000"/>
            <a:ext cx="8280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1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诊断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直接涂片查滋养体，乙状结肠镜取黏膜组织活检。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10" name="矩形 3"/>
          <p:cNvSpPr/>
          <p:nvPr/>
        </p:nvSpPr>
        <p:spPr>
          <a:xfrm>
            <a:off x="382680" y="714240"/>
            <a:ext cx="8286480" cy="178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急性型：即痢疾型。发病突然，腹痛、腹泻、黏液血便；可有并发症，也可累及肠外组织。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慢性型：周期性腹泻，或腹泻、便秘交替，常排出黏液但无脓血。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四、流行与防治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流行</a:t>
            </a:r>
            <a:r>
              <a:rPr b="1" lang="zh-CN" sz="3200" spc="-1" strike="noStrike">
                <a:solidFill>
                  <a:srgbClr val="2f2f2f"/>
                </a:solidFill>
                <a:latin typeface="宋体"/>
                <a:ea typeface="宋体"/>
              </a:rPr>
              <a:t>  </a:t>
            </a:r>
            <a:endParaRPr b="0" lang="en-US" sz="32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755640" y="1196640"/>
            <a:ext cx="8229600" cy="36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8040" indent="-608040" algn="just">
              <a:lnSpc>
                <a:spcPts val="4198"/>
              </a:lnSpc>
              <a:spcBef>
                <a:spcPts val="1199"/>
              </a:spcBef>
              <a:buClr>
                <a:srgbClr val="2f2f2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世界性分布。在我国有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17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个省、自治区有散在病例报道。宿主广，已知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3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多种动物可感染此虫，猪为重要的传染源。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608040" indent="-608040" algn="just">
              <a:lnSpc>
                <a:spcPts val="4198"/>
              </a:lnSpc>
              <a:spcBef>
                <a:spcPts val="1199"/>
              </a:spcBef>
              <a:buClr>
                <a:srgbClr val="2f2f2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粪便污染及蝇的机械携带包嚢是重要的传播方式，主要是包嚢污染的食物和饮水经口感染。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608040" indent="-608040">
              <a:lnSpc>
                <a:spcPts val="41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防治原则同溶组织内阿米巴，注意个人和饮食卫生，加强猪粪便的管理，保护水源，用甲硝唑治疗。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608040" indent="-608040">
              <a:lnSpc>
                <a:spcPts val="41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26T13:12:27Z</dcterms:created>
  <dc:creator>shi</dc:creator>
  <dc:description/>
  <dc:language>en-US</dc:language>
  <cp:lastModifiedBy>hzg</cp:lastModifiedBy>
  <dcterms:modified xsi:type="dcterms:W3CDTF">2015-10-05T12:54:03Z</dcterms:modified>
  <cp:revision>27</cp:revision>
  <dc:subject/>
  <dc:title>结肠小袋纤毛虫 Balantidium coli</dc:title>
</cp:coreProperties>
</file>