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3F18-07CE-44C4-A724-2842060F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4444-F138-4D62-9089-A0B76533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D1FA-BD73-4542-9716-D2BD15A1F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A5A7-D215-4C57-8808-0305E402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76D0-7A71-4761-A4AB-C406E4A0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47DF-D4CA-4D91-A564-2658A4BE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9CE2-AECA-47BE-B7EB-EEA16B0E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7468-032E-4C8E-9F1E-49A91577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7745-D225-4609-A28A-3E330474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A316-A949-444A-B8B4-83EBA4A4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4A37-B20B-4234-8232-7FF29ACB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9766-B13D-43AB-82D4-45805603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25D6-16E8-45D1-BEF7-5B7DD81A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E5EF-13F0-4204-A376-22F0039B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7B0F-ABA0-4A02-94C1-36A6FA92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1B3B-A309-4FCB-B62A-51CBC459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A487-657A-4435-A5E0-3091237D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F0EA-CD1C-46EA-905C-81F00952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D446-BB6F-4123-8FB4-5BD32806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741A-0C68-42BA-8E6A-D97862A2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611F-13F6-483A-B445-81AB2A5E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ABC2-9B38-4DD9-84E7-937C390B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EE53-690E-405A-BCA3-4B4FD7DE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25C3-3E01-441B-B73C-D694391F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CFCF-C032-4452-B319-C6B0EB19AA2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00ED-3B03-4965-BD9A-416D273B2EB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217240" y="1557360"/>
            <a:ext cx="476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Times New Roman"/>
              </a:rPr>
              <a:t>第二篇 医学原生动物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Times New Roman"/>
              </a:rPr>
              <a:t>Medical Protozoa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r>
              <a:rPr b="1" lang="en-US" sz="3600" spc="-1" strike="noStrike">
                <a:solidFill>
                  <a:srgbClr val="006633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900000" y="270828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眼虫门，动基体纲                      杜氏利什曼原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副基体门，毛滴纲                      阴道毛滴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滴虫门，双滴纲                      蓝氏贾第鞭毛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611280" y="33336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Arial"/>
              </a:rPr>
              <a:t>原虫分类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生动物界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900000" y="177336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门，内阿米巴纲              溶组织内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纲                 棘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00000" y="4149720"/>
            <a:ext cx="707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孢子虫门，球虫纲                       疟原虫，刚地弓形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透色动物门，异叶足纲                福氏耐格里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873000" y="5157720"/>
            <a:ext cx="63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纤毛虫门，直口纲                              结肠小袋纤毛虫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963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                     </a:t>
            </a:r>
            <a:r>
              <a:rPr b="0" lang="zh-CN" sz="3600" spc="-1" strike="noStrike">
                <a:solidFill>
                  <a:srgbClr val="006633"/>
                </a:solidFill>
                <a:latin typeface="Arial"/>
                <a:ea typeface="黑体"/>
              </a:rPr>
              <a:t>第六章  医学原生动物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原生动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z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具有完整生理功能的</a:t>
            </a: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单细胞真核生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于人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腔、体液、组织或细胞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病性或非致病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虫称为</a:t>
            </a:r>
            <a:r>
              <a:rPr b="1" lang="zh-CN" sz="2800" spc="-1" strike="noStrike">
                <a:solidFill>
                  <a:srgbClr val="006633"/>
                </a:solidFill>
                <a:latin typeface="Times New Roman"/>
              </a:rPr>
              <a:t>医学原虫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l protozoa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95280" y="83664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692360" y="1700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、细胞质、细胞核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55640" y="2421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被在虫体表面，又称表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3141720"/>
            <a:ext cx="63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基质、细胞器、内含物组成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900000" y="386064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）基质</a:t>
            </a: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外质       内质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 运动细胞器 ：    伪足   鞭毛   纤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内含物：伸缩泡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62064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核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膜、核质、染色质、核仁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11280" y="24922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寄生在人体的原虫多为泡状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icul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3141720"/>
          <a:ext cx="7921440" cy="2519280"/>
        </p:xfrm>
        <a:graphic>
          <a:graphicData uri="http://schemas.openxmlformats.org/drawingml/2006/table">
            <a:tbl>
              <a:tblPr/>
              <a:tblGrid>
                <a:gridCol w="1087200"/>
                <a:gridCol w="3864240"/>
                <a:gridCol w="2970000"/>
              </a:tblGrid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泡状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sicular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质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mpact 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染色质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少，呈颗粒状，分布于核质和核膜内缘  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丰富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一个粒状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有一个以上的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67"/>
          <p:cNvSpPr/>
          <p:nvPr/>
        </p:nvSpPr>
        <p:spPr>
          <a:xfrm>
            <a:off x="395280" y="12682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内的染色质和核仁，是生存、繁殖的遗传物质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11280" y="476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理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4360" y="1268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运动　通过伪足的伸缩、鞭毛或纤毛的摆动而运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55640" y="2133720"/>
            <a:ext cx="7715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营养　通过表膜直接渗透、胞饮或吞噬摄取营养；有些原虫通过胞口摄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谢　复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内   分解葡萄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肠道内   糖酵解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3"/>
          <p:cNvGrpSpPr/>
          <p:nvPr/>
        </p:nvGrpSpPr>
        <p:grpSpPr>
          <a:xfrm>
            <a:off x="1000080" y="1143000"/>
            <a:ext cx="7740720" cy="3699720"/>
            <a:chOff x="1000080" y="1143000"/>
            <a:chExt cx="7740720" cy="3699720"/>
          </a:xfrm>
        </p:grpSpPr>
        <p:sp>
          <p:nvSpPr>
            <p:cNvPr id="101" name="Text Box 3"/>
            <p:cNvSpPr/>
            <p:nvPr/>
          </p:nvSpPr>
          <p:spPr>
            <a:xfrm>
              <a:off x="1000080" y="18619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无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1000080" y="39510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有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2641680" y="1143000"/>
              <a:ext cx="49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二分裂：利什曼原虫无鞭毛体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2641680" y="1822320"/>
              <a:ext cx="51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多分裂：疟原虫红内期裂体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641680" y="2417760"/>
              <a:ext cx="609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芽殖：弓形虫滋养体内二分裂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6" name="AutoShape 8"/>
            <p:cNvSpPr/>
            <p:nvPr/>
          </p:nvSpPr>
          <p:spPr>
            <a:xfrm>
              <a:off x="2355840" y="1312920"/>
              <a:ext cx="379440" cy="161424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1760 h 1614240"/>
                <a:gd name="textAreaBottom" fmla="*/ 1572480 h 16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441520" y="3662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配子生殖：疟原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2441520" y="4383000"/>
              <a:ext cx="40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结合生殖：结肠小袋纤毛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9" name="AutoShape 11"/>
            <p:cNvSpPr/>
            <p:nvPr/>
          </p:nvSpPr>
          <p:spPr>
            <a:xfrm>
              <a:off x="2355840" y="3778200"/>
              <a:ext cx="93600" cy="934920"/>
            </a:xfrm>
            <a:custGeom>
              <a:avLst/>
              <a:gdLst>
                <a:gd name="textAreaLeft" fmla="*/ 59760 w 93600"/>
                <a:gd name="textAreaRight" fmla="*/ 93960 w 9360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10" name="Rectangle 12"/>
          <p:cNvSpPr/>
          <p:nvPr/>
        </p:nvSpPr>
        <p:spPr>
          <a:xfrm>
            <a:off x="1142280" y="42876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生殖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928800" y="5072040"/>
            <a:ext cx="77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世代交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on of generation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生活史中存在有性和无性两种交替的增殖方式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疟原虫和弓形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11280" y="1268280"/>
            <a:ext cx="806436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ophozoi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活动、摄食、生殖阶段     致病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卵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o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静止期      传播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际传播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活史只需要一个宿主，通过接触或传播媒介的机械携带在人与人之间传播。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阴道毛滴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4360" y="40464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三、 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与动物间</a:t>
            </a: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传播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生活史需要一种以上的脊椎动物，分别作为其终宿主和中间宿主，感染阶段可在二者之间传播，主要经口感染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：刚地弓形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虫媒传播型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中原虫需在吸血昆虫体内发育、进行有性或无性生殖。寄生原虫通过媒介昆虫叮咬而传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蚊传播疟原虫。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26"/>
          <p:cNvSpPr/>
          <p:nvPr/>
        </p:nvSpPr>
        <p:spPr>
          <a:xfrm>
            <a:off x="61128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四、 致病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Rectangle 1027"/>
          <p:cNvSpPr/>
          <p:nvPr/>
        </p:nvSpPr>
        <p:spPr>
          <a:xfrm>
            <a:off x="971640" y="278136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增殖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疟原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播散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机会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刚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弓形虫，隐孢子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755640" y="1341360"/>
            <a:ext cx="7110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原虫的种株、毒力、数量、寄生部位、其他致病因素以及宿主免疫状态有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09:45:15Z</dcterms:modified>
  <cp:revision>401</cp:revision>
  <dc:subject/>
  <dc:title>PowerPoint Presentation</dc:title>
</cp:coreProperties>
</file>