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dt" idx="3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move the slide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 type="ftr" idx="3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6"/>
          <p:cNvSpPr>
            <a:spLocks noGrp="1"/>
          </p:cNvSpPr>
          <p:nvPr>
            <p:ph type="sldNum" idx="3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654AA-7DD7-486A-BAAC-BE6D39A9F8DB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CBB95-7B8B-4D8E-BE0B-38D6C3F66DD6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F0BDE-0BDB-42D3-BFB0-31FC8897F6AC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FB67A-5EB8-41D8-8DDB-C71A7E586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D596-BB52-48EA-9EF6-3925A221E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D8D8EC-67BC-4EAC-9DA3-014607A20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3F20B1-A35A-4E69-834D-9F09F6CC6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E3C2D3-2C35-4966-BC0B-D77F62038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6D718F-B960-4951-8EA5-842F6A794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225862-3454-4878-BC9A-4D96D7656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3D258C-E35C-425C-9705-5DD6B9C01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4570E6-75B8-4473-BFAA-218A86BFF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DE6621-457C-4030-B92E-A8F9F5222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3FB920-A5B8-47C5-9EF7-6049A4363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FC71C6-D519-474D-872E-CC5766D70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9122-F37E-4CE0-A70C-E36C20303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65D7FF-30CB-4553-AA2C-06123AFCB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B84AFA-E462-4895-B9C7-6F3CA1710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F6CE71-305C-42FE-A95E-2CA550610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A10A36-FF1B-4AD7-8246-3958BA05F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21E363-92B4-4F68-B49A-2EC2BEA47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52E4DD-0ED1-4484-866A-A00785F39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74D561-B995-484A-9149-2317893FC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65FA8F-39E4-46AA-BA26-B2DA87E62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1D572C-B78E-4206-BE06-4F97E7285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1B41A3-ED08-45AA-8AF5-77A2F06AF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1AC2-A66E-464C-A8E7-9067E94DB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113DCB-2B1F-4D09-8453-E76B296E1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27D120-93F8-4080-BB73-42F384CAD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5780FD-7709-4E1D-B612-7866B9BA1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8BD76E-061A-405A-B05D-87F85A09E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215172-DBE2-4614-8CB3-087881FB2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6D3105-5A13-4DE8-AB88-859E362E9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F6EEBD-D953-434A-BD32-FC581C9D5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5497C3-7CB9-4FF2-8A6B-FD48CA42D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15B772-A53F-4390-B214-81C8088DF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FF3573-91DC-4C1D-9976-CDBE6A21D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0F142-5428-4D20-9F1B-3F34A0E05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94E219-0841-43D5-BE7C-D7613DA2D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6E8711-2926-485B-B95F-CF038FBC2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D3F50C-D9AB-4139-A74F-A64F0A538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AD943-A6FC-4790-BA39-EE64ADFE2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B2740-B3E9-4558-B673-8FFB3568C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8A57D-B586-4E63-A757-E9EF37FCF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38F41-F7F6-4353-A9F0-F7ECB0D09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C11B7-D13C-462B-A936-783B00E65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9FBB4-4404-4347-962B-8742B006A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C46E-C90F-434A-A65E-471AE3C79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12C05-2375-4451-869C-79EEB21F9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767FF-A404-4C4A-A974-8E523C485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5C7B8-4D1C-4B41-9890-DA47743BC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4E853-DDB1-40EC-B988-C74C37919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67469-0247-4850-A3DE-AE4A79715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79ABFB-24FE-4BDB-86E3-5B59085D1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BAA1A3-103B-450E-9EC3-30D274685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4EAA4D-D294-4075-A288-B2941075F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B243AB-5959-46C8-B619-630F4836D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943B12-55D5-4572-BCD6-F87DAF487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CD419-3ECD-47EC-B220-DFD01B473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13E180-EBF8-44D8-A718-AB67997AA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FB6917-22BE-47C1-9822-E70F09561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478798-0BEB-44DC-858C-A44265C69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DD5BA6-8CDF-462F-A033-5AC58EE20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D0DAB2-9D98-47F7-9A75-45595F9EC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E57548-D7C9-4CCA-A9DA-2C0980CB1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898E4A-7657-47D6-A039-C8C5642D9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05C52D-52F4-4D70-A1AE-41F69C36F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3F22DC-FE75-4E10-9321-F01248B13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6613A5-DC00-440A-8CD2-00080D1EE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0DFF-08BF-41EB-BDD2-6EDF1AB71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5EB1AE-F965-4A2D-996A-607E24CC9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EC7F25-0F7B-4316-96F4-CD46E8F05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EEF258-E961-448A-95C3-B7DF2AD23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828636-950A-49D4-A2E4-AE629D2D0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354B0F-E2EC-41D9-9187-699BB16D4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C2A1A9-3AC8-40CA-85F9-ACD8078E5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11D6BB-1426-4456-B61F-ADA1BD8E8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39D8FA-2C1A-4B75-BAD5-15CFB74DD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90869E-EC91-49C3-AE1C-EDCE1C3BC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B3AD73-56FE-4726-9B14-7D645299F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11E42-AEF3-43C3-84FA-CCCDF3DC3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0C1245-0968-4D7B-BC5E-C2828E5FB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B8EE23-038F-486E-9BF4-5B8209C22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8EBCE1-5054-41D0-B33F-58502084F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B6A7C7-C567-4027-A5A8-63D8FEC52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BAC00A-E86F-4C76-94E9-B8F9C774A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CCB3F3-2E9C-4C33-B783-533B7CC7B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9D010D-0B9A-452B-8E83-7E43D53F5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1BFBC5-E6C6-44E8-84D4-EFA3752BE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73B3B6-2F81-4DE5-9D49-A99CBA5B2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C420D3-AB9D-41BE-A336-68BCE4BA4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37F7D-792C-4F96-8622-5D74C3449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A1A25E-D825-4CE5-842A-0AAD983F4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231799-80C5-48E2-9EF6-A59321749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50BF9D-EFE7-4695-88AE-E874211A1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99D61A-83F0-4BC4-909D-EFCAB7C68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7C5EF0-FFB3-436E-BE56-8CEFE50E3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A339AE-52D2-4D9A-A198-524036196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F1141E-C952-4CDC-9CCB-3F809E47A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A7A27C-BAD8-48AA-9722-F3A5C450D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4D52BD-B7C0-4298-A494-1B4BB16AE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690BF3-AA1A-493D-A310-4824B3181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DB7E-0346-43F9-9CCE-35E3EFCFA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B0234A-2067-4F71-AB5D-2E6F43738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187B97-6DDE-438D-8B99-44CB11CD0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78E475-10DD-47CC-93F2-E691339FC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9DB0B3-839C-4480-86F7-03A108C1A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50FAA6-18AB-4D3B-A98E-086155233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1D3C15-2B6F-4DCC-9FEF-EF20282FB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F82B03-4655-4471-9505-7C7947704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713203-0582-4571-912B-002B16315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6AA2F3-3425-4D68-A17E-576597401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EED1BF-8FB2-4741-A1AF-457981CCA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F679F-4BB5-491E-B290-2B2D1AE07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564275-4D93-452E-9EF5-9CC975C1C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CAE094-C5CF-4A35-96E9-2CA351BD5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A79B51-9ADF-44D4-A457-ACA111F87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8B5E07-7A66-4484-8FE3-B19E1F5A8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17FD28-93CC-4467-A49D-B22D8FC9A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469316-BB72-43C2-AB8A-2E6E8CB73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36634A-BEDB-4DB3-B146-F1E24958E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6500F3-9198-4552-93A1-600F6E076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A69211-DB2C-4F9E-9B80-4614578E8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1E6F30-15A0-4E21-A970-17E9D78CC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F98E-0FD6-4F04-AAC4-7161116A8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262BBD-C056-422B-89BB-2E790269E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681EE1-93F5-437A-A7AA-6A786D9AC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E2DDDC-6D3C-4766-BB8F-1F407E35A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44FC11-C1D4-462C-950A-C675B2DE7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F49ED5-1AF5-4798-AA80-71689F112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657AAD-7F7A-4BB6-8C4B-67701FC09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4DD3FF-B0C0-477C-AC53-1AFD9D678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C90519-8BFB-4452-B386-228A12125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23628D-4F6C-45C5-B0C9-464E10245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4C8923-DAE8-4825-9DA6-B31F0C999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F793B-2176-46FC-98A5-1CB6EAF2B201}" type="slidenum"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5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 type="dt" idx="28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 type="ftr" idx="29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 type="sldNum" idx="30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15B1C-5FF3-4060-859D-5E89ECEE991D}" type="slidenum"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8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9" name="矩形 8"/>
          <p:cNvSpPr/>
          <p:nvPr/>
        </p:nvSpPr>
        <p:spPr>
          <a:xfrm>
            <a:off x="457200" y="1411200"/>
            <a:ext cx="82296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dt" idx="31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 type="ftr" idx="32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 type="sldNum" idx="33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5C296-D0FD-446E-9DFF-F97C2E3BB2C3}" type="slidenum"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" name="矩形 8"/>
          <p:cNvSpPr/>
          <p:nvPr/>
        </p:nvSpPr>
        <p:spPr>
          <a:xfrm>
            <a:off x="685800" y="3197160"/>
            <a:ext cx="77724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EBC65-627B-43F0-805F-C5F1B84E8ADF}" type="slidenum"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8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9" name="矩形 8"/>
          <p:cNvSpPr/>
          <p:nvPr/>
        </p:nvSpPr>
        <p:spPr>
          <a:xfrm>
            <a:off x="457200" y="1411200"/>
            <a:ext cx="82296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7308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5330880" y="6400440"/>
            <a:ext cx="373392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71C29-EFFB-41CD-8E4B-50998727DBEF}" type="slidenum"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2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3" name="矩形 8"/>
          <p:cNvSpPr/>
          <p:nvPr/>
        </p:nvSpPr>
        <p:spPr>
          <a:xfrm>
            <a:off x="685800" y="3143160"/>
            <a:ext cx="77724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5F86C-4D9E-4946-BA4F-19BC72795190}" type="slidenum"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6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7" name="矩形 8"/>
          <p:cNvSpPr/>
          <p:nvPr/>
        </p:nvSpPr>
        <p:spPr>
          <a:xfrm>
            <a:off x="457200" y="1411200"/>
            <a:ext cx="82296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11CBC-30B2-4AD9-977E-A6DC475DFE7B}" type="slidenum"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0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1" name="矩形 8"/>
          <p:cNvSpPr/>
          <p:nvPr/>
        </p:nvSpPr>
        <p:spPr>
          <a:xfrm>
            <a:off x="457200" y="1411200"/>
            <a:ext cx="82296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78117-C6F0-406A-83D6-681A72A1EA9B}" type="slidenum"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4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5" name="矩形 8"/>
          <p:cNvSpPr/>
          <p:nvPr/>
        </p:nvSpPr>
        <p:spPr>
          <a:xfrm>
            <a:off x="457200" y="1411200"/>
            <a:ext cx="82296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dt" idx="19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ftr" idx="20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 type="sldNum" idx="21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5EBDF-E09C-45B6-ABA7-4DF62D01A583}" type="slidenum"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8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0B675-2083-40AE-9224-53722BC255E0}" type="slidenum"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1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2" name="矩形 8"/>
          <p:cNvSpPr/>
          <p:nvPr/>
        </p:nvSpPr>
        <p:spPr>
          <a:xfrm>
            <a:off x="2786040" y="1054080"/>
            <a:ext cx="59040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ftr" idx="26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sldNum" idx="27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F3D7B-0D63-4832-B468-410D707EC866}" type="slidenum"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4000" y="2852640"/>
            <a:ext cx="7848360" cy="139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6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cc"/>
                </a:solidFill>
                <a:latin typeface="宋体"/>
                <a:ea typeface="宋体"/>
              </a:rPr>
              <a:t>第十章 纤毛虫</a:t>
            </a:r>
            <a:br>
              <a:rPr sz="4800"/>
            </a:br>
            <a:r>
              <a:rPr b="1" lang="en-US" sz="4800" spc="-1" strike="noStrike">
                <a:solidFill>
                  <a:srgbClr val="0000cc"/>
                </a:solidFill>
                <a:latin typeface="宋体"/>
                <a:ea typeface="宋体"/>
              </a:rPr>
              <a:t>Ciliate</a:t>
            </a:r>
            <a:br>
              <a:rPr sz="4800"/>
            </a:br>
            <a:br>
              <a:rPr sz="4800"/>
            </a:br>
            <a:r>
              <a:rPr b="1" lang="zh-CN" sz="4800" spc="-1" strike="noStrike">
                <a:solidFill>
                  <a:srgbClr val="0000cc"/>
                </a:solidFill>
                <a:latin typeface="宋体"/>
                <a:ea typeface="宋体"/>
              </a:rPr>
              <a:t>结肠小袋纤毛虫</a:t>
            </a:r>
            <a:br>
              <a:rPr sz="4800"/>
            </a:br>
            <a:r>
              <a:rPr b="1" i="1" lang="en-US" sz="4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Balantidium coli</a:t>
            </a:r>
            <a:endParaRPr b="0" lang="en-US" sz="48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1403280" y="5300640"/>
            <a:ext cx="6400800" cy="7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贾默稚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0" name="图片 5" descr=""/>
          <p:cNvPicPr/>
          <p:nvPr/>
        </p:nvPicPr>
        <p:blipFill>
          <a:blip r:embed="rId2"/>
          <a:stretch/>
        </p:blipFill>
        <p:spPr>
          <a:xfrm>
            <a:off x="1835280" y="3976560"/>
            <a:ext cx="3201840" cy="2881440"/>
          </a:xfrm>
          <a:prstGeom prst="rect">
            <a:avLst/>
          </a:prstGeom>
          <a:ln w="0">
            <a:noFill/>
          </a:ln>
        </p:spPr>
      </p:pic>
      <p:pic>
        <p:nvPicPr>
          <p:cNvPr id="491" name="图片 4" descr=""/>
          <p:cNvPicPr/>
          <p:nvPr/>
        </p:nvPicPr>
        <p:blipFill>
          <a:blip r:embed="rId3"/>
          <a:stretch/>
        </p:blipFill>
        <p:spPr>
          <a:xfrm>
            <a:off x="5867280" y="2781360"/>
            <a:ext cx="3043440" cy="3024000"/>
          </a:xfrm>
          <a:prstGeom prst="rect">
            <a:avLst/>
          </a:prstGeom>
          <a:ln w="0">
            <a:noFill/>
          </a:ln>
        </p:spPr>
      </p:pic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34596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、形态</a:t>
            </a:r>
            <a:endParaRPr b="0" lang="en-US" sz="32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468360" y="12682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滋养体：椭圆形，无色透明或淡灰绿色，全身披有纤毛。有胞口、胞肛结构。虫体中、后部各有一伸缩泡。染色标本可见大、小核各一个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94" name="矩形 2"/>
          <p:cNvSpPr/>
          <p:nvPr/>
        </p:nvSpPr>
        <p:spPr>
          <a:xfrm>
            <a:off x="324000" y="3068640"/>
            <a:ext cx="79930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包囊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球形或近球形，淡黄或淡绿色，囊壁厚，染色后可见明显的大核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2" dur="1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内容占位符 2" descr=""/>
          <p:cNvPicPr/>
          <p:nvPr/>
        </p:nvPicPr>
        <p:blipFill>
          <a:blip r:embed="rId2"/>
          <a:stretch/>
        </p:blipFill>
        <p:spPr>
          <a:xfrm>
            <a:off x="1990800" y="1262160"/>
            <a:ext cx="5533920" cy="5024520"/>
          </a:xfrm>
          <a:prstGeom prst="rect">
            <a:avLst/>
          </a:prstGeom>
          <a:ln w="0">
            <a:noFill/>
          </a:ln>
        </p:spPr>
      </p:pic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、生活史</a:t>
            </a:r>
            <a:r>
              <a:rPr b="1" lang="zh-CN" sz="3200" spc="-1" strike="noStrike">
                <a:solidFill>
                  <a:srgbClr val="2f2f2f"/>
                </a:solidFill>
                <a:latin typeface="宋体"/>
                <a:ea typeface="宋体"/>
              </a:rPr>
              <a:t> </a:t>
            </a:r>
            <a:endParaRPr b="0" lang="en-US" sz="3200" spc="-1" strike="noStrike">
              <a:solidFill>
                <a:srgbClr val="2f2f2f"/>
              </a:solidFill>
              <a:latin typeface="Franklin Gothic Medium"/>
            </a:endParaRPr>
          </a:p>
        </p:txBody>
      </p:sp>
      <p:grpSp>
        <p:nvGrpSpPr>
          <p:cNvPr id="497" name="组合 5"/>
          <p:cNvGrpSpPr/>
          <p:nvPr/>
        </p:nvGrpSpPr>
        <p:grpSpPr>
          <a:xfrm>
            <a:off x="2241720" y="1346040"/>
            <a:ext cx="5287680" cy="4365720"/>
            <a:chOff x="2241720" y="1346040"/>
            <a:chExt cx="5287680" cy="4365720"/>
          </a:xfrm>
        </p:grpSpPr>
        <p:sp>
          <p:nvSpPr>
            <p:cNvPr id="498" name="TextBox 3"/>
            <p:cNvSpPr/>
            <p:nvPr/>
          </p:nvSpPr>
          <p:spPr>
            <a:xfrm>
              <a:off x="3852000" y="3285000"/>
              <a:ext cx="10800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00000"/>
                  </a:solidFill>
                  <a:latin typeface="宋体"/>
                </a:rPr>
                <a:t>人体内</a:t>
              </a: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499" name="TextBox 6"/>
            <p:cNvSpPr/>
            <p:nvPr/>
          </p:nvSpPr>
          <p:spPr>
            <a:xfrm>
              <a:off x="2241720" y="3295800"/>
              <a:ext cx="10800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cc"/>
                  </a:solidFill>
                  <a:latin typeface="宋体"/>
                </a:rPr>
                <a:t>外环境</a:t>
              </a: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500" name="TextBox 7"/>
            <p:cNvSpPr/>
            <p:nvPr/>
          </p:nvSpPr>
          <p:spPr>
            <a:xfrm>
              <a:off x="3973680" y="1699920"/>
              <a:ext cx="10800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脱囊</a:t>
              </a: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501" name="TextBox 8"/>
            <p:cNvSpPr/>
            <p:nvPr/>
          </p:nvSpPr>
          <p:spPr>
            <a:xfrm>
              <a:off x="6372000" y="2915280"/>
              <a:ext cx="1080000" cy="36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502" name="TextBox 9"/>
            <p:cNvSpPr/>
            <p:nvPr/>
          </p:nvSpPr>
          <p:spPr>
            <a:xfrm>
              <a:off x="6197760" y="4016160"/>
              <a:ext cx="133164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00000"/>
                  </a:solidFill>
                  <a:latin typeface="宋体"/>
                </a:rPr>
                <a:t>结肠内</a:t>
              </a: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00000"/>
                  </a:solidFill>
                  <a:latin typeface="宋体"/>
                </a:rPr>
                <a:t>定居</a:t>
              </a: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503" name="TextBox 10"/>
            <p:cNvSpPr/>
            <p:nvPr/>
          </p:nvSpPr>
          <p:spPr>
            <a:xfrm>
              <a:off x="2700000" y="1346040"/>
              <a:ext cx="14482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0000"/>
                  </a:solidFill>
                  <a:latin typeface="宋体"/>
                </a:rPr>
                <a:t>感染期包囊</a:t>
              </a: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504" name="矩形 4"/>
            <p:cNvSpPr/>
            <p:nvPr/>
          </p:nvSpPr>
          <p:spPr>
            <a:xfrm>
              <a:off x="3973680" y="5229360"/>
              <a:ext cx="669600" cy="36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505" name="矩形 12"/>
            <p:cNvSpPr/>
            <p:nvPr/>
          </p:nvSpPr>
          <p:spPr>
            <a:xfrm>
              <a:off x="2268360" y="5351400"/>
              <a:ext cx="669600" cy="36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"/>
          <p:cNvSpPr txBox="1"/>
          <p:nvPr/>
        </p:nvSpPr>
        <p:spPr>
          <a:xfrm>
            <a:off x="1187280" y="691920"/>
            <a:ext cx="7777440" cy="46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63320" indent="-46332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生活史过程：包囊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滋养体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包囊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463320" indent="-46332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寄生部位：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结肠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463320" indent="-46332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生殖方式：以二分裂为主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463320" indent="-46332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传染源：猪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463320" indent="-46332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感染阶段：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感染期包囊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463320" indent="-46332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6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感染方式：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经口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三、致病与诊断</a:t>
            </a:r>
            <a:r>
              <a:rPr b="1" lang="zh-CN" sz="3200" spc="-1" strike="noStrike">
                <a:solidFill>
                  <a:srgbClr val="2f2f2f"/>
                </a:solidFill>
                <a:latin typeface="宋体"/>
                <a:ea typeface="宋体"/>
              </a:rPr>
              <a:t> </a:t>
            </a:r>
            <a:endParaRPr b="0" lang="en-US" sz="32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457200" y="1599840"/>
            <a:ext cx="822960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41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致病：滋养体分泌透明质酸酶并借助机械运动侵入结肠黏膜及黏膜下层，引起溃疡（似溶组织内阿米巴痢疾）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ts val="41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可能是一种机会致病原虫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ts val="41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表现：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无症状型、急性型和慢性型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ts val="41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无症状型：即初期潜伏型。在粪便中可找到虫体，但无相关症状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矩形 2"/>
          <p:cNvSpPr/>
          <p:nvPr/>
        </p:nvSpPr>
        <p:spPr>
          <a:xfrm>
            <a:off x="468360" y="3429000"/>
            <a:ext cx="8280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1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诊断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直接涂片查滋养体，乙状结肠镜取黏膜组织活检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10" name="矩形 3"/>
          <p:cNvSpPr/>
          <p:nvPr/>
        </p:nvSpPr>
        <p:spPr>
          <a:xfrm>
            <a:off x="382680" y="714240"/>
            <a:ext cx="8286480" cy="178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急性型：即痢疾型。发病突然，腹痛、腹泻、黏液血便；可有并发症，也可累及肠外组织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慢性型：周期性腹泻，或腹泻、便秘交替，常排出黏液但无脓血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四、流行与防治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流行</a:t>
            </a:r>
            <a:r>
              <a:rPr b="1" lang="zh-CN" sz="3200" spc="-1" strike="noStrike">
                <a:solidFill>
                  <a:srgbClr val="2f2f2f"/>
                </a:solidFill>
                <a:latin typeface="宋体"/>
                <a:ea typeface="宋体"/>
              </a:rPr>
              <a:t>  </a:t>
            </a:r>
            <a:endParaRPr b="0" lang="en-US" sz="32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755640" y="1196640"/>
            <a:ext cx="8229600" cy="36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8040" indent="-608040" algn="just">
              <a:lnSpc>
                <a:spcPts val="4198"/>
              </a:lnSpc>
              <a:spcBef>
                <a:spcPts val="1199"/>
              </a:spcBef>
              <a:buClr>
                <a:srgbClr val="2f2f2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世界性分布。在我国有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7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个省、自治区有散在病例报道。宿主广，已知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3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多种动物可感染此虫，猪为重要的传染源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608040" indent="-608040" algn="just">
              <a:lnSpc>
                <a:spcPts val="4198"/>
              </a:lnSpc>
              <a:spcBef>
                <a:spcPts val="1199"/>
              </a:spcBef>
              <a:buClr>
                <a:srgbClr val="2f2f2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粪便污染及蝇的机械携带包嚢是重要的传播方式，主要是包嚢污染的食物和饮水经口感染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608040" indent="-608040">
              <a:lnSpc>
                <a:spcPts val="41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防治原则同溶组织内阿米巴，注意个人和饮食卫生，加强猪粪便的管理，保护水源，用甲硝唑治疗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608040" indent="-608040">
              <a:lnSpc>
                <a:spcPts val="41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6T13:12:27Z</dcterms:created>
  <dc:creator>shi</dc:creator>
  <dc:description/>
  <dc:language>en-US</dc:language>
  <cp:lastModifiedBy>hzg</cp:lastModifiedBy>
  <dcterms:modified xsi:type="dcterms:W3CDTF">2015-10-05T12:54:03Z</dcterms:modified>
  <cp:revision>27</cp:revision>
  <dc:subject/>
  <dc:title>结肠小袋纤毛虫 Balantidium coli</dc:title>
</cp:coreProperties>
</file>