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5.png" ContentType="image/png"/>
  <Override PartName="/ppt/media/image9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628CA-9EB5-40AE-87B1-EC523AA7DAB3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87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7B4DD-FF5D-4567-AFDA-5D040322004B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90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F0A98-6D34-41FA-99A8-0892B9B48BE1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93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3A626-9458-42A0-9D26-EE39A7B9EE7A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96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9F1D9-D180-4BDB-8FBA-B3688B5171DC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99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6A379-928C-44A8-B20D-A81DB836DC4E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3F43B2-0FFF-42E6-B474-1F7C8BA89F7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5464B0-D4BB-485A-A4DB-68E514636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B81870-9163-41F9-BB87-1412B648B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E3CF2D-B58E-4E15-8769-ED5062AE29E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3D1F87-C761-4AD9-AA2E-92E9ED956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2962B8-D03E-4530-BF62-A95FC473C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64B016-DD26-48D3-89C2-A5AE1CC66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623B6C-EDBE-4118-B297-BEF64DC61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C388B8-D5FB-4DC6-A759-CA93AF229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90E2EB-267E-4276-8BCC-7723F7390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BF0E4-9F26-40E6-AF88-E74426D80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EA2F67-140A-41E9-B198-8B767A398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AECFB-C9E8-4369-98A9-8F3A8584E767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4000" y="2204640"/>
            <a:ext cx="5976720" cy="235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精神科护理的基本技能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57160" y="500040"/>
            <a:ext cx="7772400" cy="45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方法和技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-108000" y="2378160"/>
            <a:ext cx="3167280" cy="38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交谈开始时技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交谈过程中技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交谈结束时技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4" name="AutoShape 7"/>
          <p:cNvSpPr/>
          <p:nvPr/>
        </p:nvSpPr>
        <p:spPr>
          <a:xfrm>
            <a:off x="3564000" y="1773360"/>
            <a:ext cx="5065560" cy="4535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045" y="10865"/>
                </a:moveTo>
                <a:lnTo>
                  <a:pt x="-341" y="5950"/>
                </a:lnTo>
              </a:path>
              <a:path w="21600" h="21600">
                <a:moveTo>
                  <a:pt x="-341" y="0"/>
                </a:moveTo>
                <a:lnTo>
                  <a:pt x="-341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Rectangle 9"/>
          <p:cNvSpPr/>
          <p:nvPr/>
        </p:nvSpPr>
        <p:spPr>
          <a:xfrm>
            <a:off x="3564000" y="1268280"/>
            <a:ext cx="489744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3333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  <a:ea typeface="宋体"/>
              </a:rPr>
              <a:t>结束交谈可以为下一次交谈及建立治疗性护患关系打下基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3333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  <a:ea typeface="宋体"/>
              </a:rPr>
              <a:t>给予患者适当的安慰和鼓励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3333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  <a:ea typeface="宋体"/>
              </a:rPr>
              <a:t>简短的重复今天谈话的主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3333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  <a:ea typeface="宋体"/>
              </a:rPr>
              <a:t>交谈结束后，护士要诚恳的对患者表示感谢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970d24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332000" y="376200"/>
            <a:ext cx="7704000" cy="64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影响护患沟通的因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Line 3"/>
          <p:cNvSpPr/>
          <p:nvPr/>
        </p:nvSpPr>
        <p:spPr>
          <a:xfrm flipV="1">
            <a:off x="3500280" y="3979440"/>
            <a:ext cx="838440" cy="38124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Line 4"/>
          <p:cNvSpPr/>
          <p:nvPr/>
        </p:nvSpPr>
        <p:spPr>
          <a:xfrm>
            <a:off x="3487680" y="4491000"/>
            <a:ext cx="838080" cy="38088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Oval 5"/>
          <p:cNvSpPr/>
          <p:nvPr/>
        </p:nvSpPr>
        <p:spPr>
          <a:xfrm>
            <a:off x="1060560" y="1711440"/>
            <a:ext cx="2286000" cy="1066680"/>
          </a:xfrm>
          <a:prstGeom prst="ellipse">
            <a:avLst/>
          </a:prstGeom>
          <a:solidFill>
            <a:srgbClr val="00ff00"/>
          </a:solidFill>
          <a:ln cap="sq"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护士的因素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Oval 7"/>
          <p:cNvSpPr/>
          <p:nvPr/>
        </p:nvSpPr>
        <p:spPr>
          <a:xfrm>
            <a:off x="1079640" y="3759120"/>
            <a:ext cx="2286000" cy="1143000"/>
          </a:xfrm>
          <a:prstGeom prst="ellipse">
            <a:avLst/>
          </a:prstGeom>
          <a:solidFill>
            <a:srgbClr val="ccffcc"/>
          </a:solidFill>
          <a:ln cap="sq"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800000"/>
                </a:solidFill>
                <a:latin typeface="Arial"/>
                <a:ea typeface="宋体"/>
              </a:rPr>
              <a:t>患者的因素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Line 8"/>
          <p:cNvSpPr/>
          <p:nvPr/>
        </p:nvSpPr>
        <p:spPr>
          <a:xfrm flipV="1">
            <a:off x="3544920" y="1501920"/>
            <a:ext cx="838080" cy="30456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Rectangle 9"/>
          <p:cNvSpPr/>
          <p:nvPr/>
        </p:nvSpPr>
        <p:spPr>
          <a:xfrm>
            <a:off x="4560840" y="1081080"/>
            <a:ext cx="2819520" cy="430200"/>
          </a:xfrm>
          <a:prstGeom prst="rect">
            <a:avLst/>
          </a:prstGeom>
          <a:solidFill>
            <a:srgbClr val="00b050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没有做充分的准备工作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Line 10"/>
          <p:cNvSpPr/>
          <p:nvPr/>
        </p:nvSpPr>
        <p:spPr>
          <a:xfrm>
            <a:off x="3562200" y="2725560"/>
            <a:ext cx="838440" cy="38124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Rectangle 11"/>
          <p:cNvSpPr/>
          <p:nvPr/>
        </p:nvSpPr>
        <p:spPr>
          <a:xfrm>
            <a:off x="4586400" y="3084480"/>
            <a:ext cx="2793960" cy="397080"/>
          </a:xfrm>
          <a:prstGeom prst="rect">
            <a:avLst/>
          </a:prstGeom>
          <a:solidFill>
            <a:srgbClr val="00b050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缺乏精神科专业知识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Rectangle 14"/>
          <p:cNvSpPr/>
          <p:nvPr/>
        </p:nvSpPr>
        <p:spPr>
          <a:xfrm>
            <a:off x="4560840" y="3759120"/>
            <a:ext cx="2819520" cy="57636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ff"/>
                </a:solidFill>
                <a:latin typeface="Arial"/>
                <a:ea typeface="宋体"/>
              </a:rPr>
              <a:t>患者有先天性缺陷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Rectangle 15"/>
          <p:cNvSpPr/>
          <p:nvPr/>
        </p:nvSpPr>
        <p:spPr>
          <a:xfrm>
            <a:off x="4572000" y="4614840"/>
            <a:ext cx="2808360" cy="57636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ff"/>
                </a:solidFill>
                <a:latin typeface="Arial"/>
                <a:ea typeface="宋体"/>
              </a:rPr>
              <a:t>精神障碍患者精神症状丰富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7" name="图片 1" descr=""/>
          <p:cNvPicPr/>
          <p:nvPr/>
        </p:nvPicPr>
        <p:blipFill>
          <a:blip r:embed="rId1"/>
          <a:stretch/>
        </p:blipFill>
        <p:spPr>
          <a:xfrm>
            <a:off x="3600360" y="2057400"/>
            <a:ext cx="860400" cy="109440"/>
          </a:xfrm>
          <a:prstGeom prst="rect">
            <a:avLst/>
          </a:prstGeom>
          <a:ln w="0">
            <a:noFill/>
          </a:ln>
        </p:spPr>
      </p:pic>
      <p:pic>
        <p:nvPicPr>
          <p:cNvPr id="168" name="图片 3" descr=""/>
          <p:cNvPicPr/>
          <p:nvPr/>
        </p:nvPicPr>
        <p:blipFill>
          <a:blip r:embed="rId2"/>
          <a:stretch/>
        </p:blipFill>
        <p:spPr>
          <a:xfrm>
            <a:off x="3633840" y="2419200"/>
            <a:ext cx="860400" cy="176400"/>
          </a:xfrm>
          <a:prstGeom prst="rect">
            <a:avLst/>
          </a:prstGeom>
          <a:ln w="0">
            <a:noFill/>
          </a:ln>
        </p:spPr>
      </p:pic>
      <p:pic>
        <p:nvPicPr>
          <p:cNvPr id="169" name="图片 6" descr=""/>
          <p:cNvPicPr/>
          <p:nvPr/>
        </p:nvPicPr>
        <p:blipFill>
          <a:blip r:embed="rId3"/>
          <a:stretch/>
        </p:blipFill>
        <p:spPr>
          <a:xfrm>
            <a:off x="3562200" y="5857920"/>
            <a:ext cx="858960" cy="109440"/>
          </a:xfrm>
          <a:prstGeom prst="rect">
            <a:avLst/>
          </a:prstGeom>
          <a:ln w="0">
            <a:noFill/>
          </a:ln>
        </p:spPr>
      </p:pic>
      <p:sp>
        <p:nvSpPr>
          <p:cNvPr id="170" name="椭圆 8"/>
          <p:cNvSpPr/>
          <p:nvPr/>
        </p:nvSpPr>
        <p:spPr>
          <a:xfrm>
            <a:off x="1050840" y="5300640"/>
            <a:ext cx="2305080" cy="1224000"/>
          </a:xfrm>
          <a:prstGeom prst="ellips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文本框 10"/>
          <p:cNvSpPr/>
          <p:nvPr/>
        </p:nvSpPr>
        <p:spPr>
          <a:xfrm>
            <a:off x="1430280" y="572760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环境的因素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矩形 11"/>
          <p:cNvSpPr/>
          <p:nvPr/>
        </p:nvSpPr>
        <p:spPr>
          <a:xfrm>
            <a:off x="4572000" y="5611680"/>
            <a:ext cx="2808360" cy="5540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文本框 13"/>
          <p:cNvSpPr/>
          <p:nvPr/>
        </p:nvSpPr>
        <p:spPr>
          <a:xfrm>
            <a:off x="4627440" y="5727600"/>
            <a:ext cx="282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61616"/>
                </a:solidFill>
                <a:latin typeface="Arial"/>
                <a:ea typeface="宋体"/>
              </a:rPr>
              <a:t>噪声、温度、光线、湿度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矩形 14"/>
          <p:cNvSpPr/>
          <p:nvPr/>
        </p:nvSpPr>
        <p:spPr>
          <a:xfrm>
            <a:off x="4586400" y="1754280"/>
            <a:ext cx="2793960" cy="439560"/>
          </a:xfrm>
          <a:prstGeom prst="rect">
            <a:avLst/>
          </a:prstGeom>
          <a:solidFill>
            <a:srgbClr val="00b050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文本框 17"/>
          <p:cNvSpPr/>
          <p:nvPr/>
        </p:nvSpPr>
        <p:spPr>
          <a:xfrm>
            <a:off x="4627440" y="1711440"/>
            <a:ext cx="275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没有很好的运用沟通技巧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矩形 19"/>
          <p:cNvSpPr/>
          <p:nvPr/>
        </p:nvSpPr>
        <p:spPr>
          <a:xfrm>
            <a:off x="4586400" y="2359080"/>
            <a:ext cx="2793960" cy="395280"/>
          </a:xfrm>
          <a:prstGeom prst="rect">
            <a:avLst/>
          </a:prstGeom>
          <a:solidFill>
            <a:srgbClr val="00b050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文本框 21"/>
          <p:cNvSpPr/>
          <p:nvPr/>
        </p:nvSpPr>
        <p:spPr>
          <a:xfrm>
            <a:off x="4586400" y="2471760"/>
            <a:ext cx="2793960" cy="36828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护士自身问题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评估与记录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56760" y="149976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评估是精神科护理重要环节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是精神科护士必须掌握的基本技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80" name="Picture 4" descr="BD10621_"/>
          <p:cNvPicPr/>
          <p:nvPr/>
        </p:nvPicPr>
        <p:blipFill>
          <a:blip r:embed="rId1"/>
          <a:stretch/>
        </p:blipFill>
        <p:spPr>
          <a:xfrm>
            <a:off x="5508720" y="3325680"/>
            <a:ext cx="2724120" cy="3048120"/>
          </a:xfrm>
          <a:prstGeom prst="rect">
            <a:avLst/>
          </a:prstGeom>
          <a:ln w="0">
            <a:noFill/>
          </a:ln>
        </p:spPr>
      </p:pic>
      <p:pic>
        <p:nvPicPr>
          <p:cNvPr id="181" name="图片 1" descr=""/>
          <p:cNvPicPr/>
          <p:nvPr/>
        </p:nvPicPr>
        <p:blipFill>
          <a:blip r:embed="rId2"/>
          <a:stretch/>
        </p:blipFill>
        <p:spPr>
          <a:xfrm>
            <a:off x="2978280" y="2637000"/>
            <a:ext cx="3797280" cy="1688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评估的内容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826920" y="1412640"/>
            <a:ext cx="8141040" cy="496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般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精神症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躯体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治疗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理需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社会功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84" name="图片 1" descr=""/>
          <p:cNvPicPr/>
          <p:nvPr/>
        </p:nvPicPr>
        <p:blipFill>
          <a:blip r:embed="rId1"/>
          <a:stretch/>
        </p:blipFill>
        <p:spPr>
          <a:xfrm>
            <a:off x="6657840" y="3716280"/>
            <a:ext cx="2230560" cy="2440080"/>
          </a:xfrm>
          <a:prstGeom prst="rect">
            <a:avLst/>
          </a:prstGeom>
          <a:ln w="0">
            <a:noFill/>
          </a:ln>
        </p:spPr>
      </p:pic>
      <p:pic>
        <p:nvPicPr>
          <p:cNvPr id="185" name="图片 2" descr=""/>
          <p:cNvPicPr/>
          <p:nvPr/>
        </p:nvPicPr>
        <p:blipFill>
          <a:blip r:embed="rId2"/>
          <a:stretch/>
        </p:blipFill>
        <p:spPr>
          <a:xfrm>
            <a:off x="4203720" y="3328920"/>
            <a:ext cx="2073240" cy="2822760"/>
          </a:xfrm>
          <a:prstGeom prst="rect">
            <a:avLst/>
          </a:prstGeom>
          <a:ln w="0">
            <a:noFill/>
          </a:ln>
        </p:spPr>
      </p:pic>
      <p:pic>
        <p:nvPicPr>
          <p:cNvPr id="186" name="图片 4" descr=""/>
          <p:cNvPicPr/>
          <p:nvPr/>
        </p:nvPicPr>
        <p:blipFill>
          <a:blip r:embed="rId3"/>
          <a:stretch/>
        </p:blipFill>
        <p:spPr>
          <a:xfrm>
            <a:off x="4137120" y="1978200"/>
            <a:ext cx="3444840" cy="1938240"/>
          </a:xfrm>
          <a:prstGeom prst="rect">
            <a:avLst/>
          </a:prstGeom>
          <a:ln w="0">
            <a:noFill/>
          </a:ln>
        </p:spPr>
      </p:pic>
      <p:sp>
        <p:nvSpPr>
          <p:cNvPr id="187" name="文本框 6"/>
          <p:cNvSpPr/>
          <p:nvPr/>
        </p:nvSpPr>
        <p:spPr>
          <a:xfrm>
            <a:off x="4203720" y="2205000"/>
            <a:ext cx="353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别这么懒，洗个澡，你都有味了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!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评估的方法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4360" y="1483920"/>
            <a:ext cx="8283600" cy="48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直接评估法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间接评估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直接评估法和间接评估法两种方法共同使用，相互补充，在掌握病情观察方法的基础上，对病房中的全部患者做到心中有数，才能防患于未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评估的要求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971640" y="1412640"/>
            <a:ext cx="7996320" cy="496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有目的的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有计划的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客观性的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整体性的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2" name="正五边形 1"/>
          <p:cNvSpPr/>
          <p:nvPr/>
        </p:nvSpPr>
        <p:spPr>
          <a:xfrm>
            <a:off x="4668840" y="2139840"/>
            <a:ext cx="3584520" cy="3745080"/>
          </a:xfrm>
          <a:prstGeom prst="pentagon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  <a:ea typeface="宋体"/>
              </a:rPr>
              <a:t>“</a:t>
            </a:r>
            <a:r>
              <a:rPr b="0" lang="en-US" sz="3200" spc="-1" strike="noStrike">
                <a:solidFill>
                  <a:srgbClr val="ff0000"/>
                </a:solidFill>
                <a:latin typeface="Verdana"/>
                <a:ea typeface="宋体"/>
              </a:rPr>
              <a:t>5W”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  <a:ea typeface="宋体"/>
              </a:rPr>
              <a:t>Who</a:t>
            </a:r>
            <a:r>
              <a:rPr b="0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、   </a:t>
            </a:r>
            <a:r>
              <a:rPr b="0" lang="en-US" sz="3200" spc="-1" strike="noStrike">
                <a:solidFill>
                  <a:srgbClr val="ff0000"/>
                </a:solidFill>
                <a:latin typeface="Verdana"/>
                <a:ea typeface="宋体"/>
              </a:rPr>
              <a:t>When</a:t>
            </a:r>
            <a:r>
              <a:rPr b="0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、</a:t>
            </a:r>
            <a:r>
              <a:rPr b="0" lang="en-US" sz="3200" spc="-1" strike="noStrike">
                <a:solidFill>
                  <a:srgbClr val="ff0000"/>
                </a:solidFill>
                <a:latin typeface="Verdana"/>
                <a:ea typeface="宋体"/>
              </a:rPr>
              <a:t>What</a:t>
            </a:r>
            <a:r>
              <a:rPr b="0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、</a:t>
            </a:r>
            <a:r>
              <a:rPr b="0" lang="en-US" sz="3200" spc="-1" strike="noStrike">
                <a:solidFill>
                  <a:srgbClr val="ff0000"/>
                </a:solidFill>
                <a:latin typeface="Verdana"/>
                <a:ea typeface="宋体"/>
              </a:rPr>
              <a:t>Where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  <a:ea typeface="宋体"/>
              </a:rPr>
              <a:t>How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评估的最佳时机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1042920" y="1557360"/>
            <a:ext cx="7925040" cy="481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每天交接班、巡视病房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晨晚间护理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进餐时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参加工娱治疗的时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治疗时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探视时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特殊事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风险评估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56760" y="1499760"/>
            <a:ext cx="8947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风险评估的必要性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凡事“预则立，不预则败”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风险评估的内容及要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风险评估的步骤及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97" name="图片 4" descr=""/>
          <p:cNvPicPr/>
          <p:nvPr/>
        </p:nvPicPr>
        <p:blipFill>
          <a:blip r:embed="rId1"/>
          <a:stretch/>
        </p:blipFill>
        <p:spPr>
          <a:xfrm>
            <a:off x="4427640" y="3535200"/>
            <a:ext cx="2689200" cy="2975040"/>
          </a:xfrm>
          <a:prstGeom prst="rect">
            <a:avLst/>
          </a:prstGeom>
          <a:ln w="0">
            <a:noFill/>
          </a:ln>
        </p:spPr>
      </p:pic>
      <p:pic>
        <p:nvPicPr>
          <p:cNvPr id="198" name="图片 6" descr=""/>
          <p:cNvPicPr/>
          <p:nvPr/>
        </p:nvPicPr>
        <p:blipFill>
          <a:blip r:embed="rId2"/>
          <a:stretch/>
        </p:blipFill>
        <p:spPr>
          <a:xfrm>
            <a:off x="5859360" y="2139840"/>
            <a:ext cx="3444840" cy="1755720"/>
          </a:xfrm>
          <a:prstGeom prst="rect">
            <a:avLst/>
          </a:prstGeom>
          <a:ln w="0">
            <a:noFill/>
          </a:ln>
        </p:spPr>
      </p:pic>
      <p:pic>
        <p:nvPicPr>
          <p:cNvPr id="199" name="图片 7" descr=""/>
          <p:cNvPicPr/>
          <p:nvPr/>
        </p:nvPicPr>
        <p:blipFill>
          <a:blip r:embed="rId3"/>
          <a:stretch/>
        </p:blipFill>
        <p:spPr>
          <a:xfrm>
            <a:off x="6248520" y="2478240"/>
            <a:ext cx="3219480" cy="1012680"/>
          </a:xfrm>
          <a:prstGeom prst="rect">
            <a:avLst/>
          </a:prstGeom>
          <a:ln w="0">
            <a:noFill/>
          </a:ln>
        </p:spPr>
      </p:pic>
      <p:pic>
        <p:nvPicPr>
          <p:cNvPr id="200" name="图片 8" descr=""/>
          <p:cNvPicPr/>
          <p:nvPr/>
        </p:nvPicPr>
        <p:blipFill>
          <a:blip r:embed="rId4"/>
          <a:stretch/>
        </p:blipFill>
        <p:spPr>
          <a:xfrm>
            <a:off x="503280" y="3284640"/>
            <a:ext cx="4146480" cy="1476360"/>
          </a:xfrm>
          <a:prstGeom prst="rect">
            <a:avLst/>
          </a:prstGeom>
          <a:ln w="0">
            <a:noFill/>
          </a:ln>
        </p:spPr>
      </p:pic>
      <p:pic>
        <p:nvPicPr>
          <p:cNvPr id="201" name="图片 10" descr=""/>
          <p:cNvPicPr/>
          <p:nvPr/>
        </p:nvPicPr>
        <p:blipFill>
          <a:blip r:embed="rId5"/>
          <a:stretch/>
        </p:blipFill>
        <p:spPr>
          <a:xfrm>
            <a:off x="993600" y="3484440"/>
            <a:ext cx="2945160" cy="7495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2" name=""/>
          <p:cNvGraphicFramePr/>
          <p:nvPr/>
        </p:nvGraphicFramePr>
        <p:xfrm>
          <a:off x="0" y="1163520"/>
          <a:ext cx="9109080" cy="6400800"/>
        </p:xfrm>
        <a:graphic>
          <a:graphicData uri="http://schemas.openxmlformats.org/drawingml/2006/table">
            <a:tbl>
              <a:tblPr/>
              <a:tblGrid>
                <a:gridCol w="1116000"/>
                <a:gridCol w="647640"/>
                <a:gridCol w="7345440"/>
              </a:tblGrid>
              <a:tr h="462240">
                <a:tc>
                  <a:txBody>
                    <a:bodyPr lIns="35280" rIns="35280" tIns="0" bIns="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患者对疾病的理解和态度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35280" rIns="35280" tIns="0" bIns="0" anchor="t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住院依从性：□安心</a:t>
                      </a:r>
                      <a:r>
                        <a:rPr b="0" lang="en-US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  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□不安心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住院需要的帮助：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28560">
                <a:tc rowSpan="4">
                  <a:txBody>
                    <a:bodyPr lIns="35280" rIns="35280" tIns="0" bIns="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精神症状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（重点评估症状对患者的影响）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幻 觉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□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命令性幻听（</a:t>
                      </a:r>
                      <a:r>
                        <a:rPr b="0" lang="en-US" sz="1100" spc="-1" strike="noStrike" u="sng">
                          <a:solidFill>
                            <a:srgbClr val="046ca6"/>
                          </a:solidFill>
                          <a:uFillTx/>
                          <a:latin typeface="Times New Roman"/>
                          <a:ea typeface="楷体"/>
                        </a:rPr>
                        <a:t>                      </a:t>
                      </a:r>
                      <a:r>
                        <a:rPr b="0" lang="zh-CN" sz="1100" spc="-1" strike="noStrike" u="sng">
                          <a:solidFill>
                            <a:srgbClr val="046ca6"/>
                          </a:solidFill>
                          <a:uFillTx/>
                          <a:latin typeface="Times New Roman"/>
                          <a:ea typeface="楷体"/>
                        </a:rPr>
                        <a:t>）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；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□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言语性幻听（□讽刺；□嘲笑；□威胁；□辱骂；□表扬；□评论；□其他</a:t>
                      </a:r>
                      <a:r>
                        <a:rPr b="0" lang="en-US" sz="1100" spc="-1" strike="noStrike" u="sng">
                          <a:solidFill>
                            <a:srgbClr val="046ca6"/>
                          </a:solidFill>
                          <a:uFillTx/>
                          <a:latin typeface="Times New Roman"/>
                          <a:ea typeface="楷体"/>
                        </a:rPr>
                        <a:t>            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）；□幻视；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□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其他幻觉内容：</a:t>
                      </a:r>
                      <a:r>
                        <a:rPr b="0" lang="en-US" sz="1100" spc="-1" strike="noStrike" u="sng">
                          <a:solidFill>
                            <a:srgbClr val="046ca6"/>
                          </a:solidFill>
                          <a:uFillTx/>
                          <a:latin typeface="Times New Roman"/>
                          <a:ea typeface="楷体"/>
                        </a:rPr>
                        <a:t>                         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妄 想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 marL="444600" indent="-444600"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□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被害；□关系；□嫉妒；□罪恶；□影响；□夸大；□被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444600" indent="-444600"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洞悉；□钟情；□其他</a:t>
                      </a:r>
                      <a:r>
                        <a:rPr b="0" lang="en-US" sz="1100" spc="-1" strike="noStrike" u="sng">
                          <a:solidFill>
                            <a:srgbClr val="046ca6"/>
                          </a:solidFill>
                          <a:uFillTx/>
                          <a:latin typeface="Times New Roman"/>
                          <a:ea typeface="楷体"/>
                        </a:rPr>
                        <a:t>                 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情 绪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□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紧张；□焦虑；□恐惧；□易激惹；□高涨；□低落；□淡漠；□烦躁；□敌意；□逃避；□绝望；□平稳；□其他</a:t>
                      </a:r>
                      <a:r>
                        <a:rPr b="0" lang="en-US" sz="1100" spc="-1" strike="noStrike" u="sng">
                          <a:solidFill>
                            <a:srgbClr val="046ca6"/>
                          </a:solidFill>
                          <a:uFillTx/>
                          <a:latin typeface="Times New Roman"/>
                          <a:ea typeface="楷体"/>
                        </a:rPr>
                        <a:t>            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意志行 为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□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兴奋；□怪异；□冲动；□自伤、自杀；□紊乱；□不合作；□违拗；□木僵；□活动增多；□活动减少；□其他</a:t>
                      </a:r>
                      <a:r>
                        <a:rPr b="0" lang="en-US" sz="1100" spc="-1" strike="noStrike" u="sng">
                          <a:solidFill>
                            <a:srgbClr val="046ca6"/>
                          </a:solidFill>
                          <a:uFillTx/>
                          <a:latin typeface="Times New Roman"/>
                          <a:ea typeface="楷体"/>
                        </a:rPr>
                        <a:t>            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040">
                <a:tc>
                  <a:txBody>
                    <a:bodyPr lIns="35280" rIns="35280" tIns="0" bIns="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对症状的应对方式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35280" rIns="35280" tIns="0" bIns="0" anchor="t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□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寻求帮助；□主动找人倾诉；□置之不理；□痛苦；□愤怒；□激动；□拒绝服药；□拒绝进食；□攻击他人；□自伤；□外走；□其他</a:t>
                      </a:r>
                      <a:r>
                        <a:rPr b="0" lang="en-US" sz="1100" spc="-1" strike="noStrike" u="sng">
                          <a:solidFill>
                            <a:srgbClr val="046ca6"/>
                          </a:solidFill>
                          <a:uFillTx/>
                          <a:latin typeface="Times New Roman"/>
                          <a:ea typeface="楷体"/>
                        </a:rPr>
                        <a:t>             </a:t>
                      </a:r>
                      <a:r>
                        <a:rPr b="0" lang="en-US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 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28560">
                <a:tc>
                  <a:txBody>
                    <a:bodyPr lIns="35280" rIns="35280" tIns="0" bIns="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药物反应</a:t>
                      </a:r>
                      <a:r>
                        <a:rPr b="0" lang="en-US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(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噎食、跌倒等风险及副作用</a:t>
                      </a:r>
                      <a:r>
                        <a:rPr b="0" lang="en-US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)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：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35280" rIns="35280" tIns="0" bIns="0" anchor="t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治疗依从性：□依从</a:t>
                      </a:r>
                      <a:r>
                        <a:rPr b="0" lang="en-US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  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□不依从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服药后的感受：□困倦；□头晕；□吞咽困难；□小便不畅；□便秘；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□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其他</a:t>
                      </a:r>
                      <a:r>
                        <a:rPr b="0" lang="en-US" sz="1100" spc="-1" strike="noStrike" u="sng">
                          <a:solidFill>
                            <a:srgbClr val="046ca6"/>
                          </a:solidFill>
                          <a:uFillTx/>
                          <a:latin typeface="Times New Roman"/>
                          <a:ea typeface="楷体"/>
                        </a:rPr>
                        <a:t>                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28560">
                <a:tc>
                  <a:txBody>
                    <a:bodyPr lIns="35280" rIns="35280" tIns="0" bIns="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躯体情况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35280" rIns="35280" tIns="0" bIns="0" anchor="t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躯体合并症：</a:t>
                      </a:r>
                      <a:r>
                        <a:rPr b="0" lang="en-US" sz="1100" spc="-1" strike="noStrike" u="sng">
                          <a:solidFill>
                            <a:srgbClr val="046ca6"/>
                          </a:solidFill>
                          <a:uFillTx/>
                          <a:latin typeface="Times New Roman"/>
                          <a:ea typeface="楷体"/>
                        </a:rPr>
                        <a:t>                     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生活自理情况：□自理；□部分自理，需协助完成内容及频次</a:t>
                      </a:r>
                      <a:r>
                        <a:rPr b="0" lang="en-US" sz="1100" spc="-1" strike="noStrike" u="sng">
                          <a:solidFill>
                            <a:srgbClr val="046ca6"/>
                          </a:solidFill>
                          <a:uFillTx/>
                          <a:latin typeface="Times New Roman"/>
                          <a:ea typeface="楷体"/>
                        </a:rPr>
                        <a:t>                 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□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不能自理，需协助完成内容及频次</a:t>
                      </a:r>
                      <a:r>
                        <a:rPr b="0" lang="en-US" sz="1100" spc="-1" strike="noStrike" u="sng">
                          <a:solidFill>
                            <a:srgbClr val="046ca6"/>
                          </a:solidFill>
                          <a:uFillTx/>
                          <a:latin typeface="Times New Roman"/>
                          <a:ea typeface="楷体"/>
                        </a:rPr>
                        <a:t>                 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960">
                <a:tc>
                  <a:txBody>
                    <a:bodyPr lIns="35280" rIns="35280" tIns="0" bIns="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心理社会情况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（关注长期住院患者对于出院渴求及病耻感方面评估）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35280" rIns="35280" tIns="0" bIns="0" anchor="t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□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目前住院的需求及迫切需要解决的问题：</a:t>
                      </a:r>
                      <a:r>
                        <a:rPr b="0" lang="en-US" sz="1100" spc="-1" strike="noStrike" u="sng">
                          <a:solidFill>
                            <a:srgbClr val="046ca6"/>
                          </a:solidFill>
                          <a:uFillTx/>
                          <a:latin typeface="Times New Roman"/>
                          <a:ea typeface="楷体"/>
                        </a:rPr>
                        <a:t>                          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□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对自己的疾病及治疗的下一步打算：</a:t>
                      </a:r>
                      <a:r>
                        <a:rPr b="0" lang="en-US" sz="1100" spc="-1" strike="noStrike" u="sng">
                          <a:solidFill>
                            <a:srgbClr val="046ca6"/>
                          </a:solidFill>
                          <a:uFillTx/>
                          <a:latin typeface="Times New Roman"/>
                          <a:ea typeface="楷体"/>
                        </a:rPr>
                        <a:t>                              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□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对于家人及周围人有什么期望及要求：</a:t>
                      </a:r>
                      <a:r>
                        <a:rPr b="0" lang="en-US" sz="1100" spc="-1" strike="noStrike" u="sng">
                          <a:solidFill>
                            <a:srgbClr val="046ca6"/>
                          </a:solidFill>
                          <a:uFillTx/>
                          <a:latin typeface="Times New Roman"/>
                          <a:ea typeface="楷体"/>
                        </a:rPr>
                        <a:t>                          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残存社会功能：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□交流；□自理；□学习□娱乐；□其他</a:t>
                      </a:r>
                      <a:r>
                        <a:rPr b="0" lang="en-US" sz="1100" spc="-1" strike="noStrike" u="sng">
                          <a:solidFill>
                            <a:srgbClr val="046ca6"/>
                          </a:solidFill>
                          <a:uFillTx/>
                          <a:latin typeface="Times New Roman"/>
                          <a:ea typeface="楷体"/>
                        </a:rPr>
                        <a:t>                   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57120">
                <a:tc>
                  <a:txBody>
                    <a:bodyPr lIns="35280" rIns="35280" tIns="0" bIns="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护理要点及措施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35280" rIns="35280" tIns="0" bIns="0" anchor="t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□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防自杀；□防冲动；□防外走；□防跌倒；□防压疮；□防噎食；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□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其他</a:t>
                      </a:r>
                      <a:r>
                        <a:rPr b="0" lang="en-US" sz="1100" spc="-1" strike="noStrike" u="sng">
                          <a:solidFill>
                            <a:srgbClr val="046ca6"/>
                          </a:solidFill>
                          <a:uFillTx/>
                          <a:latin typeface="Times New Roman"/>
                          <a:ea typeface="楷体"/>
                        </a:rPr>
                        <a:t>                          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护理措施：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0000"/>
                          </a:solidFill>
                          <a:latin typeface="楷体"/>
                          <a:ea typeface="宋体"/>
                        </a:rPr>
                        <a:t> 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0000"/>
                          </a:solidFill>
                          <a:latin typeface="楷体"/>
                          <a:ea typeface="宋体"/>
                        </a:rPr>
                        <a:t> 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0000"/>
                          </a:solidFill>
                          <a:latin typeface="楷体"/>
                          <a:ea typeface="宋体"/>
                        </a:rPr>
                        <a:t> 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03" name="Rectangle 2"/>
          <p:cNvSpPr/>
          <p:nvPr/>
        </p:nvSpPr>
        <p:spPr>
          <a:xfrm>
            <a:off x="2627280" y="290160"/>
            <a:ext cx="5329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楷体"/>
                <a:ea typeface="楷体"/>
              </a:rPr>
              <a:t>某家精神专科医院责任护士风险评估表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楷体"/>
                <a:ea typeface="楷体"/>
              </a:rPr>
              <a:t>病区：    床号：    姓名：        入院诊断：                  </a:t>
            </a:r>
            <a:r>
              <a:rPr b="0" lang="zh-CN" sz="1200" spc="-1" strike="noStrike">
                <a:solidFill>
                  <a:srgbClr val="ff0000"/>
                </a:solidFill>
                <a:latin typeface="楷体"/>
                <a:ea typeface="楷体"/>
              </a:rPr>
              <a:t>入院时间：</a:t>
            </a:r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记录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356760" y="162828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记录的要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记录的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06" name="图片 1" descr=""/>
          <p:cNvPicPr/>
          <p:nvPr/>
        </p:nvPicPr>
        <p:blipFill>
          <a:blip r:embed="rId1"/>
          <a:stretch/>
        </p:blipFill>
        <p:spPr>
          <a:xfrm>
            <a:off x="4140360" y="1773360"/>
            <a:ext cx="550800" cy="4105080"/>
          </a:xfrm>
          <a:prstGeom prst="rect">
            <a:avLst/>
          </a:prstGeom>
          <a:ln w="0">
            <a:noFill/>
          </a:ln>
        </p:spPr>
      </p:pic>
      <p:sp>
        <p:nvSpPr>
          <p:cNvPr id="207" name="文本框 4"/>
          <p:cNvSpPr/>
          <p:nvPr/>
        </p:nvSpPr>
        <p:spPr>
          <a:xfrm>
            <a:off x="4662360" y="1916280"/>
            <a:ext cx="243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特护计划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文本框 5"/>
          <p:cNvSpPr/>
          <p:nvPr/>
        </p:nvSpPr>
        <p:spPr>
          <a:xfrm>
            <a:off x="4662360" y="2519280"/>
            <a:ext cx="351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新入院患者的记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文本框 6"/>
          <p:cNvSpPr/>
          <p:nvPr/>
        </p:nvSpPr>
        <p:spPr>
          <a:xfrm>
            <a:off x="4633920" y="3287880"/>
            <a:ext cx="404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住院期间患者的记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文本框 7"/>
          <p:cNvSpPr/>
          <p:nvPr/>
        </p:nvSpPr>
        <p:spPr>
          <a:xfrm>
            <a:off x="4673520" y="4054320"/>
            <a:ext cx="374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出院或出试患者的记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文本框 8"/>
          <p:cNvSpPr/>
          <p:nvPr/>
        </p:nvSpPr>
        <p:spPr>
          <a:xfrm>
            <a:off x="4673520" y="4815000"/>
            <a:ext cx="364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特殊治疗护理记录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文本框 9"/>
          <p:cNvSpPr/>
          <p:nvPr/>
        </p:nvSpPr>
        <p:spPr>
          <a:xfrm>
            <a:off x="4673520" y="5467320"/>
            <a:ext cx="279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其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771280" y="1915920"/>
            <a:ext cx="403236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与精神障碍患者的沟通技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精神障碍患者的评估与记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精神障碍患者的基础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精神障碍患者的组织与管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15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16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8"/>
          <p:cNvSpPr/>
          <p:nvPr/>
        </p:nvSpPr>
        <p:spPr>
          <a:xfrm>
            <a:off x="1991160" y="2276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22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23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4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5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26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AutoShape 16"/>
          <p:cNvSpPr/>
          <p:nvPr/>
        </p:nvSpPr>
        <p:spPr>
          <a:xfrm>
            <a:off x="1803240" y="451152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Text Box 17"/>
          <p:cNvSpPr/>
          <p:nvPr/>
        </p:nvSpPr>
        <p:spPr>
          <a:xfrm>
            <a:off x="1973880" y="456876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Line 21"/>
          <p:cNvSpPr/>
          <p:nvPr/>
        </p:nvSpPr>
        <p:spPr>
          <a:xfrm>
            <a:off x="2484360" y="5084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基础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14" name="Group 4"/>
          <p:cNvGrpSpPr/>
          <p:nvPr/>
        </p:nvGrpSpPr>
        <p:grpSpPr>
          <a:xfrm>
            <a:off x="395280" y="1341360"/>
            <a:ext cx="3395520" cy="665280"/>
            <a:chOff x="395280" y="1341360"/>
            <a:chExt cx="3395520" cy="665280"/>
          </a:xfrm>
        </p:grpSpPr>
        <p:grpSp>
          <p:nvGrpSpPr>
            <p:cNvPr id="215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216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7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8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19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0" name="Text Box 10"/>
            <p:cNvSpPr/>
            <p:nvPr/>
          </p:nvSpPr>
          <p:spPr>
            <a:xfrm>
              <a:off x="1241280" y="1413000"/>
              <a:ext cx="2549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日常生活护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1" name="Text Box 11"/>
            <p:cNvSpPr/>
            <p:nvPr/>
          </p:nvSpPr>
          <p:spPr>
            <a:xfrm>
              <a:off x="579600" y="139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22" name="Group 12"/>
          <p:cNvGrpSpPr/>
          <p:nvPr/>
        </p:nvGrpSpPr>
        <p:grpSpPr>
          <a:xfrm>
            <a:off x="395280" y="2205000"/>
            <a:ext cx="3854160" cy="665280"/>
            <a:chOff x="395280" y="2205000"/>
            <a:chExt cx="3854160" cy="665280"/>
          </a:xfrm>
        </p:grpSpPr>
        <p:grpSp>
          <p:nvGrpSpPr>
            <p:cNvPr id="223" name="Group 13"/>
            <p:cNvGrpSpPr/>
            <p:nvPr/>
          </p:nvGrpSpPr>
          <p:grpSpPr>
            <a:xfrm>
              <a:off x="395280" y="2205000"/>
              <a:ext cx="761400" cy="665280"/>
              <a:chOff x="395280" y="2205000"/>
              <a:chExt cx="761400" cy="665280"/>
            </a:xfrm>
          </p:grpSpPr>
          <p:sp>
            <p:nvSpPr>
              <p:cNvPr id="224" name="AutoShape 14"/>
              <p:cNvSpPr/>
              <p:nvPr/>
            </p:nvSpPr>
            <p:spPr>
              <a:xfrm>
                <a:off x="401400" y="2216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5" name="AutoShape 15"/>
              <p:cNvSpPr/>
              <p:nvPr/>
            </p:nvSpPr>
            <p:spPr>
              <a:xfrm>
                <a:off x="395280" y="2205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6" name="AutoShape 16"/>
              <p:cNvSpPr/>
              <p:nvPr/>
            </p:nvSpPr>
            <p:spPr>
              <a:xfrm>
                <a:off x="439560" y="2244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27" name="Line 17"/>
            <p:cNvSpPr/>
            <p:nvPr/>
          </p:nvSpPr>
          <p:spPr>
            <a:xfrm>
              <a:off x="971280" y="2781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8" name="Text Box 18"/>
            <p:cNvSpPr/>
            <p:nvPr/>
          </p:nvSpPr>
          <p:spPr>
            <a:xfrm>
              <a:off x="1295280" y="2255760"/>
              <a:ext cx="2954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饮食护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9" name="Text Box 19"/>
            <p:cNvSpPr/>
            <p:nvPr/>
          </p:nvSpPr>
          <p:spPr>
            <a:xfrm>
              <a:off x="579600" y="2255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30" name="Group 20"/>
          <p:cNvGrpSpPr/>
          <p:nvPr/>
        </p:nvGrpSpPr>
        <p:grpSpPr>
          <a:xfrm>
            <a:off x="395280" y="3068640"/>
            <a:ext cx="2879640" cy="665280"/>
            <a:chOff x="395280" y="3068640"/>
            <a:chExt cx="2879640" cy="665280"/>
          </a:xfrm>
        </p:grpSpPr>
        <p:grpSp>
          <p:nvGrpSpPr>
            <p:cNvPr id="231" name="Group 21"/>
            <p:cNvGrpSpPr/>
            <p:nvPr/>
          </p:nvGrpSpPr>
          <p:grpSpPr>
            <a:xfrm>
              <a:off x="395280" y="3068640"/>
              <a:ext cx="761400" cy="665280"/>
              <a:chOff x="395280" y="3068640"/>
              <a:chExt cx="761400" cy="665280"/>
            </a:xfrm>
          </p:grpSpPr>
          <p:sp>
            <p:nvSpPr>
              <p:cNvPr id="232" name="AutoShape 22"/>
              <p:cNvSpPr/>
              <p:nvPr/>
            </p:nvSpPr>
            <p:spPr>
              <a:xfrm>
                <a:off x="401400" y="307980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3" name="AutoShape 23"/>
              <p:cNvSpPr/>
              <p:nvPr/>
            </p:nvSpPr>
            <p:spPr>
              <a:xfrm>
                <a:off x="395280" y="30686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4" name="AutoShape 24"/>
              <p:cNvSpPr/>
              <p:nvPr/>
            </p:nvSpPr>
            <p:spPr>
              <a:xfrm>
                <a:off x="439560" y="310824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35" name="Line 25"/>
            <p:cNvSpPr/>
            <p:nvPr/>
          </p:nvSpPr>
          <p:spPr>
            <a:xfrm>
              <a:off x="971280" y="364500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6" name="Text Box 26"/>
            <p:cNvSpPr/>
            <p:nvPr/>
          </p:nvSpPr>
          <p:spPr>
            <a:xfrm>
              <a:off x="1355400" y="3140280"/>
              <a:ext cx="171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睡眠护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7" name="Text Box 27"/>
            <p:cNvSpPr/>
            <p:nvPr/>
          </p:nvSpPr>
          <p:spPr>
            <a:xfrm>
              <a:off x="579600" y="3119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38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239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240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41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42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43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4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5" name="Text Box 35"/>
            <p:cNvSpPr/>
            <p:nvPr/>
          </p:nvSpPr>
          <p:spPr>
            <a:xfrm>
              <a:off x="579600" y="3984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46" name="AutoShape 53"/>
          <p:cNvSpPr/>
          <p:nvPr/>
        </p:nvSpPr>
        <p:spPr>
          <a:xfrm>
            <a:off x="3465360" y="1641600"/>
            <a:ext cx="650880" cy="73080"/>
          </a:xfrm>
          <a:prstGeom prst="rightArrow">
            <a:avLst>
              <a:gd name="adj1" fmla="val 50000"/>
              <a:gd name="adj2" fmla="val 22266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7" name="圆角矩形 54"/>
          <p:cNvSpPr/>
          <p:nvPr/>
        </p:nvSpPr>
        <p:spPr>
          <a:xfrm>
            <a:off x="4124160" y="1179360"/>
            <a:ext cx="4929480" cy="255456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口腔卫生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皮肤及毛发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排泄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衣着、修饰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加强卫生宣教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8" name="矩形 55"/>
          <p:cNvSpPr/>
          <p:nvPr/>
        </p:nvSpPr>
        <p:spPr>
          <a:xfrm>
            <a:off x="1285920" y="398304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安全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基础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50" name="Group 4"/>
          <p:cNvGrpSpPr/>
          <p:nvPr/>
        </p:nvGrpSpPr>
        <p:grpSpPr>
          <a:xfrm>
            <a:off x="395280" y="1341360"/>
            <a:ext cx="3395520" cy="665280"/>
            <a:chOff x="395280" y="1341360"/>
            <a:chExt cx="3395520" cy="665280"/>
          </a:xfrm>
        </p:grpSpPr>
        <p:grpSp>
          <p:nvGrpSpPr>
            <p:cNvPr id="251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252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53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54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55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6" name="Text Box 10"/>
            <p:cNvSpPr/>
            <p:nvPr/>
          </p:nvSpPr>
          <p:spPr>
            <a:xfrm>
              <a:off x="1241280" y="1413000"/>
              <a:ext cx="2549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日常生活护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7" name="Text Box 11"/>
            <p:cNvSpPr/>
            <p:nvPr/>
          </p:nvSpPr>
          <p:spPr>
            <a:xfrm>
              <a:off x="579600" y="139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58" name="Group 12"/>
          <p:cNvGrpSpPr/>
          <p:nvPr/>
        </p:nvGrpSpPr>
        <p:grpSpPr>
          <a:xfrm>
            <a:off x="395280" y="2205000"/>
            <a:ext cx="3854160" cy="665280"/>
            <a:chOff x="395280" y="2205000"/>
            <a:chExt cx="3854160" cy="665280"/>
          </a:xfrm>
        </p:grpSpPr>
        <p:grpSp>
          <p:nvGrpSpPr>
            <p:cNvPr id="259" name="Group 13"/>
            <p:cNvGrpSpPr/>
            <p:nvPr/>
          </p:nvGrpSpPr>
          <p:grpSpPr>
            <a:xfrm>
              <a:off x="395280" y="2205000"/>
              <a:ext cx="761400" cy="665280"/>
              <a:chOff x="395280" y="2205000"/>
              <a:chExt cx="761400" cy="665280"/>
            </a:xfrm>
          </p:grpSpPr>
          <p:sp>
            <p:nvSpPr>
              <p:cNvPr id="260" name="AutoShape 14"/>
              <p:cNvSpPr/>
              <p:nvPr/>
            </p:nvSpPr>
            <p:spPr>
              <a:xfrm>
                <a:off x="401400" y="2216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61" name="AutoShape 15"/>
              <p:cNvSpPr/>
              <p:nvPr/>
            </p:nvSpPr>
            <p:spPr>
              <a:xfrm>
                <a:off x="395280" y="2205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62" name="AutoShape 16"/>
              <p:cNvSpPr/>
              <p:nvPr/>
            </p:nvSpPr>
            <p:spPr>
              <a:xfrm>
                <a:off x="439560" y="2244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63" name="Line 17"/>
            <p:cNvSpPr/>
            <p:nvPr/>
          </p:nvSpPr>
          <p:spPr>
            <a:xfrm>
              <a:off x="971280" y="2781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4" name="Text Box 18"/>
            <p:cNvSpPr/>
            <p:nvPr/>
          </p:nvSpPr>
          <p:spPr>
            <a:xfrm>
              <a:off x="1295280" y="2255760"/>
              <a:ext cx="2954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饮食护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5" name="Text Box 19"/>
            <p:cNvSpPr/>
            <p:nvPr/>
          </p:nvSpPr>
          <p:spPr>
            <a:xfrm>
              <a:off x="579600" y="2255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66" name="Group 20"/>
          <p:cNvGrpSpPr/>
          <p:nvPr/>
        </p:nvGrpSpPr>
        <p:grpSpPr>
          <a:xfrm>
            <a:off x="395280" y="3068640"/>
            <a:ext cx="2879640" cy="665280"/>
            <a:chOff x="395280" y="3068640"/>
            <a:chExt cx="2879640" cy="665280"/>
          </a:xfrm>
        </p:grpSpPr>
        <p:grpSp>
          <p:nvGrpSpPr>
            <p:cNvPr id="267" name="Group 21"/>
            <p:cNvGrpSpPr/>
            <p:nvPr/>
          </p:nvGrpSpPr>
          <p:grpSpPr>
            <a:xfrm>
              <a:off x="395280" y="3068640"/>
              <a:ext cx="761400" cy="665280"/>
              <a:chOff x="395280" y="3068640"/>
              <a:chExt cx="761400" cy="665280"/>
            </a:xfrm>
          </p:grpSpPr>
          <p:sp>
            <p:nvSpPr>
              <p:cNvPr id="268" name="AutoShape 22"/>
              <p:cNvSpPr/>
              <p:nvPr/>
            </p:nvSpPr>
            <p:spPr>
              <a:xfrm>
                <a:off x="401400" y="307980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69" name="AutoShape 23"/>
              <p:cNvSpPr/>
              <p:nvPr/>
            </p:nvSpPr>
            <p:spPr>
              <a:xfrm>
                <a:off x="395280" y="30686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70" name="AutoShape 24"/>
              <p:cNvSpPr/>
              <p:nvPr/>
            </p:nvSpPr>
            <p:spPr>
              <a:xfrm>
                <a:off x="439560" y="310824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71" name="Line 25"/>
            <p:cNvSpPr/>
            <p:nvPr/>
          </p:nvSpPr>
          <p:spPr>
            <a:xfrm>
              <a:off x="971280" y="364500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2" name="Text Box 26"/>
            <p:cNvSpPr/>
            <p:nvPr/>
          </p:nvSpPr>
          <p:spPr>
            <a:xfrm>
              <a:off x="1355400" y="3140280"/>
              <a:ext cx="171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睡眠护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3" name="Text Box 27"/>
            <p:cNvSpPr/>
            <p:nvPr/>
          </p:nvSpPr>
          <p:spPr>
            <a:xfrm>
              <a:off x="579600" y="3119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74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275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276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77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78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79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0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1" name="Text Box 35"/>
            <p:cNvSpPr/>
            <p:nvPr/>
          </p:nvSpPr>
          <p:spPr>
            <a:xfrm>
              <a:off x="579600" y="3984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82" name="AutoShape 53"/>
          <p:cNvSpPr/>
          <p:nvPr/>
        </p:nvSpPr>
        <p:spPr>
          <a:xfrm>
            <a:off x="3279600" y="253836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3" name="圆角矩形 54"/>
          <p:cNvSpPr/>
          <p:nvPr/>
        </p:nvSpPr>
        <p:spPr>
          <a:xfrm>
            <a:off x="4214880" y="1357200"/>
            <a:ext cx="4929120" cy="235764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进餐前的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进餐时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进餐后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探视时食品管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4" name="矩形 55"/>
          <p:cNvSpPr/>
          <p:nvPr/>
        </p:nvSpPr>
        <p:spPr>
          <a:xfrm>
            <a:off x="1285920" y="398304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安全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基础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86" name="Group 4"/>
          <p:cNvGrpSpPr/>
          <p:nvPr/>
        </p:nvGrpSpPr>
        <p:grpSpPr>
          <a:xfrm>
            <a:off x="395280" y="1341360"/>
            <a:ext cx="3395520" cy="665280"/>
            <a:chOff x="395280" y="1341360"/>
            <a:chExt cx="3395520" cy="665280"/>
          </a:xfrm>
        </p:grpSpPr>
        <p:grpSp>
          <p:nvGrpSpPr>
            <p:cNvPr id="287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288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89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90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91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2" name="Text Box 10"/>
            <p:cNvSpPr/>
            <p:nvPr/>
          </p:nvSpPr>
          <p:spPr>
            <a:xfrm>
              <a:off x="1241280" y="1413000"/>
              <a:ext cx="2549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日常生活护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3" name="Text Box 11"/>
            <p:cNvSpPr/>
            <p:nvPr/>
          </p:nvSpPr>
          <p:spPr>
            <a:xfrm>
              <a:off x="579600" y="139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94" name="Group 12"/>
          <p:cNvGrpSpPr/>
          <p:nvPr/>
        </p:nvGrpSpPr>
        <p:grpSpPr>
          <a:xfrm>
            <a:off x="395280" y="2205000"/>
            <a:ext cx="3854160" cy="665280"/>
            <a:chOff x="395280" y="2205000"/>
            <a:chExt cx="3854160" cy="665280"/>
          </a:xfrm>
        </p:grpSpPr>
        <p:grpSp>
          <p:nvGrpSpPr>
            <p:cNvPr id="295" name="Group 13"/>
            <p:cNvGrpSpPr/>
            <p:nvPr/>
          </p:nvGrpSpPr>
          <p:grpSpPr>
            <a:xfrm>
              <a:off x="395280" y="2205000"/>
              <a:ext cx="761400" cy="665280"/>
              <a:chOff x="395280" y="2205000"/>
              <a:chExt cx="761400" cy="665280"/>
            </a:xfrm>
          </p:grpSpPr>
          <p:sp>
            <p:nvSpPr>
              <p:cNvPr id="296" name="AutoShape 14"/>
              <p:cNvSpPr/>
              <p:nvPr/>
            </p:nvSpPr>
            <p:spPr>
              <a:xfrm>
                <a:off x="401400" y="2216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97" name="AutoShape 15"/>
              <p:cNvSpPr/>
              <p:nvPr/>
            </p:nvSpPr>
            <p:spPr>
              <a:xfrm>
                <a:off x="395280" y="2205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98" name="AutoShape 16"/>
              <p:cNvSpPr/>
              <p:nvPr/>
            </p:nvSpPr>
            <p:spPr>
              <a:xfrm>
                <a:off x="439560" y="2244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99" name="Line 17"/>
            <p:cNvSpPr/>
            <p:nvPr/>
          </p:nvSpPr>
          <p:spPr>
            <a:xfrm>
              <a:off x="971280" y="2781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0" name="Text Box 18"/>
            <p:cNvSpPr/>
            <p:nvPr/>
          </p:nvSpPr>
          <p:spPr>
            <a:xfrm>
              <a:off x="1295280" y="2255760"/>
              <a:ext cx="2954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饮食护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1" name="Text Box 19"/>
            <p:cNvSpPr/>
            <p:nvPr/>
          </p:nvSpPr>
          <p:spPr>
            <a:xfrm>
              <a:off x="579600" y="2255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02" name="Group 20"/>
          <p:cNvGrpSpPr/>
          <p:nvPr/>
        </p:nvGrpSpPr>
        <p:grpSpPr>
          <a:xfrm>
            <a:off x="395280" y="3068640"/>
            <a:ext cx="2879640" cy="665280"/>
            <a:chOff x="395280" y="3068640"/>
            <a:chExt cx="2879640" cy="665280"/>
          </a:xfrm>
        </p:grpSpPr>
        <p:grpSp>
          <p:nvGrpSpPr>
            <p:cNvPr id="303" name="Group 21"/>
            <p:cNvGrpSpPr/>
            <p:nvPr/>
          </p:nvGrpSpPr>
          <p:grpSpPr>
            <a:xfrm>
              <a:off x="395280" y="3068640"/>
              <a:ext cx="761400" cy="665280"/>
              <a:chOff x="395280" y="3068640"/>
              <a:chExt cx="761400" cy="665280"/>
            </a:xfrm>
          </p:grpSpPr>
          <p:sp>
            <p:nvSpPr>
              <p:cNvPr id="304" name="AutoShape 22"/>
              <p:cNvSpPr/>
              <p:nvPr/>
            </p:nvSpPr>
            <p:spPr>
              <a:xfrm>
                <a:off x="401400" y="307980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05" name="AutoShape 23"/>
              <p:cNvSpPr/>
              <p:nvPr/>
            </p:nvSpPr>
            <p:spPr>
              <a:xfrm>
                <a:off x="395280" y="30686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06" name="AutoShape 24"/>
              <p:cNvSpPr/>
              <p:nvPr/>
            </p:nvSpPr>
            <p:spPr>
              <a:xfrm>
                <a:off x="439560" y="310824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07" name="Line 25"/>
            <p:cNvSpPr/>
            <p:nvPr/>
          </p:nvSpPr>
          <p:spPr>
            <a:xfrm>
              <a:off x="971280" y="364500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8" name="Text Box 26"/>
            <p:cNvSpPr/>
            <p:nvPr/>
          </p:nvSpPr>
          <p:spPr>
            <a:xfrm>
              <a:off x="1355400" y="3140280"/>
              <a:ext cx="171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睡眠护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9" name="Text Box 27"/>
            <p:cNvSpPr/>
            <p:nvPr/>
          </p:nvSpPr>
          <p:spPr>
            <a:xfrm>
              <a:off x="579600" y="3119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10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311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312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13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14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15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6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7" name="Text Box 35"/>
            <p:cNvSpPr/>
            <p:nvPr/>
          </p:nvSpPr>
          <p:spPr>
            <a:xfrm>
              <a:off x="579600" y="3984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18" name="AutoShape 53"/>
          <p:cNvSpPr/>
          <p:nvPr/>
        </p:nvSpPr>
        <p:spPr>
          <a:xfrm>
            <a:off x="3425760" y="340200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9" name="圆角矩形 54"/>
          <p:cNvSpPr/>
          <p:nvPr/>
        </p:nvSpPr>
        <p:spPr>
          <a:xfrm>
            <a:off x="4075200" y="2048040"/>
            <a:ext cx="5068800" cy="278100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创造良好的睡眠环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安排合理的作息时间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培养良好的睡眠习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加强巡视，以防意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睡眠障碍患者针对性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0" name="矩形 55"/>
          <p:cNvSpPr/>
          <p:nvPr/>
        </p:nvSpPr>
        <p:spPr>
          <a:xfrm>
            <a:off x="1285920" y="398304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安全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基础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22" name="Group 4"/>
          <p:cNvGrpSpPr/>
          <p:nvPr/>
        </p:nvGrpSpPr>
        <p:grpSpPr>
          <a:xfrm>
            <a:off x="395280" y="1341360"/>
            <a:ext cx="3395520" cy="665280"/>
            <a:chOff x="395280" y="1341360"/>
            <a:chExt cx="3395520" cy="665280"/>
          </a:xfrm>
        </p:grpSpPr>
        <p:grpSp>
          <p:nvGrpSpPr>
            <p:cNvPr id="323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324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25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26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27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8" name="Text Box 10"/>
            <p:cNvSpPr/>
            <p:nvPr/>
          </p:nvSpPr>
          <p:spPr>
            <a:xfrm>
              <a:off x="1241280" y="1413000"/>
              <a:ext cx="2549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日常生活护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9" name="Text Box 11"/>
            <p:cNvSpPr/>
            <p:nvPr/>
          </p:nvSpPr>
          <p:spPr>
            <a:xfrm>
              <a:off x="579600" y="139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30" name="Group 12"/>
          <p:cNvGrpSpPr/>
          <p:nvPr/>
        </p:nvGrpSpPr>
        <p:grpSpPr>
          <a:xfrm>
            <a:off x="395280" y="2205000"/>
            <a:ext cx="3854160" cy="665280"/>
            <a:chOff x="395280" y="2205000"/>
            <a:chExt cx="3854160" cy="665280"/>
          </a:xfrm>
        </p:grpSpPr>
        <p:grpSp>
          <p:nvGrpSpPr>
            <p:cNvPr id="331" name="Group 13"/>
            <p:cNvGrpSpPr/>
            <p:nvPr/>
          </p:nvGrpSpPr>
          <p:grpSpPr>
            <a:xfrm>
              <a:off x="395280" y="2205000"/>
              <a:ext cx="761400" cy="665280"/>
              <a:chOff x="395280" y="2205000"/>
              <a:chExt cx="761400" cy="665280"/>
            </a:xfrm>
          </p:grpSpPr>
          <p:sp>
            <p:nvSpPr>
              <p:cNvPr id="332" name="AutoShape 14"/>
              <p:cNvSpPr/>
              <p:nvPr/>
            </p:nvSpPr>
            <p:spPr>
              <a:xfrm>
                <a:off x="401400" y="2216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33" name="AutoShape 15"/>
              <p:cNvSpPr/>
              <p:nvPr/>
            </p:nvSpPr>
            <p:spPr>
              <a:xfrm>
                <a:off x="395280" y="2205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34" name="AutoShape 16"/>
              <p:cNvSpPr/>
              <p:nvPr/>
            </p:nvSpPr>
            <p:spPr>
              <a:xfrm>
                <a:off x="439560" y="2244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35" name="Line 17"/>
            <p:cNvSpPr/>
            <p:nvPr/>
          </p:nvSpPr>
          <p:spPr>
            <a:xfrm>
              <a:off x="971280" y="2781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6" name="Text Box 18"/>
            <p:cNvSpPr/>
            <p:nvPr/>
          </p:nvSpPr>
          <p:spPr>
            <a:xfrm>
              <a:off x="1295280" y="2255760"/>
              <a:ext cx="2954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饮食护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7" name="Text Box 19"/>
            <p:cNvSpPr/>
            <p:nvPr/>
          </p:nvSpPr>
          <p:spPr>
            <a:xfrm>
              <a:off x="579600" y="2255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38" name="Group 20"/>
          <p:cNvGrpSpPr/>
          <p:nvPr/>
        </p:nvGrpSpPr>
        <p:grpSpPr>
          <a:xfrm>
            <a:off x="395280" y="3068640"/>
            <a:ext cx="2879640" cy="665280"/>
            <a:chOff x="395280" y="3068640"/>
            <a:chExt cx="2879640" cy="665280"/>
          </a:xfrm>
        </p:grpSpPr>
        <p:grpSp>
          <p:nvGrpSpPr>
            <p:cNvPr id="339" name="Group 21"/>
            <p:cNvGrpSpPr/>
            <p:nvPr/>
          </p:nvGrpSpPr>
          <p:grpSpPr>
            <a:xfrm>
              <a:off x="395280" y="3068640"/>
              <a:ext cx="761400" cy="665280"/>
              <a:chOff x="395280" y="3068640"/>
              <a:chExt cx="761400" cy="665280"/>
            </a:xfrm>
          </p:grpSpPr>
          <p:sp>
            <p:nvSpPr>
              <p:cNvPr id="340" name="AutoShape 22"/>
              <p:cNvSpPr/>
              <p:nvPr/>
            </p:nvSpPr>
            <p:spPr>
              <a:xfrm>
                <a:off x="401400" y="307980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41" name="AutoShape 23"/>
              <p:cNvSpPr/>
              <p:nvPr/>
            </p:nvSpPr>
            <p:spPr>
              <a:xfrm>
                <a:off x="395280" y="30686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42" name="AutoShape 24"/>
              <p:cNvSpPr/>
              <p:nvPr/>
            </p:nvSpPr>
            <p:spPr>
              <a:xfrm>
                <a:off x="439560" y="310824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43" name="Line 25"/>
            <p:cNvSpPr/>
            <p:nvPr/>
          </p:nvSpPr>
          <p:spPr>
            <a:xfrm>
              <a:off x="971280" y="364500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4" name="Text Box 26"/>
            <p:cNvSpPr/>
            <p:nvPr/>
          </p:nvSpPr>
          <p:spPr>
            <a:xfrm>
              <a:off x="1355400" y="3140280"/>
              <a:ext cx="171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睡眠护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5" name="Text Box 27"/>
            <p:cNvSpPr/>
            <p:nvPr/>
          </p:nvSpPr>
          <p:spPr>
            <a:xfrm>
              <a:off x="579600" y="3119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46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347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348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49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50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51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2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3" name="Text Box 35"/>
            <p:cNvSpPr/>
            <p:nvPr/>
          </p:nvSpPr>
          <p:spPr>
            <a:xfrm>
              <a:off x="579600" y="3984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54" name="AutoShape 53"/>
          <p:cNvSpPr/>
          <p:nvPr/>
        </p:nvSpPr>
        <p:spPr>
          <a:xfrm>
            <a:off x="2940120" y="4238640"/>
            <a:ext cx="649080" cy="73080"/>
          </a:xfrm>
          <a:prstGeom prst="rightArrow">
            <a:avLst>
              <a:gd name="adj1" fmla="val 50000"/>
              <a:gd name="adj2" fmla="val 2220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5" name="圆角矩形 54"/>
          <p:cNvSpPr/>
          <p:nvPr/>
        </p:nvSpPr>
        <p:spPr>
          <a:xfrm>
            <a:off x="3635280" y="2979720"/>
            <a:ext cx="5689800" cy="27496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加强安全管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掌握病情做到心中有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严格执行病房安全管理制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加强巡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健康宣教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6" name="矩形 55"/>
          <p:cNvSpPr/>
          <p:nvPr/>
        </p:nvSpPr>
        <p:spPr>
          <a:xfrm>
            <a:off x="1285920" y="398304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安全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组织与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79280" y="127008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的组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的管理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684360" y="2617920"/>
          <a:ext cx="7920000" cy="3565440"/>
        </p:xfrm>
        <a:graphic>
          <a:graphicData uri="http://schemas.openxmlformats.org/drawingml/2006/table">
            <a:tbl>
              <a:tblPr/>
              <a:tblGrid>
                <a:gridCol w="4032000"/>
                <a:gridCol w="3888000"/>
              </a:tblGrid>
              <a:tr h="823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开放式管理 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封闭式管理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</a:tr>
              <a:tr h="1555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00"/>
                          </a:solidFill>
                          <a:latin typeface="Verdana"/>
                          <a:ea typeface="宋体"/>
                        </a:rPr>
                        <a:t>适于抑郁症无自杀风险、神经症、病情稳定、待出院、有自知力能自己主动治疗的患者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00"/>
                          </a:solidFill>
                          <a:latin typeface="Verdana"/>
                          <a:ea typeface="宋体"/>
                        </a:rPr>
                        <a:t>适合于精神疾病急性期、无自知力、有自杀自伤、冲动倾向的患者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</a:tr>
              <a:tr h="1186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00"/>
                          </a:solidFill>
                          <a:latin typeface="Verdana"/>
                          <a:ea typeface="宋体"/>
                        </a:rPr>
                        <a:t>建立完善的开放病房各项管理制度及规则 、加强健康教育，倡导人文护理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00"/>
                          </a:solidFill>
                          <a:latin typeface="Verdana"/>
                          <a:ea typeface="宋体"/>
                        </a:rPr>
                        <a:t>制定相关制度、密切观察病情变化、丰富患者住院生活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</a:tr>
            </a:tbl>
          </a:graphicData>
        </a:graphic>
      </p:graphicFrame>
    </p:spTree>
  </p:cSld>
  <p:transition spd="slow">
    <p:push dir="u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分级护理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2" name="文本框 5"/>
          <p:cNvSpPr/>
          <p:nvPr/>
        </p:nvSpPr>
        <p:spPr>
          <a:xfrm>
            <a:off x="2411280" y="1413000"/>
            <a:ext cx="352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特级患者的护理管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363" name=""/>
          <p:cNvGraphicFramePr/>
          <p:nvPr/>
        </p:nvGraphicFramePr>
        <p:xfrm>
          <a:off x="179280" y="2133720"/>
          <a:ext cx="8785440" cy="4572000"/>
        </p:xfrm>
        <a:graphic>
          <a:graphicData uri="http://schemas.openxmlformats.org/drawingml/2006/table">
            <a:tbl>
              <a:tblPr/>
              <a:tblGrid>
                <a:gridCol w="3868920"/>
                <a:gridCol w="4916520"/>
              </a:tblGrid>
              <a:tr h="457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特殊护理的标准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: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病情危重，随时需要进行抢救；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有严重的冲动、伤人、自杀及逃跑行为；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3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中度木僵；严重的痴呆、抑郁、躁狂状态；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4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有意识障碍或伴有严重躯体并发症；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5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患者入院第一周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a5c8c"/>
                      </a:solidFill>
                    </a:lnL>
                    <a:lnR w="5760">
                      <a:solidFill>
                        <a:srgbClr val="8a5c8c"/>
                      </a:solidFill>
                    </a:lnR>
                    <a:lnT w="5760">
                      <a:solidFill>
                        <a:srgbClr val="8a5c8c"/>
                      </a:solidFill>
                    </a:lnT>
                    <a:lnB w="5760">
                      <a:solidFill>
                        <a:srgbClr val="8a5c8c"/>
                      </a:solidFill>
                    </a:lnB>
                    <a:solidFill>
                      <a:srgbClr val="edea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特殊护理的内容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: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(1)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安全护理措施到位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,24h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密切观察患者病情和生命体征：体温、脉搏、呼吸、血压每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4h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测量一次；新入院患者每日测量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4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次，并记录治疗过程中的各种副反应；密切观察有无自伤、自杀行为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 正确执行医嘱，按时完成治疗和用药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3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给予患者生活上的照顾，每日晨晚间护理一次，保证患者口腔、头发、手足、皮肤、会阴及床单位的清洁。 协助卧床患者床上移动、翻身及有效咳嗽，每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h 1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次，执行预防压疮流程，保证患者皮肤无压疮。 保证患者每日入量，根据病情严格记录出入量。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4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对于约束患者，严格执行约束制度，保证患者的监护过程安全、清洁，保持患者卧位舒适及功能位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5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 给予卧床患者每周床上洗头一次，温水擦浴每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~3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日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次，每日泡脚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次，做到指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/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趾甲不长，无污迹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6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加强留置导管的护理，无导管污染及脱落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7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履行相关告知制度并针对疾病进行健康教育。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8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保持急救药品和抢救器材的良好功能状态，随时做好抢救准备。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9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详细记录各项治疗护理措施。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a5c8c"/>
                      </a:solidFill>
                    </a:lnL>
                    <a:lnR w="5760">
                      <a:solidFill>
                        <a:srgbClr val="8a5c8c"/>
                      </a:solidFill>
                    </a:lnR>
                    <a:lnT w="5760">
                      <a:solidFill>
                        <a:srgbClr val="8a5c8c"/>
                      </a:solidFill>
                    </a:lnT>
                    <a:lnB w="5760">
                      <a:solidFill>
                        <a:srgbClr val="8a5c8c"/>
                      </a:solidFill>
                    </a:lnB>
                    <a:solidFill>
                      <a:srgbClr val="edeae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分级护理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6" name="文本框 5"/>
          <p:cNvSpPr/>
          <p:nvPr/>
        </p:nvSpPr>
        <p:spPr>
          <a:xfrm>
            <a:off x="2411280" y="1413000"/>
            <a:ext cx="352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一级患者的护理管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367" name=""/>
          <p:cNvGraphicFramePr/>
          <p:nvPr/>
        </p:nvGraphicFramePr>
        <p:xfrm>
          <a:off x="179280" y="2133720"/>
          <a:ext cx="8785440" cy="3932280"/>
        </p:xfrm>
        <a:graphic>
          <a:graphicData uri="http://schemas.openxmlformats.org/drawingml/2006/table">
            <a:tbl>
              <a:tblPr/>
              <a:tblGrid>
                <a:gridCol w="3868920"/>
                <a:gridCol w="4916520"/>
              </a:tblGrid>
              <a:tr h="393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.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一级护理的标准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: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 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精神症状急性期；严重药物副反应；生活部分可以自理，但病情随时可能有变化；特殊治疗需观察病 情变化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一级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A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：有严防自杀自伤、冲动、走失倾向的患者；严重药物副反应的患者；严重躯体并发症的患者。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一级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B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：严防摔伤、约束的患者，病情波动较大的患者。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3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一级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C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：除上述情况以外的一级护理患者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a5c8c"/>
                      </a:solidFill>
                    </a:lnL>
                    <a:lnR w="5760">
                      <a:solidFill>
                        <a:srgbClr val="8a5c8c"/>
                      </a:solidFill>
                    </a:lnR>
                    <a:lnT w="5760">
                      <a:solidFill>
                        <a:srgbClr val="8a5c8c"/>
                      </a:solidFill>
                    </a:lnT>
                    <a:lnB w="5760">
                      <a:solidFill>
                        <a:srgbClr val="8a5c8c"/>
                      </a:solidFill>
                    </a:lnB>
                    <a:solidFill>
                      <a:srgbClr val="edea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一级护理的内容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: 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安全护理措施到位，定时巡视，密切观察病情。将患者安置在护士易于观察的病室内，每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30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分钟巡视一次； 每日测量体温、脉搏、呼吸、血压一次，每月测量体重一次，并记录；观察治疗过程中的各种副反应；有无自伤、自杀倾向。 正确执行医嘱，按时完成治疗并指导患者正确用药。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给予或协助患者完成生活护理，每日晨晚间护理一次，保证口腔、头发、手足、皮肤、会阴及床单位的清洁。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3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必要时协助卧床患者床上移动、翻身及有效咳嗽，每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小时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次，执行预防压疮流程，保证患者皮肤无压疮。指导患者饮食，保证入量。  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4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对于约束患者，严格执行约束制度，保证患者的监护过程安全、清洁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5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患者卧位舒适，指导患者进行功能锻炼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6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履行相关告知制度并针对疾病进行健康教育，做好心理援助和康复指导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7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随时做好抢救准备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a5c8c"/>
                      </a:solidFill>
                    </a:lnL>
                    <a:lnR w="5760">
                      <a:solidFill>
                        <a:srgbClr val="8a5c8c"/>
                      </a:solidFill>
                    </a:lnR>
                    <a:lnT w="5760">
                      <a:solidFill>
                        <a:srgbClr val="8a5c8c"/>
                      </a:solidFill>
                    </a:lnT>
                    <a:lnB w="5760">
                      <a:solidFill>
                        <a:srgbClr val="8a5c8c"/>
                      </a:solidFill>
                    </a:lnB>
                    <a:solidFill>
                      <a:srgbClr val="edeae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分级护理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0" name="文本框 5"/>
          <p:cNvSpPr/>
          <p:nvPr/>
        </p:nvSpPr>
        <p:spPr>
          <a:xfrm>
            <a:off x="2411280" y="1413000"/>
            <a:ext cx="352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二级患者的护理管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371" name=""/>
          <p:cNvGraphicFramePr/>
          <p:nvPr/>
        </p:nvGraphicFramePr>
        <p:xfrm>
          <a:off x="179280" y="2133720"/>
          <a:ext cx="8785440" cy="2865240"/>
        </p:xfrm>
        <a:graphic>
          <a:graphicData uri="http://schemas.openxmlformats.org/drawingml/2006/table">
            <a:tbl>
              <a:tblPr/>
              <a:tblGrid>
                <a:gridCol w="3868920"/>
                <a:gridCol w="4916520"/>
              </a:tblGrid>
              <a:tr h="286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二级护理的标准：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精神疾病缓解期，生活能自理，轻度痴呆患者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a5c8c"/>
                      </a:solidFill>
                    </a:lnL>
                    <a:lnR w="5760">
                      <a:solidFill>
                        <a:srgbClr val="8a5c8c"/>
                      </a:solidFill>
                    </a:lnR>
                    <a:lnT w="5760">
                      <a:solidFill>
                        <a:srgbClr val="8a5c8c"/>
                      </a:solidFill>
                    </a:lnT>
                    <a:lnB w="5760">
                      <a:solidFill>
                        <a:srgbClr val="8a5c8c"/>
                      </a:solidFill>
                    </a:lnB>
                    <a:solidFill>
                      <a:srgbClr val="edea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二级护理的内容 ：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安全护理措施到位，定时巡视，每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30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分钟巡视患者一次，常规完成临床观察项目。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体温、脉搏、呼吸每日测量一次，血压每周测量一次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,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每月测量体重一次。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3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遵医嘱按时完成治疗和用药并指导患者正确用药。 遵医嘱指导患者饮食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4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帮助或协助患者提高生活自理能力，保证患者卧位舒适，床单位整洁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5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履行相关告知制度并针对疾病协助功能训练及进行健康教育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a5c8c"/>
                      </a:solidFill>
                    </a:lnL>
                    <a:lnR w="5760">
                      <a:solidFill>
                        <a:srgbClr val="8a5c8c"/>
                      </a:solidFill>
                    </a:lnR>
                    <a:lnT w="5760">
                      <a:solidFill>
                        <a:srgbClr val="8a5c8c"/>
                      </a:solidFill>
                    </a:lnT>
                    <a:lnB w="5760">
                      <a:solidFill>
                        <a:srgbClr val="8a5c8c"/>
                      </a:solidFill>
                    </a:lnB>
                    <a:solidFill>
                      <a:srgbClr val="edeae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分级护理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4" name="文本框 5"/>
          <p:cNvSpPr/>
          <p:nvPr/>
        </p:nvSpPr>
        <p:spPr>
          <a:xfrm>
            <a:off x="2411280" y="1413000"/>
            <a:ext cx="352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三级患者的护理管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375" name=""/>
          <p:cNvGraphicFramePr/>
          <p:nvPr/>
        </p:nvGraphicFramePr>
        <p:xfrm>
          <a:off x="179280" y="2133720"/>
          <a:ext cx="8785440" cy="2225520"/>
        </p:xfrm>
        <a:graphic>
          <a:graphicData uri="http://schemas.openxmlformats.org/drawingml/2006/table">
            <a:tbl>
              <a:tblPr/>
              <a:tblGrid>
                <a:gridCol w="3868920"/>
                <a:gridCol w="4916520"/>
              </a:tblGrid>
              <a:tr h="2225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三级护理的标准：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精神疾病恢复期，躯体症状缓解，生活能自理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a5c8c"/>
                      </a:solidFill>
                    </a:lnL>
                    <a:lnR w="5760">
                      <a:solidFill>
                        <a:srgbClr val="8a5c8c"/>
                      </a:solidFill>
                    </a:lnR>
                    <a:lnT w="5760">
                      <a:solidFill>
                        <a:srgbClr val="8a5c8c"/>
                      </a:solidFill>
                    </a:lnT>
                    <a:lnB w="5760">
                      <a:solidFill>
                        <a:srgbClr val="8a5c8c"/>
                      </a:solidFill>
                    </a:lnB>
                    <a:solidFill>
                      <a:srgbClr val="edea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三级护理的内容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: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安全护理措施到位，定时巡视，每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30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分钟巡视患者一次，常规完成临床观察项目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体温、脉搏、呼吸每日测量一次，血压每周测量一次，每月测体重一次。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3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遵医嘱按时完成治疗和用药并指导患者正确用药。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4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遵医嘱指导患者饮食。指导患者生活护理，保持床单位整洁。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5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履行相关告知制度并针对疾病指导功能训练及进行健康教育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a5c8c"/>
                      </a:solidFill>
                    </a:lnL>
                    <a:lnR w="5760">
                      <a:solidFill>
                        <a:srgbClr val="8a5c8c"/>
                      </a:solidFill>
                    </a:lnR>
                    <a:lnT w="5760">
                      <a:solidFill>
                        <a:srgbClr val="8a5c8c"/>
                      </a:solidFill>
                    </a:lnT>
                    <a:lnB w="5760">
                      <a:solidFill>
                        <a:srgbClr val="8a5c8c"/>
                      </a:solidFill>
                    </a:lnB>
                    <a:solidFill>
                      <a:srgbClr val="edeae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案例分析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7" name="圆角矩形 3"/>
          <p:cNvSpPr/>
          <p:nvPr/>
        </p:nvSpPr>
        <p:spPr>
          <a:xfrm>
            <a:off x="428760" y="1197000"/>
            <a:ext cx="8175600" cy="396072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者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岁时无明显诱因出现担心害怕，怀疑有人监视他，不敢出门，不敢上班，在家中也觉得不安全。常独自发笑，有时自言自语。觉得有人在他耳边说话，威胁他和家人，经常跟周围人发生争吵，疑心重，总无故认为自己被人监视了。担心害怕，夜眠差，时睡时醒，患者曾因担心害怕而有过自杀的想法，同时觉得自己是被单位同事迫害，每天带刀子上班，被单位辞退，家人遂带患者住院治疗。患者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年前检查出患有高血压及糖尿病，现服药治疗，血压基本维持正常，血糖在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7mmol/L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左右。患者近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周睡眠差，食欲、大小便情况正常。病前性格：内向，不善交际，小心眼。患者认为自己没有病，对疾病没有认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8" name="剪去单角的矩形 6"/>
          <p:cNvSpPr/>
          <p:nvPr/>
        </p:nvSpPr>
        <p:spPr>
          <a:xfrm>
            <a:off x="515880" y="5484960"/>
            <a:ext cx="8001000" cy="896760"/>
          </a:xfrm>
          <a:prstGeom prst="pi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问题：如何与患者进行沟通并进行风险评估？提出患者存在的护理问题及护理措施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7640" y="1371240"/>
            <a:ext cx="8807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识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学生能够列举与精神障碍患者沟通交流的技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学生能够说出护理记录的内容、书写要求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理解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学生能够解释护患沟通的重要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学生能够解释风险评估的意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学生能够解释精神障碍患者的安全护理内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med"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588160" cy="14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风险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250560" y="1341360"/>
            <a:ext cx="889308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攻击风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自伤、自杀风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外走风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81" name="图片 1" descr=""/>
          <p:cNvPicPr/>
          <p:nvPr/>
        </p:nvPicPr>
        <p:blipFill>
          <a:blip r:embed="rId1"/>
          <a:stretch/>
        </p:blipFill>
        <p:spPr>
          <a:xfrm>
            <a:off x="1233360" y="3497400"/>
            <a:ext cx="3384720" cy="2884320"/>
          </a:xfrm>
          <a:prstGeom prst="rect">
            <a:avLst/>
          </a:prstGeom>
          <a:ln w="0">
            <a:noFill/>
          </a:ln>
        </p:spPr>
      </p:pic>
      <p:pic>
        <p:nvPicPr>
          <p:cNvPr id="382" name="图片 2" descr=""/>
          <p:cNvPicPr/>
          <p:nvPr/>
        </p:nvPicPr>
        <p:blipFill>
          <a:blip r:embed="rId2"/>
          <a:stretch/>
        </p:blipFill>
        <p:spPr>
          <a:xfrm>
            <a:off x="4616280" y="1700280"/>
            <a:ext cx="4056120" cy="474012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588160" cy="14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常见护理诊断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问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9000" y="1341360"/>
            <a:ext cx="921708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有暴力行为的危险（自伤或伤人、毁物）与幻觉、妄想自知力缺乏等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思维感知改变（幻觉、妄想）与感知障碍、思维障碍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不合作、有出走行为的危险 与自知力丧失，不安心住院等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有自杀的危险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针对自己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)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幻觉、妄想自知力缺乏等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睡眠型态紊乱  与患者感知觉改变、注意力不集中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8839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应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学生能够在护理实践中应用沟通方法与技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学生能够评估精神障碍患者的风险及病情观察要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析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学生能够分析不同精神疾病患者沟通要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学生能够对比开放式管理与封闭式管理的不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        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沟通技巧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沟通定义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黑体"/>
              </a:rPr>
              <a:t>: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沟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Communicate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指为达到一定目的，将信息、思想和情感传送给对方，并期望得到对方做出相应反应效果的过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患沟通的重要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56760" y="149976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良好的护患沟通有助于提高护理效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良好的护患沟通可以提高患者满意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良好的护患沟通可以提高护士的职业成就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良好护患沟通的要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042920" y="1341000"/>
            <a:ext cx="787248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了解、熟悉患者的基本资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良好的第一印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尊重患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宽容与接纳的态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持续性关怀与一致性态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自知或自我了解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57160" y="500040"/>
            <a:ext cx="7772400" cy="45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方法和技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-108000" y="2378160"/>
            <a:ext cx="3167280" cy="38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交谈开始时技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交谈过程中技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交谈结束时技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AutoShape 7"/>
          <p:cNvSpPr/>
          <p:nvPr/>
        </p:nvSpPr>
        <p:spPr>
          <a:xfrm>
            <a:off x="3708360" y="1700280"/>
            <a:ext cx="4824360" cy="4537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696" y="4913"/>
                </a:moveTo>
                <a:lnTo>
                  <a:pt x="-341" y="544"/>
                </a:lnTo>
              </a:path>
              <a:path w="21600" h="21600">
                <a:moveTo>
                  <a:pt x="-341" y="0"/>
                </a:moveTo>
                <a:lnTo>
                  <a:pt x="-341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Rectangle 9"/>
          <p:cNvSpPr/>
          <p:nvPr/>
        </p:nvSpPr>
        <p:spPr>
          <a:xfrm>
            <a:off x="3564000" y="1268280"/>
            <a:ext cx="518472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3333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  <a:ea typeface="宋体"/>
              </a:rPr>
              <a:t>护士对患者的尊重是交谈的基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3333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  <a:ea typeface="宋体"/>
              </a:rPr>
              <a:t>护士向患者进行自我介绍，告知沟通交流的目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3333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  <a:ea typeface="宋体"/>
              </a:rPr>
              <a:t>尊重患者的隐私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3333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  <a:ea typeface="宋体"/>
              </a:rPr>
              <a:t>护士与患者有效沟通可达到两个目的</a:t>
            </a:r>
            <a:r>
              <a:rPr b="1" lang="en-US" sz="2800" spc="-1" strike="noStrike">
                <a:solidFill>
                  <a:srgbClr val="3333ff"/>
                </a:solidFill>
                <a:latin typeface="宋体"/>
                <a:ea typeface="宋体"/>
              </a:rPr>
              <a:t>:</a:t>
            </a:r>
            <a:r>
              <a:rPr b="1" lang="zh-CN" sz="2800" spc="-1" strike="noStrike">
                <a:solidFill>
                  <a:srgbClr val="3333ff"/>
                </a:solidFill>
                <a:latin typeface="宋体"/>
                <a:ea typeface="宋体"/>
              </a:rPr>
              <a:t>一是收集资料，二是给予患者心理支持或指导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970d24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57160" y="500040"/>
            <a:ext cx="7772400" cy="45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方法和技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-108000" y="2378160"/>
            <a:ext cx="3167280" cy="38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交谈开始时技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交谈过程中技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交谈结束时技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" name="AutoShape 7"/>
          <p:cNvSpPr/>
          <p:nvPr/>
        </p:nvSpPr>
        <p:spPr>
          <a:xfrm>
            <a:off x="3652920" y="1800360"/>
            <a:ext cx="5357880" cy="4537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26" y="8262"/>
                </a:moveTo>
                <a:lnTo>
                  <a:pt x="-386" y="5041"/>
                </a:lnTo>
              </a:path>
              <a:path w="21600" h="21600">
                <a:moveTo>
                  <a:pt x="-386" y="0"/>
                </a:moveTo>
                <a:lnTo>
                  <a:pt x="-386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Rectangle 9"/>
          <p:cNvSpPr/>
          <p:nvPr/>
        </p:nvSpPr>
        <p:spPr>
          <a:xfrm>
            <a:off x="3564000" y="1268280"/>
            <a:ext cx="5400720" cy="56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3333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  <a:ea typeface="宋体"/>
              </a:rPr>
              <a:t>倾听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3333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  <a:ea typeface="宋体"/>
              </a:rPr>
              <a:t>提问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3333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  <a:ea typeface="宋体"/>
              </a:rPr>
              <a:t>沉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3333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  <a:ea typeface="宋体"/>
              </a:rPr>
              <a:t>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3333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  <a:ea typeface="宋体"/>
              </a:rPr>
              <a:t>阐释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3333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  <a:ea typeface="宋体"/>
              </a:rPr>
              <a:t>共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3333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  <a:ea typeface="宋体"/>
              </a:rPr>
              <a:t>非语言交流技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3333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  <a:ea typeface="宋体"/>
              </a:rPr>
              <a:t>与不同精神症状患者沟通技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970d24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1" name="图片 2" descr=""/>
          <p:cNvPicPr/>
          <p:nvPr/>
        </p:nvPicPr>
        <p:blipFill>
          <a:blip r:embed="rId1"/>
          <a:stretch/>
        </p:blipFill>
        <p:spPr>
          <a:xfrm>
            <a:off x="5075280" y="3003480"/>
            <a:ext cx="3889440" cy="22622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刘云涛</cp:lastModifiedBy>
  <cp:lastPrinted>1899-12-30T00:00:00Z</cp:lastPrinted>
  <dcterms:modified xsi:type="dcterms:W3CDTF">2015-09-07T10:52:52Z</dcterms:modified>
  <cp:revision>121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