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E9AB-823A-404E-A9B7-2F59FD820F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30B6-3D88-4F8D-9605-4E026DB1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4D9D-AA08-45F7-975C-10F9DB2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EFE5-F068-4768-9538-A7CB04216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5FCE-3EAC-41FB-84FD-609A02B8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C75ED2-0D3E-4609-B7CC-BC60351B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9D82B-15FF-425F-9A8A-1442A6B6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4E1E9-2CE3-4479-8DA3-25A5B0B7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045E4-AB5D-423B-AB02-18CDEC804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64E3-7706-4980-9F28-9635F672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6DE1-EA49-4A3B-8A94-3AB1CB4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D3CAD-E53C-4CD8-9014-276FC05D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A8DF7-30CF-4C0D-AEDE-5D4CB7D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41E0B-39E9-454B-BE07-BA025AFA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7BE92-63D9-40CE-BB55-6309EA14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572BA-9EFC-4B59-959E-C3A854B7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C7E98-21EE-4E10-89F7-CE2D3B243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AC444-C8C5-499E-AE0C-FEFB78D4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9089-69F8-4487-83EE-98D781D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B45C0-57C8-4F05-B116-9B185909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0265-0DB5-4586-AFA2-B2E44908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40D4-65BD-4960-8A84-7024918A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7C42-C70E-47F0-8E9D-DC19BC33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26EF-47CB-4840-85B3-67D9F524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C85A-A5FD-4C60-95FF-6730989015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061-ACF1-4409-AA0D-6890D9FAF8EF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 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潍坊医学院护理学院     战同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611280" y="1052640"/>
            <a:ext cx="781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指从头顶到足底的全身长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身高是反映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骨骼发育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的重要指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2852640"/>
          <a:ext cx="5513400" cy="3057480"/>
        </p:xfrm>
        <a:graphic>
          <a:graphicData uri="http://schemas.openxmlformats.org/drawingml/2006/table">
            <a:tbl>
              <a:tblPr/>
              <a:tblGrid>
                <a:gridCol w="1838520"/>
                <a:gridCol w="1836720"/>
                <a:gridCol w="1838160"/>
              </a:tblGrid>
              <a:tr h="459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身高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增长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5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（岁）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7﹢7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cm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30"/>
          <p:cNvSpPr/>
          <p:nvPr/>
        </p:nvSpPr>
        <p:spPr>
          <a:xfrm>
            <a:off x="3049920" y="223416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身高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7666560" y="404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身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3"/>
          <p:cNvSpPr/>
          <p:nvPr/>
        </p:nvSpPr>
        <p:spPr>
          <a:xfrm>
            <a:off x="826920" y="1773360"/>
            <a:ext cx="688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由头顶至坐骨结节的长度称坐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坐高代表头颅与脊柱的发育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042920" y="2997360"/>
            <a:ext cx="324000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隶书"/>
              </a:rPr>
              <a:t>婴幼儿仰卧位测量顶臀长即为坐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4427640" y="3068640"/>
            <a:ext cx="3673440" cy="947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岁以上的小儿坐在坐高计凳上</a:t>
            </a:r>
            <a:r>
              <a:rPr b="1" lang="en-US" sz="2800" spc="-1" strike="noStrike">
                <a:solidFill>
                  <a:srgbClr val="000066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骶部紧靠量板，挺身坐直测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7496280" y="40464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坐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539640" y="1700280"/>
            <a:ext cx="1656000" cy="1368360"/>
          </a:xfrm>
          <a:prstGeom prst="rect">
            <a:avLst/>
          </a:prstGeom>
          <a:gradFill rotWithShape="0">
            <a:gsLst>
              <a:gs pos="0">
                <a:srgbClr val="8ac8de">
                  <a:alpha val="10196"/>
                </a:srgbClr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71640" y="1125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头围指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自眉弓上缘经枕后结节绕头一周的长度为头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971640" y="2349360"/>
            <a:ext cx="5975280" cy="52056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隶书"/>
              </a:rPr>
              <a:t>    </a:t>
            </a:r>
            <a:r>
              <a:rPr b="0" lang="zh-CN" sz="2800" spc="-1" strike="noStrike">
                <a:solidFill>
                  <a:srgbClr val="fe230c"/>
                </a:solidFill>
                <a:latin typeface="华文新魏"/>
                <a:ea typeface="宋体"/>
              </a:rPr>
              <a:t>胸围是</a:t>
            </a:r>
            <a:r>
              <a:rPr b="1" lang="zh-CN" sz="2800" spc="-1" strike="noStrike">
                <a:solidFill>
                  <a:srgbClr val="000066"/>
                </a:solidFill>
                <a:latin typeface="隶书"/>
                <a:ea typeface="宋体"/>
              </a:rPr>
              <a:t>沿乳头下缘水平绕胸一周的长度，反映胸廓、肺的生长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4005360"/>
          <a:ext cx="7201080" cy="1981080"/>
        </p:xfrm>
        <a:graphic>
          <a:graphicData uri="http://schemas.openxmlformats.org/drawingml/2006/table">
            <a:tbl>
              <a:tblPr/>
              <a:tblGrid>
                <a:gridCol w="1774800"/>
                <a:gridCol w="1708200"/>
                <a:gridCol w="1701720"/>
                <a:gridCol w="201636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头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cm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与头围比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3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4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小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6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等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9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5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4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58cm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-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胸围大于头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Rectangle 38"/>
          <p:cNvSpPr/>
          <p:nvPr/>
        </p:nvSpPr>
        <p:spPr>
          <a:xfrm>
            <a:off x="3921840" y="34275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头围、胸围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6300720" y="40464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头围、胸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134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头颅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后囟：最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~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周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~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前囟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脊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7"/>
          <p:cNvSpPr/>
          <p:nvPr/>
        </p:nvSpPr>
        <p:spPr>
          <a:xfrm flipH="1" flipV="1" rot="10800000">
            <a:off x="5292720" y="412848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前囟的测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1"/>
          <a:stretch/>
        </p:blipFill>
        <p:spPr>
          <a:xfrm>
            <a:off x="4859280" y="1052640"/>
            <a:ext cx="2776680" cy="3168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9"/>
          <p:cNvSpPr/>
          <p:nvPr/>
        </p:nvSpPr>
        <p:spPr>
          <a:xfrm>
            <a:off x="468360" y="4941720"/>
            <a:ext cx="65516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能抬头时出现颈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左右会坐时出现胸椎后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能行走时出现腰椎前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84000" y="1599840"/>
            <a:ext cx="8351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骨龄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即骨发育的年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婴儿早期可摄膝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年长儿摄左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片，了解其腕骨、掌骨、指骨的发育。腕部骨化中心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全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腕部骨化中心的数目为岁数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5832000" y="333000"/>
            <a:ext cx="3311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骨骼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牙齿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276640"/>
          <a:ext cx="8077320" cy="3400200"/>
        </p:xfrm>
        <a:graphic>
          <a:graphicData uri="http://schemas.openxmlformats.org/drawingml/2006/table">
            <a:tbl>
              <a:tblPr/>
              <a:tblGrid>
                <a:gridCol w="2676600"/>
                <a:gridCol w="2577960"/>
                <a:gridCol w="2822760"/>
              </a:tblGrid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乳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恒牙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萌出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数目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颗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齐时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5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0" lang="zh-CN" sz="28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6"/>
          <p:cNvSpPr/>
          <p:nvPr/>
        </p:nvSpPr>
        <p:spPr>
          <a:xfrm>
            <a:off x="3468960" y="1586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牙齿的发育变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生殖系统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前期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开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明显加速，第二性征出现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中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6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体格生长速度达高峰，第二性征全部出现，性器官发育成熟，女孩首次出现月经、男孩出现遗精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宋体"/>
                <a:ea typeface="宋体"/>
              </a:rPr>
              <a:t>青春后期</a:t>
            </a:r>
            <a:r>
              <a:rPr b="1" lang="en-US" sz="2800" spc="-1" strike="noStrike">
                <a:solidFill>
                  <a:srgbClr val="a50021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女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7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男孩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l9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岁，历经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殖系统完全发育成熟，生长发育停止</a:t>
            </a: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三节 体格发育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评价的基本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量的数据要可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期纵向观察并横向作比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参照人群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生长发育的规律和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体格发育的评价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神经心理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展相关理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1835280" y="2205000"/>
            <a:ext cx="688320" cy="593640"/>
            <a:chOff x="1835280" y="2205000"/>
            <a:chExt cx="688320" cy="593640"/>
          </a:xfrm>
        </p:grpSpPr>
        <p:sp>
          <p:nvSpPr>
            <p:cNvPr id="155" name="AutoShape 5"/>
            <p:cNvSpPr/>
            <p:nvPr/>
          </p:nvSpPr>
          <p:spPr>
            <a:xfrm>
              <a:off x="1840680" y="22150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6"/>
            <p:cNvSpPr/>
            <p:nvPr/>
          </p:nvSpPr>
          <p:spPr>
            <a:xfrm>
              <a:off x="1835280" y="22050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1875240" y="22399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6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6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6"/>
          <p:cNvSpPr/>
          <p:nvPr/>
        </p:nvSpPr>
        <p:spPr>
          <a:xfrm>
            <a:off x="1835280" y="530064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21"/>
          <p:cNvSpPr/>
          <p:nvPr/>
        </p:nvSpPr>
        <p:spPr>
          <a:xfrm>
            <a:off x="2484360" y="5950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分布状况。以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标准差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SD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表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中位数、百分位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适用于正态和非正态分布状况。以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百分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中位数，其余百分位数为离散距，常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l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7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指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两项指标间相互关系作比较，如体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kg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／身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其含义为单位面积的体重值，主要反映体格发育水平及营养状况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82160" y="1125360"/>
            <a:ext cx="8736120" cy="56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常用的方法</a:t>
            </a:r>
            <a:r>
              <a:rPr b="0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标准差的离差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用偏离该年龄组标准差的程度来反映生长情况。其中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测得值，为平均值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标准差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积分可为正值，也可为负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曲线评价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将不同时间或系统的测量值画成曲线，形成儿童生长曲线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于体格生长受遗传、疾病、饮食等因素的影响，有些儿童的生长曲线在平均值以下不一定异常，只要生长曲线与参考曲线趋势一致、匀速增长即为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体格生长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发育水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将某一年龄时点所获得的某一项体格生长测量值（横断面调查）与参考人群值比较，得到该儿童在同质人群中（同年龄、同性别）所处的位置，即为此儿童该项体格生长指标在此年龄的发育水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生长速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某一项体格生长指标定期连续测量（纵向观察）所获得的该项指标在某一年龄阶段的增长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匀称程度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对儿童体格发育各项指标间关系的评价，包括体型匀称和身材匀称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体格发育的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四节 神经心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系统的发育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91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层下中枢兴奋性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肌张力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脑功能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时达成人水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纤维髓鞘化不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视觉发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关键期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视觉不敏锐，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范围内视觉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有头眼协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头眼协调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起开始认母亲，见到奶瓶表示喜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深度视觉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时深度视觉充分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听感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听觉已相当良好，能寻找声源，辨音量、音调音色、语音和非语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头可转向声源，听悦耳声微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确定声源，对语气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：能清楚分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er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嗅觉和味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的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：新生儿的味觉和嗅觉已经发育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强烈气味有不愉快表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能区别好闻和难闻的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：对食物味道的微小改变很敏感。故应适时添加各类辅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感知觉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皮肤感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痛觉较迟钝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逐渐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温度觉已比较灵敏，尤其对冷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触觉是引起小儿某些反射的基础，新生儿的触觉高度敏感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小儿能通过皮肤觉与手眼协调一致的活动来区分物体的大小、软硬和冷热等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时能分辨体积相同重量不同的物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平衡与大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，七滚八爬周岁走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跑双足跳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独足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小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抬头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翻身、独坐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独自走，可能大运动发育迟缓，应急早诊断、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小儿生长发育的规律和影响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体格生长常用指标及其正常值和计算公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说出骨骼（前后囟门）正常值、异常值及其临床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描述牙齿的发育、脊柱发育、运动发育及语言的发育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解释生长和发育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知道小儿生长发育的相关理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评价不同年龄阶段的小儿个体的生长发展状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发现生长发育中的特殊问题并进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F51-A2B5-43F1-8824-6DB9AF8D616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精细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握三抓六会敲，九用两指周会匙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搭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伸手抓物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物体换手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不能拇示指钳取物体，可能精细运动发育迟缓，应急早诊断、治疗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91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语言发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经历发音、理解和表达三个阶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语言发育过程可总结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哭，二笑，三咿呀，四个月笑哈哈，五月单音发，七八月叫爸妈，九月再见十二把物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句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唱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神经心理发育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智力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筛查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丹佛发育筛查法、绘人实验、图片词汇测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诊断测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Gesel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发育量表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ayley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发育量表适应性行为测试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独立生活能力、运动能力、作业、交往、参加集体活动、自我管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擦腿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情感交叉腿综合征，是儿童通过擦腿引起兴奋的一种行为障碍，半岁左右的婴儿即可出现，但多见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，尤以婴幼儿多见，女孩发病多于男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意力缺陷多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儿童多动综合征，简称多动症，是一种常见的儿童发展性行为障碍。病因尚不明确，可能与遗传、生活环境、发育延迟、中枢神经递质缺陷等有关。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屏气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又称呼吸暂停症，是婴幼儿时期常见的的一种异常性格行为问题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以后发作次数逐渐减少。屏气发作的原因多与患儿情绪因素有关，部分患儿伴有缺铁性贫血，常在小儿发怒、剧哭、恐惧时诱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吮拇指癖、咬指甲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月的婴儿在饥饿时和睡前常自吮手指，满足正常生理需求，随年龄增大这种需求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遗尿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岁后仍发生不随意排尿。遗尿症包括原发性遗尿和继发性遗尿。继发性遗尿大多继发于膀胱炎、糖尿病、尿崩症等疾病，治愈原发病后遗尿症状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学习障碍属特殊发育障碍，是指在获得和运用听、说、读、写、计算、推理等特殊技能上有明显困难，并表现出相应的多种障碍综合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五节 儿童生长发展相关理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82440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爱瑞克森的《心理社会发展理论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1571760"/>
            <a:ext cx="748980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Eriks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902</a:t>
            </a:r>
            <a:r>
              <a:rPr b="1" lang="en-US" sz="2800" spc="-1" strike="noStrike">
                <a:solidFill>
                  <a:srgbClr val="8ac8de"/>
                </a:solidFill>
                <a:latin typeface="GulimChe"/>
                <a:ea typeface="GulimChe"/>
              </a:rPr>
              <a:t>—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1994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在德国法兰克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丹麦血统的美国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Freud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女儿的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57160" y="1714680"/>
            <a:ext cx="80582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信任对不信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信任感来自照顾者连续的关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幼儿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主对羞怯或怀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探索外部世界，喜欢说“不”，任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鼓励并给予一定的自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前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主动对内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非常活跃，自己制定规则，改变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接纳孩子的选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心理社会发展阶段及危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学龄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勤奋对自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键阶段，需要真正的成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应评价孩子努力的过程，而非结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~1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：自我认同对角色紊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自我，探究自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44792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关注别人对自己的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3352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一节　生长发育的规律和影响因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认知发展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iaget Jea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896-198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生于瑞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生物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心理学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12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理论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396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童的智力发展是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小儿与经常变化着的、要求其不断做出新反应的外部环境相互作用的结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779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认知发展过程四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6765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运动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~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与周围事物的感觉运动性接触认识世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单维，不可逆，自我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具体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多方面考虑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形式运思期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以上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抽象假设，推测判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5796000" y="333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生长发育规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684360" y="1700280"/>
            <a:ext cx="66052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连续性和阶段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器官发育的不平衡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上到下、由近到远 、由粗到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由低级到高级、由简单到复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长发育的个体差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3963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孕母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28200" y="333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第二节 体格发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971640" y="2708280"/>
          <a:ext cx="7421400" cy="3705120"/>
        </p:xfrm>
        <a:graphic>
          <a:graphicData uri="http://schemas.openxmlformats.org/drawingml/2006/table">
            <a:tbl>
              <a:tblPr/>
              <a:tblGrid>
                <a:gridCol w="2473200"/>
                <a:gridCol w="2567160"/>
                <a:gridCol w="2381040"/>
              </a:tblGrid>
              <a:tr h="97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体重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kg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与出生时比较（倍数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出生体重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个月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月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0.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～青春前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年龄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×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＋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（或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生后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岁（</a:t>
                      </a:r>
                      <a:r>
                        <a:rPr b="0" lang="en-US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8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Rectangle 25"/>
          <p:cNvSpPr/>
          <p:nvPr/>
        </p:nvSpPr>
        <p:spPr>
          <a:xfrm>
            <a:off x="1042920" y="16207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1403280" y="188172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年龄儿童体重估计公式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7496280" y="404640"/>
            <a:ext cx="132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042920" y="1989000"/>
            <a:ext cx="7345440" cy="2053800"/>
          </a:xfrm>
          <a:prstGeom prst="rect">
            <a:avLst/>
          </a:prstGeom>
          <a:noFill/>
          <a:ln w="76320">
            <a:solidFill>
              <a:srgbClr val="ffcc99"/>
            </a:solidFill>
            <a:miter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  <a:ea typeface="隶书"/>
              </a:rPr>
              <a:t>生理性体重下降：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3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~9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。若体重下降超过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％或致第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1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隶书"/>
              </a:rPr>
              <a:t>日体重未恢复到出生水平，则为病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7496280" y="404640"/>
            <a:ext cx="13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体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1T07:00:00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