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C050E-3310-4380-B8C2-F8C78CB965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173A-7082-40DF-B90A-9A307737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2A5E0-E003-4C33-B6B8-4B2D02B8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3F834-3154-4095-9793-9AD95AC50F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F265-03A8-4260-A6D0-8D6E33E9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5EAA-5B0A-4DEF-80D9-A04AC343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69AA-D720-40EA-95C8-99D04B31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07DE-039F-44F6-B134-4FD79882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64B7C-4EBF-4536-9C6F-9B146B53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1156-1A0F-4BAC-9D8F-5470E324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2081C-A0C4-4959-9E48-EA1C8394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DCDC-C91E-4927-A96F-1FD9B99C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C2C1-495A-4148-B23C-A1F7BF874E0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绪  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56800" y="4284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的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小儿及其家庭为中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身心整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减少创伤和疼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遵守法律和伦理道德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胎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从受精卵形成至小儿出生为止，共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0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最初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为胚胎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组织及器官的迅速生长和功能渐趋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5" descr="75783990"/>
          <p:cNvPicPr/>
          <p:nvPr/>
        </p:nvPicPr>
        <p:blipFill>
          <a:blip r:embed="rId1"/>
          <a:srcRect l="0" t="0" r="0" b="12560"/>
          <a:stretch/>
        </p:blipFill>
        <p:spPr>
          <a:xfrm>
            <a:off x="5500800" y="3786120"/>
            <a:ext cx="28573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新生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脐带结扎到生后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天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围产期或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胎龄满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周</a:t>
            </a:r>
            <a:r>
              <a:rPr b="0" lang="en-US" sz="2200" spc="-1" strike="noStrike">
                <a:solidFill>
                  <a:srgbClr val="046ca6"/>
                </a:solidFill>
                <a:latin typeface="Arial Unicode MS"/>
                <a:ea typeface="Arial Unicode MS"/>
              </a:rPr>
              <a:t>-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足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活环境巨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命遭受最大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发病率高，死亡率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婴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出生后到满一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最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营养需要量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致消化紊乱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感染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幼儿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后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之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稍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较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饮食结构改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活动范围扩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判断能力不足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疾病较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周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速度变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能发育增快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格可塑性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易患免疫性疾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龄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1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体格稳步增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智力发育趋于成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求知能力增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感染性疾病降低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小儿年龄的分期及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起止时间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女孩从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1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2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7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男孩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14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-18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2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特点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第二性征开始发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生长发育第二个高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心理行为不稳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57680" y="17143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任务和范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理学的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儿科护士的角色和素质要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年龄分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护理学的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说出小儿的年龄分期及定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描述儿科学的基础医学特点和临床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理解儿科护理学任务和范围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比较不同年龄阶段小儿的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根据儿科护士的角色和素质要求，明确如何做好一名合格的儿科护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12F6-AE16-4747-B535-33741ADE1E1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是一门以整体护理概念出发研究从胎儿期至青春期小儿生长发育、卫生保健、疾病预防和临床疾病护理的专科护理课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 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范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切涉及小儿时期健康和卫生的问题都属于儿科护理学的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理学的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供综合性、广泛性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儿童体质，保障儿童健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降低儿童发病率和死亡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提高生命质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服务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8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岁以下各年龄期的儿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医学方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剖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随年龄的不同而有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生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有不同的生理生化正常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机体对病原体的反应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免疫功能不成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心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断塑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儿科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方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疾病种类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与成人有所不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临床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复、波动、变化多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诊治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年龄阶段的小儿患病种类、临床表现都有独特之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致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后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易于康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预防特点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计划免疫、儿童保健、成人期疾病在儿童期预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活动的计划者和执行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教育的宣讲者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协调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健康咨询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儿的代言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理研究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儿科护士的角色和素质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儿科护士的素质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高度责任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热爱儿童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业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科学文化素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沟通技巧和获取新信息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liang</dc:creator>
  <dc:description/>
  <dc:language>en-US</dc:language>
  <cp:lastModifiedBy>刘云涛</cp:lastModifiedBy>
  <cp:lastPrinted>1899-12-30T00:00:00Z</cp:lastPrinted>
  <dcterms:modified xsi:type="dcterms:W3CDTF">2015-09-01T06:03:45Z</dcterms:modified>
  <cp:revision>27</cp:revision>
  <dc:subject/>
  <dc:title>绪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