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29CEA-72E7-4DCE-9EE9-D52C35B3C6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7E38-2234-4FF5-8C25-30C41EE6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631A7-7CCB-4B74-84FD-402C2B444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3AA39-7F01-49F8-923F-6796F4D39D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84BDE-D32D-411C-A1C8-C334D4BF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4A523-174E-4522-9AF9-C62D7752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7CF9B-8D92-433B-8152-86506F1E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B44FB-101B-4108-9D51-05CFC6C9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E5E87-8D18-4D61-9824-2729C136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FF1C1-4ECF-4336-B55D-1B4D3AF3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514E2-72D5-4F87-BB34-06366EB42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B750B-3FDE-4F75-B616-67D05C62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8745-002B-4E9F-8E38-AB2391B5748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章 循环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哈尔滨医科大学护理学院    吴心琦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4427640" y="1989000"/>
            <a:ext cx="3384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74" y="-3128"/>
                </a:moveTo>
                <a:lnTo>
                  <a:pt x="-486" y="1632"/>
                </a:lnTo>
              </a:path>
              <a:path w="21600" h="21600">
                <a:moveTo>
                  <a:pt x="-486" y="0"/>
                </a:moveTo>
                <a:lnTo>
                  <a:pt x="-48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体积相对成人较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左、右心室增长不均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在胸腔的位置随年龄增长也在发生着变化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正常小儿心脏、心率、血压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大小和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血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2700360" y="2565360"/>
            <a:ext cx="6192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5" y="8179"/>
                </a:moveTo>
                <a:lnTo>
                  <a:pt x="-266" y="1429"/>
                </a:lnTo>
              </a:path>
              <a:path w="21600" h="21600">
                <a:moveTo>
                  <a:pt x="-266" y="0"/>
                </a:moveTo>
                <a:lnTo>
                  <a:pt x="-2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年龄      心率（次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分）     收缩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    舒张压（</a:t>
            </a:r>
            <a:r>
              <a:rPr b="1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mmHg</a:t>
            </a: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新生儿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0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                       4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＜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1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                       50 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左右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20           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          5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00            85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5                       5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岁   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7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             9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130                      60</a:t>
            </a: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  <a:ea typeface="宋体"/>
              </a:rPr>
              <a:t>90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2700360" y="4724280"/>
            <a:ext cx="6048360" cy="151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771"/>
                </a:moveTo>
                <a:lnTo>
                  <a:pt x="-272" y="1632"/>
                </a:lnTo>
              </a:path>
              <a:path w="21600" h="21600">
                <a:moveTo>
                  <a:pt x="-272" y="0"/>
                </a:moveTo>
                <a:lnTo>
                  <a:pt x="-27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岁以后收缩压可按公式计算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收缩压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(mmHg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＝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2+80mmHg(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年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×0.26+10.7kPa)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舒张压为收缩压的</a:t>
            </a:r>
            <a:r>
              <a:rPr b="1" lang="en-US" sz="1800" spc="-1" strike="noStrike">
                <a:solidFill>
                  <a:srgbClr val="046ca6"/>
                </a:solidFill>
                <a:latin typeface="宋体"/>
                <a:ea typeface="宋体"/>
              </a:rPr>
              <a:t>2/3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6"/>
          <p:cNvSpPr/>
          <p:nvPr/>
        </p:nvSpPr>
        <p:spPr>
          <a:xfrm flipV="1">
            <a:off x="1763640" y="3933720"/>
            <a:ext cx="863640" cy="71928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称先心病，是胎儿时期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心脏及大血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异常导致的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先天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畸形，是小儿最常见的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遗传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环境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3276720" y="1916280"/>
            <a:ext cx="2232000" cy="1225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603" y="-3861"/>
                </a:moveTo>
                <a:lnTo>
                  <a:pt x="-737" y="2015"/>
                </a:lnTo>
              </a:path>
              <a:path w="21600" h="21600">
                <a:moveTo>
                  <a:pt x="-737" y="0"/>
                </a:moveTo>
                <a:lnTo>
                  <a:pt x="-73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染色体异常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单一基因突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多基因病变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环境因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3244680" y="3570120"/>
            <a:ext cx="4856400" cy="194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138" y="6395"/>
                </a:moveTo>
                <a:lnTo>
                  <a:pt x="-339" y="1269"/>
                </a:lnTo>
              </a:path>
              <a:path w="21600" h="21600">
                <a:moveTo>
                  <a:pt x="-339" y="0"/>
                </a:moveTo>
                <a:lnTo>
                  <a:pt x="-33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主要是宫内感染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缺乏叶酸、接触大量的放射线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服用抗癫痫、抗癌等药物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孕妇患代谢紊乱性疾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妊娠早期孕妇大量饮酒、吸毒、食用锂盐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气浓度低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左向右分流型（潜伏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右向左分流型（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分流型 （无青紫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室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心脏胚胎室间隔发育不全形成的左、右心室间的异常通道，是小儿最常见的先天性心脏病，约占我国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独存在，其余常合并其他复杂先心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外科手术切口结合，按缺损解剖位置不同，可分为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膜周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肌部缺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双动脉下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按缺损的大小分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755640" y="3357720"/>
            <a:ext cx="7561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宋体"/>
                <a:ea typeface="宋体"/>
              </a:rPr>
              <a:t>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型室缺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(Roger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病</a:t>
            </a:r>
            <a:r>
              <a:rPr b="0" lang="sv-SE" sz="1800" spc="-1" strike="noStrike">
                <a:solidFill>
                  <a:srgbClr val="000000"/>
                </a:solidFill>
                <a:latin typeface="宋体"/>
                <a:ea typeface="宋体"/>
              </a:rPr>
              <a:t>)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中型室缺         大型室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直径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mm)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              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面积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cm2)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0.5          0.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5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.0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分流量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             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少              中等              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症状              无或轻微            有              明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肺血管            可无影响          有影响            肺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﹡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注：从肺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二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中减去主动脉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三尖瓣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血流量即所谓的分流量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755640" y="371628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826920" y="508464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Line 7"/>
          <p:cNvSpPr/>
          <p:nvPr/>
        </p:nvSpPr>
        <p:spPr>
          <a:xfrm>
            <a:off x="755640" y="3357720"/>
            <a:ext cx="7632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9" descr="图片28"/>
          <p:cNvPicPr/>
          <p:nvPr/>
        </p:nvPicPr>
        <p:blipFill>
          <a:blip r:embed="rId1"/>
          <a:stretch/>
        </p:blipFill>
        <p:spPr>
          <a:xfrm>
            <a:off x="2843280" y="1125360"/>
            <a:ext cx="3646440" cy="499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7" name="Text Box 51"/>
          <p:cNvSpPr/>
          <p:nvPr/>
        </p:nvSpPr>
        <p:spPr>
          <a:xfrm>
            <a:off x="5148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57"/>
          <p:cNvSpPr/>
          <p:nvPr/>
        </p:nvSpPr>
        <p:spPr>
          <a:xfrm>
            <a:off x="3132000" y="1197000"/>
            <a:ext cx="863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Line 58"/>
          <p:cNvSpPr/>
          <p:nvPr/>
        </p:nvSpPr>
        <p:spPr>
          <a:xfrm>
            <a:off x="3924360" y="1341360"/>
            <a:ext cx="361800" cy="198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53"/>
          <p:cNvSpPr/>
          <p:nvPr/>
        </p:nvSpPr>
        <p:spPr>
          <a:xfrm>
            <a:off x="5076720" y="2708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3276720" y="342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53"/>
          <p:cNvSpPr/>
          <p:nvPr/>
        </p:nvSpPr>
        <p:spPr>
          <a:xfrm>
            <a:off x="5148360" y="4292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53"/>
          <p:cNvSpPr/>
          <p:nvPr/>
        </p:nvSpPr>
        <p:spPr>
          <a:xfrm>
            <a:off x="4284720" y="486900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56"/>
          <p:cNvSpPr/>
          <p:nvPr/>
        </p:nvSpPr>
        <p:spPr>
          <a:xfrm>
            <a:off x="2987640" y="5661000"/>
            <a:ext cx="12952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室间隔缺损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循环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先天性心脏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毒性心肌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2484360" y="1125360"/>
            <a:ext cx="5616720" cy="295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218"/>
                </a:moveTo>
                <a:lnTo>
                  <a:pt x="-293" y="837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小型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无临床症状，生长发育不受影响，一般活动不受限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较大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面色苍白，喂养困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乏力，气短，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发生反复呼吸道感染及心力衰竭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疾病晚期分流量大的室间隔缺损患儿可出现艾森曼格综合征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2627280" y="1989000"/>
            <a:ext cx="518472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2801"/>
                </a:moveTo>
                <a:lnTo>
                  <a:pt x="-317" y="1270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界向左下扩大，心尖波动增强并向左下移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Ⅳ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粗糙的全收缩期杂音，可扪及收缩期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明显肺动脉高压者，出现青紫，心脏杂音较轻而肺动脉第二音显著亢进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4067280" y="3573360"/>
            <a:ext cx="288108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045" y="13612"/>
                </a:moveTo>
                <a:lnTo>
                  <a:pt x="-571" y="1270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气管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水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强心、利尿、扩血管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小型室缺有自然闭合可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中型缺损缝合术或补片关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姑息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房间隔缺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在胚胎发育过程中房间隔发育不良所致，是一种常见的先天性心脏病，占先天性心脏病发病总数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男女比例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小儿时期症状较轻，不少患者到成年后才被发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原发孔型房间隔缺损（也称部分性心内膜垫型房间隔缺损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继发孔型房间隔缺损（也称中央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窦型房间隔缺损（分上腔型和下腔型，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冠状静脉窦型房间隔缺损（约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Picture 4" descr="图片26"/>
          <p:cNvPicPr/>
          <p:nvPr/>
        </p:nvPicPr>
        <p:blipFill>
          <a:blip r:embed="rId1"/>
          <a:stretch/>
        </p:blipFill>
        <p:spPr>
          <a:xfrm>
            <a:off x="2556000" y="1052640"/>
            <a:ext cx="3959280" cy="53290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1"/>
          <p:cNvSpPr/>
          <p:nvPr/>
        </p:nvSpPr>
        <p:spPr>
          <a:xfrm>
            <a:off x="4932360" y="119700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2268360" y="1628640"/>
            <a:ext cx="1440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房间隔缺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Text Box 51"/>
          <p:cNvSpPr/>
          <p:nvPr/>
        </p:nvSpPr>
        <p:spPr>
          <a:xfrm>
            <a:off x="5580000" y="2133720"/>
            <a:ext cx="10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静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Text Box 53"/>
          <p:cNvSpPr/>
          <p:nvPr/>
        </p:nvSpPr>
        <p:spPr>
          <a:xfrm>
            <a:off x="4284720" y="5084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Text Box 53"/>
          <p:cNvSpPr/>
          <p:nvPr/>
        </p:nvSpPr>
        <p:spPr>
          <a:xfrm>
            <a:off x="5219640" y="450864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53"/>
          <p:cNvSpPr/>
          <p:nvPr/>
        </p:nvSpPr>
        <p:spPr>
          <a:xfrm>
            <a:off x="500364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2484360" y="1125360"/>
            <a:ext cx="5616720" cy="237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5241"/>
                </a:moveTo>
                <a:lnTo>
                  <a:pt x="-293" y="1040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小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无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缺损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感乏力、面色苍白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活动后心悸，气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延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暂时性青紫患儿多生长迟缓，体重不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循环系统的解剖特点和一些重要的生理常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回忆法洛四联症，差异性发绀，缺氧发作，蹲踞，杵状指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围血管征的概念。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再认先天性心脏病的病因、预防及临床表现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叙述小儿病毒性心肌炎的定义、病因及临床表现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解释小儿血液循环的特点和出生后的改变。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说明室间隔缺损、房间隔缺损、动脉导管未闭、法洛四联症的血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动力学改变及治疗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制订先天性心脏病患儿的护理计划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．结合病例，提出病毒性心肌炎患儿常见的护理诊断，并能按照护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程序对病毒性心肌炎患儿实施整体护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D876-8AE1-4F6B-A88C-F5DAE11B32B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2627280" y="1989000"/>
            <a:ext cx="5184720" cy="17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4413"/>
                </a:moveTo>
                <a:lnTo>
                  <a:pt x="-317" y="142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弥散，心浊音界扩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可在胸骨左缘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闻及收缩中期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喷射样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第一心音正常或分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，呈固定分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4067280" y="3573360"/>
            <a:ext cx="1873080" cy="15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374" y="17516"/>
                </a:moveTo>
                <a:lnTo>
                  <a:pt x="-879" y="1634"/>
                </a:lnTo>
              </a:path>
              <a:path w="21600" h="21600">
                <a:moveTo>
                  <a:pt x="-879" y="0"/>
                </a:moveTo>
                <a:lnTo>
                  <a:pt x="-87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律失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高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3708360" y="1873080"/>
            <a:ext cx="4608720" cy="1195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46" y="-2926"/>
                </a:moveTo>
                <a:lnTo>
                  <a:pt x="-357" y="206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症处理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抗感染、抗心力衰竭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介入性心导管封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3708360" y="4470480"/>
            <a:ext cx="4608720" cy="1406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81" y="-3657"/>
                </a:moveTo>
                <a:lnTo>
                  <a:pt x="-357" y="1755"/>
                </a:lnTo>
              </a:path>
              <a:path w="21600" h="21600">
                <a:moveTo>
                  <a:pt x="-357" y="0"/>
                </a:moveTo>
                <a:lnTo>
                  <a:pt x="-35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小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缺损多在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个月内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大于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8mm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的一般不会自然闭合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缺损较大影响生长发育者宜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岁时在体外循环下做房间隔缺损修补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脉导管未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动脉导管异常持续开放导致的病理生理改变，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大都单独存在，只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病例合并其他心脏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管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漏斗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窗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7" name="Picture 4" descr="图片45"/>
          <p:cNvPicPr/>
          <p:nvPr/>
        </p:nvPicPr>
        <p:blipFill>
          <a:blip r:embed="rId1"/>
          <a:stretch/>
        </p:blipFill>
        <p:spPr>
          <a:xfrm>
            <a:off x="2525760" y="1125360"/>
            <a:ext cx="4079880" cy="525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1"/>
          <p:cNvSpPr/>
          <p:nvPr/>
        </p:nvSpPr>
        <p:spPr>
          <a:xfrm>
            <a:off x="248436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51"/>
          <p:cNvSpPr/>
          <p:nvPr/>
        </p:nvSpPr>
        <p:spPr>
          <a:xfrm>
            <a:off x="5724360" y="2421000"/>
            <a:ext cx="1295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3"/>
          <p:cNvSpPr/>
          <p:nvPr/>
        </p:nvSpPr>
        <p:spPr>
          <a:xfrm>
            <a:off x="4859280" y="2924280"/>
            <a:ext cx="79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53"/>
          <p:cNvSpPr/>
          <p:nvPr/>
        </p:nvSpPr>
        <p:spPr>
          <a:xfrm>
            <a:off x="4859280" y="4365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53"/>
          <p:cNvSpPr/>
          <p:nvPr/>
        </p:nvSpPr>
        <p:spPr>
          <a:xfrm>
            <a:off x="2700360" y="371628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53"/>
          <p:cNvSpPr/>
          <p:nvPr/>
        </p:nvSpPr>
        <p:spPr>
          <a:xfrm>
            <a:off x="3924360" y="5229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484360" y="1125360"/>
            <a:ext cx="5904000" cy="273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8" y="4551"/>
                </a:moveTo>
                <a:lnTo>
                  <a:pt x="-293" y="903"/>
                </a:lnTo>
              </a:path>
              <a:path w="21600" h="21600">
                <a:moveTo>
                  <a:pt x="-293" y="0"/>
                </a:moveTo>
                <a:lnTo>
                  <a:pt x="-293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口径较细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临床常无症状临床常无症状，仅在体检时发现心脏杂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导管粗者分流量大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生长发育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疲乏无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咳嗽、气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易合并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见的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2627280" y="1989000"/>
            <a:ext cx="5184720" cy="22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71" y="11153"/>
                </a:moveTo>
                <a:lnTo>
                  <a:pt x="-317" y="110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，轻度胸廓畸形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隆起，心尖搏动增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整个收缩期和舒张期在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粗糙响亮的连续性机器样杂音，可伴有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瓣区第二心音增强或亢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可有周围血管征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儿循环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9964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脏的胚胎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血液循环和出生后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并发症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4140360" y="3789360"/>
            <a:ext cx="2160360" cy="115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459" y="18948"/>
                </a:moveTo>
                <a:lnTo>
                  <a:pt x="-762" y="2145"/>
                </a:lnTo>
              </a:path>
              <a:path w="21600" h="21600">
                <a:moveTo>
                  <a:pt x="-762" y="0"/>
                </a:moveTo>
                <a:lnTo>
                  <a:pt x="-76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感染性动脉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充血性心力衰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内膜炎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诱导导管自然闭合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时行内科心导管封堵或外科导管结扎术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法洛四联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婴儿期最常见的一种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青紫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先天性心脏病，约占先天性心脏病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主要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种畸形组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①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肺动脉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动脉骑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右心室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4" descr="Picture1"/>
          <p:cNvPicPr/>
          <p:nvPr/>
        </p:nvPicPr>
        <p:blipFill>
          <a:blip r:embed="rId1"/>
          <a:stretch/>
        </p:blipFill>
        <p:spPr>
          <a:xfrm>
            <a:off x="2476440" y="1052640"/>
            <a:ext cx="4178520" cy="54007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51"/>
          <p:cNvSpPr/>
          <p:nvPr/>
        </p:nvSpPr>
        <p:spPr>
          <a:xfrm>
            <a:off x="5219640" y="1125360"/>
            <a:ext cx="1295640" cy="2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Text Box 51"/>
          <p:cNvSpPr/>
          <p:nvPr/>
        </p:nvSpPr>
        <p:spPr>
          <a:xfrm>
            <a:off x="2916360" y="1052640"/>
            <a:ext cx="12952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主动脉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53"/>
          <p:cNvSpPr/>
          <p:nvPr/>
        </p:nvSpPr>
        <p:spPr>
          <a:xfrm>
            <a:off x="4788000" y="2781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Text Box 53"/>
          <p:cNvSpPr/>
          <p:nvPr/>
        </p:nvSpPr>
        <p:spPr>
          <a:xfrm>
            <a:off x="4932360" y="4149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左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Text Box 53"/>
          <p:cNvSpPr/>
          <p:nvPr/>
        </p:nvSpPr>
        <p:spPr>
          <a:xfrm>
            <a:off x="4140360" y="515772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室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53"/>
          <p:cNvSpPr/>
          <p:nvPr/>
        </p:nvSpPr>
        <p:spPr>
          <a:xfrm>
            <a:off x="2916360" y="3573360"/>
            <a:ext cx="720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右心房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81"/>
          <p:cNvSpPr/>
          <p:nvPr/>
        </p:nvSpPr>
        <p:spPr>
          <a:xfrm>
            <a:off x="2484360" y="595008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Cambria"/>
                <a:ea typeface="宋体"/>
              </a:rPr>
              <a:t>漏斗部狭窄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395280" y="1413000"/>
            <a:ext cx="820728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患儿男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岁，生后口唇青紫，之后青紫渐明显，喂养困难。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395280" y="2565360"/>
            <a:ext cx="8497800" cy="194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查体：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36.5℃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12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R30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/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BP70/50mmHg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，生长发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明显落后，口唇、鼻尖、耳垂、指趾青紫明显，伴杵状指（趾），双肺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吸音清，胸骨左缘第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肋间闻及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Ⅲ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级收缩期杂音，肺动脉第二音减弱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辅助检查：血常规示血红蛋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00g/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；胸部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X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线显示心影呈“靴形”，双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纹理减少；心电图提示右心室肥大。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971640" y="4941720"/>
            <a:ext cx="7345440" cy="9144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问题：该患儿护理评估内容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3235320" y="1703520"/>
            <a:ext cx="5184720" cy="15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487" y="-1068"/>
                </a:moveTo>
                <a:lnTo>
                  <a:pt x="-317" y="1635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为主要临床表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毛细血管丰富的浅表部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因血氧含量下降，啼哭、情绪激动、寒冷等即可出现青紫加重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阵发性缺氧发作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3564000" y="1682640"/>
            <a:ext cx="5329080" cy="217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12" y="8013"/>
                </a:moveTo>
                <a:lnTo>
                  <a:pt x="-309" y="1134"/>
                </a:lnTo>
              </a:path>
              <a:path w="21600" h="21600">
                <a:moveTo>
                  <a:pt x="-309" y="0"/>
                </a:moveTo>
                <a:lnTo>
                  <a:pt x="-309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见于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下小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常在晨起时、吃奶时、哭闹后、大便时或大便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出现阵发性呼吸困难、烦躁、青紫加重，重者可突然晕厥、抽搐或脑血管意外，甚至死亡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其原因在于狭窄的肺动脉漏斗部的肌部突然发生痉挛，发生一时性肺动脉梗阻，导致脑缺氧加重所致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2771640" y="2781360"/>
            <a:ext cx="5883480" cy="194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989" y="6529"/>
                </a:moveTo>
                <a:lnTo>
                  <a:pt x="-280" y="1271"/>
                </a:lnTo>
              </a:path>
              <a:path w="21600" h="21600">
                <a:moveTo>
                  <a:pt x="-280" y="0"/>
                </a:moveTo>
                <a:lnTo>
                  <a:pt x="-280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常于行走、游戏时，主动蹲下休息片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于小婴儿，常喜欢大人抱起，双下肢屈曲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蹲踞时，下肢屈曲，使静脉回心血量减少，从而减轻了心脏负担；同时，下肢屈曲血管受压，体循环阻力增加，使右向左分流减少，肺血流量增加，从而暂时缓解缺氧症状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P4050050"/>
          <p:cNvPicPr/>
          <p:nvPr/>
        </p:nvPicPr>
        <p:blipFill>
          <a:blip r:embed="rId1"/>
          <a:stretch/>
        </p:blipFill>
        <p:spPr>
          <a:xfrm>
            <a:off x="3780000" y="2798640"/>
            <a:ext cx="5184720" cy="35877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324000" y="1341360"/>
            <a:ext cx="7129440" cy="17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原始心脏开始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心脏起循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buClr>
                <a:srgbClr val="ddb52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周四腔心脏形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heart.avi" descr=""/>
          <p:cNvPicPr/>
          <p:nvPr/>
        </p:nvPicPr>
        <p:blipFill>
          <a:blip r:embed="rId2"/>
          <a:stretch/>
        </p:blipFill>
        <p:spPr>
          <a:xfrm>
            <a:off x="611280" y="3645000"/>
            <a:ext cx="2738520" cy="20667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5796000" y="33336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心脏的胚胎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667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3276720" y="3716280"/>
            <a:ext cx="518472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320" y="8331"/>
                </a:moveTo>
                <a:lnTo>
                  <a:pt x="-317" y="2142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长期缺氧状态（发绀持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个月以上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指（趾）端毛细血管扩张增生，局部软组织和骨组织也增生肥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3059280" y="4653000"/>
            <a:ext cx="2881080" cy="115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974" y="8331"/>
                </a:moveTo>
                <a:lnTo>
                  <a:pt x="-571" y="2142"/>
                </a:lnTo>
              </a:path>
              <a:path w="21600" h="21600">
                <a:moveTo>
                  <a:pt x="-571" y="0"/>
                </a:moveTo>
                <a:lnTo>
                  <a:pt x="-57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血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脑脓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亚急性细菌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阵发性缺氧发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蹲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杵状指（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并发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格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AutoShape 4"/>
          <p:cNvSpPr/>
          <p:nvPr/>
        </p:nvSpPr>
        <p:spPr>
          <a:xfrm>
            <a:off x="3276720" y="3213000"/>
            <a:ext cx="5184720" cy="252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053" y="23613"/>
                </a:moveTo>
                <a:lnTo>
                  <a:pt x="-317" y="979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儿生长发育较迟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青紫和杵状指（趾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智能发育亦可能稍落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前区稍隆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典型心脏杂音为胸骨左缘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可闻及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Ⅱ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Ⅲ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级收缩期喷射性杂音，以第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肋间最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一般无震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肺动脉第二心音减弱或消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实验室血液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916360" y="1125360"/>
            <a:ext cx="4680000" cy="115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78" y="10443"/>
                </a:moveTo>
                <a:lnTo>
                  <a:pt x="-352" y="2142"/>
                </a:lnTo>
              </a:path>
              <a:path w="21600" h="21600">
                <a:moveTo>
                  <a:pt x="-352" y="0"/>
                </a:moveTo>
                <a:lnTo>
                  <a:pt x="-352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及时治疗呼吸道感染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有效防治感染性心内膜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经常饮水，及时补液，预防并发症的发生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3635280" y="1413000"/>
            <a:ext cx="5184720" cy="33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03" y="9816"/>
                </a:moveTo>
                <a:lnTo>
                  <a:pt x="-317" y="746"/>
                </a:lnTo>
              </a:path>
              <a:path w="21600" h="21600">
                <a:moveTo>
                  <a:pt x="-317" y="0"/>
                </a:moveTo>
                <a:lnTo>
                  <a:pt x="-31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立即置于膝胸屈曲位，轻症者可立即缓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及时吸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重者给予静注去氧肾上腺素（新福林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05mg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，或普萘洛尔（心得安）每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必要时皮下注射吗啡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1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0.2mg/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可给予静注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%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碳酸氢钠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1.5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5.0ml/kg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以纠正代谢性酸中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经上述处理仍不能控制发作者，可考虑急诊外科手术修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科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氧发作的处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外科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AutoShape 4"/>
          <p:cNvSpPr/>
          <p:nvPr/>
        </p:nvSpPr>
        <p:spPr>
          <a:xfrm>
            <a:off x="2843280" y="4149720"/>
            <a:ext cx="547200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8" y="2856"/>
                </a:moveTo>
                <a:lnTo>
                  <a:pt x="-301" y="2636"/>
                </a:lnTo>
              </a:path>
              <a:path w="21600" h="21600">
                <a:moveTo>
                  <a:pt x="-301" y="0"/>
                </a:moveTo>
                <a:lnTo>
                  <a:pt x="-3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根治手术治疗为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对年龄过小的婴幼儿及重症患儿宜先行姑息手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971640" y="1773360"/>
            <a:ext cx="7416720" cy="3600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患儿喜竖抱时将双膝屈曲，大腿贴腹部。吃奶时突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阵发性呼吸困难、烦燥和青紫加重，出现晕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根据入院情况写出主要的护理诊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问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什么竖抱患儿时其常将双膝屈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吃奶时发生了什么？如何处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常见的先天性心脏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室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房间隔缺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未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肺动脉瓣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肺动脉瓣狭窄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一种常见的先天性心脏病，约占先天性心脏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先心病合并此畸形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胎儿血液循环和出生后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正常胎儿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后血液循环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小儿心脏、心率、血压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典型肺动脉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育不良型肺动脉瓣狭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4" name="Picture 4" descr="pulmsten4"/>
          <p:cNvPicPr/>
          <p:nvPr/>
        </p:nvPicPr>
        <p:blipFill>
          <a:blip r:embed="rId1"/>
          <a:stretch/>
        </p:blipFill>
        <p:spPr>
          <a:xfrm>
            <a:off x="2556000" y="1197000"/>
            <a:ext cx="4174920" cy="41752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51"/>
          <p:cNvSpPr/>
          <p:nvPr/>
        </p:nvSpPr>
        <p:spPr>
          <a:xfrm>
            <a:off x="2484360" y="1700280"/>
            <a:ext cx="1295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肺动脉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>
            <a:off x="3708360" y="5157720"/>
            <a:ext cx="1008000" cy="216000"/>
          </a:xfrm>
          <a:prstGeom prst="roundRect">
            <a:avLst>
              <a:gd name="adj" fmla="val 16667"/>
            </a:avLst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2987640" y="1557360"/>
            <a:ext cx="4896000" cy="15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1039"/>
                </a:moveTo>
                <a:lnTo>
                  <a:pt x="-336" y="1558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轻度狭窄可完全无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度狭窄在年长后体力劳动时气促、易疲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严重狭窄者，中度体力劳动可引起乏力、心悸、呼吸困难，甚至突有晕厥、猝死。也有时有胸痛或上腹痛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4"/>
          <p:cNvSpPr/>
          <p:nvPr/>
        </p:nvSpPr>
        <p:spPr>
          <a:xfrm>
            <a:off x="2987640" y="3789360"/>
            <a:ext cx="4896000" cy="215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95" y="48"/>
                </a:moveTo>
                <a:lnTo>
                  <a:pt x="-336" y="1144"/>
                </a:lnTo>
              </a:path>
              <a:path w="21600" h="21600">
                <a:moveTo>
                  <a:pt x="-336" y="0"/>
                </a:moveTo>
                <a:lnTo>
                  <a:pt x="-33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半数患儿面容硕圆，大多无青紫，面颊和指（趾）端可能暗红。生长发育多正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心前区可较饱满，在左侧胸骨旁可摸得右室的抬举搏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典型心脏杂音在胸骨左缘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肋间有洪亮的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/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级以上喷射性收缩期杂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第一心音正常，第二心音分裂并减弱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声心动图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导管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血管造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球囊瓣膜成形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瓣膜切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狭窄解除手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活动无耐力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饱和度下降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生长发育迟缓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体循环血量减少或血氧下降影响生长发育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营养失调：低于机体需要量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喂养困难及体循环血量减少、组织缺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有感染的危险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肺血流量增多及心内缺损易致心内膜损伤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潜在并发症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力衰竭、感染性心内膜炎、脑血栓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宋体"/>
                <a:ea typeface="宋体"/>
              </a:rPr>
              <a:t>焦虑</a:t>
            </a:r>
            <a:r>
              <a:rPr b="1" lang="zh-CN" sz="20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与疾病的威胁和对手术担忧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E4A4-CC22-4801-AC1C-227231FBE18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3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3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3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3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4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4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5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5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6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6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6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7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7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77" name="AutoShape 53"/>
          <p:cNvSpPr/>
          <p:nvPr/>
        </p:nvSpPr>
        <p:spPr>
          <a:xfrm>
            <a:off x="399564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圆角矩形 54"/>
          <p:cNvSpPr/>
          <p:nvPr/>
        </p:nvSpPr>
        <p:spPr>
          <a:xfrm>
            <a:off x="4643280" y="1268280"/>
            <a:ext cx="4032360" cy="417528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4175280"/>
              <a:gd name="textAreaBottom" fmla="*/ 3978720 h 4175280"/>
            </a:gdLst>
            <a:ahLst/>
            <a:rect l="textAreaLeft" t="textAreaTop" r="textAreaRight" b="textAreaBottom"/>
            <a:pathLst>
              <a:path w="21600" h="22366">
                <a:moveTo>
                  <a:pt x="3600" y="0"/>
                </a:moveTo>
                <a:arcTo wR="3600" hR="3600" stAng="16200000" swAng="-5400000"/>
                <a:lnTo>
                  <a:pt x="0" y="18766"/>
                </a:lnTo>
                <a:arcTo wR="3600" hR="3600" stAng="10800000" swAng="-5400000"/>
                <a:lnTo>
                  <a:pt x="18000" y="22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动静适度，减轻耗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轻型无症状者应与正常儿童一样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有症状患儿应限制活动，避免情绪激动和剧烈哭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情严重的患儿应卧床休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特殊治疗后适当休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7DE3-EBC2-44FA-95F6-9595948AB13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3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38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8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1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92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93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4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5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6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7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8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9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00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01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2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3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4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0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0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1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1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3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24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25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6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7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28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31" name="AutoShape 53"/>
          <p:cNvSpPr/>
          <p:nvPr/>
        </p:nvSpPr>
        <p:spPr>
          <a:xfrm>
            <a:off x="3276720" y="2565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2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3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供给足量的高蛋白、高热量、高维生素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适当限制食盐摄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适量的蔬菜类粗纤维食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型患儿喂养困难，可先吸氧再喂食，斜抱位间歇喂乳少食多餐，必要时从静脉补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C23D-7CF7-4843-A18F-26929941B7B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3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3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3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4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4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1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5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5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9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6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6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7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7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7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7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7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7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8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3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8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85" name="AutoShape 53"/>
          <p:cNvSpPr/>
          <p:nvPr/>
        </p:nvSpPr>
        <p:spPr>
          <a:xfrm>
            <a:off x="3276720" y="3429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6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7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向患儿及家长介绍自我保护，防止感染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室分室居住，空气新鲜，温湿度适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穿着衣服薄厚要适中，防止受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拔牙等术前给予足量抗生素，一旦发生感染应积极治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预防接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7775-E1D4-4EED-948A-95C0B32FB7D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1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49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9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9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9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7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9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9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0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0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0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5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0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0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0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3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1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1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1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2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2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3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3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7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9" name="AutoShape 53"/>
          <p:cNvSpPr/>
          <p:nvPr/>
        </p:nvSpPr>
        <p:spPr>
          <a:xfrm>
            <a:off x="3348000" y="422100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0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1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圆角矩形 54"/>
          <p:cNvSpPr/>
          <p:nvPr/>
        </p:nvSpPr>
        <p:spPr>
          <a:xfrm>
            <a:off x="3995640" y="1916280"/>
            <a:ext cx="446580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心率、心律、脉搏、呼吸、血压及心脏杂音的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法洛四联症患儿是否发生缺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青紫型先天性心脏病患儿有无血栓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合并贫血者，可加重缺氧，有无心力衰竭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合并心力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正常胎儿血液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39" name="Picture 3"/>
          <p:cNvGraphicFramePr/>
          <p:nvPr/>
        </p:nvGraphicFramePr>
        <p:xfrm>
          <a:off x="1042920" y="1197000"/>
          <a:ext cx="7129440" cy="53402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40" name="Pictur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197000"/>
                    <a:ext cx="7129440" cy="534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12B4-1698-4D64-A61F-5C48047B999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5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54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4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1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55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55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9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56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56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7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57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57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57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57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8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8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58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58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93" name="AutoShape 53"/>
          <p:cNvSpPr/>
          <p:nvPr/>
        </p:nvSpPr>
        <p:spPr>
          <a:xfrm>
            <a:off x="3348000" y="494172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4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5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圆角矩形 54"/>
          <p:cNvSpPr/>
          <p:nvPr/>
        </p:nvSpPr>
        <p:spPr>
          <a:xfrm>
            <a:off x="4067280" y="2133720"/>
            <a:ext cx="4465440" cy="3889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关心患儿，建立良好护患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消除恐惧心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服家长和患儿主动配合各项检查和治疗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帮助家长正视患儿的智能发育、情绪和行为问题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430A-B2D1-49E3-98DB-DD26B56468C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395280" y="1341360"/>
            <a:ext cx="3301200" cy="665280"/>
            <a:chOff x="395280" y="1341360"/>
            <a:chExt cx="3301200" cy="665280"/>
          </a:xfrm>
        </p:grpSpPr>
        <p:grpSp>
          <p:nvGrpSpPr>
            <p:cNvPr id="60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0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Text Box 10"/>
            <p:cNvSpPr/>
            <p:nvPr/>
          </p:nvSpPr>
          <p:spPr>
            <a:xfrm>
              <a:off x="1973520" y="1413000"/>
              <a:ext cx="172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活动无耐力的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7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608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609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0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1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2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3" name="Text Box 18"/>
            <p:cNvSpPr/>
            <p:nvPr/>
          </p:nvSpPr>
          <p:spPr>
            <a:xfrm>
              <a:off x="1726560" y="2255760"/>
              <a:ext cx="9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饮食护理</a:t>
              </a:r>
              <a:r>
                <a:rPr b="0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4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5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616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617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8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9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0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1" name="Text Box 26"/>
            <p:cNvSpPr/>
            <p:nvPr/>
          </p:nvSpPr>
          <p:spPr>
            <a:xfrm>
              <a:off x="1689840" y="31402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防感染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2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2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62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62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63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63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640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641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50"/>
            <p:cNvSpPr/>
            <p:nvPr/>
          </p:nvSpPr>
          <p:spPr>
            <a:xfrm>
              <a:off x="1717560" y="571176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健康教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47" name="AutoShape 53"/>
          <p:cNvSpPr/>
          <p:nvPr/>
        </p:nvSpPr>
        <p:spPr>
          <a:xfrm>
            <a:off x="327672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8" name="矩形 55"/>
          <p:cNvSpPr/>
          <p:nvPr/>
        </p:nvSpPr>
        <p:spPr>
          <a:xfrm>
            <a:off x="1285920" y="39830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49" name="矩形 56"/>
          <p:cNvSpPr/>
          <p:nvPr/>
        </p:nvSpPr>
        <p:spPr>
          <a:xfrm>
            <a:off x="1357200" y="47149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0" name="圆角矩形 54"/>
          <p:cNvSpPr/>
          <p:nvPr/>
        </p:nvSpPr>
        <p:spPr>
          <a:xfrm>
            <a:off x="3924360" y="2924280"/>
            <a:ext cx="4465440" cy="3530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指导患儿及家长根据病情建立合理的生活制度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安排合适的活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给予足够的营养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防止各种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掌握观察病情变化的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定期到医院复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母亲妊娠史，在孕期最初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个月有无病毒感染、接触放射线和服用过影响胎儿发育的药物，孕母是否有代谢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患儿出生时有无青紫、心脏杂音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出生后各阶段的生长发育状况以及是否有下列表现：喂养困难、易乏力、气促、咳嗽、持续性青紫，青紫的程度及与活动的关系，有无蹲踞现象或阵发性缺氧发作，是否常有呼吸道感染或出现心力衰竭等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患儿是否有体格发育落后、皮肤发绀、杵状指（趾），脉搏增快，呼吸急促，鼻翼扇动和三凹征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了解并初步分析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线、心电图、超声心动图、心导管、血液等检查结果的临床意义。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14200" y="1371240"/>
            <a:ext cx="870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检查治疗过程以及高额的医疗费用对家庭经济造成的压力，都可能使患儿及其家长感到焦虑甚至恐慌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还要注意评估家长（尤其是母亲）是否有内疚感及其程度，患儿的智能发育、情绪和行为问题、自我意识及社会适应能力，尤其是亲子关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法洛四联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生长发育明显落后，口唇、鼻尖、耳垂、指趾青紫明显，伴杵状指（趾），双肺呼吸音清，胸骨左缘第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肋间闻及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Ⅲ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级收缩期杂音，肺动脉第二音减弱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辅助检查：血常规示血红蛋白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00g/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；胸部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线显示心影呈“靴形”，双肺纹理减少；心电图提示右心室肥大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迟缓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潜在并发症：心力衰竭、感染性心内膜炎、脑血栓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02E4-133E-44D7-B2FD-A6DD807C6AD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吃奶时突然阵发性呼吸困难、烦燥和青紫加重，出现晕厥。应考虑出现何种状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考虑出现了阵发性缺氧发作 ，应立即置患儿于膝胸屈曲位，轻症者可立即缓解；及时吸氧；遵医嘱给予强心剂等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活动无耐力的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应限制活动，避免情绪激动和剧烈哭闹，以免加重心脏负担；护理操作相对集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饮食护理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可先吸氧再喂食，斜抱位间歇喂乳，应特别细心、耐心，少食多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观察病情变化，防止并发症发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心率、心律、脉搏、呼吸、血压及心脏杂音的变化，必要时使用监护仪监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一旦发生缺氧发作，可立即置于膝胸屈曲位，吸氧，通知医师，并做好普萘洛尔、吗啡应用和纠正酸中毒等准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形成血栓，造成重要器官栓塞的危险，因此应注意多饮水、必要时静脉输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毒性心肌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念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755640" y="270360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病毒侵犯心脏所致，引起心肌细胞变性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坏死为主要病理特征的疾病，病变也可累及心包或心内膜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4211640" y="2133720"/>
            <a:ext cx="2665440" cy="10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94" y="12688"/>
                </a:moveTo>
                <a:lnTo>
                  <a:pt x="-618" y="2449"/>
                </a:lnTo>
              </a:path>
              <a:path w="21600" h="21600">
                <a:moveTo>
                  <a:pt x="-618" y="0"/>
                </a:moveTo>
                <a:lnTo>
                  <a:pt x="-618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月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上大多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9964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肠道和呼吸道病毒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柯萨奇病毒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组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埃可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腺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髓灰质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流感和副流感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单纯疱疹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腮腺炎病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轮状病毒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理生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多以心肌间质组织和附近血管周围单核细胞、淋巴细胞和中性粒细胞浸润为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肌变性（肿胀、断裂、溶解和坏死等）者为少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典型病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起病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内多有前驱病毒感染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伴有发热、周身不适、胸痛、咽痛、肌痛、腹泻和皮疹等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受累时患儿常诉疲乏无力、气促、心悸和心前区不适或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烦躁不安、面色苍白、血压下降等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后大多良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病例可发展为扩张性心肌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格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现心脏轻度扩大、心搏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尖区第一心音低钝或奔马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动过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肺部出现湿啰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肝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伴心包炎者还可听到心包摩擦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时会有晕厥、心力衰竭及心源性休克体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电图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心肌酶谱测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CR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象及血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毒学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肌肌钙蛋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Tn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TnT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线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原则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休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护心肌和清除自由基的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肾上腺皮质激素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治心源性休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大剂量丙种球蛋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89" name="AutoShape 4"/>
          <p:cNvSpPr/>
          <p:nvPr/>
        </p:nvSpPr>
        <p:spPr>
          <a:xfrm>
            <a:off x="2771640" y="1484280"/>
            <a:ext cx="4105440" cy="24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661" y="1862"/>
                </a:moveTo>
                <a:lnTo>
                  <a:pt x="-401" y="1008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道或消化道感染病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病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药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长发育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接种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过敏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2" name="AutoShape 4"/>
          <p:cNvSpPr/>
          <p:nvPr/>
        </p:nvSpPr>
        <p:spPr>
          <a:xfrm>
            <a:off x="3348000" y="2276640"/>
            <a:ext cx="4105440" cy="27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88" y="6490"/>
                </a:moveTo>
                <a:lnTo>
                  <a:pt x="-401" y="902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心前区不适、胸闷、气促、心悸、头晕、乏力、腹痛、多汗等症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无烦躁不安、面色苍白、血压下降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及时了解心电图、血液实验室检查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线的结果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5" name="AutoShape 4"/>
          <p:cNvSpPr/>
          <p:nvPr/>
        </p:nvSpPr>
        <p:spPr>
          <a:xfrm>
            <a:off x="4427640" y="2205000"/>
            <a:ext cx="4105080" cy="338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058" y="15815"/>
                </a:moveTo>
                <a:lnTo>
                  <a:pt x="-401" y="729"/>
                </a:lnTo>
              </a:path>
              <a:path w="21600" h="21600">
                <a:moveTo>
                  <a:pt x="-401" y="0"/>
                </a:moveTo>
                <a:lnTo>
                  <a:pt x="-40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及家长对该病的了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有无住院经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庭经济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对患儿的照顾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家长和患儿有无焦虑、恐惧等不良心理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居住环境及社区医疗条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题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活动无耐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　与心肌收缩力下降，组织供氧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律失常、心力衰竭、心源性休克、药物中毒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焦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与病程长，活动受限制和休学后落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出生后血液循环的改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循环阻力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动脉导管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卵圆孔闭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4211640" y="3716280"/>
            <a:ext cx="3529080" cy="136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726" y="1052"/>
                </a:moveTo>
                <a:lnTo>
                  <a:pt x="-466" y="1804"/>
                </a:lnTo>
              </a:path>
              <a:path w="21600" h="21600">
                <a:moveTo>
                  <a:pt x="-466" y="0"/>
                </a:moveTo>
                <a:lnTo>
                  <a:pt x="-46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约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80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生后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月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95%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婴儿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岁时形成解剖上的闭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FA08-6570-4490-9ACC-0763DF9CB00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0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0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0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0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0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1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1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1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1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24" name="AutoShape 53"/>
          <p:cNvSpPr/>
          <p:nvPr/>
        </p:nvSpPr>
        <p:spPr>
          <a:xfrm>
            <a:off x="3419640" y="191628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5" name="圆角矩形 54"/>
          <p:cNvSpPr/>
          <p:nvPr/>
        </p:nvSpPr>
        <p:spPr>
          <a:xfrm>
            <a:off x="4356000" y="1268280"/>
            <a:ext cx="435312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急性期完全卧床至少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般需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后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线心影恢复正常，可轻微活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恢复期至少半日卧床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半年至一年后，可恢复全日学习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脏增大者及心力衰竭者，需卧床半年以上至心脏缩小，待心衰控制、心脏情况好转后再逐渐开始活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004F-94A2-4E43-9E1B-4DEDCB2CAEB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3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3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3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3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4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4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4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4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4" name="AutoShape 53"/>
          <p:cNvSpPr/>
          <p:nvPr/>
        </p:nvSpPr>
        <p:spPr>
          <a:xfrm>
            <a:off x="3780000" y="314172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心律，有明显心律紊乱者应连续心电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的精神状态、心率和呼吸频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密切观察和记录患儿面色、心率、呼吸、体温及血压的变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使用洋地黄时严格掌握剂量，注意观察有无心率过慢，有无新的心律失常、恶心、呕吐等消化系统症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D6F0-C6E6-4646-90C8-FD06BDAAC2B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0" name="Group 4"/>
          <p:cNvGrpSpPr/>
          <p:nvPr/>
        </p:nvGrpSpPr>
        <p:grpSpPr>
          <a:xfrm>
            <a:off x="539640" y="1557360"/>
            <a:ext cx="2879640" cy="665280"/>
            <a:chOff x="539640" y="1557360"/>
            <a:chExt cx="2879640" cy="665280"/>
          </a:xfrm>
        </p:grpSpPr>
        <p:grpSp>
          <p:nvGrpSpPr>
            <p:cNvPr id="761" name="Group 5"/>
            <p:cNvGrpSpPr/>
            <p:nvPr/>
          </p:nvGrpSpPr>
          <p:grpSpPr>
            <a:xfrm>
              <a:off x="539640" y="1557360"/>
              <a:ext cx="761400" cy="665280"/>
              <a:chOff x="539640" y="1557360"/>
              <a:chExt cx="761400" cy="665280"/>
            </a:xfrm>
          </p:grpSpPr>
          <p:sp>
            <p:nvSpPr>
              <p:cNvPr id="762" name="AutoShape 6"/>
              <p:cNvSpPr/>
              <p:nvPr/>
            </p:nvSpPr>
            <p:spPr>
              <a:xfrm>
                <a:off x="545760" y="156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3" name="AutoShape 7"/>
              <p:cNvSpPr/>
              <p:nvPr/>
            </p:nvSpPr>
            <p:spPr>
              <a:xfrm>
                <a:off x="539640" y="155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4" name="AutoShape 8"/>
              <p:cNvSpPr/>
              <p:nvPr/>
            </p:nvSpPr>
            <p:spPr>
              <a:xfrm>
                <a:off x="583920" y="159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5" name="Line 9"/>
            <p:cNvSpPr/>
            <p:nvPr/>
          </p:nvSpPr>
          <p:spPr>
            <a:xfrm>
              <a:off x="1115640" y="213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6" name="Text Box 10"/>
            <p:cNvSpPr/>
            <p:nvPr/>
          </p:nvSpPr>
          <p:spPr>
            <a:xfrm>
              <a:off x="1861920" y="1629000"/>
              <a:ext cx="9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合理休息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7" name="Text Box 11"/>
            <p:cNvSpPr/>
            <p:nvPr/>
          </p:nvSpPr>
          <p:spPr>
            <a:xfrm>
              <a:off x="735840" y="160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68" name="Group 28"/>
          <p:cNvGrpSpPr/>
          <p:nvPr/>
        </p:nvGrpSpPr>
        <p:grpSpPr>
          <a:xfrm>
            <a:off x="468360" y="3213000"/>
            <a:ext cx="2879640" cy="665280"/>
            <a:chOff x="468360" y="3213000"/>
            <a:chExt cx="2879640" cy="665280"/>
          </a:xfrm>
        </p:grpSpPr>
        <p:grpSp>
          <p:nvGrpSpPr>
            <p:cNvPr id="769" name="Group 29"/>
            <p:cNvGrpSpPr/>
            <p:nvPr/>
          </p:nvGrpSpPr>
          <p:grpSpPr>
            <a:xfrm>
              <a:off x="468360" y="3213000"/>
              <a:ext cx="761400" cy="665280"/>
              <a:chOff x="468360" y="3213000"/>
              <a:chExt cx="761400" cy="665280"/>
            </a:xfrm>
          </p:grpSpPr>
          <p:sp>
            <p:nvSpPr>
              <p:cNvPr id="770" name="AutoShape 30"/>
              <p:cNvSpPr/>
              <p:nvPr/>
            </p:nvSpPr>
            <p:spPr>
              <a:xfrm>
                <a:off x="474480" y="3224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31"/>
              <p:cNvSpPr/>
              <p:nvPr/>
            </p:nvSpPr>
            <p:spPr>
              <a:xfrm>
                <a:off x="468360" y="3213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32"/>
              <p:cNvSpPr/>
              <p:nvPr/>
            </p:nvSpPr>
            <p:spPr>
              <a:xfrm>
                <a:off x="512640" y="3252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33"/>
            <p:cNvSpPr/>
            <p:nvPr/>
          </p:nvSpPr>
          <p:spPr>
            <a:xfrm>
              <a:off x="1044360" y="3789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34"/>
            <p:cNvSpPr/>
            <p:nvPr/>
          </p:nvSpPr>
          <p:spPr>
            <a:xfrm>
              <a:off x="1514520" y="326376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35"/>
            <p:cNvSpPr/>
            <p:nvPr/>
          </p:nvSpPr>
          <p:spPr>
            <a:xfrm>
              <a:off x="664560" y="326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36"/>
          <p:cNvGrpSpPr/>
          <p:nvPr/>
        </p:nvGrpSpPr>
        <p:grpSpPr>
          <a:xfrm>
            <a:off x="539640" y="4797360"/>
            <a:ext cx="2879640" cy="665280"/>
            <a:chOff x="539640" y="4797360"/>
            <a:chExt cx="2879640" cy="665280"/>
          </a:xfrm>
        </p:grpSpPr>
        <p:grpSp>
          <p:nvGrpSpPr>
            <p:cNvPr id="777" name="Group 37"/>
            <p:cNvGrpSpPr/>
            <p:nvPr/>
          </p:nvGrpSpPr>
          <p:grpSpPr>
            <a:xfrm>
              <a:off x="539640" y="4797360"/>
              <a:ext cx="761400" cy="665280"/>
              <a:chOff x="539640" y="4797360"/>
              <a:chExt cx="761400" cy="665280"/>
            </a:xfrm>
          </p:grpSpPr>
          <p:sp>
            <p:nvSpPr>
              <p:cNvPr id="778" name="AutoShape 38"/>
              <p:cNvSpPr/>
              <p:nvPr/>
            </p:nvSpPr>
            <p:spPr>
              <a:xfrm>
                <a:off x="54576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39"/>
              <p:cNvSpPr/>
              <p:nvPr/>
            </p:nvSpPr>
            <p:spPr>
              <a:xfrm>
                <a:off x="53964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40"/>
              <p:cNvSpPr/>
              <p:nvPr/>
            </p:nvSpPr>
            <p:spPr>
              <a:xfrm>
                <a:off x="58392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41"/>
            <p:cNvSpPr/>
            <p:nvPr/>
          </p:nvSpPr>
          <p:spPr>
            <a:xfrm>
              <a:off x="111564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42"/>
            <p:cNvSpPr/>
            <p:nvPr/>
          </p:nvSpPr>
          <p:spPr>
            <a:xfrm>
              <a:off x="1585800" y="4869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43"/>
            <p:cNvSpPr/>
            <p:nvPr/>
          </p:nvSpPr>
          <p:spPr>
            <a:xfrm>
              <a:off x="73584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84" name="AutoShape 53"/>
          <p:cNvSpPr/>
          <p:nvPr/>
        </p:nvSpPr>
        <p:spPr>
          <a:xfrm>
            <a:off x="3492360" y="501336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5" name="圆角矩形 54"/>
          <p:cNvSpPr/>
          <p:nvPr/>
        </p:nvSpPr>
        <p:spPr>
          <a:xfrm>
            <a:off x="4500720" y="2349360"/>
            <a:ext cx="4352760" cy="4104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倾听患儿及家长的倾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减少患儿和家长的焦虑、恐惧心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嘱其出院后定期到门诊复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告知预防呼吸道感染、消化道感染的常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患儿进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会家长测量脉率、心律，发现异常要及时复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强调休息对本病恢复的重要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6" name="矩形 55"/>
          <p:cNvSpPr/>
          <p:nvPr/>
        </p:nvSpPr>
        <p:spPr>
          <a:xfrm>
            <a:off x="1116000" y="2852640"/>
            <a:ext cx="39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及时发现并处理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7" name="矩形 56"/>
          <p:cNvSpPr/>
          <p:nvPr/>
        </p:nvSpPr>
        <p:spPr>
          <a:xfrm>
            <a:off x="1403280" y="458136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理支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健康教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33:46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