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67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68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</p:sldMasterIdLst>
  <p:sldIdLst>
    <p:sldId id="256" r:id="rId86"/>
    <p:sldId id="257" r:id="rId87"/>
    <p:sldId id="258" r:id="rId88"/>
    <p:sldId id="259" r:id="rId89"/>
    <p:sldId id="260" r:id="rId90"/>
    <p:sldId id="261" r:id="rId91"/>
    <p:sldId id="262" r:id="rId92"/>
    <p:sldId id="263" r:id="rId93"/>
    <p:sldId id="264" r:id="rId94"/>
    <p:sldId id="265" r:id="rId95"/>
    <p:sldId id="266" r:id="rId96"/>
    <p:sldId id="267" r:id="rId97"/>
    <p:sldId id="268" r:id="rId98"/>
    <p:sldId id="269" r:id="rId99"/>
    <p:sldId id="270" r:id="rId100"/>
    <p:sldId id="271" r:id="rId101"/>
    <p:sldId id="272" r:id="rId102"/>
    <p:sldId id="273" r:id="rId103"/>
    <p:sldId id="274" r:id="rId104"/>
    <p:sldId id="275" r:id="rId105"/>
    <p:sldId id="276" r:id="rId106"/>
    <p:sldId id="277" r:id="rId107"/>
    <p:sldId id="278" r:id="rId108"/>
    <p:sldId id="279" r:id="rId109"/>
    <p:sldId id="280" r:id="rId110"/>
    <p:sldId id="281" r:id="rId111"/>
    <p:sldId id="282" r:id="rId112"/>
    <p:sldId id="283" r:id="rId113"/>
    <p:sldId id="284" r:id="rId114"/>
    <p:sldId id="285" r:id="rId115"/>
    <p:sldId id="286" r:id="rId116"/>
    <p:sldId id="287" r:id="rId117"/>
    <p:sldId id="288" r:id="rId118"/>
    <p:sldId id="289" r:id="rId119"/>
    <p:sldId id="290" r:id="rId120"/>
    <p:sldId id="291" r:id="rId121"/>
    <p:sldId id="292" r:id="rId122"/>
    <p:sldId id="293" r:id="rId123"/>
    <p:sldId id="294" r:id="rId124"/>
    <p:sldId id="295" r:id="rId125"/>
    <p:sldId id="296" r:id="rId126"/>
    <p:sldId id="297" r:id="rId127"/>
    <p:sldId id="298" r:id="rId128"/>
    <p:sldId id="299" r:id="rId129"/>
    <p:sldId id="300" r:id="rId130"/>
    <p:sldId id="301" r:id="rId131"/>
    <p:sldId id="302" r:id="rId132"/>
    <p:sldId id="303" r:id="rId133"/>
    <p:sldId id="304" r:id="rId134"/>
    <p:sldId id="305" r:id="rId135"/>
    <p:sldId id="306" r:id="rId136"/>
    <p:sldId id="307" r:id="rId137"/>
    <p:sldId id="308" r:id="rId138"/>
    <p:sldId id="309" r:id="rId139"/>
    <p:sldId id="310" r:id="rId140"/>
    <p:sldId id="311" r:id="rId141"/>
    <p:sldId id="312" r:id="rId142"/>
    <p:sldId id="313" r:id="rId143"/>
    <p:sldId id="314" r:id="rId144"/>
    <p:sldId id="315" r:id="rId145"/>
    <p:sldId id="316" r:id="rId146"/>
    <p:sldId id="317" r:id="rId147"/>
    <p:sldId id="318" r:id="rId148"/>
    <p:sldId id="319" r:id="rId149"/>
    <p:sldId id="320" r:id="rId150"/>
    <p:sldId id="321" r:id="rId151"/>
    <p:sldId id="322" r:id="rId152"/>
    <p:sldId id="323" r:id="rId153"/>
    <p:sldId id="324" r:id="rId154"/>
    <p:sldId id="325" r:id="rId155"/>
    <p:sldId id="326" r:id="rId156"/>
    <p:sldId id="327" r:id="rId157"/>
    <p:sldId id="328" r:id="rId158"/>
    <p:sldId id="329" r:id="rId159"/>
    <p:sldId id="330" r:id="rId160"/>
    <p:sldId id="331" r:id="rId161"/>
    <p:sldId id="332" r:id="rId162"/>
    <p:sldId id="333" r:id="rId163"/>
    <p:sldId id="334" r:id="rId164"/>
    <p:sldId id="335" r:id="rId165"/>
    <p:sldId id="336" r:id="rId166"/>
    <p:sldId id="337" r:id="rId167"/>
    <p:sldId id="338" r:id="rId168"/>
    <p:sldId id="339" r:id="rId169"/>
    <p:sldId id="340" r:id="rId170"/>
    <p:sldId id="341" r:id="rId171"/>
    <p:sldId id="342" r:id="rId172"/>
    <p:sldId id="343" r:id="rId173"/>
    <p:sldId id="344" r:id="rId174"/>
    <p:sldId id="345" r:id="rId175"/>
    <p:sldId id="346" r:id="rId176"/>
    <p:sldId id="347" r:id="rId1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" Target="slides/slide1.xml"/><Relationship Id="rId87" Type="http://schemas.openxmlformats.org/officeDocument/2006/relationships/slide" Target="slides/slide2.xml"/><Relationship Id="rId88" Type="http://schemas.openxmlformats.org/officeDocument/2006/relationships/slide" Target="slides/slide3.xml"/><Relationship Id="rId89" Type="http://schemas.openxmlformats.org/officeDocument/2006/relationships/slide" Target="slides/slide4.xml"/><Relationship Id="rId90" Type="http://schemas.openxmlformats.org/officeDocument/2006/relationships/slide" Target="slides/slide5.xml"/><Relationship Id="rId91" Type="http://schemas.openxmlformats.org/officeDocument/2006/relationships/slide" Target="slides/slide6.xml"/><Relationship Id="rId92" Type="http://schemas.openxmlformats.org/officeDocument/2006/relationships/slide" Target="slides/slide7.xml"/><Relationship Id="rId93" Type="http://schemas.openxmlformats.org/officeDocument/2006/relationships/slide" Target="slides/slide8.xml"/><Relationship Id="rId94" Type="http://schemas.openxmlformats.org/officeDocument/2006/relationships/slide" Target="slides/slide9.xml"/><Relationship Id="rId95" Type="http://schemas.openxmlformats.org/officeDocument/2006/relationships/slide" Target="slides/slide10.xml"/><Relationship Id="rId96" Type="http://schemas.openxmlformats.org/officeDocument/2006/relationships/slide" Target="slides/slide11.xml"/><Relationship Id="rId97" Type="http://schemas.openxmlformats.org/officeDocument/2006/relationships/slide" Target="slides/slide12.xml"/><Relationship Id="rId98" Type="http://schemas.openxmlformats.org/officeDocument/2006/relationships/slide" Target="slides/slide13.xml"/><Relationship Id="rId99" Type="http://schemas.openxmlformats.org/officeDocument/2006/relationships/slide" Target="slides/slide14.xml"/><Relationship Id="rId100" Type="http://schemas.openxmlformats.org/officeDocument/2006/relationships/slide" Target="slides/slide15.xml"/><Relationship Id="rId101" Type="http://schemas.openxmlformats.org/officeDocument/2006/relationships/slide" Target="slides/slide16.xml"/><Relationship Id="rId102" Type="http://schemas.openxmlformats.org/officeDocument/2006/relationships/slide" Target="slides/slide17.xml"/><Relationship Id="rId103" Type="http://schemas.openxmlformats.org/officeDocument/2006/relationships/slide" Target="slides/slide18.xml"/><Relationship Id="rId104" Type="http://schemas.openxmlformats.org/officeDocument/2006/relationships/slide" Target="slides/slide19.xml"/><Relationship Id="rId105" Type="http://schemas.openxmlformats.org/officeDocument/2006/relationships/slide" Target="slides/slide20.xml"/><Relationship Id="rId106" Type="http://schemas.openxmlformats.org/officeDocument/2006/relationships/slide" Target="slides/slide21.xml"/><Relationship Id="rId107" Type="http://schemas.openxmlformats.org/officeDocument/2006/relationships/slide" Target="slides/slide22.xml"/><Relationship Id="rId108" Type="http://schemas.openxmlformats.org/officeDocument/2006/relationships/slide" Target="slides/slide23.xml"/><Relationship Id="rId109" Type="http://schemas.openxmlformats.org/officeDocument/2006/relationships/slide" Target="slides/slide24.xml"/><Relationship Id="rId110" Type="http://schemas.openxmlformats.org/officeDocument/2006/relationships/slide" Target="slides/slide25.xml"/><Relationship Id="rId111" Type="http://schemas.openxmlformats.org/officeDocument/2006/relationships/slide" Target="slides/slide26.xml"/><Relationship Id="rId112" Type="http://schemas.openxmlformats.org/officeDocument/2006/relationships/slide" Target="slides/slide27.xml"/><Relationship Id="rId113" Type="http://schemas.openxmlformats.org/officeDocument/2006/relationships/slide" Target="slides/slide28.xml"/><Relationship Id="rId114" Type="http://schemas.openxmlformats.org/officeDocument/2006/relationships/slide" Target="slides/slide29.xml"/><Relationship Id="rId115" Type="http://schemas.openxmlformats.org/officeDocument/2006/relationships/slide" Target="slides/slide30.xml"/><Relationship Id="rId116" Type="http://schemas.openxmlformats.org/officeDocument/2006/relationships/slide" Target="slides/slide31.xml"/><Relationship Id="rId117" Type="http://schemas.openxmlformats.org/officeDocument/2006/relationships/slide" Target="slides/slide32.xml"/><Relationship Id="rId118" Type="http://schemas.openxmlformats.org/officeDocument/2006/relationships/slide" Target="slides/slide33.xml"/><Relationship Id="rId119" Type="http://schemas.openxmlformats.org/officeDocument/2006/relationships/slide" Target="slides/slide34.xml"/><Relationship Id="rId120" Type="http://schemas.openxmlformats.org/officeDocument/2006/relationships/slide" Target="slides/slide35.xml"/><Relationship Id="rId121" Type="http://schemas.openxmlformats.org/officeDocument/2006/relationships/slide" Target="slides/slide36.xml"/><Relationship Id="rId122" Type="http://schemas.openxmlformats.org/officeDocument/2006/relationships/slide" Target="slides/slide37.xml"/><Relationship Id="rId123" Type="http://schemas.openxmlformats.org/officeDocument/2006/relationships/slide" Target="slides/slide38.xml"/><Relationship Id="rId124" Type="http://schemas.openxmlformats.org/officeDocument/2006/relationships/slide" Target="slides/slide39.xml"/><Relationship Id="rId125" Type="http://schemas.openxmlformats.org/officeDocument/2006/relationships/slide" Target="slides/slide40.xml"/><Relationship Id="rId126" Type="http://schemas.openxmlformats.org/officeDocument/2006/relationships/slide" Target="slides/slide41.xml"/><Relationship Id="rId127" Type="http://schemas.openxmlformats.org/officeDocument/2006/relationships/slide" Target="slides/slide42.xml"/><Relationship Id="rId128" Type="http://schemas.openxmlformats.org/officeDocument/2006/relationships/slide" Target="slides/slide43.xml"/><Relationship Id="rId129" Type="http://schemas.openxmlformats.org/officeDocument/2006/relationships/slide" Target="slides/slide44.xml"/><Relationship Id="rId130" Type="http://schemas.openxmlformats.org/officeDocument/2006/relationships/slide" Target="slides/slide45.xml"/><Relationship Id="rId131" Type="http://schemas.openxmlformats.org/officeDocument/2006/relationships/slide" Target="slides/slide46.xml"/><Relationship Id="rId132" Type="http://schemas.openxmlformats.org/officeDocument/2006/relationships/slide" Target="slides/slide47.xml"/><Relationship Id="rId133" Type="http://schemas.openxmlformats.org/officeDocument/2006/relationships/slide" Target="slides/slide48.xml"/><Relationship Id="rId134" Type="http://schemas.openxmlformats.org/officeDocument/2006/relationships/slide" Target="slides/slide49.xml"/><Relationship Id="rId135" Type="http://schemas.openxmlformats.org/officeDocument/2006/relationships/slide" Target="slides/slide50.xml"/><Relationship Id="rId136" Type="http://schemas.openxmlformats.org/officeDocument/2006/relationships/slide" Target="slides/slide51.xml"/><Relationship Id="rId137" Type="http://schemas.openxmlformats.org/officeDocument/2006/relationships/slide" Target="slides/slide52.xml"/><Relationship Id="rId138" Type="http://schemas.openxmlformats.org/officeDocument/2006/relationships/slide" Target="slides/slide53.xml"/><Relationship Id="rId139" Type="http://schemas.openxmlformats.org/officeDocument/2006/relationships/slide" Target="slides/slide54.xml"/><Relationship Id="rId140" Type="http://schemas.openxmlformats.org/officeDocument/2006/relationships/slide" Target="slides/slide55.xml"/><Relationship Id="rId141" Type="http://schemas.openxmlformats.org/officeDocument/2006/relationships/slide" Target="slides/slide56.xml"/><Relationship Id="rId142" Type="http://schemas.openxmlformats.org/officeDocument/2006/relationships/slide" Target="slides/slide57.xml"/><Relationship Id="rId143" Type="http://schemas.openxmlformats.org/officeDocument/2006/relationships/slide" Target="slides/slide58.xml"/><Relationship Id="rId144" Type="http://schemas.openxmlformats.org/officeDocument/2006/relationships/slide" Target="slides/slide59.xml"/><Relationship Id="rId145" Type="http://schemas.openxmlformats.org/officeDocument/2006/relationships/slide" Target="slides/slide60.xml"/><Relationship Id="rId146" Type="http://schemas.openxmlformats.org/officeDocument/2006/relationships/slide" Target="slides/slide61.xml"/><Relationship Id="rId147" Type="http://schemas.openxmlformats.org/officeDocument/2006/relationships/slide" Target="slides/slide62.xml"/><Relationship Id="rId148" Type="http://schemas.openxmlformats.org/officeDocument/2006/relationships/slide" Target="slides/slide63.xml"/><Relationship Id="rId149" Type="http://schemas.openxmlformats.org/officeDocument/2006/relationships/slide" Target="slides/slide64.xml"/><Relationship Id="rId150" Type="http://schemas.openxmlformats.org/officeDocument/2006/relationships/slide" Target="slides/slide65.xml"/><Relationship Id="rId151" Type="http://schemas.openxmlformats.org/officeDocument/2006/relationships/slide" Target="slides/slide66.xml"/><Relationship Id="rId152" Type="http://schemas.openxmlformats.org/officeDocument/2006/relationships/slide" Target="slides/slide67.xml"/><Relationship Id="rId153" Type="http://schemas.openxmlformats.org/officeDocument/2006/relationships/slide" Target="slides/slide68.xml"/><Relationship Id="rId154" Type="http://schemas.openxmlformats.org/officeDocument/2006/relationships/slide" Target="slides/slide69.xml"/><Relationship Id="rId155" Type="http://schemas.openxmlformats.org/officeDocument/2006/relationships/slide" Target="slides/slide70.xml"/><Relationship Id="rId156" Type="http://schemas.openxmlformats.org/officeDocument/2006/relationships/slide" Target="slides/slide71.xml"/><Relationship Id="rId157" Type="http://schemas.openxmlformats.org/officeDocument/2006/relationships/slide" Target="slides/slide72.xml"/><Relationship Id="rId158" Type="http://schemas.openxmlformats.org/officeDocument/2006/relationships/slide" Target="slides/slide73.xml"/><Relationship Id="rId159" Type="http://schemas.openxmlformats.org/officeDocument/2006/relationships/slide" Target="slides/slide74.xml"/><Relationship Id="rId160" Type="http://schemas.openxmlformats.org/officeDocument/2006/relationships/slide" Target="slides/slide75.xml"/><Relationship Id="rId161" Type="http://schemas.openxmlformats.org/officeDocument/2006/relationships/slide" Target="slides/slide76.xml"/><Relationship Id="rId162" Type="http://schemas.openxmlformats.org/officeDocument/2006/relationships/slide" Target="slides/slide77.xml"/><Relationship Id="rId163" Type="http://schemas.openxmlformats.org/officeDocument/2006/relationships/slide" Target="slides/slide78.xml"/><Relationship Id="rId164" Type="http://schemas.openxmlformats.org/officeDocument/2006/relationships/slide" Target="slides/slide79.xml"/><Relationship Id="rId165" Type="http://schemas.openxmlformats.org/officeDocument/2006/relationships/slide" Target="slides/slide80.xml"/><Relationship Id="rId166" Type="http://schemas.openxmlformats.org/officeDocument/2006/relationships/slide" Target="slides/slide81.xml"/><Relationship Id="rId167" Type="http://schemas.openxmlformats.org/officeDocument/2006/relationships/slide" Target="slides/slide82.xml"/><Relationship Id="rId168" Type="http://schemas.openxmlformats.org/officeDocument/2006/relationships/slide" Target="slides/slide83.xml"/><Relationship Id="rId169" Type="http://schemas.openxmlformats.org/officeDocument/2006/relationships/slide" Target="slides/slide84.xml"/><Relationship Id="rId170" Type="http://schemas.openxmlformats.org/officeDocument/2006/relationships/slide" Target="slides/slide85.xml"/><Relationship Id="rId171" Type="http://schemas.openxmlformats.org/officeDocument/2006/relationships/slide" Target="slides/slide86.xml"/><Relationship Id="rId172" Type="http://schemas.openxmlformats.org/officeDocument/2006/relationships/slide" Target="slides/slide87.xml"/><Relationship Id="rId173" Type="http://schemas.openxmlformats.org/officeDocument/2006/relationships/slide" Target="slides/slide88.xml"/><Relationship Id="rId174" Type="http://schemas.openxmlformats.org/officeDocument/2006/relationships/slide" Target="slides/slide89.xml"/><Relationship Id="rId175" Type="http://schemas.openxmlformats.org/officeDocument/2006/relationships/slide" Target="slides/slide90.xml"/><Relationship Id="rId176" Type="http://schemas.openxmlformats.org/officeDocument/2006/relationships/slide" Target="slides/slide91.xml"/><Relationship Id="rId177" Type="http://schemas.openxmlformats.org/officeDocument/2006/relationships/slide" Target="slides/slide92.xml"/><Relationship Id="rId1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2D59C-0785-4496-9763-AFEB84CB9C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D6F26-3DF3-4915-AE5A-9F622064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A9463-669D-4FB4-B59F-11E54BEB49B3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3087C8-B776-4E22-8D41-BFCD250C5952}" type="slidenum">
              <a:t>&lt;#&gt;</a:t>
            </a:fld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E958FE-4895-42E2-8C24-2D152DADFCEF}" type="slidenum">
              <a:t>&lt;#&gt;</a:t>
            </a:fld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8D0E65-C3EF-4C1A-A19F-02EA2839EE3F}" type="slidenum">
              <a:t>&lt;#&gt;</a:t>
            </a:fld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56EE20-ED64-4BD9-9134-74CACD00D5BE}" type="slidenum">
              <a:t>&lt;#&gt;</a:t>
            </a:fld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2DE1A6-2138-4A2C-B75F-6E03533B13B5}" type="slidenum">
              <a:t>&lt;#&gt;</a:t>
            </a:fld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62CC44-01A6-4807-8648-B669A9FB258F}" type="slidenum">
              <a:t>&lt;#&gt;</a:t>
            </a:fld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8E73AC-219D-479F-BC6B-38A58FC76DA3}" type="slidenum">
              <a:t>&lt;#&gt;</a:t>
            </a:fld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2463BF-3FC9-439F-98A5-318AB3E1719C}" type="slidenum">
              <a:t>&lt;#&gt;</a:t>
            </a:fld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761F2E-22A8-4788-BDAF-7A0B57B7A2D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C1D83-7345-426F-BF3A-BBC49516FE5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E7AC0-65C5-4390-9521-6EBD5EB3B2F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A6982-2F6D-4733-817A-EC6C10FD446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B24A3-78E3-4FC9-94E0-CB59B1EC712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7CA59-847D-4E05-BC66-866B2585591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20A29-F574-4046-A69A-C7F1A1D8F3A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DC6CC-8835-4A6C-83E4-36D901E0BF0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B2115-352E-4314-B588-F4037146C1E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CE7C46-306F-4AF9-87CF-962E17E81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22B77-3EFD-4DEC-876F-44C866BE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6FD956-6F7A-45CE-9CA2-1C2BA9FA0B3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24D5ED-8790-4300-BA85-8718C5E9F26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91DF45-73F3-4120-AB13-91CBD02D964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0F4AC7-ECB2-41D1-8870-BFCFDD81224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F5D774-6A12-44FB-A2C2-77324C18C63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86E827-9B90-4F0B-8865-8D0B6DC1A34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AB9092-88EB-4B98-8405-AA6681EEC06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6BDCD4-423A-48F7-BD0C-323F3DD01E6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658A2A-099F-4EB8-9D6A-3882B75625F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05E28F-8762-46D2-8823-43981C888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12736-0731-4A64-AE4E-AE3538233B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48700F-1DE9-4C28-A933-D2195265FB3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750FE3-6E38-4064-8F52-BC80BF038B2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C063F1-2F15-43A1-84AF-0803B303411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35D088-E09E-4515-91A9-75AEB785FE7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9BF8E4-3F83-41DF-8B0C-C027514621F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95547C-26B6-46BC-9F58-039DEC270D9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3F5D06-50EA-40B9-92D3-CDE89978E8C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632840-508A-41CB-B5B2-748BA84CC4D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99201D-77C6-4AA7-A464-6DB9F378E31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C398FD-0B4E-4D49-86A0-04C393EE8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3E65-41B8-4B2B-9CE8-A451617A10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BFB7DD-255B-43AC-833D-0803805753D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9118C5-B81F-4B26-A890-7DEEFE954EB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BF6CCC-1A5B-4F2C-AF2B-513B8B70FCA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48AF9-A302-4EBD-BCA3-F50DE5C111F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160BE-F2F5-4569-AC55-2431B1BE387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249EE-6C66-4FF6-82B8-C1A23A0ACA9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A4556-4050-42F0-AE19-034425B04D2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70A32-1F32-4F3E-9777-B4D5853BCD5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B8BC7-E1A2-49A0-90DF-8D8626FF464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9683F-7B87-40B9-A62E-9698150E31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0D0C-4C05-4F35-9B5D-855AE535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EBBD2-151A-461C-94AA-E7B7550B8B2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012D8-8ED4-4D69-AAE0-27F38D63B56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B842E-8829-4A18-AD9C-49413E0EC22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29E76-CFB3-48AB-843B-26061D619C2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C3587-539E-44F9-8053-EFCBDFCEBBE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AF9C73-669A-4D8C-B08B-D91ADAF0FF6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739AFA-5DDE-454A-A974-32F0365A2E5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90740B-7A5F-43DB-A472-DF4C8912762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A68335-BEC5-478C-85F9-0508556BFF7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7B63E3-0EC7-4DAC-BC83-26D0AF49A9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650C-76B5-43B7-A5BE-AF805BF7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17CD0F-79A5-49C9-A60F-3CAAE3FEE58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0DE37F-6BD7-4482-A45B-FCCBBB7957F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1A0DF3-7EAF-4708-92FC-8D798E8D907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2DBFD4-6DDD-4A60-B978-2DE8F34E65F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053251-AC65-479A-B3DA-ADFA678EAA1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5B0971-D6B3-4030-87C4-DDF59CD609C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113174-0208-43AA-B711-DD8FBCD4982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B0B50E-9390-4918-A43E-60FFA189D31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C60DA3-8E43-4F94-92E7-4FE38267EF6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4D6411-749D-4C67-ACE3-68BDE93FE4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93A2-262D-4DA0-B783-91DCE703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46209F-D71B-487D-8B95-AE8D57E2547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40E315-8E79-45E7-9118-9F71F2B988F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B9DB5F-F106-44B9-8379-42C6208D739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68D00E-FAE5-4F7C-AB10-55DA568F670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399EB3-5165-4FD4-ACB7-97B41677F69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9CCB0A-A2FB-4797-AB1F-2D799244DEE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2D7DF5-22BA-49F4-A01B-FCCB1D40D35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3811CA-4E7F-4D8C-9099-45E8C581FFD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0A74C9-2C83-4D32-A5D7-93879EA43F9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9CC8B-D44F-46B3-B9E7-7B6085499F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8806-03BD-47BD-A021-D08242EE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C91B2-D0EC-49FC-AFFA-16E16054C8E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15DC2-D098-4354-8FFE-81A7DF594AB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AEAAD-8026-468F-BB9E-79D8F1D382F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6C18F-11A3-4339-8641-3346142A0B5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77BCB-63F0-4296-8A6E-366551A8199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6EB84-61F9-434B-BFA9-133188139CC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F78FA-4B95-4B57-8672-78933BF2C84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2B96C-A791-4675-BFC6-BFDE9266E54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6C961-7B7C-4BAA-81D8-69C6F62B698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A1D6F-6E08-477D-A2C6-BA76ED8B56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F127-991D-469F-B9DD-7BEB65E3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17C9B-8FC5-4AE0-8ADC-81B1E8A7BD9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CE0CF8-89C8-4867-8208-958FD796FD7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B1995B-B214-4AA5-9BB7-8820056EBAE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403B06-8B08-4EFB-AD30-5BFB576D2CF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4E86A9-E83F-415D-9932-7082D5916C2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AFBCD6-C938-407D-900B-2C522C10EAE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F0B1AB-EF4A-4A20-9EFB-968CF0F7D3E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864AD0-1FC0-473F-8FD0-209D6E81769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5A103F-CF4B-4F5C-B58D-3A764ED3736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C58595-E5B2-4529-8574-BD3C9747CA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9833-A198-4475-AF8E-C160B686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4E2A3C-DD39-46DC-92FE-5480C6CA5D8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5F6028-BBB6-40ED-A059-99AC902E4B6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EF88DF-D542-4939-9C87-B9BA633C6D9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D82379-3E41-487E-A030-D90D18C1D7C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CE371E-41F9-4751-B961-19F785F6B0A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528E79-51AA-4512-ABA7-CA3D771D48A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AB9772-425B-45E9-A134-94CB577452E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8421A9-2B87-410C-87E6-04FFF239505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099C63-E163-4CF3-A64B-B5203B9AB10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D26D03-7E9D-49E0-B07E-3EDFDFCB3F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5200E-1F0D-4C29-B467-B84CCB07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8998-3750-4B16-A001-507FC7EF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F6244C-AC88-428C-9DA7-078704B37A4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65B4B4-8543-42CA-96CB-5F8827B38F6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489E4F-A587-45C4-A74D-D6343A0A83C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CDF011-1488-4671-B24C-E900606A8DB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B87DB9-6BE0-414E-BDFB-8CC46437EA1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EEBCD-C679-4294-88FC-501E26776C2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1E74F-7A7E-40FA-B98C-BF6B6F0CACA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6918F-D4E0-40F1-8DFE-278238FAF48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CED49-EA81-4629-AC89-6CAF72D43E2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B2650-CD69-413E-A939-C16B5E8F2E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0790-4DE3-4DFC-8280-E9B0D9E5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B45DF-9D85-4034-8469-8D3C3BBCAB9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975F7-D01F-4846-860E-5D7B86236CF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472FD-8A9B-40A7-B537-116FC8B4F56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FE3B3-71E1-41E2-835A-77A750B1954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65A04-9A08-4EF8-9D5D-4E9A46642B0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06798-3FC8-4A42-9D0E-6905527AFE1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63366-A859-41AC-8670-8873DD03352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A88D-67F4-4D34-B145-4E864CDE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0AA9D4-1286-4198-B080-B84495BAEF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51D9-0C43-4951-808B-72D3A9C6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CB34C5-DD8D-4C94-B116-B7B172411E4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DFA773-C6B7-420D-9FD9-D4B464F0A2D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D341AF-5A78-4195-A924-97B7762E675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181804-3B17-47D0-A506-A834ACBE705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AA933E-4742-45C3-99DB-BA532BAB3B74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420BB3-D8B0-4928-B273-F995F59278B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B7AE8-EE01-4754-8B86-A490FC1AACA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B461FF-F80D-42C9-8FEB-E13918328C0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F82930-5EC5-4D8F-A079-442EAE40093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CC5B5C-0C62-4D80-8F13-780582A262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AF65-AD9E-415C-AFB7-6A862E970C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27C708-6670-462F-83FA-D348BB1CE6D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BE35F9-1C47-4A81-A998-20437B7B24D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27C315-F965-46D3-8D33-4C4F1389543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606BA8-68C8-4233-BFEE-890254D2277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95F1E5-6929-4D79-9135-87113AC3A04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74DEBF-9536-495F-9E25-C8DA85418DF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9CAC45-F1EC-46CE-A3D7-34C56D65CE8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976689-6C26-4A84-9474-E36B23270AA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AA06CB-400E-4E3C-86DC-2AD972E3F8D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B0F56A-2F75-4F80-B5BB-F9B48C35539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EE62F-D440-44D5-B7F7-0BED9B2792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39A1F1-BABA-4B26-A0DD-ED1D93BB863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BE523D-F538-4B30-8474-AFB6959548B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A49DAC-8A51-41BE-A565-B778158EA06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F800C-F9EC-4110-99EE-138AECAABDB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88600-98DF-428D-99BB-D0366BE0A37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646BB-4460-4682-962C-9FD217CEBCE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2A6CA-1116-419A-B74C-023751DEE48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DA1AA-5B6D-4EF1-838A-E6888912BDF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7C46C-4939-41C3-8A18-076A71496A1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B24BC-ECDD-4A50-B55C-C5D4E6D195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4BB15-708C-4E25-BCD4-2CF78053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34043-D4A0-4DEE-BD06-98A6E1C7139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38FEF-67EF-4C92-83B8-2DF64E0EB50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39120-B03F-46D2-AB5B-D6DB88A30D9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B58AA-9C16-4AED-8063-C76C5CD8D7F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85A95-AA2C-4B47-BC5A-C039FC31A89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FC656B-751D-44D6-942A-0FE2A3DD7DE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65A353-696D-44C5-A50F-542BEB3E5B3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19C04C-8FA5-4709-AED0-6C7BD9FC77A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9CF88D-331A-4488-A00F-3E77D732A46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95D3FB-C4B1-46DE-BCD3-1BD9BF77BC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E54CF-8847-4F0F-AD34-7EB8E502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D8D534-D5B0-4151-B2BC-FA2CFEA3138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DFF3D-7EC1-4CBD-91CC-CE77D14C7BB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B92007-5659-493A-BD7F-B931A13C284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A47491-39C1-41EE-928F-5459B106CA0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07C20B-1086-462C-A482-84722AFC458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02C829-F00F-42BA-BEDB-5B6D863EE1B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0F1FAF-F220-49AA-81FB-27F3D818C32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8AAD2D-B207-442E-BBDC-1572A638570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6BDF88-1D57-4590-982E-26AFB7E77AA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20B436-3784-4896-8BD3-E9F3FE5343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C89EB-164B-49EF-B08C-A8E9CFB4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59DC8C-478D-46C3-9F79-05445AC2D41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A6656F-3B7E-4886-998E-B3BAEB9DDD8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E3A98F-DEB3-437C-A62A-68B5084A203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218F6B-16AF-4073-9924-5237608FE89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0B46F3-D1CB-45D8-BAFA-0EDA923A72D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653D78-9A19-43FF-B83B-05398504539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18EADE-4E03-4AD7-A3EC-2758D2CF35D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6BA0B0-C474-4190-B27E-2FAFCE745AD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B56E85-FD3B-4B7B-B0F9-0718F9EB12B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73FCF-4F92-48E7-8363-D136FB2DC0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3FA4B-FE0F-405A-95DD-EDBF5A8E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B43C7-585E-4503-96CB-90C106706BD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F4EB4-1809-4947-8A74-94308A8A4AF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AD751-8DEB-4BCB-9882-3F14FB075D1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1BF70-2AE3-4669-945C-EFB9706D73F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EA613-D270-47BE-9309-E222318CB0B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B3C98-D294-4D8A-994C-9C3F3E48F0B4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FCD02-ECE9-408B-9934-5E8DE2821B4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6E2E5-7D2D-4AD5-BFD8-B0A746E2942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65DC6-BF6C-499C-A988-45AC0DC2EB1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E9CD6-B5F7-4A19-B9E4-2B30E9E60E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9AC24-B7D9-40B7-A07D-14FB4CD3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386C6-92A7-462D-85EA-C0E68949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60FC1-0C1D-4ED2-AD4E-A660231EF2F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21AD94-6539-4867-B814-C6C7ED60E09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14FA7E-AFB7-4660-B25F-209019EFEF68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DF8BAD-72FD-4564-AEEE-37E0E9AA47D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47954F-1EC2-4CD0-B3A6-AF91D531317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2C5A44-D0F3-4FDA-9967-46DA158537C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EEA8DB-D293-46FF-9776-F6D92A12C944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661592-1363-449B-92AA-E409AE2D776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15B794-AC04-46A9-95FF-475EC8F1078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ECCD43-ED02-4CDF-8DA4-EE2DA41094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9C3BF-EAAA-4FDD-AEC1-E713673A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17EA4B-1046-4735-AEBF-A93D8E2CD99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10C465E-961E-4F61-833A-8CFDDC3BD02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A5DB94-9104-48E0-B1C0-19185ECAD17C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35DC70-7065-4A30-BD97-E05804EAECAF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A9116B-6D1F-4594-A9FD-F87EF4571702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0F0F52-757E-42CC-8444-D22ECCC4D97C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12A2A5-3AC2-4FB5-A3A4-3A9EBE5F21CF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5C6518-D71F-4F4A-A197-AE4017DCB400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B40505-244A-4BDD-965A-D4D3E6C25980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B5D3D1-7DEC-46A2-8E8E-EA6D375C69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5BB88-29FA-4C63-A3BD-58A9C9DC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3608A8-E695-4946-A89B-8C56A7337E7B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010CD4-F4FB-4481-8AB5-3C50D4391C2B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378055-2BBD-4D6C-9394-CCE4DA985333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C63B15-BA84-4012-9812-7C78B49D5AAD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BC90B3-8457-4E71-9772-E698EAD733ED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380E4-C3CA-45FE-8F79-A1461D9AB959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61C61-32C8-4DF5-9F86-FC625FEE584F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33943-E424-4648-B500-E8294CBC874E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50B67-18C4-441D-9C8F-40B09823D0E7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916D9-FCAD-49B6-9483-240382857F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FB128-DA89-43DB-9500-65A55164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6873F-AD0F-4A64-9F0C-FB0E389F59C8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8999A-9EEE-41EE-978A-A4A3897ADC12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6DBD2-C58C-400F-936E-FE223F086438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FE6EC-0591-4DA3-935D-778BF7884166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36142-AAFE-4503-9BC3-AF5544AF1DF9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F6F0F-44AF-4899-A674-CEA7FC754ABB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AEF84-001B-4C6E-B97F-7A0CAD8AF818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9F77E0-117D-4520-98BE-5727158AC737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B1030A-58BD-48DF-B49B-BF6CFE7FFE39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D84C73-669A-4E0C-A80F-B9BFAC899A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67E98-8EAF-44A1-8E7E-45133C74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BC8B26-AB4F-47DE-A59C-5F70C512A332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54F763-2643-4E76-8370-4D440AF50079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912390-49A9-4E07-B06D-F2A106FA8EEC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6B1EF0-926E-4410-AE05-4707EF03157B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596F1D-90C9-4C73-AF35-8D20BC6622F1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A76D20-0B39-4D2F-945B-3DC9F94D174D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2D020D-2678-4C51-A556-28C15CBA08B9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2D6D32-EDE9-412E-868E-71674B681CB1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F25ED4-CEF8-4632-9424-CE3F25B9023E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62AF3-55B2-48B1-ADE8-00C03896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CC050-9C8F-4138-ABBC-2742ABEFB2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247508-E5BA-4598-A63D-014659959A1A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84A9E9-F7A1-499C-815A-B0715AB641CE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733DF2-FA7A-48B5-B126-C0A62D59CEA5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64AE18-114A-4FB6-957F-BD8DBE90381E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BCC8D8-1537-4C4E-88E8-1A0EFF499541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AC80BC-8B06-4788-AAC8-5A37E38963C9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E667AB-501D-4C84-ACDE-6D5F87530DDE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657AC7-F2C9-42BC-8726-A70495D2A757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095A5C-85B4-48B5-9B9C-DBEB17839A5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C9CA43-1834-4A62-84C5-979E95FDD3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51C1BF-6874-4640-8BE9-28319CCE22E4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CF4E59-C90C-4C3E-AA5E-7BE70D0D8B35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0BA7D6-397F-42C4-8B63-40F1CC7DDE94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393EF-55E2-4A31-B13A-206AA741287E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16EBC-FA66-47CF-9679-37B3D4777834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0B72A-72B4-427E-8D7D-30FC5455B27F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D404D-7FAF-43BE-816C-F16661A63283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F33EC-7C62-42F8-A53F-9C1AB87A1B11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1FC3E-7D67-41E0-87B8-0666F0B19CCC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87A1D-43C4-4470-B7A9-04133FA8DF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C0B1E8-2CC0-44C4-966F-5CC2E152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07349-7C85-4B43-BEC7-A195E7D944C2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B2457-66C7-4382-931D-3009FAE95817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1FF80-25E1-4E9D-AEC0-1BCFE6CF1ABB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5F300-E10B-48DF-85C4-5496F2D05CDF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60F74-4C3D-4B20-8E4C-565B83BADE26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FC7AA3C-07A0-4258-B044-84CF69CEF762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0934265-C290-440E-9C26-D915C32D0166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7C0509C-D71B-4154-99BD-97367FA27A1A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35AD7C3-D706-4000-BF5E-2605CFBD9CE3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67748FB-B96A-4824-946F-E6D973F0FBA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F5EC55-D804-464A-900D-C1931F4B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9AA2A3-18A1-4060-A830-A80051940447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2A15B1F-88C0-4B8B-B218-02A09EC5854E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C531E94-39C2-4543-A71F-F06993D3F15E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E7C64D7-18D1-49BB-A8BA-1C7A2B63A94C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B9D392C-4D05-4E87-AC72-A646DB01F32C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1969195-DEBC-41D4-BDD7-445E9463A8CC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46CE6AB-D966-44D3-B884-9C7F484CFDA9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1BA72A-13E3-44FC-80AF-44764DD7524E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DF3021-46E0-4D5F-84AE-8EAEBE10AFC2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C8E201-9365-48EA-A972-DEDC0B0B0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6D6E-8E2A-428E-B51D-0AA14949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09BCBB-6FCB-423A-803B-884CBF49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B50790-C065-4264-A1BD-B64FA53DD9AC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6A8C29-E0B5-4B90-B93B-5DCD87D8F00C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968745-50D7-431A-A5EE-4F9BB3EAAA52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89847A-EAF3-4072-AD31-77C90F3CE5BE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518524-FDD6-4EC7-88D7-610E2DD7EBD7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00D1C8-7BA8-44F5-B8E8-5E165CB2655F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1BFEBA-C8A1-487C-B297-25FE26B81E7E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29529A-68A8-4904-99C2-8C21D2818794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77D46E-0EF4-48B2-8610-BD55C9F3A1B6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8273AC-3484-4FEF-A3D0-A1EC7456EA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2B4A5E-3987-4834-B190-820C4D12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259D4C-34CB-473D-9F97-087B992C81E0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1D73D6-3CB5-408F-9848-52A3193AA2FA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76262C-E560-4C28-8F2E-9767F1130363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41CD1A-36B7-4F4D-B62C-D71D1DD3A89F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478D2E-68D8-4AA1-98F2-941B1374CDE8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D4D1B9-20A1-4822-8545-FF35E8DFA52C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3612B2-0FA8-436D-A507-49FBB12950F3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E8F50E-7C2A-4C6F-8AB3-91824D291C66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3D308D-E7BD-433B-988B-3EE9D9EBCF1A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C1F20-4183-458B-AE03-46AD35DEE98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951F7A-9E7C-4F27-BD63-8B5284DE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FD8C3D-55B5-47BE-A214-3157C8B3B240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3A97820-A60E-4B60-866B-201F75F91B3E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F1683D6-E562-467E-AA98-7CA988103835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87656E4-F1E3-4B64-90FC-2A00E6D290BD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B3B64CC-94E2-4BF6-90C2-8B8667CDAB67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16F0658-227E-48D4-A973-7002FC12B51E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97AC63A-A95F-4213-811C-9027DEC430B9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1A4F450-9445-4456-AF3F-635FCFC5E603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92CB8FE-8543-4D9D-B9AA-45DFD540D83A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BE91EB3-B3E8-4F20-BFE4-8D6DECD4D7C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DAC2D3-6AF5-4FBD-8C20-CE3EEF73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498F975-85C6-4F74-AD22-727375A26A2D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B062843-E0DE-4333-826C-F8C2EA927D47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1E263A-A2B2-4D59-BDD5-1D05328804B1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B83C666-1223-4451-9B41-B6280D503C59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F2C19C9-E80D-48A7-8874-F796DABC70BF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DE5944-888A-48BB-A05B-3A2B10500AEF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FF1D8C-0209-440E-A9DF-4EDB9090E8B9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FA04CC-6B8A-4DE6-9A83-8BA9FFD43CEC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6FA63AF-FE98-4915-8250-6B1761EBCA8F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90FA55-3470-468D-A30E-2532C1D2F69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797A78-680A-4B22-9437-228B0B06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3A4C48-FEDE-4E8A-A242-A348EEB714BB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D9FFD49-1950-47C5-A5E4-AF726A6307FD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2664F93-B225-4C00-A26B-84176F2726D3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A621321-5E47-4BDD-868C-9DDFB5EC34FA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C3D0F6-2E2C-458C-8338-D8EAB8010B5D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B7C58A-FDE0-49AF-8DD6-E9738E29BCF1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8128AA-99ED-481D-9B8C-F68EC269DAAC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3071A9-A584-47F9-9551-85044D0445FA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078EF8-7026-478E-B16B-880FEE82722B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6CF024-A111-4631-A7A2-AD5FE02C0BF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C21A49-274F-434C-B30E-6B463AF7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945633-84E7-4585-9497-1EC89EFA962F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443527-0FB5-4FBF-A155-F601E6AA35BD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89C159-931A-4EF6-AB97-EA6E3FDFCEC1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5C16F0-B5E6-4DC3-AF26-8825A6C2A771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D2FA68-A791-4F25-901E-BBE08ECE07A2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54C3A0-FB25-47CE-B47B-1867D0E7C8CA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B2F4F8-AA11-44B9-AFB6-2228F5140757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9BEAE56-0C89-4F1A-85E4-F0062FE18E21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8DF935F-19E5-4188-8652-DE2D5760F0DE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5E59B7E-F47F-475D-BF4D-7A7BA1CE85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61C2B3-DF6B-4DF4-A3F1-675BEE90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D7E006B-6077-48E1-804C-B58C501135CC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BF9ED8B-DFD0-4E9A-A2AB-1E81BDFBF4B3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F521BB8-BDBE-4433-936A-D711200DA306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626A683-FDF2-4571-9FFD-2137C64326D1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0658D6A-7F9A-42CD-AC96-2D7DBEFD1272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58E1887-8DC8-426C-995E-23B75B888D46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110565B-EC3D-480B-94BA-30C939E811E7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58AE7B4-9069-492F-8200-41E4131E16FF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CA34D6B-2BE4-49E7-87EA-3FB7ADF83F36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E10D5F3-8675-4C30-8CC5-131FA5EFFAB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5554E3-F10C-48D2-B015-41C995C8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1136497-7D47-4D81-B5B9-C38E5FD19242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7B39E9B-86DB-47D2-8384-FAE037712996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91D3346-C39D-43C8-B215-A157D79A8872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C5D07F5-0560-4FDF-9BA9-198D7E4BA011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4161CD-6472-4311-AB7F-ADF6E041448B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F195026-C79E-4B4A-8B07-364E65749935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3FD46D5-0DB6-4491-99A3-1F1D3DA54DE1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F4B0A9F-7482-4D6F-BA8C-C4899D2A4AEE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F9505FE-49D3-4D76-BE7E-760642E7C16C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C19E4B2-2197-4E19-88F4-F009A6ECF66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931945-C40D-4F35-AD2E-8DE604904C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3AA016B-02E7-488A-ADB4-24D290F67A75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862B7-998A-45AC-A84D-FBCDDD8033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835FAD-3F96-4DB0-B037-AA0E35ADF6ED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B906E1-A6B2-4C5A-A52B-C630575F05CC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0BF01F-CDC0-41FC-9D09-AF7D062F30DC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D43CA3-2BD6-43CF-BCEB-82CAB30CE123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2B8616-3D99-4301-B320-D568B0B86C21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E22B97-7325-43DE-BD33-B33EDECD40D6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6598AC-247F-40AC-BDE9-020B07932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3A649-4558-4331-A279-53E4B119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0106E-DC2C-447F-BF7A-D60B2AB5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8FBEFD-F524-4F49-86F9-4B0CBF92219C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C1F67A-DC46-4DC9-9042-C10BEE2B8B05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8DC14B-8796-4578-BE38-139B69E4C7AF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F03195-15C9-4677-AF39-DD5CCC2BCBBB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9FB9A2-F2CD-4B23-BF10-F64B91E70623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EF939E3-FC41-4A29-A9EC-5B628752FE90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EE08CEF-53E6-4906-AF46-B46373D0F5BE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9A6B1D5-0071-43C3-A769-44D6DD371158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BB68B40-612F-45DC-B590-97F450A90E21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08FA8B5-D497-4913-AFD7-B0589C6A80B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48FD6-0E52-4D3A-87B6-2EB15B95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CF2DF7F-C6F0-4325-AE99-B0263622D482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BD3DF08-0346-467E-9BB4-E16255CC485E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FC1BFD1-4D3D-40B1-9B5F-269507BB1ECC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11BB8D3-1492-4901-AFED-49DB4714D173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6B53E44-9FB5-449A-A286-0ABD3EEE59D5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EC1F153-1801-4590-BBCA-9E15615B1526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E54C121-B74C-4A86-AFD2-1A0F76DA3702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0177E79-5953-4E0F-97A6-03EF95195757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0135ECF-C030-471C-86C6-156EFC7E4047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DAAEDB3-24D7-48F3-B5CA-201143A512A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55940-9FFB-4C83-B8C3-92879207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9CB56A2-620C-413D-87E2-F8AE2705F2E5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E08A1F7-2D9E-4BA0-A9FF-3E0F232F2AF7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57DDA25-E6E0-4D1A-B39B-2CDF9BFD4DCF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35A0043-FDAA-4E81-98FB-F69B9E826577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39D2044-A850-4CDF-94D0-0322A4BEED11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B00EBCC-B98D-4DCF-B58A-7345738B02D4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5C48D0E-2F96-48EA-B630-FF6D16A89AE3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8742283-ECDB-4737-BEB9-70CC4ACB1F75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56F38FD-8438-4A27-B390-E03B3066D845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EE5585-DFD9-4C30-AF6F-F0785061C17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8415C-3138-433A-8BE4-5556D48F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B178F9-ECE1-4D76-8721-CB53BCE45BFB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CDF25F-5B8D-45A9-8635-450CD3656BAE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523907-23C2-4F76-ACAB-705D5FFCCAEB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763E16-96F8-437D-A82E-225BB015BFB6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DEEFFA-3902-44C7-8A27-DF754080C63E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04D3C1-19CD-4282-9469-9D5BE2694EAF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CE0444-11FD-4739-8669-C37EA3386590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B6A74A-A8D2-47F5-A96A-888BBC07235F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694CCE-F047-4426-8978-27973824DD7E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23B676-A922-4FB2-8551-D41ACDC8C69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CC162-5B6F-4B00-944D-2D61C87C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1ED76D-9D71-4681-8ECB-50F1ED485E0E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ECBD75D-A0C3-4CFB-9039-C55878C213A8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613345B-4958-48E8-9A1E-5AC0847D2B4F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95E0356-3123-4709-BA9B-EE8A3144056F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C35C19B-FCBE-4018-8337-376C16B22726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EA11298-0992-4489-850B-35904A78253A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3FA5F98-6F5B-40F5-AE8C-84D945DA2A11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0866287-57F6-4556-8E30-8BBF5D370E71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371825F-E820-4AD6-9BA1-7B99260E964F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7A24229-0F29-46D2-88D3-61942EB71E7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B8726-6115-4EEE-8C9F-A64023CE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74D1241-931A-452E-8D41-7343133AA186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29DEEBA-5170-4ADC-AAC9-F11AA4C731DB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5D6D1C7-DB23-4D07-B58B-2A0D14400134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46BD592-929C-4127-835E-637D2479E4C1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02F11A7-B52E-4551-AEC5-01296CF0E42C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F144F31-D895-4B17-9D15-B2DC83274DDA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D78F3BE-20F7-42A1-AEFC-1DBE22BC53B5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E2F7D6C-DD5F-4451-BDE9-431DC18D1CA6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BC5E4BA-E39C-4983-AD56-C0BC933AE9BA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3687D27-FB7A-4116-B7F5-50199EF3162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8D6EA-5D55-431E-A67F-98EA9A99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B5AAE44-5C3A-433F-9E00-31F52C349079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56A7D6A-3563-4525-9001-FCA95149B63D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BF79CB6-1C36-4974-8151-ADDEBC613B87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A7C4058-09B0-48CF-9A99-45707DE743A5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9EB2C40-5D02-4F56-AB77-CA2AC1D17F1C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6D5015-BBB1-409C-A0A0-3C4B9524C6B3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12C1D8-E93F-46F7-BCE0-3F8C6F6CF58B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48A46C-C156-4085-BA8B-D1B014F33E86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189D85-6E34-41C5-848B-C19B823ECDD0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75B447-9F50-4D35-AC3D-E87EF7B3B08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79D1D-2D6B-4CEB-B21A-37FBE6A4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ED0644-D291-445D-A3AB-63D754C0F84C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305A3C-6790-4642-BD0C-EFF79E38D077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E4077E-7D2B-4342-8BB0-FCEA350D01BC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1C75B5-B881-4503-B546-327B33F40AE6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25C740-5BB6-42D0-8C8A-F90A3E9755C6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95D3D3-2829-4903-B7EC-39EFDDD6A0BE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1458B3-A22A-4168-A612-2148524E24A8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5D48185-720D-411B-996E-7690A74A9361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2003A10-DD47-4C73-A0F7-FF642AB21E33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540EF4F-7015-41AA-B2F7-056003C252B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43740-85C5-4B54-B73E-F5FBE254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B5A85DB-2CF9-4BBC-8805-78A5571CB2EF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D8FA93C-9FF4-417D-BD19-7E86010E9FDB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1C2115D-39C8-4CB1-909E-800A1C320D15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B25E063-1214-4A27-ADC8-B2E4D0995538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6DCEC37-0B48-4D76-B74F-B2358B4C6F39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7FC9619-E067-4B49-8134-8941FA935A24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36A3DED-AC8E-4305-B174-FD695CDD6CD5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EF1B246-2137-4659-9766-666CE156408D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DA1D62E-AA39-40AC-B78E-2A4055FE3190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07BD454-68E7-437D-AFF6-CBE8A79E0C5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E334D-D41E-475E-BF86-0B3D94AF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3ED47E3-B7F8-49EF-9E15-A09DAD85D9E5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57D0168-BBA8-42D5-9F98-624AB3CE57BA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103383B-71E2-46C0-8B0F-242D6E5BF786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0DD00B3-E6FA-4868-9441-1BA3EF7BDEBF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95B629A-B256-462F-A3A2-351D3C80097D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2B66BF1-896A-4D62-9233-EB36B7FEC16E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748D9C0-7838-4509-99CA-8FEE43218DAA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CE80C97-7A57-4502-B368-5B7A7364C21A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78C42E7-25DE-4D62-B982-0AA0B6C31688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345A90D-E640-4799-826A-77A050DF5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DEE75-B2B1-414F-8CED-5432AB11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B6C41-9625-4DF0-B924-9C34B671C2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7D0FBCB-366B-4FD8-964B-A00233516A7D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A8730E-98B6-4679-9745-706879C7691B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7B9130-763B-40C4-BC56-087AA405E436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40D66B-B52B-4B94-84E3-83C620F5232A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046ED8-EAA1-49DF-8167-012C068410F2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0FBD45-61B2-467A-9741-7C83730659E0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9E93AA-9CD8-4766-B02F-C0C540F2455A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C0B544-F895-424A-9613-CDF82511EA4A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B07704-DA89-45BA-B28F-7420C90CC66F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F11AFE-EF8D-4E38-8D81-598D7F6DB44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C6E86D-F897-4F66-A432-E19FDDAA21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D624EF-1293-4DDA-BDEB-8F4BD5C6A364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36FA56-5089-499E-ADFB-8A4407C3D6AF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AA851E-7704-407E-9078-466DC5B2DEF5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A93B76-E0C9-4144-92DB-2E4909FB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4CEEF80-3CB9-412B-92F7-B17AE0B4D270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1DAB38C-0C5D-4E2B-9868-3D85CC977E69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8765263-6433-4D9E-B26B-B3F5F1475A39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F680D31-F04B-4BE6-BE50-E3334588049B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6018C66-D5FA-4C85-A71C-C7F8EF0A401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B6176D-70C0-4892-8952-A9CC52FC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AC3CE03-9C5A-4B8B-A8B4-FFF0932E6058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E657C0A-F849-418A-8BF7-24E17E85014D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888A82E-1261-446F-B147-876554854B18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4906121-975A-4609-A72A-BD226194EE1E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E0E93AD-EA9C-45BB-A69C-1E3A5ABE3D2C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8C11AB7-CFD3-4B1F-B93E-18966AA0C13A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010F280-D2BA-40A4-801B-A6F0377FC400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FAC4302-E7A9-46B2-B7BC-8800EBD14290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462D24D-2956-487C-A732-87EFB19110DA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FDBA51A-A7A5-4B3A-A581-D291B5BF07A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FEB726-A140-49A3-ACEE-C1E5A6CA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30D5FAF-BB1D-44EE-9395-4D2C305E968A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BB69344-AB2C-4C1A-986E-2CA0F937A4E1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BB7E7E1-DA92-456B-AC48-6D0F3CC60986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2836EC5-869E-4EC9-96E2-CF780E847CEF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BEE535A-5C9F-4A6F-A6ED-0A69FEF01CE2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14EA609-F90F-4E69-9C41-419C5EE33292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9F0CB3D-26CA-4EA8-ADF3-6E4173C46174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E2646AB-B25E-4559-A59E-9D980E0183E7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B4F05D4-EB7A-4677-8270-C549867B010A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9E9EBC-BB4F-48E3-998F-45ECB9EBFD8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A7AE43-B323-4105-88EB-FB2DFDED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6E084D-E0E9-43B4-A751-B22FC8F5EFE4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9958E6-93E1-4BBC-B043-C0B452E81E5D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487527-DA7E-4B7B-B8D1-91E7FC1AEFE2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FAB379-7AA5-4B97-9015-A7261E6976C0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05EEB8-0E90-4DFC-B093-3C485D66891A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C396DA-8B98-4040-9BE7-ED8DE4F814E2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400A10-298F-42CA-A0E9-27DB6EA69341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EE3395-17FC-46A8-A1E2-82EBB12C9D53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330FF2-1A11-4DB8-9DA8-DC2AF2A2E855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7A9EFF-9701-45CF-8B5E-384B90B9E6B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7D0D05-EC1C-4784-9E09-8C95B967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179B84-5DD4-411D-8610-FA5D38F2BB8D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A576EE3-1EEF-49F4-A0DB-CDEB87E5F7BD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8FFFA2E-D4A9-451A-A943-CF90695795B7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C404ED1-F9E4-4572-9990-253597A99E6E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89E6373-8DA0-4C3C-8761-02061F38446A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6AEFFC3-984A-4252-A34C-C135661F1B96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CD4057F-817B-4680-ABC1-8959938FFA2C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18B35E3-81AC-4EC7-A0C1-997E729626F5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28E4F84-0666-4D85-A796-B06ED56A4B85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0235B5B-D125-4D36-88BE-F4B1A6B2ED2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577D24-50CB-4047-B161-4F0D4329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2AE9985-51CA-4796-A2BA-A8EC0E6FD7CF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126B077-E00B-4447-BF9C-C20EA1219DA0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0596776-3C3C-4FBB-B489-664EF40D1196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44A5121-A8F0-48A8-8A15-7CCC314C047B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D62AAD5-E885-44B9-B3B8-FA4AF48C8BF5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A4F4435-2E28-416C-BF86-BF3AD703F93E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ECEB569-CDC8-4736-9920-2DB32DCE48D4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543C35F-873A-4FBC-BBFF-A890872D68C0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82110BE-9277-4FF6-94CA-518A15F07FEA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D004FCA-DF81-4228-B4CE-FAEB48AFE6B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EC0FFE-2572-4894-82E9-B0AABB99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A09908E-A3BD-4B8B-9E58-3B6FFC3E8698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3369BA9-0A8A-4AC4-8F63-3F14A7F5699D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5329357-A492-451F-806F-F057838FB2F1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9AA5F4A-B656-4614-A6AA-E68F5279DB65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2007328-5640-45FF-8068-AFB238C62344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1CBA43-2911-445B-A45F-AF01337E1881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8491CC-586D-47EB-8317-4891722FCEA7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1B97B5-3664-413A-9A91-245298164E68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C47317-B404-4905-8989-6893D5E1B420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89D820-A197-4843-88D6-14CEA46DD23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3C04F4-7F7F-4C81-B5CF-276229F3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D46A33-8274-46CE-B188-63D5799A57F2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8CBCCC-7AB6-4B2D-ADEC-7CA6154036BF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988E11-AA77-4954-8225-DD48E585BBF6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C60180-D129-4742-93AB-ACD336F0D6A5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A367B8-1E28-44AC-8C80-BFFA2888CF89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6AA1F0-BAE0-48FD-834D-0679F12FC8BC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406FE9-3FCF-4D8E-ACB8-67CC4B2EA3BC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B7442E5-3B06-478F-9832-62A524B2B984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81274A6-6691-42D6-9BEC-C163EAB32B9C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D9F84EA-CD96-445A-B0FA-8907ABEDB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3733D-12AC-4D01-AF99-FF61E735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22E7B0-C93E-449F-A616-F0B2DE20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EDA744B-C79D-45D7-8B22-AE938DDE1E7C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97E6B26-CCDE-436A-8059-4C45C6710282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C2EC66C-C5CE-4F9A-A658-23270708A02E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14FF0F9-5663-417A-B9DD-DDFA0DBDD939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3D7F0AC-1D10-4719-A686-BBC2CD9FB248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74AD114-AA1F-4038-BFAD-F4FC2B97B5A6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802E7D9-95F3-4ECA-8F4B-28BEA64696CE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1839E2B-707C-4345-95C7-FA55B39CBC3A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C6CE6C9-8649-4F04-B141-E708C941B206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4D8A912-6D42-4106-ADF5-7A26CF5AF2F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27706D-65D7-4304-A0E9-366A3A49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FBBBF69-ED96-4D7D-BE7D-A9957B6EEDA0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37542F6-3CE2-4785-AD4B-DD8A4ABE1E05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9975740-AD05-49AC-BD36-ACD473F29C8B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367EFCB-2AD4-4705-AF2D-3DD4339F6E68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B98F30D-D62A-4712-B275-6730EBEA8B64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25CB1E1-A13A-480F-85D9-B5A5599E8652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27EE434-B46B-4A23-B260-0D5E14EFF65A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FE19FFF-E0EC-4EF6-BD9A-34447D53059E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CBC9720-CAA7-47AC-84CD-1D7EA0661069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9DFA22A-4EBA-4A49-9410-0B6E792B566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B27AE4-6981-4E42-B2D0-7E0A8D05DE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9A7C6F4-9C88-48DD-9B9D-4DF45175963B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9062E9-C090-4EF3-8FDB-D3DB02A412F6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458DE8-8F74-4754-BB5C-2C9A3175C271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A8E2BA-66B6-459B-8581-60BBFDDC84C7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776431-65FD-422D-B3FE-165AF53CCDE7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74179E-A00C-4B0E-9C32-A4F360204DC8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9DD876-D564-4E95-BEA9-1398B9B60141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3B4BAA-8A12-42B6-B49C-B6ADA7EA354B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22841F-7004-4C61-82B6-ACADEF47A28B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0E4BB6-B909-47CA-9520-D33589A7E2A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E3A349-07DE-46B3-A506-C1077BBF62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7FC822-5CA1-4F71-BABE-E451F633B328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44A23F-5A7A-438A-8598-1A0668E19F42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1C0D58-DFC5-4A77-A141-BFBC95AED160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7D9194A-D869-4D61-9E24-668456CCDCB1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8BE865B-3ECB-4942-9ABE-49A483A79633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D4B94F2-8296-4F01-8C52-9073EAE1BF41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15220CB-BAD5-4AB7-A3A7-550FE564F0C0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3A3F5C6-4406-4A37-826F-9DA80450C34A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4F4B09A-8BDF-49C4-B077-E2A55E172508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6EB3E65-ECD0-4497-B6CB-7BE25A66D91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3F45C4-1F51-4F89-8E95-1BAEADBF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E501D03-8D80-46FF-8B34-7419A2DF16DD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3D3F6EB-9268-4F00-B468-0F89D8DB9D93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2ECFF8D-EC87-4D78-B039-59DF380FD263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AB2893F-915E-4D86-9D8B-24DA88AA8D3D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36C0B06-BED8-4395-A175-84D6C403E68F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DAC548-76DC-4517-B4E8-70BCD448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9D2F1C2-366D-461F-BB43-4200F18E6732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6053840-9295-4937-9B84-5B30151D452C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57CC93F-93B0-41AA-AEC5-073645A1DBC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28B125-2C32-41B2-877C-E58EBE87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FF77C97-2D59-4DBA-A941-4BBDCA94D53C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63DDA5C-469B-466B-BD5F-A651FEDCF99C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AE9A2E6-402B-46BD-A42C-8D266B29EBAD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FA2414F-D45F-4F6B-B014-046DAC33B449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BF5421A-EC33-4B2A-92FC-E9BDEAD3F9E2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9739605-C899-4313-B5A9-892EE58B6910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1936F94-9FEB-487D-B57A-4F1F005A97A0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3A34503-1557-4BE2-AAE6-519C7C341B27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2B9907E-5DE4-441E-BF5B-7FC03CEA1A0A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14A9A6-D274-4E7D-BA5C-05E7BF7B021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AE3A14-B47E-4335-B583-606ED424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431F71-9410-413A-B7EC-F7157B45A6B8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22C473-24BD-4792-9BBF-12FABEB0C582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FA6686-0F5D-4939-AD56-447C03D042FC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4A5E86-87C9-4077-8993-53E8AA7295A1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A35E4E-00B6-4223-A6A1-66A4470B2555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C7C455-5253-4D17-8957-F412963AECCE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8E922A-DA4E-452E-8CF3-BEE66194DDB0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83087D-476F-40D8-BB22-5E549F72F304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BCB486-54F9-47BA-90DE-60E61045F39F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B1B1EA-5FD1-4A87-B397-775A3004BDE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4C3649-DFF5-4168-9379-E41E5910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595027-7BD7-47A6-B535-A6A57E17BAE9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2448DDE-C31E-4B6A-B5C9-3B627B281678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44EE24B-F0ED-4BAB-B396-EE652E8CEABF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B97F1DC-0978-4BF8-A0DB-7611B600D1E6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A131A95-7842-4F31-9C1C-7EFB85029937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41BECB6-4736-473D-AB1D-570245D3F56F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FE76181-D8AE-4DDF-8953-5C94393528DD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A62B4FC-E99F-421C-9A55-CD6A79BFD3DD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44F4FAF-AB0C-49E9-AA14-F831F5223D1A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552456B-9D1A-4C21-8B73-37F0D8662A1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994D18-D5E3-4645-AFAF-0212953B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E2FD355-0DAE-42B8-A1EF-F787E9D87EE8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013FA9F-C1EF-404E-B360-48AF2F6BB2B5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52BEA0F-C010-4ADB-9930-0001439238A1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4A51C83-56A3-47C0-9CE9-D2A68B6FDEC7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04DBB99-B2E7-43D1-9A3A-B0E277022C53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5A2089B-EB22-4DA4-B617-5A7BBCD4C2B6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F25756E-55EB-4217-8775-0BEE66AB3218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6322113-4348-4650-BB16-72F6EDB55ECE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AB801E3-D24B-4A95-9A6A-34ABE5C08979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94A5266-1161-42AE-A16B-17CD35083F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64818-90E3-4470-B055-D297CEC2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628CE9-3F5A-40E6-8EA9-BE425C43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8F74B01-9D16-47EC-BEC9-333BDC46A3A0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1333B0A-F25B-4D80-9C71-A4263A8A01A6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90CFD3C-DEAC-423A-B10E-F000CA1CC553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D657781-2D8E-4BD9-9FD8-523703A845FC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536A1AB-B2FB-444E-B9ED-ADA86ACE35E8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0668FA-578A-4A93-BD49-D7900A6CBBCA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ED07B9-D2EB-474D-83EC-B6C6C602C44E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74DDA7-654F-431C-ABC3-FCC62EC95989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FCCCCA-5FEF-43E5-A095-00A6B137CC84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A0D13D-984F-4E91-8936-0EDFA679705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33B2C3-8CE4-4A24-A7AE-37BF401C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D833F8-7702-4E28-B065-D466AA3012ED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23D357-1DCB-434A-A105-29D81670AFE8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0EE3F5-CB4A-4F6A-BFD1-BC1B152C9A35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CCF519-9207-4096-BBF1-DC85B07751B8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C057ED-107D-46F6-AFA1-0ED59F6E2680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60006B-2E2E-406F-97E9-F9B2BCDF066E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B25FD4-9E3E-4093-9AF6-A2A7F663C50D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66A6BDD-FD00-42FB-A940-572EB617CFC8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A84841B-B4AD-4B64-9C6A-1EE4628E0E97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0140417-A5C1-4E6B-BC52-CBABEA4D47B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73B7BB-3005-49F0-8F5D-D856D71E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4489BF0-3401-4F82-B4AF-4527A28C89FC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260A39B-A769-4BB0-BC57-4F977C0E0214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E66FE36-21AC-4743-987A-DD78DC6392CE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6B5478E-4242-40C1-99F7-94CDE079635B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D0B39A4-47A4-4E55-822D-EC7B5B0C95C2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052D7B7-FDF5-4B0D-8F74-FC2F7980329E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B19DEA5-1179-4FED-BBB5-7D6C0A525E0D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97C683F-C67F-4DF9-BE71-67DBA913BE6F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05A80D0-6051-42B0-9DF0-078555E33C39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1986ABA-99F8-4F19-859E-5B324D5E852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3590C0-93CE-422D-B532-86D2FDE6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2F5D908-D71B-448C-AA4D-F54ECB07176F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51398CB-C92A-4D20-9B1A-C2C854F3C14A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4B1465D-04B3-4392-9356-72C211D5ECEB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36EFF5E-E114-452F-B877-43E0CD703526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88FE1D3-8AEE-4353-9529-AFC94ADADC77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72DD2BD-70A6-464A-9499-EBE51B4A2EA4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9F7C305-849B-462F-958B-2AE784FF1058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154E67A-3715-4C00-86BB-16A7D4A668D4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7F542E3-2E36-45FE-9878-E1CB22919D3C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AC1ADC4-E145-4997-A7A1-083CF19C2E5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3B561B-19FF-4E15-A4EA-49C4E22F1A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AD3344D-33F7-4E4E-9F79-B0A78398B128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756F06-95C1-49F9-B9BE-D1F03F68A33E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0CAC2F-A725-4547-825F-9AF0EBE33370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2D42B4-D0DF-4E2C-A1D9-2031A374EC35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3A457F-E2B4-47AE-98DF-971F9F0E0C9D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FFAC62-555B-4686-945F-ED7E2CAB12D7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4265C0-C3B1-4E2D-8CD8-4764782DACB3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E57EE7-6081-4CEE-9FAD-F161D9D8C59C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18D256-0B8C-43E9-8DA7-1291FF46A48A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A1E5B9-43B6-4840-ADEB-44757D865E1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AC35C5-BD63-490A-AD7F-95905F2AFBED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93C788-82B8-4685-853D-54D4353470EB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07E2D0-3BFD-4946-BF5D-C3CD0C5CC87B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973DDBA-F71F-4293-A059-18E903BA538D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157D708-9E88-4695-89CA-9F84EB4AAF0D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E8DB6BB-AD1E-4322-9332-777234E86D46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14313A3-5B9F-4A0F-925C-923C1ED534AA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F7B919F-7421-4AF7-8484-34ADD9079919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9C0B6FE-E8E8-4EDC-A836-4D5A7B2443BA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7CBB8E8-34EE-4F24-A29A-64F37477BF2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AB6631E-72A7-4D57-B08A-9E8A183B6F96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222FCE4-741B-4CC9-9C75-A0FDB833A35C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A22A8AA-1FA2-421A-9944-ACA52E483649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B80627E-1DB8-4425-9AEC-370D1337DA53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C2A869F-F1C3-4A05-96C0-3E9C8490112F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A81131C-CF8D-44F6-B551-59D6F77109C4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E06F8B8-ACE3-449C-9A5C-47171EF9BF7A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0AF9AC9-3944-43C7-8584-9AAF2A050DB4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8BFB90E-055D-4C67-B2DF-E7FD73F6E7F3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D9DF924-A1A6-446F-9307-4B04A791F1D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B0422A2-C889-467C-A49B-789F3F740A4A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6447CC6-D371-4008-AE54-EFC7BAE8A952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8CDB4C0-5F44-407A-90AB-DDA4A862C6D2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A059947-22F0-4155-8C34-B612A6330CD5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C2F39E9-CF18-4B21-9C59-41D3A4CD6FA3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2ECC701-E3A7-448F-9B5E-E89A38874A60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54D1679-C806-4DA5-89B1-7660C8220A7F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584AAD-5744-404F-8507-B497383AEF8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2DAC61-2460-4FA2-A9B5-38665BF0D47D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60DB7C-C510-454B-8AF2-D94BD5138F4B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961A34-A432-443A-B93F-7F999DE46196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E89DA6-E33D-44EC-A780-9DC555782517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5A0FEC-9FAA-4B8D-8236-1A48EFA5CE29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53A8D4-AA16-4BB8-A798-62F750232A52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DF1732-9635-4227-A369-4EA4AEC4A4ED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E875B7-89E5-46C9-9FFB-8CE128425116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C6519B-A357-42AD-A6C3-4F0102C619B7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55E5EC-F800-488D-88B2-DF5F2F9C9E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1D0FB-0D5F-4373-A2F3-9E9FC0B9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3CE220-5C3B-43E7-A6AE-AF6BD9F60671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9DED27F-E069-46A2-A832-E07BF35F2F2F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9BF555E-A6CA-4300-94D1-82ED01431211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232BEE7-F747-481D-A9AD-C6E3DC093954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1E296D4-61BE-4F1A-9FD9-CFE04ABC54CC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82FDD8C-E5D8-42AB-A5F1-8C06B218D84A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A46DC0D-1D6D-4388-BADA-D7AEBA7977EA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4CAAF79-E444-493E-B104-25FF755246B7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CD8EDB3-3530-409B-AC7F-A50D50D0D9FA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224D723-B018-4DF0-AF50-03DBD1F2230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04E0A39-0209-497D-8ECB-62CB3CCDF597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F6DC069-BE14-43D7-B21B-B02776C257DE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781615D-F741-4C57-878D-3A3DAC32CC21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D9041E0-56D0-4BA1-BD99-1DA46E579C90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17B4435-05C9-48CF-AE99-22622E1A53A4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1ECC84E-2260-4B82-8F33-E77F0CEF1DEC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E2FFADE-85A7-4C52-BAC2-00050BCB980E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D0FE593-8BBD-4B2A-A479-5D1BC4004D5D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901BFF2-4549-4424-9281-1ACE4719DBCF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54E8D27-5911-40AA-9FCE-302C8FCD57E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C068B96-053C-49F1-B8D2-50714F7986BC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DAA6336-C891-45EF-B9B0-7D91E3933B63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C217F73-AFCA-4E71-B4BA-6426DE1BBA1E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BC6B448-606C-46ED-AE84-E61A39CD5CD6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BC44FB4-C628-4240-A2DE-2B6C2F7BED1A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1C0706-B113-4A11-A72C-A114C4C0E6EA}" type="slidenum">
              <a:t>&lt;#&gt;</a:t>
            </a:fld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232203-A14A-464F-8464-680323616318}" type="slidenum">
              <a:t>&lt;#&gt;</a:t>
            </a:fld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70663A-D0BF-4E41-8C66-0098F99FD829}" type="slidenum">
              <a:t>&lt;#&gt;</a:t>
            </a:fld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D32382-0159-4947-A90F-977C5D0ED66C}" type="slidenum">
              <a:t>&lt;#&gt;</a:t>
            </a:fld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C3C568-E023-4458-9828-D37168AFA41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053745-3280-437F-B347-139D3EC78428}" type="slidenum">
              <a:t>&lt;#&gt;</a:t>
            </a:fld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C675D2-869C-43E2-9BAE-3F0A7EBE431D}" type="slidenum">
              <a:t>&lt;#&gt;</a:t>
            </a:fld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7AEE4A-7E70-48BF-AB7C-E33F8B036045}" type="slidenum">
              <a:t>&lt;#&gt;</a:t>
            </a:fld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AA99B1-28D8-4DCB-B5E5-1EF3686B2242}" type="slidenum">
              <a:t>&lt;#&gt;</a:t>
            </a:fld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3EA2FC-BEB2-461D-8A81-D4E4455415E9}" type="slidenum">
              <a:t>&lt;#&gt;</a:t>
            </a:fld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47491D-B180-48CB-BA0F-7A286D3A3732}" type="slidenum">
              <a:t>&lt;#&gt;</a:t>
            </a:fld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189ABE-F947-4353-BDDE-BED3CFEC592D}" type="slidenum">
              <a:t>&lt;#&gt;</a:t>
            </a:fld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2C51F51-CE3D-4A03-9E4A-F46D77E51E9F}" type="slidenum">
              <a:t>&lt;#&gt;</a:t>
            </a:fld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CC464EC-D870-44AC-9711-A0F6EBA97D3D}" type="slidenum">
              <a:t>&lt;#&gt;</a:t>
            </a:fld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BABC6EB-0BE9-4DCC-B828-34C80C978C6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738E0F1-679A-440B-84CD-E7FD0747A419}" type="slidenum">
              <a:t>&lt;#&gt;</a:t>
            </a:fld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AC2B38F-5CDF-49DE-8AA9-1C9313FA16B9}" type="slidenum">
              <a:t>&lt;#&gt;</a:t>
            </a:fld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DB6EE68-A9CE-4A27-8F49-31815B965C7D}" type="slidenum">
              <a:t>&lt;#&gt;</a:t>
            </a:fld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F1F5660-2E11-4844-BC37-5CBF7F263DEB}" type="slidenum">
              <a:t>&lt;#&gt;</a:t>
            </a:fld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9B69FFE-9F96-41EA-82F4-C1B5BB02BDF1}" type="slidenum">
              <a:t>&lt;#&gt;</a:t>
            </a:fld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02B5B65-B7D1-44E7-8520-1236AA1745C5}" type="slidenum">
              <a:t>&lt;#&gt;</a:t>
            </a:fld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9B1416B-C358-4AB9-880A-697EC719C152}" type="slidenum">
              <a:t>&lt;#&gt;</a:t>
            </a:fld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C68D3C0-9172-4FAC-8288-593F2DE7BFD4}" type="slidenum">
              <a:t>&lt;#&gt;</a:t>
            </a:fld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63F5F1F-3C06-4DE0-AD93-32B6B711C64A}" type="slidenum">
              <a:t>&lt;#&gt;</a:t>
            </a:fld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11D9E98-4D15-467B-BA03-112FB3E5E68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4B9DBB7-01C0-4147-8F3C-BADA2C53CEB8}" type="slidenum">
              <a:t>&lt;#&gt;</a:t>
            </a:fld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AE082E8-FCBA-4AB3-8A92-EF8C7B3B64CE}" type="slidenum">
              <a:t>&lt;#&gt;</a:t>
            </a:fld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DEA6885-5C99-4452-B5D4-E421ADD23F2B}" type="slidenum">
              <a:t>&lt;#&gt;</a:t>
            </a:fld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35D861D-BA06-4AB4-8C41-E6220D923994}" type="slidenum">
              <a:t>&lt;#&gt;</a:t>
            </a:fld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56B00B3-3E97-4AA6-B341-F366EDAEBBFA}" type="slidenum">
              <a:t>&lt;#&gt;</a:t>
            </a:fld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C0BC827-64C3-4257-B431-5D730B76421B}" type="slidenum">
              <a:t>&lt;#&gt;</a:t>
            </a:fld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294C2DE-32D1-48BC-9EF3-B97D71C5BD07}" type="slidenum">
              <a:t>&lt;#&gt;</a:t>
            </a:fld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88CAE86-CEDD-4084-ADE4-35FD340C8CD7}" type="slidenum">
              <a:t>&lt;#&gt;</a:t>
            </a:fld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946807D-4FC6-4CF4-A05E-1E7C0B2C738C}" type="slidenum">
              <a:t>&lt;#&gt;</a:t>
            </a:fld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AFE2023-D54A-4C54-8198-EAA95AFC415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4E33A46-3FD9-48A4-BF57-12441E039930}" type="slidenum">
              <a:t>&lt;#&gt;</a:t>
            </a:fld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E443CA-C8F5-44B7-B8B1-F3A40506D557}" type="slidenum">
              <a:t>&lt;#&gt;</a:t>
            </a:fld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F952E7-9987-4EB4-A5E5-616C95115E98}" type="slidenum">
              <a:t>&lt;#&gt;</a:t>
            </a:fld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273464-7F3D-4D9A-BF39-C9EF2F95608D}" type="slidenum">
              <a:t>&lt;#&gt;</a:t>
            </a:fld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EE725C-8042-488E-82D8-C0AD7B34D6E2}" type="slidenum">
              <a:t>&lt;#&gt;</a:t>
            </a:fld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5E85DC-E83F-43A0-9CAD-BFC930B94A45}" type="slidenum">
              <a:t>&lt;#&gt;</a:t>
            </a:fld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153667-5AA6-4600-8068-1A8B91816EFA}" type="slidenum">
              <a:t>&lt;#&gt;</a:t>
            </a:fld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631DF1-B0A6-4F80-B482-9DA7F1B93283}" type="slidenum">
              <a:t>&lt;#&gt;</a:t>
            </a:fld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E1E90F-3F2E-4EDC-A11E-05019FD6828D}" type="slidenum">
              <a:t>&lt;#&gt;</a:t>
            </a:fld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A3EE11-9470-4CAF-8814-B2C70582A68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BC9D5-C71C-4AF0-86CB-39AB12A3E71E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50A677-C334-41F8-BABD-45D358A61FF2}" type="slidenum">
              <a:t>&lt;#&gt;</a:t>
            </a:fld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3AE8CE-09B4-4E65-B272-12116D75F6CE}" type="slidenum">
              <a:t>&lt;#&gt;</a:t>
            </a:fld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A8D0AE-7632-4408-BFE9-D36FE166BEBF}" type="slidenum">
              <a:t>&lt;#&gt;</a:t>
            </a:fld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F7EAF76-3690-451D-860E-CC080798257C}" type="slidenum">
              <a:t>&lt;#&gt;</a:t>
            </a:fld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CF312B5-ECA3-43BB-B03E-845A8774D232}" type="slidenum">
              <a:t>&lt;#&gt;</a:t>
            </a:fld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07CADE1-F910-434B-A907-98D9D9A9445F}" type="slidenum">
              <a:t>&lt;#&gt;</a:t>
            </a:fld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F1F451B-14CB-4660-9E6B-801D166D8EB0}" type="slidenum">
              <a:t>&lt;#&gt;</a:t>
            </a:fld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609E0C6-061E-448F-8B69-130E9472970E}" type="slidenum">
              <a:t>&lt;#&gt;</a:t>
            </a:fld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13A25E5-886F-4488-B91E-AD50B5DDA0D6}" type="slidenum">
              <a:t>&lt;#&gt;</a:t>
            </a:fld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F9B917A-CBF7-4613-BD8D-F4F760048D5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C1FED-BF75-450D-9C1E-14DB5E8E7A5B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9BB2835-E937-45FD-9F1C-F60739D5F1F7}" type="slidenum">
              <a:t>&lt;#&gt;</a:t>
            </a:fld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B3F1742-83E9-4563-952F-1F5E8109802F}" type="slidenum">
              <a:t>&lt;#&gt;</a:t>
            </a:fld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CA3F6ED-1854-498D-905A-1E10031F2684}" type="slidenum">
              <a:t>&lt;#&gt;</a:t>
            </a:fld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5AB488C-914B-4F05-BA4B-16E61C237627}" type="slidenum">
              <a:t>&lt;#&gt;</a:t>
            </a:fld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1289E99-171E-41A4-B828-2A668FF12DEB}" type="slidenum">
              <a:t>&lt;#&gt;</a:t>
            </a:fld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0F6FA42-F1D0-4AF7-9DFF-86648444B81F}" type="slidenum">
              <a:t>&lt;#&gt;</a:t>
            </a:fld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EB77EB7-DA0A-4C96-BC3C-211F5959027E}" type="slidenum">
              <a:t>&lt;#&gt;</a:t>
            </a:fld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1E06257-502F-4DAB-9AD1-8C990D984075}" type="slidenum">
              <a:t>&lt;#&gt;</a:t>
            </a:fld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F9134B1-28E8-4A2F-80F0-23EB3D99E1C6}" type="slidenum">
              <a:t>&lt;#&gt;</a:t>
            </a:fld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38F400A-D977-4066-8205-76214AEC2FD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BEEEB-0F6E-4D0E-B11B-2CFDCD6E5A0E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B0995E2-75E3-482A-ACA5-7854D3A36D1E}" type="slidenum">
              <a:t>&lt;#&gt;</a:t>
            </a:fld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1EE6F8A-A73E-4A6C-AB0E-7198B0EB85B4}" type="slidenum">
              <a:t>&lt;#&gt;</a:t>
            </a:fld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06E8FA7-D75E-4777-9C8F-AAE04F3D5396}" type="slidenum">
              <a:t>&lt;#&gt;</a:t>
            </a:fld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1692CE2-68FF-420D-AD7B-EA26E02B7FB8}" type="slidenum">
              <a:t>&lt;#&gt;</a:t>
            </a:fld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1A0BF82-7873-458A-A3B5-E4D7BD057E7B}" type="slidenum">
              <a:t>&lt;#&gt;</a:t>
            </a:fld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76967F9-0488-4604-8C0A-2D53ADA77A34}" type="slidenum">
              <a:t>&lt;#&gt;</a:t>
            </a:fld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DAC9C46-1AAA-486F-B283-3778CBD47797}" type="slidenum">
              <a:t>&lt;#&gt;</a:t>
            </a:fld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5E6ED6-4104-470B-9443-560D074B40C3}" type="slidenum">
              <a:t>&lt;#&gt;</a:t>
            </a:fld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9BBB31-1728-40A2-A7B2-D7FFDE1E02D9}" type="slidenum">
              <a:t>&lt;#&gt;</a:t>
            </a:fld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4A9D4E-95E9-43B6-A1E8-0CFB13541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3.xml"/><Relationship Id="rId5" Type="http://schemas.openxmlformats.org/officeDocument/2006/relationships/slideLayout" Target="../slideLayouts/slideLayout734.xml"/><Relationship Id="rId6" Type="http://schemas.openxmlformats.org/officeDocument/2006/relationships/slideLayout" Target="../slideLayouts/slideLayout735.xml"/><Relationship Id="rId7" Type="http://schemas.openxmlformats.org/officeDocument/2006/relationships/slideLayout" Target="../slideLayouts/slideLayout736.xml"/><Relationship Id="rId8" Type="http://schemas.openxmlformats.org/officeDocument/2006/relationships/slideLayout" Target="../slideLayouts/slideLayout737.xml"/><Relationship Id="rId9" Type="http://schemas.openxmlformats.org/officeDocument/2006/relationships/slideLayout" Target="../slideLayouts/slideLayout738.xml"/><Relationship Id="rId10" Type="http://schemas.openxmlformats.org/officeDocument/2006/relationships/slideLayout" Target="../slideLayouts/slideLayout739.xml"/><Relationship Id="rId11" Type="http://schemas.openxmlformats.org/officeDocument/2006/relationships/slideLayout" Target="../slideLayouts/slideLayout740.xml"/><Relationship Id="rId12" Type="http://schemas.openxmlformats.org/officeDocument/2006/relationships/slideLayout" Target="../slideLayouts/slideLayout741.xml"/><Relationship Id="rId13" Type="http://schemas.openxmlformats.org/officeDocument/2006/relationships/slideLayout" Target="../slideLayouts/slideLayout742.xml"/><Relationship Id="rId14" Type="http://schemas.openxmlformats.org/officeDocument/2006/relationships/slideLayout" Target="../slideLayouts/slideLayout743.xml"/><Relationship Id="rId15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69.xml"/><Relationship Id="rId5" Type="http://schemas.openxmlformats.org/officeDocument/2006/relationships/slideLayout" Target="../slideLayouts/slideLayout770.xml"/><Relationship Id="rId6" Type="http://schemas.openxmlformats.org/officeDocument/2006/relationships/slideLayout" Target="../slideLayouts/slideLayout771.xml"/><Relationship Id="rId7" Type="http://schemas.openxmlformats.org/officeDocument/2006/relationships/slideLayout" Target="../slideLayouts/slideLayout772.xml"/><Relationship Id="rId8" Type="http://schemas.openxmlformats.org/officeDocument/2006/relationships/slideLayout" Target="../slideLayouts/slideLayout773.xml"/><Relationship Id="rId9" Type="http://schemas.openxmlformats.org/officeDocument/2006/relationships/slideLayout" Target="../slideLayouts/slideLayout774.xml"/><Relationship Id="rId10" Type="http://schemas.openxmlformats.org/officeDocument/2006/relationships/slideLayout" Target="../slideLayouts/slideLayout775.xml"/><Relationship Id="rId11" Type="http://schemas.openxmlformats.org/officeDocument/2006/relationships/slideLayout" Target="../slideLayouts/slideLayout776.xml"/><Relationship Id="rId12" Type="http://schemas.openxmlformats.org/officeDocument/2006/relationships/slideLayout" Target="../slideLayouts/slideLayout777.xml"/><Relationship Id="rId13" Type="http://schemas.openxmlformats.org/officeDocument/2006/relationships/slideLayout" Target="../slideLayouts/slideLayout778.xml"/><Relationship Id="rId14" Type="http://schemas.openxmlformats.org/officeDocument/2006/relationships/slideLayout" Target="../slideLayouts/slideLayout779.xml"/><Relationship Id="rId15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81.xml"/><Relationship Id="rId5" Type="http://schemas.openxmlformats.org/officeDocument/2006/relationships/slideLayout" Target="../slideLayouts/slideLayout782.xml"/><Relationship Id="rId6" Type="http://schemas.openxmlformats.org/officeDocument/2006/relationships/slideLayout" Target="../slideLayouts/slideLayout783.xml"/><Relationship Id="rId7" Type="http://schemas.openxmlformats.org/officeDocument/2006/relationships/slideLayout" Target="../slideLayouts/slideLayout784.xml"/><Relationship Id="rId8" Type="http://schemas.openxmlformats.org/officeDocument/2006/relationships/slideLayout" Target="../slideLayouts/slideLayout785.xml"/><Relationship Id="rId9" Type="http://schemas.openxmlformats.org/officeDocument/2006/relationships/slideLayout" Target="../slideLayouts/slideLayout786.xml"/><Relationship Id="rId10" Type="http://schemas.openxmlformats.org/officeDocument/2006/relationships/slideLayout" Target="../slideLayouts/slideLayout787.xml"/><Relationship Id="rId11" Type="http://schemas.openxmlformats.org/officeDocument/2006/relationships/slideLayout" Target="../slideLayouts/slideLayout788.xml"/><Relationship Id="rId12" Type="http://schemas.openxmlformats.org/officeDocument/2006/relationships/slideLayout" Target="../slideLayouts/slideLayout789.xml"/><Relationship Id="rId13" Type="http://schemas.openxmlformats.org/officeDocument/2006/relationships/slideLayout" Target="../slideLayouts/slideLayout790.xml"/><Relationship Id="rId14" Type="http://schemas.openxmlformats.org/officeDocument/2006/relationships/slideLayout" Target="../slideLayouts/slideLayout791.xml"/><Relationship Id="rId15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93.xml"/><Relationship Id="rId5" Type="http://schemas.openxmlformats.org/officeDocument/2006/relationships/slideLayout" Target="../slideLayouts/slideLayout794.xml"/><Relationship Id="rId6" Type="http://schemas.openxmlformats.org/officeDocument/2006/relationships/slideLayout" Target="../slideLayouts/slideLayout795.xml"/><Relationship Id="rId7" Type="http://schemas.openxmlformats.org/officeDocument/2006/relationships/slideLayout" Target="../slideLayouts/slideLayout796.xml"/><Relationship Id="rId8" Type="http://schemas.openxmlformats.org/officeDocument/2006/relationships/slideLayout" Target="../slideLayouts/slideLayout797.xml"/><Relationship Id="rId9" Type="http://schemas.openxmlformats.org/officeDocument/2006/relationships/slideLayout" Target="../slideLayouts/slideLayout798.xml"/><Relationship Id="rId10" Type="http://schemas.openxmlformats.org/officeDocument/2006/relationships/slideLayout" Target="../slideLayouts/slideLayout799.xml"/><Relationship Id="rId11" Type="http://schemas.openxmlformats.org/officeDocument/2006/relationships/slideLayout" Target="../slideLayouts/slideLayout800.xml"/><Relationship Id="rId12" Type="http://schemas.openxmlformats.org/officeDocument/2006/relationships/slideLayout" Target="../slideLayouts/slideLayout801.xml"/><Relationship Id="rId13" Type="http://schemas.openxmlformats.org/officeDocument/2006/relationships/slideLayout" Target="../slideLayouts/slideLayout802.xml"/><Relationship Id="rId14" Type="http://schemas.openxmlformats.org/officeDocument/2006/relationships/slideLayout" Target="../slideLayouts/slideLayout803.xml"/><Relationship Id="rId15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05.xml"/><Relationship Id="rId5" Type="http://schemas.openxmlformats.org/officeDocument/2006/relationships/slideLayout" Target="../slideLayouts/slideLayout806.xml"/><Relationship Id="rId6" Type="http://schemas.openxmlformats.org/officeDocument/2006/relationships/slideLayout" Target="../slideLayouts/slideLayout807.xml"/><Relationship Id="rId7" Type="http://schemas.openxmlformats.org/officeDocument/2006/relationships/slideLayout" Target="../slideLayouts/slideLayout808.xml"/><Relationship Id="rId8" Type="http://schemas.openxmlformats.org/officeDocument/2006/relationships/slideLayout" Target="../slideLayouts/slideLayout809.xml"/><Relationship Id="rId9" Type="http://schemas.openxmlformats.org/officeDocument/2006/relationships/slideLayout" Target="../slideLayouts/slideLayout810.xml"/><Relationship Id="rId10" Type="http://schemas.openxmlformats.org/officeDocument/2006/relationships/slideLayout" Target="../slideLayouts/slideLayout811.xml"/><Relationship Id="rId11" Type="http://schemas.openxmlformats.org/officeDocument/2006/relationships/slideLayout" Target="../slideLayouts/slideLayout812.xml"/><Relationship Id="rId12" Type="http://schemas.openxmlformats.org/officeDocument/2006/relationships/slideLayout" Target="../slideLayouts/slideLayout813.xml"/><Relationship Id="rId13" Type="http://schemas.openxmlformats.org/officeDocument/2006/relationships/slideLayout" Target="../slideLayouts/slideLayout814.xml"/><Relationship Id="rId14" Type="http://schemas.openxmlformats.org/officeDocument/2006/relationships/slideLayout" Target="../slideLayouts/slideLayout815.xml"/><Relationship Id="rId15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29.xml"/><Relationship Id="rId5" Type="http://schemas.openxmlformats.org/officeDocument/2006/relationships/slideLayout" Target="../slideLayouts/slideLayout830.xml"/><Relationship Id="rId6" Type="http://schemas.openxmlformats.org/officeDocument/2006/relationships/slideLayout" Target="../slideLayouts/slideLayout831.xml"/><Relationship Id="rId7" Type="http://schemas.openxmlformats.org/officeDocument/2006/relationships/slideLayout" Target="../slideLayouts/slideLayout832.xml"/><Relationship Id="rId8" Type="http://schemas.openxmlformats.org/officeDocument/2006/relationships/slideLayout" Target="../slideLayouts/slideLayout833.xml"/><Relationship Id="rId9" Type="http://schemas.openxmlformats.org/officeDocument/2006/relationships/slideLayout" Target="../slideLayouts/slideLayout834.xml"/><Relationship Id="rId10" Type="http://schemas.openxmlformats.org/officeDocument/2006/relationships/slideLayout" Target="../slideLayouts/slideLayout835.xml"/><Relationship Id="rId11" Type="http://schemas.openxmlformats.org/officeDocument/2006/relationships/slideLayout" Target="../slideLayouts/slideLayout836.xml"/><Relationship Id="rId12" Type="http://schemas.openxmlformats.org/officeDocument/2006/relationships/slideLayout" Target="../slideLayouts/slideLayout837.xml"/><Relationship Id="rId13" Type="http://schemas.openxmlformats.org/officeDocument/2006/relationships/slideLayout" Target="../slideLayouts/slideLayout838.xml"/><Relationship Id="rId14" Type="http://schemas.openxmlformats.org/officeDocument/2006/relationships/slideLayout" Target="../slideLayouts/slideLayout839.xml"/><Relationship Id="rId15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77.xml"/><Relationship Id="rId5" Type="http://schemas.openxmlformats.org/officeDocument/2006/relationships/slideLayout" Target="../slideLayouts/slideLayout878.xml"/><Relationship Id="rId6" Type="http://schemas.openxmlformats.org/officeDocument/2006/relationships/slideLayout" Target="../slideLayouts/slideLayout879.xml"/><Relationship Id="rId7" Type="http://schemas.openxmlformats.org/officeDocument/2006/relationships/slideLayout" Target="../slideLayouts/slideLayout880.xml"/><Relationship Id="rId8" Type="http://schemas.openxmlformats.org/officeDocument/2006/relationships/slideLayout" Target="../slideLayouts/slideLayout881.xml"/><Relationship Id="rId9" Type="http://schemas.openxmlformats.org/officeDocument/2006/relationships/slideLayout" Target="../slideLayouts/slideLayout882.xml"/><Relationship Id="rId10" Type="http://schemas.openxmlformats.org/officeDocument/2006/relationships/slideLayout" Target="../slideLayouts/slideLayout883.xml"/><Relationship Id="rId11" Type="http://schemas.openxmlformats.org/officeDocument/2006/relationships/slideLayout" Target="../slideLayouts/slideLayout884.xml"/><Relationship Id="rId12" Type="http://schemas.openxmlformats.org/officeDocument/2006/relationships/slideLayout" Target="../slideLayouts/slideLayout885.xml"/><Relationship Id="rId13" Type="http://schemas.openxmlformats.org/officeDocument/2006/relationships/slideLayout" Target="../slideLayouts/slideLayout886.xml"/><Relationship Id="rId14" Type="http://schemas.openxmlformats.org/officeDocument/2006/relationships/slideLayout" Target="../slideLayouts/slideLayout887.xml"/><Relationship Id="rId15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89.xml"/><Relationship Id="rId5" Type="http://schemas.openxmlformats.org/officeDocument/2006/relationships/slideLayout" Target="../slideLayouts/slideLayout890.xml"/><Relationship Id="rId6" Type="http://schemas.openxmlformats.org/officeDocument/2006/relationships/slideLayout" Target="../slideLayouts/slideLayout891.xml"/><Relationship Id="rId7" Type="http://schemas.openxmlformats.org/officeDocument/2006/relationships/slideLayout" Target="../slideLayouts/slideLayout892.xml"/><Relationship Id="rId8" Type="http://schemas.openxmlformats.org/officeDocument/2006/relationships/slideLayout" Target="../slideLayouts/slideLayout893.xml"/><Relationship Id="rId9" Type="http://schemas.openxmlformats.org/officeDocument/2006/relationships/slideLayout" Target="../slideLayouts/slideLayout894.xml"/><Relationship Id="rId10" Type="http://schemas.openxmlformats.org/officeDocument/2006/relationships/slideLayout" Target="../slideLayouts/slideLayout895.xml"/><Relationship Id="rId11" Type="http://schemas.openxmlformats.org/officeDocument/2006/relationships/slideLayout" Target="../slideLayouts/slideLayout896.xml"/><Relationship Id="rId12" Type="http://schemas.openxmlformats.org/officeDocument/2006/relationships/slideLayout" Target="../slideLayouts/slideLayout897.xml"/><Relationship Id="rId13" Type="http://schemas.openxmlformats.org/officeDocument/2006/relationships/slideLayout" Target="../slideLayouts/slideLayout898.xml"/><Relationship Id="rId14" Type="http://schemas.openxmlformats.org/officeDocument/2006/relationships/slideLayout" Target="../slideLayouts/slideLayout899.xml"/><Relationship Id="rId15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01.xml"/><Relationship Id="rId5" Type="http://schemas.openxmlformats.org/officeDocument/2006/relationships/slideLayout" Target="../slideLayouts/slideLayout902.xml"/><Relationship Id="rId6" Type="http://schemas.openxmlformats.org/officeDocument/2006/relationships/slideLayout" Target="../slideLayouts/slideLayout903.xml"/><Relationship Id="rId7" Type="http://schemas.openxmlformats.org/officeDocument/2006/relationships/slideLayout" Target="../slideLayouts/slideLayout904.xml"/><Relationship Id="rId8" Type="http://schemas.openxmlformats.org/officeDocument/2006/relationships/slideLayout" Target="../slideLayouts/slideLayout905.xml"/><Relationship Id="rId9" Type="http://schemas.openxmlformats.org/officeDocument/2006/relationships/slideLayout" Target="../slideLayouts/slideLayout906.xml"/><Relationship Id="rId10" Type="http://schemas.openxmlformats.org/officeDocument/2006/relationships/slideLayout" Target="../slideLayouts/slideLayout907.xml"/><Relationship Id="rId11" Type="http://schemas.openxmlformats.org/officeDocument/2006/relationships/slideLayout" Target="../slideLayouts/slideLayout908.xml"/><Relationship Id="rId12" Type="http://schemas.openxmlformats.org/officeDocument/2006/relationships/slideLayout" Target="../slideLayouts/slideLayout909.xml"/><Relationship Id="rId13" Type="http://schemas.openxmlformats.org/officeDocument/2006/relationships/slideLayout" Target="../slideLayouts/slideLayout910.xml"/><Relationship Id="rId14" Type="http://schemas.openxmlformats.org/officeDocument/2006/relationships/slideLayout" Target="../slideLayouts/slideLayout911.xml"/><Relationship Id="rId15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13.xml"/><Relationship Id="rId5" Type="http://schemas.openxmlformats.org/officeDocument/2006/relationships/slideLayout" Target="../slideLayouts/slideLayout914.xml"/><Relationship Id="rId6" Type="http://schemas.openxmlformats.org/officeDocument/2006/relationships/slideLayout" Target="../slideLayouts/slideLayout915.xml"/><Relationship Id="rId7" Type="http://schemas.openxmlformats.org/officeDocument/2006/relationships/slideLayout" Target="../slideLayouts/slideLayout916.xml"/><Relationship Id="rId8" Type="http://schemas.openxmlformats.org/officeDocument/2006/relationships/slideLayout" Target="../slideLayouts/slideLayout917.xml"/><Relationship Id="rId9" Type="http://schemas.openxmlformats.org/officeDocument/2006/relationships/slideLayout" Target="../slideLayouts/slideLayout918.xml"/><Relationship Id="rId10" Type="http://schemas.openxmlformats.org/officeDocument/2006/relationships/slideLayout" Target="../slideLayouts/slideLayout919.xml"/><Relationship Id="rId11" Type="http://schemas.openxmlformats.org/officeDocument/2006/relationships/slideLayout" Target="../slideLayouts/slideLayout920.xml"/><Relationship Id="rId12" Type="http://schemas.openxmlformats.org/officeDocument/2006/relationships/slideLayout" Target="../slideLayouts/slideLayout921.xml"/><Relationship Id="rId13" Type="http://schemas.openxmlformats.org/officeDocument/2006/relationships/slideLayout" Target="../slideLayouts/slideLayout922.xml"/><Relationship Id="rId14" Type="http://schemas.openxmlformats.org/officeDocument/2006/relationships/slideLayout" Target="../slideLayouts/slideLayout923.xml"/><Relationship Id="rId15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25.xml"/><Relationship Id="rId5" Type="http://schemas.openxmlformats.org/officeDocument/2006/relationships/slideLayout" Target="../slideLayouts/slideLayout926.xml"/><Relationship Id="rId6" Type="http://schemas.openxmlformats.org/officeDocument/2006/relationships/slideLayout" Target="../slideLayouts/slideLayout927.xml"/><Relationship Id="rId7" Type="http://schemas.openxmlformats.org/officeDocument/2006/relationships/slideLayout" Target="../slideLayouts/slideLayout928.xml"/><Relationship Id="rId8" Type="http://schemas.openxmlformats.org/officeDocument/2006/relationships/slideLayout" Target="../slideLayouts/slideLayout929.xml"/><Relationship Id="rId9" Type="http://schemas.openxmlformats.org/officeDocument/2006/relationships/slideLayout" Target="../slideLayouts/slideLayout930.xml"/><Relationship Id="rId10" Type="http://schemas.openxmlformats.org/officeDocument/2006/relationships/slideLayout" Target="../slideLayouts/slideLayout931.xml"/><Relationship Id="rId11" Type="http://schemas.openxmlformats.org/officeDocument/2006/relationships/slideLayout" Target="../slideLayouts/slideLayout932.xml"/><Relationship Id="rId12" Type="http://schemas.openxmlformats.org/officeDocument/2006/relationships/slideLayout" Target="../slideLayouts/slideLayout933.xml"/><Relationship Id="rId13" Type="http://schemas.openxmlformats.org/officeDocument/2006/relationships/slideLayout" Target="../slideLayouts/slideLayout934.xml"/><Relationship Id="rId14" Type="http://schemas.openxmlformats.org/officeDocument/2006/relationships/slideLayout" Target="../slideLayouts/slideLayout935.xml"/><Relationship Id="rId15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37.xml"/><Relationship Id="rId5" Type="http://schemas.openxmlformats.org/officeDocument/2006/relationships/slideLayout" Target="../slideLayouts/slideLayout938.xml"/><Relationship Id="rId6" Type="http://schemas.openxmlformats.org/officeDocument/2006/relationships/slideLayout" Target="../slideLayouts/slideLayout939.xml"/><Relationship Id="rId7" Type="http://schemas.openxmlformats.org/officeDocument/2006/relationships/slideLayout" Target="../slideLayouts/slideLayout940.xml"/><Relationship Id="rId8" Type="http://schemas.openxmlformats.org/officeDocument/2006/relationships/slideLayout" Target="../slideLayouts/slideLayout941.xml"/><Relationship Id="rId9" Type="http://schemas.openxmlformats.org/officeDocument/2006/relationships/slideLayout" Target="../slideLayouts/slideLayout942.xml"/><Relationship Id="rId10" Type="http://schemas.openxmlformats.org/officeDocument/2006/relationships/slideLayout" Target="../slideLayouts/slideLayout943.xml"/><Relationship Id="rId11" Type="http://schemas.openxmlformats.org/officeDocument/2006/relationships/slideLayout" Target="../slideLayouts/slideLayout944.xml"/><Relationship Id="rId12" Type="http://schemas.openxmlformats.org/officeDocument/2006/relationships/slideLayout" Target="../slideLayouts/slideLayout945.xml"/><Relationship Id="rId13" Type="http://schemas.openxmlformats.org/officeDocument/2006/relationships/slideLayout" Target="../slideLayouts/slideLayout946.xml"/><Relationship Id="rId14" Type="http://schemas.openxmlformats.org/officeDocument/2006/relationships/slideLayout" Target="../slideLayouts/slideLayout947.xml"/><Relationship Id="rId15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49.xml"/><Relationship Id="rId5" Type="http://schemas.openxmlformats.org/officeDocument/2006/relationships/slideLayout" Target="../slideLayouts/slideLayout950.xml"/><Relationship Id="rId6" Type="http://schemas.openxmlformats.org/officeDocument/2006/relationships/slideLayout" Target="../slideLayouts/slideLayout951.xml"/><Relationship Id="rId7" Type="http://schemas.openxmlformats.org/officeDocument/2006/relationships/slideLayout" Target="../slideLayouts/slideLayout952.xml"/><Relationship Id="rId8" Type="http://schemas.openxmlformats.org/officeDocument/2006/relationships/slideLayout" Target="../slideLayouts/slideLayout953.xml"/><Relationship Id="rId9" Type="http://schemas.openxmlformats.org/officeDocument/2006/relationships/slideLayout" Target="../slideLayouts/slideLayout954.xml"/><Relationship Id="rId10" Type="http://schemas.openxmlformats.org/officeDocument/2006/relationships/slideLayout" Target="../slideLayouts/slideLayout955.xml"/><Relationship Id="rId11" Type="http://schemas.openxmlformats.org/officeDocument/2006/relationships/slideLayout" Target="../slideLayouts/slideLayout956.xml"/><Relationship Id="rId12" Type="http://schemas.openxmlformats.org/officeDocument/2006/relationships/slideLayout" Target="../slideLayouts/slideLayout957.xml"/><Relationship Id="rId13" Type="http://schemas.openxmlformats.org/officeDocument/2006/relationships/slideLayout" Target="../slideLayouts/slideLayout958.xml"/><Relationship Id="rId14" Type="http://schemas.openxmlformats.org/officeDocument/2006/relationships/slideLayout" Target="../slideLayouts/slideLayout959.xml"/><Relationship Id="rId15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61.xml"/><Relationship Id="rId5" Type="http://schemas.openxmlformats.org/officeDocument/2006/relationships/slideLayout" Target="../slideLayouts/slideLayout962.xml"/><Relationship Id="rId6" Type="http://schemas.openxmlformats.org/officeDocument/2006/relationships/slideLayout" Target="../slideLayouts/slideLayout963.xml"/><Relationship Id="rId7" Type="http://schemas.openxmlformats.org/officeDocument/2006/relationships/slideLayout" Target="../slideLayouts/slideLayout964.xml"/><Relationship Id="rId8" Type="http://schemas.openxmlformats.org/officeDocument/2006/relationships/slideLayout" Target="../slideLayouts/slideLayout965.xml"/><Relationship Id="rId9" Type="http://schemas.openxmlformats.org/officeDocument/2006/relationships/slideLayout" Target="../slideLayouts/slideLayout966.xml"/><Relationship Id="rId10" Type="http://schemas.openxmlformats.org/officeDocument/2006/relationships/slideLayout" Target="../slideLayouts/slideLayout967.xml"/><Relationship Id="rId11" Type="http://schemas.openxmlformats.org/officeDocument/2006/relationships/slideLayout" Target="../slideLayouts/slideLayout968.xml"/><Relationship Id="rId12" Type="http://schemas.openxmlformats.org/officeDocument/2006/relationships/slideLayout" Target="../slideLayouts/slideLayout969.xml"/><Relationship Id="rId13" Type="http://schemas.openxmlformats.org/officeDocument/2006/relationships/slideLayout" Target="../slideLayouts/slideLayout970.xml"/><Relationship Id="rId14" Type="http://schemas.openxmlformats.org/officeDocument/2006/relationships/slideLayout" Target="../slideLayouts/slideLayout971.xml"/><Relationship Id="rId15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3.xml"/><Relationship Id="rId5" Type="http://schemas.openxmlformats.org/officeDocument/2006/relationships/slideLayout" Target="../slideLayouts/slideLayout974.xml"/><Relationship Id="rId6" Type="http://schemas.openxmlformats.org/officeDocument/2006/relationships/slideLayout" Target="../slideLayouts/slideLayout975.xml"/><Relationship Id="rId7" Type="http://schemas.openxmlformats.org/officeDocument/2006/relationships/slideLayout" Target="../slideLayouts/slideLayout976.xml"/><Relationship Id="rId8" Type="http://schemas.openxmlformats.org/officeDocument/2006/relationships/slideLayout" Target="../slideLayouts/slideLayout977.xml"/><Relationship Id="rId9" Type="http://schemas.openxmlformats.org/officeDocument/2006/relationships/slideLayout" Target="../slideLayouts/slideLayout978.xml"/><Relationship Id="rId10" Type="http://schemas.openxmlformats.org/officeDocument/2006/relationships/slideLayout" Target="../slideLayouts/slideLayout979.xml"/><Relationship Id="rId11" Type="http://schemas.openxmlformats.org/officeDocument/2006/relationships/slideLayout" Target="../slideLayouts/slideLayout980.xml"/><Relationship Id="rId12" Type="http://schemas.openxmlformats.org/officeDocument/2006/relationships/slideLayout" Target="../slideLayouts/slideLayout981.xml"/><Relationship Id="rId13" Type="http://schemas.openxmlformats.org/officeDocument/2006/relationships/slideLayout" Target="../slideLayouts/slideLayout982.xml"/><Relationship Id="rId14" Type="http://schemas.openxmlformats.org/officeDocument/2006/relationships/slideLayout" Target="../slideLayouts/slideLayout983.xml"/><Relationship Id="rId15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85.xml"/><Relationship Id="rId5" Type="http://schemas.openxmlformats.org/officeDocument/2006/relationships/slideLayout" Target="../slideLayouts/slideLayout986.xml"/><Relationship Id="rId6" Type="http://schemas.openxmlformats.org/officeDocument/2006/relationships/slideLayout" Target="../slideLayouts/slideLayout987.xml"/><Relationship Id="rId7" Type="http://schemas.openxmlformats.org/officeDocument/2006/relationships/slideLayout" Target="../slideLayouts/slideLayout988.xml"/><Relationship Id="rId8" Type="http://schemas.openxmlformats.org/officeDocument/2006/relationships/slideLayout" Target="../slideLayouts/slideLayout989.xml"/><Relationship Id="rId9" Type="http://schemas.openxmlformats.org/officeDocument/2006/relationships/slideLayout" Target="../slideLayouts/slideLayout990.xml"/><Relationship Id="rId10" Type="http://schemas.openxmlformats.org/officeDocument/2006/relationships/slideLayout" Target="../slideLayouts/slideLayout991.xml"/><Relationship Id="rId11" Type="http://schemas.openxmlformats.org/officeDocument/2006/relationships/slideLayout" Target="../slideLayouts/slideLayout992.xml"/><Relationship Id="rId12" Type="http://schemas.openxmlformats.org/officeDocument/2006/relationships/slideLayout" Target="../slideLayouts/slideLayout993.xml"/><Relationship Id="rId13" Type="http://schemas.openxmlformats.org/officeDocument/2006/relationships/slideLayout" Target="../slideLayouts/slideLayout994.xml"/><Relationship Id="rId14" Type="http://schemas.openxmlformats.org/officeDocument/2006/relationships/slideLayout" Target="../slideLayouts/slideLayout995.xml"/><Relationship Id="rId15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97.xml"/><Relationship Id="rId5" Type="http://schemas.openxmlformats.org/officeDocument/2006/relationships/slideLayout" Target="../slideLayouts/slideLayout998.xml"/><Relationship Id="rId6" Type="http://schemas.openxmlformats.org/officeDocument/2006/relationships/slideLayout" Target="../slideLayouts/slideLayout999.xml"/><Relationship Id="rId7" Type="http://schemas.openxmlformats.org/officeDocument/2006/relationships/slideLayout" Target="../slideLayouts/slideLayout1000.xml"/><Relationship Id="rId8" Type="http://schemas.openxmlformats.org/officeDocument/2006/relationships/slideLayout" Target="../slideLayouts/slideLayout1001.xml"/><Relationship Id="rId9" Type="http://schemas.openxmlformats.org/officeDocument/2006/relationships/slideLayout" Target="../slideLayouts/slideLayout1002.xml"/><Relationship Id="rId10" Type="http://schemas.openxmlformats.org/officeDocument/2006/relationships/slideLayout" Target="../slideLayouts/slideLayout1003.xml"/><Relationship Id="rId11" Type="http://schemas.openxmlformats.org/officeDocument/2006/relationships/slideLayout" Target="../slideLayouts/slideLayout1004.xml"/><Relationship Id="rId12" Type="http://schemas.openxmlformats.org/officeDocument/2006/relationships/slideLayout" Target="../slideLayouts/slideLayout1005.xml"/><Relationship Id="rId13" Type="http://schemas.openxmlformats.org/officeDocument/2006/relationships/slideLayout" Target="../slideLayouts/slideLayout1006.xml"/><Relationship Id="rId14" Type="http://schemas.openxmlformats.org/officeDocument/2006/relationships/slideLayout" Target="../slideLayouts/slideLayout1007.xml"/><Relationship Id="rId15" Type="http://schemas.openxmlformats.org/officeDocument/2006/relationships/slideLayout" Target="../slideLayouts/slideLayout100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B115-B86B-447C-ACB6-D425EB428AF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EF09-1FE2-469D-9F7F-CEDA10A9D5B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067F-B833-4514-AB73-E02A27CC902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1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759C-8443-43F5-9AF4-6F76A6A02CC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ECE4-1A76-48D0-9F1B-260B43C7864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19B0-EFDE-42E1-9018-81904017867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4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07F6-57FB-485E-B338-14EDC0D378F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sldNum" idx="2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DC2A-6B10-448B-845B-C350507A0BF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3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F202-3504-4FE0-9F4E-F460435993E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sldNum" idx="2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284D-0538-4477-A61A-8C9435502E0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15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6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17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818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1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22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823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5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826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828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829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2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834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8415-B237-4B52-BEDE-F8D847A85A2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7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91EA-0174-4A56-8EE0-D569EF3E842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2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4996-5732-4006-A480-49C3169C74C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6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sldNum" idx="2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3A10-A004-4EC4-8035-8910EF976C9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sldNum" idx="2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0996-4277-4656-807A-8E0D3DC62DC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5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sldNum" idx="2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50BA-DCBC-459C-88C6-441D96CF280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9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sldNum" idx="3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D52D-26DC-447C-BD4D-9693B3FDA69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3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4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sldNum" idx="3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3FDE-EA57-4F55-9381-229F59B5B16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8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sldNum" idx="3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2B6A-6EE1-4DDA-8388-65C142DC161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sldNum" idx="3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8B3F-D465-4F7E-AA59-EC3B659D046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sldNum" idx="3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38D2-17ED-48F8-8C73-A0C1E6F38A5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D8F8-A216-4282-AB4D-4B394A0C2BF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3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314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5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316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317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18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19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20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321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322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3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324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325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6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327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328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9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0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1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2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3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3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7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37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sldNum" idx="3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64B9-07D0-4958-9118-FDC5D093E92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 type="sldNum" idx="3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B74F-CD33-4A4A-AAF8-331797987D6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 type="sldNum" idx="3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3522-7781-48BF-846C-B8271A97CD2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sldNum" idx="3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6C69-E157-4DBD-8783-5340F63EF27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 type="sldNum" idx="3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76DC-1A30-422E-A139-805815F329C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sldNum" idx="4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2DDE-E049-4276-A059-AD3D14CE628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Num" idx="4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DBB3-5AFD-4A81-BFFE-89326974218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4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41E7-CE72-412F-9734-047AE86FDBE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 type="sldNum" idx="4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61FF-2EAF-4722-BF12-1999847458D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47DC-9256-4042-8805-CF045A7BF48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 type="sldNum" idx="4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D32E-EF73-48FF-B937-FCFF78423C0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2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813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14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815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16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7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18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19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20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821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2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23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24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5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26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827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8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9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0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1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32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83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7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7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 type="sldNum" idx="4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7526-B29C-45A4-A307-0347B5B56EF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2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 type="sldNum" idx="4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D303-B821-4511-9CB2-6D92C76DCAE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sldNum" idx="4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ADCF-2052-4EFA-9B77-03EE202D518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0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sldNum" idx="4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E0F9-5856-4293-9C3E-69F7FA097A5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4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5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 type="sldNum" idx="4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5D46-A4A8-4A89-BA5F-5DD0296BFA3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9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 type="sldNum" idx="5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0CDC-BAA9-425D-BDF4-7AEFC04927C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4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 type="sldNum" idx="5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70EA-F2DF-4539-9A65-13C25254788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8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8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 type="sldNum" idx="5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3701-1798-4D48-A449-80CC69F2ED3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65AC-EF76-4D73-8F7B-130C932B9C2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2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2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sldNum" idx="5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D101-2DAF-41E5-804A-EC76859083E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7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sldNum" idx="5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5DED-C80E-4D6B-931A-3281F5D3E1A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1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312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3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314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315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6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7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8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319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320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1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322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323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4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325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326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7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8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9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0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331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33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 type="sldNum" idx="5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39B2-A13C-412D-91F4-350582800BC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1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sldNum" idx="5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6599-68E9-4781-9E7F-6D36B9B55C9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6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6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 type="sldNum" idx="5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A859-11AC-4772-B7DB-1584BB94B20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0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 type="sldNum" idx="5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4FAD-56DB-4DCC-890D-4D51E1267D3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4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5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 type="sldNum" idx="5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BD77-D53E-4BF4-8D5E-666A99E7912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9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 type="sldNum" idx="6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D2DC-A163-4CFF-BE95-F5CDB42DC09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3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3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 type="sldNum" idx="6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3651-A25E-4AA9-9139-6D18083009C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BD3F-53EC-4D74-9D63-2C5F9E1D439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7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 type="sldNum" idx="6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E2F8-A2A8-4D53-AD5A-A61C11A8FFD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2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2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 type="sldNum" idx="6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8997-B02B-4872-BFE3-3E893F9058E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6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 type="sldNum" idx="6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AC42-3100-4D24-AC77-196E3463ADA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4"/>
    <p:sldLayoutId id="2147484443" r:id="rId5"/>
    <p:sldLayoutId id="2147484444" r:id="rId6"/>
    <p:sldLayoutId id="2147484445" r:id="rId7"/>
    <p:sldLayoutId id="2147484446" r:id="rId8"/>
    <p:sldLayoutId id="2147484447" r:id="rId9"/>
    <p:sldLayoutId id="2147484448" r:id="rId10"/>
    <p:sldLayoutId id="2147484449" r:id="rId11"/>
    <p:sldLayoutId id="2147484450" r:id="rId12"/>
    <p:sldLayoutId id="2147484451" r:id="rId13"/>
    <p:sldLayoutId id="2147484452" r:id="rId14"/>
    <p:sldLayoutId id="2147484453" r:id="rId15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811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1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81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81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6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818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819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0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82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82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82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82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6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7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8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9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83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8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sldNum" idx="6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3B73-8E85-46A5-A7EE-564421E19B4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1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1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 type="sldNum" idx="6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5879-3AD4-4C41-94B8-DE217A6F9BC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4"/>
    <p:sldLayoutId id="2147484482" r:id="rId5"/>
    <p:sldLayoutId id="2147484483" r:id="rId6"/>
    <p:sldLayoutId id="2147484484" r:id="rId7"/>
    <p:sldLayoutId id="2147484485" r:id="rId8"/>
    <p:sldLayoutId id="2147484486" r:id="rId9"/>
    <p:sldLayoutId id="2147484487" r:id="rId10"/>
    <p:sldLayoutId id="2147484488" r:id="rId11"/>
    <p:sldLayoutId id="2147484489" r:id="rId12"/>
    <p:sldLayoutId id="2147484490" r:id="rId13"/>
    <p:sldLayoutId id="2147484491" r:id="rId14"/>
    <p:sldLayoutId id="2147484492" r:id="rId15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5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6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 type="sldNum" idx="6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79A5-1ECD-4F17-A07D-9EBDA5142E4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4"/>
    <p:sldLayoutId id="2147484495" r:id="rId5"/>
    <p:sldLayoutId id="2147484496" r:id="rId6"/>
    <p:sldLayoutId id="2147484497" r:id="rId7"/>
    <p:sldLayoutId id="2147484498" r:id="rId8"/>
    <p:sldLayoutId id="2147484499" r:id="rId9"/>
    <p:sldLayoutId id="2147484500" r:id="rId10"/>
    <p:sldLayoutId id="2147484501" r:id="rId11"/>
    <p:sldLayoutId id="2147484502" r:id="rId12"/>
    <p:sldLayoutId id="2147484503" r:id="rId13"/>
    <p:sldLayoutId id="2147484504" r:id="rId14"/>
    <p:sldLayoutId id="2147484505" r:id="rId15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0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0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0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 type="sldNum" idx="6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00DA-B987-4782-B98B-EF43006BFCA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4"/>
    <p:sldLayoutId id="2147484508" r:id="rId5"/>
    <p:sldLayoutId id="2147484509" r:id="rId6"/>
    <p:sldLayoutId id="2147484510" r:id="rId7"/>
    <p:sldLayoutId id="2147484511" r:id="rId8"/>
    <p:sldLayoutId id="2147484512" r:id="rId9"/>
    <p:sldLayoutId id="2147484513" r:id="rId10"/>
    <p:sldLayoutId id="2147484514" r:id="rId11"/>
    <p:sldLayoutId id="2147484515" r:id="rId12"/>
    <p:sldLayoutId id="2147484516" r:id="rId13"/>
    <p:sldLayoutId id="2147484517" r:id="rId14"/>
    <p:sldLayoutId id="2147484518" r:id="rId15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 type="sldNum" idx="6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FD0A-3D09-4945-B279-4804DA43562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4"/>
    <p:sldLayoutId id="2147484521" r:id="rId5"/>
    <p:sldLayoutId id="2147484522" r:id="rId6"/>
    <p:sldLayoutId id="2147484523" r:id="rId7"/>
    <p:sldLayoutId id="2147484524" r:id="rId8"/>
    <p:sldLayoutId id="2147484525" r:id="rId9"/>
    <p:sldLayoutId id="2147484526" r:id="rId10"/>
    <p:sldLayoutId id="2147484527" r:id="rId11"/>
    <p:sldLayoutId id="2147484528" r:id="rId12"/>
    <p:sldLayoutId id="2147484529" r:id="rId13"/>
    <p:sldLayoutId id="2147484530" r:id="rId14"/>
    <p:sldLayoutId id="2147484531" r:id="rId15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9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9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 type="sldNum" idx="7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0BAC-899A-4DB1-B077-241003B1A83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3E56-6260-4C3C-AE79-61A9AECA4FC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3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3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 type="sldNum" idx="7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1F76-0619-4440-9868-1AF307BAE19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4"/>
    <p:sldLayoutId id="2147484547" r:id="rId5"/>
    <p:sldLayoutId id="2147484548" r:id="rId6"/>
    <p:sldLayoutId id="2147484549" r:id="rId7"/>
    <p:sldLayoutId id="2147484550" r:id="rId8"/>
    <p:sldLayoutId id="2147484551" r:id="rId9"/>
    <p:sldLayoutId id="2147484552" r:id="rId10"/>
    <p:sldLayoutId id="2147484553" r:id="rId11"/>
    <p:sldLayoutId id="2147484554" r:id="rId12"/>
    <p:sldLayoutId id="2147484555" r:id="rId13"/>
    <p:sldLayoutId id="2147484556" r:id="rId14"/>
    <p:sldLayoutId id="2147484557" r:id="rId15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7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8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8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 type="sldNum" idx="7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3313-F5D4-4BAA-A0B8-8AE3BE4FF0C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2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2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 type="sldNum" idx="7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9130-2919-4489-A5B1-8B572CD0D38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6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7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2" name="PlaceHolder 3"/>
          <p:cNvSpPr>
            <a:spLocks noGrp="1"/>
          </p:cNvSpPr>
          <p:nvPr>
            <p:ph type="sldNum" idx="7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12E1-77CF-40A8-A61D-2F9D0FC2ABF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9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310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1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12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3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4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15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16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17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318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9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20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21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2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323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24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5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6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7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8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29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4"/>
    <p:sldLayoutId id="2147484599" r:id="rId5"/>
    <p:sldLayoutId id="2147484600" r:id="rId6"/>
    <p:sldLayoutId id="2147484601" r:id="rId7"/>
    <p:sldLayoutId id="2147484602" r:id="rId8"/>
    <p:sldLayoutId id="2147484603" r:id="rId9"/>
    <p:sldLayoutId id="2147484604" r:id="rId10"/>
    <p:sldLayoutId id="2147484605" r:id="rId11"/>
    <p:sldLayoutId id="2147484606" r:id="rId12"/>
    <p:sldLayoutId id="2147484607" r:id="rId13"/>
    <p:sldLayoutId id="2147484608" r:id="rId14"/>
    <p:sldLayoutId id="2147484609" r:id="rId15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3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5" name="PlaceHolder 3"/>
          <p:cNvSpPr>
            <a:spLocks noGrp="1"/>
          </p:cNvSpPr>
          <p:nvPr>
            <p:ph type="sldNum" idx="7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BAD5-15BD-4E83-8B4A-A2DBB25D062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4"/>
    <p:sldLayoutId id="2147484612" r:id="rId5"/>
    <p:sldLayoutId id="2147484613" r:id="rId6"/>
    <p:sldLayoutId id="2147484614" r:id="rId7"/>
    <p:sldLayoutId id="2147484615" r:id="rId8"/>
    <p:sldLayoutId id="2147484616" r:id="rId9"/>
    <p:sldLayoutId id="2147484617" r:id="rId10"/>
    <p:sldLayoutId id="2147484618" r:id="rId11"/>
    <p:sldLayoutId id="2147484619" r:id="rId12"/>
    <p:sldLayoutId id="2147484620" r:id="rId13"/>
    <p:sldLayoutId id="2147484621" r:id="rId14"/>
    <p:sldLayoutId id="2147484622" r:id="rId15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1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1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 type="sldNum" idx="7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8108-81A4-476F-B549-7814485AB7B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4"/>
    <p:sldLayoutId id="2147484625" r:id="rId5"/>
    <p:sldLayoutId id="2147484626" r:id="rId6"/>
    <p:sldLayoutId id="2147484627" r:id="rId7"/>
    <p:sldLayoutId id="2147484628" r:id="rId8"/>
    <p:sldLayoutId id="2147484629" r:id="rId9"/>
    <p:sldLayoutId id="2147484630" r:id="rId10"/>
    <p:sldLayoutId id="2147484631" r:id="rId11"/>
    <p:sldLayoutId id="2147484632" r:id="rId12"/>
    <p:sldLayoutId id="2147484633" r:id="rId13"/>
    <p:sldLayoutId id="2147484634" r:id="rId14"/>
    <p:sldLayoutId id="2147484635" r:id="rId15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5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6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6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 type="sldNum" idx="7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53E9-8322-4C77-8C21-2CC1750F28E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4"/>
    <p:sldLayoutId id="2147484638" r:id="rId5"/>
    <p:sldLayoutId id="2147484639" r:id="rId6"/>
    <p:sldLayoutId id="2147484640" r:id="rId7"/>
    <p:sldLayoutId id="2147484641" r:id="rId8"/>
    <p:sldLayoutId id="2147484642" r:id="rId9"/>
    <p:sldLayoutId id="2147484643" r:id="rId10"/>
    <p:sldLayoutId id="2147484644" r:id="rId11"/>
    <p:sldLayoutId id="2147484645" r:id="rId12"/>
    <p:sldLayoutId id="2147484646" r:id="rId13"/>
    <p:sldLayoutId id="2147484647" r:id="rId14"/>
    <p:sldLayoutId id="2147484648" r:id="rId15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0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0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0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 type="sldNum" idx="7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C3CF-8273-4A53-84B4-834C39F2ECD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4"/>
    <p:sldLayoutId id="2147484651" r:id="rId5"/>
    <p:sldLayoutId id="2147484652" r:id="rId6"/>
    <p:sldLayoutId id="2147484653" r:id="rId7"/>
    <p:sldLayoutId id="2147484654" r:id="rId8"/>
    <p:sldLayoutId id="2147484655" r:id="rId9"/>
    <p:sldLayoutId id="2147484656" r:id="rId10"/>
    <p:sldLayoutId id="2147484657" r:id="rId11"/>
    <p:sldLayoutId id="2147484658" r:id="rId12"/>
    <p:sldLayoutId id="2147484659" r:id="rId13"/>
    <p:sldLayoutId id="2147484660" r:id="rId14"/>
    <p:sldLayoutId id="2147484661" r:id="rId15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4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 type="sldNum" idx="7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B754-1ABB-4009-8187-56B330074CB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4"/>
    <p:sldLayoutId id="2147484664" r:id="rId5"/>
    <p:sldLayoutId id="2147484665" r:id="rId6"/>
    <p:sldLayoutId id="2147484666" r:id="rId7"/>
    <p:sldLayoutId id="2147484667" r:id="rId8"/>
    <p:sldLayoutId id="2147484668" r:id="rId9"/>
    <p:sldLayoutId id="2147484669" r:id="rId10"/>
    <p:sldLayoutId id="2147484670" r:id="rId11"/>
    <p:sldLayoutId id="2147484671" r:id="rId12"/>
    <p:sldLayoutId id="2147484672" r:id="rId13"/>
    <p:sldLayoutId id="2147484673" r:id="rId14"/>
    <p:sldLayoutId id="2147484674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1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1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1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2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2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2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8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 type="sldNum" idx="8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5921-2326-471E-8B15-18D825A8638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4"/>
    <p:sldLayoutId id="2147484677" r:id="rId5"/>
    <p:sldLayoutId id="2147484678" r:id="rId6"/>
    <p:sldLayoutId id="2147484679" r:id="rId7"/>
    <p:sldLayoutId id="2147484680" r:id="rId8"/>
    <p:sldLayoutId id="2147484681" r:id="rId9"/>
    <p:sldLayoutId id="2147484682" r:id="rId10"/>
    <p:sldLayoutId id="2147484683" r:id="rId11"/>
    <p:sldLayoutId id="2147484684" r:id="rId12"/>
    <p:sldLayoutId id="2147484685" r:id="rId13"/>
    <p:sldLayoutId id="2147484686" r:id="rId14"/>
    <p:sldLayoutId id="2147484687" r:id="rId15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3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3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3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 type="sldNum" idx="8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83A7-8865-4171-A84E-DCC6799B841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4"/>
    <p:sldLayoutId id="2147484690" r:id="rId5"/>
    <p:sldLayoutId id="2147484691" r:id="rId6"/>
    <p:sldLayoutId id="2147484692" r:id="rId7"/>
    <p:sldLayoutId id="2147484693" r:id="rId8"/>
    <p:sldLayoutId id="2147484694" r:id="rId9"/>
    <p:sldLayoutId id="2147484695" r:id="rId10"/>
    <p:sldLayoutId id="2147484696" r:id="rId11"/>
    <p:sldLayoutId id="2147484697" r:id="rId12"/>
    <p:sldLayoutId id="2147484698" r:id="rId13"/>
    <p:sldLayoutId id="2147484699" r:id="rId14"/>
    <p:sldLayoutId id="2147484700" r:id="rId15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7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8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 type="sldNum" idx="8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512F-C94E-4C5B-984F-31BB3C903F6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4"/>
    <p:sldLayoutId id="2147484703" r:id="rId5"/>
    <p:sldLayoutId id="2147484704" r:id="rId6"/>
    <p:sldLayoutId id="2147484705" r:id="rId7"/>
    <p:sldLayoutId id="2147484706" r:id="rId8"/>
    <p:sldLayoutId id="2147484707" r:id="rId9"/>
    <p:sldLayoutId id="2147484708" r:id="rId10"/>
    <p:sldLayoutId id="2147484709" r:id="rId11"/>
    <p:sldLayoutId id="2147484710" r:id="rId12"/>
    <p:sldLayoutId id="2147484711" r:id="rId13"/>
    <p:sldLayoutId id="2147484712" r:id="rId14"/>
    <p:sldLayoutId id="2147484713" r:id="rId15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2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2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 type="sldNum" idx="8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AA6F-0325-45DC-9C65-A38E0369CE8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4"/>
    <p:sldLayoutId id="2147484716" r:id="rId5"/>
    <p:sldLayoutId id="2147484717" r:id="rId6"/>
    <p:sldLayoutId id="2147484718" r:id="rId7"/>
    <p:sldLayoutId id="2147484719" r:id="rId8"/>
    <p:sldLayoutId id="2147484720" r:id="rId9"/>
    <p:sldLayoutId id="2147484721" r:id="rId10"/>
    <p:sldLayoutId id="2147484722" r:id="rId11"/>
    <p:sldLayoutId id="2147484723" r:id="rId12"/>
    <p:sldLayoutId id="2147484724" r:id="rId13"/>
    <p:sldLayoutId id="2147484725" r:id="rId14"/>
    <p:sldLayoutId id="2147484726" r:id="rId15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6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6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 type="sldNum" idx="8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2F7E-A5DA-4456-8719-A62B9ACC290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4"/>
    <p:sldLayoutId id="2147484729" r:id="rId5"/>
    <p:sldLayoutId id="2147484730" r:id="rId6"/>
    <p:sldLayoutId id="2147484731" r:id="rId7"/>
    <p:sldLayoutId id="2147484732" r:id="rId8"/>
    <p:sldLayoutId id="2147484733" r:id="rId9"/>
    <p:sldLayoutId id="2147484734" r:id="rId10"/>
    <p:sldLayoutId id="2147484735" r:id="rId11"/>
    <p:sldLayoutId id="2147484736" r:id="rId12"/>
    <p:sldLayoutId id="2147484737" r:id="rId13"/>
    <p:sldLayoutId id="2147484738" r:id="rId14"/>
    <p:sldLayoutId id="2147484739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28E0-4919-4995-AEB3-4A5C0112927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75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2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619272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三章　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神经肌肉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9" name="PlaceHolder 2"/>
          <p:cNvSpPr>
            <a:spLocks noGrp="1"/>
          </p:cNvSpPr>
          <p:nvPr>
            <p:ph type="subTitle"/>
          </p:nvPr>
        </p:nvSpPr>
        <p:spPr>
          <a:xfrm>
            <a:off x="755640" y="5445000"/>
            <a:ext cx="671040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延边大学护理学院     崔文香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脑脊液测定正常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859" name="对象 2"/>
          <p:cNvGraphicFramePr/>
          <p:nvPr/>
        </p:nvGraphicFramePr>
        <p:xfrm>
          <a:off x="179280" y="1268280"/>
          <a:ext cx="8591760" cy="54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0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591760" cy="54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2" name=""/>
          <p:cNvSpPr txBox="1"/>
          <p:nvPr/>
        </p:nvSpPr>
        <p:spPr>
          <a:xfrm>
            <a:off x="468000" y="162864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胚胎时期神经细胞的分化和繁殖以惊人的速度进行，每分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500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；胚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月时，神经细胞数目达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亿个，之后不再有神经细胞数量的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婴儿期，各种刺激引起的神经冲动传导缓慢，且易于泛化，不易形成兴奋灶，因而婴儿易产生疲劳而进入睡眠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4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生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角膜反射、瞳孔对光反射、结膜反射及吞咽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以后逐渐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觅食反射、拥抱反射、握持反射、吸吮反射，迈步反射及颈肢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不存在，以后逐渐出现并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腹壁反射、提睾反射及腱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6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病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包括巴宾斯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abinski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戈登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ordon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奥苯海姆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ppenhei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岁以内可为阳性，个别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阳性可为生理反应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若单侧阳性，结合临床考虑是否为病理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8" name=""/>
          <p:cNvSpPr txBox="1"/>
          <p:nvPr/>
        </p:nvSpPr>
        <p:spPr>
          <a:xfrm>
            <a:off x="1907640" y="2997000"/>
            <a:ext cx="5543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节 化脓性脑膜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DEC6-4933-4565-B51B-787E265003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各种化脓性细菌感染引起的急性脑膜炎症，是小儿、尤其婴幼儿时期常见的中枢神经系统感染性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菌的侵袭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9694-6BFD-4F03-8260-1B6971B2B201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5" name="Oval 5"/>
          <p:cNvSpPr/>
          <p:nvPr/>
        </p:nvSpPr>
        <p:spPr>
          <a:xfrm>
            <a:off x="3276720" y="2133720"/>
            <a:ext cx="2590560" cy="10792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致病菌的侵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6" name="Rectangle 11"/>
          <p:cNvSpPr/>
          <p:nvPr/>
        </p:nvSpPr>
        <p:spPr>
          <a:xfrm>
            <a:off x="43488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0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7" name="Rectangle 11"/>
          <p:cNvSpPr/>
          <p:nvPr/>
        </p:nvSpPr>
        <p:spPr>
          <a:xfrm>
            <a:off x="6084720" y="3800520"/>
            <a:ext cx="269748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8" name="Rectangle 11"/>
          <p:cNvSpPr/>
          <p:nvPr/>
        </p:nvSpPr>
        <p:spPr>
          <a:xfrm>
            <a:off x="3276720" y="38005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9" name="Rectangle 11"/>
          <p:cNvSpPr/>
          <p:nvPr/>
        </p:nvSpPr>
        <p:spPr>
          <a:xfrm>
            <a:off x="43488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肠道革兰阴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金黄色葡萄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0" name="Rectangle 11"/>
          <p:cNvSpPr/>
          <p:nvPr/>
        </p:nvSpPr>
        <p:spPr>
          <a:xfrm>
            <a:off x="32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流感嗜血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1" name="Rectangle 11"/>
          <p:cNvSpPr/>
          <p:nvPr/>
        </p:nvSpPr>
        <p:spPr>
          <a:xfrm>
            <a:off x="6084720" y="5084640"/>
            <a:ext cx="269748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脑膜炎双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肺炎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2" name="Line 3"/>
          <p:cNvSpPr/>
          <p:nvPr/>
        </p:nvSpPr>
        <p:spPr>
          <a:xfrm flipH="1">
            <a:off x="241092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3" name="Line 3"/>
          <p:cNvSpPr/>
          <p:nvPr/>
        </p:nvSpPr>
        <p:spPr>
          <a:xfrm>
            <a:off x="4572000" y="3357720"/>
            <a:ext cx="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4" name="Line 3"/>
          <p:cNvSpPr/>
          <p:nvPr/>
        </p:nvSpPr>
        <p:spPr>
          <a:xfrm>
            <a:off x="6300720" y="3141720"/>
            <a:ext cx="43200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5" name="Line 3"/>
          <p:cNvSpPr/>
          <p:nvPr/>
        </p:nvSpPr>
        <p:spPr>
          <a:xfrm>
            <a:off x="197964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6" name="Line 3"/>
          <p:cNvSpPr/>
          <p:nvPr/>
        </p:nvSpPr>
        <p:spPr>
          <a:xfrm>
            <a:off x="457200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7" name="Line 3"/>
          <p:cNvSpPr/>
          <p:nvPr/>
        </p:nvSpPr>
        <p:spPr>
          <a:xfrm>
            <a:off x="7380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机体免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1283-69D9-404C-99FD-98ED460ED2F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1" name="Oval 5"/>
          <p:cNvSpPr/>
          <p:nvPr/>
        </p:nvSpPr>
        <p:spPr>
          <a:xfrm>
            <a:off x="3419640" y="2205000"/>
            <a:ext cx="2286000" cy="10666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机体免疫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2" name="Rectangle 11"/>
          <p:cNvSpPr/>
          <p:nvPr/>
        </p:nvSpPr>
        <p:spPr>
          <a:xfrm>
            <a:off x="111600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M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3" name="Rectangle 11"/>
          <p:cNvSpPr/>
          <p:nvPr/>
        </p:nvSpPr>
        <p:spPr>
          <a:xfrm>
            <a:off x="507672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A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4" name="Rectangle 11"/>
          <p:cNvSpPr/>
          <p:nvPr/>
        </p:nvSpPr>
        <p:spPr>
          <a:xfrm>
            <a:off x="115416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大肠埃希菌败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5" name="Rectangle 11"/>
          <p:cNvSpPr/>
          <p:nvPr/>
        </p:nvSpPr>
        <p:spPr>
          <a:xfrm>
            <a:off x="50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呼吸道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胃肠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6" name="Line 3"/>
          <p:cNvSpPr/>
          <p:nvPr/>
        </p:nvSpPr>
        <p:spPr>
          <a:xfrm flipH="1">
            <a:off x="277128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7" name="Line 3"/>
          <p:cNvSpPr/>
          <p:nvPr/>
        </p:nvSpPr>
        <p:spPr>
          <a:xfrm>
            <a:off x="5867280" y="3141720"/>
            <a:ext cx="43344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8" name="Line 3"/>
          <p:cNvSpPr/>
          <p:nvPr/>
        </p:nvSpPr>
        <p:spPr>
          <a:xfrm>
            <a:off x="2484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9" name="Line 3"/>
          <p:cNvSpPr/>
          <p:nvPr/>
        </p:nvSpPr>
        <p:spPr>
          <a:xfrm>
            <a:off x="673272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CB61-48BB-46C8-A8A5-41FF65A0CC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826560" y="285480"/>
            <a:ext cx="8317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</a:t>
            </a:r>
            <a:r>
              <a:rPr b="0" i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致病菌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2" name="Text Box 30"/>
          <p:cNvSpPr/>
          <p:nvPr/>
        </p:nvSpPr>
        <p:spPr>
          <a:xfrm>
            <a:off x="6300720" y="3573360"/>
            <a:ext cx="3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3" name="图片 1" descr=""/>
          <p:cNvPicPr/>
          <p:nvPr/>
        </p:nvPicPr>
        <p:blipFill>
          <a:blip r:embed="rId1"/>
          <a:stretch/>
        </p:blipFill>
        <p:spPr>
          <a:xfrm>
            <a:off x="588960" y="1844640"/>
            <a:ext cx="8132760" cy="4249800"/>
          </a:xfrm>
          <a:prstGeom prst="rect">
            <a:avLst/>
          </a:prstGeom>
          <a:ln w="0">
            <a:noFill/>
          </a:ln>
        </p:spPr>
      </p:pic>
      <p:sp>
        <p:nvSpPr>
          <p:cNvPr id="3904" name="AutoShape 5"/>
          <p:cNvSpPr/>
          <p:nvPr/>
        </p:nvSpPr>
        <p:spPr>
          <a:xfrm>
            <a:off x="2411280" y="2254320"/>
            <a:ext cx="432000" cy="3095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5" name="图片 2" descr=""/>
          <p:cNvPicPr/>
          <p:nvPr/>
        </p:nvPicPr>
        <p:blipFill>
          <a:blip r:embed="rId2"/>
          <a:stretch/>
        </p:blipFill>
        <p:spPr>
          <a:xfrm>
            <a:off x="1284120" y="3706920"/>
            <a:ext cx="48132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典型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8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6743-7DA3-479B-A71E-7B5201847A45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9" name="Oval 5"/>
          <p:cNvSpPr/>
          <p:nvPr/>
        </p:nvSpPr>
        <p:spPr>
          <a:xfrm>
            <a:off x="3203640" y="1268280"/>
            <a:ext cx="25923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典型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0" name="Rectangle 11"/>
          <p:cNvSpPr/>
          <p:nvPr/>
        </p:nvSpPr>
        <p:spPr>
          <a:xfrm>
            <a:off x="425520" y="29019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感染中毒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急性脑功能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1" name="Rectangle 11"/>
          <p:cNvSpPr/>
          <p:nvPr/>
        </p:nvSpPr>
        <p:spPr>
          <a:xfrm>
            <a:off x="607536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2" name="Rectangle 11"/>
          <p:cNvSpPr/>
          <p:nvPr/>
        </p:nvSpPr>
        <p:spPr>
          <a:xfrm>
            <a:off x="326700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3" name="Rectangle 11"/>
          <p:cNvSpPr/>
          <p:nvPr/>
        </p:nvSpPr>
        <p:spPr>
          <a:xfrm>
            <a:off x="71280" y="4197240"/>
            <a:ext cx="320544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发热、烦躁不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进行性加重的意识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4" name="Rectangle 11"/>
          <p:cNvSpPr/>
          <p:nvPr/>
        </p:nvSpPr>
        <p:spPr>
          <a:xfrm>
            <a:off x="3348000" y="4197240"/>
            <a:ext cx="269712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痛、呕吐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婴儿则有前囟饱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与张力增高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围增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5" name="Rectangle 11"/>
          <p:cNvSpPr/>
          <p:nvPr/>
        </p:nvSpPr>
        <p:spPr>
          <a:xfrm>
            <a:off x="6146640" y="4197240"/>
            <a:ext cx="288936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颈项强直最常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其他如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Kernig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Brudzinski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6" name="Line 3"/>
          <p:cNvSpPr/>
          <p:nvPr/>
        </p:nvSpPr>
        <p:spPr>
          <a:xfrm flipH="1">
            <a:off x="2401560" y="2252520"/>
            <a:ext cx="53028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7" name="Line 3"/>
          <p:cNvSpPr/>
          <p:nvPr/>
        </p:nvSpPr>
        <p:spPr>
          <a:xfrm>
            <a:off x="4562640" y="246852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8" name="Line 3"/>
          <p:cNvSpPr/>
          <p:nvPr/>
        </p:nvSpPr>
        <p:spPr>
          <a:xfrm>
            <a:off x="6291360" y="2252520"/>
            <a:ext cx="43164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9" name="Line 3"/>
          <p:cNvSpPr/>
          <p:nvPr/>
        </p:nvSpPr>
        <p:spPr>
          <a:xfrm>
            <a:off x="1763640" y="378936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0" name="Line 3"/>
          <p:cNvSpPr/>
          <p:nvPr/>
        </p:nvSpPr>
        <p:spPr>
          <a:xfrm>
            <a:off x="4562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1" name="Line 3"/>
          <p:cNvSpPr/>
          <p:nvPr/>
        </p:nvSpPr>
        <p:spPr>
          <a:xfrm>
            <a:off x="7370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/>
          </p:nvPr>
        </p:nvSpPr>
        <p:spPr>
          <a:xfrm>
            <a:off x="2700000" y="1557000"/>
            <a:ext cx="45356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化脓性脑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脑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癫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吉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巴雷综合征                注意力缺陷多动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812" name="Group 4"/>
          <p:cNvGrpSpPr/>
          <p:nvPr/>
        </p:nvGrpSpPr>
        <p:grpSpPr>
          <a:xfrm>
            <a:off x="1819440" y="2579760"/>
            <a:ext cx="688320" cy="593640"/>
            <a:chOff x="1819440" y="2579760"/>
            <a:chExt cx="688320" cy="593640"/>
          </a:xfrm>
        </p:grpSpPr>
        <p:sp>
          <p:nvSpPr>
            <p:cNvPr id="3813" name="AutoShape 5"/>
            <p:cNvSpPr/>
            <p:nvPr/>
          </p:nvSpPr>
          <p:spPr>
            <a:xfrm>
              <a:off x="1824840" y="258984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4" name="AutoShape 6"/>
            <p:cNvSpPr/>
            <p:nvPr/>
          </p:nvSpPr>
          <p:spPr>
            <a:xfrm>
              <a:off x="1819440" y="257976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5" name="AutoShape 7"/>
            <p:cNvSpPr/>
            <p:nvPr/>
          </p:nvSpPr>
          <p:spPr>
            <a:xfrm>
              <a:off x="1859400" y="26146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16" name="Text Box 8"/>
          <p:cNvSpPr/>
          <p:nvPr/>
        </p:nvSpPr>
        <p:spPr>
          <a:xfrm>
            <a:off x="1980720" y="2637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7" name="AutoShape 9"/>
          <p:cNvSpPr/>
          <p:nvPr/>
        </p:nvSpPr>
        <p:spPr>
          <a:xfrm>
            <a:off x="1819440" y="334152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8" name="Text Box 10"/>
          <p:cNvSpPr/>
          <p:nvPr/>
        </p:nvSpPr>
        <p:spPr>
          <a:xfrm>
            <a:off x="1954080" y="3424320"/>
            <a:ext cx="354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19" name="Group 11"/>
          <p:cNvGrpSpPr/>
          <p:nvPr/>
        </p:nvGrpSpPr>
        <p:grpSpPr>
          <a:xfrm>
            <a:off x="1803240" y="4110120"/>
            <a:ext cx="687240" cy="593640"/>
            <a:chOff x="1803240" y="4110120"/>
            <a:chExt cx="687240" cy="593640"/>
          </a:xfrm>
        </p:grpSpPr>
        <p:sp>
          <p:nvSpPr>
            <p:cNvPr id="3820" name="AutoShape 12"/>
            <p:cNvSpPr/>
            <p:nvPr/>
          </p:nvSpPr>
          <p:spPr>
            <a:xfrm>
              <a:off x="1808640" y="412020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1" name="AutoShape 13"/>
            <p:cNvSpPr/>
            <p:nvPr/>
          </p:nvSpPr>
          <p:spPr>
            <a:xfrm>
              <a:off x="1803240" y="41101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2" name="AutoShape 14"/>
            <p:cNvSpPr/>
            <p:nvPr/>
          </p:nvSpPr>
          <p:spPr>
            <a:xfrm>
              <a:off x="1843200" y="414504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23" name="Text Box 15"/>
          <p:cNvSpPr/>
          <p:nvPr/>
        </p:nvSpPr>
        <p:spPr>
          <a:xfrm>
            <a:off x="1971720" y="418608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4" name="AutoShape 16"/>
          <p:cNvSpPr/>
          <p:nvPr/>
        </p:nvSpPr>
        <p:spPr>
          <a:xfrm>
            <a:off x="1803240" y="487188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5" name="Text Box 17"/>
          <p:cNvSpPr/>
          <p:nvPr/>
        </p:nvSpPr>
        <p:spPr>
          <a:xfrm>
            <a:off x="1963440" y="492912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6" name="Line 18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7" name="Line 19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9" name="Line 21"/>
          <p:cNvSpPr/>
          <p:nvPr/>
        </p:nvSpPr>
        <p:spPr>
          <a:xfrm>
            <a:off x="2484360" y="5445000"/>
            <a:ext cx="4824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0" name="Line 21"/>
          <p:cNvSpPr/>
          <p:nvPr/>
        </p:nvSpPr>
        <p:spPr>
          <a:xfrm>
            <a:off x="2484360" y="6093000"/>
            <a:ext cx="48722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1" name="Group 4"/>
          <p:cNvGrpSpPr/>
          <p:nvPr/>
        </p:nvGrpSpPr>
        <p:grpSpPr>
          <a:xfrm>
            <a:off x="1835280" y="5589720"/>
            <a:ext cx="688320" cy="593640"/>
            <a:chOff x="1835280" y="5589720"/>
            <a:chExt cx="688320" cy="593640"/>
          </a:xfrm>
        </p:grpSpPr>
        <p:sp>
          <p:nvSpPr>
            <p:cNvPr id="3832" name="AutoShape 5"/>
            <p:cNvSpPr/>
            <p:nvPr/>
          </p:nvSpPr>
          <p:spPr>
            <a:xfrm>
              <a:off x="1840680" y="55998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3" name="AutoShape 6"/>
            <p:cNvSpPr/>
            <p:nvPr/>
          </p:nvSpPr>
          <p:spPr>
            <a:xfrm>
              <a:off x="1835280" y="55897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4" name="AutoShape 7"/>
            <p:cNvSpPr/>
            <p:nvPr/>
          </p:nvSpPr>
          <p:spPr>
            <a:xfrm>
              <a:off x="1875240" y="562464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35" name="Text Box 8"/>
          <p:cNvSpPr/>
          <p:nvPr/>
        </p:nvSpPr>
        <p:spPr>
          <a:xfrm>
            <a:off x="2014920" y="5661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6" name="Group 11"/>
          <p:cNvGrpSpPr/>
          <p:nvPr/>
        </p:nvGrpSpPr>
        <p:grpSpPr>
          <a:xfrm>
            <a:off x="1763640" y="1773360"/>
            <a:ext cx="687240" cy="593640"/>
            <a:chOff x="1763640" y="1773360"/>
            <a:chExt cx="687240" cy="593640"/>
          </a:xfrm>
        </p:grpSpPr>
        <p:sp>
          <p:nvSpPr>
            <p:cNvPr id="3837" name="AutoShape 12"/>
            <p:cNvSpPr/>
            <p:nvPr/>
          </p:nvSpPr>
          <p:spPr>
            <a:xfrm>
              <a:off x="1769040" y="1783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8" name="AutoShape 13"/>
            <p:cNvSpPr/>
            <p:nvPr/>
          </p:nvSpPr>
          <p:spPr>
            <a:xfrm>
              <a:off x="1763640" y="1773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9" name="AutoShape 14"/>
            <p:cNvSpPr/>
            <p:nvPr/>
          </p:nvSpPr>
          <p:spPr>
            <a:xfrm>
              <a:off x="1803600" y="1808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0" name="Text Box 15"/>
          <p:cNvSpPr/>
          <p:nvPr/>
        </p:nvSpPr>
        <p:spPr>
          <a:xfrm>
            <a:off x="1932120" y="184932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1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典型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24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45B6-8DD6-44E7-9149-1ADDD4F7BA9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5" name="Oval 5"/>
          <p:cNvSpPr/>
          <p:nvPr/>
        </p:nvSpPr>
        <p:spPr>
          <a:xfrm>
            <a:off x="250920" y="3284640"/>
            <a:ext cx="22701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非典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6" name="Rectangle 11"/>
          <p:cNvSpPr/>
          <p:nvPr/>
        </p:nvSpPr>
        <p:spPr>
          <a:xfrm>
            <a:off x="4211640" y="1700280"/>
            <a:ext cx="460836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体温可高可低或不发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甚至体温不升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7" name="Rectangle 11"/>
          <p:cNvSpPr/>
          <p:nvPr/>
        </p:nvSpPr>
        <p:spPr>
          <a:xfrm>
            <a:off x="4211640" y="4344480"/>
            <a:ext cx="460044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惊厥可不典型，如仅见面部、肢体局灶或多灶性抽动、局部或全身性肌阵挛，或呈眨眼、呼吸不规则、屏气等各种不显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8" name="Rectangle 11"/>
          <p:cNvSpPr/>
          <p:nvPr/>
        </p:nvSpPr>
        <p:spPr>
          <a:xfrm>
            <a:off x="4211640" y="2565360"/>
            <a:ext cx="4608360" cy="11509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表现不明显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幼婴不会诉头痛，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仅有吐奶、尖叫或颅缝分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9" name="Line 3"/>
          <p:cNvSpPr/>
          <p:nvPr/>
        </p:nvSpPr>
        <p:spPr>
          <a:xfrm flipV="1">
            <a:off x="2411280" y="2133360"/>
            <a:ext cx="149544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0" name="Rectangle 11"/>
          <p:cNvSpPr/>
          <p:nvPr/>
        </p:nvSpPr>
        <p:spPr>
          <a:xfrm>
            <a:off x="4211640" y="5448240"/>
            <a:ext cx="46083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不明显，与婴儿肌肉不发达，肌力弱和反应低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1" name="Line 3"/>
          <p:cNvSpPr/>
          <p:nvPr/>
        </p:nvSpPr>
        <p:spPr>
          <a:xfrm>
            <a:off x="2700360" y="4076640"/>
            <a:ext cx="1295280" cy="216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2" name="Line 3"/>
          <p:cNvSpPr/>
          <p:nvPr/>
        </p:nvSpPr>
        <p:spPr>
          <a:xfrm flipV="1">
            <a:off x="2700360" y="3141720"/>
            <a:ext cx="129528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3" name="Line 3"/>
          <p:cNvSpPr/>
          <p:nvPr/>
        </p:nvSpPr>
        <p:spPr>
          <a:xfrm>
            <a:off x="2268360" y="4724280"/>
            <a:ext cx="1727280" cy="1008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6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B126-88D7-42CE-9F04-89395B7DE1A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7" name="Oval 5"/>
          <p:cNvSpPr/>
          <p:nvPr/>
        </p:nvSpPr>
        <p:spPr>
          <a:xfrm>
            <a:off x="2843280" y="2205000"/>
            <a:ext cx="2270160" cy="107964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8" name="Rectangle 11"/>
          <p:cNvSpPr/>
          <p:nvPr/>
        </p:nvSpPr>
        <p:spPr>
          <a:xfrm>
            <a:off x="250920" y="4292640"/>
            <a:ext cx="1944720" cy="450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硬膜下积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9" name="Rectangle 11"/>
          <p:cNvSpPr/>
          <p:nvPr/>
        </p:nvSpPr>
        <p:spPr>
          <a:xfrm>
            <a:off x="4284720" y="4293720"/>
            <a:ext cx="172728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积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0" name="Rectangle 11"/>
          <p:cNvSpPr/>
          <p:nvPr/>
        </p:nvSpPr>
        <p:spPr>
          <a:xfrm>
            <a:off x="2411280" y="4292640"/>
            <a:ext cx="1729080" cy="43164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室管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1" name="Rectangle 11"/>
          <p:cNvSpPr/>
          <p:nvPr/>
        </p:nvSpPr>
        <p:spPr>
          <a:xfrm>
            <a:off x="6429240" y="4074120"/>
            <a:ext cx="25005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抗利尿激素不适当分泌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2" name="Line 3"/>
          <p:cNvSpPr/>
          <p:nvPr/>
        </p:nvSpPr>
        <p:spPr>
          <a:xfrm>
            <a:off x="5364000" y="2997360"/>
            <a:ext cx="1729080" cy="1008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3" name="Line 3"/>
          <p:cNvSpPr/>
          <p:nvPr/>
        </p:nvSpPr>
        <p:spPr>
          <a:xfrm flipH="1">
            <a:off x="3276720" y="3284640"/>
            <a:ext cx="2872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4" name="Line 3"/>
          <p:cNvSpPr/>
          <p:nvPr/>
        </p:nvSpPr>
        <p:spPr>
          <a:xfrm>
            <a:off x="4643280" y="3284640"/>
            <a:ext cx="2890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5" name="Line 3"/>
          <p:cNvSpPr/>
          <p:nvPr/>
        </p:nvSpPr>
        <p:spPr>
          <a:xfrm flipH="1">
            <a:off x="1186920" y="3141720"/>
            <a:ext cx="158436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B957-9DE1-4769-8A5A-B9FADD2BF4A5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他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皮肤瘀点、瘀斑涂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周血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清降钙素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神经影像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49" name="Picture 4" descr="图片19"/>
          <p:cNvPicPr/>
          <p:nvPr/>
        </p:nvPicPr>
        <p:blipFill>
          <a:blip r:embed="rId1"/>
          <a:stretch/>
        </p:blipFill>
        <p:spPr>
          <a:xfrm>
            <a:off x="565164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30C3-DC29-4809-9EC8-2BECA196ED89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上腺素皮质激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及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治疗：①硬脑膜下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室管膜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7150-6F7F-4A95-9625-30B5FBB12FE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小儿患病前有无呼吸道、消化道或皮肤的感染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测量患儿生命体征，评估患儿有无发病各项症状，并判断症状的程度和性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对患儿健康的需求；是否有焦虑和恐惧的心理状况。评估家庭对疾病治疗和护理的经济承受能力和社会的支持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E9AD-4677-4797-AB1F-544D054FAAAB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/>
          </p:nvPr>
        </p:nvSpPr>
        <p:spPr>
          <a:xfrm>
            <a:off x="171360" y="1628640"/>
            <a:ext cx="889344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细菌感染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惊厥发作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          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摄入不足、机体消耗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疾病预后不良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BF24-59C2-4ED1-ADF0-8C36660BCB00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6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96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96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6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7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7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5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76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3977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3978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9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0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1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2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3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8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8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8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1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2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993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994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5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6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97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8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9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00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01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02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3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4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5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6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7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08" name="AutoShape 53"/>
          <p:cNvSpPr/>
          <p:nvPr/>
        </p:nvSpPr>
        <p:spPr>
          <a:xfrm>
            <a:off x="3465360" y="16765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9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病室安静清洁、空气新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遵医嘱及时给予退热和抗生素等药物治疗，并了解各种药物的使用配伍要求、适应证、禁忌证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2" name="矩形 55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8274-603D-4EEF-8EDB-A020B1F365E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1" name="AutoShape 53"/>
          <p:cNvSpPr/>
          <p:nvPr/>
        </p:nvSpPr>
        <p:spPr>
          <a:xfrm>
            <a:off x="3622680" y="24955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2" name="圆角矩形 54"/>
          <p:cNvSpPr/>
          <p:nvPr/>
        </p:nvSpPr>
        <p:spPr>
          <a:xfrm>
            <a:off x="4716360" y="1849320"/>
            <a:ext cx="3143520" cy="1284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命体征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并发症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3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3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3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9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0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1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42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43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4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5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6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7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8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5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5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5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5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6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57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8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9" name="矩形 81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60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06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06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6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6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2F72-78CC-4139-B52D-3C24FA518B9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9" name="AutoShape 53"/>
          <p:cNvSpPr/>
          <p:nvPr/>
        </p:nvSpPr>
        <p:spPr>
          <a:xfrm>
            <a:off x="3933720" y="32590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0" name="圆角矩形 55"/>
          <p:cNvSpPr/>
          <p:nvPr/>
        </p:nvSpPr>
        <p:spPr>
          <a:xfrm>
            <a:off x="4788000" y="2006640"/>
            <a:ext cx="4127400" cy="2735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环境和患儿安静，护理操作动作尽量轻柔、集中进行，修剪患儿指甲，专人守护和陪伴患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协助患儿洗漱、大小便及个人卫生等生活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7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7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7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7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8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8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8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6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8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8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8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9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3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4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95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96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97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8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9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0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1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2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0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0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0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9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0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2" name="矩形 138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1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1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1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9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2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D044-9A71-4A23-9875-2C5A44FC511D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3" name="AutoShape 53"/>
          <p:cNvSpPr/>
          <p:nvPr/>
        </p:nvSpPr>
        <p:spPr>
          <a:xfrm>
            <a:off x="3940200" y="4199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4" name="圆角矩形 54"/>
          <p:cNvSpPr/>
          <p:nvPr/>
        </p:nvSpPr>
        <p:spPr>
          <a:xfrm>
            <a:off x="4876920" y="3100320"/>
            <a:ext cx="4005000" cy="2225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高热量、高蛋白、高维生素、易消化的清淡流质或半流质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2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2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2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3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3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3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4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4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4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9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150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151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2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3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54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5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6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3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4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65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6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6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6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6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7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3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74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-1440" y="1844280"/>
            <a:ext cx="914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说出小儿化脓性脑膜炎、病毒性脑膜炎及癫痫持续状态的定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描述小儿化脓性脑膜炎和吉兰</a:t>
            </a:r>
            <a:r>
              <a:rPr b="0" lang="en-US" sz="2000" spc="-1" strike="noStrike">
                <a:solidFill>
                  <a:srgbClr val="03517d"/>
                </a:solidFill>
                <a:latin typeface="黑体"/>
                <a:ea typeface="黑体"/>
              </a:rPr>
              <a:t>-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巴雷综合征脑脊液的特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化脓性脑膜炎及病毒性脑膜炎的临床特点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小儿癫痫的分型、注意力缺陷多动症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正确选择神经系统检查方法评估神经系统各种神经疾病存在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根据小儿不同年龄、疾病特征及护理问题实施相应的护理措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F908-143B-4BFC-A60B-1B2F70BD9EB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7" name="AutoShape 53"/>
          <p:cNvSpPr/>
          <p:nvPr/>
        </p:nvSpPr>
        <p:spPr>
          <a:xfrm flipV="1">
            <a:off x="3100320" y="5068080"/>
            <a:ext cx="1000080" cy="88920"/>
          </a:xfrm>
          <a:prstGeom prst="rightArrow">
            <a:avLst>
              <a:gd name="adj1" fmla="val 50000"/>
              <a:gd name="adj2" fmla="val 2233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8" name="圆角矩形 54"/>
          <p:cNvSpPr/>
          <p:nvPr/>
        </p:nvSpPr>
        <p:spPr>
          <a:xfrm>
            <a:off x="4302000" y="4338720"/>
            <a:ext cx="464364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患儿不同年龄，采用不同方式实施心理安慰、关心和爱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家长安慰，消除顾虑。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6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4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9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9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9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1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2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03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04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05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6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7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8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9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0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7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8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9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0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2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2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2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2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7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28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1D28-38A7-426A-8886-08FC8F63D032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1" name="AutoShape 53"/>
          <p:cNvSpPr/>
          <p:nvPr/>
        </p:nvSpPr>
        <p:spPr>
          <a:xfrm>
            <a:off x="314316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2" name="圆角矩形 54"/>
          <p:cNvSpPr/>
          <p:nvPr/>
        </p:nvSpPr>
        <p:spPr>
          <a:xfrm>
            <a:off x="4000680" y="3611520"/>
            <a:ext cx="5000400" cy="2889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积极防治上呼吸道、消化道等感染性疾病，预防皮肤外伤和脐部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与家属一起根据患儿具体情况制订系统且行之有效的功能训练计划，指导家长具体的护理措施，促进机体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0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8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5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6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57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58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59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0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1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62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3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4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1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2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73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4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7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7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7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1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2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4" name="圆角矩形 3"/>
          <p:cNvSpPr/>
          <p:nvPr/>
        </p:nvSpPr>
        <p:spPr>
          <a:xfrm>
            <a:off x="11160" y="1069920"/>
            <a:ext cx="9132840" cy="546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女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月，因发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，呕吐伴抽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前开始发热，体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8.5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持续不降，伴有流涕、咳嗽，烦躁不安。呕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，为胃内容物，量多，呈喷射状。入院当天突然出现抽搐，表现为意识丧失、双眼上翻、四肢强直，持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钟。患病以来精神萎靡，大小便正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体格检查：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 39.45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 4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P 15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W 9.0k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精神萎靡，嗜睡。皮肤黏膜未见瘀点、瘀斑。前囟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×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隆起。双侧瞳孔等大等圆，对光反射迟钝。咽部红。颈抵抗，双肺呼吸音粗，心音有力律齐，未闻及病理性杂音。腹软，肝肋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5cm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剑突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质中，脾未扪及。脊柱四肢发育正常。四肢肌张力增高，腱反射活跃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Kerni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rudzinski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巴氏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辅助检查：脑脊液检查结果：压力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430mmH2O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外观浑浊；白细胞数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2000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8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1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；蛋白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900mg0.9g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糖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264mmmol/L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氯化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010 mmmol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血常规检查结果：白细胞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7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28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尿常规、便常规。肝功均正常。胸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线片未见异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问题：</a:t>
            </a: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．患儿最可能的临床诊断是什么？说出诊断依据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5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287" name=""/>
          <p:cNvSpPr txBox="1"/>
          <p:nvPr/>
        </p:nvSpPr>
        <p:spPr>
          <a:xfrm>
            <a:off x="2572920" y="2708280"/>
            <a:ext cx="46069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节 病毒性脑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B7D5-54AE-49EB-ABBD-31EDFFDE13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encephalit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病毒感染引起的颅内急性炎症。若病变主要累及脑实质则称为病毒性脑炎，若病变主要累及脑膜则称为病毒性脑膜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meningiti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大多数患儿病程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种病毒感染均可引起脑炎、脑膜炎，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肠道病毒（柯萨奇病毒、埃可病毒）感染，其次为单纯疱疹病毒、腮腺炎病毒和虫媒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8FEC-A329-4BCD-9AD7-6C17FD832F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 type="title"/>
          </p:nvPr>
        </p:nvSpPr>
        <p:spPr>
          <a:xfrm>
            <a:off x="4246560" y="299520"/>
            <a:ext cx="48261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5" name="矩形 1"/>
          <p:cNvSpPr/>
          <p:nvPr/>
        </p:nvSpPr>
        <p:spPr>
          <a:xfrm>
            <a:off x="4246560" y="337644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6" name="矩形 27"/>
          <p:cNvSpPr/>
          <p:nvPr/>
        </p:nvSpPr>
        <p:spPr>
          <a:xfrm>
            <a:off x="4992840" y="2467080"/>
            <a:ext cx="18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释放入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7" name="矩形 28"/>
          <p:cNvSpPr/>
          <p:nvPr/>
        </p:nvSpPr>
        <p:spPr>
          <a:xfrm>
            <a:off x="4246560" y="1579680"/>
            <a:ext cx="3346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局部的初期复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8" name="矩形 29"/>
          <p:cNvSpPr/>
          <p:nvPr/>
        </p:nvSpPr>
        <p:spPr>
          <a:xfrm>
            <a:off x="2046240" y="1928880"/>
            <a:ext cx="201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胃肠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9" name="矩形 30"/>
          <p:cNvSpPr/>
          <p:nvPr/>
        </p:nvSpPr>
        <p:spPr>
          <a:xfrm>
            <a:off x="343080" y="1558800"/>
            <a:ext cx="1626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0" name="矩形 31"/>
          <p:cNvSpPr/>
          <p:nvPr/>
        </p:nvSpPr>
        <p:spPr>
          <a:xfrm>
            <a:off x="1900080" y="1236600"/>
            <a:ext cx="1509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呼吸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1" name="矩形 32"/>
          <p:cNvSpPr/>
          <p:nvPr/>
        </p:nvSpPr>
        <p:spPr>
          <a:xfrm>
            <a:off x="6378480" y="3425760"/>
            <a:ext cx="2997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发热等全身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2" name="矩形 33"/>
          <p:cNvSpPr/>
          <p:nvPr/>
        </p:nvSpPr>
        <p:spPr>
          <a:xfrm>
            <a:off x="4246560" y="5538960"/>
            <a:ext cx="3094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3" name="矩形 34"/>
          <p:cNvSpPr/>
          <p:nvPr/>
        </p:nvSpPr>
        <p:spPr>
          <a:xfrm>
            <a:off x="5118120" y="434808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血脑屏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304" name="直接箭头连接符 3"/>
          <p:cNvCxnSpPr/>
          <p:nvPr/>
        </p:nvCxnSpPr>
        <p:spPr>
          <a:xfrm>
            <a:off x="1318680" y="1949040"/>
            <a:ext cx="2791440" cy="108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5" name="直接箭头连接符 5"/>
          <p:cNvCxnSpPr/>
          <p:nvPr/>
        </p:nvCxnSpPr>
        <p:spPr>
          <a:xfrm>
            <a:off x="4992480" y="2184480"/>
            <a:ext cx="1080" cy="124200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6" name="直接箭头连接符 7"/>
          <p:cNvCxnSpPr/>
          <p:nvPr/>
        </p:nvCxnSpPr>
        <p:spPr>
          <a:xfrm>
            <a:off x="4992480" y="4114800"/>
            <a:ext cx="1080" cy="151992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sp>
        <p:nvSpPr>
          <p:cNvPr id="4307" name="直接连接符 9"/>
          <p:cNvSpPr/>
          <p:nvPr/>
        </p:nvSpPr>
        <p:spPr>
          <a:xfrm>
            <a:off x="5792760" y="3795840"/>
            <a:ext cx="585720" cy="0"/>
          </a:xfrm>
          <a:prstGeom prst="line">
            <a:avLst/>
          </a:prstGeom>
          <a:ln w="9360">
            <a:solidFill>
              <a:srgbClr val="006b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9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膜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先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上呼吸道或消化道感染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史，表现为发热、恶心、呕吐。继而婴儿出现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烦躁不安，易被激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年长儿表现头痛、颈背疼痛，脑膜刺激征阳性。很少发生严重意识障碍和惊厥，无局限性神经系统体征。病程大多为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490680" y="162828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驱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全身感染症状，如发热、头痛、呕吐、腹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枢神经系统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惊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意识障碍  ③颅内压增高    ④运动功能障碍   ⑤神经情绪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程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，多数患儿可完全恢复，但少数遗留癫痫、肢体瘫痪、智力倒退等后遗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51EF-ACCF-48F5-86E0-60D8973861D9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428796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/MR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315" name="Picture 4" descr="图片19"/>
          <p:cNvPicPr/>
          <p:nvPr/>
        </p:nvPicPr>
        <p:blipFill>
          <a:blip r:embed="rId1"/>
          <a:stretch/>
        </p:blipFill>
        <p:spPr>
          <a:xfrm>
            <a:off x="550872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5" name=""/>
          <p:cNvSpPr txBox="1"/>
          <p:nvPr/>
        </p:nvSpPr>
        <p:spPr>
          <a:xfrm>
            <a:off x="323640" y="2565360"/>
            <a:ext cx="8591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神经系统解剖生理特点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B509-48AF-48BE-A301-8BE759276705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治疗与支持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降温、镇静止痉、控制脑水肿、降低颅内压，卧床休息，维持体温正常及水、电解质平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病毒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阿昔洛韦、干扰素、更昔洛韦、利巴韦林或静脉注射免疫球蛋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9D85-F47A-4817-9BE6-93CD3998595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228240" y="1832040"/>
            <a:ext cx="899172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有无呼吸道或胃肠道感染史，有无动物接触史或蚊虫叮咬史，预防接种史和流行病学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史：起病前有无上呼吸道感染、胃肠道感染史，是否进行预防接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身体状况：患儿生命体征，精神状态、神志；有无头痛、呕吐、惊厥；囟门是否紧张、隆起、有无脑膜刺激征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CB2D-324B-4E44-99CA-11F816A9BC1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247680" y="1730520"/>
            <a:ext cx="8740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病毒血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惊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急性意识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脑实质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昏迷、瘫痪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于机体需要量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呕吐、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37DD-54BD-4CA4-B842-8C5DE2CAA773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7" name="AutoShape 53"/>
          <p:cNvSpPr/>
          <p:nvPr/>
        </p:nvSpPr>
        <p:spPr>
          <a:xfrm>
            <a:off x="3454560" y="15667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8" name="圆角矩形 54"/>
          <p:cNvSpPr/>
          <p:nvPr/>
        </p:nvSpPr>
        <p:spPr>
          <a:xfrm>
            <a:off x="4214880" y="1357200"/>
            <a:ext cx="4929120" cy="78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2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3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3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3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33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33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4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4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34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34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5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35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35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6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36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36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6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37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37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7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7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38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38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7A04-988F-4799-B1C8-4B2DA2020C1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9" name="AutoShape 53"/>
          <p:cNvSpPr/>
          <p:nvPr/>
        </p:nvSpPr>
        <p:spPr>
          <a:xfrm>
            <a:off x="3591000" y="219564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0" name="圆角矩形 54"/>
          <p:cNvSpPr/>
          <p:nvPr/>
        </p:nvSpPr>
        <p:spPr>
          <a:xfrm>
            <a:off x="4643280" y="1552680"/>
            <a:ext cx="3143520" cy="1284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惊厥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约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9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9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9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0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0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0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0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0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0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1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1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1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2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2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3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3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3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3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3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4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4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44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44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4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C9D2-C405-4C59-AEAF-F85C3A46427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1" name="AutoShape 53"/>
          <p:cNvSpPr/>
          <p:nvPr/>
        </p:nvSpPr>
        <p:spPr>
          <a:xfrm>
            <a:off x="3946680" y="29383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2" name="圆角矩形 55"/>
          <p:cNvSpPr/>
          <p:nvPr/>
        </p:nvSpPr>
        <p:spPr>
          <a:xfrm>
            <a:off x="4788000" y="2052720"/>
            <a:ext cx="4127400" cy="180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去除影响患儿情绪的不良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保护性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53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454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455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6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7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58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9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0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1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62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63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4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5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6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7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8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9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70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71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2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3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4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5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6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77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78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79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0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1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82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3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4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85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86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87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8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9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90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1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2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93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4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95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96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97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8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9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0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1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2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03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04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05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6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7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8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9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0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6C16-D092-4987-88F3-602B815FD890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3" name="AutoShape 53"/>
          <p:cNvSpPr/>
          <p:nvPr/>
        </p:nvSpPr>
        <p:spPr>
          <a:xfrm>
            <a:off x="4316400" y="3656160"/>
            <a:ext cx="530280" cy="63360"/>
          </a:xfrm>
          <a:prstGeom prst="rightArrow">
            <a:avLst>
              <a:gd name="adj1" fmla="val 50000"/>
              <a:gd name="adj2" fmla="val 2220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4" name="圆角矩形 54"/>
          <p:cNvSpPr/>
          <p:nvPr/>
        </p:nvSpPr>
        <p:spPr>
          <a:xfrm>
            <a:off x="5046840" y="3083040"/>
            <a:ext cx="4005000" cy="1253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呈功能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及早进行肢体功能锻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15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16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17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8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9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0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1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2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23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24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25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6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7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8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9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0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1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32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33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4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5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36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7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8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9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540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541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2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3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4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5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6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47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548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549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0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1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2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3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4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55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6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57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558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559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0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1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62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3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64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65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66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67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8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9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70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1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2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032B-28D4-4835-8F37-EBF73D5A00E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5" name="AutoShape 53"/>
          <p:cNvSpPr/>
          <p:nvPr/>
        </p:nvSpPr>
        <p:spPr>
          <a:xfrm flipV="1">
            <a:off x="3429000" y="4368240"/>
            <a:ext cx="727200" cy="44280"/>
          </a:xfrm>
          <a:prstGeom prst="rightArrow">
            <a:avLst>
              <a:gd name="adj1" fmla="val 50000"/>
              <a:gd name="adj2" fmla="val 2307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6" name="圆角矩形 54"/>
          <p:cNvSpPr/>
          <p:nvPr/>
        </p:nvSpPr>
        <p:spPr>
          <a:xfrm>
            <a:off x="4546440" y="3456000"/>
            <a:ext cx="436896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昏迷患儿侧卧位，定时翻身及按摩皮肤，防止出现压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77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78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79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0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1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2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3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4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5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86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87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8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9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0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1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2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93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94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95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6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7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8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9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0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1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02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03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4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5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6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7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8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9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10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11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2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3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14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5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6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17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8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19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20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21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2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3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4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5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6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27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28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29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0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1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2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3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4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320E-F94C-4CEB-91A1-4A7098223610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7" name="AutoShape 53"/>
          <p:cNvSpPr/>
          <p:nvPr/>
        </p:nvSpPr>
        <p:spPr>
          <a:xfrm>
            <a:off x="4295880" y="49989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8" name="圆角矩形 54"/>
          <p:cNvSpPr/>
          <p:nvPr/>
        </p:nvSpPr>
        <p:spPr>
          <a:xfrm>
            <a:off x="5351400" y="4479840"/>
            <a:ext cx="3564000" cy="11271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瞳孔及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意识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64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64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4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4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64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64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5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65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65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6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6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7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7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7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7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8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8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8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8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9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9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9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C44A-E856-4040-89F3-AC130DA8ACFF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9" name="AutoShape 53"/>
          <p:cNvSpPr/>
          <p:nvPr/>
        </p:nvSpPr>
        <p:spPr>
          <a:xfrm>
            <a:off x="3103560" y="57913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0" name="圆角矩形 54"/>
          <p:cNvSpPr/>
          <p:nvPr/>
        </p:nvSpPr>
        <p:spPr>
          <a:xfrm>
            <a:off x="4316400" y="4511520"/>
            <a:ext cx="4599000" cy="1892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向患儿和家长介绍病情、用药指导及护理方法，指导并鼓励家长坚持智力训练和瘫痪肢体的功能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70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70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0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71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71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1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71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71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2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2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72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72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3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73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73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4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4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74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74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5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75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75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5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7" name=""/>
          <p:cNvSpPr txBox="1"/>
          <p:nvPr/>
        </p:nvSpPr>
        <p:spPr>
          <a:xfrm>
            <a:off x="395280" y="1681200"/>
            <a:ext cx="835200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85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57160" indent="-85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8" name="内容占位符 2"/>
          <p:cNvSpPr/>
          <p:nvPr/>
        </p:nvSpPr>
        <p:spPr>
          <a:xfrm>
            <a:off x="617400" y="2349360"/>
            <a:ext cx="790920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系统发育是小儿神经心理行为发展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有器官中神经系统发育居领先地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脑的生长是形态发育与结构功能逐渐成熟的过程，主要是神经细胞体积的增大和与之相连的突触数量的增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0" name="圆角矩形 3"/>
          <p:cNvSpPr/>
          <p:nvPr/>
        </p:nvSpPr>
        <p:spPr>
          <a:xfrm>
            <a:off x="11160" y="1306440"/>
            <a:ext cx="9132840" cy="5118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男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因“发热、神昏抽搐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时”由某医院急诊科收入院，患儿入院时高热，处于中度昏迷状态，频繁抽搐伴意识丧失，喉中痰鸣，大便秘结。查体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39℃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14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3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P105/56mmHg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瞳孔直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m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两侧对称，对光反应迟钝，各生理反射减弱，双侧巴氏征阳性，脑膜刺激征阳性，双眼视盘轻度水肿。脑脊液检查：压力升高，外观清亮，白细胞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以淋巴细胞为主，糖和氯化物正常，蛋白质轻度增高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前曾患有上呼吸道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问题：该患儿的主要护理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1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63" name=""/>
          <p:cNvSpPr txBox="1"/>
          <p:nvPr/>
        </p:nvSpPr>
        <p:spPr>
          <a:xfrm>
            <a:off x="2868120" y="2997000"/>
            <a:ext cx="40165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四节　癫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505D-6860-4B5F-B90E-80C715A832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癫 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387360" y="1557000"/>
            <a:ext cx="847728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eizure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于脑部神经元发作性异常放电引起脑功能障碍的一组临床症状，表现为意识障碍、抽搐、精神行为异常等，多数癫痫发作持续时间短暂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pileps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原因引起的脑部慢性疾患，是脑内神经元反复发作性异常放电导致突发性、暂时性脑功能失常，临床出现意识、运动、感觉、精神或自主神经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8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内结构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A5DF-7F65-49A6-BAFC-CF7B3E1BEC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1" name="矩形 1"/>
          <p:cNvSpPr/>
          <p:nvPr/>
        </p:nvSpPr>
        <p:spPr>
          <a:xfrm>
            <a:off x="395280" y="2871720"/>
            <a:ext cx="84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发生机制十分复杂，迄今尚未完全阐明。许多研究结果表明它的电生理本质是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神经元过度同步放电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结果，与神经生化、神经生理、神经生物学、免疫学等均密切相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3" name="PlaceHolder 2"/>
          <p:cNvSpPr>
            <a:spLocks noGrp="1"/>
          </p:cNvSpPr>
          <p:nvPr>
            <p:ph/>
          </p:nvPr>
        </p:nvSpPr>
        <p:spPr>
          <a:xfrm>
            <a:off x="47304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局灶性发作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单纯局灶性发作：临床以局灶性运动性发作最常见，发作时间平均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秒，发作后无不适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复杂局灶性发作：发作时有意识、知觉损害。意识部分丧失，多起源于颞区或额颞区，伴有精神行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5970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全面部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强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神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肌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张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痉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520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良性癫痫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最常见的一种癫痫综合征。从口面部开始，很快发展至全身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，意识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婴儿痉挛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频繁的强直痉挛发作，表现为屈曲性、伸展性及混合性三种。以屈曲性及混合性发作多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Lennox-Gastaut</a:t>
            </a: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综合征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多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常见肌阵挛、强直、失张力及非典型失神等多种发作，也可有大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3026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持续状态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tatus epilepticu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一次发作持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或反复发作间歇期意识不能完全恢复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者，称为癫痫持续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常因突然停药、药物中毒、高热等诱发。临床多见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持续状态，颅内、外急性疾病均可引起，为儿科急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0A8E-5F30-4761-B2E3-2FD0025386A5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确诊癫痫发作与癫痫最重要的检查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像学检查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I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颅脑影像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783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3850" name="内容占位符 2" descr=""/>
          <p:cNvPicPr/>
          <p:nvPr/>
        </p:nvPicPr>
        <p:blipFill>
          <a:blip r:embed="rId1"/>
          <a:stretch/>
        </p:blipFill>
        <p:spPr>
          <a:xfrm>
            <a:off x="838080" y="1332000"/>
            <a:ext cx="733428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308F-E0B7-4355-B3F6-53966BF1B8B9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癫痫药物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药物治疗原则是早期用药，根据发作类型选药，以单一用药为主，从小剂量开始直至完全控制发作，长期规律服药，定期复查、监测药物血浓度，注意药物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针对经合理规范的抗癫痫药物治疗其疗效不佳者，属于难治性癫痫，其中部分患儿可以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E141-F9C1-4F9C-9058-0C0AEE6770FE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饥饿、过饱、饮酒、劳累等诱发因素，家庭居住的气候、环境条件，家族中有无类似病史的成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生命体征，了解患儿发作时的临床表现、发作时间及次数等，了解相关影像学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了解可能引发疾病的社会及环境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D926-B3BE-4B1D-B3CF-261CE59C478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2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窒息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喉痉挛、呼吸道分泌物增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癫痫发作时抽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水肿、酸中毒、呼吸衰竭、循环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知识缺乏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儿家长缺乏癫痫发作的急救知识及正确服用抗癫痫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DE79-6322-4782-982B-3080E1F1E30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5" name="AutoShape 53"/>
          <p:cNvSpPr/>
          <p:nvPr/>
        </p:nvSpPr>
        <p:spPr>
          <a:xfrm>
            <a:off x="3571920" y="1914480"/>
            <a:ext cx="488880" cy="46080"/>
          </a:xfrm>
          <a:prstGeom prst="rightArrow">
            <a:avLst>
              <a:gd name="adj1" fmla="val 50000"/>
              <a:gd name="adj2" fmla="val 2205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6" name="圆角矩形 54"/>
          <p:cNvSpPr/>
          <p:nvPr/>
        </p:nvSpPr>
        <p:spPr>
          <a:xfrm>
            <a:off x="4214880" y="1563840"/>
            <a:ext cx="4929120" cy="780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97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798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799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0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1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02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3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4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05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06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07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8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9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0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1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2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13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814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15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6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7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8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9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0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21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22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23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4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5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6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7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8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9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0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1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32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33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4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5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36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7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38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9E19-85E0-483A-86A4-335589462E8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1" name="AutoShape 53"/>
          <p:cNvSpPr/>
          <p:nvPr/>
        </p:nvSpPr>
        <p:spPr>
          <a:xfrm>
            <a:off x="3368520" y="28098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2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操作时勿强行按压肢体，以免引起骨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护患儿肢体，防止皮肤破损、骨折或脱臼、坠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活动与休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43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44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45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6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7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48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9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0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1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52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53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4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5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56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7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8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9" name="Group 4"/>
          <p:cNvGrpSpPr/>
          <p:nvPr/>
        </p:nvGrpSpPr>
        <p:grpSpPr>
          <a:xfrm>
            <a:off x="196920" y="1565280"/>
            <a:ext cx="2997720" cy="748800"/>
            <a:chOff x="196920" y="1565280"/>
            <a:chExt cx="2997720" cy="748800"/>
          </a:xfrm>
        </p:grpSpPr>
        <p:grpSp>
          <p:nvGrpSpPr>
            <p:cNvPr id="4860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61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2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3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64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5" name="Text Box 10"/>
            <p:cNvSpPr/>
            <p:nvPr/>
          </p:nvSpPr>
          <p:spPr>
            <a:xfrm>
              <a:off x="155412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气道通畅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6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67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68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69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0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1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72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3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4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75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6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77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78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79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0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1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2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3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84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1ECB-6B1B-4DBD-B14D-85CF32FE5E85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7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8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癫痫发作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循环衰竭的征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患儿经抗癫痫治疗后，癫痫发作、智力和运动发育等状况的转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9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90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91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2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3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94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5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6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97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98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99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0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1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02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3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4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05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06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07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8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9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0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1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2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13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14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15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6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7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8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9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0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21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2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23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24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25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6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7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28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9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30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25B3-6493-4D1A-85E6-1E5D96C88C0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3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4" name="圆角矩形 54"/>
          <p:cNvSpPr/>
          <p:nvPr/>
        </p:nvSpPr>
        <p:spPr>
          <a:xfrm>
            <a:off x="4495680" y="3833640"/>
            <a:ext cx="4324320" cy="2654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围生期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家长合理安排患儿的生活与学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除患儿的精神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35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936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937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8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9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0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1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2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43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944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945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6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7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8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9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0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1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52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53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4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5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6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7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8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9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60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61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2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3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4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5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6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67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8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69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70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71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2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3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74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5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76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78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五节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6671-48DF-47CF-A55E-176155B966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  <a:ea typeface="黑体"/>
            </a:endParaRPr>
          </a:p>
        </p:txBody>
      </p:sp>
      <p:sp>
        <p:nvSpPr>
          <p:cNvPr id="4981" name="PlaceHolder 2"/>
          <p:cNvSpPr>
            <a:spLocks noGrp="1"/>
          </p:cNvSpPr>
          <p:nvPr>
            <p:ph/>
          </p:nvPr>
        </p:nvSpPr>
        <p:spPr>
          <a:xfrm>
            <a:off x="390600" y="2276280"/>
            <a:ext cx="8477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感染性多发性神经根神经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uillain-Barre syndrome, GB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小儿最常见的急性周围神经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3" name="PlaceHolder 2"/>
          <p:cNvSpPr>
            <a:spLocks noGrp="1"/>
          </p:cNvSpPr>
          <p:nvPr>
            <p:ph/>
          </p:nvPr>
        </p:nvSpPr>
        <p:spPr>
          <a:xfrm>
            <a:off x="394920" y="242064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因尚未完全明确。多数学者认为本病是免疫介导的迟发型超敏反应，感染是启动免疫反应的首要因素。最主要的感染因子为空肠弯曲菌、巨细胞病毒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、带状疱疹病毒、肺炎支原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2" name="内容占位符 2"/>
          <p:cNvSpPr/>
          <p:nvPr/>
        </p:nvSpPr>
        <p:spPr>
          <a:xfrm>
            <a:off x="500040" y="1844640"/>
            <a:ext cx="8110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生时已具备功能，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构造已接近成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髓末端：新生儿期位于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下缘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上移至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3844-7299-4A5B-A765-B791E1F51F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5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6" name="矩形 1"/>
          <p:cNvSpPr/>
          <p:nvPr/>
        </p:nvSpPr>
        <p:spPr>
          <a:xfrm>
            <a:off x="668160" y="2349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感染、创伤、手术等刺激因素改变机体的免疫系统，导致淋巴细胞对髓鞘敏感，出现髓鞘损伤和神经脱髓鞘的现象，运动、感觉神经冲动传导速度减慢甚至停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运动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进行性肌无力是最突出的表现。多数患儿自肢体远端开始呈上行性麻痹进展，急性起病者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4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即可出现严重的肢体瘫痪以及呼吸机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脑神经麻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对称或不对称的脑神经麻痹，以面神经受损引起的面瘫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0" name="PlaceHolder 2"/>
          <p:cNvSpPr>
            <a:spLocks noGrp="1"/>
          </p:cNvSpPr>
          <p:nvPr>
            <p:ph/>
          </p:nvPr>
        </p:nvSpPr>
        <p:spPr>
          <a:xfrm>
            <a:off x="4906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感觉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早期即有肌肉疼痛，下肢远端出现不同程度的感觉异常和麻木感。年长儿可表现为手套或袜套状分布感觉减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自主神经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较轻微，可出现视物不清，多汗、面色潮红、腹痛、便秘，一过性尿潴留，血压轻度升高或心率失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2F42-5F5C-4AAD-87A0-409D8FCFCAC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蛋白细胞分离现象，是本病特征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肌电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系统检查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肌力评定、运动能力和深浅感觉等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994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EAA8-F918-49EE-B546-5A1BF9C1B5B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7" name="PlaceHolder 2"/>
          <p:cNvSpPr>
            <a:spLocks noGrp="1"/>
          </p:cNvSpPr>
          <p:nvPr>
            <p:ph/>
          </p:nvPr>
        </p:nvSpPr>
        <p:spPr>
          <a:xfrm>
            <a:off x="311040" y="136044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药物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疾病初期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）大剂量应用人血免疫球蛋白可明显延缓本病进展速度，减轻极期症状的严重程度，降低气管切开及机械通气的概率。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4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脉注射，连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对症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神经根水肿，可给予甘露醇或短期应用肾上腺皮质激素；积极治疗呼吸肌麻痹，严重病例应及时给予机械通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EB6C-A3B4-46F7-AAB3-CB2F339DF2B1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9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0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病毒感染、创伤、手术等刺激因素，询问家庭居住的气候、环境条件，家族中有无类似病史的成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患儿肌力变化，注意呼吸及运动感觉功能，了解实验室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家长对该病的预后、疾病的护理方法、药物的副作用等知识的认识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DE88-FB94-4190-B3D5-52E22A72D407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感觉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效性呼吸型态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呼吸肌瘫痪、咳嗽反射消失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吞咽困难影响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皮肤完整性受损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长期卧床、感觉异常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B496-4326-4EF4-A73C-7DFCACAA3A22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6" name="AutoShape 53"/>
          <p:cNvSpPr/>
          <p:nvPr/>
        </p:nvSpPr>
        <p:spPr>
          <a:xfrm>
            <a:off x="4124160" y="19890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7" name="圆角矩形 54"/>
          <p:cNvSpPr/>
          <p:nvPr/>
        </p:nvSpPr>
        <p:spPr>
          <a:xfrm>
            <a:off x="4670280" y="1400040"/>
            <a:ext cx="4245120" cy="18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于功能位置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帮助患儿做肢体被动运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恢复期鼓励、指导、督促患儿自主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08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09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10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1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2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13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4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5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16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17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18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9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0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1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2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3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24" name="Group 4"/>
          <p:cNvGrpSpPr/>
          <p:nvPr/>
        </p:nvGrpSpPr>
        <p:grpSpPr>
          <a:xfrm>
            <a:off x="196920" y="1581120"/>
            <a:ext cx="3392640" cy="748800"/>
            <a:chOff x="196920" y="1581120"/>
            <a:chExt cx="3392640" cy="748800"/>
          </a:xfrm>
        </p:grpSpPr>
        <p:grpSp>
          <p:nvGrpSpPr>
            <p:cNvPr id="5025" name="Group 5"/>
            <p:cNvGrpSpPr/>
            <p:nvPr/>
          </p:nvGrpSpPr>
          <p:grpSpPr>
            <a:xfrm>
              <a:off x="196920" y="1581120"/>
              <a:ext cx="792720" cy="748800"/>
              <a:chOff x="196920" y="1581120"/>
              <a:chExt cx="792720" cy="748800"/>
            </a:xfrm>
          </p:grpSpPr>
          <p:sp>
            <p:nvSpPr>
              <p:cNvPr id="5026" name="AutoShape 6"/>
              <p:cNvSpPr/>
              <p:nvPr/>
            </p:nvSpPr>
            <p:spPr>
              <a:xfrm>
                <a:off x="203400" y="15937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7" name="AutoShape 7"/>
              <p:cNvSpPr/>
              <p:nvPr/>
            </p:nvSpPr>
            <p:spPr>
              <a:xfrm>
                <a:off x="196920" y="158112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8" name="AutoShape 8"/>
              <p:cNvSpPr/>
              <p:nvPr/>
            </p:nvSpPr>
            <p:spPr>
              <a:xfrm>
                <a:off x="243000" y="162540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9" name="Line 9"/>
            <p:cNvSpPr/>
            <p:nvPr/>
          </p:nvSpPr>
          <p:spPr>
            <a:xfrm>
              <a:off x="796680" y="222984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0" name="Text Box 10"/>
            <p:cNvSpPr/>
            <p:nvPr/>
          </p:nvSpPr>
          <p:spPr>
            <a:xfrm>
              <a:off x="1702080" y="16437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1" name="Text Box 11"/>
            <p:cNvSpPr/>
            <p:nvPr/>
          </p:nvSpPr>
          <p:spPr>
            <a:xfrm>
              <a:off x="381960" y="1638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32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33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34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5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6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37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8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9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0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1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42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43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44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5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6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7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8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9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759B-02B7-4ED8-BE5C-F4929F60F4D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2" name="AutoShape 53"/>
          <p:cNvSpPr/>
          <p:nvPr/>
        </p:nvSpPr>
        <p:spPr>
          <a:xfrm>
            <a:off x="3624120" y="27972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3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室内空气新鲜，温、湿度适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呼吸道通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呼吸困难者给予低流量氧气吸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54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55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56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7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8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59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0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1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62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63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64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5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6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67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8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9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0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071" name="Group 5"/>
            <p:cNvGrpSpPr/>
            <p:nvPr/>
          </p:nvGrpSpPr>
          <p:grpSpPr>
            <a:xfrm>
              <a:off x="196920" y="1565280"/>
              <a:ext cx="792360" cy="748800"/>
              <a:chOff x="196920" y="1565280"/>
              <a:chExt cx="792360" cy="748800"/>
            </a:xfrm>
          </p:grpSpPr>
          <p:sp>
            <p:nvSpPr>
              <p:cNvPr id="5072" name="AutoShape 6"/>
              <p:cNvSpPr/>
              <p:nvPr/>
            </p:nvSpPr>
            <p:spPr>
              <a:xfrm>
                <a:off x="203400" y="157788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3" name="AutoShape 7"/>
              <p:cNvSpPr/>
              <p:nvPr/>
            </p:nvSpPr>
            <p:spPr>
              <a:xfrm>
                <a:off x="196920" y="15652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4" name="AutoShape 8"/>
              <p:cNvSpPr/>
              <p:nvPr/>
            </p:nvSpPr>
            <p:spPr>
              <a:xfrm>
                <a:off x="243000" y="1609560"/>
                <a:ext cx="689760" cy="647280"/>
              </a:xfrm>
              <a:prstGeom prst="hexagon">
                <a:avLst>
                  <a:gd name="adj" fmla="val 2668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75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6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7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8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79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80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1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2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83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4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5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86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7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88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89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90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1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2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93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94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95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ED1E-1BF7-4C34-BBC8-4968CF102DA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8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9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高蛋白、高能量、高维生素易消化饮食，少量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00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01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02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3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4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5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6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7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08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09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10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1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2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3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4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5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16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17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18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9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0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1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2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3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24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25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26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7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8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9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0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1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32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3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34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35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36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7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8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39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0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41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55" name="图片 5" descr="5.jpg"/>
          <p:cNvPicPr/>
          <p:nvPr/>
        </p:nvPicPr>
        <p:blipFill>
          <a:blip r:embed="rId1"/>
          <a:stretch/>
        </p:blipFill>
        <p:spPr>
          <a:xfrm>
            <a:off x="1227240" y="1488960"/>
            <a:ext cx="676584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C85B-1608-401C-9BD1-7628E755A8CF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4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5" name="圆角矩形 54"/>
          <p:cNvSpPr/>
          <p:nvPr/>
        </p:nvSpPr>
        <p:spPr>
          <a:xfrm>
            <a:off x="4284720" y="4103640"/>
            <a:ext cx="4324320" cy="2338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预防压疮。教会家长帮助患儿进行训练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恢复期患儿坚持瘫痪肢体的主动锻炼，定期进行门诊复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46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47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48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9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0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1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2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3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4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55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56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7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8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9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0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1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62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63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64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5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6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67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8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9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70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71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72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3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4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5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6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7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78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9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0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81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82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3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4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5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6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87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189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六节　注意力缺陷多动症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70D7-83EE-4565-BF76-563CFD9028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注意力缺陷多动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390600" y="1989000"/>
            <a:ext cx="8477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轻微脑功能障碍综合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inimal brain dysfunction syndrome, M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以与年龄不相称的多动、注意力不集中、任性、易冲动为主要特征的行为障碍，是一种常见的小儿行为异常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533160" y="2492280"/>
            <a:ext cx="83818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病由多种因素引起。有研究证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明显的遗传倾向；此外，与各种原因导致的脑损伤有关，如妊娠及分娩期脑轻微损伤、神经发育延迟或损害等；不良社会和家庭环境等也可能是致病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85A3-4DED-49DD-A054-F95284F58B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6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7" name="矩形 1"/>
          <p:cNvSpPr/>
          <p:nvPr/>
        </p:nvSpPr>
        <p:spPr>
          <a:xfrm>
            <a:off x="668160" y="234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4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多肽性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有关，它主要分布在额叶，它的异常提示额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元功能低下引发注意障碍。分子生物学研究多巴胺代谢异常或敏感性增高，其他研究多集中在丘脑、网状激活系统和前中脑束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注意缺陷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的表现欲年龄明显不相称，注意集中困难和注意持续时间短暂，是本症的核心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活动过多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为患者经常显得不安宁，小动作多，不能安静坐着，在座位上扭来扭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行为冲动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冲动，在信息不充分的情况下快速地做出行为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42472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学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神经系统发育异常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的精细动作、协调运动、空间位置觉等发育较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品行障碍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行障碍表现为攻击性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7D61-CA49-43B8-8AA6-7F5F4EDF3ADB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4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35164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graphicFrame>
        <p:nvGraphicFramePr>
          <p:cNvPr id="5205" name=""/>
          <p:cNvGraphicFramePr/>
          <p:nvPr/>
        </p:nvGraphicFramePr>
        <p:xfrm>
          <a:off x="287280" y="1628640"/>
          <a:ext cx="8567640" cy="4646880"/>
        </p:xfrm>
        <a:graphic>
          <a:graphicData uri="http://schemas.openxmlformats.org/drawingml/2006/table">
            <a:tbl>
              <a:tblPr/>
              <a:tblGrid>
                <a:gridCol w="4554720"/>
                <a:gridCol w="4012920"/>
              </a:tblGrid>
              <a:tr h="454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意力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多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易受外来影响而激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教室常常离开座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监督时难以有始有终地完成任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未加思考即开始行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持久性集中注意力（作业、游戏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集体活动中常不按次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听不进别人说什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在问题尚未说完时即抢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经常丢失生活和学习用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安静地玩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学校课堂注意力分散、成绩不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做出过分的行动如爬高、乱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能组织达到一定目的的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与危险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一事未完又做另一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坐立不安、动手动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干扰别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说话过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06" name="矩形 2"/>
          <p:cNvSpPr/>
          <p:nvPr/>
        </p:nvSpPr>
        <p:spPr>
          <a:xfrm>
            <a:off x="2925360" y="109224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H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诊断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C705-B20E-440C-84D4-8930D34A8AD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9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长、教师、医务人员密切配合，尽可能寻找并去除致病诱因，减轻患儿精神负担，减少不良刺激，发现优点及时表扬，增强其自信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用药护理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需要药物治疗的患儿应指导用药方法，并注意对药物的疗效及副作用进行监测。以精神兴奋剂最为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12C3-AE50-4FE4-AEF9-7C9828ADA05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1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2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仔细询问产前、产时及产后是否存在导致轻度脑损害的因素，评估患儿生活及居住环境，了解患儿父母的行为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意障碍、多动、情绪冲动、学习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及家长的心理状态。家长及周围人群往往对患儿产生厌烦心理，加上周围人群的歧视，会导致患儿失去自信心，产生自悲心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7" name=""/>
          <p:cNvSpPr txBox="1"/>
          <p:nvPr/>
        </p:nvSpPr>
        <p:spPr>
          <a:xfrm>
            <a:off x="395280" y="1699920"/>
            <a:ext cx="8352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及正常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脑脊液成分与成人相同，为无色碱性液体，内含蛋白质、糖、淋巴细胞和盐类物质，其比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小儿脑脊液随着年龄的增长和脑室的发育逐渐增加，新生儿脑积液的量少、压力低，故抽取脑脊液较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960A-0B8B-45FB-A5F9-47C6AC8E4305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0597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思维紊乱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注意力不集中、活动过度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常有攻击破坏行为和学习成绩落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社会交往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任性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外伤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多动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0256-1898-4443-8759-065B1C4A3C0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8" name="矩形 1"/>
          <p:cNvSpPr/>
          <p:nvPr/>
        </p:nvSpPr>
        <p:spPr>
          <a:xfrm>
            <a:off x="264960" y="1219320"/>
            <a:ext cx="84614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常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其参与文体活动，以释放多余精力并训练其注意力，同时增强其自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患儿制定简单可行的生活制度，循序渐进地培养其注意力和控制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针对其特点合理安排课程和学习计划，改进学习方法，提高学习成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指导患儿及家长采用专业的行为矫正治疗，矫正患儿的多动和冲动，提高其学习能力和社会交往能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EE7F-B7CE-4E23-8A69-F846DBABD37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1" name="矩形 1"/>
          <p:cNvSpPr/>
          <p:nvPr/>
        </p:nvSpPr>
        <p:spPr>
          <a:xfrm>
            <a:off x="407880" y="1557360"/>
            <a:ext cx="848196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向患儿及家长介绍本病的相关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解释药物治疗同时加强教育及心理护理的重要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同情、关心爱护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有不良习惯和学习困难的患儿，不断增强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于患儿的一些攻击性和破坏性行为要严加制止，但应注意方式方法，保护患儿的自尊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庭、学校、社会应协调一致，以取得最佳的教育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6:56:19Z</dcterms:modified>
  <cp:revision>2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