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8.xml.rels" ContentType="application/vnd.openxmlformats-package.relationships+xml"/>
  <Override PartName="/ppt/notesSlides/_rels/notesSlide49.xml.rels" ContentType="application/vnd.openxmlformats-package.relationships+xml"/>
  <Override PartName="/ppt/notesSlides/notesSlide49.xml" ContentType="application/vnd.openxmlformats-officedocument.presentationml.notesSlide+xml"/>
  <Override PartName="/ppt/notesSlides/notesSlide6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465FA-3077-44F1-A9F1-4408F63AA9B8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42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3A8B7-A919-4017-A937-A7A295B2F1FF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42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B30FC-2877-4CA5-9D5A-DA4D96B32E32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532865-D0F1-48E6-ACC0-047C9E25084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C7035F-5D05-4933-B2CE-ACD1C31AE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2F00CF-10D0-4D96-8585-8F7349E08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394C77-7C8E-4158-9695-A7CBA91CD6F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D5046E-951B-4590-8613-B448BA8E3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0676DF-EBEB-4E68-A4D3-FAC2CE605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46B806-6A31-4FBD-A081-E2DCFD5D0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C3B790-D23E-460E-8328-3D65F566F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8C811E-2896-494B-900C-C2AD8C53F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77AA68-C855-4FAF-8776-A4D76C13C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57FF9D-E2C8-465E-A10C-D7DE8CD74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1829E3-778D-487E-8734-8C1505D35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E32B5-CFFF-482E-82F7-D05DDCC42C7B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hyperlink" Target="app:ds:nitrogen%20balance" TargetMode="External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71.xml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71.xml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4000" y="2205000"/>
            <a:ext cx="4572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八章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消化系统功能监护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02920" y="5373720"/>
            <a:ext cx="632484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华北理工大学护理与康复学院   景丽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1979280" y="184464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ac8de"/>
                </a:solidFill>
                <a:latin typeface="Verdana"/>
              </a:rPr>
              <a:t>腹痛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ac8de"/>
                </a:solidFill>
                <a:latin typeface="Verdana"/>
              </a:rPr>
              <a:t>腹胀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ac8de"/>
                </a:solidFill>
                <a:latin typeface="Verdana"/>
              </a:rPr>
              <a:t>呕吐与便血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1690A-0695-4821-9BE8-221A267B783D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791A4-9332-43E4-ABBA-D95D29DA3F0B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4e0ec"/>
                </a:solidFill>
                <a:latin typeface="Verdana"/>
              </a:rPr>
              <a:t>腹痛的类型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6840" y="1600200"/>
            <a:ext cx="8002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4e0ec"/>
                </a:solidFill>
                <a:latin typeface="Verdana"/>
              </a:rPr>
              <a:t>内脏性疼痛：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痛感弥散，定位不准确；疼痛过程缓慢、持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4e0ec"/>
                </a:solidFill>
                <a:latin typeface="Verdana"/>
              </a:rPr>
              <a:t>躯体性疼痛：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能准确反映病变刺激的部位，常引起肌紧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4e0ec"/>
                </a:solidFill>
                <a:latin typeface="Verdana"/>
              </a:rPr>
              <a:t>牵涉性疼痛：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某个内脏病变所产生的痛觉信号，被定位于远离该内脏的身体其他部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9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B9A8C-CFF7-4C92-9239-98D4252BA993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42C51-7017-412F-A128-35EFAF230326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b0f0"/>
                </a:solidFill>
                <a:latin typeface="Verdana"/>
              </a:rPr>
              <a:t>腹痛的观察要点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1599840"/>
            <a:ext cx="79725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疼痛的部位、起始情况、程度、性质、时间 、与饮食的关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持续性、渐进性或是间歇发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症状加重和缓解的因素及规律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伴随症状：发热、呕吐、排便的改变、腹胀、腹膜刺激征、皮肤与巩膜黄染。休克、神经精神症状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B5CFA-6102-43ED-B05F-955CC8FC7AC8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791A2-7BCA-4A76-94F4-8AFE931B262B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b0f0"/>
                </a:solidFill>
                <a:latin typeface="Verdana"/>
              </a:rPr>
              <a:t>病因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000"/>
                </a:solidFill>
                <a:latin typeface="Verdana"/>
              </a:rPr>
              <a:t>功能紊乱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：查不到形态学的改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000"/>
                </a:solidFill>
                <a:latin typeface="Verdana"/>
              </a:rPr>
              <a:t>感染性疾病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：细菌感染或化学刺激引起的病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000"/>
                </a:solidFill>
                <a:latin typeface="Verdana"/>
              </a:rPr>
              <a:t>出血性疾病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：主要是血管破裂引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000"/>
                </a:solidFill>
                <a:latin typeface="Verdana"/>
              </a:rPr>
              <a:t>缺血性疾病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：供血失常造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000"/>
                </a:solidFill>
                <a:latin typeface="Verdana"/>
              </a:rPr>
              <a:t>梗阻性疾病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：空腔脏器及管道系统的通过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000"/>
                </a:solidFill>
                <a:latin typeface="Verdana"/>
              </a:rPr>
              <a:t>穿孔性疾病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：空腔脏器穿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D4D4C-23B7-4D84-AB91-A7EA0CDD670F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07CEF-6D4E-4DD7-856D-A46293698DD5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穿孔性病变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56840" y="1600200"/>
            <a:ext cx="785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常见：胃十二指肠穿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突发性上腹部刀割样疼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舟状腹，迅速出现腹膜刺激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移动性浊音、有气腹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肠鸣音消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诊断性腹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1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9B290-DE09-4ED0-9B55-4C80EA4A1C13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153BC-31B4-43F4-8B63-F340468E5D9B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炎症性病变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常见：急性胆囊炎、胆管炎、胰腺炎、阑尾炎、胃肠炎、盆腔炎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有体温升高，血白细胞及中性粒细胞增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腹痛由轻到重，呈持续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有固定压痛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可伴有腹膜刺激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5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4FE84-F49E-43FA-95B5-32A7D4DAB4E1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B7EC0-8CB8-4345-8290-032AF4EA3B3A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出血性病变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56840" y="1600200"/>
            <a:ext cx="8002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常见：肝脾破裂、腹主动脉瘤破裂、溃疡出血、食管胃底静脉曲张破裂、异位妊娠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多有外伤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以失血性表现为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可有不同程度的腹膜刺激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移动性浊音：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&gt;500m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积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腹腔穿刺：不凝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9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CCAEA-B7CB-4200-A1B1-C7B3BD5CC3D5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E5E9D-6265-4830-A8F9-126F9E324187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000"/>
                </a:solidFill>
                <a:latin typeface="Verdana"/>
              </a:rPr>
              <a:t>失血性周围循环衰竭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心率增快、血压降低、脉压减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晕厥、口干、烦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尿量减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冷汗、面色苍白、皮肤湿冷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3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9E246-9B46-4C36-A44E-68F00E271130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10FCE-85E5-4C56-B134-5E9FB0A1E4DF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5" name="爆炸形 2 5"/>
          <p:cNvSpPr/>
          <p:nvPr/>
        </p:nvSpPr>
        <p:spPr>
          <a:xfrm rot="20559000">
            <a:off x="3624120" y="4916160"/>
            <a:ext cx="5472360" cy="1152360"/>
          </a:xfrm>
          <a:prstGeom prst="irregularSeal2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5c8c"/>
                </a:solidFill>
                <a:latin typeface="Verdana"/>
              </a:rPr>
              <a:t>液体好难打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梗阻性病变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常见：肠梗阻、肠套叠、结石、胆道梗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起病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阵发性绞痛为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初期多无腹膜刺激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伴随症状：呕吐，大便，黄疸，血尿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6A47F-ADF4-4077-8375-6968991E0CF1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93812-219E-4191-8F77-E6F39A2D8A1D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缺血性病变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6840" y="1600200"/>
            <a:ext cx="793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常见：肠扭转、肠系膜动脉栓塞、绞窄性疝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病情发展迅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呈持续性腹痛阵发性加剧或持续剧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易出现腹膜刺激征或休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2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EB00D-37CC-469D-B0E2-37997D67D921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9A539-09AD-400F-A317-7E8AB57658C4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14" name="Group 4"/>
          <p:cNvGrpSpPr/>
          <p:nvPr/>
        </p:nvGrpSpPr>
        <p:grpSpPr>
          <a:xfrm>
            <a:off x="1692360" y="2708280"/>
            <a:ext cx="688680" cy="593640"/>
            <a:chOff x="1692360" y="2708280"/>
            <a:chExt cx="688680" cy="593640"/>
          </a:xfrm>
        </p:grpSpPr>
        <p:sp>
          <p:nvSpPr>
            <p:cNvPr id="115" name="AutoShape 5"/>
            <p:cNvSpPr/>
            <p:nvPr/>
          </p:nvSpPr>
          <p:spPr>
            <a:xfrm>
              <a:off x="1697760" y="2718360"/>
              <a:ext cx="683280" cy="583560"/>
            </a:xfrm>
            <a:prstGeom prst="hexagon">
              <a:avLst>
                <a:gd name="adj" fmla="val 29272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6" name="AutoShape 6"/>
            <p:cNvSpPr/>
            <p:nvPr/>
          </p:nvSpPr>
          <p:spPr>
            <a:xfrm>
              <a:off x="1692360" y="2708280"/>
              <a:ext cx="683280" cy="583560"/>
            </a:xfrm>
            <a:prstGeom prst="hexagon">
              <a:avLst>
                <a:gd name="adj" fmla="val 29272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7"/>
            <p:cNvSpPr/>
            <p:nvPr/>
          </p:nvSpPr>
          <p:spPr>
            <a:xfrm>
              <a:off x="1732320" y="2743200"/>
              <a:ext cx="600480" cy="513360"/>
            </a:xfrm>
            <a:prstGeom prst="hexagon">
              <a:avLst>
                <a:gd name="adj" fmla="val 29243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8" name="Text Box 8"/>
          <p:cNvSpPr/>
          <p:nvPr/>
        </p:nvSpPr>
        <p:spPr>
          <a:xfrm>
            <a:off x="1864080" y="276552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AutoShape 9"/>
          <p:cNvSpPr/>
          <p:nvPr/>
        </p:nvSpPr>
        <p:spPr>
          <a:xfrm>
            <a:off x="1692360" y="3470400"/>
            <a:ext cx="687240" cy="593640"/>
          </a:xfrm>
          <a:prstGeom prst="hexagon">
            <a:avLst>
              <a:gd name="adj" fmla="val 28942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 Box 10"/>
          <p:cNvSpPr/>
          <p:nvPr/>
        </p:nvSpPr>
        <p:spPr>
          <a:xfrm>
            <a:off x="1827360" y="355284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21" name="Group 11"/>
          <p:cNvGrpSpPr/>
          <p:nvPr/>
        </p:nvGrpSpPr>
        <p:grpSpPr>
          <a:xfrm>
            <a:off x="1676520" y="4238640"/>
            <a:ext cx="686880" cy="593640"/>
            <a:chOff x="1676520" y="4238640"/>
            <a:chExt cx="686880" cy="593640"/>
          </a:xfrm>
        </p:grpSpPr>
        <p:sp>
          <p:nvSpPr>
            <p:cNvPr id="122" name="AutoShape 12"/>
            <p:cNvSpPr/>
            <p:nvPr/>
          </p:nvSpPr>
          <p:spPr>
            <a:xfrm>
              <a:off x="1681920" y="4248720"/>
              <a:ext cx="681480" cy="583560"/>
            </a:xfrm>
            <a:prstGeom prst="hexagon">
              <a:avLst>
                <a:gd name="adj" fmla="val 29195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3" name="AutoShape 13"/>
            <p:cNvSpPr/>
            <p:nvPr/>
          </p:nvSpPr>
          <p:spPr>
            <a:xfrm>
              <a:off x="1676520" y="4238640"/>
              <a:ext cx="681480" cy="583560"/>
            </a:xfrm>
            <a:prstGeom prst="hexagon">
              <a:avLst>
                <a:gd name="adj" fmla="val 29195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4" name="AutoShape 14"/>
            <p:cNvSpPr/>
            <p:nvPr/>
          </p:nvSpPr>
          <p:spPr>
            <a:xfrm>
              <a:off x="1716480" y="4273560"/>
              <a:ext cx="599040" cy="513360"/>
            </a:xfrm>
            <a:prstGeom prst="hexagon">
              <a:avLst>
                <a:gd name="adj" fmla="val 29173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25" name="Text Box 15"/>
          <p:cNvSpPr/>
          <p:nvPr/>
        </p:nvSpPr>
        <p:spPr>
          <a:xfrm>
            <a:off x="1844640" y="431496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Line 18"/>
          <p:cNvSpPr/>
          <p:nvPr/>
        </p:nvSpPr>
        <p:spPr>
          <a:xfrm>
            <a:off x="2428920" y="32702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Line 19"/>
          <p:cNvSpPr/>
          <p:nvPr/>
        </p:nvSpPr>
        <p:spPr>
          <a:xfrm>
            <a:off x="2428920" y="40622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Line 20"/>
          <p:cNvSpPr/>
          <p:nvPr/>
        </p:nvSpPr>
        <p:spPr>
          <a:xfrm>
            <a:off x="2428920" y="485460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矩形 21"/>
          <p:cNvSpPr/>
          <p:nvPr/>
        </p:nvSpPr>
        <p:spPr>
          <a:xfrm>
            <a:off x="2428920" y="2406600"/>
            <a:ext cx="5213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1360" indent="-71136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第一节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消化系统应用生理（自学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矩形 22"/>
          <p:cNvSpPr/>
          <p:nvPr/>
        </p:nvSpPr>
        <p:spPr>
          <a:xfrm>
            <a:off x="2500200" y="3559320"/>
            <a:ext cx="370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第二节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临床监护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矩形 23"/>
          <p:cNvSpPr/>
          <p:nvPr/>
        </p:nvSpPr>
        <p:spPr>
          <a:xfrm>
            <a:off x="2484360" y="4076640"/>
            <a:ext cx="574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1360" indent="-71136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第三节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急性重症胰腺炎患者的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b0f0"/>
                </a:solidFill>
                <a:latin typeface="Verdana"/>
              </a:rPr>
              <a:t>急性腹痛的判断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000"/>
                </a:solidFill>
                <a:latin typeface="Verdana"/>
              </a:rPr>
              <a:t>外科性急腹症：</a:t>
            </a:r>
            <a:r>
              <a:rPr b="1" lang="zh-CN" sz="2800" spc="-1" strike="noStrike">
                <a:solidFill>
                  <a:srgbClr val="99669b"/>
                </a:solidFill>
                <a:latin typeface="Verdana"/>
              </a:rPr>
              <a:t>先腹痛，后有发热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等伴随症状。腹痛或压痛部位比较固定，程度重。可伴腹膜刺激征</a:t>
            </a:r>
            <a:r>
              <a:rPr b="1" lang="zh-CN" sz="2800" spc="-1" strike="noStrike">
                <a:solidFill>
                  <a:srgbClr val="ffc000"/>
                </a:solidFill>
                <a:latin typeface="Verdana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000"/>
                </a:solidFill>
                <a:latin typeface="Verdana"/>
              </a:rPr>
              <a:t>内科性急腹症：</a:t>
            </a:r>
            <a:r>
              <a:rPr b="1" lang="zh-CN" sz="2800" spc="-1" strike="noStrike">
                <a:solidFill>
                  <a:srgbClr val="99669b"/>
                </a:solidFill>
                <a:latin typeface="Verdana"/>
              </a:rPr>
              <a:t>先热后痛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，腹痛多无固定部位，程度轻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急性胃肠炎、心肌梗死、腹型过敏性紫癜、大叶性肺炎。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黑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6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ADCA8-184E-44DA-8769-640BF242A8E0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7E7CA-BC27-46EC-A853-6693006C1BBE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979280" y="184464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ac8de"/>
                </a:solidFill>
                <a:latin typeface="Verdana"/>
              </a:rPr>
              <a:t>腹痛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ac8de"/>
                </a:solidFill>
                <a:latin typeface="Verdana"/>
              </a:rPr>
              <a:t>腹胀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ac8de"/>
                </a:solidFill>
                <a:latin typeface="Verdana"/>
              </a:rPr>
              <a:t>呕吐与便血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0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4BE6D-0EB7-44EA-9478-09B290D2EC50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94E60-FBEF-4394-832E-4E1211E6D22B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b0f0"/>
                </a:solidFill>
                <a:latin typeface="Verdana"/>
              </a:rPr>
              <a:t>腹胀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2771640" y="1628640"/>
            <a:ext cx="746784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主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腹部膨隆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测腹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腹压的测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4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56910-C350-414F-BB70-BF3350DACBE5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F7F5A-BDFC-4A08-8C35-11812593872E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方正舒体"/>
                <a:ea typeface="方正舒体"/>
              </a:rPr>
              <a:t>腹腔内压测定：经导尿管膀胱测压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平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以耻骨联合作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排空膀胱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通过导尿管向膀胱内滴入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00m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生理盐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测得平衡时水柱的高度即为腹腔内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8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238B8-352E-4A43-B2E6-B2E3E06411A4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EE5B3-440E-413F-9078-D27EB567FD6C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方正舒体"/>
                <a:ea typeface="方正舒体"/>
              </a:rPr>
              <a:t>腹腔间室综合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一般来讲，腹腔内压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intra—abdominal pressur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IAP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增加到</a:t>
            </a:r>
            <a:r>
              <a:rPr b="1" lang="en-US" sz="2800" spc="-1" strike="noStrike">
                <a:solidFill>
                  <a:srgbClr val="8a5c8c"/>
                </a:solidFill>
                <a:latin typeface="Verdana"/>
              </a:rPr>
              <a:t>&gt;25 cmH</a:t>
            </a:r>
            <a:r>
              <a:rPr b="1" lang="en-US" sz="2800" spc="-1" strike="noStrike" baseline="-25000">
                <a:solidFill>
                  <a:srgbClr val="8a5c8c"/>
                </a:solidFill>
                <a:latin typeface="Verdana"/>
              </a:rPr>
              <a:t>2</a:t>
            </a:r>
            <a:r>
              <a:rPr b="1" lang="en-US" sz="2800" spc="-1" strike="noStrike">
                <a:solidFill>
                  <a:srgbClr val="8a5c8c"/>
                </a:solidFill>
                <a:latin typeface="Verdana"/>
              </a:rPr>
              <a:t>O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时，就会引发脏器功能障碍，出现腹腔间隔室综合征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abdominal compartment syndrom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ACS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ACS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指继发于腹内压急剧升高的脏器功能不全。主要表现为恶心、呕吐、腹胀、呼吸困难、肠鸣音减弱或消失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2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E5AEC-E7AB-46B2-8A22-156517707AD5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73448-93A0-437C-9D84-A2768914C99A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1979280" y="184464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ac8de"/>
                </a:solidFill>
                <a:latin typeface="Verdana"/>
              </a:rPr>
              <a:t>腹痛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ac8de"/>
                </a:solidFill>
                <a:latin typeface="Verdana"/>
              </a:rPr>
              <a:t>腹胀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ac8de"/>
                </a:solidFill>
                <a:latin typeface="Verdana"/>
              </a:rPr>
              <a:t>呕吐与便血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6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06A53-22D9-4D81-88A8-54683948BE12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0DC1E-D496-4270-8170-16306087F424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b0f0"/>
                </a:solidFill>
                <a:latin typeface="Verdana"/>
                <a:ea typeface="宋体"/>
              </a:rPr>
              <a:t>呕吐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观察与记录呕吐次数与量、呕吐物性质、气味、颜色、有无隔宿食物。必要时留取标本送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胃内积血量达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黑体"/>
              </a:rPr>
              <a:t>25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黑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黑体"/>
              </a:rPr>
              <a:t>300m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时可引起呕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0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95478-0B98-4F10-903F-12266BE212A1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CB746-254C-4A3C-B15E-AB9B436E3CC6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留置胃管者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引流液的量与性状、气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胃管是否固定妥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通畅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胃肠减压负压是否有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4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E34A4-801D-48A9-B4CB-205A75A6828E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0DCAC-7697-48B5-9EF9-D82C29F28EBC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6" name="云形标注 5"/>
          <p:cNvSpPr/>
          <p:nvPr/>
        </p:nvSpPr>
        <p:spPr>
          <a:xfrm>
            <a:off x="2448000" y="5057640"/>
            <a:ext cx="6696000" cy="180036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5c8c"/>
                </a:solidFill>
                <a:latin typeface="Verdana"/>
              </a:rPr>
              <a:t>“</a:t>
            </a:r>
            <a:r>
              <a:rPr b="0" lang="zh-CN" sz="3200" spc="-1" strike="noStrike">
                <a:solidFill>
                  <a:srgbClr val="8a5c8c"/>
                </a:solidFill>
                <a:latin typeface="方正舒体"/>
                <a:ea typeface="方正舒体"/>
              </a:rPr>
              <a:t>引流出黄绿色胃液”？吐啦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b0f0"/>
                </a:solidFill>
                <a:latin typeface="Verdana"/>
                <a:ea typeface="宋体"/>
              </a:rPr>
              <a:t>便血的观察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排便的次数与量、粪便性质、颜色、气味、有无里急后重表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大便隐血实验阳性提示每日出血量大于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黑体"/>
              </a:rPr>
              <a:t>5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黑体"/>
              </a:rPr>
              <a:t>10m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出现黑便表明出血量在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黑体"/>
              </a:rPr>
              <a:t>50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黑体"/>
              </a:rPr>
              <a:t>70m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以上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9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72890-7455-4B1D-BB25-672D0B764A54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3E56C-04E1-4798-BC0F-10FEC2878C89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监测出血征象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记录呕血、黑便和便血的频度、颜色、性质、次数和总量，定期复查红细胞计数、血红蛋白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Hct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与血尿素氮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生命体征和循环状况：监测意识状态、脉搏和血压、肢体温度、皮肤和甲床色泽、周围静脉特别是颈静脉充盈情况、尿量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3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A7C55-AA3A-481A-A03F-E71CC8B27BAD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4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64395-505A-4945-BEDA-2530507403DB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33520" y="1196640"/>
            <a:ext cx="72072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识记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．描述消化系统常见临床症状、体征及评估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．描述急性重症胰腺炎疾病的临床表现和分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理解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．解释肝功能监测内容及临床意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．解释营养状态评估的方法和意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．比较不同营养支持方式的实施方法及适用范围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．描述急性重症胰腺炎的诊断和治疗要点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运用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．评估消化系统疾病患者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．评估重症胰腺炎患者并为其制订护理计划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4EBD3-0A36-4693-9B95-D311A51C83D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活动性出血的判断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9640" y="898560"/>
            <a:ext cx="7467840" cy="59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675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8ac8de"/>
                </a:solidFill>
                <a:latin typeface="Verdana"/>
                <a:ea typeface="宋体"/>
              </a:rPr>
              <a:t>呕血或黑便次数增多、颜色变鲜红。</a:t>
            </a:r>
            <a:endParaRPr b="1" lang="en-US" sz="27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75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8ac8de"/>
                </a:solidFill>
                <a:latin typeface="Verdana"/>
                <a:ea typeface="宋体"/>
              </a:rPr>
              <a:t>胃管抽出物有较多鲜血；</a:t>
            </a:r>
            <a:endParaRPr b="1" lang="en-US" sz="27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75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8ac8de"/>
                </a:solidFill>
                <a:latin typeface="Verdana"/>
                <a:ea typeface="宋体"/>
              </a:rPr>
              <a:t>经快速输液输血，周围循环衰竭的表现未见明显改善，或虽暂时好转而又恶化，中心静脉压仍有波动，稍稳定又再下降；</a:t>
            </a:r>
            <a:endParaRPr b="1" lang="en-US" sz="27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75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8ac8de"/>
                </a:solidFill>
                <a:latin typeface="Verdana"/>
                <a:ea typeface="宋体"/>
              </a:rPr>
              <a:t>红细胞计数、血红蛋白测定和</a:t>
            </a:r>
            <a:r>
              <a:rPr b="1" lang="en-US" sz="2700" spc="-1" strike="noStrike">
                <a:solidFill>
                  <a:srgbClr val="8ac8de"/>
                </a:solidFill>
                <a:latin typeface="Verdana"/>
              </a:rPr>
              <a:t>Hct</a:t>
            </a:r>
            <a:r>
              <a:rPr b="1" lang="zh-CN" sz="2700" spc="-1" strike="noStrike">
                <a:solidFill>
                  <a:srgbClr val="8ac8de"/>
                </a:solidFill>
                <a:latin typeface="Verdana"/>
                <a:ea typeface="宋体"/>
              </a:rPr>
              <a:t>继续下降，网织红细胞计数持续增高；</a:t>
            </a:r>
            <a:endParaRPr b="1" lang="en-US" sz="27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75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8ac8de"/>
                </a:solidFill>
                <a:latin typeface="Verdana"/>
                <a:ea typeface="宋体"/>
              </a:rPr>
              <a:t>补液和尿量足够的情况下，血尿素氮持续或再次增高；</a:t>
            </a:r>
            <a:endParaRPr b="1" lang="en-US" sz="27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ddb523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7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91493-B241-4E27-98DA-168B512D25B7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8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A1F96-95E8-40C0-B6CC-32ED050DD393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b0f0"/>
                </a:solidFill>
                <a:latin typeface="Verdana"/>
              </a:rPr>
              <a:t>消化系统常见护理问题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1600200"/>
            <a:ext cx="8075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000"/>
                </a:solidFill>
                <a:latin typeface="Verdana"/>
              </a:rPr>
              <a:t>疼痛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：与腹腔内器官炎症、出血、损伤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000"/>
                </a:solidFill>
                <a:latin typeface="Verdana"/>
              </a:rPr>
              <a:t>体液不足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：腹腔内液体渗出、呕吐或禁食等所致的液体丢失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000"/>
                </a:solidFill>
                <a:latin typeface="Verdana"/>
              </a:rPr>
              <a:t>营养失调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：与减少进食量及异常消化功能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000"/>
                </a:solidFill>
                <a:latin typeface="Verdana"/>
              </a:rPr>
              <a:t>恐惧</a:t>
            </a:r>
            <a:r>
              <a:rPr b="1" lang="en-US" sz="2800" spc="-1" strike="noStrike">
                <a:solidFill>
                  <a:srgbClr val="ffc000"/>
                </a:solidFill>
                <a:latin typeface="Verdana"/>
              </a:rPr>
              <a:t>/</a:t>
            </a:r>
            <a:r>
              <a:rPr b="1" lang="zh-CN" sz="2800" spc="-1" strike="noStrike">
                <a:solidFill>
                  <a:srgbClr val="ffc000"/>
                </a:solidFill>
                <a:latin typeface="Verdana"/>
              </a:rPr>
              <a:t>焦虑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：与腹痛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1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7D633-6623-4C22-A550-68454E2AFD2F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2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25BD7-4DA5-4706-AA58-7E395EC1B024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b0f0"/>
                </a:solidFill>
                <a:latin typeface="Verdana"/>
              </a:rPr>
              <a:t>急性腹痛未明确诊断前：</a:t>
            </a:r>
            <a:r>
              <a:rPr b="1" lang="zh-CN" sz="3200" spc="-1" strike="noStrike">
                <a:solidFill>
                  <a:srgbClr val="ffc000"/>
                </a:solidFill>
                <a:latin typeface="Verdana"/>
              </a:rPr>
              <a:t>五禁四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611280" y="1628640"/>
            <a:ext cx="4039920" cy="394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ac8de"/>
                </a:solidFill>
                <a:latin typeface="Verdana"/>
              </a:rPr>
              <a:t>禁食、水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ac8de"/>
                </a:solidFill>
                <a:latin typeface="Verdana"/>
              </a:rPr>
              <a:t>禁用止痛剂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ac8de"/>
                </a:solidFill>
                <a:latin typeface="Verdana"/>
              </a:rPr>
              <a:t>禁用热敷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ac8de"/>
                </a:solidFill>
                <a:latin typeface="Verdana"/>
              </a:rPr>
              <a:t>禁灌肠及使用泄剂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ac8de"/>
                </a:solidFill>
                <a:latin typeface="Verdana"/>
              </a:rPr>
              <a:t>禁止活动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4140000" y="1699920"/>
            <a:ext cx="4214520" cy="394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ac8de"/>
                </a:solidFill>
                <a:latin typeface="Verdana"/>
              </a:rPr>
              <a:t>抗休克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ac8de"/>
                </a:solidFill>
                <a:latin typeface="Verdana"/>
              </a:rPr>
              <a:t>抗感染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ac8de"/>
                </a:solidFill>
                <a:latin typeface="Verdana"/>
              </a:rPr>
              <a:t>抗水、电解质和酸碱失衡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ac8de"/>
                </a:solidFill>
                <a:latin typeface="Verdana"/>
              </a:rPr>
              <a:t>抗腹胀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6" name="日期占位符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9128A-0C7C-45F7-BAF1-58FDC210C8DC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7" name="灯片编号占位符 7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5817C-AAB5-4444-BFB9-8D53A78D0F78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000"/>
                </a:solidFill>
                <a:latin typeface="Verdana"/>
                <a:ea typeface="宋体"/>
              </a:rPr>
              <a:t>减轻疼痛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非休克患者取半卧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禁食和胃肠减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解痉和镇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0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AB19A-F3CE-431D-90B9-22111FF8D061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1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3EC73-C4B5-49AB-8938-52D8ECA5C31B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二、肝功能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精神状态及意识状态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黄疸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血清酶学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凝血功能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5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血清蛋白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6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血氨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4" name="标题 1"/>
          <p:cNvSpPr/>
          <p:nvPr/>
        </p:nvSpPr>
        <p:spPr>
          <a:xfrm>
            <a:off x="990720" y="457200"/>
            <a:ext cx="807696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一）血清蛋白测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总蛋白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TP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正常值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6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80g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白蛋白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A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5g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球蛋白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G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0g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白蛋白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A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/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球蛋白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G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∶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意义：慢性肝炎、肝硬化时常出现白蛋白减少而球蛋白增加，使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A/G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比例倒置。白蛋白主要在肝中制造，一般白蛋白量越多，人体越健康，影响机体的胶体渗透压水平。球蛋白大部分在肝细胞外生成，球蛋白与人体的免疫力有关系，球蛋白要保持一定的量，球蛋白值偏高说明体内存在免疫系统的亢进，偏低说明免疫力不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178920" y="112500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二）胆红素测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总胆红素的正常值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7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7.1μmol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0mg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，直接胆红素的正常值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7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7μmol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mg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，间接胆红素的正常值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7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3.7μmol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意义：主要用于诊断肝疾病和胆道梗阻。当肝发生炎症、坏死、中毒等损害均可以引起黄疸，胆道疾病及溶血性疾病也可以引起黄疸。以直接胆红素升高为主常见于原发性胆汁型肝硬化、胆道梗阻等。以间接胆红素升高为主常见于溶血性疾病、新生儿黄疸或者输血错误等。肝炎与肝硬化患者的直接胆红素与间接胆红素都可以升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二）胆红素测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特别说明：一般来说小于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4μmol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的黄疸，视诊不易察出，称为隐性黄疸；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70μmol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为轻度黄疸；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7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40μmol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为中度黄疸；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40μmol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为高度黄疸。完全阻塞性黄疸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4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510μmol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；不完全阻塞者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7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65μmol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；肝细胞性黄疸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7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00μmol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；溶血性黄疸＜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85μmol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304920" y="1371600"/>
            <a:ext cx="8610480" cy="47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三）血清酶学测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5280" indent="-305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77" name="Picture 3" descr=""/>
          <p:cNvPicPr/>
          <p:nvPr/>
        </p:nvPicPr>
        <p:blipFill>
          <a:blip r:embed="rId1"/>
          <a:stretch/>
        </p:blipFill>
        <p:spPr>
          <a:xfrm>
            <a:off x="324000" y="1844640"/>
            <a:ext cx="8569080" cy="44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四）血氨的测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血氨正常值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60μmol/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临床意义：血氨值偏高可能影响肝病患者肝昏迷的发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消化系统的主要生理功能是摄取和消化食物、吸收营养和排泄废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以肝性脑病为例讲授重症消化患者护理评估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--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重点内容之一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急性重症胰腺炎患者重症监护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--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重点内容之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三、营养支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一）目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通过营养素的调理作用，调节免疫功能，增强机体抗病能力，从而影响疾病的发展与转归，这是实现危重症患者营养支持的总目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二）营养状态的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营养评估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通过人体测量、实验室检查及综合营养评定方法等手段，判定人体营养状况，确定营养不良的程度及类型，并监测营养支持疗效的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三、营养支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皮褶厚度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可推断全身脂肪含量、判断皮下脂肪发育情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测定部位主要有上臂肱三头肌、肩胛下角部及腹部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临床上常用肱三头肌皮褶厚度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SF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测定：在右上臂后面肩峰与鹰嘴连线的中点，夹取与上肢长轴平行的皮褶，纵向测量。正常参考值男性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2.5mm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，女性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6.5mm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。实测值在正常值的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9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％以上为正常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8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％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9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％为体脂轻度亏损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6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％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8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％为中度亏损，＜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6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％为重度亏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三、营养支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上臂肌围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AMC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：间接反映机体内蛋白质储存情况，与血清白蛋白水平相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AMC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m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=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上臂围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m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－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4×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肱三头肌皮褶厚度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m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上臂肌围参考值男性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4.8cm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，女性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1.0cm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。实测值在参考值的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9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％以上为正常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8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％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9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％为轻度营养不良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6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％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8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％为中度，小于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6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％为重度。测量上臂围时，被测者上臂自然下垂，取上臂中点，用软尺测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实验室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氮平衡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血清白蛋白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rum albumi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ALB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：持续低白蛋白血症被认为是判定营养不良的可靠指标。正常参考范围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45g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，若＜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5g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为营养不良，＜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0g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则为重度营养不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转铁蛋白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ransferri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RF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：评定蛋白质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-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热量营养不良时更为敏感。正常参考范围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.2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4.0g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.5g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属于中度营养不良，小于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g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为严重营养不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304920" y="1371240"/>
            <a:ext cx="8610480" cy="52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实验室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氮平衡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肌酐身高指数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HI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氮平衡（</a:t>
            </a:r>
            <a:r>
              <a:rPr b="1" lang="en-US" sz="2800" spc="-1" strike="noStrike" u="sng">
                <a:solidFill>
                  <a:srgbClr val="ddb523"/>
                </a:solidFill>
                <a:uFillTx/>
                <a:latin typeface="Verdana"/>
                <a:hlinkClick r:id="rId1"/>
              </a:rPr>
              <a:t>nitrogen balanc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NB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：评定机体蛋白质营养状况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</a:rPr>
              <a:t>最可靠和最常用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的指标。一般食物的蛋白质中氮的平均含量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6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％。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NB =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蛋白质摄入量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g/d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/6.2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－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[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尿中尿素氮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g/d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＋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g/d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]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，其中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g/d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为人体每天通过呼吸道、粪便、汗液及尿中其他形式排出的氮。若氮摄入量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=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氮排出量为氮平衡，氮摄入量＞氮排出量为正氮平衡，氮摄入量＜氮排出量为负氮平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实验室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免疫功能评定：危重症患者中蛋白质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-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热量营养不良者，常伴有细胞免疫功能减低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总淋巴细胞计数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LC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：是目前评定细胞免疫功能的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</a:rPr>
              <a:t>简易方法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。若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LC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0×10</a:t>
            </a:r>
            <a:r>
              <a:rPr b="1" lang="en-US" sz="2800" spc="-1" strike="noStrike" baseline="30000">
                <a:solidFill>
                  <a:srgbClr val="8ac8de"/>
                </a:solidFill>
                <a:latin typeface="Verdana"/>
              </a:rPr>
              <a:t>8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者为正常，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2-2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×10</a:t>
            </a:r>
            <a:r>
              <a:rPr b="1" lang="en-US" sz="2800" spc="-1" strike="noStrike" baseline="30000">
                <a:solidFill>
                  <a:srgbClr val="8ac8de"/>
                </a:solidFill>
                <a:latin typeface="Verdana"/>
              </a:rPr>
              <a:t>8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者为轻度营养不良，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8-1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×10</a:t>
            </a:r>
            <a:r>
              <a:rPr b="1" lang="en-US" sz="2800" spc="-1" strike="noStrike" baseline="30000">
                <a:solidFill>
                  <a:srgbClr val="8ac8de"/>
                </a:solidFill>
                <a:latin typeface="Verdana"/>
              </a:rPr>
              <a:t>8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者为中度营养不良，＜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8×10</a:t>
            </a:r>
            <a:r>
              <a:rPr b="1" lang="en-US" sz="2800" spc="-1" strike="noStrike" baseline="30000">
                <a:solidFill>
                  <a:srgbClr val="8ac8de"/>
                </a:solidFill>
                <a:latin typeface="Verdana"/>
              </a:rPr>
              <a:t>8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者为重度营养不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皮肤迟发型超敏反应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DH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304920" y="1371240"/>
            <a:ext cx="8610480" cy="61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综合营养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02" name="Picture 2" descr=""/>
          <p:cNvPicPr/>
          <p:nvPr/>
        </p:nvPicPr>
        <p:blipFill>
          <a:blip r:embed="rId1"/>
          <a:stretch/>
        </p:blipFill>
        <p:spPr>
          <a:xfrm>
            <a:off x="684360" y="1989000"/>
            <a:ext cx="778500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三）危重症患者的营养支持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重症患者常合并代谢紊乱与营养不良，需要给予营养支持；且应尽早开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计算机体能量消耗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8ac8de"/>
                </a:solidFill>
                <a:uFillTx/>
                <a:latin typeface="宋体"/>
                <a:ea typeface="宋体"/>
              </a:rPr>
              <a:t>（</a:t>
            </a:r>
            <a:r>
              <a:rPr b="1" lang="en-US" sz="2800" spc="-1" strike="noStrike" u="sng">
                <a:solidFill>
                  <a:srgbClr val="8ac8de"/>
                </a:solidFill>
                <a:uFillTx/>
                <a:latin typeface="宋体"/>
                <a:ea typeface="宋体"/>
              </a:rPr>
              <a:t>1</a:t>
            </a:r>
            <a:r>
              <a:rPr b="1" lang="zh-CN" sz="2800" spc="-1" strike="noStrike" u="sng">
                <a:solidFill>
                  <a:srgbClr val="8ac8de"/>
                </a:solidFill>
                <a:uFillTx/>
                <a:latin typeface="宋体"/>
                <a:ea typeface="宋体"/>
              </a:rPr>
              <a:t>）基础热量消耗（</a:t>
            </a:r>
            <a:r>
              <a:rPr b="1" lang="en-US" sz="2800" spc="-1" strike="noStrike" u="sng">
                <a:solidFill>
                  <a:srgbClr val="8ac8de"/>
                </a:solidFill>
                <a:uFillTx/>
                <a:latin typeface="宋体"/>
                <a:ea typeface="宋体"/>
              </a:rPr>
              <a:t>basal energy expenditure</a:t>
            </a:r>
            <a:r>
              <a:rPr b="1" lang="zh-CN" sz="2800" spc="-1" strike="noStrike" u="sng">
                <a:solidFill>
                  <a:srgbClr val="8ac8de"/>
                </a:solidFill>
                <a:uFillTx/>
                <a:latin typeface="宋体"/>
                <a:ea typeface="宋体"/>
              </a:rPr>
              <a:t>，</a:t>
            </a:r>
            <a:r>
              <a:rPr b="1" lang="en-US" sz="2800" spc="-1" strike="noStrike" u="sng">
                <a:solidFill>
                  <a:srgbClr val="8ac8de"/>
                </a:solidFill>
                <a:uFillTx/>
                <a:latin typeface="宋体"/>
                <a:ea typeface="宋体"/>
              </a:rPr>
              <a:t>BEE</a:t>
            </a:r>
            <a:r>
              <a:rPr b="1" lang="zh-CN" sz="2800" spc="-1" strike="noStrike" u="sng">
                <a:solidFill>
                  <a:srgbClr val="8ac8de"/>
                </a:solidFill>
                <a:uFillTx/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男性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BEE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Kcal/d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=66.4+13.7×W+5.0×H-6.8×A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女性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BEE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Kcal/d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=66.5+9.6×W+1.8×H-4.7×A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三）危重症患者的营养支持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静息能量消耗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REE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：餐后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h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以上，合适温度下，安静平卧或静坐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0min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以上所测得的人体能量消耗。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REE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较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BEE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高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0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％左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男性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REE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Kcal/d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=5.48×H +11.51×W-3.47×A-189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女性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REE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Kcal/d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=2.95×H +8.73×W-1.94×A+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52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三）危重症患者的营养支持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．计算总能量需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公式计算法：在活动、应激和发热时，危重症患者，公式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TEE=BEE×AF×IF×TF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计算得出，其中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AF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为活动系数，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IF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为应激系数，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TF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为体温系数，以正常体温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7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℃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的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TF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为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.0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，体温每增加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℃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，系数增加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0.1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。活动系数和应激系数见教材（表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8-4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和表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8-5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826920" y="1699920"/>
            <a:ext cx="7772400" cy="2508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ac8de"/>
                </a:solidFill>
                <a:latin typeface="Verdana"/>
              </a:rPr>
              <a:t>第二节   临床监护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简易估算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总能量可以按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0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0 kcal/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kg·d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计算，但不超过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5kcal/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kg·d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重症患者急性应激期营养支持应掌握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“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允许性低热卡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”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原则，能量补充不宜超过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5kcal/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kg·d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在应激与代谢状态稳定后能量供给需要适当的增加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0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5kcal/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kg·d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，否则将难以纠正患者的低蛋白血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．确定各种营养物质的供给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非蛋白供能物质：以碳水化合物、脂肪共同供能为首选。碳水化合物与脂肪热量比可为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∶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∶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。碳水化合物的供给量不宜超过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00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400g/d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，而脂肪乳剂所提供的脂肪量，通常每日不宜超过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.5g/kg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蛋白质：正常情况下，足够的蛋白质供给为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.2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.0g/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kg·d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。危重症患者热氮比为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00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50kcal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∶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g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。在严重应激下，尤其是对重症肺炎，热氮比应适当降至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80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30kcal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∶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g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324000" y="1197000"/>
            <a:ext cx="86104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．确定各种营养物质的供给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水及电解质：可按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0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40ml/kg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估计液体的需要量，再加上丢失量，即为液体补充量；体温升高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℃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以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7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℃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为基础体温）时，需增加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00ml/d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的入量。正常成年人电解质日需要量分别为：钠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00-120mmol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即氯化钠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5.8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7.0g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，钾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80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20mmol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即氯化钾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6.0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9.0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，钙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8-10mmol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即葡萄糖酸钙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.6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4.5g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，镁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2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5mmol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即硫酸镁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.0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.7g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微量营养素：包括水溶性维生素、脂溶性维生素和必需微量元素。目前药品市场上复合性多种维生素和微量元素制剂较多，使用方便、安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确定营养支持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肠外营养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parenteral nutritio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P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肠内营养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enteral nutritio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E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两种方法共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肠外营养输注途径与方式，周围静脉或中心静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.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肠外、肠内营养支持与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适应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途径选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营养液配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输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并发症及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/>
          </p:nvPr>
        </p:nvSpPr>
        <p:spPr>
          <a:xfrm>
            <a:off x="468360" y="2204640"/>
            <a:ext cx="827568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ac8de"/>
                </a:solidFill>
                <a:latin typeface="Verdana"/>
                <a:ea typeface="宋体"/>
              </a:rPr>
              <a:t>第三节  急性重症胰腺炎患者的护理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急性胰腺炎伴有脏器功能障碍，或出现坏死、脓肿或假性囊肿等局部并发症者，或两者兼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常见腹部体征有上腹部明显的压痛、反跳痛、肌紧张、腹胀、肠鸣音减弱或消失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腹部包块，偶见腰肋部皮下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淤斑征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Grey-Tumer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征）和脐周皮下淤斑征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Cullen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征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可并发一个或多个脏器功能障碍，或严重代谢功能紊乱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增强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CT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为诊断胰腺坏死的最有效方法，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B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超及腹腔穿刺对诊断有一定帮助。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APACHE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Ⅱ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评分≥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8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分。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Balthazar CT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分级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系统≥Ⅱ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急性重症胰腺炎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AP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的诊断标准为：有急性胰腺炎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AP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的临床表现和生化改变，且具备下列条件之一者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①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局部并发症（胰腺坏死、脓肿或假性囊肿等）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②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一个或多个器官衰竭，可伴有严重的代谢功能紊乱，包括低钙血症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③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Ranson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评分≥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④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APACH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Ⅱ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评分≥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8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⑤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Balthazar CT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分级≥Ⅱ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案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患者，男性，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4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主诉：上腹部疼痛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d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，加重伴恶心呕吐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h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现病史：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d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前患者因朋友聚会，共饮白酒约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50ml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，于夜间出现上腹部疼痛，持续性伴阵发性加剧，伴后腰部放散痛，自服止痛药效果不明显，屈膝侧卧位疼痛略缓解。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h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前腹痛加重，伴恶心、呕吐，呕吐物为胃内容物，并有发热，体温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7.8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℃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，无寒战。于我院门诊急检尿淀粉酶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000IU/L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，血淀粉酶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00IU/L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，为求进一步诊治入院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既往史：否认糖尿病、高血压病史及家族史，否认肝炎及结核病史，无药物过敏史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案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体格检查：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T 36.8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℃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，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P 84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次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分，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R 16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次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分，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BP 120/80mmHg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。神清语明，皮肤黏膜未见异常，浅表淋巴结未触及肿大。双肺呼吸音清晰，未闻及干湿音，心率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84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次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分，节律规整，心脏各瓣膜听诊区未闻及病理性杂音。腹平软，左上腹压痛，无反跳痛及肌紧张，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Murphy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征阴性，肝肋下未触及。双下肢无水肿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辅助检查血常规：白细胞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1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×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0</a:t>
            </a:r>
            <a:r>
              <a:rPr b="1" lang="en-US" sz="2400" spc="-1" strike="noStrike" baseline="30000">
                <a:solidFill>
                  <a:srgbClr val="8ac8de"/>
                </a:solidFill>
                <a:latin typeface="宋体"/>
                <a:ea typeface="宋体"/>
              </a:rPr>
              <a:t>9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/L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，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NE%78%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，红细胞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.28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×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0</a:t>
            </a:r>
            <a:r>
              <a:rPr b="1" lang="en-US" sz="2400" spc="-1" strike="noStrike" baseline="30000">
                <a:solidFill>
                  <a:srgbClr val="8ac8de"/>
                </a:solidFill>
                <a:latin typeface="宋体"/>
                <a:ea typeface="宋体"/>
              </a:rPr>
              <a:t>12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/L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，血小板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20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×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0</a:t>
            </a:r>
            <a:r>
              <a:rPr b="1" lang="en-US" sz="2400" spc="-1" strike="noStrike" baseline="30000">
                <a:solidFill>
                  <a:srgbClr val="8ac8de"/>
                </a:solidFill>
                <a:latin typeface="宋体"/>
                <a:ea typeface="宋体"/>
              </a:rPr>
              <a:t>9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/L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，钾离子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.1mmol/L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，钙离子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0mmol/L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，血糖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0.1mmol/L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请问应如何对该患者进行评估与护理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4828A-E279-4F7E-B35B-946F9927612E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BC8DE-A1F6-4CE8-8239-207DD5CC6D34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43" name="组合 20"/>
          <p:cNvGrpSpPr/>
          <p:nvPr/>
        </p:nvGrpSpPr>
        <p:grpSpPr>
          <a:xfrm>
            <a:off x="539640" y="1413000"/>
            <a:ext cx="8064720" cy="4319640"/>
            <a:chOff x="539640" y="1413000"/>
            <a:chExt cx="8064720" cy="4319640"/>
          </a:xfrm>
        </p:grpSpPr>
        <p:pic>
          <p:nvPicPr>
            <p:cNvPr id="144" name="矩形 9" descr=""/>
            <p:cNvPicPr/>
            <p:nvPr/>
          </p:nvPicPr>
          <p:blipFill>
            <a:blip r:embed="rId1"/>
            <a:stretch/>
          </p:blipFill>
          <p:spPr>
            <a:xfrm>
              <a:off x="539640" y="1413000"/>
              <a:ext cx="1831320" cy="431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矩形 10"/>
            <p:cNvSpPr/>
            <p:nvPr/>
          </p:nvSpPr>
          <p:spPr>
            <a:xfrm>
              <a:off x="3142440" y="1429560"/>
              <a:ext cx="5461920" cy="1000440"/>
            </a:xfrm>
            <a:prstGeom prst="rect">
              <a:avLst/>
            </a:prstGeom>
            <a:solidFill>
              <a:srgbClr val="8ac8de"/>
            </a:solidFill>
            <a:ln w="25560">
              <a:solidFill>
                <a:srgbClr val="6492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99669b"/>
                  </a:solidFill>
                  <a:latin typeface="Verdana"/>
                </a:rPr>
                <a:t>患者及家属：</a:t>
              </a:r>
              <a:r>
                <a:rPr b="0" lang="zh-CN" sz="3200" spc="-1" strike="noStrike">
                  <a:solidFill>
                    <a:srgbClr val="ff0000"/>
                  </a:solidFill>
                  <a:latin typeface="Verdana"/>
                </a:rPr>
                <a:t>病史、</a:t>
              </a:r>
              <a:r>
                <a:rPr b="0" lang="zh-CN" sz="3200" spc="-1" strike="noStrike">
                  <a:solidFill>
                    <a:srgbClr val="99669b"/>
                  </a:solidFill>
                  <a:latin typeface="Verdana"/>
                </a:rPr>
                <a:t>心理社会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6" name="矩形 11"/>
            <p:cNvSpPr/>
            <p:nvPr/>
          </p:nvSpPr>
          <p:spPr>
            <a:xfrm>
              <a:off x="3142440" y="3002040"/>
              <a:ext cx="5461920" cy="1071360"/>
            </a:xfrm>
            <a:prstGeom prst="rect">
              <a:avLst/>
            </a:prstGeom>
            <a:solidFill>
              <a:srgbClr val="8ac8de"/>
            </a:solidFill>
            <a:ln w="25560">
              <a:solidFill>
                <a:srgbClr val="6492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99669b"/>
                  </a:solidFill>
                  <a:latin typeface="Verdana"/>
                </a:rPr>
                <a:t>患者：主诉、</a:t>
              </a:r>
              <a:r>
                <a:rPr b="0" lang="zh-CN" sz="3200" spc="-1" strike="noStrike">
                  <a:solidFill>
                    <a:srgbClr val="ff0000"/>
                  </a:solidFill>
                  <a:latin typeface="Verdana"/>
                </a:rPr>
                <a:t>体格检查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7" name="矩形 12"/>
            <p:cNvSpPr/>
            <p:nvPr/>
          </p:nvSpPr>
          <p:spPr>
            <a:xfrm>
              <a:off x="3142440" y="4716360"/>
              <a:ext cx="5461920" cy="1000440"/>
            </a:xfrm>
            <a:prstGeom prst="rect">
              <a:avLst/>
            </a:prstGeom>
            <a:solidFill>
              <a:srgbClr val="8ac8de"/>
            </a:solidFill>
            <a:ln w="25560">
              <a:solidFill>
                <a:srgbClr val="6492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99669b"/>
                  </a:solidFill>
                  <a:latin typeface="Verdana"/>
                </a:rPr>
                <a:t>临床症状、体征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8" name="左箭头 13"/>
            <p:cNvSpPr/>
            <p:nvPr/>
          </p:nvSpPr>
          <p:spPr>
            <a:xfrm>
              <a:off x="2423160" y="1787400"/>
              <a:ext cx="648000" cy="285120"/>
            </a:xfrm>
            <a:prstGeom prst="leftArrow">
              <a:avLst>
                <a:gd name="adj1" fmla="val 50000"/>
                <a:gd name="adj2" fmla="val 50294"/>
              </a:avLst>
            </a:prstGeom>
            <a:solidFill>
              <a:srgbClr val="8ac8de"/>
            </a:solidFill>
            <a:ln w="25560">
              <a:solidFill>
                <a:srgbClr val="6492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9" name="左箭头 16"/>
            <p:cNvSpPr/>
            <p:nvPr/>
          </p:nvSpPr>
          <p:spPr>
            <a:xfrm>
              <a:off x="2423160" y="3430800"/>
              <a:ext cx="648000" cy="285120"/>
            </a:xfrm>
            <a:prstGeom prst="leftArrow">
              <a:avLst>
                <a:gd name="adj1" fmla="val 50000"/>
                <a:gd name="adj2" fmla="val 50294"/>
              </a:avLst>
            </a:prstGeom>
            <a:solidFill>
              <a:srgbClr val="8ac8de"/>
            </a:solidFill>
            <a:ln w="25560">
              <a:solidFill>
                <a:srgbClr val="6492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0" name="左箭头 17"/>
            <p:cNvSpPr/>
            <p:nvPr/>
          </p:nvSpPr>
          <p:spPr>
            <a:xfrm>
              <a:off x="2423160" y="5073840"/>
              <a:ext cx="648000" cy="285120"/>
            </a:xfrm>
            <a:prstGeom prst="leftArrow">
              <a:avLst>
                <a:gd name="adj1" fmla="val 50000"/>
                <a:gd name="adj2" fmla="val 50294"/>
              </a:avLst>
            </a:prstGeom>
            <a:solidFill>
              <a:srgbClr val="8ac8de"/>
            </a:solidFill>
            <a:ln w="25560">
              <a:solidFill>
                <a:srgbClr val="6492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一）临床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腹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恶心、呕吐及腹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发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水、电解质及酸碱平衡紊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低血压和休克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6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Grey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－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urner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征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ulle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304560" y="13712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7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．并发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急性液体积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急性胰腺假性囊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胰腺脓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胰腺及胰周组织坏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急性呼吸窘迫综合征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ARDS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其他：急性肾衰竭、心律失常或心力衰竭、肝功能衰竭、消化道出血、败血症、胰性脑病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DIC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二）辅助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．实验室检查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白细胞计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血清脂肪酶测定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血清脂肪酶常在起病后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4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72h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开始上升，持续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7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0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天，对病后就诊较晚的急性胰腺炎患者有诊断价值，且特异性也较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淀粉酶测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注：诊断中应注意淀粉酶的高低不一定反映病情轻重，出血坏死型胰腺炎淀粉酶值可正常或低于正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C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反应蛋白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CRP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二）辅助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其他生化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．影像学检查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腹部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X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线：急性期可见“哨兵袢”和“结肠切割征”，是胰腺炎的间接指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腹部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B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超：可以观察胰腺形态及有无胆道结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腹部增强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CT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：是近年来被广泛接受的敏感确诊急性胰腺炎的方法。在口服或静脉注射增强造影剂后，可以得到清晰的胰腺图像，是诊断胰腺坏死的金标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三）与疾病相关的健康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四）心理社会状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五）治疗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一般采取非手术治疗以维护器官功能，感染性坏死采用手术治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病因治疗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胆源性：有胆道梗阻者及时解除梗阻。若无胆道梗阻者先行非手术治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高血脂性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酒精性：禁食和胃肠减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抑制胰酶分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①禁食和胃肠减压；②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AP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早期静脉滴注抑肽酶、加贝酯；③应用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H</a:t>
            </a:r>
            <a:r>
              <a:rPr b="1" lang="en-US" sz="2800" spc="-1" strike="noStrike" baseline="-25000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受体拮抗剂或质子泵抑制剂；④应用生长抑素及其衍生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抗生素应用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选用对肠道异位细菌敏感且对胰腺有较好渗透性的抗生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纠正水、电解质紊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营养支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AP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患者早期条件允许即给予营养支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6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并发症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7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中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8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腹腔灌洗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适用于出血坏死型胰腺炎伴大量腹腔渗液者，可清除胰腺渗出物和释放的胰酶等有毒物质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9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手术治疗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急性出血坏死性胰腺炎经内科治疗无效，或胰腺炎并发脓肿、假性囊肿、弥漫性腹膜炎、肠穿孔、肠梗阻及肠麻痹坏死时，需行手术治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b0f0"/>
                </a:solidFill>
                <a:latin typeface="方正舒体"/>
                <a:ea typeface="方正舒体"/>
              </a:rPr>
              <a:t>护理诊断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00"/>
              </a:spcBef>
              <a:buClr>
                <a:srgbClr val="ddb523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疼痛   与胰腺及其周围组织炎症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19040" indent="-382680">
              <a:spcBef>
                <a:spcPts val="700"/>
              </a:spcBef>
              <a:buClr>
                <a:srgbClr val="ddb523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体液不足  与体液外渗及血管扩张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19040" indent="-382680">
              <a:spcBef>
                <a:spcPts val="700"/>
              </a:spcBef>
              <a:buClr>
                <a:srgbClr val="ddb523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体温过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19040" indent="-382680">
              <a:spcBef>
                <a:spcPts val="700"/>
              </a:spcBef>
              <a:buClr>
                <a:srgbClr val="ddb523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营养失调  低于机体需要量，与禁食、呕吐、胃肠减压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19040" indent="-382680">
              <a:spcBef>
                <a:spcPts val="700"/>
              </a:spcBef>
              <a:buClr>
                <a:srgbClr val="ddb523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组织灌注不足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与胰腺出血坏死，腹腔、腹膜后大量渗液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19040" indent="-382680">
              <a:spcBef>
                <a:spcPts val="700"/>
              </a:spcBef>
              <a:buClr>
                <a:srgbClr val="ddb523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恐惧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与腹痛剧烈及病情进展急骤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19040" indent="-382680">
              <a:spcBef>
                <a:spcPts val="700"/>
              </a:spcBef>
              <a:buClr>
                <a:srgbClr val="ddb523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潜在并发症：休克、急性肾衰竭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ARDS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胰性脑病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DIC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心力衰竭、感染和出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7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C2901-D9F7-4656-BEA3-E2791160ACE9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8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B4375-C8D9-43FD-BF37-0E1212584C00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1.</a:t>
            </a: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一般护理措施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禁食、胃肠减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遵医嘱给予镇痛药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预防和迅速纠正休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营养支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严密监测患者的体温变化，必要时给予物理降温或药物降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基础护理：保持患者清洁，协助调整体位，及时清除排泄物及渗出液，做好患者的皮肤保护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1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10F5A-62DD-4F2E-AB62-929B65BA8800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2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CD689-615F-41C8-B05A-774DD68F74B1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病史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日常生活习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患病的起始情况、主要症状及其特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既往检查、治疗经过及效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既往疾病史及药物史、心理社会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A241F-5629-4540-83E6-97093E01EDE8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1CEF6-5686-4F25-BC33-A03287C20A8A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2.</a:t>
            </a: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急性反应期的监测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456840" y="1600200"/>
            <a:ext cx="8147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84569"/>
                </a:solidFill>
                <a:latin typeface="Verdana"/>
                <a:ea typeface="宋体"/>
              </a:rPr>
              <a:t>基本生命体征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：神智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HR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RR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BP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PO</a:t>
            </a:r>
            <a:r>
              <a:rPr b="1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84569"/>
                </a:solidFill>
                <a:latin typeface="Verdana"/>
                <a:ea typeface="宋体"/>
              </a:rPr>
              <a:t>循环监测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：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BP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VP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尿量、皮肤黏膜、肢端循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84569"/>
                </a:solidFill>
                <a:latin typeface="Verdana"/>
                <a:ea typeface="宋体"/>
              </a:rPr>
              <a:t>呼吸监测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：呼吸频率、状态、肺部听诊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FiO</a:t>
            </a:r>
            <a:r>
              <a:rPr b="1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PO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2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血气分析、胸部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X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84569"/>
                </a:solidFill>
                <a:latin typeface="Verdana"/>
                <a:ea typeface="宋体"/>
              </a:rPr>
              <a:t>消化监测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：营养状况、黄疸、腹部体征（外观、腹膜刺激征、腹水、腹压）、胃肠功能（肠鸣、胃液、大便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84569"/>
                </a:solidFill>
                <a:latin typeface="Verdana"/>
                <a:ea typeface="宋体"/>
              </a:rPr>
              <a:t>其他器官功能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：肾功、肝功、血糖、血尿淀粉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84569"/>
                </a:solidFill>
                <a:latin typeface="Verdana"/>
                <a:ea typeface="宋体"/>
              </a:rPr>
              <a:t>辅助检查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：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X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线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B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超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T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其他实验室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5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5F9A0-8BC4-4919-8962-1CBA1F471322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6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DC6D2-82C6-4F4E-93DE-CB7EA748AE61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3.</a:t>
            </a: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血糖监护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严密监测血糖及与血糖改变相关的症状和体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若在排除休克的情况下患者出现出冷汗、旋晕、意识水平下降等，应考虑低血糖反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血糖浓度居高不下或波动太大，最好能每小时监测血糖，根据血糖水平调整外源性胰岛素补充的量及速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9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07C76-C8A5-4438-B0D4-546F8757B311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0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120B1-FD9E-4958-BF9F-67FA9AC2E3DF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4.1 </a:t>
            </a: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感染的控制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0" y="126792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患者应安置于一个环境清洁、相对隔离的单间，保持室内合适的温度及湿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监测患者的体温，高热患者应每小时监测体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监测气道分泌物、尿液、腹腔引流液的性状、气味、颜色及细菌学检查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保持各种引流管道通畅，做好各种管道护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保持引流口及伤口无菌，敷料清洁、干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3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5DB65-2862-4EE5-A546-E65C6AA9D02C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4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CC611-234A-4AC9-B566-740A3E3F32E8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4.2</a:t>
            </a: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感染的控制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142920" y="1071360"/>
            <a:ext cx="925344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进行各种侵入性操作时应严格遵循无菌原则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做好人工气道护理，合理进行人工气道湿化及胸部理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积极治疗各种感染病灶，包括褥疮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改善患者营养，增强机体抵抗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根据药物敏感试验合理使用抗生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7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43ECF-938D-4419-8FF2-7E660EB50FFA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8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2D950-36F0-4422-BDAB-99D386D6F865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5.1</a:t>
            </a: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管道护理</a:t>
            </a:r>
            <a:r>
              <a:rPr b="0" lang="en-US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:SAP</a:t>
            </a: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常见管道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56840" y="1600200"/>
            <a:ext cx="8147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胃管、鼻肠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尿管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气管插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中心静脉置管、血透用股静脉置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腹腔引流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肛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1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03493-EABD-48ED-A4D5-9ED49ED209B1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2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FCEFE-D443-4A53-A72E-1F63D8DF845E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明确标记 ：名称、更换日期，记录长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妥善固定，尤其翻身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保持引流通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保持密闭，严格无菌操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局部皮肤的护理，及时更换敷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准确记录引流物的量及性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4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633CA-D8D7-476C-8227-C200ECB60656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5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CE92F-03BA-4B3E-B756-20E8F384209E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5.2</a:t>
            </a: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管道护理</a:t>
            </a:r>
            <a:r>
              <a:rPr b="0" lang="en-US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:SAP</a:t>
            </a: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常见管道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5c8c"/>
                </a:solidFill>
                <a:latin typeface="Verdana"/>
              </a:rPr>
              <a:t>防移位和滑脱：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记录导管插入深度，在鼻翼和同侧面颊处用宽胶布双固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5c8c"/>
                </a:solidFill>
                <a:latin typeface="Verdana"/>
              </a:rPr>
              <a:t>防堵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每次灌注营养液前后均用温水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0m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冲洗管道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持续输注者应当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6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8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小时冲洗管道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黑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次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未使用者至少每天冲洗管道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黑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8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7715B-673A-46FB-BE1D-57DC0F204EC4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9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E26B3-EC1C-4487-A630-E61C7BAB551B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0" name="标题 1"/>
          <p:cNvSpPr/>
          <p:nvPr/>
        </p:nvSpPr>
        <p:spPr>
          <a:xfrm>
            <a:off x="990720" y="457200"/>
            <a:ext cx="807696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5.3</a:t>
            </a: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管道护理</a:t>
            </a:r>
            <a:r>
              <a:rPr b="0" lang="en-US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:</a:t>
            </a: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鼻空肠管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8a5c8c"/>
              </a:solidFill>
              <a:latin typeface="Verdana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250560" y="1600200"/>
            <a:ext cx="871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保持有效的负压引流，负压宜大，以能吸引出腹腔液体、引流管周围无渗出液为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如见坏死组织堵塞管道，应及时挤压维持通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如有血性液引出，应立即减小负压并通知医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</a:rPr>
              <a:t>密切观察冲洗液与引流液在量上的对比及引流液的量、色、性、味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3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C3CF2-7156-4635-92FB-C61D6519ADB3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4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9B61D-1D1D-42C8-9DCF-8764DE10B804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5" name="标题 1"/>
          <p:cNvSpPr/>
          <p:nvPr/>
        </p:nvSpPr>
        <p:spPr>
          <a:xfrm>
            <a:off x="990720" y="457200"/>
            <a:ext cx="807696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5.4</a:t>
            </a: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管道护理</a:t>
            </a:r>
            <a:r>
              <a:rPr b="0" lang="en-US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:</a:t>
            </a: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腹腔引流管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6</a:t>
            </a: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皮肤完整性受损的危险因素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局部长期受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腹部渗液浸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造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营养不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8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BE3FD-FF51-461A-8705-B442F50589CA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9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F4734-AF4E-44B4-8273-0B572FA7C568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6.1</a:t>
            </a: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皮肤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5c8c"/>
                </a:solidFill>
                <a:latin typeface="Verdana"/>
              </a:rPr>
              <a:t>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加强会阴及肛周的清洁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涂紫草油、鞣酸、皮肤保护膜等进行皮肤保护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留置肛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5c8c"/>
                </a:solidFill>
                <a:latin typeface="Verdana"/>
              </a:rPr>
              <a:t>局部长期受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使用气垫床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定时翻身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水胶体敷料保护受压部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2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282BD-C1C9-49B9-9F1B-08748984CF57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3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31B6E-9402-48FE-A405-BE1163FA9D7A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ddb523"/>
                </a:solidFill>
                <a:uFillTx/>
                <a:latin typeface="Verdana"/>
                <a:ea typeface="宋体"/>
                <a:hlinkClick r:id="rId1" action="ppaction://hlinksldjump"/>
              </a:rPr>
              <a:t>体格检查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视诊：营养情况、皮肤黏膜、腹部外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听诊：肠鸣音、血管杂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触诊：腹部紧张度、有无压痛及反跳痛及其发生部位与程度；肝脾、包块及其性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叩诊：实音、鼓音、移动性浊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7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6217A-5C0D-475C-93E6-A96E55B25D88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41002-12C0-424F-AC58-3EABCBB21E1C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6.2</a:t>
            </a: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皮肤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5c8c"/>
                </a:solidFill>
                <a:latin typeface="Verdana"/>
              </a:rPr>
              <a:t>造瘘：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造口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5c8c"/>
                </a:solidFill>
                <a:latin typeface="Verdana"/>
              </a:rPr>
              <a:t>腹部渗液浸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维持腹腔引流管有效的负压吸引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及时更换浸湿的敷料及床单，清洁皮肤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使用皮肤保护膜等隔离措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5c8c"/>
                </a:solidFill>
                <a:latin typeface="Verdana"/>
              </a:rPr>
              <a:t>营养不良：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营养支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6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FB270-99D8-4CDF-A162-9B29DF69E4F6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7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94940-C001-4591-BD95-F4EA4B1D8753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19" name="矩形 4" descr=""/>
          <p:cNvPicPr/>
          <p:nvPr/>
        </p:nvPicPr>
        <p:blipFill>
          <a:blip r:embed="rId1"/>
          <a:stretch/>
        </p:blipFill>
        <p:spPr>
          <a:xfrm>
            <a:off x="2371680" y="2762280"/>
            <a:ext cx="4363920" cy="113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4e0ec"/>
                </a:solidFill>
                <a:latin typeface="Verdana"/>
              </a:rPr>
              <a:t>消化系统的常见症状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厌食、恶心呕吐、嗳气与反酸、咽下困难、胸骨或剑突下烧灼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腹胀、腹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腹泻与粪便性状、便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呕血、便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皮肤与巩膜黄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84303-0FC1-4253-90DC-87A0302C9EF3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A4F5D-CE21-4A04-8626-091262EE1FA8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微软用户</cp:lastModifiedBy>
  <cp:lastPrinted>1899-12-30T00:00:00Z</cp:lastPrinted>
  <dcterms:modified xsi:type="dcterms:W3CDTF">2015-08-30T18:30:58Z</dcterms:modified>
  <cp:revision>87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