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414E97-1B61-47FA-ACA4-AC168B32D10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3C459A-CB3B-4600-82E9-00B821DA5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13A85E-2D2E-4FAB-B02E-8FF7A637B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4A6F94-73E6-498C-AB1F-6C157BD69AF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24F800-30DF-4F25-B758-680C6A889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78740E-3F98-4F13-92D9-D9027FB3C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16C228-FA67-4F2B-9376-73A5A1CA4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256F96-A2E4-4456-8FFC-D6B6C729C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077857-2F92-4FEE-A48D-B9EAABE8D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AD557F-8C9E-49E2-B79A-BDFAFD0C1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6195D9-3871-4F02-8705-A18978DE2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08BFF6-FB96-4EDE-87E4-B931232FC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A324F-B180-48CC-90A6-73A44CCF0ED6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4000" y="2276640"/>
            <a:ext cx="5184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二十二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细菌与病毒感染的实验室检查与防治原则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TextBox 2"/>
          <p:cNvSpPr/>
          <p:nvPr/>
        </p:nvSpPr>
        <p:spPr>
          <a:xfrm>
            <a:off x="2653200" y="492912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首都医科大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  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朱俊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病毒感染的药物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755280" y="1773000"/>
            <a:ext cx="828036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病毒化学药物作用机制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阻断病毒包膜与细胞膜融合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T20-HI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阻断病毒脱壳（金刚烷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甲型流感病毒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阻断病毒核酸合成（阿昔洛韦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疱疹病毒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阻断病毒前体蛋白裂解（英地那韦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HI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阻断病毒释放（达菲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流感病毒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病毒感染的药物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763640" y="1844280"/>
            <a:ext cx="633744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干扰素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interferon,IFN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广谱抗病毒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病毒基因制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天然药物（中草药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思考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1331640" y="2708280"/>
            <a:ext cx="713412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细菌与病毒感染的实验室检查原则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菌药物的临床应用原则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Verdana"/>
                <a:ea typeface="黑体"/>
              </a:rPr>
              <a:t>第一节 细菌与病毒感染的实验室检查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41160" y="1864800"/>
            <a:ext cx="8034120" cy="365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标本采集：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无菌操作，避免污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适宜的采集时间和采集部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疾病早期和使用抗生素之前采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注意事项：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冷藏速送（奈瑟菌除外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及时检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详细登记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病原菌及其结构成分检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641160" y="1864800"/>
            <a:ext cx="8034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病原菌检测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直接涂片镜检（形态、染色有特征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分离培养（选择、鉴别培养基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生化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血清学实验（诊断血清查未知抗原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药敏试验（指导临床用药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动物实验（细菌毒力和致病性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毒力检测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ID5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LD5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809640" y="2092320"/>
            <a:ext cx="7794720" cy="248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病原菌结构成分检测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检测抗原（玻片凝集、协同凝集、酶免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技术和荧光免疫技术等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检测核酸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PCR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等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病原菌及其结构成分检测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病毒体及其结构成分检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880920" y="1865160"/>
            <a:ext cx="7723440" cy="422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病毒体检测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镜检（光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CPE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；电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病毒颗粒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分离培养与鉴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细胞培养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PFU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TCID5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鸡胚培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动物接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病毒体及其结构成分检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880920" y="1865160"/>
            <a:ext cx="7723440" cy="422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细胞培养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原代细胞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疫苗制备、病毒分离、科学研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二倍体细胞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疫苗制备、科学研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传代细胞系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科学研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鸡胚培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疫苗制备（流感病毒）、病毒分离、科学研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病毒体及其结构成分检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92200" y="2092320"/>
            <a:ext cx="8083440" cy="270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病毒体结构成分检测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检测抗原（特异性抗体查抗原；酶免疫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和荧光免疫技术等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检测核酸（核酸分子杂交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PCR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等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二节 细菌与病毒感染的防治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539280" y="2492280"/>
            <a:ext cx="860436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抗菌药物作用机制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抑制细胞壁合成（青霉素类、头孢类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损伤细胞膜（多黏菌素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抑制蛋白质合成（氯霉素、链霉素等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抑制核酸合成（磺胺类、吡哌酸等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矩形 5"/>
          <p:cNvSpPr/>
          <p:nvPr/>
        </p:nvSpPr>
        <p:spPr>
          <a:xfrm>
            <a:off x="3385800" y="17733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细菌感染的药物治疗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细菌感染的药物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矩形 4"/>
          <p:cNvSpPr/>
          <p:nvPr/>
        </p:nvSpPr>
        <p:spPr>
          <a:xfrm>
            <a:off x="2050920" y="1989000"/>
            <a:ext cx="4681800" cy="29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临床应用抗菌药物原则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合理选择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剂量适当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交替用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联合用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mingzhe</cp:lastModifiedBy>
  <dcterms:modified xsi:type="dcterms:W3CDTF">2015-08-26T05:47:05Z</dcterms:modified>
  <cp:revision>103</cp:revision>
  <dc:subject/>
  <dc:title>内科护理学</dc:title>
</cp:coreProperties>
</file>