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19.xml" ContentType="application/vnd.openxmlformats-officedocument.presentationml.comments+xml"/>
  <Override PartName="/ppt/comments/comment23.xml" ContentType="application/vnd.openxmlformats-officedocument.presentationml.comments+xml"/>
  <Override PartName="/ppt/comments/comment37.xml" ContentType="application/vnd.openxmlformats-officedocument.presentationml.comments+xml"/>
  <Override PartName="/ppt/comments/comment35.xml" ContentType="application/vnd.openxmlformats-officedocument.presentationml.comments+xml"/>
  <Override PartName="/ppt/comments/comment3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ang Dong" initials="PD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5-04-24T09:22:52.912000000" idx="1">
    <p:pos x="5649" y="2223"/>
    <p:text>适当把文本框加宽，让一句话尽量在一行内出现</p:text>
  </p:cm>
</p:cmLst>
</file>

<file path=ppt/comments/comment23.xml><?xml version="1.0" encoding="utf-8"?>
<p:cmLst xmlns:p="http://schemas.openxmlformats.org/presentationml/2006/main">
  <p:cm authorId="0" dt="2015-04-24T09:23:39.286000000" idx="2">
    <p:pos x="5346" y="2681"/>
    <p:text>这种情况下，尽量把术后护理另起一页</p:text>
  </p:cm>
</p:cmLst>
</file>

<file path=ppt/comments/comment35.xml><?xml version="1.0" encoding="utf-8"?>
<p:cmLst xmlns:p="http://schemas.openxmlformats.org/presentationml/2006/main">
  <p:cm authorId="0" dt="2015-04-24T09:25:10.281000000" idx="3">
    <p:pos x="1241" y="886"/>
    <p:text>删除编号</p:text>
  </p:cm>
</p:cmLst>
</file>

<file path=ppt/comments/comment36.xml><?xml version="1.0" encoding="utf-8"?>
<p:cmLst xmlns:p="http://schemas.openxmlformats.org/presentationml/2006/main">
  <p:cm authorId="0" dt="2015-04-24T09:25:45.776000000" idx="4">
    <p:pos x="1137" y="886"/>
    <p:text>删除编号</p:text>
  </p:cm>
</p:cmLst>
</file>

<file path=ppt/comments/comment37.xml><?xml version="1.0" encoding="utf-8"?>
<p:cmLst xmlns:p="http://schemas.openxmlformats.org/presentationml/2006/main">
  <p:cm authorId="0" dt="2015-04-24T09:25:29.547000000" idx="5">
    <p:pos x="1241" y="886"/>
    <p:text>删除编号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3D57-B0C0-4BBE-8355-3C5F2D710F6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8AB4-0AC2-4720-9152-4098664DA12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FD86-1B5C-41CE-90F0-224F70F6D67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0DA4-C33B-4C4A-84FB-E166782557D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C94D-8A5F-44B2-83B1-6F5405A8B97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13BF-C837-46B6-971B-A717A70E68C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741C-D964-4182-B995-AC3DA600292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6F23-02EE-408E-AAEF-C1E3C63D3C4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AA8C-733D-493B-B540-8ACF800E6A9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6336-3301-4518-A22D-038FC619E55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EA66-31C1-4554-9ABC-ED4A1D5F4F2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35F1-E64C-4FB5-804D-81AE3F16A82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CC43-06C4-43E6-A427-67E126BF147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98E0-277A-44E8-A9DD-CC6A4EFDB1E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E07A-9798-4DBC-87B7-17FE60BADA0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5740-8F72-41B9-9568-5ACF7FD9D30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B200-9732-436A-9A79-7C262040DE5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149BD-AA72-43FE-AF4D-52F5AB2838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3F9FF-64C1-4750-B272-7CD77D85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16044-1CEF-4DE8-B7EA-6E23563D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DD47-D2A0-4766-8187-FD1B80F61C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5BB6-0866-42B6-94DD-F7797B5F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0B39A-12CA-4F73-B540-C2AA5F2D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B3743-3CE7-476B-A197-A9EF2AE2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6FF2-6780-4202-A7D4-98622276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5985C-39DD-42BA-81A1-4E75BA8B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3159-BCC7-4FB2-AA83-62DAD3F8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3F51B-254C-4D10-83A4-BBB12B80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2694-EAAB-4A87-BCDA-E18F2B11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7F6F-090C-4040-8DF8-EFBB405CA3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6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7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房疾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热敷、药物外敷或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温和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抗生素，高热者给予物理或药物降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切开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通畅，注意观察引流液的颜色、性质和量的变化，及时更换浸湿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乳头凹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养成良好哺乳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发现右乳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右乳房外上方可见一个局部皮肤凹陷，右侧乳头略高于左侧乳头。右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部位可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×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不易推动，与乳房皮肤无粘连，无乳头溢液。右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×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，表面光滑，可活动，质地较硬。左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右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×1.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肿块影，边缘有细小毛刺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：浸润性低分化导管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瘦、乏力、贫血、发热等恶病质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早期发现乳腺癌最有效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确定肿块性质最可靠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发病的相关因素、临床表现、治疗原则和预防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乳腺癌发病的相关因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乳腺囊性增生症的病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房疾病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、多疗程、联合化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于保留乳房的乳腺癌手术后患者更是重要的治疗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分泌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乳腺癌，在经历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疗程的术前化疗后，肿块明显缩小，现拟行右乳腺癌改良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术后患侧上肢活动受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加压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引流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脱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1196640"/>
            <a:ext cx="41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范围关节活动包括手臂摇摆运动、爬墙运动、划圈运动、滑轮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92440" cy="4545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265720" y="5886360"/>
            <a:ext cx="2817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上臂全范围关节活动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视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是乳腺实质的良性增生性疾病，多见于中年女性。本病与卵巢功能失调引起的激素分泌紊乱有关，造成乳腺实质增生过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限性乳腺囊性增生症患者，应在月经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内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部病灶有恶性病变可能时，应尽早手术切除肿块并做病理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腺体增生及雌激素水平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用宽松胸罩托起乳房，以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观察病情变化，定期进行乳房自我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主要为乳汁淤积和细菌入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以乳房局部红肿热痛为主。随着炎症发展，疼痛变为搏动性，后期炎症病灶可发展为乳房脓肿。患者可有全身感染中毒表现，常伴有患侧腋窝淋巴结肿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控制感染，排空乳汁，脓肿形成后应切开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减轻疼痛，降温和控制感染。做好脓肿切开引流护理。预防的关键是纠正乳头凹陷，养成良好哺乳习惯，并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 病因不明，相关因素有内分泌、饮食、遗传、环境和生活方式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 早期表现为单发乳房肿块，无痛、质硬、活动度差、边界不清。可有乳房外形改变。淋巴转移常导致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术前应关注患者的心理反应。术后注意观察伤口及引流情况，及时发现出血、患侧上肢水肿、皮瓣下积液、皮瓣坏死等并发症，加强患侧上肢功能锻炼，恢复患者的自理能力。另外，应指导健康女性以及患者进行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内分泌失调引起乳腺实质过度增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乳房周期性胀痛和乳房肿块为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解释说明，消除患者心理顾虑。减轻乳房胀痛。遵医嘱服用药物。定期检查和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  ：乳房胀痛，有压痛性肿块，常伴有患侧腋窝淋巴结肿大和触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：寒战、高热、脉搏加快、食欲下降等全身感染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哺乳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过小或凹陷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汁过多或婴儿吸乳过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烦躁、焦虑，并有挫败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空乳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脓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房炎症、肿胀、脓肿切开引流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或细菌毒素进入血液循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围产期乳房保健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52:08Z</dcterms:modified>
  <cp:revision>97</cp:revision>
  <dc:subject/>
  <dc:title>内科护理学</dc:title>
</cp:coreProperties>
</file>