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60812-155E-4738-979C-D5DAFF2F1D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AA33A-9640-4110-AC32-83E6F3D9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A3347-ADAB-44B0-BD5E-0BD70138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736FF-ABBD-4462-9CD3-BF85C4739D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D2127-444B-4F48-B477-5AD880CD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EF1B7-28DF-4F80-91AC-40A72E63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95696-7FDF-49FB-A88B-BDA4DCEB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23998-127D-45FE-B585-C4C2C2CFF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9CCBD-8F88-4ED2-8B74-0DF6653D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B2435-EE19-4395-8CDD-FB91DF7B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43831-96DF-486D-AA5D-A6BEDE49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A71E0-D59F-48E2-8454-78BB7221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AB4C-13AA-482F-A0F8-9B1EF0C5AA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6920" y="2276640"/>
            <a:ext cx="741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五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腰椎间盘突出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注射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髓核切吸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979640" y="1828800"/>
            <a:ext cx="5662440" cy="3255840"/>
          </a:xfrm>
          <a:prstGeom prst="rect">
            <a:avLst/>
          </a:prstGeom>
          <a:ln w="0">
            <a:noFill/>
          </a:ln>
        </p:spPr>
      </p:pic>
      <p:sp>
        <p:nvSpPr>
          <p:cNvPr id="141" name="矩形 6"/>
          <p:cNvSpPr/>
          <p:nvPr/>
        </p:nvSpPr>
        <p:spPr>
          <a:xfrm>
            <a:off x="3912120" y="5219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盆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腰椎间盘突出症，拟进行非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非手术治疗期间主要的护理措施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椎间盘压迫和刺激神经根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腰背部疼痛、医嘱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肉萎缩、神经根粘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和理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身起床和卧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翻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保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脊髓受压者应戴围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直至神经压迫症状解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常生活中的正确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良好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变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腰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腰背肌力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892920" cy="3816360"/>
          </a:xfrm>
          <a:prstGeom prst="rect">
            <a:avLst/>
          </a:prstGeom>
          <a:ln w="0">
            <a:noFill/>
          </a:ln>
        </p:spPr>
      </p:pic>
      <p:sp>
        <p:nvSpPr>
          <p:cNvPr id="163" name="矩形 4"/>
          <p:cNvSpPr/>
          <p:nvPr/>
        </p:nvSpPr>
        <p:spPr>
          <a:xfrm>
            <a:off x="3590280" y="5148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腰背肌锻炼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腰椎间盘突出症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腰椎间盘突出症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腰椎间盘突出症患者出现腰腿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腰椎间盘突出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最常见为腰痛，可有神经源性间歇性跛行，大多数患者有坐骨神经痛，部分患者有马尾综合征。体检可有直腿抬高试验和加强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绝大部分患者经非手术治疗都可治愈，严重者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做好卧床、牵引患者护理。术后重点观察预防伤口血肿和神经根粘连等并发症，恢复期注意保护腰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是指由于椎间盘变性、纤维环破裂和髓核突出，刺激或压迫神经根或马尾神经所引起的一种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腿痛最常见的原因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建筑工人，既往体健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前弯腰搬重物时突然出现腰背部疼痛，平卧休息后好转，弯腰时加重。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腰部疼痛加剧并向左下肢放射。遂来医院就诊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弯腰活动受限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棘突上和棘突间有压痛。直腿抬高试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体间隙变窄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痛：最常见，且多在发病早期即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坐骨神经痛：典型表现是疼痛从下腰部向臀部、大腿后方和小腿外侧放射，直至足背或足外侧，并可伴麻木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马尾神经受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侧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痛及骶棘肌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腿抬高试验及加强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04640" y="1916280"/>
            <a:ext cx="4096080" cy="295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4572000" y="1811160"/>
            <a:ext cx="4168800" cy="3057840"/>
          </a:xfrm>
          <a:prstGeom prst="rect">
            <a:avLst/>
          </a:prstGeom>
          <a:ln w="0">
            <a:noFill/>
          </a:ln>
        </p:spPr>
      </p:pic>
      <p:sp>
        <p:nvSpPr>
          <p:cNvPr id="124" name="矩形 4"/>
          <p:cNvSpPr/>
          <p:nvPr/>
        </p:nvSpPr>
        <p:spPr>
          <a:xfrm>
            <a:off x="3074400" y="5003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脊柱侧凸与缓解神经根受压的关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108760" cy="3745080"/>
          </a:xfrm>
          <a:prstGeom prst="rect">
            <a:avLst/>
          </a:prstGeom>
          <a:ln w="0">
            <a:noFill/>
          </a:ln>
        </p:spPr>
      </p:pic>
      <p:sp>
        <p:nvSpPr>
          <p:cNvPr id="128" name="矩形 4"/>
          <p:cNvSpPr/>
          <p:nvPr/>
        </p:nvSpPr>
        <p:spPr>
          <a:xfrm>
            <a:off x="3349440" y="54356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直腿抬高试验与加强试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6:47Z</dcterms:modified>
  <cp:revision>110</cp:revision>
  <dc:subject/>
  <dc:title>内科护理学</dc:title>
</cp:coreProperties>
</file>