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A162D-373A-41AB-AA6F-F78F52E3C5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87BDF-2E2D-4768-9493-CDEE350B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6BEAB-5AC7-4B3E-A94F-87E3441C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9879D-829F-4F5F-8D9E-543062B08F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EEA21-79F0-4518-9670-B29F647E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A555F-9A74-47CB-90C8-7413C095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8055D-30C8-4F50-9BA4-3D7E33A0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C453D-4858-4501-A954-C2A05986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0912E-E68C-4ECF-9662-8157A685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C6823-C8CA-4A7D-A24E-5DEB9A8D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E4011-4CD3-484F-A855-6AD1623F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AB9D6-E678-4B4D-929E-FA2D79FE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3DEC-12A1-48E4-AF11-319F024E5E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286000"/>
            <a:ext cx="671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一章  泌尿系统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癌，拟行根治性肾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对癌症和手术的恐惧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umor of bladd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泌尿系统最常见的肿瘤。好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性多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的危险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癌物质的长期接触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胱慢性感染与异物长期刺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大量服用镇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发现全程无痛肉眼血尿伴血凝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吸烟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镜检查：膀胱三角区有一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凸出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：是膀胱癌最常见和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无明显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膀胱癌最重要的检查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肾癌、膀胱癌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括肾癌、膀胱癌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肾癌、膀胱癌的处理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泌尿系统肿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尿道膀胱肿瘤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bladder tum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B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是所有膀胱肿瘤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部分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膀胱全切术：是膀胱浸润性癌的基本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肿瘤预后不良、害怕手术、担心如厕方式改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 与膀胱全切术后尿流改道、存在造瘘口或引流装置以及不能主动排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感染、尿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膀胱癌，拟行根治性膀胱全切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壁造瘘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手术后，面对排尿方式的改变应如何做好护理工作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患者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位新膀胱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吸烟、肥胖、职业接触、遗传因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血尿、疼痛和肿块，被称为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以手术治疗为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护理应注意心理护理和营养支持护理；术后护理包括安置适当体位、病情观察、饮食与营养、引流管的护理、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职业接触、吸烟、膀胱慢性感染、异物长期刺激、长期大量服用镇痛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全程无痛肉眼血尿，血尿常间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以手术治疗为主，辅以化疗和放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包括心理护理、饮食与营养、肠道准备、造瘘患者准备。术后护理包括观察病情、饮食与营养、膀胱冲洗、代膀胱冲洗、造瘘口护理、引流管的护理、并发症的观察与护理和膀胱灌注化疗的护理。另外，还要做好健康教育促进患者适应术后生活、防止癌症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肾腺癌或肾细胞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ell carcinoma, RC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占成人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发病高峰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女之比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明显的种族差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血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8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8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腹壁软，无压痛、反跳痛，肠鸣音正常，无移动性浊音，余未见异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：右肾上极有一个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、疼痛和肿块：即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癌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增大，消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0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查肾肿瘤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肿瘤最可靠的影像学诊断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年龄和性别、职业、吸烟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和肥胖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家族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相关疾病史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用药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肾切除术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癌最主要的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肾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8:01Z</dcterms:modified>
  <cp:revision>112</cp:revision>
  <dc:subject/>
  <dc:title>内科护理学</dc:title>
</cp:coreProperties>
</file>