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7B0CAE-2CE7-488A-9CCF-08D9F3D0A95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674EAE-190C-49FA-BB25-0CA8B2B5F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EC2435-539D-4C54-8481-09B85CFF8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2599FA-94E6-48ED-92DB-ACC6C26D719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C4BF8C-FEEE-4403-A790-8F81B1E55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99BDF6-C469-4679-91E8-03F148F36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E1A552-AB2A-428A-9C41-7C9D884C4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83610A-3178-4B56-9D62-CA817B0A3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C170FB-EF98-4B15-BD87-4F45C59E9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33224E-F310-4DF5-B4BF-8C166F334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0B2079-984D-40FC-A8DC-562061354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0B8B5E-6BBF-4FD7-BE91-313E68D20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51D6F-0116-4FA1-B97E-A248F46FE32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35280" y="2276640"/>
            <a:ext cx="6192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三十三章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关节脱位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3-1 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左髋关节脱位合并髋臼骨折，入院后行左髋关节切开复位内固定术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①该患者手术后如何进行患肢固定？②如何进行功能锻练指导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 与关节脱位引起局部组织损伤及神经受压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进食、卫生、如厕）自理缺陷 与关节脱位后功能障碍、疼痛、制动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血管、神经损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653760" indent="-25128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653760" indent="-25128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653760" indent="-25128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妥善的复位和固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653760" indent="-25128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缓解疼痛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05840" indent="-20088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除疼痛刺激源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05840" indent="-20088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般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05840" indent="-20088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物理止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05840" indent="-20088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药物止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653760" indent="-25128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活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指导正确的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肩关节脱位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肩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肩关节脱位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islocation of shoulder join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占全身关节脱位的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0%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以上，常合并肱骨大结节撕脱性骨折，严重者可合并肩袖的撕裂及臂丛神经损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肩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83880" y="1413000"/>
            <a:ext cx="90961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伤侧肩部疼痛，周围软组织肿胀，主动和被动活动受限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肩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83880" y="1413000"/>
            <a:ext cx="90961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方肩”畸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上臂有明显的外展内旋畸形，并弹性固定于畸形位置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关节盂空虚，在空虚的关节盂外可触及肱骨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搭肩试验阳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肩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RI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和性别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外伤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既往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肩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法复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切开复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举关节脱位的病因、分类、概念、临床表现和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描述肩关节、肘关节、髋关节脱位的临床表现和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举例说明常见关节脱位患者患肢功能锻炼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关节脱位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肩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7" name="Picture 2" descr="图32-1 手牵足蹬法"/>
          <p:cNvPicPr/>
          <p:nvPr/>
        </p:nvPicPr>
        <p:blipFill>
          <a:blip r:embed="rId1"/>
          <a:srcRect l="0" t="0" r="2463" b="0"/>
          <a:stretch/>
        </p:blipFill>
        <p:spPr>
          <a:xfrm>
            <a:off x="1619280" y="1413000"/>
            <a:ext cx="6316560" cy="4292640"/>
          </a:xfrm>
          <a:prstGeom prst="rect">
            <a:avLst/>
          </a:prstGeom>
          <a:ln w="0">
            <a:noFill/>
          </a:ln>
        </p:spPr>
      </p:pic>
      <p:sp>
        <p:nvSpPr>
          <p:cNvPr id="158" name="矩形 4"/>
          <p:cNvSpPr/>
          <p:nvPr/>
        </p:nvSpPr>
        <p:spPr>
          <a:xfrm>
            <a:off x="3495240" y="533700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手牵足蹬法复位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肩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与护理措施参见本章第一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肘关节脱位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肘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肘关节脱位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islocation of elbow join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肘部常见的损伤，多为运动损伤，脱位容易合并周围骨折和神经血管损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由间接暴力所引起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根据脱位的方向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后脱位、侧方脱位、前脱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肘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肘关节局部肿胀、疼痛，伸屈活动受限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肘关节后脱位，肘后方空虚，鹰嘴向后突出明显；侧方脱位时，肘部呈现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肘内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翻或外翻畸形，肘后三角关系改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肘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确定肘关节脱位的方向、有无合并骨折，检查肘关节脱位整复后的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外伤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肘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位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新鲜肘关节脱位主要治疗方法为手法复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肘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与护理措施参见本章第一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髋关节脱位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髋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髋关节脱位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islocation of hip join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约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0%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同时合并有骨折。髋关节脱位多由间接暴力引起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835280" y="2276640"/>
            <a:ext cx="5689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 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概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述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髋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髋关节疼痛、肿胀、活动受限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 不同方向的脱位体征有所区别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前脱位：患肢轻度屈髋，明显外旋、外展畸形。偶尔可引起股动、静脉的压迫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后脱位：患肢呈屈曲、内收、内旋及短缩畸形，臀部可触及向后上方突出的股骨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髋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确定髋关节脱位的方向、有无合并髋臼或股骨头骨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了解关节内有无残留的骨软骨碎片及有无髋臼骨折等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髋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和性别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外伤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髋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179280" y="1371240"/>
            <a:ext cx="8731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法复位：新鲜髋关节脱位，应立即实施手法复位。最常用的方法是提拉法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Allis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法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切开复位：闭合复位失败、陈旧性脱位采用手术切开复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髋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6" name="Picture 2" descr="图32-2 Allis法"/>
          <p:cNvPicPr/>
          <p:nvPr/>
        </p:nvPicPr>
        <p:blipFill>
          <a:blip r:embed="rId1"/>
          <a:stretch/>
        </p:blipFill>
        <p:spPr>
          <a:xfrm>
            <a:off x="1908000" y="1557360"/>
            <a:ext cx="5322960" cy="4363920"/>
          </a:xfrm>
          <a:prstGeom prst="rect">
            <a:avLst/>
          </a:prstGeom>
          <a:ln w="0">
            <a:noFill/>
          </a:ln>
        </p:spPr>
      </p:pic>
      <p:sp>
        <p:nvSpPr>
          <p:cNvPr id="197" name="矩形 4"/>
          <p:cNvSpPr/>
          <p:nvPr/>
        </p:nvSpPr>
        <p:spPr>
          <a:xfrm>
            <a:off x="3681720" y="5537160"/>
            <a:ext cx="106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Allis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法复位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髋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与护理措施参见本章第一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282240" y="1360080"/>
            <a:ext cx="8682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关节脱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 与创伤、关节的疾病因素、关节先天性发育不良和习惯性脱位有关，创伤是最常见的发生原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关节部位疼痛、肿胀、功能障碍，局部畸形、弹性固定和关节盂空虚。肩关节脱位后呈“方肩”畸形，上臂有明显的外展内旋畸形，搭肩试验阳性；肘关节脱位肘后三角关系改变，肘关节弹性固定于半伸直位；髋关节后脱位患肢呈屈曲、内收、内旋及短缩畸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282240" y="1360080"/>
            <a:ext cx="8682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关节脱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 复位，以手法复位为主；固定；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 护士要关注患者的心理反应。妥善复位和固定。观察患肢末梢皮肤颜色、温度、肿胀情况、感觉和运动情况等有无异常。加强术后切口观察护理。缓解患者疼痛和保持皮肤完整性，促进舒适。指导患者正确的功能锻炼，恢复自理能力。向患者或家属讲解关节脱位的相关知识，使其了解并主动配合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关节脱位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islocation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指由于暴力作用于关节，或关节遭到病理性改变，使组成关节各骨关节面失去正常的对合关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失去部分正常对合关系的称半脱位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ubluxation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3-1 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女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因车祸伤导致左髋部疼痛、肿胀、畸形和功能障碍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检：左下肢呈屈曲、内收、内旋及短缩畸形，臀部可触及向后上方突出的股骨头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检查：左髋关节脱位合并髋臼骨折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般症状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关节处疼痛和压痛，局部肿胀，关节失去正常活动功能，出现功能障碍表现为关节疼痛、肿胀、局部压痛及功能障碍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特有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畸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弹性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关节盂空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RI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外伤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关节相关疾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先天性关节异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关节脱位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位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位方法包括手法复位和手术切开复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11:12:47Z</dcterms:modified>
  <cp:revision>114</cp:revision>
  <dc:subject/>
  <dc:title>内科护理学</dc:title>
</cp:coreProperties>
</file>