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45690-C259-4A51-8611-99152EEF8A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7645E-A539-4446-9148-7CA2A4D1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8C269-DDE4-431A-B7AF-CEBB45D4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EDC72-E537-44CF-81F8-85D2E25216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09BE9-494E-4D0A-B250-420A4262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6CF6B-9D50-4AE4-9A38-99FA78C0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48BAF-16C4-434C-B838-FFFE020E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8CE49-14BE-49FE-B8A5-EB579DFF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8BBF4-D787-43B9-BB97-8CDB5945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4A536-B14C-419F-BD70-D0740D53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152CB-C4CA-462A-B43B-BB7A847E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C8EA4-2742-415A-9FE5-1B895C07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5314-EB6B-4E87-868C-79761E5D006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外科护理学的定义及范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外科护理学与外科学的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正确的方法学习外科护理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内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及外科护理学的范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和外科护理学的发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学习外科护理学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同一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13:28Z</dcterms:modified>
  <cp:revision>88</cp:revision>
  <dc:subject/>
  <dc:title>内科护理学</dc:title>
</cp:coreProperties>
</file>