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5075F-B470-4E69-804F-2EB09F0262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59769-38BB-4BE3-B3F6-5D1085505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BF00C-DBC2-4163-8F4A-9EDC1F0D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4F057-A385-42BF-A8FA-F84E76F5BA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23730-A65C-4868-83F2-7EC79EAA5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FFD66-30B0-4919-B56A-A785E0D35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6CD06-0CA0-49C9-BAB0-2AC4F77E4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1A7AB-1FBD-40B5-9BF9-8912F993F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B39DF-9B68-45FF-A464-3D5B09382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0168F-7788-4657-ADAB-840E28BB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2F408-11A6-46EA-8EE9-AEA321DF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0B62D-F884-4CC6-885D-01588D696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4A0B1-DDA1-4B7A-9BD3-73A9322E02A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六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脓胸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诊断为双侧急性脓胸，入院后行双侧胸膜腔闭式引流，并给予抗炎、补液治疗，每天行胸膜腔冲洗。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后，胸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显示胸膜腔积液消失，患者痊愈出院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的护理要点有哪些？②如何对该患者进行健康教育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炎症刺激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脓液积聚压迫肺组织、胸廓及肺扩张受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升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膜腔感染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缓解疼痛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呼吸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吸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协助医师进行胸膜腔穿刺抽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监测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有效呼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训练呼吸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解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与活动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03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慢性脓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hronic empye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的病程长达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，可由急性脓胸发展而来，也可因脓腔内异物存留或与胸膜腔毗邻的慢性病灶而形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出现低热、乏力、消瘦、贫血、低蛋白血症等慢性消耗症状；有时可伴气促、咳嗽、咳脓痰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廓内陷，呼吸运动减弱，肋间隙变窄，支气管及纵隔偏向患侧；听诊呼吸音减弱或消失；可有杵状指（趾）、脊柱侧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患者全身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灭脓腔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恢复肺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脓胸、局限性脓胸、全脓胸、脓气胸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急性脓胸、慢性脓胸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急性脓胸与慢性脓胸的临床表现、治疗原则、护理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脓胸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脓液积聚压迫肺组织、胸廓运动受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营养摄入不足、代谢增加、消耗增加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膜腔内出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反常呼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引流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胸膜腔内出血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者需采取正直姿势，坚持练习头部前后左右回转运动，练习上半身的前屈运动及左右弯曲运动，使之恢复到健康时的活动水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行呼吸功能训练和有氧运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脓胸主要继发于肺部感染；慢性脓胸可由急性脓胸发展而来，也可因脓腔内异物存留或与胸膜腔毗邻的慢性病灶而形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表现为体温升高、呼吸急促、食欲减退、胸痛、乏力、呼吸运动减弱等。急性脓胸肋间隙饱满，叩诊呈浊音；慢性脓胸胸廓内陷，肋间隙变窄，支气管及纵隔偏向患侧，可有杵状指（趾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控制感染，改善全身情况，排出胸膜腔脓液，必要时手术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  加强营养，改善呼吸功能，做好胸膜腔闭式引流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因结核性胸膜炎突发高热、气促、咳脓痰，在当地医院治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未见好转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8.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9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20/85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疲乏无力，精神不振，右侧胸腔叩诊呈浊音，听诊呼吸音减弱、大量痰鸣音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：右侧胸膜腔大量积液，纵隔左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右侧胸膜腔穿刺抽出脓性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诊断为结核性脓胸，给予抗结核治疗，并抽取积液，行胸膜腔冲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合作性问题是什么？如何改善患者的呼吸功能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8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存在“体温过高：与感染有关”；右侧胸膜腔大量积液，呼吸音减弱，存在“气体交换障碍：与脓液压迫肺组织有关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患者的呼吸功能：协助患者取半坐卧位，以利于患者呼吸；给患者吸氧，氧流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~4L/mi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鼓励患者咳嗽、咳痰，痰液粘稠不易咳出时行雾化吸入，以促进痰液排出；协助医师进行胸膜腔穿刺抽脓和冲洗，以排出脓液，降低胸膜腔内的压力，促进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脓胸多为继发性感染，主要的原发病灶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纵隔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膈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肝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脓胸的临床表现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热、脉快、呼吸急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闷、咳嗽、咳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侧呼吸运动减弱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叩诊呈鼓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听诊呼吸音减弱或消失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慢性脓胸的病程一般长达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A    2. D   3. E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03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脓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empye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多为继发性感染，主要的原发病灶是肺部，少数是胸内和纵隔内其他脏器或身体其他部位感染病灶。常见致病菌为金黄色葡萄球菌和革兰阴性杆菌；结核分枝杆菌和真菌少见。若为厌氧菌感染，则称为腐败性脓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脓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empye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多为继发性感染，主要的原发病灶是肺部，少数是胸内和纵隔内其他脏器或身体其他部位感染病灶。常见致病菌为金黄色葡萄球菌和革兰阴性杆菌；结核分枝杆菌和真菌少见。若为厌氧菌感染，则称为腐败性脓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因高热、胸痛、呼吸困难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入院。入院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因饮酒后呕吐物误吸入肺内导致肺内感染，持续高热、寒战，静滴抗生素无效，并出现胸痛、呼吸困难、咳嗽、咳黄色脓臭痰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9.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1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00/7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神清合作，表情痛苦，呼吸运动减弱，肋间隙饱满，叩诊呈鼓音，听诊呼吸音减弱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双侧胸膜腔大量积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常规：白细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4.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中性粒细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8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膜腔穿刺：抽出黄色脓液。脓液细菌培养为金黄色葡萄球菌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问题：如何对该患者进行护理评估？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有高热、脉快、呼吸急促、食欲减退、胸痛及全身乏力等不适，积脓较多者尚有胸闷、咳嗽、咳痰等症状，甚至发绀和休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侧呼吸运动减弱，肋间隙饱满，叩诊呈浊音，听诊呼吸音减弱或消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排尽胸膜腔积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支持疗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03:11Z</dcterms:modified>
  <cp:revision>87</cp:revision>
  <dc:subject/>
  <dc:title>内科护理学</dc:title>
</cp:coreProperties>
</file>