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717A-DF3B-41F7-8CC4-5915A11C10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936FA-BF43-4417-ABCF-22CDE67A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A3F0-17B4-4E99-9104-7005C9AB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E55FC-C88F-44FB-A9C5-2A2ECCF03D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6A9A1-9048-41AF-BE04-312DD9BB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44BA6-29CB-4601-AA8F-9306D5EC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5CBC-3F89-490D-94D3-58E26134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0DA65-398F-4B31-B918-99B919A2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F8EA0-E8B3-46E0-82BC-6812D9A7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0B52-4BF9-4B27-A997-89F97E76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0F3D6-C9C4-4A49-88C3-E62C40B7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15EF5-CFC7-4314-920A-FDB8EF81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6979-992D-416E-BEAD-D814DA482D4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过度换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施行手术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键在于早期发现和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入院后即给予降压、降颅压等治疗。入院后第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患者出现烦躁不安、频繁呕吐、血压升高、脉搏呼吸缓慢，双侧瞳孔不等大，对光反射迟钝，呈浅昏迷状态，立即行颅骨钻孔血肿穿刺引流术，术后给予降压、降颅压、预防感染、脑保护、营养支持等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可能出现了什么问题？为防止颅内压升高应加强哪些护理措施？②颅骨钻孔血肿穿刺引流术后的护理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组织灌注量改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血流量持续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颅内压增高引起剧烈呕吐及应用脱水剂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意识障碍、视力障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疝形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限制入液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防止颅内压骤然升高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剧烈咳嗽和便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躁动的处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过度换气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冬眠低温疗法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温环境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冬眠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慢复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室引流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引流通畅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引流液的量、颜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引流速度的调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持续引流中的故障及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并发症的监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的拔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分流术后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疝急救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意识、瞳孔、呼吸、心搏的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作好术前特殊检查及术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腔内容物体积增加如脑组织水肿、脑充血和脑积水，颅内出现异常如血肿、肿瘤和脓肿，颅腔容积变小如狭颅畸形、广泛的颅骨凹陷性骨折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头痛、呕吐、视神经盘水肿为颅内压增高三主征。注意脑疝迹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除病因是最理想和最有效的治疗方法。非手术对症治疗包括脱水治疗、激素治疗、过度通气、冬眠低温疗法；手术治疗包括开颅切除病变组织、颅骨切除术、建立脑脊液引流系统等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生命体征、神志、瞳孔及肢体运动改变；避免引起颅内压急骤升高的因素；做好脑室引流术的护理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及脑疝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归纳颅内压增高患者的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“反复头痛、呕吐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，伴视物模糊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”入院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无明显诱因出现双额部胀痛，在劳累或情绪激动时更明显，自服止痛药稍有缓解，偶伴有呕吐，严重时呈喷射状，一直未予检查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自觉视力明显减弱，伴注视上方物体稍困难，头痛、呕吐等症状较前剧烈，入院检查见双侧视神经盘水肿，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见颅内松果体区有一病变，脑积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非手术治疗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自诉反复头痛，存在“疼痛  与颅内压增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视物模糊，存在“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视力障碍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有呕吐，严重时呈喷射状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颅内压增高引起剧烈呕吐有关”；因脑积水引起颅内压增高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措施：休息和体位（抬高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呼吸道通畅、吸氧；严密观察生命体征、意识状态、瞳孔和神经系统病征，警惕脑疝发生；控制液体入量；防止颅内压骤然升高；遵医嘱用药并观察效果；按医嘱给予冬眠低温治疗；讲解疾病知识，给予心理支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不是颅内压增高者的呕吐特点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喷射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在头痛剧烈时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与饮食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严重颅内高压唯一早期症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幕下肿瘤者发生率较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疝致命的主要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大脑皮质运动区广泛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血管广泛受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脑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干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循环严重障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内压增高三主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压升高、脉缓有力、呼吸深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眩晕、呕吐、共济失调</a:t>
            </a:r>
            <a:br>
              <a:rPr sz="3600"/>
            </a:b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呕吐、视神经盘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颈项强直、凯尔尼格征阳性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、一侧瞳孔散大、对侧肢体痉挛性瘫痪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颅内高压患者处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出入量平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排便通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呼吸不畅可气管切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冰帽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脑损伤患者取床头抬高卧位的主要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晕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脑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少呕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呼吸状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水肿患者行冬眠低温疗法，物理降温时维持肛温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2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3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3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D    3. C    4. B    5. C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intracranial pressu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CP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是指颅腔内容物对颅腔壁所产生的压力，通常以侧卧位时腰段脊髓蛛网膜下腔穿刺所测得的脑脊液压为代表。成人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儿童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神经外科常见临床病理综合征，是颅脑损伤、脑肿瘤、脑出血、脑积水和颅内炎症等疾病引起颅腔内容物体积增加，导致颅内压持续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以上，并出现头痛、呕吐、视神经盘水肿等相应的综合征，称为颅内压增高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6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“眩晕、左侧肢体活动无力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”就诊。患者既往高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未规律服药，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前与儿子发生争执，出现头晕、左侧肢体活动无力，伴恶心、呕吐，为喷射性，呕吐物为胃内容物，被家人送入急诊，急诊检查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侧基底节区出血，出血量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70/12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体温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6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侧瞳孔等大等圆，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以高血压脑出血收入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：头痛、呕吐、视神经盘水肿是颅内压增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视乳头盘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745080" cy="499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219640" y="6135840"/>
            <a:ext cx="3745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图</a:t>
            </a:r>
            <a:r>
              <a:rPr b="0" lang="en-US" sz="1400" spc="-1" strike="noStrike">
                <a:solidFill>
                  <a:srgbClr val="046ca6"/>
                </a:solidFill>
                <a:latin typeface="Calibri"/>
                <a:ea typeface="宋体"/>
              </a:rPr>
              <a:t>10-3</a:t>
            </a: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一侧小脑幕切迹疝引起的典型瞳孔变化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断层扫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及磁共振成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血管造影或数字减影血管造影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摄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监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引起颅内高压症的病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是否存在致使颅内压急剧升高的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3:20Z</dcterms:modified>
  <cp:revision>85</cp:revision>
  <dc:subject/>
  <dc:title>内科护理学</dc:title>
</cp:coreProperties>
</file>