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63C2E-4B86-44FE-9E76-2A256627E2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7EEDC-2C2C-4DBC-8414-265400DC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57038-23B3-4AAF-B757-6C561D2C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FF1AA-2076-4392-8B85-0AC2F873B3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7C677-F09B-475E-8FEF-BABCC2A3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AAFD4-3D2D-4893-A7C2-8F926DB9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E4723-15B6-408E-95BA-264D2CD1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6157A-B005-4DB7-9C13-291A7651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11F19-BE7D-48EF-B6F0-519F30EF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5F26C-8E3A-4EEF-8AD8-0E4CCA0F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623B8-FD10-42E5-985E-766162B3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8C3EB-D227-4B7D-A5C2-8F8A8175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D5D4-894F-402E-A1F4-12D06DA91D5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麻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阻滞：简称腰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的准备：成人择期手术在麻醉前应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禁饮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普鲁卡因使用前应常规作皮肤过敏试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设备及用品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法，准备好麻醉用具、抢救器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或减轻患者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神经应激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或减少麻醉药的不良反应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麻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、全身麻醉、吸入麻醉、静脉麻醉、局部麻醉、椎管内麻醉、蛛网膜下腔阻滞、基础麻醉、复合麻醉的概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前药物的种类及使用目的；麻醉中或麻醉后常见并发症和应急处理的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搏停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进展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  简便易行、安全有效、对重要器官功能干扰轻微、并发症较少，并可保持患者意识清醒，适用于表浅、局限的手术。包括：表面麻醉、局部浸润麻醉、区域阻滞和神经及神经丛阻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应注意心理护理，麻醉后注意有无毒性反应和过敏反应等并发症，会判断并且能够采取护理措施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包括蛛网膜下腔阻滞（简称腰麻）、硬膜外腔阻滞及腰麻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腔联合阻滞麻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做好心理护理，术后注意观察有无低血压、呼吸抑制、恶心、呕吐、头痛、尿潴留、全脊髓麻醉、导管折断、穿刺针或导管误入血、硬膜外间隙血肿等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连硬外麻醉下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股沟疝修补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术后患者返回病房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后，出现剧烈背痛，同时伴右下肢肌无力，排尿困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发生了什么情况？目前主要的护理诊断有哪些？发生该并发症的原因有哪些？该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硬膜外麻醉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，出现剧烈背痛，且出现右下肢肌无力，排尿困难，应考虑为麻醉过程损伤血管导致硬膜外血肿，引起的脊髓压迫症状和体征。主要护理诊断包括疼痛（与硬膜外间隙血肿导致脊髓受压有关）、尿潴留（与脊髓受压有关）。应急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明确确诊断并定位，同时尽早行硬膜外穿刺抽出血液，必要时切开椎板，清除血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阐明引起不同麻醉并发症的主要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拟在全麻下行乳腺癌改良根治术，以下术前给药中，为减少术中呼吸道分泌物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地西泮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异丙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吗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苯巴比妥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拟在全麻下接受肝叶切除术，为了预防术中发生误吸，术前最重要的措施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放置胃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禁食禁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进食易消化食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止吐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无吸烟史和肺部疾病史，全麻下行肠道手术。术后回病房麻醉未清醒，呼吸时出现鼾声，此时首先应采取的措施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增加观察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插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环甲膜穿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托起患者下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吸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蛛网膜下腔麻醉后头痛的叙述正确的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术中失血多引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需要再次手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发生在第一次抬头或起床活动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侧卧时减轻，平卧时加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般持续时间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以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剖宫产术后，为预防发生头痛，应采取的措施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环境安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输液通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垫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h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全脊髓麻醉的主要危险是可引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剧烈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麻醉作用持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心搏骤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损伤脊髓导致截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麻醉前必须做皮肤过敏试验的麻醉药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普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利多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依替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罗哌卡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局麻下行腹壁肿块切除术，术中出现不安、呼吸和心率增快、血压升高、肌肉震颤，该患者可能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敏反应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毒性反应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度紧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抑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相关知识，为麻醉前患者实施健康指导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麻醉期间及麻醉恢复期患者实施监护，并识别麻醉并发症，协同医师进行处理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用药物或其他方法使患者完全或部分失去感觉，达到手术时无痛的目的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右下腹持续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，入院诊断为急性阑尾炎，拟急诊进行阑尾切除术。既往无手术史及麻醉史，无药物过敏史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确诊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风湿性心脏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平素可从事体力劳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病容，心尖区可闻及舒张中晚期杂音，肺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右下腹局部明显压痛、反跳痛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b 11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T 3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C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窦性心动过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对该患者麻醉前应评估哪些内容？需要做哪些术前准备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及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512720"/>
                <a:gridCol w="425124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情分级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*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9:11Z</dcterms:modified>
  <cp:revision>91</cp:revision>
  <dc:subject/>
  <dc:title>内科护理学</dc:title>
</cp:coreProperties>
</file>