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8562-3877-4269-87C1-BDC78E04C7D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E5D4-CD61-4DD8-B70F-338BB431555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C6916-35F7-4188-B390-B2528B57F4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8AD22-0EF7-440C-98AB-987C2E94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AB58A-0046-43EE-AA50-8CF29F00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2AF8B-CD71-453C-8F3E-A65C01D442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DF4AC-A168-41DD-B429-2F4B5CA9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B2FCA-F23F-4D3F-BBB1-2C5654BE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01984-98AD-47C3-8C72-A1245D71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1205D-2630-402A-A17D-38D9B2D8E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0F952-B0F9-4749-9362-E3797ABDF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E7E66-AA22-4BFD-BA9D-1DCD15D1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8BBC5-F2F3-4B2C-8926-691A23A7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63AB4-E62A-47E8-84AA-4B6E4D3E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CBCF-15CE-4BC9-A3ED-0D8C7762C17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六章  围术期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、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担心麻醉或手术出现意外、术后效果不好、住院费用高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睡眠型态紊乱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住院环境不适应、担心手术效果及疾病预后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营养摄入不足或分解代谢增强、疾病消耗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所致的体液丢失、液体摄入不足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术前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术后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备皮：备皮范围包括切口周围至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日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68520" indent="-2570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症手术患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妊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室位置和布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位置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建筑要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间装备与设施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间内只放置必需用物且位置固定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洁净手术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空气净化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手术室的净化标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手术室适用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室环境管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管理制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洁与消毒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布单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单类均采用高压蒸汽灭菌，保存时间夏季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冬季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过期要重新灭菌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敷料类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手术的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围术期、围术期护理的概念和手术室布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出术后常见并发症及观察要点和常用手术体位及适应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手术室环境和消毒方法及手术室管理制度、手术室护士的工作内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器械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基本器械，采用高压蒸汽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精密仪器首选环氧乙烷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缝针及缝线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常用的缝针及缝线多在出厂时已分别包装并灭菌，术中直接使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状引流管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胶片引流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纱布引流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信息核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体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仰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截石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半坐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区皮肤消毒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伏纱块涂擦手术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过敏者可选用其他皮肤消毒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切口为中心向四周涂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为肛门、会阴部手术或感染切口，则自手术区外周向感染切口、会阴或肛门处涂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区铺单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皮肤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块无菌巾遮盖切口周围，又称切口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手术中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块无菌中单分别铺在切口的上、下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手术洞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手消毒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手消毒是指手术人员通过机械性洗刷及化学消毒方法，去除并杀灭双手及前臂的暂居菌和部分常驻菌，达到消毒皮肤目的，通常也称为外科洗手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肥皂水刷手法和外科手消毒揉搓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对开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衣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3651120" y="2619360"/>
            <a:ext cx="5486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遮盖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衣穿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3876840" y="2752560"/>
            <a:ext cx="52671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1716120" y="3429000"/>
            <a:ext cx="7103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203640" y="3157560"/>
            <a:ext cx="5859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不同级别洁净手术室的净化标准和适用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脱手术衣及手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脱手术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他人协助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行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脱手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戴手套的手抓取另一手的手套外面，翻转脱下；用已脱手套的拇指伸入另一手套的里面，翻转脱下。注意保护清洁的手不被手套外面污染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配合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器械护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提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洗手、穿手术衣和戴无菌手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正确传递用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护器械和用物整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配合抢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标本管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包扎和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配合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巡回护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访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物品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核对患者信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配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中无菌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明确无菌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物品无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护皮肤切口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确传递物品和调换位置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沾染手术的隔离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少空气污染、保持洁净效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无菌器械台的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巡回护士用手打开第一层包布（双层），注意只能接触包布的外面，从里向外展开，手臂不可跨越无菌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无菌持物钳打开第二层包布，先对侧后近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器械护士穿好无菌手术衣和戴好无菌手套后，用手打开第三层包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患者术后恢复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手术创伤、特殊体位等因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术中出血、失液或术后禁食、呕吐、引流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效性呼吸型态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手术后卧床、活动量减少、切口疼痛、呼吸运动受限、使用镇静剂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进食、如厕、卫生）自理缺陷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术后疼痛、虚弱、活动受限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痰液黏稠、切口疼痛、不能有效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　与禁食、创伤后机体代谢率增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出血、切口感染、切口裂开、肺部感染、泌尿系统感染、深静脉血栓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完成术前的特殊准备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照无菌操作要求，正确行外科手消毒、穿脱无菌手术衣和戴无菌手套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所学的知识，对手术室不同类型物品选择合适的消毒灭菌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对手术后常见并发症进行正确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位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麻醉方式、患者全身情况、手术方式、疾病性质等选择卧位，使患者处于舒适和便于活动的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监护指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饮食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腹部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先进流质，后逐步过渡到半流质、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部手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手术后一般禁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待肠蠕动恢复、肛门排气后开始进水，逐步过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静脉补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的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甲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乙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丙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静脉补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拆除缝线时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头、面、颈部手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下腹部、会阴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、上腹部、背部、臀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四肢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（近关节处可适当延长），减张缝线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，必要时可间隔拆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引流液颜色、性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管通畅，无打折、扭曲、堵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熟悉各种引流管的拔管指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病房安静，保证患者休息和充足的睡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许可下尽量鼓励患者早期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给予镇静、止痛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患者更换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表达内心焦虑情绪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正确按摩、放松、听音乐等非药物止痛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记录呕吐时间及呕吐物的量、颜色、性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取合适体位，头偏向一侧，防止发生吸入性肺炎或窒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使用镇静、镇吐药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咽喉部不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行地塞米松雾化吸入每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，减轻局部黏膜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患者最常见的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手术热（吸收热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多翻身、尽早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必要时肌注新斯的明促进肠蠕动恢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警惕机械性肠梗阻等并发症出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围术期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erioperative period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患者从确定手术治疗时起，到与这次手术有关的治疗基本结束的这段时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前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后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呃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压迫眶上缘、抽吸胃内积气和积液、遵医嘱给予镇静或解痉药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顽固性呃逆应警惕吻合口或十二指肠残端漏、膈下积液或感染的可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潴留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诱导排尿，如听流水声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改变体位坐于床边或站立排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应用药物、针灸等治疗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上述措施均无效时，在无菌操作下实施导尿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发生在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切口敷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患者有无烦躁、心率增快、血压下降、尿量减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控制血糖水平、纠正贫血、加强营养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缝合时彻底止血、防止残留血块、异物或无效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操作及术后换药时严格执行无菌操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切口感染者，勤换敷料、微波照射切口、合理使用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裂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加强营养支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缝合用减张缝线，术后延长拆线时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在麻醉效果好、腹壁松弛下缝合切口避免强行缝合导致腹膜等组织撕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外适当用腹带或胸带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及时处理引起腹内压增高的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切口情况，预防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切口完全裂开者，安慰患者做好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部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戒烟，行有效咳嗽及深呼吸锻炼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手术拔管前吸净支气管内分泌物，术后平卧头偏向一侧，防呕吐物和口腔分泌物误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、腹带包扎或固定时，松紧适宜避免限制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病室适宜温、湿度，鼓励患者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深呼吸、吹气球或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咳嗽无力或害怕用力咳嗽者，在胸骨切迹上方用手指按压刺激气管，促进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训练床上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指导患者尽量自主排尿和病情许可时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尽早拔出留置导尿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和及时处理尿潴留是预防尿路感染的主要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尿路感染者，鼓励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深静脉血栓形成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eep venous thromb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V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许可下，鼓励患者早期下床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危患者，下肢用弹性绷带或穿弹力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久坐和跷二郎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使用高渗性或刺激性强的药物应稀释后输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液高凝状态者，给予抗凝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发生深静脉血栓者，患肢制动、抬高、禁止按摩、遵医嘱行溶栓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食易消化、高热量、高蛋白、高维生素、富含膳食纤维的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证充足睡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和患者耐受程度循序渐进地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锻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锻炼知识和指导术后锻炼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遵医嘱按时、按量服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诊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患者在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到门诊复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有特殊情况，及时到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围术期护理（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</a:rPr>
              <a:t>perioperative nursing car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在围术期为患者提供全程、整体的护理。其目的是加强术前、术后整个治疗过程中患者的身心护理，通过充分的术前准备、有效的护理措施和患者的积极配合，达到满意的治疗效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分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：择期手术、限期手术、急症手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择期手术前准备 心理护理；维持体液与营养平衡；保证睡眠和休息；作好术前的常规准备（呼吸道准备、胃肠道准备、备皮、配血、药物过敏试验、术前训练等）；术日晨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症手术前准备  密切观察病情变化；快速备皮、备血、药物过敏试验、术前用药等；纠正水、电解质和酸碱失衡；给休克者建立静脉输液通道；胃肠道梗阻者，禁饮食、胃肠减压；有感染者遵医嘱应用抗生素；术前不灌肠、不用泻剂；做好患者和家属的心理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护理工作 手术室是患者进行手术的重要场所，其布局、设置、分区（非洁净区、准洁净区、洁净区）合理。有严格的手术室管理和消毒灭菌制度。强调手术人员必须进行严格的外科手消毒、穿无菌手术衣、戴无菌手套方可为患者进行手术。术前要认真核对患者各项信息如科室、床位、姓名、性别、年龄、住院号、手术部位、手术名称等，检查术前准备是否完善。手术室器械护士和巡回护士做好手术配合及术中无菌操作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置患者合适的体位；病情观察；维持体液与营养平衡；加强切口和引流的护理；术后常见不适如切口疼痛、恶心、呕吐、咽喉部不适、发热、腹胀、呃逆、尿潴留进行护理。重点是对术后常见并发症如出血、切口感染、切口裂开、肺部、尿路感染、深静脉血栓形成等并发症的预防和对症处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入院诊断为急性肠梗阻，既往有糖尿病、高血压病史，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8.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65/92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 13.6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入院当日即在全麻下行剖腹探查术，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用力咳嗽咳痰时，突然发生腹部切口裂开，患者感到切口剧烈疼痛和松开感，随即发现肠管外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患者发生切口裂开的主要原因是什么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如何处理此种情况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老年人且血糖较高和发热，因糖尿病患者在整个围术期机体均处于应激状态，血糖高时易发生切口感染，影响伤口愈合。另外患者突然用力咳嗽咳痰使腹压增加而导致切口裂开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慰患者及家属，同时做好心理护理，使其保持镇静，立即用无菌生理盐水纱布覆盖切口和腹带包扎，通知医师重新缝合处理切口。若有肠管脱出，不能直接将肠管还纳，以免造成腹腔内感染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巡回护士和器械护士共同清点核对各种器械、敷料和缝针等数量，下列说法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开始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开始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中关闭体腔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缝合切口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清点目的是防止遗留体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首选环氧乙烷方法灭菌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金属器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布类物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搪瓷器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内镜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刀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人员穿好手术衣、戴好无菌手套后，双手应保持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视线范围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前、双肘内收靠近体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交叉腋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举头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腰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区备皮范围应包括切口周围区域至少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10cm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12cm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13cm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14cm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15cm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类型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择期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限期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症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无菌包在备用、未污染和干燥条件下，有效期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9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室的洁净区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无菌物品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药品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器械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准备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下列手术摆放体位时不能选择膀胱截石位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肛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会阴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尿道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肾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某患者行疝修补术后第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天，体温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37.8℃,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正确的处理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嘱患者大量饮水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给予药物降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乙醇擦浴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冰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无需特殊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胃肠道手术后患者开始进食的时间是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恶心呕吐消失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痛消失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胀消失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肛门排气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拆线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某患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有吸烟史，行膝关节置换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自觉患侧小腿肌肉疼痛，并有轻度肿胀，查体腓肠肌挤压试验阳性，此时应考虑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输液外渗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静脉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低蛋白水肿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下肢静脉血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手术创伤所致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后发生下肢静脉血栓，处理措施不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立即停止患肢静脉输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抬高患肢、制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硫酸镁湿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热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应用抗凝药和溶栓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。因行十二指肠球部溃疡穿孔行修补术。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，已排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，但每次尿量少，为数毫升。该患者可能出现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潴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失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路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肾积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B   2.D  3.B  4.E  5.C  6.D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.E   8.D  9.D  10.D   11.D   12.B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高血压病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。上腹不适、隐痛、反酸、食欲下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出现消瘦、体重明显减轻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检：上腹可触及结节状肿块，质地较硬有压痛，左锁骨上触及肿大淋巴结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纤维胃镜：胃癌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的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18:18Z</dcterms:modified>
  <cp:revision>92</cp:revision>
  <dc:subject/>
  <dc:title>内科护理学</dc:title>
</cp:coreProperties>
</file>