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4DB86-ECE2-45D9-ADF6-5D01854C9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0F1F3-CDF3-4FAC-AF4B-7C5D09DD7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0B060-2006-478B-A763-9C942C7B2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817A5-C097-49A7-89F6-49FD3F81F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205753-6768-40C3-883D-DF069F2A87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021C7-904C-4002-9749-B0FDA1F42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F0241-4828-47DB-8D44-FD3DA5E6D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424EB-F7B9-4C7C-8A2E-EB50DDEA2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3C0AD-1A03-4147-94E5-45D4D45C2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404AC-522A-4E84-A6ED-216F1DC2E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F7E9E-91E8-40CE-A7ED-3FC2030ED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C2B42-5F84-416B-A7E0-688459F18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7C336-189A-44DA-941C-0015F8C5C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45578-D075-4F26-BD18-AE61BC171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5C37C-6242-4C30-8787-7E919D7C6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4BA5D5-1155-4DFB-A953-C47C6BB0AB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629D4D-0CF5-4F69-B1DE-9BDA6811D9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75937-A0CE-4C07-9D50-7294E824C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53151-FBFE-4DBE-B47B-2AD1DB6D3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48102-3660-4030-A27D-FC5E8CB50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AE96D-A5AD-470E-BEBF-0C726FD6F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32233-7687-42AF-A35B-BC45B1EA1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136FF-D0C9-403B-95B2-1B7572768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DDC8B-CF27-4909-B5F1-F1FBC8A0B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DEF26-7A81-42CE-82A0-DBB6341EFD9C}" type="datetime3">
              <a:rPr b="0" lang="en-US" sz="1400" spc="-1" strike="noStrike">
                <a:solidFill>
                  <a:srgbClr val="000000"/>
                </a:solidFill>
                <a:latin typeface="Arial"/>
              </a:rPr>
              <a:t>July 30,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FEE66-0091-4A4D-87F2-B0106CBD994C}"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DD53-54A2-4648-B26D-DB6CCEC8C43B}" type="datetime3">
              <a:rPr b="0" lang="en-US" sz="1400" spc="-1" strike="noStrike">
                <a:solidFill>
                  <a:srgbClr val="ffffff"/>
                </a:solidFill>
                <a:latin typeface="Arial"/>
              </a:rPr>
              <a:t>July 30,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ED114-A3C2-4422-B93D-85559AA0CB7E}"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099ED-648E-4302-9D1C-DE52E33CC81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11678-8B51-4EA1-9432-DD20886D02F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2FEE-4775-4DBD-8C44-6796F69E541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B4176-4BCB-473E-809F-35ADB776A8E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7AA49-45B9-4F25-A9FB-CDDC9747FDA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23E9-B124-439E-8641-6F923F5B2CE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06023-0C29-45FC-B337-B84AB392290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28B48-67C0-4A58-913D-294D374D0EE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305DD-73DA-4992-B69B-A688BF59DA9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FAEA-7036-47E9-A46E-28111960D7B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8F082-7AE1-4233-863B-45693723684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E8E2-C09F-44C9-A16A-8233DEB6EFE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EF651-BE04-47CB-BE80-29588B59973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73F1-5C85-4DAC-935B-41C68E3DF7F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B0EB2-AF9A-42F6-A1B8-7EEFC41AEBD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4C985-C684-4EF0-A65A-B4FFC5C6465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661BD-B10B-4111-85E7-75B771541B5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A408-98C2-4529-8632-68AB5197FA7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F661E-BBBA-4189-8A0E-8B29E96BDB35}"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28A1-13A7-438A-ACBC-3EE4ACF5571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E1A2E-766A-4CD6-8506-82FEA9DD3B6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433E5-9062-4013-8E15-7D604D6F6FB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5237E-9104-4272-94FB-CA834457EBC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28372-6062-4CC3-A2A7-0D846F2E9CE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9B948-64C6-498E-B091-4F59D8AAE60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91487-F334-4103-BB1F-0F1FC703577E}"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575C2-7F29-4DAD-98C4-7773450F161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C7B21-0E64-4285-A56D-4EE80775CE2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47E12-5046-4396-B127-9D9050C60DB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711C-231C-4A9D-993E-EEF30F9707E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8384-36F9-4A75-9A9E-34B33DB09CA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53E2E-78A3-46C7-A113-C4220A358A6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EC290-16A0-440A-9AD4-9DB9CDB715E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C7A93-0523-484F-93DF-1772E44AAE0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71D2A-21D6-47EC-ABB0-0B75437E53F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09621-A6F7-48C6-823C-F7FB2F61DCE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7CE97-39F2-4D43-8F6B-1CA0C925773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69FD-F056-4794-93F5-48AFADFED90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A0809-B426-4B76-B8BA-D718CDC76DA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080DD-D043-477D-A1CC-E7DB20DBE2A2}"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AFABE-AD4B-4D26-B23F-2CC95291461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CCAD6-A823-4109-9155-B4CA46C4B71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