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image16.wmf" ContentType="image/x-wmf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2.wmf" ContentType="image/x-wmf"/>
  <Override PartName="/ppt/media/image8.png" ContentType="image/png"/>
  <Override PartName="/ppt/media/image38.png" ContentType="image/png"/>
  <Override PartName="/ppt/media/image41.wmf" ContentType="image/x-wmf"/>
  <Override PartName="/ppt/media/image30.png" ContentType="image/png"/>
  <Override PartName="/ppt/media/image31.jpeg" ContentType="image/jpeg"/>
  <Override PartName="/ppt/media/image32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5.wmf" ContentType="image/x-wmf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A3A8-A2E7-4D4C-AE93-304B70669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951E-E06D-41D0-84AB-AE56153E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8951F-C224-4987-8B2B-1518EBF0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1D99FE-9802-4B25-A57B-A87DFB51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A7E86B-0CE2-4795-A870-3C829E7C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300380-A059-47C3-A91D-99283BBE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D894D2-01DD-4A99-B0D7-DBAEF7D5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7955B5-93A0-486C-A869-B0F86A3D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681266-516C-4DE4-8270-10AABD0F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BB832-2BBA-40B6-A84F-740B10848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5804F2-A743-410E-BD12-4E1E0E109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FB1FD2-AB5D-4C32-A8FE-F785D8BC3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E590-CAFB-46F0-BDAF-30EB9DF03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1F93B8-97BD-4750-8443-46699BBC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12D946-164B-41EE-A1C5-F6FE299C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258100-6712-4104-BA2F-2D99BD8C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839D52-D74C-46B3-B1F8-A3693FD7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0C3A50-EE3D-4D83-88F5-D23273C5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A37C22-248A-452E-8B01-E66DB8C7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EC634A-B188-4F31-B00F-AD80F043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971E89-45A1-46E2-934E-84054FF9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94C7B1-4C89-4F6D-BCB3-925FCA17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FE0050-928A-4930-8E25-A6AD9EC8C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A16B-7111-402C-BE10-60EA4089D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6142EB-D7DC-46C3-A1B3-8CDF49440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FAB79-B4BE-49AA-85EC-FA5909F84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36A6E5-A621-44EE-A827-B2FF3672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9C0EA8-21C5-4C7E-803D-E27754AA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8C254B-2393-455F-A404-DF4AF129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7220EA-928C-4B3F-B04D-E1F6981D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7DD9B-4F94-49E9-9F71-B41B7E51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4E333-2D58-4D69-80AE-F93C3437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BC160-0A12-4829-9176-A56CA84A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3B24A-B9E1-40B7-89CD-D2E625FD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36AF-D055-4661-9E7E-574451CA4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22CA9-9D18-4CC6-AACC-EA29C0A1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624B07-4DF0-4CED-A0BE-FEA001564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95A074-25F6-4230-9DC6-0F227F96D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D0DE9B-FC52-40A4-A913-8D6E36B58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515294-99E6-4A71-975C-9B16EB1B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ED15AC-23AF-4972-8BD5-B1F2DD19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EB0928-7349-4EA8-A763-F615FF78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2860B6-2525-43F9-BF81-17A50FAE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92CC3A-94A7-4FA5-9394-E79AEEBD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097318-D628-456E-A14E-FCE88A52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B4C45-FEC9-48EC-B460-F2C3317A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E2D5A3-3063-4082-88C5-0900A9E7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8D69DE-A3A7-4CA0-8FA5-AEEB7669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3C3C3F-D272-4176-85D2-C9FFCB2F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E00F2A-53E3-4EF5-90B4-8F4123701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CA1C81-F11A-401A-B716-45CD12EAD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91C8C2-5191-4200-8E55-31B61E466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301795-2B1B-490E-9E4B-82322C85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1AB258-2D4F-4BE5-9B47-897B8FA9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0310D9-1A36-4124-ADDE-8313A988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B471AD-E286-4274-8611-6AEF2488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F231-99D0-47AE-90F6-864FB3B7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4FCAD1-6B70-4036-8056-E6540975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20CFD7-BAA6-4C4D-BD03-48B9D9DA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295DF0-14F6-498C-A8EF-C8767FF7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810231-CEEF-4242-8583-E015598E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8C852B-9DEE-4869-9642-5EBE9AB3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5C24D5-3504-4E97-B905-170E99A94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2838A6-DDA6-4A79-B2E6-51962C7C8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7F3BB2-8D59-4D9C-8476-9A384062C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1A3704-4D3E-472E-8E42-C25AD427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AD3B01-1A5A-4C14-BDC9-69E8C6ED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1495-8631-4E42-B31A-9E6AD094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C0DC37-B606-4D12-B594-AD2B2B02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A83A93-FB3C-4899-AB70-A0B87A3D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4C9DE9-5AC6-4852-BC55-673A52D0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ABF70D-4E89-4997-A9F5-6CEF0FAB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034E88-7122-4B98-A828-FACBF241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804CE0-8058-42BA-840E-68963203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4D1227-98BA-457C-90EB-7CE8A552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F407B8-AD0C-4F7B-883E-692871DE0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9D5895-B9D0-42B9-92E8-684F0277E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BB0B-A432-4536-BCE9-4083EAB1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805B-F739-4FFF-BD08-685C078B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2D98-1053-46D1-8436-25FF9337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20E2-CF8E-44D0-97F3-65CDE047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7974-68D2-4F10-A76B-7686F282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A922-1906-4620-9A07-A926625C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558B-6E67-4B28-8B26-E9F563A1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2F59-4D58-49C6-89DC-9C617DB35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529B-A6E2-4071-A05E-6D8E25AE1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9D416-82C0-4E9F-950D-F87C767CC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7F8E7-641C-40DA-9D4D-895B60C7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9A4F6-F397-4C15-9A5F-69ED7E31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A924E-AE2A-4FE8-9DA5-6B84BAAD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722F1-2154-4D9E-B41F-B39CEF94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ABB1-597A-4EBB-BFAC-DFD4C17F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5E316-F702-4702-B05A-361DE585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5D99A-194D-4C1B-980B-57368DA9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9042F-E5CC-44E3-9637-74607EE8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36F74-D50B-4A60-B3C1-E7C25740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C87F0-0535-49DE-9605-9DD4CEFA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23ADC-948D-49E1-BE61-16B26240E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55553-5FFB-4376-A32A-D123972B3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6249D-34EE-4652-9B03-7544A7CEC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60B6A-0AEA-4B26-86ED-257CC896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5769D-6034-40BD-A763-841C4F1B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B5C6-7D10-492B-94F5-FDCC6503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64917-FB0F-48FA-99E8-6B1F2BA6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B89D3-2BAB-447F-8F85-26C95D15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89FFE-5B9F-48EB-8BFD-9AA61CA2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2EF7A-5CC0-4CA1-8F55-2DCA7289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E7740-D540-4C76-B4EC-3BE690E3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2E6AD-07F9-41DC-B76B-E27C26A8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1C324-CD7A-4B11-A10D-B7847155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FE90E-5937-42F8-9473-7EAC580CD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0BF9B-3CBE-453F-8DE8-8CD77F871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79536-631D-4F1D-A684-7336C19AA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B222-4250-4C95-B90B-9922D22B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71A01-718F-4BAD-A566-FCEF2B2D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42BF1-44AE-46BD-88D3-53D45F04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7F8D2-2CBD-4E7B-84A1-C7F54CD4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2B9A2-B5CD-4AB3-8FCE-CBF429F7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10467-8241-4813-8290-DA73E2F9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BC582-F9B5-4AF9-A5C5-692D11DB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1198D-7E16-4E5E-B382-86911617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9817C-F802-4671-A8B2-DFFF0063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2EBBE-BBDC-4F53-BAA4-8225B128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8C93B-53CF-4446-AAD3-9D0E3DD57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EF85-A4C1-4625-B4B3-984A7DBA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9C8A4-52C8-4056-8615-E1452D813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66C26-6919-44C4-A2C7-4B819DD20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54A62-A9CB-4C25-AD4A-C054F93C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4CF01-A86A-44B8-9CF8-ED7D184F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A8087-751B-44D9-B664-9585116E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118CA-9EC1-4C47-9A37-FA2DFFE9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10E25-984C-4A85-810B-9595B535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A38B2-2315-4DFA-9883-36070002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43B15-D13F-43A8-851F-5178B3E9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2C853-DF16-4898-B95F-4315C737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53A6-53E4-4923-AE69-71AB9BD4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920CC-B7A9-49AD-B03F-5F042DE7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1D7DF-6BBC-4453-AACB-FF9530C0F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711D4-DCF3-4721-9395-3FD959E1B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1A1C3-308A-4535-9496-EE5B8FF6D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AC0D2-1E25-486B-918A-42AF5547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59E16-5B5C-402B-B4FB-686E2700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F8957-B5A1-4828-81AE-0F731020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AF4AA-6AFD-4E0B-AE0B-5D7A392C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A3FE5-1CDA-4659-9BCE-83A2DB0D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53663-9D20-4916-9E91-AA49D7AB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1D6A-8F5C-423F-B13E-33DF9D07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3648B-1018-4F1C-9BB9-E83C1E48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8ACF4-F695-47D9-A4C4-24DA1469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91C62-F915-4C6D-9F66-0D15199F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AAADC-F6A5-4DCE-AE36-E96C67F00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3CD25-C228-4F3E-A8F2-351987A83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91CF1-5FDF-48A8-9B0A-50FEB4A63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0273E-C4AC-4CBD-B0BB-96D6B1A4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EBC3C-1BE1-4449-BC48-7F3CA141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4513C-B952-4C1D-B79C-6DAEB58A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453A7-9C6D-4CE5-A3BD-22D5BD70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8863-DD41-44F0-8CEC-1BF4C0CE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C8E1D-F064-4CA0-8E09-8171FB82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B0A82-C05E-4AA5-8DEF-D5F5A264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B3004-5D92-4969-A40F-6A2542FE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91F2B-37E4-4061-BDE9-0C397299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386DD-152E-4717-A30B-DDB9852A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D3D09-0ABF-40EE-BE69-A0E93E0C0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F4EC9-7E64-4659-B403-0411D7F02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572E07-00E0-4BDB-BC67-A0FF5B87B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1113F7-F61C-46CF-BC8E-4B4B839C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BB213D-C8A9-444A-B66C-EC5055FA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DA18-A9E6-42DC-9740-CE26C1E9F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2214-7898-42C4-A55E-A56A32FD5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FF17-5EC5-4A37-AF06-773F588DF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1979-8958-4740-8F71-5A3E7A25E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D16F-49C0-404F-8B88-BF1B7112B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E0B1-A22B-49FF-9283-56E01CB9C6B6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C598-CB33-4DB6-ADB2-5957D0AA9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47AB-9BD9-4202-8FB2-4095A9CA2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4E76-8590-4C8B-9FEA-BA4621B74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82A5-EE36-47B6-B1BB-3F07D817D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0F8B-1808-4E94-8615-A91496F53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324A-6CFB-4827-B72F-9898A29D4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2420-5D34-4FEF-BD5F-BF7A90B05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4202-EC9E-4A78-B847-E9E2085FC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4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1413000"/>
            <a:ext cx="733896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7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六章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生物氧化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763640" y="249228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Biological Oxidation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tretch/>
        </p:blipFill>
        <p:spPr>
          <a:xfrm>
            <a:off x="1403280" y="3500280"/>
            <a:ext cx="5991120" cy="25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四、催化生物氧化的酶包括氧化酶类和脱氢酶类等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氧化酶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酶类的辅基常含有金属离子如铁或铜，催化代谢物脱氢氧化，氧分子接受氢生成水。如抗坏血酸氧化酶、细胞色素氧化酶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脱氢酶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脱氢酶类的催化作用需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FMN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FAD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或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+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P+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为辅基或辅酶，催化代谢物脱氢。根据是否需要氧作为直接受氢体，可将脱氢酶分为需氧脱氢酶和不需氧脱氢酶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3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3000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7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301680" y="980640"/>
            <a:ext cx="854064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三）其他酶类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除上述酶类外，体内还有加单氧酶、加双氧酶、过氧化氢酶、过氧化物酶、超氧化物歧化酶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(SOD)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等参与氧化还原反应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3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五、生物氧化过程中有机酸脱羧基产生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CO</a:t>
            </a:r>
            <a:r>
              <a:rPr b="1" lang="en-US" sz="36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糖、脂类及蛋白质在体内代谢过程中产生不同的有机酸，有机酸在酶的催化下，脱羧基产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根据脱去的羧基在有机酸的位置，分为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α-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脱羧和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β-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脱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两种。又根据脱羧反应是否伴有脱氢，分为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单纯脱羧和氧化脱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0" dur="20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仿宋"/>
                <a:ea typeface="仿宋"/>
              </a:rPr>
              <a:t>第二节  线粒体内的生物氧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2" name="Picture 3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54064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一、呼吸链包含多种成分，并按一定顺序排列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呼吸链的主要成分及其作用机制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 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：主要功能是接受从代谢物上脱下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+2e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，然后传递给呼吸链另一组分黄素蛋白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递氢体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8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无名"/>
          <p:cNvPicPr/>
          <p:nvPr/>
        </p:nvPicPr>
        <p:blipFill>
          <a:blip r:embed="rId1"/>
          <a:stretch/>
        </p:blipFill>
        <p:spPr>
          <a:xfrm>
            <a:off x="1042920" y="1916280"/>
            <a:ext cx="7161120" cy="419400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3"/>
          <p:cNvSpPr/>
          <p:nvPr/>
        </p:nvSpPr>
        <p:spPr>
          <a:xfrm>
            <a:off x="1042920" y="692280"/>
            <a:ext cx="7489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=H: 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;      R=H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: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8" name="Picture 3" descr="NAD(P)-NAD(P)H`"/>
          <p:cNvPicPr/>
          <p:nvPr/>
        </p:nvPicPr>
        <p:blipFill>
          <a:blip r:embed="rId1"/>
          <a:stretch/>
        </p:blipFill>
        <p:spPr>
          <a:xfrm>
            <a:off x="468360" y="1773360"/>
            <a:ext cx="813600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黄素酶或黄素蛋白（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F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0" name="Picture 3" descr=""/>
          <p:cNvPicPr/>
          <p:nvPr/>
        </p:nvPicPr>
        <p:blipFill>
          <a:blip r:embed="rId1"/>
          <a:stretch/>
        </p:blipFill>
        <p:spPr>
          <a:xfrm>
            <a:off x="301680" y="190512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2" name="Pictur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40640" cy="4194000"/>
          </a:xfrm>
          <a:prstGeom prst="rect">
            <a:avLst/>
          </a:prstGeom>
          <a:ln w="0">
            <a:noFill/>
          </a:ln>
        </p:spPr>
      </p:pic>
      <p:sp>
        <p:nvSpPr>
          <p:cNvPr id="613" name="Line 4"/>
          <p:cNvSpPr/>
          <p:nvPr/>
        </p:nvSpPr>
        <p:spPr>
          <a:xfrm flipV="1">
            <a:off x="1547640" y="4292280"/>
            <a:ext cx="576360" cy="57636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4" name="Line 5"/>
          <p:cNvSpPr/>
          <p:nvPr/>
        </p:nvSpPr>
        <p:spPr>
          <a:xfrm flipH="1">
            <a:off x="2987280" y="2133720"/>
            <a:ext cx="360360" cy="64764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3. 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铁硫蛋白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Fe-S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结构及递电子机制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6" name="Picture 3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7026480" cy="419400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4"/>
          <p:cNvSpPr/>
          <p:nvPr/>
        </p:nvSpPr>
        <p:spPr>
          <a:xfrm>
            <a:off x="6104520" y="4797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Ⓢ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表示无机硫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学    习     重     点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生物氧化的概念及意义；了解生物氧化的特点及主要酶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2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熟悉呼吸链的主要组成成分，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呼吸链的电子传递顺序；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线粒体外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H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转运进入线粒体的机制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磷酸化的概念、偶联部位；了解氧化磷酸化机制及影响因素。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熟悉体内生成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主要方式及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生理功用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5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了解不生成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途径、主要场所及主要氧化体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泛醌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又称辅酶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</a:t>
            </a:r>
            <a:br>
              <a:rPr sz="2800"/>
            </a:b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结构与递氢机制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9" name="Picture 3" descr="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3888000"/>
          </a:xfrm>
          <a:prstGeom prst="rect">
            <a:avLst/>
          </a:prstGeom>
          <a:ln w="0">
            <a:noFill/>
          </a:ln>
        </p:spPr>
      </p:pic>
      <p:sp>
        <p:nvSpPr>
          <p:cNvPr id="620" name="Line 4"/>
          <p:cNvSpPr/>
          <p:nvPr/>
        </p:nvSpPr>
        <p:spPr>
          <a:xfrm flipH="1" flipV="1">
            <a:off x="6659640" y="3284640"/>
            <a:ext cx="792000" cy="7128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1" name="Line 5"/>
          <p:cNvSpPr/>
          <p:nvPr/>
        </p:nvSpPr>
        <p:spPr>
          <a:xfrm flipH="1">
            <a:off x="6732720" y="5950080"/>
            <a:ext cx="792000" cy="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539640" y="2565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oQ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氧化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3" name="Text Box 7"/>
          <p:cNvSpPr/>
          <p:nvPr/>
        </p:nvSpPr>
        <p:spPr>
          <a:xfrm>
            <a:off x="5651640" y="2708280"/>
            <a:ext cx="19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oQH</a:t>
            </a:r>
            <a:r>
              <a:rPr b="0" lang="en-US" sz="1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还原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5.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细胞色素（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yt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细胞色素是一类以铁铁卟啉为辅基的催化电子传递的酶类，根据它们吸收光谱不同而分类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在呼吸链中的细胞色素有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等。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与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很难分开，组成一复合体，统称为细胞色素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传递电子的顺序：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→c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→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 → 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20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20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20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细胞色素传递电子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155600" y="2953440"/>
            <a:ext cx="6832800" cy="20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Cyt-F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3+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+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-             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Cyt-F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2+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8" name="AutoShape 4"/>
          <p:cNvSpPr/>
          <p:nvPr/>
        </p:nvSpPr>
        <p:spPr>
          <a:xfrm>
            <a:off x="4356000" y="3933720"/>
            <a:ext cx="1511280" cy="216000"/>
          </a:xfrm>
          <a:prstGeom prst="leftRightArrow">
            <a:avLst>
              <a:gd name="adj1" fmla="val 50000"/>
              <a:gd name="adj2" fmla="val 139285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9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9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体               递电子体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                         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e-S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MN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AD                        Cyt-Fe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UQ(CoQ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10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10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10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二）呼吸链中大部分组成成分形成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个蛋白复合体，只有少数游离存在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32" name="Object 3"/>
          <p:cNvGraphicFramePr/>
          <p:nvPr/>
        </p:nvGraphicFramePr>
        <p:xfrm>
          <a:off x="380880" y="2225520"/>
          <a:ext cx="8382240" cy="35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25520"/>
                    <a:ext cx="838224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4" name="Rectangle 4"/>
          <p:cNvSpPr/>
          <p:nvPr/>
        </p:nvSpPr>
        <p:spPr>
          <a:xfrm>
            <a:off x="2535480" y="5877000"/>
            <a:ext cx="3225240" cy="368280"/>
          </a:xfrm>
          <a:prstGeom prst="rect">
            <a:avLst/>
          </a:prstGeom>
          <a:solidFill>
            <a:srgbClr val="dc5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泛醌 和 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Cyt c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均不包含在上述四种复合体中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呼吸链各复合体在线粒体内膜中的位置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6" name="Picture 3" descr="6-1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47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呼吸链组分按氧化还原电位由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低到高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排列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5407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目前普遍认为呼吸链的传递顺序为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39" name="Picture 4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8675640" cy="35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二、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和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ADH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是体内两条重要的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Arial"/>
              </a:rPr>
              <a:t>1. NADH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氧化呼吸链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NADH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Ⅰ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Ⅲ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yt c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Ⅳ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琥珀酸氧化呼吸链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琥珀酸 →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Ⅱ 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Ⅲ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yt c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Ⅳ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9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9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9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9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一）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是体内最常见的一条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3" name="Picture 3" descr="NAD氧化呼吸链"/>
          <p:cNvPicPr/>
          <p:nvPr/>
        </p:nvPicPr>
        <p:blipFill>
          <a:blip r:embed="rId1"/>
          <a:stretch/>
        </p:blipFill>
        <p:spPr>
          <a:xfrm>
            <a:off x="684360" y="1844640"/>
            <a:ext cx="784836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二）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ADH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也叫琥珀酸氧化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5" name="Picture 3" descr="FAD氧化呼吸链"/>
          <p:cNvPicPr/>
          <p:nvPr/>
        </p:nvPicPr>
        <p:blipFill>
          <a:blip r:embed="rId1"/>
          <a:stretch/>
        </p:blipFill>
        <p:spPr>
          <a:xfrm>
            <a:off x="539640" y="2421000"/>
            <a:ext cx="813600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一节  概述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生物氧化是物质在体内氧化分解的过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1" name="Picture 4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828036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2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3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两条呼吸链传递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7" name="Picture 3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传递机制示意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9" name="Picture 3" descr=""/>
          <p:cNvPicPr/>
          <p:nvPr/>
        </p:nvPicPr>
        <p:blipFill>
          <a:blip r:embed="rId1"/>
          <a:stretch/>
        </p:blipFill>
        <p:spPr>
          <a:xfrm>
            <a:off x="684360" y="2120760"/>
            <a:ext cx="7991280" cy="404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糖代谢与呼吸链联系示意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51" name="Picture 3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8424720" cy="43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三、生物氧化过程中有部分能量用于生成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ATP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53" name="Organization Chart 3"/>
          <p:cNvGrpSpPr/>
          <p:nvPr/>
        </p:nvGrpSpPr>
        <p:grpSpPr>
          <a:xfrm>
            <a:off x="0" y="1916280"/>
            <a:ext cx="8747640" cy="4192560"/>
            <a:chOff x="0" y="1916280"/>
            <a:chExt cx="8747640" cy="4192560"/>
          </a:xfrm>
        </p:grpSpPr>
        <p:cxnSp>
          <p:nvCxnSpPr>
            <p:cNvPr id="654" name="_s1028"/>
            <p:cNvCxnSpPr>
              <a:stCxn id="655" idx="0"/>
              <a:endCxn id="656" idx="2"/>
            </p:cNvCxnSpPr>
            <p:nvPr/>
          </p:nvCxnSpPr>
          <p:spPr>
            <a:xfrm flipV="1" rot="16200000">
              <a:off x="5131080" y="2833920"/>
              <a:ext cx="839160" cy="235620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657" name="_s1029"/>
            <p:cNvCxnSpPr>
              <a:stCxn id="658" idx="0"/>
              <a:endCxn id="656" idx="2"/>
            </p:cNvCxnSpPr>
            <p:nvPr/>
          </p:nvCxnSpPr>
          <p:spPr>
            <a:xfrm flipH="1" flipV="1" rot="5400000">
              <a:off x="2776320" y="2834640"/>
              <a:ext cx="839160" cy="23551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sp>
          <p:nvSpPr>
            <p:cNvPr id="656" name="_s1030"/>
            <p:cNvSpPr/>
            <p:nvPr/>
          </p:nvSpPr>
          <p:spPr>
            <a:xfrm>
              <a:off x="2354400" y="191628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两种形式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8" name="_s1031"/>
            <p:cNvSpPr/>
            <p:nvPr/>
          </p:nvSpPr>
          <p:spPr>
            <a:xfrm>
              <a:off x="0" y="443196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底物水平磷酸化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5" name="_s1032"/>
            <p:cNvSpPr/>
            <p:nvPr/>
          </p:nvSpPr>
          <p:spPr>
            <a:xfrm>
              <a:off x="4710240" y="443196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氧化磷酸化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8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1.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底物水平磷酸化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(substrate level phosphorylation)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底物分子内部能量重新分布，生成高能键，使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D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磷酸化生成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的过程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1" name="AutoShape 4"/>
          <p:cNvSpPr/>
          <p:nvPr/>
        </p:nvSpPr>
        <p:spPr>
          <a:xfrm>
            <a:off x="1979640" y="3789360"/>
            <a:ext cx="6948360" cy="259236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"/>
                <a:ea typeface="仿宋"/>
              </a:rPr>
              <a:t>水解时释放的能量大于</a:t>
            </a:r>
            <a:r>
              <a:rPr b="1" lang="en-US" sz="2800" spc="-1" strike="noStrike">
                <a:solidFill>
                  <a:srgbClr val="007a77"/>
                </a:solidFill>
                <a:latin typeface="仿宋"/>
                <a:ea typeface="仿宋"/>
              </a:rPr>
              <a:t>21KJ/mo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"/>
                <a:ea typeface="仿宋"/>
              </a:rPr>
              <a:t>的磷酸酯键，称为高能键。常表示为 </a:t>
            </a:r>
            <a:r>
              <a:rPr b="1" lang="zh-CN" sz="2800" spc="-1" strike="noStrike">
                <a:solidFill>
                  <a:srgbClr val="007a77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7a77"/>
                </a:solidFill>
                <a:latin typeface="仿宋"/>
                <a:ea typeface="仿宋"/>
              </a:rPr>
              <a:t>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9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748640" cy="5418360"/>
          </a:xfrm>
          <a:prstGeom prst="rect">
            <a:avLst/>
          </a:prstGeom>
          <a:ln w="0">
            <a:noFill/>
          </a:ln>
        </p:spPr>
      </p:pic>
      <p:sp>
        <p:nvSpPr>
          <p:cNvPr id="663" name="Oval 3"/>
          <p:cNvSpPr/>
          <p:nvPr/>
        </p:nvSpPr>
        <p:spPr>
          <a:xfrm>
            <a:off x="0" y="1341360"/>
            <a:ext cx="1042920" cy="41036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含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高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能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键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合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物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4" name="Line 4"/>
          <p:cNvSpPr/>
          <p:nvPr/>
        </p:nvSpPr>
        <p:spPr>
          <a:xfrm flipV="1">
            <a:off x="971640" y="1557000"/>
            <a:ext cx="792000" cy="647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5" name="Line 5"/>
          <p:cNvSpPr/>
          <p:nvPr/>
        </p:nvSpPr>
        <p:spPr>
          <a:xfrm>
            <a:off x="1116000" y="3357720"/>
            <a:ext cx="7192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6" name="Line 6"/>
          <p:cNvSpPr/>
          <p:nvPr/>
        </p:nvSpPr>
        <p:spPr>
          <a:xfrm>
            <a:off x="971640" y="4724280"/>
            <a:ext cx="936360" cy="649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磷酸化 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(oxidative phosphorylation)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1680" y="1916280"/>
            <a:ext cx="88423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定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指在呼吸链电子传递过程中偶联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D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磷酸化，生成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又称为</a:t>
            </a:r>
            <a:r>
              <a:rPr b="1" lang="zh-CN" sz="2800" spc="-1" strike="noStrike">
                <a:solidFill>
                  <a:srgbClr val="7979a5"/>
                </a:solidFill>
                <a:latin typeface="Arial"/>
              </a:rPr>
              <a:t>偶联磷酸化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Arial"/>
              </a:rPr>
              <a:t>偶联部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669" name="Object 4"/>
          <p:cNvGraphicFramePr/>
          <p:nvPr/>
        </p:nvGraphicFramePr>
        <p:xfrm>
          <a:off x="1042920" y="4076640"/>
          <a:ext cx="7489800" cy="23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076640"/>
                    <a:ext cx="748980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0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9" dur="20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10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2" descr="链1"/>
          <p:cNvPicPr/>
          <p:nvPr/>
        </p:nvPicPr>
        <p:blipFill>
          <a:blip r:embed="rId1"/>
          <a:stretch/>
        </p:blipFill>
        <p:spPr>
          <a:xfrm>
            <a:off x="684360" y="836640"/>
            <a:ext cx="8135640" cy="3313080"/>
          </a:xfrm>
          <a:prstGeom prst="rect">
            <a:avLst/>
          </a:prstGeom>
          <a:ln w="0">
            <a:noFill/>
          </a:ln>
        </p:spPr>
      </p:pic>
      <p:grpSp>
        <p:nvGrpSpPr>
          <p:cNvPr id="672" name="Group 3"/>
          <p:cNvGrpSpPr/>
          <p:nvPr/>
        </p:nvGrpSpPr>
        <p:grpSpPr>
          <a:xfrm>
            <a:off x="755640" y="4365720"/>
            <a:ext cx="2286000" cy="779760"/>
            <a:chOff x="755640" y="4365720"/>
            <a:chExt cx="2286000" cy="779760"/>
          </a:xfrm>
        </p:grpSpPr>
        <p:sp>
          <p:nvSpPr>
            <p:cNvPr id="673" name="Line 4"/>
            <p:cNvSpPr/>
            <p:nvPr/>
          </p:nvSpPr>
          <p:spPr>
            <a:xfrm>
              <a:off x="3041640" y="4365720"/>
              <a:ext cx="0" cy="7617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4" name="Line 5"/>
            <p:cNvSpPr/>
            <p:nvPr/>
          </p:nvSpPr>
          <p:spPr>
            <a:xfrm>
              <a:off x="755640" y="4365720"/>
              <a:ext cx="0" cy="7617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5" name="Line 6"/>
            <p:cNvSpPr/>
            <p:nvPr/>
          </p:nvSpPr>
          <p:spPr>
            <a:xfrm flipH="1">
              <a:off x="755640" y="49644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6" name="Line 7"/>
            <p:cNvSpPr/>
            <p:nvPr/>
          </p:nvSpPr>
          <p:spPr>
            <a:xfrm>
              <a:off x="2584440" y="49644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7" name="Text Box 8"/>
            <p:cNvSpPr/>
            <p:nvPr/>
          </p:nvSpPr>
          <p:spPr>
            <a:xfrm>
              <a:off x="1365120" y="4746600"/>
              <a:ext cx="100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  <a:ea typeface="GungsuhChe"/>
                </a:rPr>
                <a:t>ATP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78" name="Group 9"/>
          <p:cNvGrpSpPr/>
          <p:nvPr/>
        </p:nvGrpSpPr>
        <p:grpSpPr>
          <a:xfrm>
            <a:off x="3203280" y="4508640"/>
            <a:ext cx="3429360" cy="452880"/>
            <a:chOff x="3203280" y="4508640"/>
            <a:chExt cx="3429360" cy="452880"/>
          </a:xfrm>
        </p:grpSpPr>
        <p:sp>
          <p:nvSpPr>
            <p:cNvPr id="679" name="Line 10"/>
            <p:cNvSpPr/>
            <p:nvPr/>
          </p:nvSpPr>
          <p:spPr>
            <a:xfrm>
              <a:off x="6632640" y="4508640"/>
              <a:ext cx="0" cy="2685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0" name="Line 11"/>
            <p:cNvSpPr/>
            <p:nvPr/>
          </p:nvSpPr>
          <p:spPr>
            <a:xfrm flipH="1">
              <a:off x="3203280" y="4627800"/>
              <a:ext cx="60948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1" name="Line 12"/>
            <p:cNvSpPr/>
            <p:nvPr/>
          </p:nvSpPr>
          <p:spPr>
            <a:xfrm>
              <a:off x="6099120" y="4627800"/>
              <a:ext cx="53352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2" name="Rectangle 13"/>
            <p:cNvSpPr/>
            <p:nvPr/>
          </p:nvSpPr>
          <p:spPr>
            <a:xfrm>
              <a:off x="4482360" y="4562640"/>
              <a:ext cx="79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ATP 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83" name="Group 14"/>
          <p:cNvGrpSpPr/>
          <p:nvPr/>
        </p:nvGrpSpPr>
        <p:grpSpPr>
          <a:xfrm>
            <a:off x="6781680" y="4365720"/>
            <a:ext cx="2361960" cy="499680"/>
            <a:chOff x="6781680" y="4365720"/>
            <a:chExt cx="2361960" cy="499680"/>
          </a:xfrm>
        </p:grpSpPr>
        <p:sp>
          <p:nvSpPr>
            <p:cNvPr id="684" name="Line 15"/>
            <p:cNvSpPr/>
            <p:nvPr/>
          </p:nvSpPr>
          <p:spPr>
            <a:xfrm>
              <a:off x="6781680" y="4365720"/>
              <a:ext cx="0" cy="4460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5" name="Line 16"/>
            <p:cNvSpPr/>
            <p:nvPr/>
          </p:nvSpPr>
          <p:spPr>
            <a:xfrm>
              <a:off x="9143640" y="4365720"/>
              <a:ext cx="0" cy="4460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6" name="Line 17"/>
            <p:cNvSpPr/>
            <p:nvPr/>
          </p:nvSpPr>
          <p:spPr>
            <a:xfrm flipH="1">
              <a:off x="6781680" y="4588560"/>
              <a:ext cx="442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7" name="Line 18"/>
            <p:cNvSpPr/>
            <p:nvPr/>
          </p:nvSpPr>
          <p:spPr>
            <a:xfrm>
              <a:off x="8700480" y="4588560"/>
              <a:ext cx="442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8" name="Rectangle 19"/>
            <p:cNvSpPr/>
            <p:nvPr/>
          </p:nvSpPr>
          <p:spPr>
            <a:xfrm>
              <a:off x="7180200" y="446652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   </a:t>
              </a: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ATP  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89" name="Rectangle 20"/>
          <p:cNvSpPr/>
          <p:nvPr/>
        </p:nvSpPr>
        <p:spPr>
          <a:xfrm>
            <a:off x="4067280" y="5445000"/>
            <a:ext cx="3657600" cy="6098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楷体"/>
                <a:ea typeface="华文楷体"/>
              </a:rPr>
              <a:t>氧化磷酸化偶联部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9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氧化磷酸化及偶联部位示意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1" name="Pictur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关于呼吸链产生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数目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比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是指物质氧化时，每消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摩尔氧原子所消耗的无机磷的摩尔数（或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摩尔数），即生成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摩尔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很多实验所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分别为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2~3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ADH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为电子供体）和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~2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（琥珀酸为电子供体）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折中数据，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DH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氧化呼吸链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；琥珀酸氧化呼吸链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6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1" dur="20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06" dur="200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二、生物氧化由酶催化逐步进行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905120"/>
            <a:ext cx="808668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糖、脂肪及蛋白质等营养物质在体内氧化及体外燃烧虽然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终产物都是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，释放的总能量也完全相等，氧化反应类型也相同，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但二者在条件、能量释放等方面却大不相同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30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氧化磷酸化的机制示意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化学渗透学说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5" name="Picture 3" descr="无标题"/>
          <p:cNvPicPr/>
          <p:nvPr/>
        </p:nvPicPr>
        <p:blipFill>
          <a:blip r:embed="rId1">
            <a:grayscl/>
          </a:blip>
          <a:stretch/>
        </p:blipFill>
        <p:spPr>
          <a:xfrm>
            <a:off x="684360" y="2133720"/>
            <a:ext cx="7343640" cy="395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8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影响氧化磷酸化作用的因素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＊</a:t>
            </a: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1. ADP/ATP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是调节氧化磷酸化的主要因素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甲状腺素能使机体耗氧和产热均增加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氧化磷酸化抑制剂：主要有呼吸链阻断剂和解偶     联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5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5" dur="100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100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c5900"/>
                </a:solidFill>
                <a:latin typeface="Arial"/>
              </a:rPr>
              <a:t>1. ADP/ATP</a:t>
            </a: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调节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99" name="Diagram 3"/>
          <p:cNvGrpSpPr/>
          <p:nvPr/>
        </p:nvGrpSpPr>
        <p:grpSpPr>
          <a:xfrm>
            <a:off x="536400" y="1805760"/>
            <a:ext cx="8092440" cy="4324320"/>
            <a:chOff x="536400" y="1805760"/>
            <a:chExt cx="8092440" cy="4324320"/>
          </a:xfrm>
        </p:grpSpPr>
        <p:sp>
          <p:nvSpPr>
            <p:cNvPr id="700" name="_s2052"/>
            <p:cNvSpPr/>
            <p:nvPr/>
          </p:nvSpPr>
          <p:spPr>
            <a:xfrm flipV="1">
              <a:off x="3233160" y="1805040"/>
              <a:ext cx="2698920" cy="1441800"/>
            </a:xfrm>
            <a:custGeom>
              <a:avLst/>
              <a:gdLst>
                <a:gd name="textAreaLeft" fmla="*/ 968400 w 2698920"/>
                <a:gd name="textAreaRight" fmla="*/ 1730520 w 2698920"/>
                <a:gd name="textAreaTop" fmla="*/ 517320 h 1441800"/>
                <a:gd name="textAreaBottom" fmla="*/ 924480 h 144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ADP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1" name="_s2053"/>
            <p:cNvSpPr/>
            <p:nvPr/>
          </p:nvSpPr>
          <p:spPr>
            <a:xfrm flipV="1">
              <a:off x="1884960" y="3247920"/>
              <a:ext cx="5395680" cy="1440000"/>
            </a:xfrm>
            <a:custGeom>
              <a:avLst/>
              <a:gdLst>
                <a:gd name="textAreaLeft" fmla="*/ 1186560 w 5395680"/>
                <a:gd name="textAreaRight" fmla="*/ 4209120 w 5395680"/>
                <a:gd name="textAreaTop" fmla="*/ 316440 h 1440000"/>
                <a:gd name="textAreaBottom" fmla="*/ 1123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7a77"/>
                  </a:solidFill>
                  <a:latin typeface="Arial"/>
                </a:rPr>
                <a:t>ATP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2" name="_s2054"/>
            <p:cNvSpPr/>
            <p:nvPr/>
          </p:nvSpPr>
          <p:spPr>
            <a:xfrm flipV="1">
              <a:off x="536400" y="4687560"/>
              <a:ext cx="8092440" cy="1441800"/>
            </a:xfrm>
            <a:custGeom>
              <a:avLst/>
              <a:gdLst>
                <a:gd name="textAreaLeft" fmla="*/ 1404720 w 8092440"/>
                <a:gd name="textAreaRight" fmla="*/ 6687720 w 8092440"/>
                <a:gd name="textAreaTop" fmla="*/ 250200 h 1441800"/>
                <a:gd name="textAreaBottom" fmla="*/ 1191600 h 144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</a:rPr>
                <a:t>氧化磷酸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</a:rPr>
                <a:t>化速度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03" name="Rectangle 8"/>
          <p:cNvSpPr/>
          <p:nvPr/>
        </p:nvSpPr>
        <p:spPr>
          <a:xfrm>
            <a:off x="5278320" y="3789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↓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4" name="Rectangle 9"/>
          <p:cNvSpPr/>
          <p:nvPr/>
        </p:nvSpPr>
        <p:spPr>
          <a:xfrm>
            <a:off x="448632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5" name="AutoShape 10"/>
          <p:cNvSpPr/>
          <p:nvPr/>
        </p:nvSpPr>
        <p:spPr>
          <a:xfrm>
            <a:off x="5724360" y="5589720"/>
            <a:ext cx="71640" cy="360360"/>
          </a:xfrm>
          <a:prstGeom prst="upArrow">
            <a:avLst>
              <a:gd name="adj1" fmla="val 50000"/>
              <a:gd name="adj2" fmla="val 125754"/>
            </a:avLst>
          </a:prstGeom>
          <a:solidFill>
            <a:srgbClr val="dc5900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59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dc5900"/>
                </a:solidFill>
                <a:latin typeface="Arial"/>
              </a:rPr>
              <a:t>甲状腺素调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07" name="Organization Chart 3"/>
          <p:cNvGrpSpPr/>
          <p:nvPr/>
        </p:nvGrpSpPr>
        <p:grpSpPr>
          <a:xfrm>
            <a:off x="2627280" y="1989000"/>
            <a:ext cx="4194000" cy="4192920"/>
            <a:chOff x="2627280" y="1989000"/>
            <a:chExt cx="4194000" cy="4192920"/>
          </a:xfrm>
        </p:grpSpPr>
        <p:cxnSp>
          <p:nvCxnSpPr>
            <p:cNvPr id="708" name="_s3076"/>
            <p:cNvCxnSpPr>
              <a:stCxn id="709" idx="0"/>
              <a:endCxn id="710" idx="2"/>
            </p:cNvCxnSpPr>
            <p:nvPr/>
          </p:nvCxnSpPr>
          <p:spPr>
            <a:xfrm flipV="1" rot="16200000">
              <a:off x="4868640" y="3520080"/>
              <a:ext cx="839160" cy="113004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711" name="_s3077"/>
            <p:cNvCxnSpPr>
              <a:stCxn id="712" idx="0"/>
              <a:endCxn id="710" idx="2"/>
            </p:cNvCxnSpPr>
            <p:nvPr/>
          </p:nvCxnSpPr>
          <p:spPr>
            <a:xfrm flipH="1" flipV="1" rot="5400000">
              <a:off x="3739680" y="3520440"/>
              <a:ext cx="839160" cy="11293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sp>
          <p:nvSpPr>
            <p:cNvPr id="710" name="_s3078"/>
            <p:cNvSpPr/>
            <p:nvPr/>
          </p:nvSpPr>
          <p:spPr>
            <a:xfrm>
              <a:off x="3755880" y="198900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甲状腺素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12" name="_s3079"/>
            <p:cNvSpPr/>
            <p:nvPr/>
          </p:nvSpPr>
          <p:spPr>
            <a:xfrm>
              <a:off x="2627280" y="450468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Arial"/>
                </a:rPr>
                <a:t>Na+,K+–ATP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酶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9" name="_s3080"/>
            <p:cNvSpPr/>
            <p:nvPr/>
          </p:nvSpPr>
          <p:spPr>
            <a:xfrm>
              <a:off x="4885560" y="450468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解偶联蛋白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基因表达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13" name="Text Box 10"/>
          <p:cNvSpPr/>
          <p:nvPr/>
        </p:nvSpPr>
        <p:spPr>
          <a:xfrm>
            <a:off x="2268360" y="4076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活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4" name="AutoShape 11"/>
          <p:cNvSpPr/>
          <p:nvPr/>
        </p:nvSpPr>
        <p:spPr>
          <a:xfrm>
            <a:off x="1116000" y="4941720"/>
            <a:ext cx="71280" cy="792360"/>
          </a:xfrm>
          <a:prstGeom prst="upArrow">
            <a:avLst>
              <a:gd name="adj1" fmla="val 50000"/>
              <a:gd name="adj2" fmla="val 27790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5" name="AutoShape 12"/>
          <p:cNvSpPr/>
          <p:nvPr/>
        </p:nvSpPr>
        <p:spPr>
          <a:xfrm>
            <a:off x="7164360" y="4797360"/>
            <a:ext cx="71640" cy="863640"/>
          </a:xfrm>
          <a:prstGeom prst="upArrow">
            <a:avLst>
              <a:gd name="adj1" fmla="val 50000"/>
              <a:gd name="adj2" fmla="val 301382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6" name="Text Box 13"/>
          <p:cNvSpPr/>
          <p:nvPr/>
        </p:nvSpPr>
        <p:spPr>
          <a:xfrm>
            <a:off x="5940360" y="40053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使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7" name="Text Box 14"/>
          <p:cNvSpPr/>
          <p:nvPr/>
        </p:nvSpPr>
        <p:spPr>
          <a:xfrm>
            <a:off x="1332000" y="4869000"/>
            <a:ext cx="215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8" name="Line 15"/>
          <p:cNvSpPr/>
          <p:nvPr/>
        </p:nvSpPr>
        <p:spPr>
          <a:xfrm flipH="1">
            <a:off x="1834920" y="5373720"/>
            <a:ext cx="6490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9" name="Text Box 16"/>
          <p:cNvSpPr/>
          <p:nvPr/>
        </p:nvSpPr>
        <p:spPr>
          <a:xfrm>
            <a:off x="1979640" y="4581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分解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0" name="Line 17"/>
          <p:cNvSpPr/>
          <p:nvPr/>
        </p:nvSpPr>
        <p:spPr>
          <a:xfrm>
            <a:off x="7380360" y="5445000"/>
            <a:ext cx="57636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1" name="Text Box 18"/>
          <p:cNvSpPr/>
          <p:nvPr/>
        </p:nvSpPr>
        <p:spPr>
          <a:xfrm>
            <a:off x="8028000" y="400536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大量释放热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2" name="Text Box 19"/>
          <p:cNvSpPr/>
          <p:nvPr/>
        </p:nvSpPr>
        <p:spPr>
          <a:xfrm>
            <a:off x="7451640" y="465300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造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9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4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9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9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9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9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6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1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氧化磷酸化抑制剂主要有呼吸链阻断剂和解偶联剂 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24" name="Picture 3" descr="链1"/>
          <p:cNvPicPr/>
          <p:nvPr/>
        </p:nvPicPr>
        <p:blipFill>
          <a:blip r:embed="rId1"/>
          <a:stretch/>
        </p:blipFill>
        <p:spPr>
          <a:xfrm>
            <a:off x="1116000" y="2924280"/>
            <a:ext cx="7128000" cy="2305080"/>
          </a:xfrm>
          <a:prstGeom prst="rect">
            <a:avLst/>
          </a:prstGeom>
          <a:ln w="0">
            <a:noFill/>
          </a:ln>
        </p:spPr>
      </p:pic>
      <p:sp>
        <p:nvSpPr>
          <p:cNvPr id="725" name="Line 4"/>
          <p:cNvSpPr/>
          <p:nvPr/>
        </p:nvSpPr>
        <p:spPr>
          <a:xfrm flipH="1">
            <a:off x="4716000" y="2781360"/>
            <a:ext cx="71640" cy="170172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324000" y="62064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氧化磷酸化抑制剂主要有呼吸链阻断剂和解偶联剂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4426560" y="177336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抗霉素</a:t>
            </a:r>
            <a:r>
              <a:rPr b="1" lang="en-US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A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二巯基丙醇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8" name="Line 7"/>
          <p:cNvSpPr/>
          <p:nvPr/>
        </p:nvSpPr>
        <p:spPr>
          <a:xfrm>
            <a:off x="7740720" y="2565360"/>
            <a:ext cx="0" cy="213372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9" name="Rectangle 8"/>
          <p:cNvSpPr/>
          <p:nvPr/>
        </p:nvSpPr>
        <p:spPr>
          <a:xfrm>
            <a:off x="7020000" y="1773360"/>
            <a:ext cx="157320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CO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CN</a:t>
            </a:r>
            <a:r>
              <a:rPr b="1" lang="en-US" sz="2000" spc="-1" strike="noStrike" baseline="30000">
                <a:solidFill>
                  <a:srgbClr val="007a77"/>
                </a:solidFill>
                <a:latin typeface="Times New Roman"/>
                <a:ea typeface="华文中宋"/>
              </a:rPr>
              <a:t>-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N</a:t>
            </a:r>
            <a:r>
              <a:rPr b="1" lang="en-US" sz="2000" spc="-1" strike="noStrike" baseline="-25000">
                <a:solidFill>
                  <a:srgbClr val="007a77"/>
                </a:solidFill>
                <a:latin typeface="Times New Roman"/>
                <a:ea typeface="华文中宋"/>
              </a:rPr>
              <a:t>3</a:t>
            </a:r>
            <a:r>
              <a:rPr b="1" lang="en-US" sz="2000" spc="-1" strike="noStrike" baseline="30000">
                <a:solidFill>
                  <a:srgbClr val="007a77"/>
                </a:solidFill>
                <a:latin typeface="Times New Roman"/>
                <a:ea typeface="华文中宋"/>
              </a:rPr>
              <a:t>-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及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H</a:t>
            </a:r>
            <a:r>
              <a:rPr b="1" lang="en-US" sz="2000" spc="-1" strike="noStrike" baseline="-25000">
                <a:solidFill>
                  <a:srgbClr val="007a77"/>
                </a:solidFill>
                <a:latin typeface="Times New Roman"/>
                <a:ea typeface="华文中宋"/>
              </a:rPr>
              <a:t>2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S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0" name="Oval 9"/>
          <p:cNvSpPr/>
          <p:nvPr/>
        </p:nvSpPr>
        <p:spPr>
          <a:xfrm>
            <a:off x="4859280" y="350028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1" name="Oval 10"/>
          <p:cNvSpPr/>
          <p:nvPr/>
        </p:nvSpPr>
        <p:spPr>
          <a:xfrm>
            <a:off x="7812000" y="3357720"/>
            <a:ext cx="38124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2" name="Line 11"/>
          <p:cNvSpPr/>
          <p:nvPr/>
        </p:nvSpPr>
        <p:spPr>
          <a:xfrm flipV="1">
            <a:off x="2843280" y="3933720"/>
            <a:ext cx="73080" cy="165600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3" name="Rectangle 12"/>
          <p:cNvSpPr/>
          <p:nvPr/>
        </p:nvSpPr>
        <p:spPr>
          <a:xfrm>
            <a:off x="2124000" y="5445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鱼藤酮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粉蝶霉素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4" name="Oval 13"/>
          <p:cNvSpPr/>
          <p:nvPr/>
        </p:nvSpPr>
        <p:spPr>
          <a:xfrm>
            <a:off x="2987640" y="501336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5" name="Rectangle 14"/>
          <p:cNvSpPr/>
          <p:nvPr/>
        </p:nvSpPr>
        <p:spPr>
          <a:xfrm>
            <a:off x="3635280" y="5229360"/>
            <a:ext cx="5184720" cy="5205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华文楷体"/>
              </a:rPr>
              <a:t>各种呼吸链抑制剂的阻断位点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四、细胞质中生成的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通过穿梭进入线粒体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（一）苹果酸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天冬氨酸穿梭主要存在于心肌和肝组织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38" name="Picture 4" descr="图6-11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9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9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（二）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α-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磷酸甘油穿梭主要存在于骨骼肌和脑组织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40" name="Picture 3" descr="7-9"/>
          <p:cNvPicPr/>
          <p:nvPr/>
        </p:nvPicPr>
        <p:blipFill>
          <a:blip r:embed="rId1"/>
          <a:srcRect l="2360" t="0" r="3542" b="0"/>
          <a:stretch/>
        </p:blipFill>
        <p:spPr>
          <a:xfrm>
            <a:off x="301680" y="1197000"/>
            <a:ext cx="8540640" cy="51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五、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有重要生理功能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机体各种生理、生化活动的主要供能物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二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转变成其他三磷酸核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743" name="Group 4"/>
          <p:cNvGrpSpPr/>
          <p:nvPr/>
        </p:nvGrpSpPr>
        <p:grpSpPr>
          <a:xfrm>
            <a:off x="1763640" y="3573360"/>
            <a:ext cx="6318360" cy="3550680"/>
            <a:chOff x="1763640" y="3573360"/>
            <a:chExt cx="6318360" cy="3550680"/>
          </a:xfrm>
        </p:grpSpPr>
        <p:sp>
          <p:nvSpPr>
            <p:cNvPr id="744" name="Rectangle 5"/>
            <p:cNvSpPr/>
            <p:nvPr/>
          </p:nvSpPr>
          <p:spPr>
            <a:xfrm>
              <a:off x="1763640" y="3573360"/>
              <a:ext cx="6318360" cy="35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</a:rPr>
                <a:t>       </a:t>
              </a:r>
              <a:r>
                <a:rPr b="1" lang="zh-CN" sz="2800" spc="-1" strike="noStrike">
                  <a:solidFill>
                    <a:srgbClr val="660066"/>
                  </a:solidFill>
                  <a:latin typeface="Times New Roman"/>
                </a:rPr>
                <a:t>核苷二磷酸激酶的作用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UDP          ADP + U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CDP          ADP + C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GDP          ADP + G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745" name="Group 6"/>
            <p:cNvGrpSpPr/>
            <p:nvPr/>
          </p:nvGrpSpPr>
          <p:grpSpPr>
            <a:xfrm>
              <a:off x="3708360" y="4870440"/>
              <a:ext cx="792000" cy="72720"/>
              <a:chOff x="3708360" y="4870440"/>
              <a:chExt cx="792000" cy="72720"/>
            </a:xfrm>
          </p:grpSpPr>
          <p:sp>
            <p:nvSpPr>
              <p:cNvPr id="746" name="Line 7"/>
              <p:cNvSpPr/>
              <p:nvPr/>
            </p:nvSpPr>
            <p:spPr>
              <a:xfrm>
                <a:off x="3708360" y="487044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47" name="Line 8"/>
              <p:cNvSpPr/>
              <p:nvPr/>
            </p:nvSpPr>
            <p:spPr>
              <a:xfrm flipH="1">
                <a:off x="3708360" y="494316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48" name="Group 9"/>
            <p:cNvGrpSpPr/>
            <p:nvPr/>
          </p:nvGrpSpPr>
          <p:grpSpPr>
            <a:xfrm>
              <a:off x="3708360" y="5518080"/>
              <a:ext cx="792000" cy="73080"/>
              <a:chOff x="3708360" y="5518080"/>
              <a:chExt cx="792000" cy="73080"/>
            </a:xfrm>
          </p:grpSpPr>
          <p:sp>
            <p:nvSpPr>
              <p:cNvPr id="749" name="Line 10"/>
              <p:cNvSpPr/>
              <p:nvPr/>
            </p:nvSpPr>
            <p:spPr>
              <a:xfrm>
                <a:off x="3708360" y="551808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0" name="Line 11"/>
              <p:cNvSpPr/>
              <p:nvPr/>
            </p:nvSpPr>
            <p:spPr>
              <a:xfrm flipH="1">
                <a:off x="3708360" y="559116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51" name="Group 12"/>
            <p:cNvGrpSpPr/>
            <p:nvPr/>
          </p:nvGrpSpPr>
          <p:grpSpPr>
            <a:xfrm>
              <a:off x="3708360" y="6165720"/>
              <a:ext cx="792000" cy="73080"/>
              <a:chOff x="3708360" y="6165720"/>
              <a:chExt cx="792000" cy="73080"/>
            </a:xfrm>
          </p:grpSpPr>
          <p:sp>
            <p:nvSpPr>
              <p:cNvPr id="752" name="Line 13"/>
              <p:cNvSpPr/>
              <p:nvPr/>
            </p:nvSpPr>
            <p:spPr>
              <a:xfrm>
                <a:off x="3708360" y="616572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3" name="Line 14"/>
              <p:cNvSpPr/>
              <p:nvPr/>
            </p:nvSpPr>
            <p:spPr>
              <a:xfrm flipH="1">
                <a:off x="3708360" y="623880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4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（三）磷酸肌酸是肌肉和脑组织中能量的一种储存形式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55" name="Picture 3" descr="肌酸激酶"/>
          <p:cNvPicPr/>
          <p:nvPr/>
        </p:nvPicPr>
        <p:blipFill>
          <a:blip r:embed="rId1"/>
          <a:stretch/>
        </p:blipFill>
        <p:spPr>
          <a:xfrm>
            <a:off x="395280" y="1844640"/>
            <a:ext cx="806436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9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8" dur="2000" fill="hold"/>
                                        <p:tgtEl>
                                          <p:spTgt spid="7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2" descr=""/>
          <p:cNvPicPr/>
          <p:nvPr/>
        </p:nvPicPr>
        <p:blipFill>
          <a:blip r:embed="rId1"/>
          <a:stretch/>
        </p:blipFill>
        <p:spPr>
          <a:xfrm>
            <a:off x="2627280" y="1905120"/>
            <a:ext cx="3889440" cy="3539880"/>
          </a:xfrm>
          <a:prstGeom prst="rect">
            <a:avLst/>
          </a:prstGeom>
          <a:ln w="0">
            <a:noFill/>
          </a:ln>
        </p:spPr>
      </p:pic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800" spc="-1" strike="noStrike">
                <a:solidFill>
                  <a:srgbClr val="003399"/>
                </a:solidFill>
                <a:latin typeface="Arial"/>
              </a:rPr>
              <a:t>的生成和利用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58" name="Group 4"/>
          <p:cNvGrpSpPr/>
          <p:nvPr/>
        </p:nvGrpSpPr>
        <p:grpSpPr>
          <a:xfrm>
            <a:off x="578880" y="4653000"/>
            <a:ext cx="2263680" cy="971640"/>
            <a:chOff x="578880" y="4653000"/>
            <a:chExt cx="2263680" cy="971640"/>
          </a:xfrm>
        </p:grpSpPr>
        <p:sp>
          <p:nvSpPr>
            <p:cNvPr id="759" name="Text Box 5"/>
            <p:cNvSpPr/>
            <p:nvPr/>
          </p:nvSpPr>
          <p:spPr>
            <a:xfrm>
              <a:off x="578880" y="4653000"/>
              <a:ext cx="211896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66"/>
                  </a:solidFill>
                  <a:latin typeface="Times New Roman"/>
                  <a:ea typeface="华文中宋"/>
                </a:rPr>
                <a:t>           </a:t>
              </a: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氧化磷酸化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  </a:t>
              </a: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底物水平磷酸化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60" name="AutoShape 6"/>
            <p:cNvSpPr/>
            <p:nvPr/>
          </p:nvSpPr>
          <p:spPr>
            <a:xfrm>
              <a:off x="2770560" y="4878360"/>
              <a:ext cx="72000" cy="533520"/>
            </a:xfrm>
            <a:custGeom>
              <a:avLst/>
              <a:gdLst>
                <a:gd name="textAreaLeft" fmla="*/ 0 w 72000"/>
                <a:gd name="textAreaRight" fmla="*/ 25920 w 7200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646d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61" name="AutoShape 7"/>
          <p:cNvSpPr/>
          <p:nvPr/>
        </p:nvSpPr>
        <p:spPr>
          <a:xfrm>
            <a:off x="6084720" y="1268280"/>
            <a:ext cx="3059280" cy="5113440"/>
          </a:xfrm>
          <a:prstGeom prst="sun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肌肉收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物质主动转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合成代谢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生物电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维持体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1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8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体内外物质氧化比较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301680" y="1905120"/>
          <a:ext cx="8540640" cy="4438440"/>
        </p:xfrm>
        <a:graphic>
          <a:graphicData uri="http://schemas.openxmlformats.org/drawingml/2006/table">
            <a:tbl>
              <a:tblPr/>
              <a:tblGrid>
                <a:gridCol w="2846160"/>
                <a:gridCol w="2848320"/>
                <a:gridCol w="2846160"/>
              </a:tblGrid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对比项目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生物氧化（体内）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体外氧化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反应条件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温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剧烈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反应过程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逐步进行酶促反应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一步完成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能量释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逐步进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瞬间释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007a77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生成方式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有机酸脱羧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碳和氧结合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水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需要水参加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不需要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5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3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三节  线粒体外的生物氧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场所：微粒体和过氧化物酶体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特点：氧化过程中不伴有偶联磷酸化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9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9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9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389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一、微粒体氧化体系主要为加单氧酶系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催化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的一个氧原子加到作用物分子上，另一个氧原子被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DPH+H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还原成水，因此该酶又称为混合功能氧化酶或者羟化酶。反应需要细胞色素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450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DPH+H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AD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参加。其反应式如下：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65" name="Picture 3" descr=""/>
          <p:cNvPicPr/>
          <p:nvPr/>
        </p:nvPicPr>
        <p:blipFill>
          <a:blip r:embed="rId1"/>
          <a:stretch/>
        </p:blipFill>
        <p:spPr>
          <a:xfrm>
            <a:off x="684360" y="4797360"/>
            <a:ext cx="7870680" cy="936720"/>
          </a:xfrm>
          <a:prstGeom prst="rect">
            <a:avLst/>
          </a:prstGeom>
          <a:ln w="0">
            <a:noFill/>
          </a:ln>
        </p:spPr>
      </p:pic>
      <p:sp>
        <p:nvSpPr>
          <p:cNvPr id="766" name="AutoShape 4"/>
          <p:cNvSpPr/>
          <p:nvPr/>
        </p:nvSpPr>
        <p:spPr>
          <a:xfrm>
            <a:off x="3924360" y="5229360"/>
            <a:ext cx="1511280" cy="215640"/>
          </a:xfrm>
          <a:prstGeom prst="rightArrow">
            <a:avLst>
              <a:gd name="adj1" fmla="val 50000"/>
              <a:gd name="adj2" fmla="val 175209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3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二、过氧化物酶体氧化体系氧化过程产生活性氧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9" name="AutoShape 4"/>
          <p:cNvSpPr/>
          <p:nvPr/>
        </p:nvSpPr>
        <p:spPr>
          <a:xfrm>
            <a:off x="-108000" y="1268280"/>
            <a:ext cx="8748720" cy="558972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过氧化物酶体  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一种特殊的细胞器，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在于动物组织的肝脏、肾脏、中性粒细胞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小肠黏膜细胞中。过氧化物酶体中含多种氧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化酶，能氧化氨基酸、脂肪酸等多种底物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产生活性氧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eactive oxygen species,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OS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0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9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9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9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1000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9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1000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9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活性氧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产生的原因   氧分子必须接受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个电子才能完全还原，产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O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2–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，再与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0" lang="zh-CN" sz="3200" spc="-1" strike="noStrike" baseline="30000">
                <a:solidFill>
                  <a:srgbClr val="007a77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结合成水。如果电子供给不足， 就会产生不稳定的活性氧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种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72" name="Picture 4" descr="活性氧的生成"/>
          <p:cNvPicPr/>
          <p:nvPr/>
        </p:nvPicPr>
        <p:blipFill>
          <a:blip r:embed="rId1"/>
          <a:stretch/>
        </p:blipFill>
        <p:spPr>
          <a:xfrm>
            <a:off x="684360" y="4076640"/>
            <a:ext cx="763272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9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8" dur="500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9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活性氧的损伤作用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对生物大分子有氧化作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5" name="AutoShape 4"/>
          <p:cNvSpPr/>
          <p:nvPr/>
        </p:nvSpPr>
        <p:spPr>
          <a:xfrm>
            <a:off x="1403280" y="2852640"/>
            <a:ext cx="2808360" cy="108108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细胞膜不饱和脂肪酸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6" name="AutoShape 5"/>
          <p:cNvSpPr/>
          <p:nvPr/>
        </p:nvSpPr>
        <p:spPr>
          <a:xfrm>
            <a:off x="3851280" y="4508640"/>
            <a:ext cx="2016000" cy="86508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蛋白质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7" name="AutoShape 6"/>
          <p:cNvSpPr/>
          <p:nvPr/>
        </p:nvSpPr>
        <p:spPr>
          <a:xfrm>
            <a:off x="5796000" y="2924280"/>
            <a:ext cx="1440000" cy="100944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核酸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8" name="AutoShape 7"/>
          <p:cNvSpPr/>
          <p:nvPr/>
        </p:nvSpPr>
        <p:spPr>
          <a:xfrm>
            <a:off x="4067280" y="2565360"/>
            <a:ext cx="2017440" cy="2232000"/>
          </a:xfrm>
          <a:prstGeom prst="irregularSeal2">
            <a:avLst/>
          </a:prstGeom>
          <a:solidFill>
            <a:srgbClr val="ebf7ff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活性氧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9" name="Line 8"/>
          <p:cNvSpPr/>
          <p:nvPr/>
        </p:nvSpPr>
        <p:spPr>
          <a:xfrm flipH="1">
            <a:off x="2340000" y="3933720"/>
            <a:ext cx="503280" cy="50328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0" name="Line 9"/>
          <p:cNvSpPr/>
          <p:nvPr/>
        </p:nvSpPr>
        <p:spPr>
          <a:xfrm flipV="1">
            <a:off x="7164360" y="2924280"/>
            <a:ext cx="432000" cy="2887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1" name="Line 10"/>
          <p:cNvSpPr/>
          <p:nvPr/>
        </p:nvSpPr>
        <p:spPr>
          <a:xfrm>
            <a:off x="4572000" y="5300640"/>
            <a:ext cx="863640" cy="433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2" name="Oval 11"/>
          <p:cNvSpPr/>
          <p:nvPr/>
        </p:nvSpPr>
        <p:spPr>
          <a:xfrm>
            <a:off x="755640" y="4508640"/>
            <a:ext cx="1800360" cy="144144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导致细胞肿胀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3" name="AutoShape 12"/>
          <p:cNvSpPr/>
          <p:nvPr/>
        </p:nvSpPr>
        <p:spPr>
          <a:xfrm>
            <a:off x="5435640" y="5661000"/>
            <a:ext cx="2160720" cy="792360"/>
          </a:xfrm>
          <a:prstGeom prst="roundRect">
            <a:avLst>
              <a:gd name="adj" fmla="val 1666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机体免疫力下降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4" name="AutoShape 13"/>
          <p:cNvSpPr/>
          <p:nvPr/>
        </p:nvSpPr>
        <p:spPr>
          <a:xfrm>
            <a:off x="7524720" y="1197000"/>
            <a:ext cx="1368360" cy="2448000"/>
          </a:xfrm>
          <a:prstGeom prst="triangle">
            <a:avLst>
              <a:gd name="adj" fmla="val 4863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诱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肿瘤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动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粥样硬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3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8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7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2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7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2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8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机体有清除活性氧的能力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超氧化物歧化酶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OD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87" name="Picture 4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7488360" cy="1225440"/>
          </a:xfrm>
          <a:prstGeom prst="rect">
            <a:avLst/>
          </a:prstGeom>
          <a:ln w="0">
            <a:noFill/>
          </a:ln>
        </p:spPr>
      </p:pic>
      <p:sp>
        <p:nvSpPr>
          <p:cNvPr id="788" name="Line 5"/>
          <p:cNvSpPr/>
          <p:nvPr/>
        </p:nvSpPr>
        <p:spPr>
          <a:xfrm>
            <a:off x="4284720" y="3645000"/>
            <a:ext cx="244800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9" name="Oval 6"/>
          <p:cNvSpPr/>
          <p:nvPr/>
        </p:nvSpPr>
        <p:spPr>
          <a:xfrm>
            <a:off x="2700360" y="4724280"/>
            <a:ext cx="3672000" cy="108108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90" name="Picture 7" descr=""/>
          <p:cNvPicPr/>
          <p:nvPr/>
        </p:nvPicPr>
        <p:blipFill>
          <a:blip r:embed="rId2"/>
          <a:stretch/>
        </p:blipFill>
        <p:spPr>
          <a:xfrm>
            <a:off x="3492360" y="4869000"/>
            <a:ext cx="201636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0" dur="5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9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nodeType="clickEffect" fill="hold">
                      <p:stCondLst>
                        <p:cond delay="indefinite"/>
                      </p:stCondLst>
                      <p:childTnLst>
                        <p:par>
                          <p:cTn id="1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3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9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过氧化氢酶和过氧化物酶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1"/>
          <a:stretch/>
        </p:blipFill>
        <p:spPr>
          <a:xfrm>
            <a:off x="1332000" y="1905120"/>
            <a:ext cx="6624720" cy="137952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4" descr=""/>
          <p:cNvPicPr/>
          <p:nvPr/>
        </p:nvPicPr>
        <p:blipFill>
          <a:blip r:embed="rId2"/>
          <a:stretch/>
        </p:blipFill>
        <p:spPr>
          <a:xfrm>
            <a:off x="1692360" y="4221000"/>
            <a:ext cx="6191280" cy="72072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5" descr=""/>
          <p:cNvPicPr/>
          <p:nvPr/>
        </p:nvPicPr>
        <p:blipFill>
          <a:blip r:embed="rId3"/>
          <a:stretch/>
        </p:blipFill>
        <p:spPr>
          <a:xfrm>
            <a:off x="1835280" y="4941720"/>
            <a:ext cx="5761080" cy="935280"/>
          </a:xfrm>
          <a:prstGeom prst="rect">
            <a:avLst/>
          </a:prstGeom>
          <a:ln w="0">
            <a:noFill/>
          </a:ln>
        </p:spPr>
      </p:pic>
      <p:sp>
        <p:nvSpPr>
          <p:cNvPr id="795" name="AutoShape 6"/>
          <p:cNvSpPr/>
          <p:nvPr/>
        </p:nvSpPr>
        <p:spPr>
          <a:xfrm>
            <a:off x="250920" y="3284640"/>
            <a:ext cx="8893080" cy="936360"/>
          </a:xfrm>
          <a:prstGeom prst="flowChartTerminator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过氧化物酶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能催化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分解生成水，并放出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              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氧原子直接氧化酚类和胺类等有毒物质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4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9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10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9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10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9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谷胱甘肽过氧化物酶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利用还原型谷胱甘肽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GSH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使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或其他过氧化物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ROOH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还原，对组织细胞具有保护作用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7" name="Picture 3" descr=""/>
          <p:cNvPicPr/>
          <p:nvPr/>
        </p:nvPicPr>
        <p:blipFill>
          <a:blip r:embed="rId1"/>
          <a:stretch/>
        </p:blipFill>
        <p:spPr>
          <a:xfrm>
            <a:off x="324000" y="3500280"/>
            <a:ext cx="8540640" cy="259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思考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呼吸链有哪些组成成分？它们在体内的传递电子的顺序有几种？相同的传递顺序是什么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叙述氧化磷酸化概念、偶联部位及影响因素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学会根据脱氢酶的辅酶判断，脱下的氢会进入哪条呼吸链并会计算产生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7" dur="1000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nodeType="clickEffect" fill="hold">
                      <p:stCondLst>
                        <p:cond delay="indefinite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01" name="Picture 3" descr="MC900434471[1]"/>
          <p:cNvPicPr/>
          <p:nvPr/>
        </p:nvPicPr>
        <p:blipFill>
          <a:blip r:embed="rId1"/>
          <a:stretch/>
        </p:blipFill>
        <p:spPr>
          <a:xfrm>
            <a:off x="4859280" y="2852640"/>
            <a:ext cx="3384720" cy="216072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4" descr="MC900428903[1]"/>
          <p:cNvPicPr/>
          <p:nvPr/>
        </p:nvPicPr>
        <p:blipFill>
          <a:blip r:embed="rId2"/>
          <a:stretch/>
        </p:blipFill>
        <p:spPr>
          <a:xfrm>
            <a:off x="611280" y="765000"/>
            <a:ext cx="4356000" cy="258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nodeType="clickEffect" fill="hold">
                      <p:stCondLst>
                        <p:cond delay="indefinite"/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三、生物氧化反应的类型有脱电子、脱氢、加氧等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脱电子反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作用物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分子上脱去一个电子，从而使其原子或离子的正价增加而被氧化，脱去的电子由受电子体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接受而被还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250920" y="4005360"/>
            <a:ext cx="889308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8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540640" cy="55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脱氢反应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作用物分子中脱去一对氢，由受氢体接受氢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849780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8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540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因一对氢原子是由一对质子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 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和一对电子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e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组成，故脱氢反应也包括脱电子反应。脱氢反应的另一种类型是“加水脱氢”。作用物先与水结合，然后脱去两个氢原子，结果是作用物分子上加了一个氧原子。如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2" name="Picture 3" descr=""/>
          <p:cNvPicPr/>
          <p:nvPr/>
        </p:nvPicPr>
        <p:blipFill>
          <a:blip r:embed="rId1"/>
          <a:stretch/>
        </p:blipFill>
        <p:spPr>
          <a:xfrm>
            <a:off x="611280" y="3284640"/>
            <a:ext cx="7993080" cy="27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750000011175871"/>
                                  </p:iterate>
                                  <p:childTnLst>
                                    <p:set>
                                      <p:cBhvr>
                                        <p:cTn id="175" dur="3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（三）加氧反应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作用物分子中直接加入氧原子或氧分子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5" name="Picture 4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064720" cy="36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8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0T09:01:40Z</dcterms:created>
  <dc:creator>user</dc:creator>
  <dc:description/>
  <dc:language>en-US</dc:language>
  <cp:lastModifiedBy>ZhangLL</cp:lastModifiedBy>
  <dcterms:modified xsi:type="dcterms:W3CDTF">2014-12-04T06:27:25Z</dcterms:modified>
  <cp:revision>168</cp:revision>
  <dc:subject/>
  <dc:title>第六章  生物氧化</dc:title>
</cp:coreProperties>
</file>