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png" ContentType="image/png"/>
  <Override PartName="/ppt/media/image6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0.png" ContentType="image/png"/>
  <Override PartName="/ppt/media/image4.wmf" ContentType="image/x-wmf"/>
  <Override PartName="/ppt/media/image22.wmf" ContentType="image/x-wmf"/>
  <Override PartName="/ppt/media/image20.png" ContentType="image/png"/>
  <Override PartName="/ppt/media/image2.wmf" ContentType="image/x-wmf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1.wmf" ContentType="image/x-wmf"/>
  <Override PartName="/ppt/media/image23.wmf" ContentType="image/x-wmf"/>
  <Override PartName="/ppt/media/image9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9825-1DA1-4B42-BA9B-59A20DF97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CDCF-8102-4C48-939E-930322CA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EB72-C38D-4156-857C-2073318BB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4E16-187D-4BF4-AC08-D53EC8BB2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23E9-183F-42FF-9461-7A6D5BEDD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1273-88B1-42A7-9FED-496EADD4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7BDF-61A4-48BA-B364-7C335A9C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C400-3867-4D45-B380-194FBC1B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69A1A-835D-4C3C-B0C1-DB8A108B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E89D-3CF8-4C7E-85F2-301EF31B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D1A2-B8B3-4EB4-AEC8-0AC84574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1BD6-9DE2-4C81-8AB6-4FC44415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80E4-9B5F-48EC-8A01-86A87D06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0810-DFBB-4427-9BB7-74F3B7B2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395C-7A72-4918-989A-216B9735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5F3A-3F36-44F1-9563-C72A0A864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A97A-D8D1-4D04-9423-358E56A07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1BB2-5E5A-4FF9-AF9E-D49D5DE8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D1AF-EE9E-447D-88A4-24160047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7C2D-B974-4F6A-BBF1-64A61251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6F04-A320-4B9A-8F1A-46AB8C2E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62B2-32A9-493F-994C-F1F4D749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CE99-B687-4DD6-9DB0-2ECD7E0D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F8A9-6157-4DEE-9DA4-576102F7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DC6C-25E3-4523-BC47-90F193D0A5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4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6F25-5854-4271-9319-339C1CC729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28"/>
          <p:cNvSpPr/>
          <p:nvPr/>
        </p:nvSpPr>
        <p:spPr>
          <a:xfrm>
            <a:off x="468360" y="105264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七章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华文细黑"/>
                <a:ea typeface="华文细黑"/>
              </a:rPr>
              <a:t>维生素与微量元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33"/>
          <p:cNvSpPr/>
          <p:nvPr/>
        </p:nvSpPr>
        <p:spPr>
          <a:xfrm>
            <a:off x="1443960" y="2992320"/>
            <a:ext cx="58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Vitamins and Trac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4" descr="胡萝卜素"/>
          <p:cNvPicPr/>
          <p:nvPr/>
        </p:nvPicPr>
        <p:blipFill>
          <a:blip r:embed="rId1"/>
          <a:stretch/>
        </p:blipFill>
        <p:spPr>
          <a:xfrm>
            <a:off x="366840" y="3062160"/>
            <a:ext cx="8410320" cy="20955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2"/>
          <p:cNvSpPr/>
          <p:nvPr/>
        </p:nvSpPr>
        <p:spPr>
          <a:xfrm>
            <a:off x="0" y="404640"/>
            <a:ext cx="849636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来源于动物性食物，植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胡萝卜素是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446080" y="4846680"/>
            <a:ext cx="12776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胡萝卜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维生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原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1295280" y="1773360"/>
            <a:ext cx="65534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动物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肝、蛋黄、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植物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黄绿植物的胡萝卜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1"/>
          <p:cNvSpPr/>
          <p:nvPr/>
        </p:nvSpPr>
        <p:spPr>
          <a:xfrm flipV="1">
            <a:off x="3924360" y="4149720"/>
            <a:ext cx="647640" cy="1728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3421440" y="5877000"/>
            <a:ext cx="103428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双氧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539640" y="2997360"/>
            <a:ext cx="8136000" cy="266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369720" y="766800"/>
            <a:ext cx="845028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多种重要的生理功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视觉细胞内感光物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紫红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主要成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夜盲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糖蛋白的合成；维持上皮组织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干眼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干眼病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促进生长、发育及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氧化和抑制癌变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消灭自由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250920" y="62064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种类固醇激素的前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24000" y="2565360"/>
            <a:ext cx="33112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又名钙化醇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抗佝偻病维生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主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324000" y="148428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类固醇的衍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7902000" y="5084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  <a:ea typeface="黑体"/>
              </a:rPr>
              <a:t>麦角钙化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7928280" y="3500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  <a:ea typeface="黑体"/>
              </a:rPr>
              <a:t>胆钙化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4932360" y="5157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D2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</a:rPr>
              <a:t>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5169240" y="3500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D3</a:t>
            </a:r>
            <a:r>
              <a:rPr b="1" lang="zh-CN" sz="1800" spc="-1" strike="noStrike">
                <a:solidFill>
                  <a:srgbClr val="cc0000"/>
                </a:solidFill>
                <a:latin typeface="Times New Roman"/>
              </a:rPr>
              <a:t>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3719520" y="4038480"/>
            <a:ext cx="1614600" cy="2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3255480" y="4195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植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3255480" y="2395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动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0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23"/>
          <p:cNvGraphicFramePr/>
          <p:nvPr/>
        </p:nvGraphicFramePr>
        <p:xfrm>
          <a:off x="3419640" y="2516040"/>
          <a:ext cx="5400360" cy="30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516040"/>
                    <a:ext cx="5400360" cy="30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5"/>
          <p:cNvSpPr/>
          <p:nvPr/>
        </p:nvSpPr>
        <p:spPr>
          <a:xfrm>
            <a:off x="557280" y="1552680"/>
            <a:ext cx="8028000" cy="40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食物供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酵母和植物油：麦角固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→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物肝、蛋黄、奶、鱼肝油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自身合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体皮肤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氢胆固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→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1443960" y="857160"/>
            <a:ext cx="56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由食物供给也可自身合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6086160" y="22525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5581440" y="45594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040" descr=""/>
          <p:cNvPicPr/>
          <p:nvPr/>
        </p:nvPicPr>
        <p:blipFill>
          <a:blip r:embed="rId1"/>
          <a:stretch/>
        </p:blipFill>
        <p:spPr>
          <a:xfrm>
            <a:off x="5796000" y="1628640"/>
            <a:ext cx="3165480" cy="36007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026"/>
          <p:cNvSpPr/>
          <p:nvPr/>
        </p:nvSpPr>
        <p:spPr>
          <a:xfrm>
            <a:off x="-396720" y="1844640"/>
            <a:ext cx="7129440" cy="19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       肾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 25 -(OH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29"/>
          <p:cNvSpPr/>
          <p:nvPr/>
        </p:nvSpPr>
        <p:spPr>
          <a:xfrm>
            <a:off x="2927520" y="2649600"/>
            <a:ext cx="144360" cy="492120"/>
          </a:xfrm>
          <a:prstGeom prst="downArrow">
            <a:avLst>
              <a:gd name="adj1" fmla="val 50000"/>
              <a:gd name="adj2" fmla="val 85224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31"/>
          <p:cNvSpPr/>
          <p:nvPr/>
        </p:nvSpPr>
        <p:spPr>
          <a:xfrm>
            <a:off x="3015720" y="44481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促进钙磷的吸收、骨骼正常发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032"/>
          <p:cNvSpPr/>
          <p:nvPr/>
        </p:nvSpPr>
        <p:spPr>
          <a:xfrm>
            <a:off x="2998800" y="3871800"/>
            <a:ext cx="108000" cy="636840"/>
          </a:xfrm>
          <a:prstGeom prst="downArrow">
            <a:avLst>
              <a:gd name="adj1" fmla="val 50000"/>
              <a:gd name="adj2" fmla="val 14741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33"/>
          <p:cNvSpPr/>
          <p:nvPr/>
        </p:nvSpPr>
        <p:spPr>
          <a:xfrm>
            <a:off x="1990800" y="1771560"/>
            <a:ext cx="1871640" cy="731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34"/>
          <p:cNvSpPr/>
          <p:nvPr/>
        </p:nvSpPr>
        <p:spPr>
          <a:xfrm>
            <a:off x="1558800" y="3139920"/>
            <a:ext cx="2951280" cy="5763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38"/>
          <p:cNvSpPr/>
          <p:nvPr/>
        </p:nvSpPr>
        <p:spPr>
          <a:xfrm>
            <a:off x="821160" y="44280"/>
            <a:ext cx="555192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, 25-(OH)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活性形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41"/>
          <p:cNvSpPr/>
          <p:nvPr/>
        </p:nvSpPr>
        <p:spPr>
          <a:xfrm>
            <a:off x="6443640" y="4292640"/>
            <a:ext cx="216072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42"/>
          <p:cNvSpPr/>
          <p:nvPr/>
        </p:nvSpPr>
        <p:spPr>
          <a:xfrm>
            <a:off x="1763640" y="522936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儿童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佝偻病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成人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软骨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1587960" y="476280"/>
            <a:ext cx="316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抗氧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维持生殖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0" y="185904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多种类型，主要来源于植物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539640" y="2506680"/>
            <a:ext cx="698364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类，每类有 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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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育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育三烯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468360" y="3716280"/>
            <a:ext cx="71280" cy="936720"/>
          </a:xfrm>
          <a:custGeom>
            <a:avLst/>
            <a:gdLst>
              <a:gd name="textAreaLeft" fmla="*/ 45720 w 71280"/>
              <a:gd name="textAreaRight" fmla="*/ 71640 w 712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11"/>
          <p:cNvGraphicFramePr/>
          <p:nvPr/>
        </p:nvGraphicFramePr>
        <p:xfrm>
          <a:off x="4427640" y="3357720"/>
          <a:ext cx="4533840" cy="29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3357720"/>
                    <a:ext cx="453384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Rectangle 5"/>
          <p:cNvSpPr/>
          <p:nvPr/>
        </p:nvSpPr>
        <p:spPr>
          <a:xfrm>
            <a:off x="250920" y="5229360"/>
            <a:ext cx="456228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来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植物油、豆类、莴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50920" y="3333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多种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053080" y="1197000"/>
            <a:ext cx="50364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抗氧化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保护生物膜，清除自由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持动物的生殖机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治疗先兆流产和习惯性流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促进血红素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酶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水酶的活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抑制血小板聚集及维持肌肉、周围血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和脑细胞的结构和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343080" y="62064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多种凝血因子的活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162000" y="155592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不同的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组成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179280" y="2997360"/>
            <a:ext cx="439272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猪肝、蛋黄、苜蓿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白菜、菠菜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由肠道细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454680" y="4508640"/>
            <a:ext cx="19987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383400" y="2347920"/>
            <a:ext cx="208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天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0" y="212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Object 10"/>
          <p:cNvGraphicFramePr/>
          <p:nvPr/>
        </p:nvGraphicFramePr>
        <p:xfrm>
          <a:off x="3801960" y="3552840"/>
          <a:ext cx="5342040" cy="316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1960" y="3552840"/>
                    <a:ext cx="5342040" cy="3160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826920" y="1052640"/>
            <a:ext cx="7490160" cy="50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种凝血因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体活化的辅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与凝血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羧化酶的辅助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活化凝血因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缺乏引起凝血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108000" y="19749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水溶性维生素包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族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216000" y="3346560"/>
            <a:ext cx="4356000" cy="32475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溶性维生素种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族维生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泛酸；叶酸；生物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5461920" y="3346560"/>
            <a:ext cx="2614320" cy="316512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水溶性维生素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差别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工过程易流失或失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酸性稳定，碱性易破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收快，储存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1476360" y="511200"/>
            <a:ext cx="61912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二节  水溶性维生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ater-soluble Vit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3176280" y="765000"/>
            <a:ext cx="2886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本章主要内容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一节 脂溶性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二节 水溶性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三节 微量元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9"/>
          <p:cNvSpPr/>
          <p:nvPr/>
        </p:nvSpPr>
        <p:spPr>
          <a:xfrm>
            <a:off x="611280" y="2924280"/>
            <a:ext cx="8532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含硫噻唑环和含氨基嘧啶环组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硫胺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thiam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性形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焦磷酸硫胺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TPP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酮酸氧化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        脱羧酶和转酮醇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-360" y="1989000"/>
            <a:ext cx="889308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活性形式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是焦磷酸硫胺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7680240" y="430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125280" y="4508640"/>
            <a:ext cx="889344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主要存在于种子外皮和胚芽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539640" y="755640"/>
            <a:ext cx="7488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酮酸氧化脱羧酶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和转酮醇酶的辅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189080" y="1844640"/>
            <a:ext cx="6696000" cy="42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酮酸氧化脱羧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丙酮酸脱氢酶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糖有氧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酮戊二酸脱氢酶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羧酸循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 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转酮醇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磷酸戊糖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 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在神经传导中起一定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促进乙酰胆碱的合成，抑制其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1332000" y="1268280"/>
            <a:ext cx="6985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脚气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神经传导障碍，末梢神经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胃肠蠕动缓慢、消化液分泌减少，食欲不振、消化不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7777080" cy="123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维生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形式参与氧化还原反应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2954880" y="3000240"/>
            <a:ext cx="3216600" cy="16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活性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MN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素单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AD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素腺嘌呤二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1295280" y="571824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、蛋黄、米糠、酵母、蔬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1518840" y="1685880"/>
            <a:ext cx="5642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一）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活性形式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2616120" y="2478240"/>
            <a:ext cx="2490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称核黄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8"/>
          <p:cNvSpPr/>
          <p:nvPr/>
        </p:nvSpPr>
        <p:spPr>
          <a:xfrm>
            <a:off x="722880" y="4925880"/>
            <a:ext cx="342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来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AutoShape 2057"/>
          <p:cNvSpPr/>
          <p:nvPr/>
        </p:nvSpPr>
        <p:spPr>
          <a:xfrm rot="16200000">
            <a:off x="2739960" y="3348000"/>
            <a:ext cx="309600" cy="3640320"/>
          </a:xfrm>
          <a:custGeom>
            <a:avLst/>
            <a:gdLst>
              <a:gd name="textAreaLeft" fmla="*/ 198000 w 309600"/>
              <a:gd name="textAreaRight" fmla="*/ 309960 w 309600"/>
              <a:gd name="textAreaTop" fmla="*/ 94680 h 3640320"/>
              <a:gd name="textAreaBottom" fmla="*/ 3545640 h 364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058"/>
          <p:cNvSpPr/>
          <p:nvPr/>
        </p:nvSpPr>
        <p:spPr>
          <a:xfrm>
            <a:off x="2530800" y="5246640"/>
            <a:ext cx="955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Vit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2059"/>
          <p:cNvSpPr/>
          <p:nvPr/>
        </p:nvSpPr>
        <p:spPr>
          <a:xfrm rot="16200000">
            <a:off x="3017160" y="3615120"/>
            <a:ext cx="228600" cy="4319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2320 h 4319640"/>
              <a:gd name="textAreaBottom" fmla="*/ 4207320 h 43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061"/>
          <p:cNvSpPr/>
          <p:nvPr/>
        </p:nvSpPr>
        <p:spPr>
          <a:xfrm rot="16200000">
            <a:off x="6817320" y="4207320"/>
            <a:ext cx="195120" cy="3102120"/>
          </a:xfrm>
          <a:custGeom>
            <a:avLst/>
            <a:gdLst>
              <a:gd name="textAreaLeft" fmla="*/ 124560 w 195120"/>
              <a:gd name="textAreaRight" fmla="*/ 195480 w 195120"/>
              <a:gd name="textAreaTop" fmla="*/ 80640 h 3102120"/>
              <a:gd name="textAreaBottom" fmla="*/ 3021480 h 310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063"/>
          <p:cNvSpPr/>
          <p:nvPr/>
        </p:nvSpPr>
        <p:spPr>
          <a:xfrm rot="16200000">
            <a:off x="4618080" y="2313000"/>
            <a:ext cx="380880" cy="7772400"/>
          </a:xfrm>
          <a:custGeom>
            <a:avLst/>
            <a:gdLst>
              <a:gd name="textAreaLeft" fmla="*/ 243360 w 380880"/>
              <a:gd name="textAreaRight" fmla="*/ 381240 w 380880"/>
              <a:gd name="textAreaTop" fmla="*/ 202680 h 7772400"/>
              <a:gd name="textAreaBottom" fmla="*/ 7569720 h 777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064"/>
          <p:cNvSpPr/>
          <p:nvPr/>
        </p:nvSpPr>
        <p:spPr>
          <a:xfrm>
            <a:off x="4359240" y="6338880"/>
            <a:ext cx="90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065"/>
          <p:cNvSpPr/>
          <p:nvPr/>
        </p:nvSpPr>
        <p:spPr>
          <a:xfrm>
            <a:off x="3443040" y="3809880"/>
            <a:ext cx="32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066"/>
          <p:cNvSpPr/>
          <p:nvPr/>
        </p:nvSpPr>
        <p:spPr>
          <a:xfrm>
            <a:off x="2531880" y="3754440"/>
            <a:ext cx="438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067"/>
          <p:cNvSpPr/>
          <p:nvPr/>
        </p:nvSpPr>
        <p:spPr>
          <a:xfrm>
            <a:off x="1636920" y="3754440"/>
            <a:ext cx="552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068"/>
          <p:cNvSpPr/>
          <p:nvPr/>
        </p:nvSpPr>
        <p:spPr>
          <a:xfrm>
            <a:off x="826920" y="189000"/>
            <a:ext cx="7775640" cy="47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070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777440" cy="475272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2062"/>
          <p:cNvSpPr/>
          <p:nvPr/>
        </p:nvSpPr>
        <p:spPr>
          <a:xfrm>
            <a:off x="6518520" y="5805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60"/>
          <p:cNvSpPr/>
          <p:nvPr/>
        </p:nvSpPr>
        <p:spPr>
          <a:xfrm>
            <a:off x="2702160" y="5805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069"/>
          <p:cNvSpPr/>
          <p:nvPr/>
        </p:nvSpPr>
        <p:spPr>
          <a:xfrm>
            <a:off x="5219640" y="333360"/>
            <a:ext cx="71640" cy="5327640"/>
          </a:xfrm>
          <a:prstGeom prst="line">
            <a:avLst/>
          </a:prstGeom>
          <a:ln w="381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1769400" y="1573200"/>
            <a:ext cx="6527160" cy="45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MN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和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A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氧化还原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辅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氢传递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琥珀酸脱氢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羧酸循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NAD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氢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呼吸链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嘌呤氧化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嘌呤降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口角炎、唇炎、舌炎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395280" y="56988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M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氢的传递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Line 6"/>
          <p:cNvSpPr/>
          <p:nvPr/>
        </p:nvSpPr>
        <p:spPr>
          <a:xfrm>
            <a:off x="2057400" y="304920"/>
            <a:ext cx="0" cy="22860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7"/>
          <p:cNvSpPr/>
          <p:nvPr/>
        </p:nvSpPr>
        <p:spPr>
          <a:xfrm>
            <a:off x="2514600" y="1447920"/>
            <a:ext cx="0" cy="228600"/>
          </a:xfrm>
          <a:prstGeom prst="line">
            <a:avLst/>
          </a:prstGeom>
          <a:ln w="2844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2423880" y="963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1829880" y="735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3781440" y="2895480"/>
            <a:ext cx="510372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MN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H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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MN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D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76327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br>
              <a:rPr sz="3600"/>
            </a:b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种不需氧脱氢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228600" y="1951200"/>
            <a:ext cx="8664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活性形式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AD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Object 4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1733400" cy="1871640"/>
          </a:xfrm>
          <a:prstGeom prst="rect">
            <a:avLst/>
          </a:prstGeom>
          <a:ln w="0">
            <a:noFill/>
          </a:ln>
        </p:spPr>
      </p:pic>
      <p:pic>
        <p:nvPicPr>
          <p:cNvPr id="275" name="Object 5" descr=""/>
          <p:cNvPicPr/>
          <p:nvPr/>
        </p:nvPicPr>
        <p:blipFill>
          <a:blip r:embed="rId2"/>
          <a:stretch/>
        </p:blipFill>
        <p:spPr>
          <a:xfrm>
            <a:off x="6372360" y="3429000"/>
            <a:ext cx="1587240" cy="187164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16"/>
          <p:cNvSpPr/>
          <p:nvPr/>
        </p:nvSpPr>
        <p:spPr>
          <a:xfrm>
            <a:off x="539640" y="3860640"/>
            <a:ext cx="360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酵母、花生、谷类、肉类、肝脏、色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7"/>
          <p:cNvSpPr/>
          <p:nvPr/>
        </p:nvSpPr>
        <p:spPr>
          <a:xfrm>
            <a:off x="2916000" y="2527200"/>
            <a:ext cx="2954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包括尼克（烟）酸和尼克酰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8"/>
          <p:cNvSpPr/>
          <p:nvPr/>
        </p:nvSpPr>
        <p:spPr>
          <a:xfrm>
            <a:off x="1030320" y="3121200"/>
            <a:ext cx="30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来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86920" y="167760"/>
            <a:ext cx="83170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的活性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尼克酰胺腺嘌呤二核苷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NAD</a:t>
            </a:r>
            <a:r>
              <a:rPr b="1" lang="en-US" sz="26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辅酶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o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尼克酰胺腺嘌呤二核苷酸磷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NADP</a:t>
            </a:r>
            <a:r>
              <a:rPr b="1" lang="en-US" sz="26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辅酶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I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oI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Object 9"/>
          <p:cNvGraphicFramePr/>
          <p:nvPr/>
        </p:nvGraphicFramePr>
        <p:xfrm>
          <a:off x="1116000" y="1996920"/>
          <a:ext cx="6696000" cy="41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996920"/>
                    <a:ext cx="669600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Text Box 10"/>
          <p:cNvSpPr/>
          <p:nvPr/>
        </p:nvSpPr>
        <p:spPr>
          <a:xfrm>
            <a:off x="898560" y="52372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ct 11"/>
          <p:cNvGraphicFramePr/>
          <p:nvPr/>
        </p:nvGraphicFramePr>
        <p:xfrm>
          <a:off x="3203640" y="5213520"/>
          <a:ext cx="14652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5213520"/>
                    <a:ext cx="1465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Rectangle 12"/>
          <p:cNvSpPr/>
          <p:nvPr/>
        </p:nvSpPr>
        <p:spPr>
          <a:xfrm>
            <a:off x="943200" y="5746680"/>
            <a:ext cx="22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2074320" y="1681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尼克酰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26"/>
          <p:cNvSpPr/>
          <p:nvPr/>
        </p:nvSpPr>
        <p:spPr>
          <a:xfrm>
            <a:off x="611280" y="1841400"/>
            <a:ext cx="8281800" cy="22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多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需氧脱氢酶的辅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起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递氢递电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  乳酸脱氢酶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磷酸葡萄糖脱氢酶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扩张血管、维护神经组织等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028"/>
          <p:cNvSpPr/>
          <p:nvPr/>
        </p:nvSpPr>
        <p:spPr>
          <a:xfrm>
            <a:off x="966960" y="1193760"/>
            <a:ext cx="56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重要的递氢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029"/>
          <p:cNvSpPr/>
          <p:nvPr/>
        </p:nvSpPr>
        <p:spPr>
          <a:xfrm>
            <a:off x="2118240" y="40734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缺乏病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癞皮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882720" y="1919160"/>
            <a:ext cx="737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机体维持正常生理功能所必需，但在体内不能合成或合成量不足，必需由食物供给的一组低分子量有机化合物（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种，脂肪族、芳香族、杂环、甾类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457280" y="1268280"/>
            <a:ext cx="40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定义（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vitamin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91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Line 4"/>
            <p:cNvSpPr/>
            <p:nvPr/>
          </p:nvSpPr>
          <p:spPr>
            <a:xfrm>
              <a:off x="2484360" y="404640"/>
              <a:ext cx="30492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5"/>
            <p:cNvSpPr/>
            <p:nvPr/>
          </p:nvSpPr>
          <p:spPr>
            <a:xfrm>
              <a:off x="3826080" y="4572000"/>
              <a:ext cx="4838040" cy="14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2H </a:t>
              </a:r>
              <a:r>
                <a:rPr b="1" lang="zh-CN" sz="2800" spc="-1" strike="noStrike">
                  <a:solidFill>
                    <a:srgbClr val="cc0066"/>
                  </a:solidFill>
                  <a:latin typeface="Times New Roman"/>
                </a:rPr>
                <a:t>＋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NAD(P)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+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  </a:t>
              </a:r>
              <a:r>
                <a:rPr b="1" lang="en-US" sz="2800" spc="-1" strike="noStrike">
                  <a:solidFill>
                    <a:srgbClr val="cc0066"/>
                  </a:solidFill>
                  <a:latin typeface="Symbol"/>
                  <a:ea typeface="Symbol"/>
                </a:rPr>
                <a:t>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                       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NAD(P)H  +  H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7451640" cy="134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泛酸形成辅酶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酰基载体蛋白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携带脂酰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560" y="1739520"/>
            <a:ext cx="889308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泛酸的活性形式是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酰基载体蛋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Object 4" descr=""/>
          <p:cNvPicPr/>
          <p:nvPr/>
        </p:nvPicPr>
        <p:blipFill>
          <a:blip r:embed="rId1"/>
          <a:stretch/>
        </p:blipFill>
        <p:spPr>
          <a:xfrm>
            <a:off x="1143000" y="2836800"/>
            <a:ext cx="6858000" cy="196056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5"/>
          <p:cNvSpPr/>
          <p:nvPr/>
        </p:nvSpPr>
        <p:spPr>
          <a:xfrm>
            <a:off x="1332000" y="2260440"/>
            <a:ext cx="398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泛酸又名遍多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6"/>
          <p:cNvSpPr/>
          <p:nvPr/>
        </p:nvSpPr>
        <p:spPr>
          <a:xfrm>
            <a:off x="4067280" y="2981160"/>
            <a:ext cx="0" cy="2016360"/>
          </a:xfrm>
          <a:prstGeom prst="line">
            <a:avLst/>
          </a:prstGeom>
          <a:ln w="28440">
            <a:solidFill>
              <a:srgbClr val="66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1187280" y="450864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2,4-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羟基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-3,3-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甲基丁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5190840" y="436572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丙氨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250920" y="4869000"/>
            <a:ext cx="82087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泛酸来源于多种动植物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3686400" y="544500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肝、谷类、豆类、肠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04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 Box 4"/>
            <p:cNvSpPr/>
            <p:nvPr/>
          </p:nvSpPr>
          <p:spPr>
            <a:xfrm>
              <a:off x="8231400" y="15238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6"/>
            <p:cNvSpPr/>
            <p:nvPr/>
          </p:nvSpPr>
          <p:spPr>
            <a:xfrm>
              <a:off x="4627440" y="3505320"/>
              <a:ext cx="3976920" cy="175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泛酸的活性形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ff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辅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(CoA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ff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-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磷酸泛酰巯基乙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7"/>
            <p:cNvSpPr/>
            <p:nvPr/>
          </p:nvSpPr>
          <p:spPr>
            <a:xfrm>
              <a:off x="2010600" y="262080"/>
              <a:ext cx="1887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ahoma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  <a:ea typeface="黑体"/>
                </a:rPr>
                <a:t>泛酸</a:t>
              </a:r>
              <a:r>
                <a:rPr b="0" lang="zh-CN" sz="2400" spc="-1" strike="noStrike">
                  <a:solidFill>
                    <a:srgbClr val="0000ff"/>
                  </a:solidFill>
                  <a:latin typeface="Tahoma"/>
                </a:rPr>
                <a:t>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8"/>
            <p:cNvSpPr/>
            <p:nvPr/>
          </p:nvSpPr>
          <p:spPr>
            <a:xfrm>
              <a:off x="5851440" y="2491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9"/>
            <p:cNvSpPr/>
            <p:nvPr/>
          </p:nvSpPr>
          <p:spPr>
            <a:xfrm>
              <a:off x="6215760" y="304920"/>
              <a:ext cx="24908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        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  <a:ea typeface="黑体"/>
                </a:rPr>
                <a:t>巯基乙胺</a:t>
              </a:r>
              <a:r>
                <a:rPr b="0" lang="zh-CN" sz="2400" spc="-1" strike="noStrike">
                  <a:solidFill>
                    <a:srgbClr val="0000ff"/>
                  </a:solidFill>
                  <a:latin typeface="Tahoma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10"/>
            <p:cNvSpPr/>
            <p:nvPr/>
          </p:nvSpPr>
          <p:spPr>
            <a:xfrm>
              <a:off x="4495680" y="2403360"/>
              <a:ext cx="2203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4 -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磷酸泛酰巯基乙胺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1600200" y="2224080"/>
            <a:ext cx="6356520" cy="14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转移酶的辅酶，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酰基载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结合酰基的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1295280" y="40788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501560" y="1557360"/>
            <a:ext cx="3998880" cy="5814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(CoA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1583640" y="4437000"/>
            <a:ext cx="499392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载体蛋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ACP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辅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脂肪酸合成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转运脂酰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2012040" y="3716280"/>
            <a:ext cx="2568600" cy="5814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泛酰巯基乙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1401480" y="628560"/>
            <a:ext cx="512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传递酰基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0720" cy="113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六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磷酸吡哆醛或磷酸吡哆胺作为转氨酶和脱羧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1871640" y="2133720"/>
            <a:ext cx="54007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包括三种吡啶的衍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1752480" y="5695920"/>
            <a:ext cx="3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e9c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3"/>
          <p:cNvSpPr/>
          <p:nvPr/>
        </p:nvSpPr>
        <p:spPr>
          <a:xfrm>
            <a:off x="2188440" y="1557360"/>
            <a:ext cx="4766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活性形式是磷酸吡哆醛或磷酸吡哆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4"/>
          <p:cNvSpPr/>
          <p:nvPr/>
        </p:nvSpPr>
        <p:spPr>
          <a:xfrm>
            <a:off x="929880" y="5157720"/>
            <a:ext cx="377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来源于动植物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3664440" y="566100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米糠、豆类、蔬菜、肉、蛋、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0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1" descr="1"/>
          <p:cNvPicPr/>
          <p:nvPr/>
        </p:nvPicPr>
        <p:blipFill>
          <a:blip r:embed="rId1"/>
          <a:stretch/>
        </p:blipFill>
        <p:spPr>
          <a:xfrm>
            <a:off x="371520" y="2708280"/>
            <a:ext cx="8399520" cy="2009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strips dir="l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0"/>
          <p:cNvGrpSpPr/>
          <p:nvPr/>
        </p:nvGrpSpPr>
        <p:grpSpPr>
          <a:xfrm>
            <a:off x="-76320" y="44280"/>
            <a:ext cx="9144000" cy="6858000"/>
            <a:chOff x="-76320" y="44280"/>
            <a:chExt cx="9144000" cy="6858000"/>
          </a:xfrm>
        </p:grpSpPr>
        <p:pic>
          <p:nvPicPr>
            <p:cNvPr id="326" name="Picture 5" descr=""/>
            <p:cNvPicPr/>
            <p:nvPr/>
          </p:nvPicPr>
          <p:blipFill>
            <a:blip r:embed="rId1"/>
            <a:stretch/>
          </p:blipFill>
          <p:spPr>
            <a:xfrm>
              <a:off x="-76320" y="4428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Rectangle 7"/>
            <p:cNvSpPr/>
            <p:nvPr/>
          </p:nvSpPr>
          <p:spPr>
            <a:xfrm>
              <a:off x="152280" y="5025960"/>
              <a:ext cx="4648320" cy="180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磷酸吡哆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8"/>
            <p:cNvSpPr/>
            <p:nvPr/>
          </p:nvSpPr>
          <p:spPr>
            <a:xfrm>
              <a:off x="4419720" y="4997520"/>
              <a:ext cx="4647960" cy="137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磷酸吡哆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"/>
            <p:cNvSpPr/>
            <p:nvPr/>
          </p:nvSpPr>
          <p:spPr>
            <a:xfrm flipV="1">
              <a:off x="304920" y="2742120"/>
              <a:ext cx="853416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6"/>
            <p:cNvSpPr/>
            <p:nvPr/>
          </p:nvSpPr>
          <p:spPr>
            <a:xfrm>
              <a:off x="3839400" y="404640"/>
              <a:ext cx="1400040" cy="155628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</a:rPr>
                <a:t>活性形式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磷酸吡哆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磷酸吡哆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219320" y="1557360"/>
            <a:ext cx="67816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转氨酶的辅酶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在氨基酸代谢中起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传递氨基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作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氨基酸脱羧酶的辅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lu----GABA(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抑制性神经递质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参与其他物质代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合成酶的辅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是糖原磷酸化酶的成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324000" y="404640"/>
            <a:ext cx="691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磷酸吡哆醛和磷酸吡哆胺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氨基酸代谢中发挥重要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七、生物素是多种羧化酶的辅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-36360" y="1701720"/>
            <a:ext cx="43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生物素与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共价结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23"/>
          <p:cNvGrpSpPr/>
          <p:nvPr/>
        </p:nvGrpSpPr>
        <p:grpSpPr>
          <a:xfrm>
            <a:off x="4191120" y="1469880"/>
            <a:ext cx="4952880" cy="5029200"/>
            <a:chOff x="4191120" y="1469880"/>
            <a:chExt cx="4952880" cy="5029200"/>
          </a:xfrm>
        </p:grpSpPr>
        <p:pic>
          <p:nvPicPr>
            <p:cNvPr id="336" name="Picture 7" descr=""/>
            <p:cNvPicPr/>
            <p:nvPr/>
          </p:nvPicPr>
          <p:blipFill>
            <a:blip r:embed="rId1"/>
            <a:stretch/>
          </p:blipFill>
          <p:spPr>
            <a:xfrm>
              <a:off x="4191120" y="1469880"/>
              <a:ext cx="495288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Rectangle 9"/>
            <p:cNvSpPr/>
            <p:nvPr/>
          </p:nvSpPr>
          <p:spPr>
            <a:xfrm>
              <a:off x="6251040" y="2565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尿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0"/>
            <p:cNvSpPr/>
            <p:nvPr/>
          </p:nvSpPr>
          <p:spPr>
            <a:xfrm>
              <a:off x="4953960" y="41497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噻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1"/>
            <p:cNvSpPr/>
            <p:nvPr/>
          </p:nvSpPr>
          <p:spPr>
            <a:xfrm>
              <a:off x="5940360" y="2206800"/>
              <a:ext cx="71640" cy="1150920"/>
            </a:xfrm>
            <a:custGeom>
              <a:avLst/>
              <a:gdLst>
                <a:gd name="textAreaLeft" fmla="*/ 0 w 71640"/>
                <a:gd name="textAreaRight" fmla="*/ 25920 w 71640"/>
                <a:gd name="textAreaTop" fmla="*/ 29880 h 1150920"/>
                <a:gd name="textAreaBottom" fmla="*/ 1121040 h 11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2"/>
            <p:cNvSpPr/>
            <p:nvPr/>
          </p:nvSpPr>
          <p:spPr>
            <a:xfrm>
              <a:off x="6611400" y="4726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戊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5"/>
            <p:cNvSpPr/>
            <p:nvPr/>
          </p:nvSpPr>
          <p:spPr>
            <a:xfrm>
              <a:off x="7093080" y="5375160"/>
              <a:ext cx="1726920" cy="914400"/>
            </a:xfrm>
            <a:prstGeom prst="ellipse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3"/>
            <p:cNvSpPr/>
            <p:nvPr/>
          </p:nvSpPr>
          <p:spPr>
            <a:xfrm>
              <a:off x="7665840" y="56624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0066"/>
                  </a:solidFill>
                  <a:latin typeface="Arial"/>
                </a:rPr>
                <a:t>酶蛋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14"/>
            <p:cNvSpPr/>
            <p:nvPr/>
          </p:nvSpPr>
          <p:spPr>
            <a:xfrm flipH="1">
              <a:off x="8317080" y="4726080"/>
              <a:ext cx="14256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8"/>
            <p:cNvSpPr/>
            <p:nvPr/>
          </p:nvSpPr>
          <p:spPr>
            <a:xfrm>
              <a:off x="8029800" y="537696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 Box 19"/>
          <p:cNvSpPr/>
          <p:nvPr/>
        </p:nvSpPr>
        <p:spPr>
          <a:xfrm>
            <a:off x="0" y="3070080"/>
            <a:ext cx="43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生物素来源广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0"/>
          <p:cNvSpPr/>
          <p:nvPr/>
        </p:nvSpPr>
        <p:spPr>
          <a:xfrm>
            <a:off x="684360" y="3862440"/>
            <a:ext cx="333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肝、肾、花生、蛋、巧克力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肠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632880" y="5516640"/>
            <a:ext cx="31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生鸡蛋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抗生物素蛋白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idin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6"/>
          <p:cNvSpPr/>
          <p:nvPr/>
        </p:nvSpPr>
        <p:spPr>
          <a:xfrm>
            <a:off x="1999800" y="1628640"/>
            <a:ext cx="514440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三）生物素是体内多种羧化酶的辅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物素在羧化反应中，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羧基载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丙酮酸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乙酰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八、叶酸的还原产物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碳单位的载体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1938240" y="1628640"/>
            <a:ext cx="52675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性形式：</a:t>
            </a:r>
            <a:r>
              <a:rPr b="1" lang="zh-CN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氢叶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066680" y="3174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1"/>
          <p:cNvSpPr/>
          <p:nvPr/>
        </p:nvSpPr>
        <p:spPr>
          <a:xfrm>
            <a:off x="1531080" y="1071720"/>
            <a:ext cx="510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叶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olic acid, FA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活性形式是四氢叶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17"/>
          <p:cNvGrpSpPr/>
          <p:nvPr/>
        </p:nvGrpSpPr>
        <p:grpSpPr>
          <a:xfrm>
            <a:off x="1162080" y="2349360"/>
            <a:ext cx="6865920" cy="3268800"/>
            <a:chOff x="1162080" y="2349360"/>
            <a:chExt cx="6865920" cy="3268800"/>
          </a:xfrm>
        </p:grpSpPr>
        <p:pic>
          <p:nvPicPr>
            <p:cNvPr id="354" name="Picture 7" descr=""/>
            <p:cNvPicPr/>
            <p:nvPr/>
          </p:nvPicPr>
          <p:blipFill>
            <a:blip r:embed="rId1"/>
            <a:stretch/>
          </p:blipFill>
          <p:spPr>
            <a:xfrm>
              <a:off x="1162080" y="2349360"/>
              <a:ext cx="6865920" cy="32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Line 8"/>
            <p:cNvSpPr/>
            <p:nvPr/>
          </p:nvSpPr>
          <p:spPr>
            <a:xfrm>
              <a:off x="3827520" y="2492280"/>
              <a:ext cx="0" cy="1295640"/>
            </a:xfrm>
            <a:prstGeom prst="line">
              <a:avLst/>
            </a:prstGeom>
            <a:ln w="2844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9"/>
            <p:cNvSpPr/>
            <p:nvPr/>
          </p:nvSpPr>
          <p:spPr>
            <a:xfrm>
              <a:off x="5627520" y="2492280"/>
              <a:ext cx="0" cy="1295640"/>
            </a:xfrm>
            <a:prstGeom prst="line">
              <a:avLst/>
            </a:prstGeom>
            <a:ln w="2844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2"/>
            <p:cNvSpPr/>
            <p:nvPr/>
          </p:nvSpPr>
          <p:spPr>
            <a:xfrm>
              <a:off x="2600280" y="3510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喋呤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>
              <a:off x="4349160" y="35035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氨基苯甲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4"/>
            <p:cNvSpPr/>
            <p:nvPr/>
          </p:nvSpPr>
          <p:spPr>
            <a:xfrm>
              <a:off x="6748200" y="350208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Gl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Rectangle 15"/>
          <p:cNvSpPr/>
          <p:nvPr/>
        </p:nvSpPr>
        <p:spPr>
          <a:xfrm>
            <a:off x="1279080" y="5627520"/>
            <a:ext cx="3594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叶酸主要来源于绿叶蔬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700200" y="1484280"/>
            <a:ext cx="7742160" cy="33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生理功能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酶的辅酶或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与特殊蛋白质的生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氧化产物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视紫红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为激素的前体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 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0920" y="905040"/>
            <a:ext cx="7194600" cy="77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碳单位的载体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42920" y="2214360"/>
            <a:ext cx="7129440" cy="128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是一碳单位转移酶的辅酶，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一碳单位的传递体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是其结合部位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1147680" y="3768840"/>
            <a:ext cx="6846840" cy="9471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一碳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核酸、胆碱、蛋氨酸、丝氨酸的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2242080" y="5229360"/>
            <a:ext cx="35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叶酸缺乏症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巨幼红细胞性贫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360" y="374400"/>
            <a:ext cx="820728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九、维生素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有多种存在形式，主要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来源于动物性食物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4560" y="1557000"/>
            <a:ext cx="72025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有多种存在形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又称钴胺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039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040" descr="wei-5"/>
          <p:cNvPicPr/>
          <p:nvPr/>
        </p:nvPicPr>
        <p:blipFill>
          <a:blip r:embed="rId1"/>
          <a:stretch/>
        </p:blipFill>
        <p:spPr>
          <a:xfrm>
            <a:off x="3203640" y="2276640"/>
            <a:ext cx="5940360" cy="45813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2"/>
          <p:cNvSpPr/>
          <p:nvPr/>
        </p:nvSpPr>
        <p:spPr>
          <a:xfrm>
            <a:off x="1187280" y="1197000"/>
            <a:ext cx="734400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存在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氰钴胺素（细菌发酵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钴胺素（药用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基钴胺素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氧腺苷钴胺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活性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7"/>
          <p:cNvSpPr/>
          <p:nvPr/>
        </p:nvSpPr>
        <p:spPr>
          <a:xfrm>
            <a:off x="682560" y="3860640"/>
            <a:ext cx="777888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来源是动物性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684360" y="2017800"/>
            <a:ext cx="792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基钴胺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参与甲基的传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1116000" y="2593800"/>
            <a:ext cx="7510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甲基转移酶的辅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参与多种物质甲基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2336400" y="3367080"/>
            <a:ext cx="3993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乏症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巨幼红细胞性贫血（恶性贫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2131200" y="836640"/>
            <a:ext cx="324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甲基钴胺素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氧腺苷钴胺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种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684360" y="398952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氧腺苷钴胺素是支链氨基酸代谢酶的辅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1617120" y="4681440"/>
            <a:ext cx="1860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乏症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神经病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3"/>
          <p:cNvSpPr/>
          <p:nvPr/>
        </p:nvSpPr>
        <p:spPr>
          <a:xfrm>
            <a:off x="733320" y="404640"/>
            <a:ext cx="7677360" cy="19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重要的抗氧化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化学本质及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名抗坏血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不饱和多羟基内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Object 6"/>
          <p:cNvGraphicFramePr/>
          <p:nvPr/>
        </p:nvGraphicFramePr>
        <p:xfrm>
          <a:off x="1692360" y="2421000"/>
          <a:ext cx="5718240" cy="38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421000"/>
                    <a:ext cx="5718240" cy="38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2784960" y="1225440"/>
            <a:ext cx="3551760" cy="39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生理功能及缺乏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促进胶原蛋白的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缺乏病：坏血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参与羟化反应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的辅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参与芳香族氨基酸的代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使铁的吸收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在体内参与氧化还原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3"/>
          <p:cNvSpPr/>
          <p:nvPr/>
        </p:nvSpPr>
        <p:spPr>
          <a:xfrm>
            <a:off x="2161800" y="746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一、硫辛酸参与物质代谢及抗氧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3530880" y="1557360"/>
            <a:ext cx="99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硫辛酸是一种含二硫键的化合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2662920" y="2349360"/>
            <a:ext cx="38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,8-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二硫辛酸，可还原为二氢硫辛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Object 8"/>
          <p:cNvGraphicFramePr/>
          <p:nvPr/>
        </p:nvGraphicFramePr>
        <p:xfrm>
          <a:off x="466560" y="3500280"/>
          <a:ext cx="8282160" cy="13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3500280"/>
                    <a:ext cx="828216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Rectangle 10"/>
          <p:cNvSpPr/>
          <p:nvPr/>
        </p:nvSpPr>
        <p:spPr>
          <a:xfrm>
            <a:off x="250920" y="3068640"/>
            <a:ext cx="8569080" cy="2089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4"/>
          <p:cNvSpPr/>
          <p:nvPr/>
        </p:nvSpPr>
        <p:spPr>
          <a:xfrm>
            <a:off x="1258920" y="2349360"/>
            <a:ext cx="72295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酮酸脱氢酶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重要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递氢、转酰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抗脂肪肝、降低血胆固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护巯基酶免受重金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离子的毒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1725120" y="134136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硫辛酸在物质代谢及抗氧化方面发挥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"/>
          <p:cNvSpPr/>
          <p:nvPr/>
        </p:nvSpPr>
        <p:spPr>
          <a:xfrm>
            <a:off x="609480" y="1981080"/>
            <a:ext cx="8001000" cy="26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人体内的微量元素是指占体重万分之一以下，每日需要量小于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0mg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的元素，主要包括铁、碘、铜、锌、锰、硒、氟、钼、钴、铬、镍、钒、硅、锡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1523880" y="491760"/>
            <a:ext cx="594360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节     微量元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ace  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25"/>
                            </p:stCondLst>
                            <p:childTnLst>
                              <p:par>
                                <p:cTn id="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4"/>
          <p:cNvSpPr/>
          <p:nvPr/>
        </p:nvSpPr>
        <p:spPr>
          <a:xfrm>
            <a:off x="1766880" y="1159560"/>
            <a:ext cx="42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铁是多种蛋白质和酶的组成部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934920" y="3391920"/>
            <a:ext cx="7272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Times New Roman"/>
                <a:ea typeface="华文楷体"/>
              </a:rPr>
              <a:t>铁卟啉化合物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7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Times New Roman"/>
                <a:ea typeface="华文楷体"/>
              </a:rPr>
              <a:t>非铁卟啉类含铁化合物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5%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如含铁的黄素蛋白、铁硫蛋白、运铁蛋白等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900000" y="2349360"/>
            <a:ext cx="6013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8920" indent="-125892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铁的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690560" y="549360"/>
            <a:ext cx="5761080" cy="55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需要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毫克或微克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缺乏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摄取量不足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吸收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需要量增加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长期服用某种药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419040" y="972000"/>
            <a:ext cx="830592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吸收与排泄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吸收：食物供铁，吸收主要在十二指肠，其次在胃和空肠上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泄：粪便、肾、皮肤等排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运输与贮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运输：吸收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氧化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血浆中的运铁蛋白结合而被转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贮存：以铁蛋白和含铁血黄素的形式贮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铁与多种蛋白质结合具有不同的生理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3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3223080" y="61992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锌与多种酶的活性有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468360" y="3068640"/>
            <a:ext cx="8388360" cy="30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血锌水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.15mmol/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清蛋白或运铁蛋白结合而运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储存形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与金属硫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metallothionein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主要经粪排泄，其次为尿、汗、乳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755640" y="1837800"/>
            <a:ext cx="79218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zinc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在人体内的含量仅次于铁，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5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每日需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755640" y="1149840"/>
            <a:ext cx="792000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锌的主要功能：参与合成各种含锌的酶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参与糖、脂、蛋白质和核酸等物质的代谢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在基因调控中发挥重要作用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能延长胰岛素的作用时间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是脑内含量最高的微量元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3151800" y="47520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、铜是多种酶的辅助因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324000" y="148356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铜在体内主要存在于肌肉和肝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1772280" y="2259000"/>
            <a:ext cx="595188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铜是体内多种酶的辅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细胞色素氧化酶的重要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胺氧化酶、抗坏血酸氧化酶的重要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超氧化物歧化酶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O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活性中心的必需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可以影响铁的代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参与维持毛发角蛋白的构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酪氨酸酶的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3629520" y="61992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锰是多种酶的成分或激活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684360" y="2924280"/>
            <a:ext cx="784836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大部分与血浆中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球蛋白和清蛋白结合而运输，少量与运铁蛋白结合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储存部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骨、肝、胰和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经胆汁，少量随胰液排出，尿中排泄很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684360" y="19324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体内含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manganes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每日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755640" y="2865600"/>
            <a:ext cx="799308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多种酶的组成成分和激活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体内正常免疫功能、血糖与细胞能量调节、生殖、消化、骨骼生长、抗自由基等均需要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250920" y="2062080"/>
            <a:ext cx="87138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3308760" y="65808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硒具有多种生理功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611280" y="3573360"/>
            <a:ext cx="8136000" cy="15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6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球蛋白结合，小部分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而运输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6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随尿及汗液排泄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611280" y="23914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体含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selenium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4~21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日需要量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~5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826920" y="981000"/>
            <a:ext cx="756144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2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作为谷胱甘肽过氧化物酶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SH-P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性中心的组成部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硒有抗癌作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硒还参与其他生理过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4"/>
          <p:cNvSpPr/>
          <p:nvPr/>
        </p:nvSpPr>
        <p:spPr>
          <a:xfrm>
            <a:off x="3413520" y="54828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六、碘是甲状腺激素的主要成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538200" y="3357720"/>
            <a:ext cx="82818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参与甲状腺激素的合成，也具有抗氧化作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缺乏症</a:t>
            </a: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地方性甲状腺肿，严重可致发育停滞、痴呆，如胎儿期缺碘可致呆小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中毒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高碘性甲状腺肿，表现为甲状腺功能亢进及一些中毒症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539640" y="1607400"/>
            <a:ext cx="8425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成人体内含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iodine)30~5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其中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集中在甲状腺内，用于合成甲状腺激素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60%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8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以非激素的形式分散于甲状腺外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4"/>
          <p:cNvSpPr/>
          <p:nvPr/>
        </p:nvSpPr>
        <p:spPr>
          <a:xfrm>
            <a:off x="3832920" y="434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七、氟参与维持骨骼和牙齿的正常结构与功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755640" y="234072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成人体内含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fluorin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~6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其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分布于骨、牙中，少量存在于指甲、毛发及神经肌肉中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755640" y="3716280"/>
            <a:ext cx="792000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血中水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/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球蛋白结合，小部分以氟化物形式运输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395280" y="404640"/>
            <a:ext cx="8388360" cy="59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维生素的命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99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发现的先后顺序命名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维生素的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溶解性分为两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脂溶性维生素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水溶性维生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族维生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泛酸；生物素；叶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6699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4"/>
          <p:cNvSpPr/>
          <p:nvPr/>
        </p:nvSpPr>
        <p:spPr>
          <a:xfrm>
            <a:off x="324000" y="1197000"/>
            <a:ext cx="849600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功能</a:t>
            </a:r>
            <a:r>
              <a:rPr b="1" lang="zh-CN" sz="2800" spc="-1" strike="noStrike">
                <a:solidFill>
                  <a:srgbClr val="ff9966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氟与骨、牙的形成及钙磷代谢密切相关。氟可被羟基磷灰石吸附，生成氟磷灰石，从而加强对龋牙的抵抗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缺乏症</a:t>
            </a:r>
            <a:r>
              <a:rPr b="1" lang="en-US" sz="2800" spc="-1" strike="noStrike">
                <a:solidFill>
                  <a:srgbClr val="ff9966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骨质疏松，易发生骨折；牙釉质受损易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中毒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骨脱钙和白内障，并可影响肾上腺、生殖腺等多种器官的功能。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395280" y="21621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脂溶性维生素包括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188440" y="3683160"/>
            <a:ext cx="474948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为异戊二烯的衍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消化吸收同脂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于肝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于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多摄入可中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2427120" y="404640"/>
            <a:ext cx="428940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第一节 脂溶性维生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ipid-soluble Vit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08000" y="6681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感光物质和糖蛋白的合成、基因表达调控及抗氧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842840" y="2060640"/>
            <a:ext cx="32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中含有多个双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2266200" y="2849400"/>
            <a:ext cx="40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又名视黄醇，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7"/>
          <p:cNvGraphicFramePr/>
          <p:nvPr/>
        </p:nvGraphicFramePr>
        <p:xfrm>
          <a:off x="468360" y="3933720"/>
          <a:ext cx="8136000" cy="16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933720"/>
                    <a:ext cx="813600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9"/>
          <p:cNvSpPr/>
          <p:nvPr/>
        </p:nvSpPr>
        <p:spPr>
          <a:xfrm>
            <a:off x="468360" y="3573360"/>
            <a:ext cx="8280360" cy="22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0"/>
          <p:cNvSpPr/>
          <p:nvPr/>
        </p:nvSpPr>
        <p:spPr>
          <a:xfrm>
            <a:off x="879480" y="69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1429920" y="712800"/>
            <a:ext cx="55328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存在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种形式，发挥不同作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黄醇             视黄醛              视黄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1404360" y="2060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全反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3"/>
          <p:cNvSpPr/>
          <p:nvPr/>
        </p:nvSpPr>
        <p:spPr>
          <a:xfrm>
            <a:off x="2700360" y="1773360"/>
            <a:ext cx="1008000" cy="142920"/>
          </a:xfrm>
          <a:prstGeom prst="leftRightArrow">
            <a:avLst>
              <a:gd name="adj1" fmla="val 50000"/>
              <a:gd name="adj2" fmla="val 140405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4"/>
          <p:cNvSpPr/>
          <p:nvPr/>
        </p:nvSpPr>
        <p:spPr>
          <a:xfrm>
            <a:off x="4932360" y="1773360"/>
            <a:ext cx="1008000" cy="142920"/>
          </a:xfrm>
          <a:prstGeom prst="rightArrow">
            <a:avLst>
              <a:gd name="adj1" fmla="val 50000"/>
              <a:gd name="adj2" fmla="val 176322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3380760" y="2117880"/>
            <a:ext cx="20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6"/>
          <p:cNvSpPr/>
          <p:nvPr/>
        </p:nvSpPr>
        <p:spPr>
          <a:xfrm>
            <a:off x="5796000" y="5084640"/>
            <a:ext cx="287280" cy="719280"/>
          </a:xfrm>
          <a:prstGeom prst="downArrow">
            <a:avLst>
              <a:gd name="adj1" fmla="val 50000"/>
              <a:gd name="adj2" fmla="val 62594"/>
            </a:avLst>
          </a:prstGeom>
          <a:solidFill>
            <a:srgbClr val="cccc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5581440" y="5877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结合视蛋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0"/>
          <p:cNvSpPr/>
          <p:nvPr/>
        </p:nvSpPr>
        <p:spPr>
          <a:xfrm>
            <a:off x="46836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19"/>
          <p:cNvGraphicFramePr/>
          <p:nvPr/>
        </p:nvGraphicFramePr>
        <p:xfrm>
          <a:off x="1116000" y="3141720"/>
          <a:ext cx="6840720" cy="19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141720"/>
                    <a:ext cx="6840720" cy="19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21"/>
          <p:cNvSpPr/>
          <p:nvPr/>
        </p:nvSpPr>
        <p:spPr>
          <a:xfrm>
            <a:off x="468360" y="2854440"/>
            <a:ext cx="7991280" cy="2303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07:29:31Z</dcterms:created>
  <dc:creator>xsm</dc:creator>
  <dc:description/>
  <dc:language>en-US</dc:language>
  <cp:lastModifiedBy>ZhangLL</cp:lastModifiedBy>
  <dcterms:modified xsi:type="dcterms:W3CDTF">2014-12-04T06:43:03Z</dcterms:modified>
  <cp:revision>73</cp:revision>
  <dc:subject/>
  <dc:title>PowerPoint 演示文稿</dc:title>
</cp:coreProperties>
</file>