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E389E-C328-4FD2-B26E-4DD231BE5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4A16A-806B-4E41-98E7-90DF618A6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DF17C-09A0-4025-B1F1-AB9EA2062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90618-DD96-4E33-BCA6-C605EE28E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EFEEE1-2888-433E-96A1-F9EA0D0920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9DFE9-2F8C-4D58-9C58-18811673D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A7B07-C74F-4C07-894F-4F10BC20A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FE552B-9C02-465B-9B78-2164B9144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853BE-6AC7-46F7-AD48-7EE327EC1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7519A-01D4-4C0E-AB68-7AF0E0688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404D8-F232-4601-80D8-6CBB42BCC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D1E83-ECD2-45E8-98A3-CC73242D9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165FF-6642-4870-8208-39C28217A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052F5-FB0D-4E16-9488-EA9FA4E56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D6F42-ACA7-43E0-81B6-B1DE465D9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29B947-1762-4215-8D56-3EA34D14E2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343C76-07C8-46DC-B85B-B755A01246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A3FED-C3F0-468C-AD3B-AFE61B081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9310B-55FA-46FA-BF12-CE4499C41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D856D-EE8A-487A-A692-14E22A1E3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719EB-59AD-43C1-904B-ED21AC07C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A1C8F-4BB3-4E43-8EC4-380B14A60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95B0F-C175-41D1-892A-350B39AC8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ABCA0-EB54-4B54-B614-E70B21AE4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76A64-1088-45D8-A8DE-D5F7066D1B4F}" type="datetime3">
              <a:rPr b="0" lang="en-US" sz="1400" spc="-1" strike="noStrike">
                <a:solidFill>
                  <a:srgbClr val="000000"/>
                </a:solidFill>
                <a:latin typeface="Arial"/>
              </a:rPr>
              <a:t>July 29,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038A-07A8-4138-BED3-EE930308D5C3}"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2A37F-9454-452F-AB83-4AEDB932E564}" type="datetime3">
              <a:rPr b="0" lang="en-US" sz="1400" spc="-1" strike="noStrike">
                <a:solidFill>
                  <a:srgbClr val="ffffff"/>
                </a:solidFill>
                <a:latin typeface="Arial"/>
              </a:rPr>
              <a:t>July 29,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63A0E-09AB-4BA8-B5B7-8310E4445261}"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830F-7808-44F2-9100-A321A11E280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EDE46-E663-483E-8C81-67A7A871271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E912C-8524-48BC-8A4E-002720A0286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F985F-0C21-4AA2-AD2C-7F558511523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BD95A-7170-4140-B801-15D5BE157EE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DD8FE-DE06-4B12-9C40-06CD7D33F1A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912C2-D7B1-4884-B8F2-0DAD0BB709E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716B1-8BC9-4170-9750-2DF8708E92D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7CD1D-1839-4DDC-976C-92D2B2C0158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E8A0A-A891-4917-B47E-10D33652E70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DAB2-2E3C-4924-99E1-84E4A758CAD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A14D1-27A7-43A8-B5E2-A850449B8DC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E4240-5C75-49ED-9571-1FB3D6AAB62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FBA79-1D17-43FA-A661-C89FF820C05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81E49-A0B6-4794-A0F6-030F8E34A27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A50DF-D0F5-48D9-B623-BE2752979BC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0FCE7-8DD2-4D18-8B39-EC65D81B0E8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6FE29-C5B9-4BF8-9EF3-70C615BAD23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DFE4-7F73-46E3-A4A6-E39B28B1ED6B}"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BBF30-6A06-468D-B3E5-34CBF26E263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2F01-DC09-471F-BC8E-35571A8F74B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2C7B-4C60-49A2-B4ED-F4013B40C0A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9F95F-1AFE-4D94-A620-0196353F917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9B03-EB76-4B8F-B165-1E5D5467148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EC7DC-7EF4-4828-A127-254A027C6C4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78913-306B-4A8C-9143-86A13D971CF7}"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713C4-F7F8-442C-A23C-EAFC4BDA961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23C67-725C-457B-A0FC-9FB0A0F6D6E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4B96C-5744-4F2E-BAF4-0A3F12C5C73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DF05-6ED2-4AC2-853F-A0AFB814424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8C41-90F7-4CD5-9C34-DBF6B64B52A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90EC9-B897-40F1-93C8-5CD3086CDEB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5B63-29B0-4A8C-88DA-7FD68C00C15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967F4-7247-49C6-978D-6CAD43EAD60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12F6F-04DD-4659-B21D-E0954AADD89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714C0-3CA3-409A-9B90-F7B4FA60B6D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0C23F-F986-4AAB-8499-B817738E867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82663-4614-441C-A637-AB335D702E8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BE32-979D-4AB5-8E57-36B793CA70C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83E1B-B28A-4C76-8FB6-0D2DFC968666}"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141E2-FFA9-45D9-B140-E52FA42C22B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9D9E6-F4C9-41F5-BABE-7A7EC27B54F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