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533AA-D8C8-40C7-8AB8-117A92021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7BF7E-F590-434C-B2CF-BE278A1C1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9FDEB-7104-4E0C-BF42-FC05E1737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8B450-9A92-4C9E-9928-33738ABFF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F0EEC-BE4F-4656-94A9-17F4240F6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0D95D-5E9C-4209-869D-19504E0C3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1F93E-FA34-4650-B48E-FF590E5F1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03CF8-CD1A-44C1-8B18-9A581F478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C69E1-443F-48A0-B9ED-F0CCCD196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2EFB3-D74D-4E92-A95E-7BE391C19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6EC3A-9E7F-4DE3-BE05-753841771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D25F-6D09-4BA4-A04F-CA591347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F1281-EFD7-4A39-8473-5C646E35A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125B9-3E83-4193-8F37-405D8FE05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FF0C2-C946-4B22-AAEC-B256F6A53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F8C69-3E2D-4163-BD49-22F96E4FD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D2A07-348B-4B60-92D7-9465FB07E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FCB83-6822-439C-8369-1A39D4D95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D118-81E6-4E68-905C-CF98AD259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1EB25-628A-4007-BB6B-9E484575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6B66-9387-4631-B90A-137058992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E1F7-CB27-4205-BB9F-F3EE43026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BBCC-5C9F-441A-88D6-93465B9F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0BB7-F5AB-452A-87E6-199AADBE5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E75A-AC9E-477F-AA00-82E9356B0DFC}"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1A0D-6A97-482E-B3FC-65924146C023}"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E234-5D8A-4549-8C0F-8720C7FE3176}" type="datetime3">
              <a:rPr b="0" lang="en-US" sz="1400" spc="-1" strike="noStrike">
                <a:solidFill>
                  <a:srgbClr val="ffffff"/>
                </a:solidFill>
                <a:latin typeface="Arial"/>
              </a:rPr>
              <a:t>July 31,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27B8-E6AB-4F0A-B68F-FDECFEC4DF5D}"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E96A-C3FA-4720-8E77-DAA9DD027C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63F1-00FE-48C1-BC9A-36490695D99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541F-393E-478D-953C-B22238B82AB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AC19-0B36-4D6E-B14C-7511EB74098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4ECD-A27C-4397-9231-D04308C92D6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4A6F-9C81-4C16-A8E0-595869BFF56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F5A4-BC6D-47F8-A274-1BA58CA384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3D7A-8243-48B4-911E-2C39051D65C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61EE-8FA7-4B49-94EE-AE06BAEC50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71F8-47A7-4B07-8656-24979367DBD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690D-281D-4E6B-935F-4EA168A889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CA03-8014-4211-8648-B578D8355C4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CB00-FFA5-493A-934C-F062371785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4886-350F-4626-A841-3966B2987B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C226-F795-461B-9422-500C838A22D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0719-E064-4318-8F3C-4141A077E1B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1587-CA66-4AF5-98FB-E81EE440A70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C872-AA80-4953-A793-DB85B409CD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837B-F5DD-4990-BF08-400249E58A5D}"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EAFA-0672-4C2E-8763-7A61F86635C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6CA5-BDD2-483D-9717-7F41AA4353B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6F99-1C26-440B-A4BC-95BD7B86E0E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8AD0-AF34-4AEB-87A0-9907AAAB06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B8C0-F109-4CB6-9A0E-CCC02BDE90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A563-823B-46C2-B623-D29AC777649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D90A-A3D8-4247-A999-628A18731401}"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18AD-C3A9-4180-BFF2-3FD7586495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DA63-6BA7-4C7D-9DB2-E325B47D674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8445-5550-46D4-B626-78924402C73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38B3-E7B6-438C-8A15-DAF189B3EA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7365-3203-40BE-87A2-C7756EC72AE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7367-C123-460E-93CE-2A5F4CEB537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CB80-FA02-4E74-8914-B0E1A771434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2493-0658-4078-A7D9-97F2714D508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3AD7-66AB-41B8-AE27-37EA1458B1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0642-D740-47E5-9BC5-FE4B75E039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1EC8-664E-4876-A7FF-E7524A9D5A0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4AA7-C759-4E62-B2DB-A83DDDAC359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0074-B2A9-4848-8481-9D6CF0EDC8A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512B-DC68-456D-A9A1-48146C718DDC}"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9727-E6EA-4333-912D-F1B072572E6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7AC6-D5E8-489B-BC9B-56413FD18EF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