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wmf" ContentType="image/x-wmf"/>
  <Override PartName="/ppt/media/image12.png" ContentType="image/png"/>
  <Override PartName="/ppt/media/image20.gif" ContentType="image/gif"/>
  <Override PartName="/ppt/media/image19.gif" ContentType="image/gif"/>
  <Override PartName="/ppt/media/image18.png" ContentType="image/png"/>
  <Override PartName="/ppt/media/image17.wmf" ContentType="image/x-wmf"/>
  <Override PartName="/ppt/media/image16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8431-39BC-4603-B815-BA953AC96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E5A1-36D1-4371-8E35-6205B893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BC3D-647B-47DE-8A5D-3A7D80876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0A6E-B1E2-4E46-95BB-79A48BEC3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B2E22-F4C0-483F-81D1-3CB368F8E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B289-EDDB-45D8-82E3-6BB8E528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EC0BF-AB0B-4060-8B5F-C826881E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2429-5CCE-4C83-8071-787AB08E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D1AB-F802-49EA-AEDF-4A08A498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69DA-3A03-4F22-8F4D-BB3BF57B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F6F1-B361-4B56-A8B8-10DEB8E2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E062-1936-40BF-B51D-47525181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0536-0767-470F-A836-062D4EAC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6906D-D004-474C-A2F3-A5E34267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966D-E632-4D39-902F-C01F8B1A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9616-FD0E-4EB2-93A1-3FE822503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6C02-34BA-4457-BA32-8A9119A2E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85C8F-7E8E-4A80-B3B3-C3B657C85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0A8E5-8E77-43CD-93A3-5A1810ED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F5634-69FF-42D0-8673-7CE2E887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C487A-8623-48AC-8DE0-5596FC2D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BB5B0-2A43-4738-80D7-7D406021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8B0C-77F5-466D-915C-A0D9B2B0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B40BE-2E3E-41B7-AF4D-AC328228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5D0FB-BA15-49ED-BFC5-E4293CF5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47FA4-5BAB-47CC-B03E-79056845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ECCF7-0D08-4BB6-BECF-05FEF35B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50B60-B0F7-4270-B546-90C01BE2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12DBD-5F33-4A19-8498-4C9175461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1AB5E-1F13-4AB6-8AEA-2FB772D44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A50635-50EA-41DC-B810-F3D3DE0F7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105643-4566-49E4-96DE-F8E4143E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9162B7-BFF3-40BF-BAEF-51BB4A54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4CCB-3A8C-42AF-A73E-4BC9F80A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31C3F3-80B9-4664-9630-26B223B7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E87635-1F17-4E37-A135-6A512074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7B17CE-1D7A-405C-BE9F-8560E182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87145A-281A-476A-BF69-14BA37AB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F8FDD9-3361-4634-B303-E0295749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42AEC1-181D-47A4-A95F-FB1C1090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247474-F275-4FF3-8AC2-06C94D94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2DB15F-A1E2-4DCC-BE20-7B6BDA6BF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22A16A-E0BC-4112-8F08-6FBDF1BFC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56084-4611-442C-A990-FC3A35B25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F3DE-B269-4C8F-952B-7C76663B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EDD5C-6C08-410D-A17E-3BDBF538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00B06-40B6-4D93-A2F6-542B78E8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60812-A402-4A9E-8828-A801043A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EE160-7D47-45A0-8BCC-6F7015B9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8D3ED-C1E1-4B7A-BEAB-08802823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CFBF7-69EE-4AAD-9274-6FAEE837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5503C-129A-470D-981F-829BDE4F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CC9A0-C564-419A-8E6C-04D4A416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4E8A7-2F34-4ED3-AAE8-BDB39786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2BF6E-9A9E-4747-AD1A-AE0DD71CA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EFBC-92D8-43BE-A8B3-2EB99A53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E1598-897F-45B2-BAEB-22A3C8C46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2E586-7537-4CE5-94A3-F44E12BCD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999A5-9D62-4AEC-B96F-DBCCA4BD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B6D17-0F4F-4806-9163-AE6D5800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2131A-185D-4E97-8B2A-478B0D1B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53146-4E5B-4A2B-82EF-189607B9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C4901-7D9F-4C21-AAB5-24A371EE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EBBFF-A5D9-485C-9B5D-16C1B1CD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A57E6-E2B4-4B27-B510-8FC754D5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AE41D-F400-403E-8A4F-8E11C937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C52F-2848-4878-AF24-E9141EAE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51806-2E55-41C0-8A11-1A89B4B5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CF523-1E53-4EEA-849A-848CC1AA9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A9E92-77A9-43EB-8894-1D14262DA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6D507B-802F-4F50-AC01-8586549AC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9206EC-CDA8-4446-88F3-BF388B5F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3C7002-428B-4A99-A54C-4AD0ECEF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B88758-1697-406D-85C3-2BB9B1C1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C0EDEF-FCA2-4A1C-9A48-ED0BA1B1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288070-CB1A-4A70-ADC1-CDF7E569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5090E9-A7D6-4E75-B6E6-3CE800F2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56CF-E6BF-44A2-B512-B9DCA37F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F2F91C-A74E-4F38-A154-038AEC1C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2A3B16-0083-4C46-9BCF-16CBA82A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D3CF85-F223-4AEA-A71A-A066316E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6AB966-3331-40CB-918D-B6A6B91FE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16AD4B-9C4C-40F9-A6DC-616DFFB08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7D8C-0750-4B9D-BCE9-09675FC4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A618-031B-4958-BA5F-210914CD7C0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85B4-C1E5-42BB-9CEE-01934AD3FE4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7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38C4-AAFB-4085-83E7-891138B2394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圆角矩形 6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129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 flipV="1">
            <a:off x="84240" y="1202400"/>
            <a:ext cx="9013680" cy="90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84240" y="1168560"/>
            <a:ext cx="9013680" cy="44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84240" y="1295280"/>
            <a:ext cx="901368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1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B5B2-E180-4398-B32D-FD479D063C5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十六章 骨骼与钙磷代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dt" idx="1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哈尔滨医科大学  袁丽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圆角矩形 9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A2E5-67BC-4022-8263-44359A4D4B2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8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9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0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C29F-6129-42E6-9FDD-E52A847433C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圆角矩形 6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268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8"/>
          <p:cNvSpPr/>
          <p:nvPr/>
        </p:nvSpPr>
        <p:spPr>
          <a:xfrm flipV="1">
            <a:off x="84240" y="1202400"/>
            <a:ext cx="9013680" cy="90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9"/>
          <p:cNvSpPr/>
          <p:nvPr/>
        </p:nvSpPr>
        <p:spPr>
          <a:xfrm>
            <a:off x="84240" y="1168560"/>
            <a:ext cx="9013680" cy="44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0"/>
          <p:cNvSpPr/>
          <p:nvPr/>
        </p:nvSpPr>
        <p:spPr>
          <a:xfrm>
            <a:off x="84240" y="1295280"/>
            <a:ext cx="901368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1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D558-5097-4DB4-B531-3EEFAE18110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十六章 骨骼与钙磷代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dt" idx="2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哈尔滨医科大学  袁丽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" Target="slide1.xml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" descr="未标题-1"/>
          <p:cNvPicPr/>
          <p:nvPr/>
        </p:nvPicPr>
        <p:blipFill>
          <a:blip r:embed="rId1"/>
          <a:stretch/>
        </p:blipFill>
        <p:spPr>
          <a:xfrm>
            <a:off x="387360" y="3141720"/>
            <a:ext cx="2550960" cy="3279600"/>
          </a:xfrm>
          <a:prstGeom prst="rect">
            <a:avLst/>
          </a:prstGeom>
          <a:ln w="0">
            <a:noFill/>
          </a:ln>
        </p:spPr>
      </p:pic>
      <p:sp>
        <p:nvSpPr>
          <p:cNvPr id="316" name="TextBox 6"/>
          <p:cNvSpPr/>
          <p:nvPr/>
        </p:nvSpPr>
        <p:spPr>
          <a:xfrm>
            <a:off x="342000" y="1549440"/>
            <a:ext cx="85428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十六章</a:t>
            </a:r>
            <a:r>
              <a:rPr b="0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骨骼与钙磷代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Bone and Calcium-phosphorus 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Group 2"/>
          <p:cNvGrpSpPr/>
          <p:nvPr/>
        </p:nvGrpSpPr>
        <p:grpSpPr>
          <a:xfrm>
            <a:off x="1062000" y="1284120"/>
            <a:ext cx="7254720" cy="2226960"/>
            <a:chOff x="1062000" y="1284120"/>
            <a:chExt cx="7254720" cy="2226960"/>
          </a:xfrm>
        </p:grpSpPr>
        <p:sp>
          <p:nvSpPr>
            <p:cNvPr id="386" name="Text Box 3"/>
            <p:cNvSpPr/>
            <p:nvPr/>
          </p:nvSpPr>
          <p:spPr>
            <a:xfrm>
              <a:off x="1062000" y="1284120"/>
              <a:ext cx="725472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C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O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心肌兴奋性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M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1)[Ca</a:t>
              </a:r>
              <a:r>
                <a:rPr b="1" lang="en-US" sz="2800" spc="-1" strike="noStrike" baseline="30000">
                  <a:solidFill>
                    <a:srgbClr val="cc33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]: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有利心肌收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和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相拮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4"/>
            <p:cNvSpPr/>
            <p:nvPr/>
          </p:nvSpPr>
          <p:spPr>
            <a:xfrm>
              <a:off x="3359160" y="20188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5"/>
          <p:cNvGrpSpPr/>
          <p:nvPr/>
        </p:nvGrpSpPr>
        <p:grpSpPr>
          <a:xfrm>
            <a:off x="1042920" y="3573360"/>
            <a:ext cx="7238880" cy="2653560"/>
            <a:chOff x="1042920" y="3573360"/>
            <a:chExt cx="7238880" cy="2653560"/>
          </a:xfrm>
        </p:grpSpPr>
        <p:sp>
          <p:nvSpPr>
            <p:cNvPr id="389" name="Text Box 6"/>
            <p:cNvSpPr/>
            <p:nvPr/>
          </p:nvSpPr>
          <p:spPr>
            <a:xfrm>
              <a:off x="1042920" y="3573360"/>
              <a:ext cx="723888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 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肌肉兴奋性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C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M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2)[Ca</a:t>
              </a:r>
              <a:r>
                <a:rPr b="1" lang="en-US" sz="2800" spc="-1" strike="noStrike" baseline="30000">
                  <a:solidFill>
                    <a:srgbClr val="cc33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]: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参与肌肉收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降低神经肌肉的兴奋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降低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: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抽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7"/>
            <p:cNvSpPr/>
            <p:nvPr/>
          </p:nvSpPr>
          <p:spPr>
            <a:xfrm>
              <a:off x="3268440" y="42940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8"/>
          <p:cNvSpPr/>
          <p:nvPr/>
        </p:nvSpPr>
        <p:spPr>
          <a:xfrm>
            <a:off x="1222200" y="620640"/>
            <a:ext cx="51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神经、肌肉的兴奋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755640" y="836640"/>
            <a:ext cx="7848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二信使作用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调节酶活性、细胞分泌、递质合成、微管聚合、有丝分裂、肌肉收缩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其他：突触传递、血液凝固、细胞粘连、降低毛细血管和细胞膜的通透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539640" y="3213000"/>
          <a:ext cx="8064720" cy="3043440"/>
        </p:xfrm>
        <a:graphic>
          <a:graphicData uri="http://schemas.openxmlformats.org/drawingml/2006/table">
            <a:tbl>
              <a:tblPr/>
              <a:tblGrid>
                <a:gridCol w="2679840"/>
                <a:gridCol w="2416320"/>
                <a:gridCol w="2968560"/>
              </a:tblGrid>
              <a:tr h="360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底物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磷酸化的结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生理意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组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失去对转录的阻遏作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，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核中酸性蛋白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，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核蛋白体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翻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细胞膜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膜蛋白构象及功能改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改变膜对水及离子的通透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微管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构象及功能改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影响细胞分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心肌肌原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易与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强心肌收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心肌肌浆网膜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摄入肌浆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强肌纤维舒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肾上腺素能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受体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影响受体功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脱敏化及下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394" name="Rectangle 352"/>
          <p:cNvSpPr/>
          <p:nvPr/>
        </p:nvSpPr>
        <p:spPr>
          <a:xfrm>
            <a:off x="3453480" y="2701080"/>
            <a:ext cx="2225880" cy="3682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K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对底物蛋白的磷酸化作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3"/>
          <p:cNvSpPr/>
          <p:nvPr/>
        </p:nvSpPr>
        <p:spPr>
          <a:xfrm>
            <a:off x="1526760" y="1338840"/>
            <a:ext cx="171540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吸收与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1540440" y="18784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3572640" y="2335680"/>
            <a:ext cx="34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部位：小肠上段（十二支肠和空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2903040" y="2869200"/>
            <a:ext cx="14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影响因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3206880" y="1878480"/>
            <a:ext cx="234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吸收与年龄成反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4502520" y="286920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t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7085520" y="285156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重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0"/>
          <p:cNvGrpSpPr/>
          <p:nvPr/>
        </p:nvGrpSpPr>
        <p:grpSpPr>
          <a:xfrm>
            <a:off x="5394240" y="2869200"/>
            <a:ext cx="1371600" cy="459720"/>
            <a:chOff x="5394240" y="2869200"/>
            <a:chExt cx="1371600" cy="459720"/>
          </a:xfrm>
        </p:grpSpPr>
        <p:sp>
          <p:nvSpPr>
            <p:cNvPr id="403" name="Line 11"/>
            <p:cNvSpPr/>
            <p:nvPr/>
          </p:nvSpPr>
          <p:spPr>
            <a:xfrm>
              <a:off x="5394240" y="309888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12"/>
            <p:cNvSpPr/>
            <p:nvPr/>
          </p:nvSpPr>
          <p:spPr>
            <a:xfrm>
              <a:off x="6111360" y="28692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13"/>
            <p:cNvSpPr/>
            <p:nvPr/>
          </p:nvSpPr>
          <p:spPr>
            <a:xfrm flipV="1">
              <a:off x="6765840" y="2869920"/>
              <a:ext cx="0" cy="381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Text Box 14"/>
          <p:cNvSpPr/>
          <p:nvPr/>
        </p:nvSpPr>
        <p:spPr>
          <a:xfrm>
            <a:off x="4789080" y="332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酸性食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5"/>
          <p:cNvGrpSpPr/>
          <p:nvPr/>
        </p:nvGrpSpPr>
        <p:grpSpPr>
          <a:xfrm>
            <a:off x="6012000" y="3428640"/>
            <a:ext cx="380880" cy="228960"/>
            <a:chOff x="6012000" y="3428640"/>
            <a:chExt cx="380880" cy="228960"/>
          </a:xfrm>
        </p:grpSpPr>
        <p:sp>
          <p:nvSpPr>
            <p:cNvPr id="408" name="Line 16"/>
            <p:cNvSpPr/>
            <p:nvPr/>
          </p:nvSpPr>
          <p:spPr>
            <a:xfrm>
              <a:off x="6012000" y="365760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 flipV="1">
              <a:off x="6392880" y="342864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 Box 18"/>
          <p:cNvSpPr/>
          <p:nvPr/>
        </p:nvSpPr>
        <p:spPr>
          <a:xfrm>
            <a:off x="4850640" y="37378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植物酸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高浓度钾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19"/>
          <p:cNvGrpSpPr/>
          <p:nvPr/>
        </p:nvGrpSpPr>
        <p:grpSpPr>
          <a:xfrm>
            <a:off x="6400800" y="4088160"/>
            <a:ext cx="1371600" cy="459720"/>
            <a:chOff x="6400800" y="4088160"/>
            <a:chExt cx="1371600" cy="459720"/>
          </a:xfrm>
        </p:grpSpPr>
        <p:grpSp>
          <p:nvGrpSpPr>
            <p:cNvPr id="412" name="Group 20"/>
            <p:cNvGrpSpPr/>
            <p:nvPr/>
          </p:nvGrpSpPr>
          <p:grpSpPr>
            <a:xfrm>
              <a:off x="6400800" y="4089240"/>
              <a:ext cx="609480" cy="457200"/>
              <a:chOff x="6400800" y="4089240"/>
              <a:chExt cx="609480" cy="457200"/>
            </a:xfrm>
          </p:grpSpPr>
          <p:sp>
            <p:nvSpPr>
              <p:cNvPr id="413" name="AutoShape 21"/>
              <p:cNvSpPr/>
              <p:nvPr/>
            </p:nvSpPr>
            <p:spPr>
              <a:xfrm>
                <a:off x="6400800" y="4089240"/>
                <a:ext cx="76320" cy="457200"/>
              </a:xfrm>
              <a:custGeom>
                <a:avLst/>
                <a:gdLst>
                  <a:gd name="textAreaLeft" fmla="*/ 0 w 76320"/>
                  <a:gd name="textAreaRight" fmla="*/ 27360 w 76320"/>
                  <a:gd name="textAreaTop" fmla="*/ 11880 h 457200"/>
                  <a:gd name="textAreaBottom" fmla="*/ 4453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22"/>
              <p:cNvSpPr/>
              <p:nvPr/>
            </p:nvSpPr>
            <p:spPr>
              <a:xfrm>
                <a:off x="6477120" y="431784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Rectangle 23"/>
            <p:cNvSpPr/>
            <p:nvPr/>
          </p:nvSpPr>
          <p:spPr>
            <a:xfrm>
              <a:off x="7102080" y="40881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24"/>
            <p:cNvSpPr/>
            <p:nvPr/>
          </p:nvSpPr>
          <p:spPr>
            <a:xfrm>
              <a:off x="7772400" y="416556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25"/>
          <p:cNvSpPr/>
          <p:nvPr/>
        </p:nvSpPr>
        <p:spPr>
          <a:xfrm>
            <a:off x="1540440" y="47962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6"/>
          <p:cNvSpPr/>
          <p:nvPr/>
        </p:nvSpPr>
        <p:spPr>
          <a:xfrm>
            <a:off x="2981160" y="4796280"/>
            <a:ext cx="30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由消化道随粪便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7"/>
          <p:cNvSpPr/>
          <p:nvPr/>
        </p:nvSpPr>
        <p:spPr>
          <a:xfrm>
            <a:off x="1425240" y="5299560"/>
            <a:ext cx="191808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磷的吸收与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8"/>
          <p:cNvSpPr/>
          <p:nvPr/>
        </p:nvSpPr>
        <p:spPr>
          <a:xfrm>
            <a:off x="1542240" y="573300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9"/>
          <p:cNvSpPr/>
          <p:nvPr/>
        </p:nvSpPr>
        <p:spPr>
          <a:xfrm>
            <a:off x="3186720" y="5753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与钙相似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0"/>
          <p:cNvSpPr/>
          <p:nvPr/>
        </p:nvSpPr>
        <p:spPr>
          <a:xfrm>
            <a:off x="1540440" y="621072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1"/>
          <p:cNvSpPr/>
          <p:nvPr/>
        </p:nvSpPr>
        <p:spPr>
          <a:xfrm>
            <a:off x="3092760" y="621072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由泌尿道小便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标题 1"/>
          <p:cNvSpPr/>
          <p:nvPr/>
        </p:nvSpPr>
        <p:spPr>
          <a:xfrm>
            <a:off x="755640" y="26028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marL="1015920" indent="-101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钙磷的吸收与排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钙代谢"/>
          <p:cNvPicPr/>
          <p:nvPr/>
        </p:nvPicPr>
        <p:blipFill>
          <a:blip r:embed="rId1"/>
          <a:stretch/>
        </p:blipFill>
        <p:spPr>
          <a:xfrm>
            <a:off x="1258920" y="981000"/>
            <a:ext cx="6337440" cy="529272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3"/>
          <p:cNvSpPr/>
          <p:nvPr/>
        </p:nvSpPr>
        <p:spPr>
          <a:xfrm>
            <a:off x="2411280" y="549360"/>
            <a:ext cx="4248360" cy="5814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钙的代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611280" y="2948040"/>
            <a:ext cx="4392360" cy="330660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3"/>
          <p:cNvSpPr/>
          <p:nvPr/>
        </p:nvSpPr>
        <p:spPr>
          <a:xfrm>
            <a:off x="539640" y="765000"/>
            <a:ext cx="73915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、钙的吸收与排泄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需要量：成人每天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00mg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吸收部位：十二指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肠上端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吸收途径 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）主动吸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被动吸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5364000" y="3724200"/>
            <a:ext cx="2737080" cy="236484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离子通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②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③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交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④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钾钠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器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X: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结合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钙吸收1"/>
          <p:cNvPicPr/>
          <p:nvPr/>
        </p:nvPicPr>
        <p:blipFill>
          <a:blip r:embed="rId1"/>
          <a:stretch/>
        </p:blipFill>
        <p:spPr>
          <a:xfrm>
            <a:off x="826920" y="1027080"/>
            <a:ext cx="7490160" cy="528156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3"/>
          <p:cNvSpPr/>
          <p:nvPr/>
        </p:nvSpPr>
        <p:spPr>
          <a:xfrm>
            <a:off x="2484360" y="112680"/>
            <a:ext cx="4248360" cy="5814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钙的代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684360" y="476280"/>
            <a:ext cx="74167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 磷的吸收与排泄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需要量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2mg/kg/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收部位：小肠、空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收形式：酸性磷酸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687240" y="3213000"/>
            <a:ext cx="77724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的排泄：肾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70%</a:t>
            </a:r>
            <a:r>
              <a:rPr b="1" lang="en-US" sz="2800" spc="-1" strike="noStrike">
                <a:solidFill>
                  <a:srgbClr val="696464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调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4" descr="演示文稿1"/>
          <p:cNvPicPr/>
          <p:nvPr/>
        </p:nvPicPr>
        <p:blipFill>
          <a:blip r:embed="rId1"/>
          <a:srcRect l="0" t="0" r="0" b="15265"/>
          <a:stretch/>
        </p:blipFill>
        <p:spPr>
          <a:xfrm>
            <a:off x="216000" y="44280"/>
            <a:ext cx="8820000" cy="562140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5"/>
          <p:cNvSpPr/>
          <p:nvPr/>
        </p:nvSpPr>
        <p:spPr>
          <a:xfrm>
            <a:off x="3825360" y="561564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钙与血磷代谢与调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1015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第三节  血液中钙磷含量与存在形式</a:t>
            </a:r>
            <a:endParaRPr b="0" lang="en-US" sz="3600" spc="-1" strike="noStrike">
              <a:solidFill>
                <a:srgbClr val="696464"/>
              </a:solidFill>
              <a:latin typeface="Arial"/>
            </a:endParaRPr>
          </a:p>
        </p:txBody>
      </p:sp>
      <p:grpSp>
        <p:nvGrpSpPr>
          <p:cNvPr id="437" name="Group 11"/>
          <p:cNvGrpSpPr/>
          <p:nvPr/>
        </p:nvGrpSpPr>
        <p:grpSpPr>
          <a:xfrm>
            <a:off x="539640" y="1844640"/>
            <a:ext cx="8208720" cy="2231640"/>
            <a:chOff x="539640" y="1844640"/>
            <a:chExt cx="8208720" cy="2231640"/>
          </a:xfrm>
        </p:grpSpPr>
        <p:grpSp>
          <p:nvGrpSpPr>
            <p:cNvPr id="438" name="Group 12"/>
            <p:cNvGrpSpPr/>
            <p:nvPr/>
          </p:nvGrpSpPr>
          <p:grpSpPr>
            <a:xfrm>
              <a:off x="539640" y="1844640"/>
              <a:ext cx="8208720" cy="2231640"/>
              <a:chOff x="539640" y="1844640"/>
              <a:chExt cx="8208720" cy="2231640"/>
            </a:xfrm>
          </p:grpSpPr>
          <p:sp>
            <p:nvSpPr>
              <p:cNvPr id="439" name="Text Box 13"/>
              <p:cNvSpPr/>
              <p:nvPr/>
            </p:nvSpPr>
            <p:spPr>
              <a:xfrm>
                <a:off x="2934000" y="1844640"/>
                <a:ext cx="1710000" cy="160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离子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结合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5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Text Box 14"/>
              <p:cNvSpPr/>
              <p:nvPr/>
            </p:nvSpPr>
            <p:spPr>
              <a:xfrm>
                <a:off x="7209360" y="2136960"/>
                <a:ext cx="1197000" cy="409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可扩散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15"/>
              <p:cNvSpPr/>
              <p:nvPr/>
            </p:nvSpPr>
            <p:spPr>
              <a:xfrm>
                <a:off x="539640" y="2136960"/>
                <a:ext cx="2394360" cy="796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              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血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.25-2.75mmol/L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16"/>
              <p:cNvSpPr/>
              <p:nvPr/>
            </p:nvSpPr>
            <p:spPr>
              <a:xfrm>
                <a:off x="4815000" y="2429640"/>
                <a:ext cx="2223360" cy="157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柠檬酸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0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蛋白结合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Text Box 17"/>
              <p:cNvSpPr/>
              <p:nvPr/>
            </p:nvSpPr>
            <p:spPr>
              <a:xfrm>
                <a:off x="7038360" y="3599280"/>
                <a:ext cx="1710000" cy="47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——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非扩散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18"/>
            <p:cNvGrpSpPr/>
            <p:nvPr/>
          </p:nvGrpSpPr>
          <p:grpSpPr>
            <a:xfrm>
              <a:off x="2763000" y="1844640"/>
              <a:ext cx="4104360" cy="1963440"/>
              <a:chOff x="2763000" y="1844640"/>
              <a:chExt cx="4104360" cy="1963440"/>
            </a:xfrm>
          </p:grpSpPr>
          <p:sp>
            <p:nvSpPr>
              <p:cNvPr id="445" name="AutoShape 19"/>
              <p:cNvSpPr/>
              <p:nvPr/>
            </p:nvSpPr>
            <p:spPr>
              <a:xfrm>
                <a:off x="4644000" y="2575800"/>
                <a:ext cx="222120" cy="123228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2040 h 1232280"/>
                  <a:gd name="textAreaBottom" fmla="*/ 1200240 h 123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AutoShape 20"/>
              <p:cNvSpPr/>
              <p:nvPr/>
            </p:nvSpPr>
            <p:spPr>
              <a:xfrm>
                <a:off x="6696360" y="1844640"/>
                <a:ext cx="171000" cy="819720"/>
              </a:xfrm>
              <a:custGeom>
                <a:avLst/>
                <a:gdLst>
                  <a:gd name="textAreaLeft" fmla="*/ 0 w 171000"/>
                  <a:gd name="textAreaRight" fmla="*/ 61560 w 171000"/>
                  <a:gd name="textAreaTop" fmla="*/ 21240 h 819720"/>
                  <a:gd name="textAreaBottom" fmla="*/ 798480 h 8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AutoShape 21"/>
              <p:cNvSpPr/>
              <p:nvPr/>
            </p:nvSpPr>
            <p:spPr>
              <a:xfrm>
                <a:off x="2763000" y="1990800"/>
                <a:ext cx="222120" cy="123228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2040 h 1232280"/>
                  <a:gd name="textAreaBottom" fmla="*/ 1200240 h 123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Text Box 23"/>
          <p:cNvSpPr/>
          <p:nvPr/>
        </p:nvSpPr>
        <p:spPr>
          <a:xfrm>
            <a:off x="1258920" y="4581360"/>
            <a:ext cx="7273800" cy="86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血浆蛋白结合钙                                             蛋白质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C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5"/>
          <p:cNvSpPr/>
          <p:nvPr/>
        </p:nvSpPr>
        <p:spPr>
          <a:xfrm>
            <a:off x="3924360" y="4365720"/>
            <a:ext cx="14922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 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6"/>
          <p:cNvSpPr/>
          <p:nvPr/>
        </p:nvSpPr>
        <p:spPr>
          <a:xfrm>
            <a:off x="3780000" y="4869000"/>
            <a:ext cx="16794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 H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27"/>
          <p:cNvGrpSpPr/>
          <p:nvPr/>
        </p:nvGrpSpPr>
        <p:grpSpPr>
          <a:xfrm>
            <a:off x="3348000" y="4797360"/>
            <a:ext cx="2425680" cy="71640"/>
            <a:chOff x="3348000" y="4797360"/>
            <a:chExt cx="2425680" cy="71640"/>
          </a:xfrm>
        </p:grpSpPr>
        <p:sp>
          <p:nvSpPr>
            <p:cNvPr id="452" name="Line 28"/>
            <p:cNvSpPr/>
            <p:nvPr/>
          </p:nvSpPr>
          <p:spPr>
            <a:xfrm>
              <a:off x="3348000" y="4797360"/>
              <a:ext cx="24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9"/>
            <p:cNvSpPr/>
            <p:nvPr/>
          </p:nvSpPr>
          <p:spPr>
            <a:xfrm flipH="1">
              <a:off x="3348000" y="4869000"/>
              <a:ext cx="24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Text Box 30"/>
          <p:cNvSpPr/>
          <p:nvPr/>
        </p:nvSpPr>
        <p:spPr>
          <a:xfrm>
            <a:off x="900000" y="5876280"/>
            <a:ext cx="640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中的无机磷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0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2340000" y="5229360"/>
            <a:ext cx="424800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的代谢转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3"/>
          <p:cNvGrpSpPr/>
          <p:nvPr/>
        </p:nvGrpSpPr>
        <p:grpSpPr>
          <a:xfrm>
            <a:off x="755640" y="1625760"/>
            <a:ext cx="7775640" cy="4326480"/>
            <a:chOff x="755640" y="1625760"/>
            <a:chExt cx="7775640" cy="4326480"/>
          </a:xfrm>
        </p:grpSpPr>
        <p:sp>
          <p:nvSpPr>
            <p:cNvPr id="457" name="Text Box 4"/>
            <p:cNvSpPr/>
            <p:nvPr/>
          </p:nvSpPr>
          <p:spPr>
            <a:xfrm>
              <a:off x="2987640" y="3068640"/>
              <a:ext cx="2519280" cy="581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血钙与血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5"/>
            <p:cNvSpPr/>
            <p:nvPr/>
          </p:nvSpPr>
          <p:spPr>
            <a:xfrm>
              <a:off x="6659640" y="162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组织细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6"/>
            <p:cNvSpPr/>
            <p:nvPr/>
          </p:nvSpPr>
          <p:spPr>
            <a:xfrm>
              <a:off x="6659640" y="40737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7"/>
            <p:cNvSpPr/>
            <p:nvPr/>
          </p:nvSpPr>
          <p:spPr>
            <a:xfrm>
              <a:off x="755640" y="30657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8"/>
            <p:cNvSpPr/>
            <p:nvPr/>
          </p:nvSpPr>
          <p:spPr>
            <a:xfrm>
              <a:off x="826920" y="1625760"/>
              <a:ext cx="187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食物钙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9"/>
            <p:cNvSpPr/>
            <p:nvPr/>
          </p:nvSpPr>
          <p:spPr>
            <a:xfrm>
              <a:off x="3564000" y="162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骨钙骨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0"/>
            <p:cNvSpPr/>
            <p:nvPr/>
          </p:nvSpPr>
          <p:spPr>
            <a:xfrm>
              <a:off x="4643280" y="2205360"/>
              <a:ext cx="0" cy="86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11"/>
            <p:cNvSpPr/>
            <p:nvPr/>
          </p:nvSpPr>
          <p:spPr>
            <a:xfrm flipV="1">
              <a:off x="4211640" y="2131920"/>
              <a:ext cx="0" cy="8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12"/>
            <p:cNvSpPr/>
            <p:nvPr/>
          </p:nvSpPr>
          <p:spPr>
            <a:xfrm flipV="1">
              <a:off x="5506920" y="2133720"/>
              <a:ext cx="1729080" cy="79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3"/>
            <p:cNvSpPr/>
            <p:nvPr/>
          </p:nvSpPr>
          <p:spPr>
            <a:xfrm>
              <a:off x="5580000" y="3502080"/>
              <a:ext cx="1800360" cy="7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4"/>
            <p:cNvSpPr/>
            <p:nvPr/>
          </p:nvSpPr>
          <p:spPr>
            <a:xfrm flipH="1" flipV="1">
              <a:off x="5436720" y="3645000"/>
              <a:ext cx="187164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15"/>
            <p:cNvSpPr/>
            <p:nvPr/>
          </p:nvSpPr>
          <p:spPr>
            <a:xfrm flipH="1">
              <a:off x="5580000" y="2349720"/>
              <a:ext cx="172728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16"/>
            <p:cNvSpPr/>
            <p:nvPr/>
          </p:nvSpPr>
          <p:spPr>
            <a:xfrm>
              <a:off x="1690560" y="2133720"/>
              <a:ext cx="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17"/>
            <p:cNvSpPr/>
            <p:nvPr/>
          </p:nvSpPr>
          <p:spPr>
            <a:xfrm>
              <a:off x="1979640" y="328464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18"/>
            <p:cNvSpPr/>
            <p:nvPr/>
          </p:nvSpPr>
          <p:spPr>
            <a:xfrm flipH="1">
              <a:off x="1906200" y="350064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19"/>
            <p:cNvSpPr/>
            <p:nvPr/>
          </p:nvSpPr>
          <p:spPr>
            <a:xfrm>
              <a:off x="1690560" y="3645000"/>
              <a:ext cx="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20"/>
            <p:cNvSpPr/>
            <p:nvPr/>
          </p:nvSpPr>
          <p:spPr>
            <a:xfrm>
              <a:off x="898560" y="465300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粪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21"/>
            <p:cNvSpPr/>
            <p:nvPr/>
          </p:nvSpPr>
          <p:spPr>
            <a:xfrm>
              <a:off x="6804000" y="537084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尿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22"/>
            <p:cNvSpPr/>
            <p:nvPr/>
          </p:nvSpPr>
          <p:spPr>
            <a:xfrm>
              <a:off x="7596360" y="4651560"/>
              <a:ext cx="0" cy="79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23"/>
            <p:cNvSpPr/>
            <p:nvPr/>
          </p:nvSpPr>
          <p:spPr>
            <a:xfrm>
              <a:off x="4236480" y="2205360"/>
              <a:ext cx="9118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溶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24"/>
            <p:cNvSpPr/>
            <p:nvPr/>
          </p:nvSpPr>
          <p:spPr>
            <a:xfrm>
              <a:off x="3371040" y="2276640"/>
              <a:ext cx="9118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沉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25"/>
            <p:cNvSpPr/>
            <p:nvPr/>
          </p:nvSpPr>
          <p:spPr>
            <a:xfrm rot="20154600">
              <a:off x="6085080" y="263664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26"/>
            <p:cNvSpPr/>
            <p:nvPr/>
          </p:nvSpPr>
          <p:spPr>
            <a:xfrm rot="20154600">
              <a:off x="5723280" y="2060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利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27"/>
            <p:cNvSpPr/>
            <p:nvPr/>
          </p:nvSpPr>
          <p:spPr>
            <a:xfrm rot="1416000">
              <a:off x="6156000" y="347652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28"/>
            <p:cNvSpPr/>
            <p:nvPr/>
          </p:nvSpPr>
          <p:spPr>
            <a:xfrm rot="1416000">
              <a:off x="5849280" y="4052880"/>
              <a:ext cx="123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重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29"/>
            <p:cNvSpPr/>
            <p:nvPr/>
          </p:nvSpPr>
          <p:spPr>
            <a:xfrm>
              <a:off x="1906560" y="285300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30"/>
            <p:cNvSpPr/>
            <p:nvPr/>
          </p:nvSpPr>
          <p:spPr>
            <a:xfrm>
              <a:off x="1906560" y="347688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63240" y="475920"/>
            <a:ext cx="659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第四节  钙、磷代谢转变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本章内容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18" name="Text Box 6">
            <a:hlinkClick r:id="rId1" action="ppaction://hlinksldjump"/>
          </p:cNvPr>
          <p:cNvSpPr/>
          <p:nvPr/>
        </p:nvSpPr>
        <p:spPr>
          <a:xfrm>
            <a:off x="1712880" y="2205720"/>
            <a:ext cx="63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、体内钙磷含量、分布和生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>
            <a:hlinkClick r:id="rId2" action="ppaction://hlinksldjump"/>
          </p:cNvPr>
          <p:cNvSpPr/>
          <p:nvPr/>
        </p:nvSpPr>
        <p:spPr>
          <a:xfrm>
            <a:off x="1692360" y="301248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钙磷的吸收与排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">
            <a:hlinkClick r:id="rId3" action="ppaction://hlinksldjump"/>
          </p:cNvPr>
          <p:cNvSpPr/>
          <p:nvPr/>
        </p:nvSpPr>
        <p:spPr>
          <a:xfrm>
            <a:off x="1692360" y="379008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液中钙磷含量与存在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9">
            <a:hlinkClick r:id="rId4" action="ppaction://hlinksldjump"/>
          </p:cNvPr>
          <p:cNvSpPr/>
          <p:nvPr/>
        </p:nvSpPr>
        <p:spPr>
          <a:xfrm>
            <a:off x="1733400" y="4507920"/>
            <a:ext cx="63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四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钙磷代谢与骨代谢关系密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>
            <a:hlinkClick r:id="rId5" action="ppaction://hlinksldjump"/>
          </p:cNvPr>
          <p:cNvSpPr/>
          <p:nvPr/>
        </p:nvSpPr>
        <p:spPr>
          <a:xfrm>
            <a:off x="1717560" y="5299920"/>
            <a:ext cx="443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五、钙磷代谢的调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"/>
          <p:cNvSpPr/>
          <p:nvPr/>
        </p:nvSpPr>
        <p:spPr>
          <a:xfrm>
            <a:off x="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849240" y="2492280"/>
            <a:ext cx="1524240" cy="2590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gt;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3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2373480" y="2492280"/>
            <a:ext cx="5943600" cy="2590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钙磷以骨盐形式沉积在骨组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钙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再溶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佝偻病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软骨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822240" y="1268280"/>
            <a:ext cx="7134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血清中</a:t>
            </a: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[Ca]×[P]=35-40</a:t>
            </a: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相对恒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1371600" y="33336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第五节    钙磷代谢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755640" y="1557360"/>
            <a:ext cx="784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节物质：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25(OH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旁腺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钙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作用组织：小肠；肾；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826920" y="2708280"/>
            <a:ext cx="7561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一、 维生素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D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的作用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来源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:   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食物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机体自身合成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需要量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: 200~400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国际单位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0ug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 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活化过程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684360" y="4724280"/>
            <a:ext cx="7561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部位：肝；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关键酶：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α-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羟化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2" descr="未标题-2"/>
          <p:cNvPicPr/>
          <p:nvPr/>
        </p:nvPicPr>
        <p:blipFill>
          <a:blip r:embed="rId1"/>
          <a:stretch/>
        </p:blipFill>
        <p:spPr>
          <a:xfrm>
            <a:off x="287280" y="0"/>
            <a:ext cx="8101080" cy="667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Object 3"/>
          <p:cNvGraphicFramePr/>
          <p:nvPr/>
        </p:nvGraphicFramePr>
        <p:xfrm>
          <a:off x="179280" y="1268280"/>
          <a:ext cx="8697960" cy="48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8697960" cy="48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Rectangle 4"/>
          <p:cNvSpPr/>
          <p:nvPr/>
        </p:nvSpPr>
        <p:spPr>
          <a:xfrm>
            <a:off x="1619280" y="333360"/>
            <a:ext cx="568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钙代谢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2"/>
          <p:cNvGrpSpPr/>
          <p:nvPr/>
        </p:nvGrpSpPr>
        <p:grpSpPr>
          <a:xfrm>
            <a:off x="1042920" y="765000"/>
            <a:ext cx="7201080" cy="3527280"/>
            <a:chOff x="1042920" y="765000"/>
            <a:chExt cx="7201080" cy="3527280"/>
          </a:xfrm>
        </p:grpSpPr>
        <p:sp>
          <p:nvSpPr>
            <p:cNvPr id="499" name="Rectangle 3"/>
            <p:cNvSpPr/>
            <p:nvPr/>
          </p:nvSpPr>
          <p:spPr>
            <a:xfrm>
              <a:off x="1081080" y="765000"/>
              <a:ext cx="335268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1,25(OH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-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本身负反馈调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P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血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血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4"/>
            <p:cNvSpPr/>
            <p:nvPr/>
          </p:nvSpPr>
          <p:spPr>
            <a:xfrm>
              <a:off x="4433760" y="765000"/>
              <a:ext cx="381024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</a:t>
              </a:r>
              <a:r>
                <a:rPr b="1" lang="en-US" sz="2400" spc="-1" strike="noStrike">
                  <a:solidFill>
                    <a:srgbClr val="d34817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+)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羟化酶</a:t>
              </a:r>
              <a:r>
                <a:rPr b="1" lang="zh-CN" sz="2400" spc="-1" strike="noStrike">
                  <a:solidFill>
                    <a:srgbClr val="000000"/>
                  </a:solidFill>
                  <a:latin typeface="Perpetua"/>
                  <a:ea typeface="楷体_GB2312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+)</a:t>
              </a:r>
              <a:r>
                <a:rPr b="1" lang="en-US" sz="2400" spc="-1" strike="noStrike">
                  <a:solidFill>
                    <a:srgbClr val="d34817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</a:t>
              </a:r>
              <a:r>
                <a:rPr b="1" lang="en-US" sz="2400" spc="-1" strike="noStrike">
                  <a:solidFill>
                    <a:srgbClr val="96a9a9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楷体_GB2312"/>
                  <a:ea typeface="楷体_GB2312"/>
                </a:rPr>
                <a:t>(+) P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5"/>
            <p:cNvSpPr/>
            <p:nvPr/>
          </p:nvSpPr>
          <p:spPr>
            <a:xfrm>
              <a:off x="1042920" y="18849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6"/>
            <p:cNvSpPr/>
            <p:nvPr/>
          </p:nvSpPr>
          <p:spPr>
            <a:xfrm>
              <a:off x="1042920" y="30747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7"/>
            <p:cNvSpPr/>
            <p:nvPr/>
          </p:nvSpPr>
          <p:spPr>
            <a:xfrm>
              <a:off x="1042920" y="36309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Rectangle 8"/>
          <p:cNvSpPr/>
          <p:nvPr/>
        </p:nvSpPr>
        <p:spPr>
          <a:xfrm>
            <a:off x="2332080" y="4194000"/>
            <a:ext cx="540864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肝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羟化酶系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肝性佝偻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肾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α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羟化酶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肾性佝偻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未标题-2"/>
          <p:cNvPicPr/>
          <p:nvPr/>
        </p:nvPicPr>
        <p:blipFill>
          <a:blip r:embed="rId1"/>
          <a:stretch/>
        </p:blipFill>
        <p:spPr>
          <a:xfrm>
            <a:off x="1258920" y="0"/>
            <a:ext cx="6038640" cy="674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图片2"/>
          <p:cNvPicPr/>
          <p:nvPr/>
        </p:nvPicPr>
        <p:blipFill>
          <a:blip r:embed="rId1"/>
          <a:stretch/>
        </p:blipFill>
        <p:spPr>
          <a:xfrm>
            <a:off x="0" y="50760"/>
            <a:ext cx="5076720" cy="38829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3" descr="图片1"/>
          <p:cNvPicPr/>
          <p:nvPr/>
        </p:nvPicPr>
        <p:blipFill>
          <a:blip r:embed="rId2"/>
          <a:stretch/>
        </p:blipFill>
        <p:spPr>
          <a:xfrm>
            <a:off x="3780000" y="3357720"/>
            <a:ext cx="5317920" cy="3449520"/>
          </a:xfrm>
          <a:prstGeom prst="rect">
            <a:avLst/>
          </a:prstGeom>
          <a:ln w="0">
            <a:noFill/>
          </a:ln>
        </p:spPr>
      </p:pic>
      <p:sp>
        <p:nvSpPr>
          <p:cNvPr id="508" name="Rectangle 4"/>
          <p:cNvSpPr/>
          <p:nvPr/>
        </p:nvSpPr>
        <p:spPr>
          <a:xfrm>
            <a:off x="1042920" y="260280"/>
            <a:ext cx="1081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5"/>
          <p:cNvSpPr/>
          <p:nvPr/>
        </p:nvSpPr>
        <p:spPr>
          <a:xfrm>
            <a:off x="826920" y="1176480"/>
            <a:ext cx="609840" cy="3808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1403280" y="1916280"/>
            <a:ext cx="1067040" cy="304560"/>
          </a:xfrm>
          <a:prstGeom prst="rect">
            <a:avLst/>
          </a:prstGeom>
          <a:noFill/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2517480" y="1916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00ff"/>
                </a:solidFill>
                <a:latin typeface="Times New Roman"/>
              </a:rPr>
              <a:t>转录因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3276720" y="1989000"/>
            <a:ext cx="718920" cy="37620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9"/>
          <p:cNvSpPr/>
          <p:nvPr/>
        </p:nvSpPr>
        <p:spPr>
          <a:xfrm>
            <a:off x="1701720" y="25653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cc3300"/>
                </a:solidFill>
                <a:latin typeface="Times New Roman"/>
              </a:rPr>
              <a:t>顺式作用元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0"/>
          <p:cNvSpPr/>
          <p:nvPr/>
        </p:nvSpPr>
        <p:spPr>
          <a:xfrm>
            <a:off x="8294760" y="3500280"/>
            <a:ext cx="38088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1"/>
          <p:cNvSpPr/>
          <p:nvPr/>
        </p:nvSpPr>
        <p:spPr>
          <a:xfrm>
            <a:off x="4067280" y="3500280"/>
            <a:ext cx="380880" cy="228600"/>
          </a:xfrm>
          <a:prstGeom prst="rect">
            <a:avLst/>
          </a:prstGeom>
          <a:noFill/>
          <a:ln w="2844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2"/>
          <p:cNvSpPr/>
          <p:nvPr/>
        </p:nvSpPr>
        <p:spPr>
          <a:xfrm>
            <a:off x="4822560" y="4581360"/>
            <a:ext cx="3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3"/>
          <p:cNvSpPr/>
          <p:nvPr/>
        </p:nvSpPr>
        <p:spPr>
          <a:xfrm>
            <a:off x="547092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4"/>
          <p:cNvSpPr/>
          <p:nvPr/>
        </p:nvSpPr>
        <p:spPr>
          <a:xfrm>
            <a:off x="698400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5"/>
          <p:cNvSpPr/>
          <p:nvPr/>
        </p:nvSpPr>
        <p:spPr>
          <a:xfrm>
            <a:off x="820764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6"/>
          <p:cNvSpPr/>
          <p:nvPr/>
        </p:nvSpPr>
        <p:spPr>
          <a:xfrm>
            <a:off x="5364000" y="1268280"/>
            <a:ext cx="2087640" cy="100620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活性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促进小肠对钙的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539640" y="1905120"/>
            <a:ext cx="2743200" cy="3611520"/>
          </a:xfrm>
          <a:prstGeom prst="rect">
            <a:avLst/>
          </a:prstGeo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3206880" y="1905120"/>
            <a:ext cx="5421240" cy="3611520"/>
          </a:xfrm>
          <a:prstGeom prst="rect">
            <a:avLst/>
          </a:prstGeo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小肠对钙、磷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脂溶性激素的作用机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骼的更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溶骨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成骨，溶骨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&gt;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成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远曲小管及集合管合成钙结合蛋白，促进钙的重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血钙与血磷</a:t>
            </a:r>
            <a:br>
              <a:rPr sz="2200"/>
            </a:br>
            <a:r>
              <a:rPr b="1" lang="zh-CN" sz="2200" spc="-1" strike="noStrike">
                <a:solidFill>
                  <a:srgbClr val="cc3300"/>
                </a:solidFill>
                <a:latin typeface="楷体_GB2312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1332000" y="189000"/>
            <a:ext cx="6406920" cy="8748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7647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,25-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-D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Franklin Gothic Book"/>
                <a:ea typeface="楷体_GB2312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的生理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talk005__s026_f"/>
          <p:cNvPicPr/>
          <p:nvPr/>
        </p:nvPicPr>
        <p:blipFill>
          <a:blip r:embed="rId1"/>
          <a:stretch/>
        </p:blipFill>
        <p:spPr>
          <a:xfrm>
            <a:off x="1258920" y="1214280"/>
            <a:ext cx="6697800" cy="502308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3"/>
          <p:cNvSpPr/>
          <p:nvPr/>
        </p:nvSpPr>
        <p:spPr>
          <a:xfrm>
            <a:off x="685800" y="547560"/>
            <a:ext cx="6046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二、甲状旁腺素的调节作用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．合成场所：甲状旁腺主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2"/>
          <p:cNvGrpSpPr/>
          <p:nvPr/>
        </p:nvGrpSpPr>
        <p:grpSpPr>
          <a:xfrm>
            <a:off x="2289960" y="1268280"/>
            <a:ext cx="4871160" cy="3202920"/>
            <a:chOff x="2289960" y="1268280"/>
            <a:chExt cx="4871160" cy="3202920"/>
          </a:xfrm>
        </p:grpSpPr>
        <p:sp>
          <p:nvSpPr>
            <p:cNvPr id="527" name="Text Box 3"/>
            <p:cNvSpPr/>
            <p:nvPr/>
          </p:nvSpPr>
          <p:spPr>
            <a:xfrm>
              <a:off x="2628000" y="1268280"/>
              <a:ext cx="27957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前甲状旁腺素原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1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4"/>
            <p:cNvSpPr/>
            <p:nvPr/>
          </p:nvSpPr>
          <p:spPr>
            <a:xfrm>
              <a:off x="2512800" y="2639880"/>
              <a:ext cx="2643480" cy="459720"/>
            </a:xfrm>
            <a:prstGeom prst="rect">
              <a:avLst/>
            </a:prstGeom>
            <a:noFill/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状旁腺素原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9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5"/>
            <p:cNvSpPr/>
            <p:nvPr/>
          </p:nvSpPr>
          <p:spPr>
            <a:xfrm>
              <a:off x="2603520" y="4011480"/>
              <a:ext cx="2460600" cy="459720"/>
            </a:xfrm>
            <a:prstGeom prst="rect">
              <a:avLst/>
            </a:prstGeom>
            <a:noFill/>
            <a:ln w="9360">
              <a:solidFill>
                <a:srgbClr val="96a9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状旁腺素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84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6"/>
            <p:cNvSpPr/>
            <p:nvPr/>
          </p:nvSpPr>
          <p:spPr>
            <a:xfrm>
              <a:off x="3808440" y="1877760"/>
              <a:ext cx="304920" cy="685800"/>
            </a:xfrm>
            <a:prstGeom prst="downArrow">
              <a:avLst>
                <a:gd name="adj1" fmla="val 50000"/>
                <a:gd name="adj2" fmla="val 56228"/>
              </a:avLst>
            </a:prstGeom>
            <a:solidFill>
              <a:srgbClr val="d34817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7"/>
            <p:cNvSpPr/>
            <p:nvPr/>
          </p:nvSpPr>
          <p:spPr>
            <a:xfrm>
              <a:off x="2289960" y="1954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粗面内质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8"/>
            <p:cNvSpPr/>
            <p:nvPr/>
          </p:nvSpPr>
          <p:spPr>
            <a:xfrm>
              <a:off x="3808440" y="3249360"/>
              <a:ext cx="304920" cy="663840"/>
            </a:xfrm>
            <a:prstGeom prst="downArrow">
              <a:avLst>
                <a:gd name="adj1" fmla="val 50000"/>
                <a:gd name="adj2" fmla="val 54427"/>
              </a:avLst>
            </a:prstGeom>
            <a:solidFill>
              <a:srgbClr val="d34817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9"/>
            <p:cNvSpPr/>
            <p:nvPr/>
          </p:nvSpPr>
          <p:spPr>
            <a:xfrm>
              <a:off x="2532960" y="332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高尔基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0"/>
            <p:cNvSpPr/>
            <p:nvPr/>
          </p:nvSpPr>
          <p:spPr>
            <a:xfrm rot="17403000">
              <a:off x="4185000" y="1881720"/>
              <a:ext cx="314640" cy="763560"/>
            </a:xfrm>
            <a:custGeom>
              <a:avLst/>
              <a:gdLst>
                <a:gd name="textAreaLeft" fmla="*/ 42120 w 314640"/>
                <a:gd name="textAreaRight" fmla="*/ 272520 w 314640"/>
                <a:gd name="textAreaTop" fmla="*/ 133560 h 763560"/>
                <a:gd name="textAreaBottom" fmla="*/ 553680 h 76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11"/>
            <p:cNvSpPr/>
            <p:nvPr/>
          </p:nvSpPr>
          <p:spPr>
            <a:xfrm>
              <a:off x="4932360" y="1877760"/>
              <a:ext cx="222876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N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末端信号肽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5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Rectangle 12"/>
          <p:cNvSpPr/>
          <p:nvPr/>
        </p:nvSpPr>
        <p:spPr>
          <a:xfrm>
            <a:off x="971640" y="547560"/>
            <a:ext cx="410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．合成过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3"/>
          <p:cNvSpPr/>
          <p:nvPr/>
        </p:nvSpPr>
        <p:spPr>
          <a:xfrm>
            <a:off x="903240" y="4557600"/>
            <a:ext cx="741384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.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分泌的调节：   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血</a:t>
            </a:r>
            <a:r>
              <a:rPr b="1" lang="en-US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cc3300"/>
                </a:solidFill>
                <a:latin typeface="Franklin Gothic Book"/>
                <a:ea typeface="楷体_GB2312"/>
              </a:rPr>
              <a:t>2+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PTH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成反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,25-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(-)PTH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（通过血钙）    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降钙素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(+)P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4"/>
          <p:cNvSpPr/>
          <p:nvPr/>
        </p:nvSpPr>
        <p:spPr>
          <a:xfrm>
            <a:off x="884160" y="549360"/>
            <a:ext cx="77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第一节  钙磷的含量、分布及生理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2175120" y="3356640"/>
            <a:ext cx="44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钙磷的含量及分布和在血浆在存在的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0" y="3938760"/>
          <a:ext cx="8893080" cy="2514600"/>
        </p:xfrm>
        <a:graphic>
          <a:graphicData uri="http://schemas.openxmlformats.org/drawingml/2006/table">
            <a:tbl>
              <a:tblPr/>
              <a:tblGrid>
                <a:gridCol w="851040"/>
                <a:gridCol w="946080"/>
                <a:gridCol w="879480"/>
                <a:gridCol w="927000"/>
                <a:gridCol w="1122480"/>
                <a:gridCol w="923760"/>
                <a:gridCol w="1047960"/>
                <a:gridCol w="925200"/>
                <a:gridCol w="1270080"/>
              </a:tblGrid>
              <a:tr h="457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机元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浆中的存在形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骨和齿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软组织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细胞外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浓度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游离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复合物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浓度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5~2.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1~1.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sp>
        <p:nvSpPr>
          <p:cNvPr id="326" name="Text Box 223"/>
          <p:cNvSpPr/>
          <p:nvPr/>
        </p:nvSpPr>
        <p:spPr>
          <a:xfrm>
            <a:off x="1455120" y="167544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内分布与存在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24"/>
          <p:cNvSpPr/>
          <p:nvPr/>
        </p:nvSpPr>
        <p:spPr>
          <a:xfrm>
            <a:off x="2579400" y="2178720"/>
            <a:ext cx="30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和磷是体内含量最高的无机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25"/>
          <p:cNvSpPr/>
          <p:nvPr/>
        </p:nvSpPr>
        <p:spPr>
          <a:xfrm>
            <a:off x="2885040" y="2635920"/>
            <a:ext cx="39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磷主要以骨盐的形式分布于骨胳、牙齿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PTH1"/>
          <p:cNvPicPr/>
          <p:nvPr/>
        </p:nvPicPr>
        <p:blipFill>
          <a:blip r:embed="rId1"/>
          <a:stretch/>
        </p:blipFill>
        <p:spPr>
          <a:xfrm>
            <a:off x="539640" y="0"/>
            <a:ext cx="8353440" cy="675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900000" y="476280"/>
            <a:ext cx="5399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的生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685800" y="1484280"/>
            <a:ext cx="2971800" cy="44658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4"/>
          <p:cNvSpPr/>
          <p:nvPr/>
        </p:nvSpPr>
        <p:spPr>
          <a:xfrm>
            <a:off x="3657600" y="1484280"/>
            <a:ext cx="4730760" cy="44658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远曲小管对钙的重吸收，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近曲小管对磷的重吸收，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P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降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16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溶解（溶骨作用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25-(OH)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itD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3 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钙磷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82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；降低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3" name="Object 3"/>
          <p:cNvGraphicFramePr/>
          <p:nvPr/>
        </p:nvGraphicFramePr>
        <p:xfrm>
          <a:off x="755640" y="692280"/>
          <a:ext cx="7453440" cy="523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92280"/>
                    <a:ext cx="7453440" cy="52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755640" y="404640"/>
            <a:ext cx="7772400" cy="20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三、降钙素（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lcitomin,CT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）的作用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分泌细胞：甲状腺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细胞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化学本质：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肽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分泌的调节：血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T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成正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611280" y="3386160"/>
            <a:ext cx="2971800" cy="25639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3583080" y="3386160"/>
            <a:ext cx="4952880" cy="25639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沉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近曲小管对磷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远曲小管对钙的重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钙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降低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 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、血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5"/>
          <p:cNvSpPr/>
          <p:nvPr/>
        </p:nvSpPr>
        <p:spPr>
          <a:xfrm>
            <a:off x="971640" y="2708280"/>
            <a:ext cx="64069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生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b19-2"/>
          <p:cNvPicPr/>
          <p:nvPr/>
        </p:nvPicPr>
        <p:blipFill>
          <a:blip r:embed="rId1"/>
          <a:stretch/>
        </p:blipFill>
        <p:spPr>
          <a:xfrm>
            <a:off x="684360" y="2060640"/>
            <a:ext cx="7557840" cy="2273400"/>
          </a:xfrm>
          <a:prstGeom prst="rect">
            <a:avLst/>
          </a:prstGeom>
          <a:ln w="0">
            <a:noFill/>
          </a:ln>
        </p:spPr>
      </p:pic>
      <p:sp>
        <p:nvSpPr>
          <p:cNvPr id="550" name="Oval 3"/>
          <p:cNvSpPr/>
          <p:nvPr/>
        </p:nvSpPr>
        <p:spPr>
          <a:xfrm>
            <a:off x="2131920" y="3048120"/>
            <a:ext cx="457200" cy="30456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4"/>
          <p:cNvSpPr/>
          <p:nvPr/>
        </p:nvSpPr>
        <p:spPr>
          <a:xfrm>
            <a:off x="3503520" y="3657600"/>
            <a:ext cx="228600" cy="22860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5"/>
          <p:cNvSpPr/>
          <p:nvPr/>
        </p:nvSpPr>
        <p:spPr>
          <a:xfrm>
            <a:off x="4799160" y="3352680"/>
            <a:ext cx="1447560" cy="30492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6"/>
          <p:cNvSpPr/>
          <p:nvPr/>
        </p:nvSpPr>
        <p:spPr>
          <a:xfrm>
            <a:off x="6323040" y="3048120"/>
            <a:ext cx="1066680" cy="914400"/>
          </a:xfrm>
          <a:prstGeom prst="ellipse">
            <a:avLst/>
          </a:prstGeom>
          <a:noFill/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Object 3"/>
          <p:cNvGraphicFramePr/>
          <p:nvPr/>
        </p:nvGraphicFramePr>
        <p:xfrm>
          <a:off x="801720" y="2082960"/>
          <a:ext cx="7657920" cy="30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1720" y="2082960"/>
                    <a:ext cx="7657920" cy="30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7" name="Rectangle 4"/>
          <p:cNvGrpSpPr/>
          <p:nvPr/>
        </p:nvGrpSpPr>
        <p:grpSpPr>
          <a:xfrm>
            <a:off x="1695600" y="401760"/>
            <a:ext cx="5685840" cy="652320"/>
            <a:chOff x="1695600" y="401760"/>
            <a:chExt cx="5685840" cy="652320"/>
          </a:xfrm>
        </p:grpSpPr>
        <p:pic>
          <p:nvPicPr>
            <p:cNvPr id="558" name="Rectangle 4" descr=""/>
            <p:cNvPicPr/>
            <p:nvPr/>
          </p:nvPicPr>
          <p:blipFill>
            <a:blip r:embed="rId3"/>
            <a:stretch/>
          </p:blipFill>
          <p:spPr>
            <a:xfrm>
              <a:off x="1698480" y="401760"/>
              <a:ext cx="568296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1695600" y="404640"/>
              <a:ext cx="56847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钙代谢调节激素的协同作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0" name="Picture 5" descr="Pi_13310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51280" y="5950080"/>
            <a:ext cx="133344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2556000" y="404640"/>
            <a:ext cx="424800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代谢紊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755640" y="1530360"/>
            <a:ext cx="763272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生理需要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需要量：成人每天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青春期儿童每天需钙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孕妇及乳母需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g/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磷的需要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mg/kg/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膳食中钙∶磷比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最宜于钙、磷的吸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684360" y="333360"/>
            <a:ext cx="64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二、低血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684360" y="1341360"/>
            <a:ext cx="792000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蛋白质含量减少，可使蛋白结合钙减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状旁腺功能减退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泌下降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611280" y="3716280"/>
            <a:ext cx="820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除精神症状外，常发生手足搐搦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684360" y="26028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三、佝偻病与软骨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755640" y="1413000"/>
            <a:ext cx="8209080" cy="6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611280" y="2023920"/>
            <a:ext cx="820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佝偻病发生于生长发育中的儿童；软骨病则多发生于成年人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5"/>
          <p:cNvSpPr/>
          <p:nvPr/>
        </p:nvSpPr>
        <p:spPr>
          <a:xfrm>
            <a:off x="611280" y="318600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高血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6"/>
          <p:cNvSpPr/>
          <p:nvPr/>
        </p:nvSpPr>
        <p:spPr>
          <a:xfrm>
            <a:off x="684360" y="3724200"/>
            <a:ext cx="820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甲状旁腺功能亢进及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7"/>
          <p:cNvSpPr/>
          <p:nvPr/>
        </p:nvSpPr>
        <p:spPr>
          <a:xfrm>
            <a:off x="468360" y="4265640"/>
            <a:ext cx="80643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神经肌肉兴奋性减弱，嗜睡，肌张力减弱等，严重时有精神障碍，出现幻觉，甚至昏迷。高血钙还可引起钙盐的异位沉着，如形成尿路结石等。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826920" y="404640"/>
            <a:ext cx="71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五、泌尿系统结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"/>
          <p:cNvSpPr/>
          <p:nvPr/>
        </p:nvSpPr>
        <p:spPr>
          <a:xfrm>
            <a:off x="971640" y="1339920"/>
            <a:ext cx="7416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高血钙、高尿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826920" y="1844640"/>
            <a:ext cx="7417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草酸钙和磷酸钙沉积，形成肾结石和膀胱结石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820800" y="2995560"/>
            <a:ext cx="73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六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磷酸盐血症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604800" y="3540240"/>
            <a:ext cx="784872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使用过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1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与磷酸形成不溶性沉淀，从而降低血磷。代谢性酸中毒可导致磷从尿中丢失过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677880" y="4989600"/>
            <a:ext cx="77817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最初症状是肌肉无力，最终可发展为佝偻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684360" y="1943640"/>
            <a:ext cx="143964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骨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不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755640" y="3312000"/>
            <a:ext cx="14400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液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可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971640" y="4795200"/>
            <a:ext cx="4248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胞内钙：线粒体、内质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2411280" y="1625040"/>
            <a:ext cx="4969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羟磷灰石结晶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2340000" y="2287080"/>
            <a:ext cx="6804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定形磷酸钙沉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7"/>
          <p:cNvSpPr/>
          <p:nvPr/>
        </p:nvSpPr>
        <p:spPr>
          <a:xfrm>
            <a:off x="2266920" y="162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2340000" y="3050280"/>
            <a:ext cx="3456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扩散钙：与蛋白质结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2340000" y="3763080"/>
            <a:ext cx="1547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扩散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0"/>
          <p:cNvSpPr/>
          <p:nvPr/>
        </p:nvSpPr>
        <p:spPr>
          <a:xfrm>
            <a:off x="2266920" y="306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3995640" y="3547080"/>
            <a:ext cx="1584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游离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3995640" y="4047120"/>
            <a:ext cx="4969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难解离化合物：乳酸钙、柠檬酸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3"/>
          <p:cNvSpPr/>
          <p:nvPr/>
        </p:nvSpPr>
        <p:spPr>
          <a:xfrm>
            <a:off x="3778200" y="3573360"/>
            <a:ext cx="73080" cy="863640"/>
          </a:xfrm>
          <a:custGeom>
            <a:avLst/>
            <a:gdLst>
              <a:gd name="textAreaLeft" fmla="*/ 46800 w 73080"/>
              <a:gd name="textAreaRight" fmla="*/ 73440 w 730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4"/>
          <p:cNvSpPr/>
          <p:nvPr/>
        </p:nvSpPr>
        <p:spPr>
          <a:xfrm>
            <a:off x="754200" y="1844640"/>
            <a:ext cx="72720" cy="3240000"/>
          </a:xfrm>
          <a:custGeom>
            <a:avLst/>
            <a:gdLst>
              <a:gd name="textAreaLeft" fmla="*/ 46440 w 72720"/>
              <a:gd name="textAreaRight" fmla="*/ 73080 w 7272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5"/>
          <p:cNvSpPr/>
          <p:nvPr/>
        </p:nvSpPr>
        <p:spPr>
          <a:xfrm>
            <a:off x="2556000" y="333360"/>
            <a:ext cx="410364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内钙的存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684360" y="67788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降钙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574560" y="126828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泌细胞：甲状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细胞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574560" y="256536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功能：降低血钙、降低血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539640" y="191772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靶细胞：骨、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611280" y="3645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钙磷代谢紊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7" descr="Pi_1508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816360"/>
            <a:ext cx="260280" cy="26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1258920" y="2205000"/>
            <a:ext cx="6767640" cy="151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、磷的主要存在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血钙与血磷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激素对钙磷代谢的调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"/>
          <p:cNvSpPr/>
          <p:nvPr/>
        </p:nvSpPr>
        <p:spPr>
          <a:xfrm>
            <a:off x="3398400" y="3715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本章重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972720" y="1690560"/>
            <a:ext cx="7125120" cy="1663200"/>
            <a:chOff x="972720" y="1690560"/>
            <a:chExt cx="7125120" cy="1663200"/>
          </a:xfrm>
        </p:grpSpPr>
        <p:sp>
          <p:nvSpPr>
            <p:cNvPr id="344" name="Line 4"/>
            <p:cNvSpPr/>
            <p:nvPr/>
          </p:nvSpPr>
          <p:spPr>
            <a:xfrm>
              <a:off x="973080" y="1690560"/>
              <a:ext cx="7124760" cy="1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5"/>
            <p:cNvSpPr/>
            <p:nvPr/>
          </p:nvSpPr>
          <p:spPr>
            <a:xfrm flipH="1">
              <a:off x="972720" y="3334680"/>
              <a:ext cx="6800760" cy="1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6"/>
          <p:cNvGrpSpPr/>
          <p:nvPr/>
        </p:nvGrpSpPr>
        <p:grpSpPr>
          <a:xfrm>
            <a:off x="911160" y="4195800"/>
            <a:ext cx="6775560" cy="1110960"/>
            <a:chOff x="911160" y="4195800"/>
            <a:chExt cx="6775560" cy="1110960"/>
          </a:xfrm>
        </p:grpSpPr>
        <p:sp>
          <p:nvSpPr>
            <p:cNvPr id="347" name="AutoShape 9"/>
            <p:cNvSpPr/>
            <p:nvPr/>
          </p:nvSpPr>
          <p:spPr>
            <a:xfrm>
              <a:off x="6718680" y="4195800"/>
              <a:ext cx="644760" cy="442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10"/>
            <p:cNvSpPr/>
            <p:nvPr/>
          </p:nvSpPr>
          <p:spPr>
            <a:xfrm>
              <a:off x="911160" y="4280400"/>
              <a:ext cx="644760" cy="35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1"/>
            <p:cNvSpPr/>
            <p:nvPr/>
          </p:nvSpPr>
          <p:spPr>
            <a:xfrm>
              <a:off x="7041960" y="4864680"/>
              <a:ext cx="644760" cy="35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12"/>
            <p:cNvSpPr/>
            <p:nvPr/>
          </p:nvSpPr>
          <p:spPr>
            <a:xfrm>
              <a:off x="1234080" y="4864680"/>
              <a:ext cx="644760" cy="442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13"/>
          <p:cNvSpPr/>
          <p:nvPr/>
        </p:nvSpPr>
        <p:spPr>
          <a:xfrm>
            <a:off x="755640" y="341460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 6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4.3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离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 7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.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0"/>
          <p:cNvSpPr/>
          <p:nvPr/>
        </p:nvSpPr>
        <p:spPr>
          <a:xfrm>
            <a:off x="1760040" y="981000"/>
            <a:ext cx="500796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离子钙</a:t>
            </a: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钙中直接发挥生理功能的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1108080" y="4262400"/>
            <a:ext cx="2097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酸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碱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3184560" y="4253040"/>
            <a:ext cx="4680000" cy="11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            [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Perpetua"/>
                <a:ea typeface="楷体_GB2312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           [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Perpetua"/>
                <a:ea typeface="楷体_GB2312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]       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抽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1143000" y="1643040"/>
            <a:ext cx="642924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离子钙与结合钙</a:t>
            </a:r>
            <a:r>
              <a:rPr b="1" lang="zh-CN" sz="2400" spc="-1" strike="noStrike" baseline="30000">
                <a:solidFill>
                  <a:srgbClr val="cc3300"/>
                </a:solidFill>
                <a:latin typeface="Franklin Gothic Book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的动态平衡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[HCO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3-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]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血浆蛋白质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结合钙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           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[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539640" y="1727640"/>
            <a:ext cx="14400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骨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不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826920" y="3571200"/>
            <a:ext cx="5688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胞内磷：磷酸盐、有机磷酸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266920" y="1409040"/>
            <a:ext cx="4969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羟磷灰石结晶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2195640" y="1823400"/>
            <a:ext cx="6480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定形磷酸钙沉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6"/>
          <p:cNvSpPr/>
          <p:nvPr/>
        </p:nvSpPr>
        <p:spPr>
          <a:xfrm>
            <a:off x="2122560" y="1484280"/>
            <a:ext cx="73080" cy="719280"/>
          </a:xfrm>
          <a:custGeom>
            <a:avLst/>
            <a:gdLst>
              <a:gd name="textAreaLeft" fmla="*/ 46800 w 73080"/>
              <a:gd name="textAreaRight" fmla="*/ 73440 w 730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826920" y="2490120"/>
            <a:ext cx="4753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液磷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磷酸盐、有机磷酸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8"/>
          <p:cNvSpPr/>
          <p:nvPr/>
        </p:nvSpPr>
        <p:spPr>
          <a:xfrm>
            <a:off x="609480" y="1628640"/>
            <a:ext cx="73080" cy="2305080"/>
          </a:xfrm>
          <a:custGeom>
            <a:avLst/>
            <a:gdLst>
              <a:gd name="textAreaLeft" fmla="*/ 46800 w 73080"/>
              <a:gd name="textAreaRight" fmla="*/ 73440 w 7308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2340000" y="333360"/>
            <a:ext cx="395928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内磷的存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2124000" y="2923560"/>
            <a:ext cx="640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血磷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血浆中的无机磷；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3.4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4.0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2268360" y="422100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与磷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611280" y="5803200"/>
            <a:ext cx="7921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血钙与血磷的关系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611280" y="5155560"/>
            <a:ext cx="6264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磷酸钙盐类：磷酸钙、羟磷灰石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756000" y="15566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钙磷共同的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3393720" y="1987920"/>
            <a:ext cx="33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成骨胳，起机体支架的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9"/>
          <p:cNvSpPr/>
          <p:nvPr/>
        </p:nvSpPr>
        <p:spPr>
          <a:xfrm>
            <a:off x="780480" y="2521440"/>
            <a:ext cx="91224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3328920" y="2521440"/>
            <a:ext cx="27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与凝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凝血因子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1"/>
          <p:cNvSpPr/>
          <p:nvPr/>
        </p:nvSpPr>
        <p:spPr>
          <a:xfrm>
            <a:off x="4206240" y="2980080"/>
            <a:ext cx="6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持神经、肌肉的兴奋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2"/>
          <p:cNvSpPr/>
          <p:nvPr/>
        </p:nvSpPr>
        <p:spPr>
          <a:xfrm>
            <a:off x="3443760" y="3450240"/>
            <a:ext cx="36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代谢（酶的调节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二信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780480" y="3980520"/>
            <a:ext cx="91224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磷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4"/>
          <p:cNvSpPr/>
          <p:nvPr/>
        </p:nvSpPr>
        <p:spPr>
          <a:xfrm>
            <a:off x="3523680" y="3980520"/>
            <a:ext cx="32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磷酸基形式参与物质和能量代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5"/>
          <p:cNvSpPr/>
          <p:nvPr/>
        </p:nvSpPr>
        <p:spPr>
          <a:xfrm>
            <a:off x="3276720" y="4437720"/>
            <a:ext cx="25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与核酸及细胞膜的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6"/>
          <p:cNvSpPr/>
          <p:nvPr/>
        </p:nvSpPr>
        <p:spPr>
          <a:xfrm>
            <a:off x="3276720" y="4894920"/>
            <a:ext cx="25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代谢、维持酸碱平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2627280" y="26028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的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"/>
          <p:cNvSpPr/>
          <p:nvPr/>
        </p:nvSpPr>
        <p:spPr>
          <a:xfrm>
            <a:off x="2627280" y="26028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的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331640" y="1989000"/>
            <a:ext cx="2230200" cy="2764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   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基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3564000" y="1989000"/>
            <a:ext cx="4248000" cy="2787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细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骨细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破骨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胶原蛋白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多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脂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磷酸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碳酸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柠檬酸钙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微量钾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化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形成骨盐参与骨架组成</a:t>
            </a:r>
            <a:endParaRPr b="0" lang="en-US" sz="24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755640" y="692280"/>
            <a:ext cx="3200400" cy="4465440"/>
          </a:xfrm>
          <a:prstGeom prst="rect">
            <a:avLst/>
          </a:prstGeom>
          <a:solidFill>
            <a:srgbClr val="ff99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基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基质胶原纤维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牙齿中的骨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3995640" y="692280"/>
            <a:ext cx="4419720" cy="4465440"/>
          </a:xfrm>
          <a:prstGeom prst="rect">
            <a:avLst/>
          </a:prstGeom>
          <a:solidFill>
            <a:srgbClr val="cc99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磷酸钙盐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无定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aH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羟磷灰石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柱状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/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针状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OH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羟磷灰石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结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钙、磷的储存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维持钙、磷的浓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硬度增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解度降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防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斑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2:22:06Z</dcterms:created>
  <dc:creator>Yuanlijie</dc:creator>
  <dc:description/>
  <dc:language>en-US</dc:language>
  <cp:lastModifiedBy>ZhangLL</cp:lastModifiedBy>
  <dcterms:modified xsi:type="dcterms:W3CDTF">2014-12-04T03:14:39Z</dcterms:modified>
  <cp:revision>19</cp:revision>
  <dc:subject/>
  <dc:title>幻灯片 1</dc:title>
</cp:coreProperties>
</file>