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8.png" ContentType="image/png"/>
  <Override PartName="/ppt/media/image39.png" ContentType="image/png"/>
  <Override PartName="/ppt/media/image40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49.jpeg" ContentType="image/jpeg"/>
  <Override PartName="/ppt/media/image36.png" ContentType="image/png"/>
  <Override PartName="/ppt/media/image48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28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10.wmf" ContentType="image/x-wm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6E94-D1C2-4A67-A1CD-99880D91FC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DDB9-C91F-4B9D-A98D-1CB32CB81A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F3C6-E477-4E50-936A-2E983867BB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3BF7-F2D6-410B-A4B4-F5CB613255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D1B0-1FC3-4623-AFFF-5170DAD8FC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F6C7-BD79-40BE-A932-C24B99A0C6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82800" y="5634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s stabilizing the DNA double helix can be overcome by heating the DNA in solution or by treati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very high or very low pH (low pH will also damage the DNA, whereas high pH will simply separa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ucleotide chains).  When the strands of DNA separate, the DNA is said to be denatured (when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is used to denature DNA, the DNA is said to be melted).   Because some of the forces stab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 are contributed by base pairing interactions, and because A-T base pairs have only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in contrast to G-C base pairs which have three hydrogen bonds, regions of the DNA duplex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-T rich will denature first.  Once denaturation has begun, there is a cooperative unwinding of the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 that ultimately results in complete strand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7678-DBDA-4A6D-885D-85A699EF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649C-206A-4B59-A143-8CDC1708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B31C-A991-446B-8A6D-79D713AD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5E37-7CC4-4049-963C-BF2CF9EC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7E96-8571-4437-92BF-C1183DB1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3B53-354C-4070-A520-2E363469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9A87-14EC-4DAB-BB7E-4A63AE97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86D5-4633-485D-B201-52699917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FBB1-B9D6-46E6-B67D-00C3B484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458D-875C-418D-A2FC-C7603CB4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7743-9916-4F33-B640-E965D99D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1C81-80AD-4F0C-9A95-7046C196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F05D-E96C-4593-9B60-7BA78E78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8512-5EE0-439A-B6C8-B7856930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C80A-68F5-4CA8-8AD0-0579855D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E00D-03F4-4F4D-B8AE-A4122CF6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1E03-B1D6-4A17-820F-A516E3BD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78FAC-C7E2-428E-A72F-81C8F51C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1DF06-CA93-4014-A036-CC0C4BCE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AABE8-41EA-46E2-ACDD-E7C105B8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90FFC-FD47-438C-BB34-CA5D7455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D3B01-2A88-4C29-A9B6-5DE82485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09C4-506D-49CD-AFE1-BACDB26C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F9D91-E24D-4067-9651-F1D0B264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AABAC-60F5-4C10-B80D-99352E85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95D49-3171-4269-9076-ABA3493D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12E19-399B-44AA-A28B-2DF590A0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4E679-B676-45D8-8857-3F164B55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F9DED-A31E-4363-98CA-79CE9A17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09AFD-98BE-4ECB-B3CB-8FA04972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ABCF-806B-4D84-BCFA-0A1761BB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B93A-59C5-48A3-BDC0-BDF284C0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9A0B-7C2E-49E2-8525-0C1D71ED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CB54-4046-4717-899E-831C90F3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CF74-A0CF-4F33-9F12-BAC3383A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D277-03EB-4F1E-8D06-3563E598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D911-A189-4182-BCD8-468E96073D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9831-4546-4FBB-BEB1-F8D83EF051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A02A-40A4-416E-B5BA-4DEB9917F5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53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二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酸的结构与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496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tructure and Function of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332000" y="1557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碱基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含氮的杂环化合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2720" y="37846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69236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36720" y="31370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36720" y="44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989440" y="285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989440" y="4292640"/>
            <a:ext cx="142560" cy="1584360"/>
          </a:xfrm>
          <a:custGeom>
            <a:avLst/>
            <a:gdLst>
              <a:gd name="textAreaLeft" fmla="*/ 91080 w 142560"/>
              <a:gd name="textAreaRight" fmla="*/ 142920 w 142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05080" y="2563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腺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132000" y="3355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鸟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05080" y="479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尿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205080" y="55846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5080" y="40035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861080" y="278136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32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581800" y="479592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861080" y="508464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005440" y="5877000"/>
            <a:ext cx="5745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04292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碱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971640" y="1125360"/>
            <a:ext cx="3095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r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rot="1852200">
            <a:off x="3419640" y="400500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 rot="19771800">
            <a:off x="3492000" y="242064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468360" y="234936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8"/>
          <p:cNvGrpSpPr/>
          <p:nvPr/>
        </p:nvGrpSpPr>
        <p:grpSpPr>
          <a:xfrm>
            <a:off x="4932360" y="260280"/>
            <a:ext cx="3600360" cy="2895480"/>
            <a:chOff x="4932360" y="260280"/>
            <a:chExt cx="3600360" cy="2895480"/>
          </a:xfrm>
        </p:grpSpPr>
        <p:graphicFrame>
          <p:nvGraphicFramePr>
            <p:cNvPr id="210" name="Object 2"/>
            <p:cNvGraphicFramePr/>
            <p:nvPr/>
          </p:nvGraphicFramePr>
          <p:xfrm>
            <a:off x="5003640" y="26028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26028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Rectangle 9"/>
            <p:cNvSpPr/>
            <p:nvPr/>
          </p:nvSpPr>
          <p:spPr>
            <a:xfrm>
              <a:off x="4932360" y="26352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nine, 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932360" y="3357720"/>
            <a:ext cx="3743280" cy="2968200"/>
            <a:chOff x="4932360" y="3357720"/>
            <a:chExt cx="3743280" cy="2968200"/>
          </a:xfrm>
        </p:grpSpPr>
        <p:graphicFrame>
          <p:nvGraphicFramePr>
            <p:cNvPr id="214" name="Object 12"/>
            <p:cNvGraphicFramePr/>
            <p:nvPr/>
          </p:nvGraphicFramePr>
          <p:xfrm>
            <a:off x="4932360" y="33577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2360" y="33577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Rectangle 13"/>
            <p:cNvSpPr/>
            <p:nvPr/>
          </p:nvSpPr>
          <p:spPr>
            <a:xfrm>
              <a:off x="4932360" y="58053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uanine, G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050920" y="1052640"/>
          <a:ext cx="17002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1700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AutoShape 3"/>
          <p:cNvSpPr/>
          <p:nvPr/>
        </p:nvSpPr>
        <p:spPr>
          <a:xfrm>
            <a:off x="3995640" y="19162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 rot="17803800">
            <a:off x="2106360" y="3517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 rot="2620800">
            <a:off x="3563640" y="3212640"/>
            <a:ext cx="1218960" cy="335160"/>
          </a:xfrm>
          <a:prstGeom prst="rightArrow">
            <a:avLst>
              <a:gd name="adj1" fmla="val 50000"/>
              <a:gd name="adj2" fmla="val 909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360" y="404640"/>
            <a:ext cx="4103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rimid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755640" y="3478320"/>
            <a:ext cx="3384360" cy="2997360"/>
            <a:chOff x="755640" y="3478320"/>
            <a:chExt cx="3384360" cy="2997360"/>
          </a:xfrm>
        </p:grpSpPr>
        <p:sp>
          <p:nvSpPr>
            <p:cNvPr id="224" name="Rectangle 12"/>
            <p:cNvSpPr/>
            <p:nvPr/>
          </p:nvSpPr>
          <p:spPr>
            <a:xfrm>
              <a:off x="755640" y="599796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ytosine,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Object 13"/>
            <p:cNvGraphicFramePr/>
            <p:nvPr/>
          </p:nvGraphicFramePr>
          <p:xfrm>
            <a:off x="1044360" y="347832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4360" y="347832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16"/>
          <p:cNvGrpSpPr/>
          <p:nvPr/>
        </p:nvGrpSpPr>
        <p:grpSpPr>
          <a:xfrm>
            <a:off x="5003640" y="333360"/>
            <a:ext cx="3203640" cy="2968560"/>
            <a:chOff x="5003640" y="333360"/>
            <a:chExt cx="3203640" cy="2968560"/>
          </a:xfrm>
        </p:grpSpPr>
        <p:sp>
          <p:nvSpPr>
            <p:cNvPr id="228" name="Rectangle 10"/>
            <p:cNvSpPr/>
            <p:nvPr/>
          </p:nvSpPr>
          <p:spPr>
            <a:xfrm>
              <a:off x="500364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racil, U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Object 14"/>
            <p:cNvGraphicFramePr/>
            <p:nvPr/>
          </p:nvGraphicFramePr>
          <p:xfrm>
            <a:off x="529272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9272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7"/>
          <p:cNvGrpSpPr/>
          <p:nvPr/>
        </p:nvGrpSpPr>
        <p:grpSpPr>
          <a:xfrm>
            <a:off x="4500720" y="3429000"/>
            <a:ext cx="3960720" cy="3041640"/>
            <a:chOff x="4500720" y="3429000"/>
            <a:chExt cx="3960720" cy="3041640"/>
          </a:xfrm>
        </p:grpSpPr>
        <p:sp>
          <p:nvSpPr>
            <p:cNvPr id="232" name="Rectangle 11"/>
            <p:cNvSpPr/>
            <p:nvPr/>
          </p:nvSpPr>
          <p:spPr>
            <a:xfrm>
              <a:off x="4573440" y="595008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ymine, T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Object 15"/>
            <p:cNvGraphicFramePr/>
            <p:nvPr/>
          </p:nvGraphicFramePr>
          <p:xfrm>
            <a:off x="4500720" y="342900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342900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DNA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与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的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11280" y="2205000"/>
          <a:ext cx="7929360" cy="3484440"/>
        </p:xfrm>
        <a:graphic>
          <a:graphicData uri="http://schemas.openxmlformats.org/drawingml/2006/table">
            <a:tbl>
              <a:tblPr/>
              <a:tblGrid>
                <a:gridCol w="2014560"/>
                <a:gridCol w="3273480"/>
                <a:gridCol w="2641320"/>
              </a:tblGrid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碱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戊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脱氧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3716280"/>
            <a:ext cx="5635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, GR, UR,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脱氧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, dGR, dTR, d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4000" y="692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79280" y="1700280"/>
            <a:ext cx="8353080" cy="1693800"/>
            <a:chOff x="179280" y="1700280"/>
            <a:chExt cx="8353080" cy="1693800"/>
          </a:xfrm>
        </p:grpSpPr>
        <p:sp>
          <p:nvSpPr>
            <p:cNvPr id="241" name="Text Box 5"/>
            <p:cNvSpPr/>
            <p:nvPr/>
          </p:nvSpPr>
          <p:spPr>
            <a:xfrm>
              <a:off x="179280" y="1700280"/>
              <a:ext cx="83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1.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苷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ribonucleoside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的形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593640" y="2276280"/>
              <a:ext cx="613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碱基和核糖（脱氧核糖）通过</a:t>
              </a:r>
              <a:r>
                <a:rPr b="1" lang="zh-CN" sz="2800" spc="-1" strike="noStrike">
                  <a:solidFill>
                    <a:srgbClr val="cc0099"/>
                  </a:solidFill>
                  <a:latin typeface="Times New Roman"/>
                </a:rPr>
                <a:t>糖苷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接形成核苷（脱氧核苷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4000" y="549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脱氧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C-1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过</a:t>
            </a:r>
            <a:r>
              <a:rPr b="1" lang="el-GR" sz="2800" spc="-1" strike="noStrike">
                <a:solidFill>
                  <a:srgbClr val="cc0099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-N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糖苷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连形成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或脱氧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611280" y="1700280"/>
          <a:ext cx="382248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2248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932360" y="1844640"/>
          <a:ext cx="3730680" cy="42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844640"/>
                    <a:ext cx="3730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57200" y="419112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P, GMP, UMP, 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脱氧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MP, dGMP, dTMP, dCMP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89000"/>
            <a:ext cx="8569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核苷酸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ribonucleot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苷）和磷酸以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酯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形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脱氧核苷酸）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92360" y="1700280"/>
            <a:ext cx="5182920" cy="4104720"/>
            <a:chOff x="3492360" y="1700280"/>
            <a:chExt cx="5182920" cy="4104720"/>
          </a:xfrm>
        </p:grpSpPr>
        <p:graphicFrame>
          <p:nvGraphicFramePr>
            <p:cNvPr id="251" name="Object 5"/>
            <p:cNvGraphicFramePr/>
            <p:nvPr/>
          </p:nvGraphicFramePr>
          <p:xfrm>
            <a:off x="6893280" y="3351960"/>
            <a:ext cx="1782000" cy="60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3280" y="3351960"/>
                      <a:ext cx="1782000" cy="6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6"/>
            <p:cNvGraphicFramePr/>
            <p:nvPr/>
          </p:nvGraphicFramePr>
          <p:xfrm>
            <a:off x="4263480" y="2185200"/>
            <a:ext cx="726120" cy="12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480" y="2185200"/>
                      <a:ext cx="726120" cy="12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3492360" y="1700280"/>
            <a:ext cx="3831480" cy="41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1700280"/>
                      <a:ext cx="3831480" cy="41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92280"/>
            <a:ext cx="3744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多磷酸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D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59280" y="907920"/>
          <a:ext cx="5472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07920"/>
                    <a:ext cx="5472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1187280" y="1484280"/>
            <a:ext cx="741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环化核苷酸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GMP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是细胞信号转导中的第二信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550160" y="2492280"/>
            <a:ext cx="4950360" cy="3485880"/>
            <a:chOff x="1550160" y="2492280"/>
            <a:chExt cx="4950360" cy="3485880"/>
          </a:xfrm>
        </p:grpSpPr>
        <p:graphicFrame>
          <p:nvGraphicFramePr>
            <p:cNvPr id="262" name="Object 16"/>
            <p:cNvGraphicFramePr/>
            <p:nvPr/>
          </p:nvGraphicFramePr>
          <p:xfrm>
            <a:off x="2995200" y="2492280"/>
            <a:ext cx="3505320" cy="348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5200" y="2492280"/>
                      <a:ext cx="3505320" cy="34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Rectangle 17"/>
            <p:cNvSpPr/>
            <p:nvPr/>
          </p:nvSpPr>
          <p:spPr>
            <a:xfrm>
              <a:off x="1550160" y="471132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cA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25"/>
          <p:cNvSpPr/>
          <p:nvPr/>
        </p:nvSpPr>
        <p:spPr>
          <a:xfrm>
            <a:off x="971640" y="692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苷酸衍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0"/>
          <p:cNvSpPr/>
          <p:nvPr/>
        </p:nvSpPr>
        <p:spPr>
          <a:xfrm>
            <a:off x="-324000" y="69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核苷酸通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连接成核酸大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258920" y="2320920"/>
            <a:ext cx="72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一个脱氧核苷酸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或核苷酸）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羟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另一个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</a:t>
            </a:r>
            <a:r>
              <a:rPr b="1" lang="el-GR" sz="2800" spc="-1" strike="noStrike">
                <a:solidFill>
                  <a:srgbClr val="cc0099"/>
                </a:solidFill>
                <a:latin typeface="黑体"/>
              </a:rPr>
              <a:t>α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基团缩合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二酯键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hosphodiester bond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个脱氧核苷酸通过磷酸二酯键构成了具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方向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线性分子，称为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多聚脱氧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olydeoxynucleotid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；多聚核苷酸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分子组成及一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.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空间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理化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AG"/>
          <p:cNvPicPr/>
          <p:nvPr/>
        </p:nvPicPr>
        <p:blipFill>
          <a:blip r:embed="rId1"/>
          <a:stretch/>
        </p:blipFill>
        <p:spPr>
          <a:xfrm>
            <a:off x="4067280" y="907920"/>
            <a:ext cx="2965320" cy="540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A"/>
          <p:cNvPicPr/>
          <p:nvPr/>
        </p:nvPicPr>
        <p:blipFill>
          <a:blip r:embed="rId2"/>
          <a:stretch/>
        </p:blipFill>
        <p:spPr>
          <a:xfrm>
            <a:off x="4067280" y="907920"/>
            <a:ext cx="2369880" cy="37260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4"/>
          <p:cNvGrpSpPr/>
          <p:nvPr/>
        </p:nvGrpSpPr>
        <p:grpSpPr>
          <a:xfrm>
            <a:off x="2411280" y="907920"/>
            <a:ext cx="1655640" cy="520560"/>
            <a:chOff x="2411280" y="907920"/>
            <a:chExt cx="1655640" cy="520560"/>
          </a:xfrm>
        </p:grpSpPr>
        <p:sp>
          <p:nvSpPr>
            <p:cNvPr id="271" name="Text Box 5"/>
            <p:cNvSpPr/>
            <p:nvPr/>
          </p:nvSpPr>
          <p:spPr>
            <a:xfrm>
              <a:off x="2411280" y="90792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5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3677400" y="1136520"/>
              <a:ext cx="389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2843280" y="5950080"/>
            <a:ext cx="2088720" cy="520560"/>
            <a:chOff x="2843280" y="5950080"/>
            <a:chExt cx="2088720" cy="520560"/>
          </a:xfrm>
        </p:grpSpPr>
        <p:sp>
          <p:nvSpPr>
            <p:cNvPr id="274" name="Text Box 8"/>
            <p:cNvSpPr/>
            <p:nvPr/>
          </p:nvSpPr>
          <p:spPr>
            <a:xfrm>
              <a:off x="2843280" y="5950080"/>
              <a:ext cx="15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3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>
              <a:off x="4305600" y="6178680"/>
              <a:ext cx="626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Picture 10" descr="C"/>
          <p:cNvPicPr/>
          <p:nvPr/>
        </p:nvPicPr>
        <p:blipFill>
          <a:blip r:embed="rId3"/>
          <a:stretch/>
        </p:blipFill>
        <p:spPr>
          <a:xfrm>
            <a:off x="4067280" y="907920"/>
            <a:ext cx="1895400" cy="1982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507888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94216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79816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1332000" y="2637000"/>
            <a:ext cx="2807640" cy="520560"/>
            <a:chOff x="1332000" y="2637000"/>
            <a:chExt cx="2807640" cy="520560"/>
          </a:xfrm>
        </p:grpSpPr>
        <p:sp>
          <p:nvSpPr>
            <p:cNvPr id="281" name="Text Box 15"/>
            <p:cNvSpPr/>
            <p:nvPr/>
          </p:nvSpPr>
          <p:spPr>
            <a:xfrm>
              <a:off x="1332000" y="26370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3297600" y="2954880"/>
              <a:ext cx="842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971640" y="4365720"/>
            <a:ext cx="3239280" cy="520560"/>
            <a:chOff x="971640" y="4365720"/>
            <a:chExt cx="3239280" cy="520560"/>
          </a:xfrm>
        </p:grpSpPr>
        <p:sp>
          <p:nvSpPr>
            <p:cNvPr id="284" name="Text Box 18"/>
            <p:cNvSpPr/>
            <p:nvPr/>
          </p:nvSpPr>
          <p:spPr>
            <a:xfrm>
              <a:off x="971640" y="4365720"/>
              <a:ext cx="24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3239280" y="4675320"/>
              <a:ext cx="971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4"/>
          <p:cNvGraphicFramePr/>
          <p:nvPr/>
        </p:nvGraphicFramePr>
        <p:xfrm>
          <a:off x="900000" y="260280"/>
          <a:ext cx="698508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850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AG"/>
          <p:cNvPicPr/>
          <p:nvPr/>
        </p:nvPicPr>
        <p:blipFill>
          <a:blip r:embed="rId1"/>
          <a:stretch/>
        </p:blipFill>
        <p:spPr>
          <a:xfrm>
            <a:off x="5364000" y="260280"/>
            <a:ext cx="3532320" cy="6597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3708360" y="549360"/>
            <a:ext cx="1294920" cy="459720"/>
            <a:chOff x="3708360" y="549360"/>
            <a:chExt cx="1294920" cy="459720"/>
          </a:xfrm>
        </p:grpSpPr>
        <p:sp>
          <p:nvSpPr>
            <p:cNvPr id="290" name="Text Box 4"/>
            <p:cNvSpPr/>
            <p:nvPr/>
          </p:nvSpPr>
          <p:spPr>
            <a:xfrm>
              <a:off x="3708360" y="54936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5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4698720" y="77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6"/>
          <p:cNvGrpSpPr/>
          <p:nvPr/>
        </p:nvGrpSpPr>
        <p:grpSpPr>
          <a:xfrm>
            <a:off x="4356000" y="6165720"/>
            <a:ext cx="1524240" cy="459720"/>
            <a:chOff x="4356000" y="6165720"/>
            <a:chExt cx="1524240" cy="459720"/>
          </a:xfrm>
        </p:grpSpPr>
        <p:sp>
          <p:nvSpPr>
            <p:cNvPr id="293" name="Text Box 7"/>
            <p:cNvSpPr/>
            <p:nvPr/>
          </p:nvSpPr>
          <p:spPr>
            <a:xfrm>
              <a:off x="4356000" y="61657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3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423040" y="6394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-61272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、核酸的一级结构是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苷酸的排列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6618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68720" y="51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2688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0" y="2781360"/>
            <a:ext cx="507672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由于核苷酸间的差异主要是碱基不同，所以也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碱基序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2400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书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838080" y="1371600"/>
          <a:ext cx="775332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7533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68436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三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空间结构与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Dimensional Structur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Function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76360" y="3789360"/>
            <a:ext cx="62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又分为二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ary structure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高级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00000" y="12542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空间结构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patial structure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403280" y="2205000"/>
            <a:ext cx="61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所有原子在三维空间的相对位置关系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构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826920" y="620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60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螺旋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" descr="FI4P11"/>
          <p:cNvPicPr/>
          <p:nvPr/>
        </p:nvPicPr>
        <p:blipFill>
          <a:blip r:embed="rId1"/>
          <a:stretch/>
        </p:blipFill>
        <p:spPr>
          <a:xfrm>
            <a:off x="1042920" y="1989000"/>
            <a:ext cx="1922400" cy="437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331-2"/>
          <p:cNvPicPr/>
          <p:nvPr/>
        </p:nvPicPr>
        <p:blipFill>
          <a:blip r:embed="rId2"/>
          <a:srcRect l="0" t="0" r="48787" b="22254"/>
          <a:stretch/>
        </p:blipFill>
        <p:spPr>
          <a:xfrm>
            <a:off x="3635280" y="2349360"/>
            <a:ext cx="2206800" cy="327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31-2"/>
          <p:cNvPicPr/>
          <p:nvPr/>
        </p:nvPicPr>
        <p:blipFill>
          <a:blip r:embed="rId3"/>
          <a:srcRect l="51880" t="18941" r="0" b="4753"/>
          <a:stretch/>
        </p:blipFill>
        <p:spPr>
          <a:xfrm>
            <a:off x="6300720" y="2349360"/>
            <a:ext cx="2067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40464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研究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24000" y="1197000"/>
            <a:ext cx="8640720" cy="86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hargaff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生物种属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碱基组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一个体的不同器官或组织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碱基组成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[A] = [T]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[G] = [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碱基的理化数据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氢键配对较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纤维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X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线衍射图谱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24000" y="404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二）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双螺旋结构要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1125360"/>
            <a:ext cx="453708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反向平行，围绕同一中心轴构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手双螺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37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面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沟和小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糖骨架位于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外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碱基垂直于螺旋轴而伸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每圈螺旋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碱基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p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螺距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54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5076720" y="1052640"/>
          <a:ext cx="37465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52640"/>
                    <a:ext cx="37465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838080" y="6094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碱基互补配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49236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90000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96360" y="148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29272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7" descr="qingjian`"/>
          <p:cNvPicPr/>
          <p:nvPr/>
        </p:nvPicPr>
        <p:blipFill>
          <a:blip r:embed="rId1"/>
          <a:stretch/>
        </p:blipFill>
        <p:spPr>
          <a:xfrm>
            <a:off x="4859280" y="2133720"/>
            <a:ext cx="4100400" cy="4103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qingjian"/>
          <p:cNvPicPr/>
          <p:nvPr/>
        </p:nvPicPr>
        <p:blipFill>
          <a:blip r:embed="rId2"/>
          <a:stretch/>
        </p:blipFill>
        <p:spPr>
          <a:xfrm>
            <a:off x="324000" y="2205000"/>
            <a:ext cx="432108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900000" y="1773360"/>
            <a:ext cx="571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</a:rPr>
              <a:t>核 酸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nucleic acid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)</a:t>
            </a:r>
            <a:r>
              <a:rPr b="0" lang="en-US" sz="3600" spc="-1" strike="noStrike">
                <a:solidFill>
                  <a:srgbClr val="cc0099"/>
                </a:solidFill>
                <a:latin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5080" y="256536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以核苷酸为基本组成单位的生物大分子，携带和传递遗传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468360" y="83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沟与小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684360" y="1700280"/>
          <a:ext cx="79912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9912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611280" y="981000"/>
            <a:ext cx="4392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通过碱基间的氢键相连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两个氢键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三个氢键，这种配对的规律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互补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双螺旋稳定的因素：横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氢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间的堆积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32360" y="549360"/>
          <a:ext cx="3844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549360"/>
                    <a:ext cx="3844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BZ-DNA"/>
          <p:cNvPicPr/>
          <p:nvPr/>
        </p:nvPicPr>
        <p:blipFill>
          <a:blip r:embed="rId1">
            <a:lum contrast="6000"/>
          </a:blip>
          <a:srcRect l="0" t="2895" r="4484" b="5350"/>
          <a:stretch/>
        </p:blipFill>
        <p:spPr>
          <a:xfrm>
            <a:off x="900000" y="1744560"/>
            <a:ext cx="7056720" cy="4572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79280" y="765000"/>
            <a:ext cx="78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三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9640" y="691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四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多链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826920" y="1413000"/>
            <a:ext cx="770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被质子化，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形成氢键；同时，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氢原子也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O-6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形成氢键。另一个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A/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对之间，可形成额外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氢键，由此形成了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+A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链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ple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104760"/>
            <a:ext cx="8893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476360" y="1484280"/>
          <a:ext cx="6048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048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4"/>
          <p:cNvSpPr/>
          <p:nvPr/>
        </p:nvSpPr>
        <p:spPr>
          <a:xfrm>
            <a:off x="97164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链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026"/>
          <p:cNvSpPr/>
          <p:nvPr/>
        </p:nvSpPr>
        <p:spPr>
          <a:xfrm>
            <a:off x="611280" y="6271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超螺旋结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高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33"/>
          <p:cNvSpPr/>
          <p:nvPr/>
        </p:nvSpPr>
        <p:spPr>
          <a:xfrm>
            <a:off x="1116000" y="2060280"/>
            <a:ext cx="756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超螺旋结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heli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链再盘绕即形成超螺旋结构。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4"/>
          <p:cNvSpPr/>
          <p:nvPr/>
        </p:nvSpPr>
        <p:spPr>
          <a:xfrm>
            <a:off x="1116000" y="3428640"/>
            <a:ext cx="6553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正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si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双螺旋方同相同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5"/>
          <p:cNvSpPr/>
          <p:nvPr/>
        </p:nvSpPr>
        <p:spPr>
          <a:xfrm>
            <a:off x="1116000" y="4797360"/>
            <a:ext cx="6985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负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ga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方向相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79280" y="73656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原核生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环状超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核酸超螺旋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2539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900000" y="4941720"/>
            <a:ext cx="7632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核生物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为环状，以负超螺旋的形式存在，平均每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就有一个超螺旋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7928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在真核生物细胞核内组装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高度有序和致密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7"/>
          <p:cNvSpPr/>
          <p:nvPr/>
        </p:nvSpPr>
        <p:spPr>
          <a:xfrm>
            <a:off x="900000" y="1557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55640" y="17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755640" y="234936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0"/>
          <p:cNvSpPr/>
          <p:nvPr/>
        </p:nvSpPr>
        <p:spPr>
          <a:xfrm>
            <a:off x="755640" y="2492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核生物染色体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蛋白质构成，其基本单位是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小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nucleosom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1"/>
          <p:cNvSpPr/>
          <p:nvPr/>
        </p:nvSpPr>
        <p:spPr>
          <a:xfrm>
            <a:off x="2195640" y="3645000"/>
            <a:ext cx="626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组蛋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8"/>
          <p:cNvGraphicFramePr/>
          <p:nvPr/>
        </p:nvGraphicFramePr>
        <p:xfrm>
          <a:off x="2484360" y="404640"/>
          <a:ext cx="38260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3826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2-15线粒体1"/>
          <p:cNvPicPr/>
          <p:nvPr/>
        </p:nvPicPr>
        <p:blipFill>
          <a:blip r:embed="rId1"/>
          <a:stretch/>
        </p:blipFill>
        <p:spPr>
          <a:xfrm>
            <a:off x="0" y="0"/>
            <a:ext cx="8388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4360" y="2060640"/>
            <a:ext cx="770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一节 核酸的结构与功能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verview of Structure and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20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承载遗传信息的物质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971640" y="246888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基本功能是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形式荷载遗传信息，并作为基因复制和转录的模板。它是生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遗传的物质基础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也是个体生命活动的信息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458892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从结构上定义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指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分子中的特定区段，其中的核苷酸排列顺序决定了基因的功能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422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结构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NA"/>
          <p:cNvPicPr/>
          <p:nvPr/>
        </p:nvPicPr>
        <p:blipFill>
          <a:blip r:embed="rId1"/>
          <a:stretch/>
        </p:blipFill>
        <p:spPr>
          <a:xfrm>
            <a:off x="2700360" y="3789360"/>
            <a:ext cx="3887640" cy="2784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1908000" y="27115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tructure and Function of 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9640" y="174960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信使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NA(messenger RNA, m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合成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质的直接模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不均一核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n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有内含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是氨基酸的编码序列，而内含子是非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码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经过剪切后成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蛋白质合成的直接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1039"/>
          <p:cNvSpPr/>
          <p:nvPr/>
        </p:nvSpPr>
        <p:spPr>
          <a:xfrm>
            <a:off x="539640" y="2133720"/>
            <a:ext cx="2160720" cy="1368360"/>
          </a:xfrm>
          <a:prstGeom prst="wedgeRoundRectCallout">
            <a:avLst>
              <a:gd name="adj1" fmla="val 43314"/>
              <a:gd name="adj2" fmla="val 83527"/>
              <a:gd name="adj3" fmla="val 16667"/>
            </a:avLst>
          </a:prstGeom>
          <a:solidFill>
            <a:srgbClr val="e436e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含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r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46"/>
          <p:cNvSpPr/>
          <p:nvPr/>
        </p:nvSpPr>
        <p:spPr>
          <a:xfrm>
            <a:off x="468360" y="112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7"/>
          <p:cNvSpPr/>
          <p:nvPr/>
        </p:nvSpPr>
        <p:spPr>
          <a:xfrm>
            <a:off x="4572000" y="2276640"/>
            <a:ext cx="2305080" cy="1225440"/>
          </a:xfrm>
          <a:prstGeom prst="wedgeRoundRectCallout">
            <a:avLst>
              <a:gd name="adj1" fmla="val -74587"/>
              <a:gd name="adj2" fmla="val 89768"/>
              <a:gd name="adj3" fmla="val 16667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x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050"/>
          <p:cNvSpPr/>
          <p:nvPr/>
        </p:nvSpPr>
        <p:spPr>
          <a:xfrm>
            <a:off x="2843280" y="3933720"/>
            <a:ext cx="1584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052"/>
          <p:cNvSpPr/>
          <p:nvPr/>
        </p:nvSpPr>
        <p:spPr>
          <a:xfrm>
            <a:off x="2340000" y="3933720"/>
            <a:ext cx="50328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53"/>
          <p:cNvSpPr/>
          <p:nvPr/>
        </p:nvSpPr>
        <p:spPr>
          <a:xfrm>
            <a:off x="4427640" y="3933720"/>
            <a:ext cx="936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49"/>
          <p:cNvSpPr/>
          <p:nvPr/>
        </p:nvSpPr>
        <p:spPr>
          <a:xfrm>
            <a:off x="1547640" y="3933720"/>
            <a:ext cx="792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51"/>
          <p:cNvSpPr/>
          <p:nvPr/>
        </p:nvSpPr>
        <p:spPr>
          <a:xfrm>
            <a:off x="5364000" y="3933720"/>
            <a:ext cx="1008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54"/>
          <p:cNvSpPr/>
          <p:nvPr/>
        </p:nvSpPr>
        <p:spPr>
          <a:xfrm>
            <a:off x="6732720" y="371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55"/>
          <p:cNvSpPr/>
          <p:nvPr/>
        </p:nvSpPr>
        <p:spPr>
          <a:xfrm>
            <a:off x="6732720" y="378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8664 2.22222E-006 E">
                                      <p:cBhvr>
                                        <p:cTn id="35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0226 2.22222E-006 E">
                                      <p:cBhvr>
                                        <p:cTn id="36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3789360"/>
            <a:ext cx="86756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甲基化鸟苷酸的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a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7GpppN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的多聚腺苷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poly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，称为多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氨基酸编码区和非编码区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4436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84360" y="620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的真核生物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539640" y="1268280"/>
          <a:ext cx="820908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90000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帽子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帽子结构"/>
          <p:cNvPicPr/>
          <p:nvPr/>
        </p:nvPicPr>
        <p:blipFill>
          <a:blip r:embed="rId1"/>
          <a:srcRect l="920" t="1433" r="920" b="1854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1619280" y="206064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内向胞质的转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维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参与翻译起始的调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7"/>
          <p:cNvSpPr/>
          <p:nvPr/>
        </p:nvSpPr>
        <p:spPr>
          <a:xfrm>
            <a:off x="900000" y="10382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帽子结构和多聚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尾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628640"/>
            <a:ext cx="7848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一级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稀有碱基较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为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CCA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大多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核苷酸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蛋白质合成时氨基酸的转运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76720" y="404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稀有碱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1835280" y="1125360"/>
          <a:ext cx="53053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53053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tRNA"/>
          <p:cNvPicPr/>
          <p:nvPr/>
        </p:nvPicPr>
        <p:blipFill>
          <a:blip r:embed="rId1"/>
          <a:srcRect l="0" t="0" r="0" b="5932"/>
          <a:stretch/>
        </p:blipFill>
        <p:spPr>
          <a:xfrm>
            <a:off x="3276720" y="260280"/>
            <a:ext cx="5510160" cy="6335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684360" y="620640"/>
            <a:ext cx="4319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49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叶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94836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0400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额外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55640" y="2565360"/>
            <a:ext cx="2592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氨基酸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H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密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2692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核酸的分类及分布</a:t>
            </a:r>
            <a:r>
              <a:rPr b="1" lang="zh-CN" sz="3600" spc="-1" strike="noStrike">
                <a:solidFill>
                  <a:srgbClr val="2808e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03640" y="4149720"/>
            <a:ext cx="50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、细胞质和线粒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11280" y="1700280"/>
            <a:ext cx="4318560" cy="3759480"/>
            <a:chOff x="611280" y="1700280"/>
            <a:chExt cx="4318560" cy="3759480"/>
          </a:xfrm>
        </p:grpSpPr>
        <p:sp>
          <p:nvSpPr>
            <p:cNvPr id="149" name="Text Box 5"/>
            <p:cNvSpPr/>
            <p:nvPr/>
          </p:nvSpPr>
          <p:spPr>
            <a:xfrm>
              <a:off x="699480" y="220212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oxyribonucleic acid, DN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851040" y="5000040"/>
              <a:ext cx="34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bonucleic acid, RN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611280" y="1700280"/>
              <a:ext cx="4318560" cy="3363120"/>
              <a:chOff x="611280" y="1700280"/>
              <a:chExt cx="4318560" cy="336312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691200" y="1700280"/>
                <a:ext cx="4238640" cy="3363120"/>
                <a:chOff x="691200" y="1700280"/>
                <a:chExt cx="4238640" cy="3363120"/>
              </a:xfrm>
            </p:grpSpPr>
            <p:sp>
              <p:nvSpPr>
                <p:cNvPr id="153" name="Text Box 9"/>
                <p:cNvSpPr/>
                <p:nvPr/>
              </p:nvSpPr>
              <p:spPr>
                <a:xfrm>
                  <a:off x="851400" y="1700280"/>
                  <a:ext cx="407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脱氧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0"/>
                <p:cNvSpPr/>
                <p:nvPr/>
              </p:nvSpPr>
              <p:spPr>
                <a:xfrm>
                  <a:off x="691200" y="4542840"/>
                  <a:ext cx="1721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AutoShape 11"/>
              <p:cNvSpPr/>
              <p:nvPr/>
            </p:nvSpPr>
            <p:spPr>
              <a:xfrm>
                <a:off x="611280" y="1986840"/>
                <a:ext cx="159840" cy="2797920"/>
              </a:xfrm>
              <a:custGeom>
                <a:avLst/>
                <a:gdLst>
                  <a:gd name="textAreaLeft" fmla="*/ 102240 w 159840"/>
                  <a:gd name="textAreaRight" fmla="*/ 159840 w 159840"/>
                  <a:gd name="textAreaTop" fmla="*/ 72720 h 2797920"/>
                  <a:gd name="textAreaBottom" fmla="*/ 2725200 h 279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12"/>
          <p:cNvSpPr/>
          <p:nvPr/>
        </p:nvSpPr>
        <p:spPr>
          <a:xfrm>
            <a:off x="4140360" y="4724280"/>
            <a:ext cx="43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参与遗传信息的复制与表达。某些病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也可作为遗传信息的载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067280" y="1628640"/>
            <a:ext cx="44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和线粒体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67280" y="2205000"/>
            <a:ext cx="439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携带遗传信息，决定细胞和个体的遗传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otyp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11280" y="40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倒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843280" y="907920"/>
          <a:ext cx="4824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07920"/>
                    <a:ext cx="4824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003640" y="1413000"/>
            <a:ext cx="3600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反密码子环上有一个由三个核苷酸构成的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反密码子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ticodon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反密码子依照碱基互补的原则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密码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34920" y="1557360"/>
          <a:ext cx="50767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557360"/>
                    <a:ext cx="50767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0" y="476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反密码子识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密码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26920" y="2349360"/>
            <a:ext cx="74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NA(ribosomal R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RNA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细胞内含量最多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NA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&gt;8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％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核糖体蛋白结合组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ibosom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作为蛋白质生物合成的场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44720" y="476280"/>
            <a:ext cx="7199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构成的核糖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是蛋白质合成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627280" y="54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484280"/>
          <a:ext cx="7632720" cy="4456080"/>
        </p:xfrm>
        <a:graphic>
          <a:graphicData uri="http://schemas.openxmlformats.org/drawingml/2006/table">
            <a:tbl>
              <a:tblPr/>
              <a:tblGrid>
                <a:gridCol w="1655640"/>
                <a:gridCol w="2917800"/>
                <a:gridCol w="3059280"/>
              </a:tblGrid>
              <a:tr h="52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小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3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4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大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5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6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3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.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7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8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8SrRNA"/>
          <p:cNvPicPr/>
          <p:nvPr/>
        </p:nvPicPr>
        <p:blipFill>
          <a:blip r:embed="rId1">
            <a:lum contrast="100000"/>
          </a:blip>
          <a:srcRect l="0" t="0" r="5553" b="11360"/>
          <a:stretch/>
        </p:blipFill>
        <p:spPr>
          <a:xfrm>
            <a:off x="2124000" y="1341360"/>
            <a:ext cx="4248360" cy="522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128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S 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26920" y="6206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蛋白质合成时形成的复合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611280" y="1268280"/>
          <a:ext cx="81374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374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262080"/>
            <a:ext cx="889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四、细胞内存在多种功能各异的非编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134136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长链非编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NA(lncRNA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短链（小）非编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c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小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核苷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26920" y="141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611280" y="3429000"/>
            <a:ext cx="8208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ncRN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录及表观遗传水平调控基因表达，参与细胞分化、器官形成、胚胎发育、物质代谢等重要生命活动及某些疾病的发生和发展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027"/>
          <p:cNvSpPr/>
          <p:nvPr/>
        </p:nvSpPr>
        <p:spPr>
          <a:xfrm>
            <a:off x="1547640" y="836640"/>
            <a:ext cx="6697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36680">
              <a:lnSpc>
                <a:spcPct val="12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内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仁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质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催化性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片段干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1476360" y="5661000"/>
            <a:ext cx="7128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28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48"/>
          <p:cNvSpPr/>
          <p:nvPr/>
        </p:nvSpPr>
        <p:spPr>
          <a:xfrm>
            <a:off x="900000" y="333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50"/>
          <p:cNvSpPr/>
          <p:nvPr/>
        </p:nvSpPr>
        <p:spPr>
          <a:xfrm>
            <a:off x="971640" y="4437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功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参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转录后加工和转运以及基因表达过程的调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26"/>
          <p:cNvSpPr/>
          <p:nvPr/>
        </p:nvSpPr>
        <p:spPr>
          <a:xfrm>
            <a:off x="611280" y="2349360"/>
            <a:ext cx="802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The Physical and Chemical Characters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27"/>
          <p:cNvSpPr/>
          <p:nvPr/>
        </p:nvSpPr>
        <p:spPr>
          <a:xfrm>
            <a:off x="2962440" y="1844640"/>
            <a:ext cx="319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55640" y="76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核酸的一般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16000" y="191628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核酸为多元酸，具有较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线性高分子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黏度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60nm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波长有最大吸收峰，是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的共轭双键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决定的。这一特性常用作核酸的定性、定量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25360"/>
            <a:ext cx="8497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二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分子组成及一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The Chemical Component and Primary Structure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各种碱基的紫外吸收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63640" y="1268280"/>
            <a:ext cx="6481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1. 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或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定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1.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l-GR" sz="2800" spc="-1" strike="noStrike">
                <a:solidFill>
                  <a:srgbClr val="000000"/>
                </a:solidFill>
                <a:latin typeface="黑体"/>
                <a:ea typeface="黑体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判断核酸样品的纯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紫外吸收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611280" y="404640"/>
            <a:ext cx="7561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核酸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所有可以水解核酸的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底物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deoxyribonuclease, D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ribonuclease, R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切割部位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内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限制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非特异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外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´→3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´→5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酸外切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6836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变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1268280"/>
            <a:ext cx="76327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定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在某些理化因素作用下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双链解开成两条单链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实质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氢键的断裂，一级结构无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00000" y="3068640"/>
            <a:ext cx="7777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方法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过量酸，碱，加热，变性试剂如尿素、         酰胺以及某些有机溶剂如乙醇、丙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42894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变性后其他理化性质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195640" y="5013360"/>
            <a:ext cx="5472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OD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黑体"/>
              </a:rPr>
              <a:t>260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增高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黏度下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7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8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244680" cy="1643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322800" cy="1440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08080" cy="2951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1577880" cy="24498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6227640" y="292428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564000" y="1773360"/>
            <a:ext cx="1584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3563640" y="4797360"/>
            <a:ext cx="1655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6227640" y="2421000"/>
            <a:ext cx="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611280" y="26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90000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双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680400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部分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单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5580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大部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784760" y="567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11280" y="184464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变性的本质是双链间氢键的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D:\Wei\教学\本科\生化原理2\BIOCHEM\CHAPT12\342-1.JPG"/>
          <p:cNvPicPr/>
          <p:nvPr/>
        </p:nvPicPr>
        <p:blipFill>
          <a:blip r:embed="rId1">
            <a:lum contrast="30000"/>
          </a:blip>
          <a:srcRect l="5839" t="0" r="1012" b="16436"/>
          <a:stretch/>
        </p:blipFill>
        <p:spPr>
          <a:xfrm>
            <a:off x="3780000" y="404640"/>
            <a:ext cx="487512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627280" y="58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紫外吸收光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3" descr="变性曲线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3936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68360" y="549360"/>
            <a:ext cx="8353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增色效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性时其溶液</a:t>
            </a:r>
            <a:r>
              <a:rPr b="1" lang="en-US" sz="2800" spc="-1" strike="noStrike">
                <a:solidFill>
                  <a:srgbClr val="d01ccc"/>
                </a:solidFill>
                <a:latin typeface="Arial"/>
              </a:rPr>
              <a:t>OD</a:t>
            </a:r>
            <a:r>
              <a:rPr b="1" lang="en-US" sz="2800" spc="-1" strike="noStrike" baseline="-25000">
                <a:solidFill>
                  <a:srgbClr val="d01ccc"/>
                </a:solidFill>
                <a:latin typeface="Arial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高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108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Tm"/>
          <p:cNvPicPr/>
          <p:nvPr/>
        </p:nvPicPr>
        <p:blipFill>
          <a:blip r:embed="rId1"/>
          <a:stretch/>
        </p:blipFill>
        <p:spPr>
          <a:xfrm>
            <a:off x="250920" y="981000"/>
            <a:ext cx="4932360" cy="51753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95280" y="40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解链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5364000" y="981000"/>
            <a:ext cx="352908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光吸收值达到最大值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温度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链温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称融解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elting temperature, T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大小与</a:t>
            </a:r>
            <a:r>
              <a:rPr b="1" lang="en-US" sz="2800" spc="-1" strike="noStrike">
                <a:solidFill>
                  <a:srgbClr val="d01ccc"/>
                </a:solidFill>
                <a:latin typeface="Times New Roman"/>
              </a:rPr>
              <a:t>G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elting-3a"/>
          <p:cNvPicPr/>
          <p:nvPr/>
        </p:nvPicPr>
        <p:blipFill>
          <a:blip r:embed="rId1"/>
          <a:stretch/>
        </p:blipFill>
        <p:spPr>
          <a:xfrm>
            <a:off x="1476360" y="1268280"/>
            <a:ext cx="5607000" cy="39895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0" y="1443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76360" y="558972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+C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量越高，解链温度就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826920" y="549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解链曲线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复性与分子杂交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1557360"/>
            <a:ext cx="7775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复性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enaturation)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适当条件下，变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两条互补链可恢复天然的双螺旋构象，这一现象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复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71640" y="5084640"/>
            <a:ext cx="669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减色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性时，其溶液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  <a:ea typeface="黑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042920" y="3357720"/>
            <a:ext cx="73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变性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缓慢冷却后即可复性，这一过程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退火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nealing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26920" y="177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元素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1640" y="2565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元素组成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(9%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 1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7164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比较，核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一般不含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的含量较为稳定，占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9%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~ 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11%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8360" y="54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核酸的基本组成单位是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4360" y="1700280"/>
            <a:ext cx="784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种类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链分子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放在同一溶液中，只要两种单链分子之间存在着一定程度的碱基配对关系，在适宜的条件可以在不同的分子间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杂化双链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eteroduplex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种杂化双链可以在不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之间形成，也可以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或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形成。这种现象称为核酸分子杂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4360" y="9079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酸分子杂交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ybridizati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6"/>
          <p:cNvGraphicFramePr/>
          <p:nvPr/>
        </p:nvGraphicFramePr>
        <p:xfrm>
          <a:off x="755640" y="260280"/>
          <a:ext cx="763272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6327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55640" y="1341360"/>
            <a:ext cx="79218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核酸分子杂交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中某一种基因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定两种核酸分子间的序列相似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某些专一序列在待检样品中存在与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基因芯片技术的基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755640" y="1989000"/>
            <a:ext cx="7345440" cy="2816640"/>
            <a:chOff x="755640" y="1989000"/>
            <a:chExt cx="7345440" cy="2816640"/>
          </a:xfrm>
        </p:grpSpPr>
        <p:sp>
          <p:nvSpPr>
            <p:cNvPr id="165" name="Rectangle 5"/>
            <p:cNvSpPr/>
            <p:nvPr/>
          </p:nvSpPr>
          <p:spPr>
            <a:xfrm>
              <a:off x="755640" y="198900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分子组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414440" y="262404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碱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e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嘌呤碱，嘧啶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414440" y="338580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戊糖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bos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糖，脱氧核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414440" y="4224240"/>
              <a:ext cx="55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磷酸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00000" y="53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戊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684360" y="1557360"/>
            <a:ext cx="3816360" cy="4336920"/>
            <a:chOff x="684360" y="1557360"/>
            <a:chExt cx="3816360" cy="4336920"/>
          </a:xfrm>
        </p:grpSpPr>
        <p:sp>
          <p:nvSpPr>
            <p:cNvPr id="171" name="Text Box 4"/>
            <p:cNvSpPr/>
            <p:nvPr/>
          </p:nvSpPr>
          <p:spPr>
            <a:xfrm>
              <a:off x="1621080" y="53737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RNA</a:t>
              </a: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708720" y="2494080"/>
              <a:ext cx="5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1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989440" y="2997360"/>
              <a:ext cx="5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2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2197440" y="2997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3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476720" y="2565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4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1472040" y="192240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5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0"/>
            <p:cNvGraphicFramePr/>
            <p:nvPr/>
          </p:nvGraphicFramePr>
          <p:xfrm>
            <a:off x="684360" y="1557360"/>
            <a:ext cx="3384720" cy="302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11"/>
            <p:cNvSpPr/>
            <p:nvPr/>
          </p:nvSpPr>
          <p:spPr>
            <a:xfrm>
              <a:off x="1998720" y="4870440"/>
              <a:ext cx="18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4572000" y="1557360"/>
            <a:ext cx="4043520" cy="4314600"/>
            <a:chOff x="4572000" y="1557360"/>
            <a:chExt cx="4043520" cy="4314600"/>
          </a:xfrm>
        </p:grpSpPr>
        <p:sp>
          <p:nvSpPr>
            <p:cNvPr id="181" name="Rectangle 13"/>
            <p:cNvSpPr/>
            <p:nvPr/>
          </p:nvSpPr>
          <p:spPr>
            <a:xfrm>
              <a:off x="5491440" y="5351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DNA</a:t>
              </a:r>
              <a:r>
                <a:rPr b="1" lang="zh-CN" sz="2800" spc="-1" strike="noStrike">
                  <a:solidFill>
                    <a:srgbClr val="a50021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Object 14"/>
            <p:cNvGraphicFramePr/>
            <p:nvPr/>
          </p:nvGraphicFramePr>
          <p:xfrm>
            <a:off x="4572000" y="1557360"/>
            <a:ext cx="3384720" cy="302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Rectangle 15"/>
            <p:cNvSpPr/>
            <p:nvPr/>
          </p:nvSpPr>
          <p:spPr>
            <a:xfrm>
              <a:off x="5381640" y="4870440"/>
              <a:ext cx="31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脱氧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deoxy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9:39:54Z</dcterms:created>
  <dc:creator>Benny Lee</dc:creator>
  <dc:description/>
  <dc:language>en-US</dc:language>
  <cp:lastModifiedBy>ZhangLL</cp:lastModifiedBy>
  <dcterms:modified xsi:type="dcterms:W3CDTF">2014-12-03T09:01:03Z</dcterms:modified>
  <cp:revision>446</cp:revision>
  <dc:subject/>
  <dc:title>第二章 核酸的结构和功能</dc:title>
</cp:coreProperties>
</file>