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E3E5FD-4E07-4589-A68B-4B9E4052351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72618B-F528-4F5F-965C-DB0EB0AAF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89C507-F135-4166-AB1A-0D0B1C1DC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F1F3D8-5578-4289-9E5E-78613C9E8F3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AD4104-C7CD-4347-BF61-7B93F0EA3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CFD2C3-0E20-4CA0-B7D0-28A88DDD9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7C21B8-A6BA-4795-A736-22DD556EF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5A43CB-6F90-4598-8982-14640FE48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E72281-EB5D-45FF-B615-86FEECF3B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132575-65E9-4107-AEEF-73EDB4DF0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06267B-B16E-4B84-B7F6-9BFFB3430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0E0E25-B43B-4E89-BABD-A2F69974D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2DDFF-9B05-488E-9DD6-4932CE0AE0D0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  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十六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危重患者的管理和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常用急救技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呼吸心搏骤停的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24000" y="16282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意识丧失或伴抽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颈动脉、股动脉等大动脉搏动消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呼吸停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瞳孔散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基本生命支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24000" y="1557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是指专业或非专业人员进行徒手抢救，包括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CAB 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个主要步骤，即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人工循环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胸外心脏按压）、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开放气道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人工呼吸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心肺复苏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24000" y="16282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基本生命支持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加强生命支持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延续生命支持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基本生命支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操作步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C: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人工循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A: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开放气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B: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人工呼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C: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人工循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判断并启动急救系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放置心肺复苏体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仰卧在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坚实的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平面上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胸外心脏按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按压部位：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胸骨下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宋体"/>
              </a:rPr>
              <a:t>1/2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定位方法：取两乳头连线至胸骨交叉的位置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6167520" y="4365720"/>
            <a:ext cx="2492280" cy="217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C: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人工循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按压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垂直向下用力按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按压深度为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至少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宋体"/>
              </a:rPr>
              <a:t>5cm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每次按压后要全部放松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下压时间与放松时间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比为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宋体"/>
              </a:rPr>
              <a:t>1∶1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按压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应平稳、有规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按压频率为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至少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宋体"/>
              </a:rPr>
              <a:t>100 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次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宋体"/>
              </a:rPr>
              <a:t>/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一般连续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按压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宋体"/>
              </a:rPr>
              <a:t>30 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C: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人工循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胸外心脏按压时的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按压部位要正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按压时手指要抬离胸壁，以防压力沿手指传至肋骨引起骨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按压时双臂应保持伸直不弯曲，并应垂直向下用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观察有无并发症发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A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：开放气道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清除气道异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开放气道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仰头抬颈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抬举下颌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仰头举颏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4" name="Picture 2" descr=""/>
          <p:cNvPicPr/>
          <p:nvPr/>
        </p:nvPicPr>
        <p:blipFill>
          <a:blip r:embed="rId1"/>
          <a:stretch/>
        </p:blipFill>
        <p:spPr>
          <a:xfrm>
            <a:off x="250920" y="4292640"/>
            <a:ext cx="2065320" cy="15015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3" descr=""/>
          <p:cNvPicPr/>
          <p:nvPr/>
        </p:nvPicPr>
        <p:blipFill>
          <a:blip r:embed="rId2"/>
          <a:stretch/>
        </p:blipFill>
        <p:spPr>
          <a:xfrm>
            <a:off x="2987640" y="4292640"/>
            <a:ext cx="2217600" cy="14857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4" descr=""/>
          <p:cNvPicPr/>
          <p:nvPr/>
        </p:nvPicPr>
        <p:blipFill>
          <a:blip r:embed="rId3"/>
          <a:stretch/>
        </p:blipFill>
        <p:spPr>
          <a:xfrm>
            <a:off x="5940360" y="4237200"/>
            <a:ext cx="2003400" cy="140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B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：人工呼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口对口人工呼吸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保持气道开放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抢救者深吸一口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捏紧患者鼻子，包住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缓慢而持续地将气体吹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每次吹气历时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s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以上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连续吹气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B: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人工呼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口对鼻人工呼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于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抢救婴幼儿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患者牙关紧闭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抢救者口唇无法严密包绕患者口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．说出危重患者的监测和护理内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．描述心搏呼吸骤停的原因、判定标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．说出心肺脑复苏的注意事项和有效指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．说出缺氧的原因及分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5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．陈述氧疗的并发症及预防措施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6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．说出洗胃的适应证、禁忌证和洗胃时的注意事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7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．说出吸痰时的目的、方法和注意事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8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能正确使用简易呼吸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9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． 能正确进行胸外心脏按压及人工呼吸操作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0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．能正确执行给氧方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．能根据患者的具体情况正确选择洗胃方式和洗胃溶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B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：人工呼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吹气不要过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吹气量不要过大，吹气量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宋体"/>
              </a:rPr>
              <a:t>500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宋体"/>
              </a:rPr>
              <a:t>600ml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吹气的同时不要按压胸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现场心肺复苏术的基本程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首先判断是否有意识和呼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迅速将患者放置于仰卧位，背靠坚实的平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立即进行胸外心脏按压，以大于每分钟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00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次的频率做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0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次按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开放气道，并保持气道通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进行口对口或口对鼻吹气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以按压与吹气之比为</a:t>
            </a:r>
            <a:r>
              <a:rPr b="0" lang="en-US" sz="2800" spc="-1" strike="noStrike">
                <a:solidFill>
                  <a:srgbClr val="c00000"/>
                </a:solidFill>
                <a:latin typeface="Verdana"/>
                <a:ea typeface="宋体"/>
              </a:rPr>
              <a:t>30∶2</a:t>
            </a:r>
            <a:r>
              <a:rPr b="0" lang="zh-CN" sz="2800" spc="-1" strike="noStrike">
                <a:solidFill>
                  <a:srgbClr val="00b0f0"/>
                </a:solidFill>
                <a:latin typeface="Verdana"/>
                <a:ea typeface="宋体"/>
              </a:rPr>
              <a:t>，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反复进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每隔</a:t>
            </a:r>
            <a:r>
              <a:rPr b="0" lang="en-US" sz="2800" spc="-1" strike="noStrike">
                <a:solidFill>
                  <a:srgbClr val="c00000"/>
                </a:solidFill>
                <a:latin typeface="Verdana"/>
                <a:ea typeface="宋体"/>
              </a:rPr>
              <a:t>2min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判断患者的呼吸、脉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每隔</a:t>
            </a:r>
            <a:r>
              <a:rPr b="0" lang="en-US" sz="2800" spc="-1" strike="noStrike">
                <a:solidFill>
                  <a:srgbClr val="c00000"/>
                </a:solidFill>
                <a:latin typeface="Verdana"/>
                <a:ea typeface="宋体"/>
              </a:rPr>
              <a:t>2min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轮换按压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现场心肺复苏术的有效指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24000" y="16282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能触到大动脉搏动，肱动脉收缩压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&gt;8kPa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面色、口唇、甲床、皮肤等处色泽转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散大的瞳孔缩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有自主呼吸出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昏迷程度变浅，可出现反射或四肢活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三节  氧 气 疗 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氧气疗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是临床上针对缺氧的一种治疗方法，即给予缺氧的患者吸入氧气，其目的在于提高患者肺泡内氧分压，从而提高动脉血氧分压，纠正低氧血症及其带来的危害，挽救患者的生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缺氧的类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533520" y="170028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低张性缺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血液性缺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循环性缺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组织中毒性缺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耗氧增加性缺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缺氧程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04920" y="1371240"/>
            <a:ext cx="8083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轻度缺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PaO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＞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6.65kPa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0mmH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SaO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＞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80%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无发绀，一般无需氧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中度缺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PaO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2 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.69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6.65kPa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6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0mmH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SaO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2 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65%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85%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有发绀，需氧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重度缺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PaO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＜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.69kPa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6mmH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SaO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＜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65%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明显发绀，必须进行氧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氧气疗法的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根据吸入氧流量分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低流量给氧：</a:t>
            </a:r>
            <a:r>
              <a:rPr b="0" lang="zh-CN" sz="2400" spc="-1" strike="noStrike">
                <a:solidFill>
                  <a:srgbClr val="c00000"/>
                </a:solidFill>
                <a:latin typeface="PMingLiU"/>
                <a:ea typeface="PMingLiU"/>
              </a:rPr>
              <a:t>≤ 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宋体"/>
              </a:rPr>
              <a:t>4L/min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高流量给氧：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＞ 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宋体"/>
              </a:rPr>
              <a:t>4L/min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根据吸入氧浓度分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低浓度给氧：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＜ 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宋体"/>
              </a:rPr>
              <a:t>30%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中浓度给氧：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宋体"/>
              </a:rPr>
              <a:t>30% 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～ 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宋体"/>
              </a:rPr>
              <a:t>50%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高浓度给氧：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＞ 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宋体"/>
              </a:rPr>
              <a:t>50%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根据给氧时的压力情况分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常压氧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高压氧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供氧装置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氧气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压力一般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00kg/cm</a:t>
            </a:r>
            <a:r>
              <a:rPr b="0" lang="en-US" sz="2400" spc="-1" strike="noStrike" baseline="30000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0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0MPa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，容纳氧气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6000L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中心供氧装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氧气枕供氧装置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操作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95280" y="16282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具体流程见教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鼻导管吸氧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鼻塞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面罩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氧气帐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氧气疗法的注意事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严格遵守操作规程，注意用氧安全，做好“</a:t>
            </a:r>
            <a:r>
              <a:rPr b="1" lang="zh-CN" sz="2800" spc="-1" strike="noStrike">
                <a:solidFill>
                  <a:srgbClr val="c00000"/>
                </a:solidFill>
                <a:latin typeface="Verdana"/>
                <a:ea typeface="宋体"/>
              </a:rPr>
              <a:t>四防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”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使用氧气时，应先调节好流量后再用；停用时应先拔出导管，再关闭氧气开关；氧疗过程中需调节流量时，应先分离开鼻导管再调节流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氧气进入呼吸道前需经湿化瓶湿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定期观察氧疗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3" name="云形标注 4"/>
          <p:cNvSpPr/>
          <p:nvPr/>
        </p:nvSpPr>
        <p:spPr>
          <a:xfrm>
            <a:off x="3995640" y="3789360"/>
            <a:ext cx="4176720" cy="1943280"/>
          </a:xfrm>
          <a:prstGeom prst="cloudCallout">
            <a:avLst>
              <a:gd name="adj1" fmla="val 46180"/>
              <a:gd name="adj2" fmla="val -150620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防火、防震、防热、防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主要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危重患者的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现场急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氧气疗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洗胃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吸痰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氧气疗法的并发症及预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4000" y="1557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呼吸抑制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氧中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肺不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晶体后纤维组织增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洗 胃 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利用向胃内灌注溶液的方法来排除胃内毒物或潴留食物，以达到解除患者痛苦、抢救患者生命的方法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目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清除胃内毒物或其他有害物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将胃内滞留的食物排出，减轻胃黏膜水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于胃手术或检查的准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洗胃的禁忌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吞服强酸或强碱等腐蚀性药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上消化道溃疡、食管阻塞、食管胃底静脉曲张、胃癌等患者一般不洗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胸主动脉瘤、心肌梗死患者慎洗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洗胃液的选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05" name="Picture 2" descr=""/>
          <p:cNvPicPr/>
          <p:nvPr/>
        </p:nvPicPr>
        <p:blipFill>
          <a:blip r:embed="rId1"/>
          <a:stretch/>
        </p:blipFill>
        <p:spPr>
          <a:xfrm>
            <a:off x="324000" y="1125360"/>
            <a:ext cx="8024760" cy="533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洗胃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口服催吐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胃管洗胃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洗胃器灌注洗胃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注射器洗胃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电动吸引器洗胃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洗胃机洗胃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口服催吐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适用于清醒合作且非致命性、非腐蚀性毒物中毒的患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主要操作步骤（具体操作见教材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患者取坐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压舌板刺激患者咽后壁或者舌根诱发呕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协助患者饮入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宋体"/>
              </a:rPr>
              <a:t>300 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～ 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宋体"/>
              </a:rPr>
              <a:t>500ml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洗胃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压舌板刺激患者舌咽部，引起反射性呕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如此反复进行，直至吐出液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清洁无味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为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整理用物，洗手，记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云形标注 4"/>
          <p:cNvSpPr/>
          <p:nvPr/>
        </p:nvSpPr>
        <p:spPr>
          <a:xfrm>
            <a:off x="6224760" y="4941720"/>
            <a:ext cx="2881080" cy="1440000"/>
          </a:xfrm>
          <a:prstGeom prst="cloudCallout">
            <a:avLst>
              <a:gd name="adj1" fmla="val -44972"/>
              <a:gd name="adj2" fmla="val -140421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  <a:ea typeface="宋体"/>
              </a:rPr>
              <a:t>遵医嘱留取毒物标本送检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胃管洗胃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主要操作步骤（具体操作见教材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患者取左侧卧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将洗胃管插入胃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开始洗胃，洗胃过程注意观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洗胃结束：洗出液清洁无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洗胃完毕，整理用物，洗手记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云形标注 4"/>
          <p:cNvSpPr/>
          <p:nvPr/>
        </p:nvSpPr>
        <p:spPr>
          <a:xfrm>
            <a:off x="4427640" y="4508640"/>
            <a:ext cx="2736720" cy="2016000"/>
          </a:xfrm>
          <a:prstGeom prst="cloudCallout">
            <a:avLst>
              <a:gd name="adj1" fmla="val -25606"/>
              <a:gd name="adj2" fmla="val -73263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记录洗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液名称及量、洗出液的颜色和气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洗胃注意事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当中毒物不明时，应抽出胃内容物送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洗胃溶液可选温开水或等渗盐水或有针对性的抗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洗胃液温度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7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8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每次灌入量以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00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00ml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为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首次洗胃总量一般在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0000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0000m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出入液量要大致相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洗胃注意事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洗胃开始时应先抽出胃内容物再灌入洗胃液，饭后中毒的患者应先催吐再洗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电动吸引器洗胃压力不宜过大，应保持在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3.3kPa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在洗胃过程中应注意观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随时观察脉搏、呼吸、血压及患者腹部情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如患者主诉腹痛，且流出血性灌洗液或出现休克现象，应立即停止洗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洗胃注意事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对昏迷患者洗胃应谨慎，应取去枕仰卧位，头转向一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幽门梗阻患者洗胃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需记录胃内潴留量以了解梗阻情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洗胃宜在饭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6h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或空腹时进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危重患者的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一、抢救工作的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立即指定抢救负责人，组成抢救小组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参与制订抢救方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制订抢救护理计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配合医生进行抢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做好抢救记录和查对工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护士要熟悉危重患者的病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严格执行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“五定”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制度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抢救用物要及时清理、归还原处和补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做好交接班工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五节  吸 痰 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指经口腔、鼻腔、人工气道将呼吸道的分泌物吸出，以保持呼吸道通畅，预防吸入性肺炎、肺不张、窒息等并发症的一种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适用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年老体弱、危重、昏迷、麻醉未清醒前等各种原因引起的不能有效咳嗽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吸引装置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50920" y="1483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电动吸引装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中心负压吸引装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吸痰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经鼻或口腔吸痰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经气管插管或气管切开套管吸痰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具体操作步骤见教材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吸痰注意事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必须遵循无菌操作原则，每次均须更换无菌吸痰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吸痰管最大外径不能超过气管导管内径的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/2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负压吸引压力不宜太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在吸痰前后可通过加大氧浓度来增加患者的供氧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吸痰动作要轻柔、敏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吸引时禁止反复上下提插吸引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每次吸痰时间不宜超过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5s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如痰液多，需要再次吸引，应间隔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mi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连续吸痰不得超过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次，吸痰间隔予以纯氧吸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吸痰注意事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痰液黏稠者可先行稀释痰液，使痰液易于吸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吸痰过程中应密切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吸引瓶内的吸出液至半瓶时即应倾倒冲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电动吸引器应专人保管，做好清洁保养工作，定期检查其性能，搬运时避免剧烈震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五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定数量品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定点安置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定人保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定期消毒灭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定期检查维修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危重患者的病情监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中枢神经系统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循环系统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呼吸系统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肾功能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体温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危重患者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72960" y="1628280"/>
            <a:ext cx="4340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危重患者的呼吸道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气管插管患者的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气管切开患者的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呼吸机的使用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内容占位符 2"/>
          <p:cNvSpPr/>
          <p:nvPr/>
        </p:nvSpPr>
        <p:spPr>
          <a:xfrm>
            <a:off x="4754520" y="1125360"/>
            <a:ext cx="433872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危重患者的基础性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保证患者的个人卫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皮肤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排便护理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保持肢体功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防止坠积性肺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注意安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保证足够的营养和水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危重患者的心理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现场心肺复苏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95280" y="177336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现场急救指当危重急症以及意外伤害发生，专业医务人员未赶到之前，抢救者利用现场所提供的人力、物力为伤病者采取及时有效的初步救助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呼吸心搏骤停的原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250920" y="170028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器质性心脏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神经系统病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电解质及酸碱平衡紊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中毒、手术和麻醉意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意外事件如遭遇雷击、电击、溺水、窒息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zhaoxin</cp:lastModifiedBy>
  <cp:lastPrinted>1899-12-30T00:00:00Z</cp:lastPrinted>
  <dcterms:modified xsi:type="dcterms:W3CDTF">2014-09-05T10:05:21Z</dcterms:modified>
  <cp:revision>26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