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57F5-02A5-4244-B46D-AAE691E9E7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CBCBB-E343-4D31-B54C-51425828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584D-6173-4F31-9162-0B5DF450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93C1-9125-46EF-A810-D0600A5EB5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F314-5BBD-4B3B-BC0B-B6CBD154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0E4D-4319-4A4C-9232-108E9274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F88D-7EDA-4313-A2C1-81802DA7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9EEFB-4FF2-47EE-B858-70CB6537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2A81-E14D-4BD5-9B2C-4D15197D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2163-8744-4081-AADC-5F44008E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FC03-54B3-40AF-9B78-6A08B518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A616-4AB8-4306-A5F5-635E696D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EB0A-AEBE-4C73-979D-1145206D6B0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4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第五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医院环境及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出入院患者的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184464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病区的设置和布局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每个病区设有病室、治疗室、抢救室、危重病室、医护办公室、配膳室、盥洗室、浴室、库房、厕所、洗涤间及医护休息室、示教室等。有条件应设置患者学习室、娱乐室、会客室、健身室等。病区实行科主任、科护士长领导下的主治医生、护士长分工负责制。每个病区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张病床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1484280"/>
            <a:ext cx="7777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病区的环境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物理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包括空间、室温、湿度 、光线 、噪声、通风、装饰 、安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社会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要建立良好的护患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90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者床单位的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患者床单位：包括固定设备和床头墙壁上的设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固定设备包括：床、床垫、床褥、棉胎枕芯、大单、被套、枕套、中单、橡胶中单、床旁桌、床上桌、床旁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床头墙壁上的设备包括：照明灯、呼叫装置、供氧及负压吸引管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常用的有备用床、暂空床、麻醉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476360" y="2276640"/>
            <a:ext cx="360360" cy="36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10"/>
                </a:lnTo>
                <a:cubicBezTo>
                  <a:pt x="10800" y="10310"/>
                  <a:pt x="5400" y="11210"/>
                  <a:pt x="0" y="11210"/>
                </a:cubicBezTo>
                <a:cubicBezTo>
                  <a:pt x="5400" y="11210"/>
                  <a:pt x="10800" y="12110"/>
                  <a:pt x="10800" y="130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8000" y="2349360"/>
            <a:ext cx="2664000" cy="1008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住院处的护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63640" y="4365720"/>
            <a:ext cx="2881440" cy="100800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病区后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2133720"/>
            <a:ext cx="936720" cy="352872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4788000" y="429264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932360" y="3789360"/>
            <a:ext cx="3743280" cy="64764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932360" y="5013360"/>
            <a:ext cx="3816360" cy="576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诊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住院处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办理住院手续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实施卫生处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护送患者入病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48229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705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一般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迎接新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执行入院护理常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通知医生诊视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测量患者体温、脉搏、呼吸、血压及体重，需要时测量身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高并记录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做好介绍与指导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填写住院病历和有关护理表格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按医嘱执行各项治疗和护理措施，通知营养室准备膳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护理评估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时需进行较为全面、完整的综合评估，以便进行分级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398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备好急救物品及药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认真进行交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配合抢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1484280"/>
            <a:ext cx="7777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三、分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级护理是指患者在住院期间，医护人员根据患者病情和生活自理能力，确定并实施不同级别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分为四个级别：特级护理、一级护理、二级护理和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1484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出院前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通知患者和家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办理出院手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填写患者出院护理评估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四）征求意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五）协助患者整理用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六）护送出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有关文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填写出院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归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注销卡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、床单位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一）撤去病床上污被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二）床垫、床褥、棉胎、枕芯等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三）病室开窗通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四）传染病按终末消毒法对病室及床单位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五）铺好备用床，准备迎接新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55640" y="1989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一、医院的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原卫生部颁发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全国医院工作条例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指出，医院的任务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“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医疗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为中心，在提高医疗质量的基础上保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教学和科研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任务的完成，并不断提高教学质量和科研水平。同时做好扩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预防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指导基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计划生育的技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作。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55640" y="1125360"/>
            <a:ext cx="7777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医院的种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 按收治范围分类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: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综合性医院、专科医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按分级管理分类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989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年，我国医院实行分级管理制度。可分为三级（一、二、三级）、十等（每级分甲、乙、丙等，三级医院增设特等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按经营目的分类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营利性医院和非营利性医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四）其他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按特定任务分类如军队医院、企业医院、医学院附院等。按所有制分类如全民、集体、个体所有制医院、中外合资医院，股份制医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门诊的设置和布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门诊设有挂号处、收费处、化验室、药房、综合治疗与分科诊察室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预检分诊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安排侯诊和就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消毒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保健门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995640" y="3716280"/>
            <a:ext cx="865440" cy="43200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4" h="21600">
                <a:moveTo>
                  <a:pt x="25126" y="10800"/>
                </a:moveTo>
                <a:lnTo>
                  <a:pt x="14620" y="17806"/>
                </a:lnTo>
                <a:lnTo>
                  <a:pt x="14620" y="3794"/>
                </a:lnTo>
                <a:close/>
              </a:path>
              <a:path fill="darken" w="43254" h="21600">
                <a:moveTo>
                  <a:pt x="26971" y="3794"/>
                </a:moveTo>
                <a:lnTo>
                  <a:pt x="26971" y="17806"/>
                </a:lnTo>
                <a:lnTo>
                  <a:pt x="28633" y="17806"/>
                </a:lnTo>
                <a:lnTo>
                  <a:pt x="286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32000" y="334440"/>
            <a:ext cx="4104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安排侯诊与就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559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前，检查侯诊、就诊环境，备好各种检查器械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用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后，按挂号先后次序安排就诊。收集整理初诊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复诊病案，化验单、检查报告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根据病情测量体温、脉搏、呼吸等，并记录于门诊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案上。必要时应协助医生进行诊查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随时观察侯诊患者病情，遇到高热、剧痛、呼吸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难、出血、休克等患者，应立即安排提前就诊或送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室处理；对病情较重或年老体弱者，可适当调整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顺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门诊结束后，回收门诊病案，整理、消毒环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5892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4513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12668" y="3794"/>
                </a:lnTo>
                <a:lnTo>
                  <a:pt x="12668" y="17806"/>
                </a:lnTo>
                <a:lnTo>
                  <a:pt x="1100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9890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科的设置和布局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急诊科一般设有预检处、诊疗室、治疗室、抢救室、监护室、观察室、扩创室等，此外，还配有药房、化验室、治疗室、抢救室、挂号室及收款室等，形成一个相对独立的单位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55640" y="148428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预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检分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抢救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急救物品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完好率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0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配合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实施抢救措施 ②做好抢救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严格执行查对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留观时间一般为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084720" y="4005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21526" y="10800"/>
                </a:moveTo>
                <a:lnTo>
                  <a:pt x="11021" y="17806"/>
                </a:lnTo>
                <a:lnTo>
                  <a:pt x="11021" y="3794"/>
                </a:lnTo>
                <a:close/>
              </a:path>
              <a:path fill="darken" w="36054" h="21600">
                <a:moveTo>
                  <a:pt x="23371" y="3794"/>
                </a:moveTo>
                <a:lnTo>
                  <a:pt x="23371" y="17806"/>
                </a:lnTo>
                <a:lnTo>
                  <a:pt x="25033" y="17806"/>
                </a:lnTo>
                <a:lnTo>
                  <a:pt x="250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00360" y="227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404640"/>
            <a:ext cx="27669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预检分诊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预检护士要掌握急诊就诊标准，做到一问、二看、三检查、四分诊的顺序，初步判断疾病的轻重缓急，及时分诊到各专科诊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危重患者立即通知值班医生及抢救事护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意外灾害事件应立即通知护士长和有关部科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法律纠纷、刑事伤害案件、交通事故等事件，应迅速通知医院保卫部门或直接与公安部门取得联系，并请家属或陪送者留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25892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513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抢救工作</a:t>
            </a:r>
            <a:r>
              <a:rPr b="1" lang="en-US" sz="2800" spc="-1" strike="noStrike">
                <a:solidFill>
                  <a:srgbClr val="ddb523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配合抢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931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实施抢救措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在医生未到之前，护士应根据病情做出初步判断，给予紧急处理，如测血压、给氧、吸痰、止血、配血、建立静脉输液通道、进行人工呼吸、胸外心脏按压等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医生到达后，立即汇报处理情况，积极配合抢救，正确执行医嘱，密切观察病情变化，为医生提供有关资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做好抢救记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记录内容包括时间（患者和医生到达的时间、抢救措施落实时间、执行医嘱的内容和病情的动态变化）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要求字迹清晰、及时、准确。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33200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4483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12638" y="3794"/>
                </a:lnTo>
                <a:lnTo>
                  <a:pt x="12638" y="17806"/>
                </a:lnTo>
                <a:lnTo>
                  <a:pt x="1097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02:5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