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E289A-7673-48B9-94CF-7D7A4D9E12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667C-58AA-45E9-82C7-05B78696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586A2-84FC-4937-BEE0-0729083E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8CBB-988C-41B6-A62D-3CB3B9BE1F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B6D34-E5FD-4ACC-8955-A8D1F03A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6928-988D-4E21-A625-85C78D5B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43F4-F7E5-4806-AD21-A8B411CC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1229-3616-4788-AE05-32036F9B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1757-3777-4895-A852-C3D02655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446A-A3AD-4774-ADE0-A4DE17DE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97FA-87B5-4948-8CD1-735135F6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96CD-1503-46A7-9568-15C6C940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8ACA-A82C-4A63-9CA9-1930A976D6F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学概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健康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核心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4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但是没有身体上的疾病或缺陷，而且是身体、精神和社会的完好适应状态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9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仅是没有疾病，而且包括躯体健康、心理健康、社会适应良好和道德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护理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不同年龄、处于不同状态的人都能恢复、维持或促进达到其最佳的健康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学概念的转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疾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至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末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患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—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整体人的健康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至今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护士角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专业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士的专业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照顾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育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咨询者和顾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管理者和决策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作者和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对象利益的维护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研究者和改革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和范畴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健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预防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协助康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独立性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相互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工作范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学基础知识和技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临床专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不同人群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心理和社会支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健康指导、咨询和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伦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.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临床护理服务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功能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责任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个案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小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整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成本章学习后，学生应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专业发展历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学四个基本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列出专业护士的主要角色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叙述各种临床护理服务方式的内容和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举例说明护理学四个基本概念在护理实践中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本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护士角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和范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371600"/>
            <a:ext cx="8610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古代护理的产生与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巫不分，医巫分开、基础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弗洛伦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lorence Nightingal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20—191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护士学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4214880"/>
            <a:ext cx="693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的发展：从“证书教育”到“博士教育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实践的发展：专业分科细化、角色扩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理论的发展：促进学科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研究的发展：范围广泛、方法从量性到量性与质性相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团体的发展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NA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华护理学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1200" y="549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近现代中国护理发展历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071360"/>
            <a:ext cx="4228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中国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西方护理传入中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近代护理教育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护理学会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中国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84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恢复高等护理本科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90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专业硕士学位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8106"/>
          <a:stretch/>
        </p:blipFill>
        <p:spPr>
          <a:xfrm>
            <a:off x="4714920" y="2428920"/>
            <a:ext cx="43308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214960" y="4929120"/>
            <a:ext cx="3643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  <a:ea typeface="宋体"/>
              </a:rPr>
              <a:t>2000—2014</a:t>
            </a:r>
            <a:r>
              <a:rPr b="0" lang="zh-CN" sz="1800" spc="-1" strike="noStrike">
                <a:solidFill>
                  <a:srgbClr val="c00000"/>
                </a:solidFill>
                <a:latin typeface="Verdana"/>
                <a:ea typeface="宋体"/>
              </a:rPr>
              <a:t>年我国注册护士数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与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体人、开放系统、有不同层次的需要、有不同程度的自理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环境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内环境和外环境，动态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08:51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