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E94-2BDA-4C89-BF13-9787FAAC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C5D3-AE07-428B-82A3-6792D798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EC88-B5C3-4677-9D75-F63040DC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52F9-AAB9-4687-84A5-ED402D89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24AD-E54D-43FF-BE63-FD5FD10A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0C91-791C-45DB-B355-7C681979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02BC-0406-437A-B99B-F8E81D41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E9D1-F52A-4801-9FF1-2DA34EE2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71A7-9412-46FC-96A2-F198BBF6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34D0-9F76-43C9-9CE4-B21FCA26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CF2D-7D98-493B-90A4-11605D77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315-092E-4898-9D25-D37AB113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CA0D-0569-46BC-99C6-F00A1F9A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79D9-92E2-445C-B4CF-D1F1FB09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E194-E448-4B92-A11F-B8494200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3073-68A0-4601-9F9C-D70CC5C7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1557-777D-4722-9487-E522969B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EDABC-7369-42C4-936F-9E211241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FB0A2-9413-4C44-982C-D759338C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EBA76-FDEA-4CC9-9643-156D53BF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73ECA-DC56-4382-A582-6BAD0F01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3F9A4-D4D7-4728-81A9-3255E210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019-6AE3-425D-A5A7-499D265E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5BB18-7607-46D4-9ACB-DBF06745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341EC-B148-498C-921A-52168E95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5FBFA-5F06-4907-B293-95BFA269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B0FBD-EE29-4A3D-97C0-428C3942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89E53-D5B2-48EE-A876-923D7F06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2C872-D6A7-41A3-8FA3-5A90F145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C7F71-6FFB-4971-9760-1761CD8B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31E2-A4A5-48CA-BBA4-5FF9902D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2C7-1A09-40EE-A012-7219741B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FDD-CD9E-4400-BF4A-D8ADD37D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9A6-54BB-4571-B858-3670019A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C1E-2C59-4DD7-A417-096E5A4D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5C8-3771-46E6-9463-66F7EF94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EC69-4928-4774-BE0E-C00002B904F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B2F6-994E-4EC7-B19A-602282B7170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B738-4BA3-4341-906D-3DA3C877F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6223-2C77-45DD-89EB-B26592E4E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1342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二章 水、电解质代谢紊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560" y="47970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张立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317600" y="29242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disturbance of water and electrolyte metaboli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水钠平衡及水钠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4F08-6A42-4017-B259-114470D2C2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物质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调节体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润滑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4FA7-DBBD-4192-A370-FA3F8CBF3B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00ml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饮水、食物含水和代谢水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5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消化道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粪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皮肤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显性汗和非显性汗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肺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呼吸蒸发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1320-AE40-4D60-9771-9641A19763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外液的渗透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神经、肌肉、心肌细胞的动作电位的形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新陈代谢和生理功能活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2A9A-DC1B-43DC-B17B-CB405267DB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食盐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肾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多吃多排，少吃少排，不吃不排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汗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消化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6A3B-4157-4947-96F9-1E77170DAC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15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三）水钠代谢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渴感中枢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刺激因素：血浆渗透压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抗利尿激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浆渗透压↑，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容量↓，应激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醛固酮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↓</a:t>
            </a:r>
            <a:r>
              <a:rPr b="0" lang="en-US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↓ 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心钠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↑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A618-8108-46B6-B871-E1FC1099F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水、钠代谢紊乱的分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1280" y="285264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水钠代谢紊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56536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780920" y="3860640"/>
            <a:ext cx="729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体液容量过多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854000" y="2492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22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40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989000"/>
            <a:ext cx="42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257004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3141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111480" y="3794040"/>
            <a:ext cx="44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水过多（水中毒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437000"/>
            <a:ext cx="331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水过多（水肿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111480" y="4923000"/>
            <a:ext cx="484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水过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11DB-8EC5-4260-B9BE-D5BC3114D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外液容量明显减少的状态称为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88000" y="5877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1E98-F573-4406-A4C3-CE4EF86EA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失水大于失钠，血清钠高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 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高渗性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481F-641F-459A-879E-EEEC025F4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7310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丢失过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水过多 （尿崩症 ，渗透性利尿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水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、呼吸道丢失水过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8627-B1A6-4B1D-BEAA-B812E45E81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1183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Verdana"/>
              </a:rPr>
              <a:t>水与电解质平衡</a:t>
            </a:r>
            <a:br>
              <a:rPr sz="4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Water and electrolyte balance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1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体液的容量、化学成分、渗透压和分布保持相对恒定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59F0-1BCE-4BAF-A54E-CBD5C978C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内液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较少发生休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中枢神经系统功能障碍（脑出血所致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的变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比重高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钠含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轻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重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脱水热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8ABB-0583-48EE-9DC2-5EA19493C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失钠大于失水，血清钠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30mmol/L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0 mmol/L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伴有体液容量减少的病理过程称为低渗性脱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onic dehydra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35F8-7320-41E3-834C-54F01CBF9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55728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皮肤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消化道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肾丢失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实质性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期使用排钠利尿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不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47A4-A6EF-4110-8931-894DAF185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，细胞内液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细胞水肿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的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量：早期正常，重症病人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钠：肾失钠引起者↑，肾外原因引起者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休克倾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明显脱水外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口渴不明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0F25-63A0-4E3F-921B-03F4452B7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与钠等比例丢失，血钠浓度维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渗透压保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等渗性脱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so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7628-E9F1-4A2F-A345-6180D55A9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消化道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皮肤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腔内大量液体贮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F2E5-8B26-43AD-BF4A-1734F974D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↓，细胞内液容量无明显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休克倾向及脱水外貌介于上述两类之间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四）脱水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防治原发疾病，去除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液体疗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渗性脱水补高渗溶液为主，等渗性脱水补等渗溶液为主，高渗性脱水补水为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渗性脱水注意抗休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容量过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水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8930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在体内大量潴留，并伴有血清钠浓度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病理过程称为水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water intoxic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一节 水、电解质平衡的调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肾功能不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泌异常增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急性应激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些药物的作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低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分泌不当综合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医源性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3568-3CA3-462D-8C9B-1B3C4CE3E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水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颅内压增高， 脑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钠血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变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重增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01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水，加强排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盐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盐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alt poisoning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特点是血容量和血清钠均增高，血清钠浓度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医源性盐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原发性钠潴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细胞脱水，严重者可引起中枢神经系统功能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盐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使用利尿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透析治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水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过多的液体在组织间隙或体腔积聚称为水肿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em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在体腔中积聚又被命名为积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drop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4688-3D46-41AE-8D8D-0CA308996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15920" y="327672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1371600" y="228600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1828800"/>
            <a:ext cx="18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内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16120" y="472428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外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2971800" y="419112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336840" y="3906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336840" y="527832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间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590280" y="563868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水肿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4800600" y="5029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105520" y="480060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组织间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181480" y="59436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体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010280" y="60199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积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315200" y="38862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稀血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918480" y="17733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细胞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8D12-886F-4FBE-865F-542B55973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的分类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分布范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局部水肿， 全身水肿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生部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皮下水肿，脑水肿，肺水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病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性水肿，肾性水肿，肝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营养不良性水肿，内分泌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特发性水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8F54-36A0-4ECB-A295-CD20F92AD2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95280" y="364500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液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lu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11280" y="2781360"/>
            <a:ext cx="432000" cy="251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59280" y="220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内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racellular flui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9564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43280" y="4292640"/>
            <a:ext cx="194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外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extracellular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4716360" y="4149720"/>
            <a:ext cx="393840" cy="1752480"/>
          </a:xfrm>
          <a:custGeom>
            <a:avLst/>
            <a:gdLst>
              <a:gd name="textAreaLeft" fmla="*/ 251640 w 393840"/>
              <a:gd name="textAreaRight" fmla="*/ 394200 w 39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64120" y="3854520"/>
            <a:ext cx="33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间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interstitial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076720" y="5229360"/>
            <a:ext cx="35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s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体液的容量和分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EE37-E48F-43DC-BB0B-3BC72E086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"/>
          <p:cNvSpPr/>
          <p:nvPr/>
        </p:nvSpPr>
        <p:spPr>
          <a:xfrm>
            <a:off x="1547640" y="155736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3048120" y="152388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3352680" y="1905120"/>
            <a:ext cx="3733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7543800" y="1447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7086600" y="14479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752480" y="36576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2971800" y="32004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00400" y="3276720"/>
            <a:ext cx="396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7924680" y="3733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7162920" y="3276720"/>
            <a:ext cx="76176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Oval 12"/>
          <p:cNvSpPr/>
          <p:nvPr/>
        </p:nvSpPr>
        <p:spPr>
          <a:xfrm rot="20070000">
            <a:off x="62485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Oval 13"/>
          <p:cNvSpPr/>
          <p:nvPr/>
        </p:nvSpPr>
        <p:spPr>
          <a:xfrm rot="20070000">
            <a:off x="5867280" y="502884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14"/>
          <p:cNvSpPr/>
          <p:nvPr/>
        </p:nvSpPr>
        <p:spPr>
          <a:xfrm rot="1492800">
            <a:off x="41911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15"/>
          <p:cNvSpPr/>
          <p:nvPr/>
        </p:nvSpPr>
        <p:spPr>
          <a:xfrm rot="1492800">
            <a:off x="4572000" y="502920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Oval 16"/>
          <p:cNvSpPr/>
          <p:nvPr/>
        </p:nvSpPr>
        <p:spPr>
          <a:xfrm rot="1492800">
            <a:off x="51055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17"/>
          <p:cNvSpPr/>
          <p:nvPr/>
        </p:nvSpPr>
        <p:spPr>
          <a:xfrm rot="20070000">
            <a:off x="53341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143000" y="1523880"/>
            <a:ext cx="4572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1447920" y="36576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1371600" y="1523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1219320" y="1828800"/>
            <a:ext cx="304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809880" y="838080"/>
            <a:ext cx="27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毛细血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726240" y="43992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淋巴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1752480" y="172872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7696080" y="16527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2743200" y="233856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流体静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334120" y="233856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胶体渗透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8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3581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3851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42670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32"/>
          <p:cNvSpPr/>
          <p:nvPr/>
        </p:nvSpPr>
        <p:spPr>
          <a:xfrm flipV="1">
            <a:off x="60958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63244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65530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5"/>
          <p:cNvSpPr/>
          <p:nvPr/>
        </p:nvSpPr>
        <p:spPr>
          <a:xfrm flipV="1">
            <a:off x="67816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133800" y="270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5851440" y="2708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4419720" y="3581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2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4495680" y="3962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5638680" y="4038480"/>
            <a:ext cx="381240" cy="990720"/>
          </a:xfrm>
          <a:custGeom>
            <a:avLst/>
            <a:gdLst>
              <a:gd name="textAreaLeft" fmla="*/ 51120 w 381240"/>
              <a:gd name="textAreaRight" fmla="*/ 330120 w 3812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5181480" y="51814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24A8-AD25-4F5B-B1B0-A47D11BC4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影响血管内外液体交换的因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4200" y="2060280"/>
            <a:ext cx="7885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流体静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血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流体静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(20)                    (-10)             (3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胶体渗透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渗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胶渗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2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内流体静压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静脉淤血、阻塞、受压；动脉充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体渗透压下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蛋白质合成↓ ，丧失↑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分解↑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微血管壁通透性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炎症 ，过敏 ，其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障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淋巴管阻塞、 摘除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图片 7" descr="橡皮腿.jpg"/>
          <p:cNvPicPr/>
          <p:nvPr/>
        </p:nvPicPr>
        <p:blipFill>
          <a:blip r:embed="rId2"/>
          <a:stretch/>
        </p:blipFill>
        <p:spPr>
          <a:xfrm>
            <a:off x="6156360" y="2133720"/>
            <a:ext cx="26798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钠水潴留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0541-E3C1-4113-AC6E-BE57D146C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肾对钠水的排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球滤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效滤过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肾小球毛细血管血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血浆胶渗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囊内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小球滤过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透性  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血流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曲小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曲小管、集合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平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球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管失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702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球滤过率下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球病变致肾小球滤过面积明显↓；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有效循环血量明显↓致肾血流量↓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管重吸收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滤过分数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F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增加 ，钠水平衡调节激素改变（醛固酮↑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H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，心钠素↓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血流重分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C727-F394-4F89-8CA3-43FB501BA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71600" y="2133720"/>
            <a:ext cx="5461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感神经兴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990720" y="2286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355760" y="20988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3200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70360" y="20923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258920" y="3276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3276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946680" y="315900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5867280" y="22860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553080" y="251460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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543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7162920" y="38098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7543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800600" y="4648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管周围血浆胶体渗透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体静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7543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6019920" y="59436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钠水重吸收增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1619280" y="47628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升高的机制及作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F3B4-145F-4EA7-9529-A8442F961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肿发生机制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6021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219320" y="2819520"/>
            <a:ext cx="473040" cy="2554200"/>
          </a:xfrm>
          <a:custGeom>
            <a:avLst/>
            <a:gdLst>
              <a:gd name="textAreaLeft" fmla="*/ 302400 w 473040"/>
              <a:gd name="textAreaRight" fmla="*/ 473400 w 473040"/>
              <a:gd name="textAreaTop" fmla="*/ 66600 h 2554200"/>
              <a:gd name="textAreaBottom" fmla="*/ 2487600 h 25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676520" y="2209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组织液生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大于回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619280" y="52293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钠水潴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3352680" y="1905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809880" y="1676520"/>
            <a:ext cx="42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流体静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677120" y="213372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血浆胶体渗透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血浆蛋白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80000" y="2590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通透性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2987640" y="4221000"/>
            <a:ext cx="504720" cy="2376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598200" y="38448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FR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572000" y="3581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861080" y="34639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滤过面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4861080" y="3997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血流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348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重吸收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4572000" y="508464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034600" y="472428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2"/>
          <p:cNvSpPr/>
          <p:nvPr/>
        </p:nvSpPr>
        <p:spPr>
          <a:xfrm>
            <a:off x="5867280" y="5084640"/>
            <a:ext cx="358920" cy="1125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25720"/>
              <a:gd name="textAreaBottom" fmla="*/ 109656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6227640" y="486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醛固酮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6372360" y="537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946680" y="299232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淋巴回流受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钠素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68440" y="5300640"/>
            <a:ext cx="6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3854880" y="624204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血流重分布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常见水肿的特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肿液的性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漏出液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transudate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渗出液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udat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皮下水肿的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全身性水肿的分布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力效应 ，组织结构特点 ，局部血流动力学特点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6C38-1C24-4F3A-A5BF-D62283ADC0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144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dy flui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886200" y="2057400"/>
            <a:ext cx="469800" cy="1515960"/>
          </a:xfrm>
          <a:custGeom>
            <a:avLst/>
            <a:gdLst>
              <a:gd name="textAreaLeft" fmla="*/ 300240 w 469800"/>
              <a:gd name="textAreaRight" fmla="*/ 470160 w 469800"/>
              <a:gd name="textAreaTop" fmla="*/ 39240 h 1515960"/>
              <a:gd name="textAreaBottom" fmla="*/ 1476720 h 15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00720" y="1773360"/>
            <a:ext cx="12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35600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435640" y="2852640"/>
            <a:ext cx="431640" cy="12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12000" y="2708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940360" y="364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体液的化学成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利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稀释毒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送抗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利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细胞营养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组织器官功能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对症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并发症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要水钠代谢紊乱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7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0920" y="1413000"/>
          <a:ext cx="8353440" cy="4884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463760"/>
                <a:gridCol w="1241280"/>
                <a:gridCol w="1495440"/>
                <a:gridCol w="13845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等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中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原因机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丢失只补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失水过多饮水不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量等渗液丢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ADH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或肾功能降↓者摄水过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管或体内外液体交换失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外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内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清钠浓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浆渗透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临床特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休克，重症脱水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口渴，脱水热，中枢神经系统功能紊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介于高渗和低渗性脱水之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脑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要治疗原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高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水为主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兼顾补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等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轻症停止补水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症脱水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限制钠水的摄入，适当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61480" y="6380640"/>
            <a:ext cx="258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低于正常值   ↑于正常值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常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钾平衡及钾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新陈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细胞静息膜电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调节细胞内外的渗透压和酸碱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食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去路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肾排泄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多吃多排，少吃少排，不吃也排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血钾平衡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的跨细胞转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激素的作用 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胰岛素 ），酸碱平衡状态，渗透压，物质代谢状况 ，运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对钾排泄的调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影响远曲小管、集合小管排钾的调节因素 （细胞外液的钾浓度 ，醛固酮 ，远曲小管和集合管中尿液的流速和流 ，肾小管细胞管腔面跨膜电位，酸碱平衡状态 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结肠的排钾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二、钾代谢障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低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lt;3.5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称为低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o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排出过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的使用髓袢或噻嗪类利尿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管性酸中毒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盐皮质激素过多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透性利尿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镁缺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丢失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的渗透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rystalloid osmotic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钾、钠等离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lloid  osmotic 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蛋白质等大分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的渗透压与微粒数目有关，而与颗粒大小、电荷或质量无关。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向细胞内转移增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碱中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胰岛素使用过多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素能受体活动增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某些毒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钾血症型周期性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中枢神经系统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静息电位负值增大使兴奋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影响糖代谢，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P 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ATP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酶活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骨骼肌的影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表现：骨骼肌和胃肠道平滑肌肌无力、肌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机制：超级化阻滞引起肌细胞兴奋性降低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6" descr="锋电位"/>
          <p:cNvPicPr/>
          <p:nvPr/>
        </p:nvPicPr>
        <p:blipFill>
          <a:blip r:embed="rId2"/>
          <a:stretch/>
        </p:blipFill>
        <p:spPr>
          <a:xfrm>
            <a:off x="5940360" y="1268280"/>
            <a:ext cx="23814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血管系统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先增强后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556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肾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远曲小管上皮细胞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反应性降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髓质渗透压梯度的形成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小管上皮细胞肿胀、空泡变性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18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缺钾和低钾血症引起代谢性碱中毒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远曲小管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减少，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增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细胞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向细胞外释出，细胞外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转移入细胞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肾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重吸收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增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反常性酸性尿”（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paradoxial acidic urine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消除病因，积极治疗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补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  “</a:t>
            </a: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最好口服，缓慢滴注，见尿给钾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5.5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称为高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输入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排钾减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移出细胞外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中毒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缺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血糖合并胰岛素不足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溶血和组织坏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钾血症型周期性麻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肌肉组织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急性高钾血症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轻症 ：肌肉疼痛、肌震颤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症 ：去极化阻滞造成的肌无力、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慢性高钾血症 ：很少症状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E566-1925-41DA-A4D3-304332BB58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77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分布特点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细胞内液与细胞外液在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电解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差异很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内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 +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  <a:ea typeface="Arial"/>
              </a:rPr>
              <a:t>为主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外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Na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为主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组织间液和血液之间电解质成分相同，蛋白等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大分子物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有差异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812880"/>
            <a:ext cx="80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脏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先增高后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854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高钾血症常伴有代谢性酸中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细胞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内移，而细胞内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移向细胞外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管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增强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减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反常性碱性尿”（</a:t>
            </a:r>
            <a:r>
              <a:rPr b="0" lang="en-US" sz="3000" spc="-1" strike="noStrike">
                <a:solidFill>
                  <a:srgbClr val="3333ff"/>
                </a:solidFill>
                <a:latin typeface="Verdana"/>
              </a:rPr>
              <a:t>paradoxial alkaline urine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消除病因，积极治疗原发病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进入细胞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提高细胞外的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及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浓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胰岛素促进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进入细胞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钙盐拮抗钾的心肌毒性作用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限制钾的摄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的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阳离子交换树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促进钾从泌尿道排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透析疗法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病例分析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患儿，男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岁。全身水肿一周，发病前曾反复上呼吸道感染，咽痛，咳嗽，发热最高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水肿开始出现于面部，后波及全身。尿少。患儿既往体健，无肝疾病、高血压、慢性胃肠道疾病史。体检可见面部及全身凹陷性水肿，血压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30/100mmHg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余未见异常结果。血浆蛋白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在正常范围内）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红细胞压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ml%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低于正常值）。水肿液蛋白含量为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正常值范围内）。尿液检查可见管型及大量红细胞，尿蛋白（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+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该患儿出现何种类型的水肿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试分析该患儿水肿产生的机制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如果患儿水肿进一步发展可能对机体产生哪些不利影响？为什么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6680-2EF4-480D-A70D-F6255ADDF9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差异的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机制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细胞膜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以弥散方式通过，故细胞内外液电解质差异很大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Verdana"/>
              </a:rPr>
              <a:t>毛细血管壁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自由通过，大分子物质不能自由通过故血液与组织间隙间电解质成分相同，大分子物质有差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体液分布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A66E-A7DE-43C3-9F62-2A08616021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40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水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细胞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细胞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血管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血管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7668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55640" y="3645000"/>
            <a:ext cx="6500880" cy="8254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血浆渗透压为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80-310 mmol/L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在这个范围之内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等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低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低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高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高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体液分布"/>
          <p:cNvPicPr/>
          <p:nvPr/>
        </p:nvPicPr>
        <p:blipFill>
          <a:blip r:embed="rId2"/>
          <a:stretch/>
        </p:blipFill>
        <p:spPr>
          <a:xfrm>
            <a:off x="6564240" y="5013360"/>
            <a:ext cx="2579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8T06:48:13Z</dcterms:created>
  <dc:creator>glfeng</dc:creator>
  <dc:description/>
  <dc:language>en-US</dc:language>
  <cp:lastModifiedBy>hzg</cp:lastModifiedBy>
  <dcterms:modified xsi:type="dcterms:W3CDTF">2014-04-22T02:10:38Z</dcterms:modified>
  <cp:revision>613</cp:revision>
  <dc:subject/>
  <dc:title>第三章   水、电解质代谢障碍 (Disturbance of water and electrolyte  metabolism)</dc:title>
</cp:coreProperties>
</file>