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6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4203-0134-49A2-B150-CC6DEF6D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E4B3-B6BF-4422-9094-6FD04584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1B81-CB3E-4F83-98B2-4C13C981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5173-D5B7-4CA3-AC33-AB0306D2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C3C0-DE5C-44BD-ACC4-FCE2E216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F762-06C8-4A85-8C57-040EC1BA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E475-DD16-49DE-80B3-BEFA40BD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1587-FB99-4C21-B3CF-C89CBA79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B0EC-71D6-4AE7-ADC0-1B3F28FA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23D4-B20A-4CFB-8846-B8B710A0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88CF-2188-4CFB-B686-16AC75C0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86CA-0B7C-414D-81D4-F7458CD5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57E5-2A8A-487E-B087-FADC8E6D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0294-3950-4B50-837F-F2442143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33D2-8014-48B0-8E38-8911B6B8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5D61-7372-4068-A166-9FECF677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3BB5-7F9A-438E-9A43-67A664E5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74DDA-2CDF-4E6F-A465-11C8EB1C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2D4EF-0625-49CC-9A60-53E8AB74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F5997-6106-4132-865C-9C083745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0C887-DE2F-47D5-BC93-2902C814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75D4C-224E-4985-AFB6-F68F327C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2EA-2F32-4970-881F-4D38DC24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9B224-FA48-4A3D-98F0-757E128F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13442-042E-44D2-8829-BC5052DE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8FF9A-E100-4CF3-8F70-ABB534E6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12296-7EA1-40DB-B6C4-1186E20A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5F1FA-B02D-4EC9-BECD-C103679C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8429A-29CB-4B30-997D-2ABC349C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137EC-189F-4F23-BCE9-D5A8279F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C2C06-E0E0-4F77-B481-2B0790DD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AC91E-AB7C-485B-8C45-C12ABDA4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02366-B9EB-46D4-8CA1-3CAACF77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8075-B825-44F3-85CB-A4F2C47A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4BA92-C376-4401-8F10-E3B8FBD8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9C83C-6AB0-471F-ABA0-BCA62DED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2A102-50B8-4A6A-901E-1E7E2F46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CC322-63A1-4343-AC9D-B07CC3A3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0F5A8-85CF-4785-9EE2-ECBFF6CD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04CA8-2D97-40DA-BD04-3A286F69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90985-0E84-4A80-A1F1-A4060A71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2CB41-5FFC-44B8-8F4D-D8409BD2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B7A01-D17A-48BB-BE8C-C0FAF23F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C76-0616-4C67-AC57-8684035A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E49-A4DB-4292-9C58-01D7CBBD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81B-9E3E-48BD-A2F1-BCE1E2AC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2491-D7C1-4EC3-83E4-865AECEB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394-5EF0-410C-B50F-F194BAB7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A47B-6A99-439E-B904-67C91F952F2C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3010-C3F4-48CA-90CE-68BF0E45ECCA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48360" y="5083200"/>
            <a:ext cx="2195640" cy="177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60640" cy="234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2734-5982-4721-B5C4-B31D0E3359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B1CA-700D-4A5C-AC5B-E08FB60818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sompo-japan.co.jp/travel/images/trav03.gif&amp;imgrefurl=http://www.sompo-japan.co.jp/travel/trav005.html&amp;h=171&amp;w=200&amp;sz=6&amp;tbnid=o5zIk1UZvlIJ:&amp;tbnh=84&amp;tbnw=99&amp;hl=zh-CN&amp;start=44&amp;prev=/images%3Fq%3D%25E7%2596%25BE%25E7%2597%2585%26start%3D40%26svnum%3D10%26hl%3Dzh-CN%26lr%3D%26newwindow%3D1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131720550&amp;tn=baiduimagedetail&amp;word=&#28508;&#27700;&amp;in=3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bigchina.net/ebcps/2/md/1376492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oufa.cn/special/14/2/2515035887.htm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ho.int/e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病理生理学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380680" y="2708280"/>
            <a:ext cx="43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athophysiolog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亚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sub-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844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心处于健康与疾病之间的健康低质量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411280" y="2781360"/>
          <a:ext cx="4033800" cy="33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781360"/>
                    <a:ext cx="40338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disease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在一定病因作用下，自稳调节紊乱导致的异常生命活动过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症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ymptom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指疾病所引起的患者主观感觉的异常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ig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各种检查方法在患病机体发现的客观存在的异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病理过程（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pathological process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多种疾病中出现的共同的成套的功能、代谢和结构变化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1280" y="515880"/>
            <a:ext cx="71136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疾病与病理过程的区别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2226960"/>
            <a:ext cx="828036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疾病可包含几个病理过程，故病理过程是疾病的组成成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病理过程可以由不同原因引起，而疾病由特定原因引起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990720"/>
            <a:ext cx="7921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病因学概论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2708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4375080"/>
            <a:ext cx="1952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4437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健康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44370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700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患病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788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52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03640" y="4508640"/>
            <a:ext cx="2442960" cy="457200"/>
          </a:xfrm>
          <a:custGeom>
            <a:avLst/>
            <a:gdLst>
              <a:gd name="textAreaLeft" fmla="*/ 0 w 2442960"/>
              <a:gd name="textAreaRight" fmla="*/ 2443320 w 244296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501336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3860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522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5516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386064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4200" y="32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诱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2960" y="9208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3840" y="1989000"/>
            <a:ext cx="35460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疾病发生的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病因 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isease cause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，是指引起某一疾病必不可少的、决定疾病特异性的致病因素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物理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暴力、极端的温度、极端的大气压、噪声、电流、紫外线、电离辐射等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92280"/>
            <a:ext cx="3384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化学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强酸、强碱、毒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7320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一章   绪  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25520" y="2637000"/>
            <a:ext cx="668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introduction to pathophysiolo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性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病原微生物和寄生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特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一定的入侵门户和定位；病原体和机体相互作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806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鸡瘟病毒对人无致病作用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050920" y="1996920"/>
            <a:ext cx="41054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000" y="1537920"/>
            <a:ext cx="7173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营养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必需物质的缺乏或过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4098960"/>
            <a:ext cx="26575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640" y="2133360"/>
            <a:ext cx="45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、心理和社会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古罗马医生盖仑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Gale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在其著作中就叙述了关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精神卫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问题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743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遗传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染色体畸变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2565360"/>
            <a:ext cx="37512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8109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先天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损害正常胎儿发育的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077240" y="3645000"/>
            <a:ext cx="13269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．免疫性因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超敏反应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hypersensitivity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自身免疫性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autoimmune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免疫缺陷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immunodeficiency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发生的条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条件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(conditio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是指在疾病的病因作用于机体的前提下，能够促进或阻碍疾病发生发展的各种因素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1960200" y="438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00360" y="3860640"/>
            <a:ext cx="576360" cy="1584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34200" y="3586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86400" y="510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条件对疾病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抑制疾病发生发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促进疾病发生发展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3500280"/>
            <a:ext cx="720108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够加强某一疾病原因的作用，从而促进疾病发生的因素，称之为诱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precipitating factor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四节 发病学概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3736800"/>
            <a:ext cx="741672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病学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athogenesi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是研究疾病发生、发展及转归的普遍规律和机制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148428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　病理生理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内容及其学科性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989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、疾病发生、发展的一般规律及机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机体的屏障防御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外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内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白细胞、组织细胞、淋巴结、肝、肺、肾、脾、血脑屏障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blood-brain barrier)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和胎盘屏障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placenta barrier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致病因素的蔓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组织性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神经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体液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自稳调节的紊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自我调节机制破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原始病因使机体某一部分发生损害后，这种损害又可以作为发病学原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pathogenetic cause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而引起另一些变化，后者又可作为新的发病学原因而引起新的变化。如此，原因和结果交替不已，使疾病过程不断发展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00400" y="609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爆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11430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52388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受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20574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/>
          </p:cNvPr>
          <p:cNvSpPr/>
          <p:nvPr/>
        </p:nvSpPr>
        <p:spPr>
          <a:xfrm>
            <a:off x="3200400" y="2514600"/>
            <a:ext cx="122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出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0481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3505320"/>
            <a:ext cx="38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循环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4114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464832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血压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18148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回心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58320" y="68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167652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1       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2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342900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3      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401760"/>
            <a:ext cx="25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始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initial caus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144792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2362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环节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eading lin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72720" y="2666880"/>
            <a:ext cx="27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发病学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pathogenetic cause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果转化的发展方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恶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vicious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良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benign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57240" indent="-490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的损伤和抗损伤反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lnSpc>
                <a:spcPct val="7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损伤和抗损伤反应间并无严格界限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矛盾的两个方面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3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动态变化过程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4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代偿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compensation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和适应反应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adaptive respons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是机体抗损伤反应的重要方面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821520" y="620640"/>
            <a:ext cx="7383960" cy="6082560"/>
            <a:chOff x="821520" y="620640"/>
            <a:chExt cx="7383960" cy="6082560"/>
          </a:xfrm>
        </p:grpSpPr>
        <p:sp>
          <p:nvSpPr>
            <p:cNvPr id="294" name=""/>
            <p:cNvSpPr/>
            <p:nvPr/>
          </p:nvSpPr>
          <p:spPr>
            <a:xfrm rot="6074400">
              <a:off x="7179840" y="3586320"/>
              <a:ext cx="1000080" cy="872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8000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821520" y="620640"/>
              <a:ext cx="7102080" cy="6082560"/>
              <a:chOff x="821520" y="620640"/>
              <a:chExt cx="7102080" cy="6082560"/>
            </a:xfrm>
          </p:grpSpPr>
          <p:sp>
            <p:nvSpPr>
              <p:cNvPr id="296" name=""/>
              <p:cNvSpPr/>
              <p:nvPr/>
            </p:nvSpPr>
            <p:spPr>
              <a:xfrm>
                <a:off x="7437960" y="383688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异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821520" y="620640"/>
                <a:ext cx="6822720" cy="6082560"/>
                <a:chOff x="821520" y="620640"/>
                <a:chExt cx="6822720" cy="60825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778760" y="1246320"/>
                  <a:ext cx="5474520" cy="46479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cc66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924360" y="620640"/>
                  <a:ext cx="1264320" cy="590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336400">
                  <a:off x="6224760" y="1333440"/>
                  <a:ext cx="132732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3183200">
                  <a:off x="2196720" y="5554440"/>
                  <a:ext cx="1485720" cy="761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4810400">
                  <a:off x="977040" y="4107600"/>
                  <a:ext cx="997200" cy="9669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8521200">
                  <a:off x="5728680" y="5389200"/>
                  <a:ext cx="126108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9479000">
                  <a:off x="1929240" y="1147680"/>
                  <a:ext cx="103140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6834800">
                  <a:off x="888840" y="2464560"/>
                  <a:ext cx="990720" cy="960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59200" y="1627200"/>
                  <a:ext cx="1400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单核吞噬细胞系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847120" y="2541600"/>
                  <a:ext cx="94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物理性屏障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16320" y="390996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状态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50600" y="512928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免疫反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35720" y="459900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炎症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80600" y="3608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凝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48560" y="2465280"/>
                  <a:ext cx="109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化学解毒作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42680" y="6969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射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616800" y="14749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微生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060600" y="55897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0400" y="58183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热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141560" y="43704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畸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983160" y="27702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癌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01040" y="1322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创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21120" y="2625840"/>
                  <a:ext cx="1269360" cy="197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疾病发生的基本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神经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体液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细胞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分子机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研究对象及任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2556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（患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病机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328464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1240" y="306864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病人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ti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07040" y="41497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疾病模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nimal mod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076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机能代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9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对象为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55960" y="5373720"/>
            <a:ext cx="42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务为揭示机制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55640" y="692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二、疾病转归的一般规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疾病的转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24703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4437000"/>
            <a:ext cx="16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1916280"/>
            <a:ext cx="31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285264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2276640"/>
            <a:ext cx="299880" cy="1066680"/>
          </a:xfrm>
          <a:custGeom>
            <a:avLst/>
            <a:gdLst>
              <a:gd name="textAreaLeft" fmla="*/ 191520 w 299880"/>
              <a:gd name="textAreaRight" fmla="*/ 300240 w 299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恢复健康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001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康复 （痊愈 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不完全康复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55640" y="836640"/>
            <a:ext cx="568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二）死亡（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五节   死 亡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死亡的概念和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机体作为一个整体的功能的永久停止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3500280"/>
            <a:ext cx="358920" cy="129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200" y="328464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理性死亡（老死亡，衰老死亡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47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病理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6572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08360" y="422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意外所引起急性死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0836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重要器官不可恢复性损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08360" y="537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慢性消耗性疾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传统的死亡概念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濒死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临床死亡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生物学死亡期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脑死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00100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脑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包括脑干在内的全脑功能丧失的不可逆转的状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多数学者以脑干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stem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确定为脑死亡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死亡的判断标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5040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持续深昏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呼吸停止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无自主运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脑干反射消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大脑电沉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electrocerebral silenc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其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924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及时判断脑死亡的意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969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准确地判断脑死亡利于判断复苏的预后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体材料的利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确定终止复苏抢救的界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病理生理学的教学内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1820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疾病概论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Introduction to disease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病理过程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pathological process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系统器官病理生理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ystemic pathophysiology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病理生理学的学科性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2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综合性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桥梁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实践性较强的学科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343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病理生理学的研究方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动物实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nimal experimen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子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临床研究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linical observation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不损害病人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健康和疾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2421000"/>
            <a:ext cx="867564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健康不仅没有疾病和病痛，而且在躯体上、心理上和社会上处于完好状态。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身心健康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WHO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5373720"/>
            <a:ext cx="4011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15:08:06Z</dcterms:created>
  <dc:creator>aa</dc:creator>
  <dc:description/>
  <dc:language>en-US</dc:language>
  <cp:lastModifiedBy>hzg</cp:lastModifiedBy>
  <dcterms:modified xsi:type="dcterms:W3CDTF">2014-04-22T02:29:22Z</dcterms:modified>
  <cp:revision>210</cp:revision>
  <dc:subject/>
  <dc:title>病理生理学                  (pathophysiology) </dc:title>
</cp:coreProperties>
</file>