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40E7-C709-4470-A703-1EB3FB959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0A7E-F87E-428B-A4E6-8CA5374A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0CD1-9B5E-4DD5-92A7-3C4DF968B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AE6D-B7B8-4BD2-BFF7-9F7A7EB47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5A68-8E98-4CEE-8AB8-38378E33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E23C-3D86-46D1-9AFD-890309F8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A9D8-29C2-4766-9337-9F163211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BBF3-FB77-4EEB-BBE8-198AD04D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078C-FB5E-45D8-B94C-07FA9970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D297-D9C6-4C77-847B-3ACF1686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D40A-AF20-4CE8-B930-FEBAAD49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B37A-1E95-4057-8763-0512043F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95CE-B1A0-4C20-BC3A-659994D4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05CF-4490-4643-8728-30B3F76E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EE09-B57C-4388-995E-E0E9500C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8120-F049-44F6-BFF9-6F194F741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5419-9864-441F-B8FB-9D592355D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49ECF-D877-4E90-AC48-1DADECEED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51451-2684-49EE-A539-BCFB21F7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67CD0-F998-4308-A074-B2D860B7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A136F-69B1-41BF-A110-7BC40DC2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54477-D425-4112-905F-71B21315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3E80-B7C1-4753-94E6-9ED68DFC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DEB60-086C-4FCD-9F1D-73E8A848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D4B8E-6597-4A05-8606-52C03CC8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5B4F8-7F53-43B4-921B-B80D3E44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6918A-A343-40EB-B96F-BFE7E7E4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DA90A-C682-49B2-B82F-3DD13A6B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C386C-98D2-489E-98A2-D68434A8A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42FBB-A3E8-4D46-BAD9-A83E701BC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EE39-95A2-4A48-B655-E0CB2472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85EB-A9FB-4619-9065-8C40FA35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B74C-3C62-4AD7-83AF-DB01EA6C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C814-0F4D-4A08-B63E-32DFDDA5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EB45-8C85-4CCD-9539-67E07803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8EE6-ABAE-4D11-967B-0344CA69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667F-AA6B-4219-8692-94EAA2254CE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F676-A560-4472-9ADF-7D1A0C6E5EC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EA42-38FF-4849-BE08-615A49649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7C98-71C4-4991-B1D7-43A5D8409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1342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第二章 水、电解质代谢紊乱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58560" y="4797000"/>
            <a:ext cx="7010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张立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1317600" y="2924280"/>
            <a:ext cx="658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disturbance of water and electrolyte metabolis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二节 水钠平衡及水钠代谢紊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83E8-7186-4F9E-8C33-2A56830CF5A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水的生理功能和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物质代谢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调节体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润滑作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FD2F-E4E0-45D0-B843-30984680CD6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水的生理功能和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来源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000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～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500ml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饮水、食物含水和代谢水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5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消化道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粪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皮肤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显性汗和非显性汗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肺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呼吸蒸发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肾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尿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DE84-3C5C-4C4D-8666-4D4C29D8032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钠的生理功能和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钠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维持细胞外液的渗透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参与神经、肌肉、心肌细胞的动作电位的形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参与新陈代谢和生理功能活动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ACC8-CFAB-4C85-BB46-9EE70B27257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钠的生理功能和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来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食盐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肾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多吃多排，少吃少排，不吃不排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汗液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消化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C820-33A4-4F28-954A-B1EBFAA668B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152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三）水钠代谢的调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渴感中枢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刺激因素：血浆渗透压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↑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抗利尿激素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浆渗透压↑，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容量↓，应激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醛固酮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容量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华文行楷"/>
              </a:rPr>
              <a:t>↓</a:t>
            </a:r>
            <a:r>
              <a:rPr b="0" lang="en-US" sz="2700" spc="-1" strike="noStrike">
                <a:solidFill>
                  <a:srgbClr val="ff0066"/>
                </a:solidFill>
                <a:latin typeface="黑体"/>
                <a:ea typeface="华文行楷"/>
              </a:rPr>
              <a:t>,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Na</a:t>
            </a:r>
            <a:r>
              <a:rPr b="0" lang="en-US" sz="27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↓ 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0" lang="en-US" sz="27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心钠素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容量↑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8264-CEB2-4175-92F2-402E374E1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水、钠代谢紊乱的分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1280" y="2852640"/>
            <a:ext cx="729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水钠代谢紊乱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1692360" y="2565360"/>
            <a:ext cx="287280" cy="2087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780920" y="3860640"/>
            <a:ext cx="729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体液容量过多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854000" y="2492280"/>
            <a:ext cx="729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2627280" y="2276640"/>
            <a:ext cx="360360" cy="100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2700360" y="4076640"/>
            <a:ext cx="360360" cy="100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1989000"/>
            <a:ext cx="42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高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3040200" y="2570040"/>
            <a:ext cx="35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低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3059280" y="31417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等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3111480" y="3794040"/>
            <a:ext cx="44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低渗性水过多（水中毒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3132000" y="4437000"/>
            <a:ext cx="3311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等渗性水过多（水肿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111480" y="4923000"/>
            <a:ext cx="4845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高渗性水过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D015-AEA2-4DE4-8CDB-68A805FFD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外液容量明显减少的状态称为脱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dehydration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6588000" y="5877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6684-D51F-4E19-A7D1-21D8F0318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渗性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2205000"/>
            <a:ext cx="8001000" cy="31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失水大于失钠，血清钠高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10 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伴有体液容量减少的病理过程称为高渗性脱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ertonic dehydratio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4466-A62B-4966-896C-1B27C196C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484200"/>
            <a:ext cx="731052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摄入不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丢失过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肾丢失水过多 （尿崩症 ，渗透性利尿 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消化道丢失水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皮肤、呼吸道丢失水过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4A14-2331-4919-9BAF-E20FEF4B260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000" y="380520"/>
            <a:ext cx="81183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Verdana"/>
              </a:rPr>
              <a:t>水与电解质平衡</a:t>
            </a:r>
            <a:br>
              <a:rPr sz="4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Water and electrolyte balance)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2565360"/>
            <a:ext cx="8001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Verdana"/>
              </a:rPr>
              <a:t>体液的容量、化学成分、渗透压和分布保持相对恒定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45A1-9411-462A-BECA-586E548F8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内液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，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外液</a:t>
            </a: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↓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；较少发生休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口渴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中枢神经系统功能障碍（脑出血所致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的变化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量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，比重高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钠含量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：轻症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，重症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脱水热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C425-D9F1-4C11-9995-B3A22F7F7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低渗性脱水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失钠大于失水，血清钠低于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30mmol/L,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血浆渗透压低于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80 mmol/L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伴有体液容量减少的病理过程称为低渗性脱水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ypotonic dehydration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0A4C-9F51-47F2-ADFE-A8A32620D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280" y="55728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经皮肤丢失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消化道丢失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经肾丢失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实质性疾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长期使用排钠利尿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皮质功能不全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6E9F-88A1-4062-8545-15B13FD91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细胞外液</a:t>
            </a:r>
            <a:r>
              <a:rPr b="0" lang="zh-CN" sz="2900" spc="-1" strike="noStrike">
                <a:solidFill>
                  <a:srgbClr val="ff0000"/>
                </a:solidFill>
                <a:latin typeface="黑体"/>
                <a:ea typeface="黑体"/>
              </a:rPr>
              <a:t>↓↓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 ，细胞内液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细胞水肿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的变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尿量：早期正常，重症病人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尿钠：肾失钠引起者↑，肾外原因引起者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休克倾向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明显脱水外貌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口渴不明显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83F2-6AB8-4CBD-BD42-69B63A2A0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等渗性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800100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水与钠等比例丢失，血钠浓度维持在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3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mol/L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血渗透压保持在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1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）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伴有体液容量减少的病理过程称为等渗性脱水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isotonic dehydration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5B50-F0AB-4AA0-AFBA-FAA972B03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经消化道丢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经皮肤丢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腔内大量液体贮留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065F-F220-4241-9871-609DBA1AA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外液↓，细胞内液容量无明显变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口渴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↓ ，尿钠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休克倾向及脱水外貌介于上述两类之间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四）脱水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防治原发疾病，去除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液体疗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低渗性脱水补高渗溶液为主，等渗性脱水补等渗溶液为主，高渗性脱水补水为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低渗性脱水注意抗休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其他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体液容量过多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水中毒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7893000" cy="32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水在体内大量潴留，并伴有血清钠浓度低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3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低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的病理过程称为水中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water intoxicatio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一节 水、电解质平衡的调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肾功能不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分泌异常增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急性应激状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些药物的作用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皮质功能低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分泌不当综合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医源性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用量过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BD6A-6971-46AD-845D-245299E38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4842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水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颅内压增高， 脑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低钠血症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液变化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↓ ，尿钠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重增加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中毒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0010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禁水，加强排水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盐中毒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盐中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salt poisoning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的特点是血容量和血清钠均增高，血清钠浓度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医源性盐用量过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原发性钠潴留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00100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细胞脱水，严重者可引起中枢神经系统功能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盐中毒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使用利尿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透析治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三）水肿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过多的液体在组织间隙或体腔积聚称为水肿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ema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液在体腔中积聚又被命名为积水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ydrops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A0FB-1BB9-4CC2-A329-9382F0677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115920" y="3276720"/>
            <a:ext cx="13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体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1371600" y="2286000"/>
            <a:ext cx="304920" cy="2819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752480" y="1828800"/>
            <a:ext cx="181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内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716120" y="4724280"/>
            <a:ext cx="13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外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2971800" y="4191120"/>
            <a:ext cx="152280" cy="1752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3336840" y="3906720"/>
            <a:ext cx="15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3336840" y="5278320"/>
            <a:ext cx="15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组织间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3590280" y="5638680"/>
            <a:ext cx="8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水肿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AutoShape 10"/>
          <p:cNvSpPr/>
          <p:nvPr/>
        </p:nvSpPr>
        <p:spPr>
          <a:xfrm>
            <a:off x="4800600" y="50292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5105520" y="4800600"/>
            <a:ext cx="17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</a:rPr>
              <a:t>组织间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5181480" y="59436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</a:rPr>
              <a:t>体腔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7010280" y="6019920"/>
            <a:ext cx="10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积水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7315200" y="38862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稀血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6918480" y="1773360"/>
            <a:ext cx="17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细胞水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425D-A163-4BB1-A712-DB6BF9219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的分类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分布范围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局部水肿， 全身水肿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发生部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皮下水肿，脑水肿，肺水肿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发病原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性水肿，肾性水肿，肝性水肿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营养不良性水肿，内分泌性水肿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特发性水肿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1947-87EE-4573-B7DE-9F681CE24B0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395280" y="3645000"/>
            <a:ext cx="18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液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dy flui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2411280" y="2781360"/>
            <a:ext cx="432000" cy="2519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059280" y="220500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内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ntracellular flui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995640" y="2781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843280" y="4292640"/>
            <a:ext cx="1944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外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extracellular flui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16"/>
          <p:cNvSpPr/>
          <p:nvPr/>
        </p:nvSpPr>
        <p:spPr>
          <a:xfrm>
            <a:off x="4716360" y="4149720"/>
            <a:ext cx="393840" cy="1752480"/>
          </a:xfrm>
          <a:custGeom>
            <a:avLst/>
            <a:gdLst>
              <a:gd name="textAreaLeft" fmla="*/ 251640 w 393840"/>
              <a:gd name="textAreaRight" fmla="*/ 394200 w 3938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5064120" y="3854520"/>
            <a:ext cx="339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间液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interstitial flui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5076720" y="5229360"/>
            <a:ext cx="357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lasm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体液的容量和分布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血管内外液体交换障碍</a:t>
            </a:r>
            <a:r>
              <a:rPr b="1" lang="en-US" sz="3000" spc="-1" strike="noStrike">
                <a:solidFill>
                  <a:srgbClr val="3333ff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组织液的生成 大于回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2466-331B-4A85-BB3C-BF259B9F1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Line 2"/>
          <p:cNvSpPr/>
          <p:nvPr/>
        </p:nvSpPr>
        <p:spPr>
          <a:xfrm>
            <a:off x="1547640" y="1557360"/>
            <a:ext cx="1524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3048120" y="1523880"/>
            <a:ext cx="30456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3352680" y="1905120"/>
            <a:ext cx="3733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7543800" y="144792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Line 6"/>
          <p:cNvSpPr/>
          <p:nvPr/>
        </p:nvSpPr>
        <p:spPr>
          <a:xfrm flipH="1">
            <a:off x="7086600" y="1447920"/>
            <a:ext cx="45720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>
            <a:off x="1752480" y="36576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Line 8"/>
          <p:cNvSpPr/>
          <p:nvPr/>
        </p:nvSpPr>
        <p:spPr>
          <a:xfrm flipV="1">
            <a:off x="2971800" y="3200400"/>
            <a:ext cx="30492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Line 9"/>
          <p:cNvSpPr/>
          <p:nvPr/>
        </p:nvSpPr>
        <p:spPr>
          <a:xfrm>
            <a:off x="3200400" y="3276720"/>
            <a:ext cx="3962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7924680" y="37339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Line 11"/>
          <p:cNvSpPr/>
          <p:nvPr/>
        </p:nvSpPr>
        <p:spPr>
          <a:xfrm>
            <a:off x="7162920" y="3276720"/>
            <a:ext cx="76176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Oval 12"/>
          <p:cNvSpPr/>
          <p:nvPr/>
        </p:nvSpPr>
        <p:spPr>
          <a:xfrm rot="20070000">
            <a:off x="6248520" y="56386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Oval 13"/>
          <p:cNvSpPr/>
          <p:nvPr/>
        </p:nvSpPr>
        <p:spPr>
          <a:xfrm rot="20070000">
            <a:off x="5867280" y="5028840"/>
            <a:ext cx="16524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Oval 14"/>
          <p:cNvSpPr/>
          <p:nvPr/>
        </p:nvSpPr>
        <p:spPr>
          <a:xfrm rot="1492800">
            <a:off x="4191120" y="56386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Oval 15"/>
          <p:cNvSpPr/>
          <p:nvPr/>
        </p:nvSpPr>
        <p:spPr>
          <a:xfrm rot="1492800">
            <a:off x="4572000" y="5029200"/>
            <a:ext cx="16524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Oval 16"/>
          <p:cNvSpPr/>
          <p:nvPr/>
        </p:nvSpPr>
        <p:spPr>
          <a:xfrm rot="1492800">
            <a:off x="5105520" y="42670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Oval 17"/>
          <p:cNvSpPr/>
          <p:nvPr/>
        </p:nvSpPr>
        <p:spPr>
          <a:xfrm rot="20070000">
            <a:off x="5334120" y="42670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Oval 18"/>
          <p:cNvSpPr/>
          <p:nvPr/>
        </p:nvSpPr>
        <p:spPr>
          <a:xfrm>
            <a:off x="1143000" y="1523880"/>
            <a:ext cx="45720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Line 19"/>
          <p:cNvSpPr/>
          <p:nvPr/>
        </p:nvSpPr>
        <p:spPr>
          <a:xfrm>
            <a:off x="1447920" y="365760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Line 20"/>
          <p:cNvSpPr/>
          <p:nvPr/>
        </p:nvSpPr>
        <p:spPr>
          <a:xfrm>
            <a:off x="1371600" y="15238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Oval 21"/>
          <p:cNvSpPr/>
          <p:nvPr/>
        </p:nvSpPr>
        <p:spPr>
          <a:xfrm>
            <a:off x="1219320" y="1828800"/>
            <a:ext cx="30456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22"/>
          <p:cNvSpPr/>
          <p:nvPr/>
        </p:nvSpPr>
        <p:spPr>
          <a:xfrm>
            <a:off x="3809880" y="838080"/>
            <a:ext cx="27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毛细血管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6726240" y="439920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淋巴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1752480" y="1728720"/>
            <a:ext cx="13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7696080" y="165276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静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 Box 26"/>
          <p:cNvSpPr/>
          <p:nvPr/>
        </p:nvSpPr>
        <p:spPr>
          <a:xfrm>
            <a:off x="2743200" y="2338560"/>
            <a:ext cx="23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流体静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ext Box 27"/>
          <p:cNvSpPr/>
          <p:nvPr/>
        </p:nvSpPr>
        <p:spPr>
          <a:xfrm>
            <a:off x="5334120" y="2338560"/>
            <a:ext cx="28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胶体渗透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28"/>
          <p:cNvSpPr/>
          <p:nvPr/>
        </p:nvSpPr>
        <p:spPr>
          <a:xfrm>
            <a:off x="327672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Line 29"/>
          <p:cNvSpPr/>
          <p:nvPr/>
        </p:nvSpPr>
        <p:spPr>
          <a:xfrm>
            <a:off x="35812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30"/>
          <p:cNvSpPr/>
          <p:nvPr/>
        </p:nvSpPr>
        <p:spPr>
          <a:xfrm>
            <a:off x="3851280" y="3284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Line 31"/>
          <p:cNvSpPr/>
          <p:nvPr/>
        </p:nvSpPr>
        <p:spPr>
          <a:xfrm>
            <a:off x="42670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Line 32"/>
          <p:cNvSpPr/>
          <p:nvPr/>
        </p:nvSpPr>
        <p:spPr>
          <a:xfrm flipV="1">
            <a:off x="60958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Line 33"/>
          <p:cNvSpPr/>
          <p:nvPr/>
        </p:nvSpPr>
        <p:spPr>
          <a:xfrm flipV="1">
            <a:off x="63244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Line 34"/>
          <p:cNvSpPr/>
          <p:nvPr/>
        </p:nvSpPr>
        <p:spPr>
          <a:xfrm flipV="1">
            <a:off x="65530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Line 35"/>
          <p:cNvSpPr/>
          <p:nvPr/>
        </p:nvSpPr>
        <p:spPr>
          <a:xfrm flipV="1">
            <a:off x="67816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36"/>
          <p:cNvSpPr/>
          <p:nvPr/>
        </p:nvSpPr>
        <p:spPr>
          <a:xfrm>
            <a:off x="3133800" y="2708280"/>
            <a:ext cx="17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37"/>
          <p:cNvSpPr/>
          <p:nvPr/>
        </p:nvSpPr>
        <p:spPr>
          <a:xfrm>
            <a:off x="5851440" y="27082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 Box 38"/>
          <p:cNvSpPr/>
          <p:nvPr/>
        </p:nvSpPr>
        <p:spPr>
          <a:xfrm>
            <a:off x="4419720" y="35812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(2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AutoShape 39"/>
          <p:cNvSpPr/>
          <p:nvPr/>
        </p:nvSpPr>
        <p:spPr>
          <a:xfrm>
            <a:off x="4495680" y="396252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40"/>
          <p:cNvSpPr/>
          <p:nvPr/>
        </p:nvSpPr>
        <p:spPr>
          <a:xfrm>
            <a:off x="5638680" y="4038480"/>
            <a:ext cx="381240" cy="990720"/>
          </a:xfrm>
          <a:custGeom>
            <a:avLst/>
            <a:gdLst>
              <a:gd name="textAreaLeft" fmla="*/ 51120 w 381240"/>
              <a:gd name="textAreaRight" fmla="*/ 330120 w 38124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AutoShape 41"/>
          <p:cNvSpPr/>
          <p:nvPr/>
        </p:nvSpPr>
        <p:spPr>
          <a:xfrm>
            <a:off x="5181480" y="518148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94D7-BD21-411E-8BC8-CB5CC6F11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00100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影响血管内外液体交换的因素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74200" y="2060280"/>
            <a:ext cx="7885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有效流体静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毛细血管血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组织间流体静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(20)                    (-10)             (3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有效胶体渗透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血浆胶渗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组织间胶渗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25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）                   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15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）          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1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淋巴回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800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血管内外液体交换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毛细血管内流体静压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静脉淤血、阻塞、受压；动脉充血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血浆胶体渗透压下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蛋白质合成↓ ，丧失↑</a:t>
            </a:r>
            <a:r>
              <a:rPr b="0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分解↑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微血管壁通透性增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炎症 ，过敏 ，其他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淋巴回流障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淋巴管阻塞、 摘除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图片 7" descr="橡皮腿.jpg"/>
          <p:cNvPicPr/>
          <p:nvPr/>
        </p:nvPicPr>
        <p:blipFill>
          <a:blip r:embed="rId2"/>
          <a:stretch/>
        </p:blipFill>
        <p:spPr>
          <a:xfrm>
            <a:off x="6156360" y="2133720"/>
            <a:ext cx="267984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血管内外液体交换障碍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组织液的生成 大于回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体内外液体交换障碍</a:t>
            </a:r>
            <a:r>
              <a:rPr b="1" lang="en-US" sz="3000" spc="-1" strike="noStrike">
                <a:solidFill>
                  <a:srgbClr val="3333ff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钠水潴留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0644-4DBB-424C-8BF5-1DC4C3E10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肾对钠水的排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肾小球滤过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有效滤过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肾小球毛细血管血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血浆胶渗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囊内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肾小球滤过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透性  面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肾血流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近曲小管重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远曲小管、集合管重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平衡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球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管失衡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084720" y="2708280"/>
            <a:ext cx="27021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体内外液体交换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小球滤过率下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肾小球病变致肾小球滤过面积明显↓；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有效循环血量明显↓致肾血流量↓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小管重吸收增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滤过分数（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FF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增加 ，钠水平衡调节激素改变（醛固酮↑，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DH 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↑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，心钠素↓）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血流重分布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D680-0D57-4FA5-8F52-8BE2E0E5D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 Box 2"/>
          <p:cNvSpPr/>
          <p:nvPr/>
        </p:nvSpPr>
        <p:spPr>
          <a:xfrm>
            <a:off x="471600" y="2133720"/>
            <a:ext cx="5461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交感神经兴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AutoShape 3"/>
          <p:cNvSpPr/>
          <p:nvPr/>
        </p:nvSpPr>
        <p:spPr>
          <a:xfrm>
            <a:off x="990720" y="22860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355760" y="20988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入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Line 5"/>
          <p:cNvSpPr/>
          <p:nvPr/>
        </p:nvSpPr>
        <p:spPr>
          <a:xfrm>
            <a:off x="32004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3870360" y="209232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B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滤过压</a:t>
            </a:r>
            <a:r>
              <a:rPr b="1" lang="zh-CN" sz="2400" spc="-1" strike="noStrike">
                <a:solidFill>
                  <a:srgbClr val="ff0066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1258920" y="3276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出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Line 8"/>
          <p:cNvSpPr/>
          <p:nvPr/>
        </p:nvSpPr>
        <p:spPr>
          <a:xfrm>
            <a:off x="3276720" y="3505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3946680" y="3159000"/>
            <a:ext cx="18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滤过压</a:t>
            </a:r>
            <a:r>
              <a:rPr b="1" lang="zh-CN" sz="2400" spc="-1" strike="noStrike">
                <a:solidFill>
                  <a:srgbClr val="ff0066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AutoShape 10"/>
          <p:cNvSpPr/>
          <p:nvPr/>
        </p:nvSpPr>
        <p:spPr>
          <a:xfrm>
            <a:off x="5867280" y="2286000"/>
            <a:ext cx="457200" cy="1371600"/>
          </a:xfrm>
          <a:custGeom>
            <a:avLst/>
            <a:gdLst>
              <a:gd name="textAreaLeft" fmla="*/ 0 w 457200"/>
              <a:gd name="textAreaRight" fmla="*/ 16488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6553080" y="2514600"/>
            <a:ext cx="23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FR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/RB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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75438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7162920" y="380988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Line 14"/>
          <p:cNvSpPr/>
          <p:nvPr/>
        </p:nvSpPr>
        <p:spPr>
          <a:xfrm>
            <a:off x="754380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15"/>
          <p:cNvSpPr/>
          <p:nvPr/>
        </p:nvSpPr>
        <p:spPr>
          <a:xfrm>
            <a:off x="4800600" y="46483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管周围血浆胶体渗透压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流体静压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16"/>
          <p:cNvSpPr/>
          <p:nvPr/>
        </p:nvSpPr>
        <p:spPr>
          <a:xfrm>
            <a:off x="75438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Text Box 17"/>
          <p:cNvSpPr/>
          <p:nvPr/>
        </p:nvSpPr>
        <p:spPr>
          <a:xfrm>
            <a:off x="6019920" y="5943600"/>
            <a:ext cx="27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钠水重吸收增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Text Box 18"/>
          <p:cNvSpPr/>
          <p:nvPr/>
        </p:nvSpPr>
        <p:spPr>
          <a:xfrm>
            <a:off x="1619280" y="476280"/>
            <a:ext cx="534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升高的机制及作用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1215-700A-47CF-AF64-677995F6F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肿发生机制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289080" y="3602160"/>
            <a:ext cx="10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1219320" y="2819520"/>
            <a:ext cx="473040" cy="2554200"/>
          </a:xfrm>
          <a:custGeom>
            <a:avLst/>
            <a:gdLst>
              <a:gd name="textAreaLeft" fmla="*/ 302400 w 473040"/>
              <a:gd name="textAreaRight" fmla="*/ 473400 w 473040"/>
              <a:gd name="textAreaTop" fmla="*/ 66600 h 2554200"/>
              <a:gd name="textAreaBottom" fmla="*/ 2487600 h 255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1676520" y="2209680"/>
            <a:ext cx="18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组织液生成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大于回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1619280" y="522936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钠水潴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AutoShape 7"/>
          <p:cNvSpPr/>
          <p:nvPr/>
        </p:nvSpPr>
        <p:spPr>
          <a:xfrm>
            <a:off x="3352680" y="190512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3809880" y="1676520"/>
            <a:ext cx="42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毛细血管流体静压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4677120" y="2133720"/>
            <a:ext cx="28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血浆胶体渗透压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血浆蛋白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3780000" y="25909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毛细血管通透性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2987640" y="4221000"/>
            <a:ext cx="504720" cy="2376720"/>
          </a:xfrm>
          <a:custGeom>
            <a:avLst/>
            <a:gdLst>
              <a:gd name="textAreaLeft" fmla="*/ 322560 w 504720"/>
              <a:gd name="textAreaRight" fmla="*/ 505080 w 50472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3598200" y="38448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FR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AutoShape 13"/>
          <p:cNvSpPr/>
          <p:nvPr/>
        </p:nvSpPr>
        <p:spPr>
          <a:xfrm>
            <a:off x="4572000" y="35812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4861080" y="346392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滤过面积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4861080" y="39974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血流量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358128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3348000" y="4941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肾小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重吸收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AutoShape 18"/>
          <p:cNvSpPr/>
          <p:nvPr/>
        </p:nvSpPr>
        <p:spPr>
          <a:xfrm>
            <a:off x="4572000" y="5084640"/>
            <a:ext cx="360360" cy="792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5034600" y="4724280"/>
            <a:ext cx="7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AutoShape 22"/>
          <p:cNvSpPr/>
          <p:nvPr/>
        </p:nvSpPr>
        <p:spPr>
          <a:xfrm>
            <a:off x="5867280" y="5084640"/>
            <a:ext cx="358920" cy="1125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160 h 1125720"/>
              <a:gd name="textAreaBottom" fmla="*/ 1096560 h 112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23"/>
          <p:cNvSpPr/>
          <p:nvPr/>
        </p:nvSpPr>
        <p:spPr>
          <a:xfrm>
            <a:off x="6227640" y="4869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醛固酮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24"/>
          <p:cNvSpPr/>
          <p:nvPr/>
        </p:nvSpPr>
        <p:spPr>
          <a:xfrm>
            <a:off x="6372360" y="5373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H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 Box 25"/>
          <p:cNvSpPr/>
          <p:nvPr/>
        </p:nvSpPr>
        <p:spPr>
          <a:xfrm>
            <a:off x="3946680" y="2992320"/>
            <a:ext cx="32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ahoma"/>
              </a:rPr>
              <a:t>淋巴回流受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Text Box 26"/>
          <p:cNvSpPr/>
          <p:nvPr/>
        </p:nvSpPr>
        <p:spPr>
          <a:xfrm>
            <a:off x="6372360" y="5877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心钠素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Text Box 27"/>
          <p:cNvSpPr/>
          <p:nvPr/>
        </p:nvSpPr>
        <p:spPr>
          <a:xfrm>
            <a:off x="5068440" y="5300640"/>
            <a:ext cx="60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激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化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>
            <a:off x="3854880" y="624204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肾血流重分布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常见水肿的特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00100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肿液的性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漏出液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transudate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渗出液（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udate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皮下水肿的特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全身性水肿的分布特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重力效应 ，组织结构特点 ，局部血流动力学特点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9B5C-7373-46E2-9EAC-518E8B39E6C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914400" y="22860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体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Body fluid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886200" y="2057400"/>
            <a:ext cx="469800" cy="1515960"/>
          </a:xfrm>
          <a:custGeom>
            <a:avLst/>
            <a:gdLst>
              <a:gd name="textAreaLeft" fmla="*/ 300240 w 469800"/>
              <a:gd name="textAreaRight" fmla="*/ 470160 w 469800"/>
              <a:gd name="textAreaTop" fmla="*/ 39240 h 1515960"/>
              <a:gd name="textAreaBottom" fmla="*/ 1476720 h 151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500720" y="1773360"/>
            <a:ext cx="121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356000" y="3284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5435640" y="2852640"/>
            <a:ext cx="431640" cy="1225800"/>
          </a:xfrm>
          <a:custGeom>
            <a:avLst/>
            <a:gdLst>
              <a:gd name="textAreaLeft" fmla="*/ 275760 w 431640"/>
              <a:gd name="textAreaRight" fmla="*/ 432000 w 431640"/>
              <a:gd name="textAreaTop" fmla="*/ 31680 h 1225800"/>
              <a:gd name="textAreaBottom" fmla="*/ 1194120 h 12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012000" y="27082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解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5940360" y="3645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电解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体液的化学成分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利作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稀释毒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运送抗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不利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细胞营养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组织器官功能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对症处理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止并发症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-2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主要水钠代谢紊乱的特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171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250920" y="1413000"/>
          <a:ext cx="8353440" cy="4884480"/>
        </p:xfrm>
        <a:graphic>
          <a:graphicData uri="http://schemas.openxmlformats.org/drawingml/2006/table">
            <a:tbl>
              <a:tblPr/>
              <a:tblGrid>
                <a:gridCol w="1384200"/>
                <a:gridCol w="1384200"/>
                <a:gridCol w="1463760"/>
                <a:gridCol w="1241280"/>
                <a:gridCol w="1495440"/>
                <a:gridCol w="1384560"/>
              </a:tblGrid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低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高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等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水中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水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原因机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体液丢失只补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失水过多饮水不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大量等渗液丢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ADH↑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或肾功能降↓者摄水过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管或体内外液体交换失衡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体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细胞外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细胞内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清钠浓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浆渗透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临床特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休克，重症脱水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口渴，脱水热，中枢神经系统功能紊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介于高渗和低渗性脱水之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脑水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主要治疗原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高渗溶液为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水为主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兼顾补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等渗溶液为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轻症停止补水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重症脱水利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限制钠水的摄入，适当利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861480" y="6380640"/>
            <a:ext cx="258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低于正常值   ↑于正常值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正常  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三节 钾平衡及钾代谢紊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钾的生理功能和钾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钾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维持细胞新陈代谢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保持细胞静息膜电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调节细胞内外的渗透压和酸碱平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钾的生理功能和钾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钾平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来源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：食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去路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：肾排泄（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90%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多吃多排，少吃少排，不吃也排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血钾平衡的调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钾的跨细胞转移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激素的作用 （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受体 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受体 ，胰岛素 ），酸碱平衡状态，渗透压，物质代谢状况 ，运动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对钾排泄的调节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影响远曲小管、集合小管排钾的调节因素 （细胞外液的钾浓度 ，醛固酮 ，远曲小管和集合管中尿液的流速和流 ，肾小管细胞管腔面跨膜电位，酸碱平衡状态 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结肠的排钾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二、钾代谢障碍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Arial"/>
              </a:rPr>
              <a:t>一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Arial"/>
              </a:rPr>
              <a:t>低钾血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21333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血清钾浓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lt;3.5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称为低钾血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okalemia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摄入不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排出过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消化道丢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肾丢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大量的使用髓袢或噻嗪类利尿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小管性酸中毒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盐皮质激素过多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渗透性利尿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镁缺失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皮肤丢失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体液的渗透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晶体渗透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crystalloid osmotic pressure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：由钾、钠等离子形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胶体渗透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colloid  osmotic  pressure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：由蛋白质等大分子形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液的渗透压与微粒数目有关，而与颗粒大小、电荷或质量无关。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钾向细胞内转移增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碱中毒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胰岛素使用过多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素能受体活动增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某些毒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低钾血症型周期性瘫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骨骼肌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中枢神经系统的影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脑细胞静息电位负值增大使兴奋性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影响糖代谢，使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TP 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脑细胞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ATP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酶活性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0010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骨骼肌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骨骼肌的影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表现：骨骼肌和胃肠道平滑肌肌无力、肌麻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机制：超级化阻滞引起肌细胞兴奋性降低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6" descr="锋电位"/>
          <p:cNvPicPr/>
          <p:nvPr/>
        </p:nvPicPr>
        <p:blipFill>
          <a:blip r:embed="rId2"/>
          <a:stretch/>
        </p:blipFill>
        <p:spPr>
          <a:xfrm>
            <a:off x="5940360" y="1268280"/>
            <a:ext cx="238140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心血管系统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兴奋性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传导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自律性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收缩性先增强后减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电图异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律失常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6084720" y="2349360"/>
            <a:ext cx="25560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肾的影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远曲小管上皮细胞对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反应性降低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髓质渗透压梯度的形成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小管上皮细胞肿胀、空泡变性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181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酸碱平衡的影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缺钾和低钾血症引起代谢性碱中毒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远曲小管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交换减少，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交换增加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细胞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向细胞外释出，细胞外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转移入细胞内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肾泌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和重吸收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CO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增多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反常性酸性尿”（</a:t>
            </a:r>
            <a:r>
              <a:rPr b="1" lang="en-US" sz="2400" spc="-1" strike="noStrike">
                <a:solidFill>
                  <a:srgbClr val="3333ff"/>
                </a:solidFill>
                <a:latin typeface="Verdana"/>
              </a:rPr>
              <a:t>paradoxial acidic urine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）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低钾血症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消除病因，积极治疗原发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补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宋体"/>
              </a:rPr>
              <a:t>  “</a:t>
            </a:r>
            <a:r>
              <a:rPr b="0" lang="zh-CN" sz="3000" spc="-1" strike="noStrike">
                <a:solidFill>
                  <a:srgbClr val="3333ff"/>
                </a:solidFill>
                <a:latin typeface="宋体"/>
              </a:rPr>
              <a:t>最好口服，缓慢滴注，见尿给钾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钾血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血清钾浓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gt;5.5mmol/L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称为高钾血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erkalemia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钾输入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排钾减少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钾移出细胞外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酸中毒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缺氧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血糖合并胰岛素不足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溶血和组织坏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钾血症型周期性麻痹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肌肉组织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急性高钾血症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轻症 ：肌肉疼痛、肌震颤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重症 ：去极化阻滞造成的肌无力、麻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6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慢性高钾血症 ：很少症状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30C3-91FC-48D6-BFAA-D75297F40AE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4772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</a:rPr>
              <a:t>分布特点：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细胞内液与细胞外液在</a:t>
            </a:r>
            <a:r>
              <a:rPr b="1" lang="zh-CN" sz="2300" spc="-1" strike="noStrike">
                <a:solidFill>
                  <a:srgbClr val="ff0066"/>
                </a:solidFill>
                <a:latin typeface="Verdana"/>
              </a:rPr>
              <a:t>电解质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差异很大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细胞内液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ff0066"/>
                </a:solidFill>
                <a:latin typeface="Verdana"/>
                <a:ea typeface="Arial"/>
              </a:rPr>
              <a:t> +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  <a:ea typeface="Arial"/>
              </a:rPr>
              <a:t>为主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细胞外液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  <a:ea typeface="Arial"/>
              </a:rPr>
              <a:t>Na</a:t>
            </a:r>
            <a:r>
              <a:rPr b="0" lang="en-US" sz="2000" spc="-1" strike="noStrike" baseline="30000">
                <a:solidFill>
                  <a:srgbClr val="ff0066"/>
                </a:solidFill>
                <a:latin typeface="Verdana"/>
                <a:ea typeface="Arial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为主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组织间液和血液之间电解质成分相同，蛋白等</a:t>
            </a:r>
            <a:r>
              <a:rPr b="1" lang="zh-CN" sz="2300" spc="-1" strike="noStrike">
                <a:solidFill>
                  <a:srgbClr val="ff0066"/>
                </a:solidFill>
                <a:latin typeface="Verdana"/>
              </a:rPr>
              <a:t>大分子物质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有差异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11280" y="812880"/>
            <a:ext cx="8064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心脏的影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兴奋性先增高后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传导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自律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收缩性减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电图异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律失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85444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酸碱平衡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高钾血症常伴有代谢性酸中毒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细胞外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内移，而细胞内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移向细胞外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肾小管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交换增强，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交换减弱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“</a:t>
            </a: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反常性碱性尿”（</a:t>
            </a:r>
            <a:r>
              <a:rPr b="0" lang="en-US" sz="3000" spc="-1" strike="noStrike">
                <a:solidFill>
                  <a:srgbClr val="3333ff"/>
                </a:solidFill>
                <a:latin typeface="Verdana"/>
              </a:rPr>
              <a:t>paradoxial alkaline urine</a:t>
            </a: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）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钾血症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消除病因，积极治疗原发病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钾进入细胞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提高细胞外的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H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及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浓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胰岛素促进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进入细胞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钙盐拮抗钾的心肌毒性作用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限制钾的摄入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钾的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阳离子交换树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促进钾从泌尿道排出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透析疗法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病例分析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患儿，男，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岁。全身水肿一周，发病前曾反复上呼吸道感染，咽痛，咳嗽，发热最高达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8.5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℃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。水肿开始出现于面部，后波及全身。尿少。患儿既往体健，无肝疾病、高血压、慢性胃肠道疾病史。体检可见面部及全身凹陷性水肿，血压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30/100mmHg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，余未见异常结果。血浆蛋白质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65g/L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在正常范围内）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红细胞压积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5ml%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低于正常值）。水肿液蛋白含量为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4.5g/L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正常值范围内）。尿液检查可见管型及大量红细胞，尿蛋白（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++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）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该患儿出现何种类型的水肿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试分析该患儿水肿产生的机制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如果患儿水肿进一步发展可能对机体产生哪些不利影响？为什么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9D67-2563-4139-B218-22908A1E741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质差异的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机制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细胞膜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电解质以弥散方式通过，故细胞内外液电解质差异很大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Verdana"/>
              </a:rPr>
              <a:t>毛细血管壁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电解质自由通过，大分子物质不能自由通过故血液与组织间隙间电解质成分相同，大分子物质有差异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5" descr="体液分布"/>
          <p:cNvPicPr/>
          <p:nvPr/>
        </p:nvPicPr>
        <p:blipFill>
          <a:blip r:embed="rId2"/>
          <a:stretch/>
        </p:blipFill>
        <p:spPr>
          <a:xfrm>
            <a:off x="6300720" y="4797360"/>
            <a:ext cx="25923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0DEF-7888-4AF2-B195-9BF6841B0DE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8406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水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细胞内外水交换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：主要取决于细胞内外</a:t>
            </a:r>
            <a:r>
              <a:rPr b="1" lang="zh-CN" sz="2500" spc="-1" strike="noStrike">
                <a:solidFill>
                  <a:srgbClr val="ff0066"/>
                </a:solidFill>
                <a:latin typeface="Verdana"/>
              </a:rPr>
              <a:t>晶体</a:t>
            </a: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渗透压差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血管内外水交换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：主要取决于血管内外</a:t>
            </a:r>
            <a:r>
              <a:rPr b="1" lang="zh-CN" sz="2500" spc="-1" strike="noStrike">
                <a:solidFill>
                  <a:srgbClr val="ff0066"/>
                </a:solidFill>
                <a:latin typeface="Verdana"/>
              </a:rPr>
              <a:t>胶体</a:t>
            </a: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渗透压差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71640" y="7668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755640" y="3645000"/>
            <a:ext cx="6500880" cy="82548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血浆渗透压为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80-310 mmol/L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在这个范围之内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等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；低于这个范围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低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；高于这个范围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高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5" descr="体液分布"/>
          <p:cNvPicPr/>
          <p:nvPr/>
        </p:nvPicPr>
        <p:blipFill>
          <a:blip r:embed="rId2"/>
          <a:stretch/>
        </p:blipFill>
        <p:spPr>
          <a:xfrm>
            <a:off x="6564240" y="5013360"/>
            <a:ext cx="25797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08T06:48:13Z</dcterms:created>
  <dc:creator>glfeng</dc:creator>
  <dc:description/>
  <dc:language>en-US</dc:language>
  <cp:lastModifiedBy>hzg</cp:lastModifiedBy>
  <dcterms:modified xsi:type="dcterms:W3CDTF">2014-04-22T02:10:38Z</dcterms:modified>
  <cp:revision>613</cp:revision>
  <dc:subject/>
  <dc:title>第三章   水、电解质代谢障碍 (Disturbance of water and electrolyte  metabolism)</dc:title>
</cp:coreProperties>
</file>