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15640" y="5589360"/>
            <a:ext cx="7201080" cy="9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山东中医药高等专科学校 尚庆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a2906"/>
                </a:solidFill>
                <a:latin typeface="楷体_GB2312"/>
                <a:ea typeface="楷体_GB2312"/>
              </a:rPr>
              <a:t>第四章   儿童营养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2924280"/>
            <a:ext cx="3456000" cy="25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03280" y="2708280"/>
            <a:ext cx="2664000" cy="244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492280"/>
            <a:ext cx="2808360" cy="266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421000"/>
            <a:ext cx="2735280" cy="273672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2736720"/>
              <a:gd name="textAreaBottom" fmla="*/ 2603520 h 273672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492280"/>
            <a:ext cx="2808360" cy="2664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2483_1165313248"/>
          <p:cNvPicPr/>
          <p:nvPr/>
        </p:nvPicPr>
        <p:blipFill>
          <a:blip r:embed="rId5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1484280"/>
            <a:ext cx="7632720" cy="4537080"/>
          </a:xfrm>
          <a:prstGeom prst="roundRect">
            <a:avLst>
              <a:gd name="adj" fmla="val 910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413000"/>
            <a:ext cx="7488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月婴儿，体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k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母亲有慢性肾衰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婴儿可否母乳喂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人工喂养，给该婴儿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％的糖牛奶的配算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04640"/>
            <a:ext cx="1830600" cy="85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9120" y="49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病例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0"/>
            <a:ext cx="23050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一、婴儿喂养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482436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母乳喂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混合喂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人工喂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716280"/>
            <a:ext cx="2734920" cy="2737080"/>
          </a:xfrm>
          <a:custGeom>
            <a:avLst/>
            <a:gdLst>
              <a:gd name="textAreaLeft" fmla="*/ 133200 w 2734920"/>
              <a:gd name="textAreaRight" fmla="*/ 2601720 w 2734920"/>
              <a:gd name="textAreaTop" fmla="*/ 133200 h 2737080"/>
              <a:gd name="textAreaBottom" fmla="*/ 2603880 h 2737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3716280"/>
            <a:ext cx="2808360" cy="26640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2240" y="9399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婴儿喂养的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一）母乳喂养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468000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9844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2667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母乳的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2392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667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初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2392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667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过渡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2392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667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成熟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2392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6676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晚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0" y="3292560"/>
            <a:ext cx="45720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脂肪少、蛋白质多、矿物质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2205000"/>
            <a:ext cx="45720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脂肪高，而蛋白质及矿物质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508640"/>
            <a:ext cx="45720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量达到高峰，但蛋白质更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602320"/>
            <a:ext cx="45720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和营养成分均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）营养丰富、比例合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蛋白质、脂肪、糖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；钙磷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蛋白质以清蛋白为主，遇胃酸时形成的凝块较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母乳中不饱和脂肪酸多，脂肪颗粒小，含有脂肪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母乳含糖丰富且为乙型乳糖，可促进双歧菌和乳酸杆菌的生长，抑制大肠杆菌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华文新魏"/>
                <a:ea typeface="华文新魏"/>
              </a:rPr>
              <a:t>矿物质总量低，吸收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890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乳的优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483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增强婴儿免疫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母乳有利于婴儿脑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良好的心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社会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喂哺方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对母亲有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40464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乳的优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母乳喂养的护理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哺喂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断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76500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哺喂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04812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23360" y="2421000"/>
            <a:ext cx="35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持续时间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748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隔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371628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6800" y="3500280"/>
            <a:ext cx="548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月按需哺乳（饥饿、哭闹为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月定时哺乳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-3h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—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-4 h/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256536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9640" y="404640"/>
            <a:ext cx="20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哺喂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WindowsMediaPlayer1"/>
          <p:cNvGraphicFramePr/>
          <p:nvPr/>
        </p:nvGraphicFramePr>
        <p:xfrm>
          <a:off x="1763640" y="2344680"/>
          <a:ext cx="5257800" cy="30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344680"/>
                    <a:ext cx="5257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53600" y="1523880"/>
            <a:ext cx="8401320" cy="4335480"/>
            <a:chOff x="453600" y="1523880"/>
            <a:chExt cx="8401320" cy="4335480"/>
          </a:xfrm>
        </p:grpSpPr>
        <p:sp>
          <p:nvSpPr>
            <p:cNvPr id="133" name=""/>
            <p:cNvSpPr/>
            <p:nvPr/>
          </p:nvSpPr>
          <p:spPr>
            <a:xfrm>
              <a:off x="469440" y="1528920"/>
              <a:ext cx="607320" cy="52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688"/>
                  </a:solidFill>
                  <a:latin typeface="Tahoma"/>
                  <a:ea typeface="华文新魏"/>
                </a:rPr>
                <a:t>准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640" y="204300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8840" y="18144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9600" y="1523880"/>
              <a:ext cx="66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更换尿布、洗手、清洁乳头、取坐位斜抱婴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600" y="3294000"/>
              <a:ext cx="607320" cy="52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688"/>
                  </a:solidFill>
                  <a:latin typeface="Tahoma"/>
                  <a:ea typeface="华文新魏"/>
                </a:rPr>
                <a:t>哺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8840" y="35672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63760" y="2424240"/>
              <a:ext cx="75960" cy="259056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07640 h 2590560"/>
                <a:gd name="textAreaBottom" fmla="*/ 2482920 h 25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49200" y="2119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母亲用食指、中指夹住乳头两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8200" y="2728800"/>
              <a:ext cx="33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婴儿自由呼吸含住大部分乳头乳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8480" y="2576520"/>
              <a:ext cx="28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4720" y="3414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有效吸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9920" y="3262320"/>
              <a:ext cx="28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29920" y="3795840"/>
              <a:ext cx="28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4680" y="39481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吸空一侧乳房后换另一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9920" y="4405320"/>
              <a:ext cx="28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2800" y="46530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下次哺乳先吸未空一侧乳房再吸另一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640" y="379584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600" y="5338800"/>
              <a:ext cx="607320" cy="520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688"/>
                  </a:solidFill>
                  <a:latin typeface="Tahoma"/>
                  <a:ea typeface="华文新魏"/>
                </a:rPr>
                <a:t>整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58840" y="56246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7920" y="5319720"/>
              <a:ext cx="74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哺乳后，将婴儿竖抱起，头伏母亲肩上轻拍背，使胃内空气排出，右侧卧放在床上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6840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操作流程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274320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95800" y="1752480"/>
            <a:ext cx="6576840" cy="1600200"/>
            <a:chOff x="595800" y="1752480"/>
            <a:chExt cx="6576840" cy="1600200"/>
          </a:xfrm>
        </p:grpSpPr>
        <p:sp>
          <p:nvSpPr>
            <p:cNvPr id="156" name=""/>
            <p:cNvSpPr/>
            <p:nvPr/>
          </p:nvSpPr>
          <p:spPr>
            <a:xfrm>
              <a:off x="595800" y="24526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禁忌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55560" y="2057400"/>
              <a:ext cx="76320" cy="12952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51440" y="1752480"/>
              <a:ext cx="4021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母亲患有急、慢性传染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母亲母亲患有严重疾病和慢性消耗性疾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母亲患有乳腺炎、乳头皲裂—</a:t>
              </a:r>
              <a:r>
                <a:rPr b="1" lang="zh-CN" sz="2800" spc="-1" strike="noStrike">
                  <a:solidFill>
                    <a:srgbClr val="993366"/>
                  </a:solidFill>
                  <a:latin typeface="华文新魏"/>
                  <a:ea typeface="华文新魏"/>
                </a:rPr>
                <a:t>暂停患侧哺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748160" y="4149720"/>
            <a:ext cx="4447800" cy="1206360"/>
            <a:chOff x="1748160" y="4149720"/>
            <a:chExt cx="4447800" cy="1206360"/>
          </a:xfrm>
        </p:grpSpPr>
        <p:sp>
          <p:nvSpPr>
            <p:cNvPr id="160" name=""/>
            <p:cNvSpPr/>
            <p:nvPr/>
          </p:nvSpPr>
          <p:spPr>
            <a:xfrm>
              <a:off x="1748160" y="4149720"/>
              <a:ext cx="444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养成良好的哺乳习惯：不要让婴儿含乳头睡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34440" y="4668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71720" y="48355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窒息、呕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132560" y="5223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76720" y="7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华文新魏"/>
                <a:ea typeface="华文新魏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1844640"/>
            <a:ext cx="432000" cy="576360"/>
          </a:xfrm>
          <a:prstGeom prst="star5">
            <a:avLst/>
          </a:prstGeom>
          <a:solidFill>
            <a:srgbClr val="ff0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184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母乳喂养的优点；乳量计算方法；添加辅食的原则及顺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350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母乳喂养、人工喂养、混合喂养的概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941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工喂养常用食品及其配置方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77724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个月添加辅食，减少哺乳次数，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10-12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个月完全断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75120" y="620640"/>
            <a:ext cx="15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断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860640"/>
            <a:ext cx="69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哺乳时能听到吞咽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喂完能安静入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每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次或少量多次的软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次左右小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244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体重按正常体重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6400" y="3336840"/>
            <a:ext cx="22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母乳充足的表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二）混合喂养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补授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适用于母乳不足的婴儿。每次哺乳先喂母乳，待两侧乳房吸空，再补充代乳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授法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适用于母乳量充足，但因母亲有特殊原因不能按时给婴儿哺乳，只能用代乳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或数次代替母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三）人工喂养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820360" cy="18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．鲜牛乳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牛乳量计算：某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个月婴儿，体重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5k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，给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</a:rPr>
              <a:t>％的糖牛奶的配算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2301840"/>
          <a:ext cx="8964720" cy="4222800"/>
        </p:xfrm>
        <a:graphic>
          <a:graphicData uri="http://schemas.openxmlformats.org/drawingml/2006/table">
            <a:tbl>
              <a:tblPr/>
              <a:tblGrid>
                <a:gridCol w="4500720"/>
                <a:gridCol w="4464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每日需要总能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110kcal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／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kg×5=550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100ml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牛奶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5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糖所得能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66+4×5=86k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每日需用牛乳总量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100∶86=X∶550 x=640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每日需水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150×5=750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牛乳以外需水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75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－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640=110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24000" y="1413000"/>
            <a:ext cx="453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全脂奶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蒸发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婴儿配方奶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其他乳品和代乳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580000" y="1341360"/>
          <a:ext cx="2895480" cy="166068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配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奶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按重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按容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669680" y="393372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羊乳喂养婴儿必须添加叶酸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生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1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预防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43640" y="3860640"/>
          <a:ext cx="1905120" cy="155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3640" y="3860640"/>
                    <a:ext cx="1905120" cy="1552680"/>
                  </a:xfrm>
                  <a:prstGeom prst="rect">
                    <a:avLst/>
                  </a:prstGeom>
                  <a:ln w="76320">
                    <a:solidFill>
                      <a:srgbClr val="d49fff"/>
                    </a:solidFill>
                    <a:prstDash val="lgDashDotDot"/>
                    <a:miter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39640" y="47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牛乳制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</a:rPr>
              <a:t>3. 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</a:rPr>
              <a:t>人工喂养的注意事项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99640" y="2057400"/>
            <a:ext cx="6324840" cy="23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乳汁的浓度和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合适的奶嘴、测试乳液的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避免空气进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食具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时调整乳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3280" y="2924280"/>
            <a:ext cx="3221280" cy="346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（四）辅助食品的添加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加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加方式：循序渐进，由少到多，从稀到稠、从细到粗，由一种到多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加时机：身体健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食物质量：单独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观察大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1484280"/>
            <a:ext cx="533520" cy="457200"/>
          </a:xfrm>
          <a:prstGeom prst="star5">
            <a:avLst/>
          </a:prstGeom>
          <a:solidFill>
            <a:srgbClr val="ff3300"/>
          </a:solidFill>
          <a:ln w="64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辅食添加顺序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1268280"/>
          <a:ext cx="9144000" cy="5546880"/>
        </p:xfrm>
        <a:graphic>
          <a:graphicData uri="http://schemas.openxmlformats.org/drawingml/2006/table">
            <a:tbl>
              <a:tblPr/>
              <a:tblGrid>
                <a:gridCol w="1763640"/>
                <a:gridCol w="1693800"/>
                <a:gridCol w="5686560"/>
              </a:tblGrid>
              <a:tr h="5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月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食物性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添加的辅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浓缩鱼肝油滴剂或维生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制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：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水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水果汁、菜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泥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米汤、米糊、稀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蛋黄、鱼泥、豆腐、动物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菜泥、水果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7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末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粥、烂面、烤馒头片、饼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蛋、鱼、肝泥、肉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碎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软饭、面条、馒头、面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Times New Roman"/>
                        </a:rPr>
                        <a:t>碎肉、豆制品、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49fff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二、儿童、少年的膳食安排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66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供给足够的能量和优质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养成良好的饮食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供给维生素、钙、铁、碘等微量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553080" y="4114800"/>
            <a:ext cx="2146320" cy="214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小结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供给人体能量的三大营养素即蛋白质、脂类和碳水化合物。生长是小儿特有的能量需要。营养素包括产能营养素与非产能营养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以内婴儿每日约需能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0 kJ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0kcal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以后每增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减去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2 kJ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kcal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50 kJ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kcal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婴儿每日需水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ml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婴儿喂养的方式有母乳喂养、混合喂养及人工喂养三种。母乳喂养的优点包括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营养丰富，比例合适，易于消化吸收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增强婴儿免疫力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母乳有利于婴儿脑的发育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良好的心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反应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喂哺简便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利于母亲身体健康。故母乳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月以下的婴儿最佳的天然食品，应大力提倡母乳喂养。最常用的代乳品是牛乳，鲜牛奶难消化，含糖少，易污染，在调配时应经过稀释、加糖、煮沸来纠正其缺点。目前以模仿人乳强化营养素的婴儿配方奶粉在国内外应用最广。掌握乳量的计算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辅助食品添加遵循由少到多、由稀到稠、由细到粗、由一种到多种的原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能量和营养素的需要包括哪些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婴儿喂养的方式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母乳喂养的优点、方法及注意事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工喂养的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食添加的原则及顺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59280" y="765000"/>
            <a:ext cx="23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华文新魏"/>
                <a:ea typeface="华文新魏"/>
              </a:rPr>
              <a:t>本章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2133720"/>
            <a:ext cx="6553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第一节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能量与营养素的需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第二节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喂养与膳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哪种食物成分是机体供能的最主要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蛋白质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脂肪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矿物质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糖类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维生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断奶时间最迟不超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全脂奶粉配制乳液。奶粉与水的比例按容量计算一般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儿对能量的需求包括哪些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述母乳喂养的优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述辅助食品添加的原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fff"/>
                </a:solidFill>
                <a:latin typeface="华文新魏"/>
              </a:rPr>
              <a:t>第一节  小儿能量与营养素的需求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（一）能量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2565360"/>
            <a:ext cx="525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基础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食物的特殊动力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长    </a:t>
            </a: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为小儿时期所特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&lt;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岁婴儿：</a:t>
            </a:r>
            <a:r>
              <a:rPr b="1" lang="zh-CN" sz="3600" spc="-1" strike="noStrike">
                <a:solidFill>
                  <a:srgbClr val="009688"/>
                </a:solidFill>
                <a:latin typeface="华文新魏"/>
                <a:ea typeface="华文新魏"/>
              </a:rPr>
              <a:t>110 KCal/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后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减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 KCa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时约为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 KCa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2880" y="5684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华文新魏"/>
                <a:ea typeface="华文新魏"/>
              </a:rPr>
              <a:t>小儿每日所需总能量简单计算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fff"/>
                </a:solidFill>
                <a:latin typeface="华文新魏"/>
              </a:rPr>
              <a:t>第一节  小儿能量与营养素的需求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（二）营养素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49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产能营养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3429000"/>
            <a:ext cx="324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74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1749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碳水化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13000"/>
          <a:ext cx="8555040" cy="570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555040" cy="57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0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fff"/>
                </a:solidFill>
                <a:latin typeface="Arial"/>
              </a:rPr>
              <a:t>婴儿能量来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（二）营养素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非产能营养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997360"/>
            <a:ext cx="59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001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  </a:t>
            </a: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婴儿每日需水约 </a:t>
            </a:r>
            <a:r>
              <a:rPr b="1" lang="zh-CN" sz="3200" spc="-1" strike="noStrike">
                <a:solidFill>
                  <a:srgbClr val="009688"/>
                </a:solidFill>
                <a:latin typeface="华文新魏"/>
                <a:ea typeface="华文新魏"/>
              </a:rPr>
              <a:t>150ml/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2001"/>
              </a:spcBef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膳食纤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34800" y="2205000"/>
            <a:ext cx="36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节  小儿喂养与膳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3:07:19Z</dcterms:modified>
  <cp:revision>312</cp:revision>
  <dc:subject/>
  <dc:title>Lorem Ipsum</dc:title>
</cp:coreProperties>
</file>