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第三章急诊科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二、急诊护理工作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接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分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料收集：询问、观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诊技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PA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QRST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AMS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分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：急危症，有生命危险，生命体征不稳定需要立即急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：急重症，有潜在的生命危险，病情有可能急剧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：亚紧急，生命体征尚稳定，急性症状持续不能缓解病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：非紧急，病人病情不会转差的非急诊患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分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67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诊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预检分诊护士必须由业务熟练、责任心强的护士来担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诊护士必须坚守工作岗位，因故临时离开时必须由护士长安排能够胜任的护士替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预检分诊护士对来急诊科就诊的患者，按轻、重、缓、急依次办理分科就诊手续，并做好预检分诊登记，包括姓名、性别、年龄、职业、接诊时间、初步判断、是否传染病患者、去向等项目，书写规范，字迹清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分诊有错误，应按首诊负责制处理，即首诊医生先看再会诊或转诊，护士应做好会诊、转诊、转科协调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分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诊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急危重病人应立即将其送入急救绿色通道，要实行先抢救后补办手续的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成批伤病员时，对病人进行快速检伤、分类，分流处理，并立即报告上级及有关部门组织抢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患有或疑似传染病人来院急诊，应将其安排到隔离室就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由他人陪送而来的病人，先予分诊处理，同时做好保护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急诊处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患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患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染病患者处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批伤员处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患者的处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转运处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急诊科护理管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科护理组织管理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科护理质量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科主要规章制度：建立健全各项规章制度、建立健全各项抢救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科的设备管理：仪器的配置、仪器的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仪器设备管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诊科对各种仪器应设有台帐，并要做到帐目清楚，帐物相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器由专人保管、专人负责，按不同仪器管理要求定期清点并检查仪器运转情况，使之始终保持在备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贵重仪器要制定出操作规程，写出书面文字卡片，连同使用登记本挂在仪器旁，每次使用要进行记录，便于了解仪器的使用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格检查、检修制度，并进行必要的消毒，时刻保持仪器处于备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人员必须经过培训，了解仪器结构和性能，掌握正确的使用方法、适应证及注意事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类仪器要定位存放，要做到“五防”，即防潮、防震、防热、防尘、防腐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 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科承担着接收各类急危重症患者，对其进行抢救、治疗和护理，同时还承担着院前急救、教学培训和科研等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内容主要包括急诊科的任务与设置、急诊护理工作特点、急诊护理工作流程、急诊科的护理管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科急救工作是医院工作的重要部分，它反映了一个医院的急救医疗水平，是衡量医院工作质量与管理水平的重要标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科的急救质量和管理水平，直接影响急诊患者的预后和转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急救绿色通道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诊科病人病情分类、分诊要求、急诊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急诊护理工作流程、分诊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急诊科的任务、急诊护理工作的特点、急诊科的护理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急诊科的任务与设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一、急诊科的任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学培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科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162864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二、急诊科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一）急诊科的设施与布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二）急救绿色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检分诊处（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抢救室：抢救仪器设备、常用急救药品、必备抢救物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诊察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诊手术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室和处置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隔离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诊观察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诊重症监护室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ICU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70040" y="380880"/>
            <a:ext cx="5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（一）急诊科的设施与布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救绿色通道即急救绿色生命安全通道，是指对急危重症病人一律实行优先抢救、优先检查和优先住院的原则，医疗相关手续按情况补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（二）急救绿色通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（二）急救绿色通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急救绿色通道的患者范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绿色通道的硬件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救绿色通道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救绿色通道的醒目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便有效的通讯设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救绿色通道的医疗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（二）急救绿色通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绿色通道的人员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绿色通道的相应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救绿色通道的首诊负责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救绿色通道记录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救绿色通道转运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救绿色通道备用药品管理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2411280" y="26028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24000" y="1413000"/>
            <a:ext cx="849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辆公共汽车发生肇事后，车上有几名乘客有不同程度的受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大腿较大伤口流血，呼吸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／分，脉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／分，意识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左前臂闭合性损伤，呼吸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／分，脉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／分，意识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胸廓塌陷，无呼吸，无脉搏，各种反射均消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无明显损伤，呼吸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／分，脉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／分，不停哭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昏迷，头皮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裂伤，呼吸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／分，脉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／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3933720"/>
            <a:ext cx="7235640" cy="23050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运用分诊技巧，判断伤员的病情各属于哪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诊护士应怎样分诊，目标反应时间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急诊科护理工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一、急诊护理工作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学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易感染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涉法及暴力事件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42:13Z</dcterms:modified>
  <cp:revision>860</cp:revision>
  <dc:subject/>
  <dc:title>Reading Fun</dc:title>
</cp:coreProperties>
</file>