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png" ContentType="image/png"/>
  <Override PartName="/ppt/media/image8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9.wmf" ContentType="image/x-wmf"/>
  <Override PartName="/ppt/media/image34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1.jpeg" ContentType="image/jpeg"/>
  <Override PartName="/ppt/media/image32.png" ContentType="image/png"/>
  <Override PartName="/ppt/media/image11.png" ContentType="image/png"/>
  <Override PartName="/ppt/media/image4.png" ContentType="image/png"/>
  <Override PartName="/ppt/media/image24.gif" ContentType="image/gif"/>
  <Override PartName="/ppt/media/image27.png" ContentType="image/png"/>
  <Override PartName="/ppt/media/image33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14.jpeg" ContentType="image/jpeg"/>
  <Override PartName="/ppt/media/image16.png" ContentType="image/png"/>
  <Override PartName="/ppt/media/image17.jpeg" ContentType="image/jpeg"/>
  <Override PartName="/ppt/media/image26.png" ContentType="image/png"/>
  <Override PartName="/ppt/media/image25.gif" ContentType="image/gif"/>
  <Override PartName="/ppt/media/image18.png" ContentType="image/png"/>
  <Override PartName="/ppt/media/image20.png" ContentType="image/png"/>
  <Override PartName="/ppt/media/image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468360" y="6410160"/>
            <a:ext cx="8629560" cy="316800"/>
            <a:chOff x="468360" y="6410160"/>
            <a:chExt cx="8629560" cy="316800"/>
          </a:xfrm>
        </p:grpSpPr>
        <p:sp>
          <p:nvSpPr>
            <p:cNvPr id="1" name="Text Box 13"/>
            <p:cNvSpPr/>
            <p:nvPr/>
          </p:nvSpPr>
          <p:spPr>
            <a:xfrm>
              <a:off x="5218200" y="6419880"/>
              <a:ext cx="38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高职高专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急救护理学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配套课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14"/>
            <p:cNvSpPr/>
            <p:nvPr/>
          </p:nvSpPr>
          <p:spPr>
            <a:xfrm>
              <a:off x="468360" y="6410160"/>
              <a:ext cx="8424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18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2" descr=""/>
          <p:cNvPicPr/>
          <p:nvPr/>
        </p:nvPicPr>
        <p:blipFill>
          <a:blip r:embed="rId2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33647;&#29289;&#22797;&#33487;.rm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5"/>
          <p:cNvSpPr/>
          <p:nvPr/>
        </p:nvSpPr>
        <p:spPr>
          <a:xfrm>
            <a:off x="1042920" y="1773360"/>
            <a:ext cx="763272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急救护理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mergency Nu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第五章 心肺脑复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未标题-1"/>
          <p:cNvPicPr/>
          <p:nvPr/>
        </p:nvPicPr>
        <p:blipFill>
          <a:blip r:embed="rId2"/>
          <a:stretch/>
        </p:blipFill>
        <p:spPr>
          <a:xfrm>
            <a:off x="-1260360" y="1125360"/>
            <a:ext cx="4838760" cy="486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第二节心肺脑复苏 （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CPCR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2209680"/>
            <a:ext cx="6019560" cy="3505320"/>
          </a:xfrm>
          <a:prstGeom prst="flowChartMultidocument">
            <a:avLst/>
          </a:prstGeom>
          <a:gradFill rotWithShape="0">
            <a:gsLst>
              <a:gs pos="0">
                <a:srgbClr val="99ccff"/>
              </a:gs>
              <a:gs pos="100000">
                <a:srgbClr val="88b6e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基本生命支持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B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Basic life suppor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19320" y="2819520"/>
            <a:ext cx="5181480" cy="2895480"/>
          </a:xfrm>
          <a:prstGeom prst="flowChartDocument">
            <a:avLst/>
          </a:prstGeom>
          <a:gradFill rotWithShape="0">
            <a:gsLst>
              <a:gs pos="0">
                <a:srgbClr val="ffffcc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进一步生命支持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AC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Advanced life suppor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219320" y="2819520"/>
            <a:ext cx="5181480" cy="2895480"/>
          </a:xfrm>
          <a:prstGeom prst="flowChartDocument">
            <a:avLst/>
          </a:prstGeom>
          <a:gradFill rotWithShape="0">
            <a:gsLst>
              <a:gs pos="0">
                <a:srgbClr val="ffccff"/>
              </a:gs>
              <a:gs pos="100000">
                <a:srgbClr val="cc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延续生命支持</a:t>
            </a: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P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(Prolonged life suppor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9152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现场救护的生命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38080" y="4800600"/>
            <a:ext cx="7696440" cy="15526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04920" y="23623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04920" y="1295280"/>
            <a:ext cx="3733560" cy="1524240"/>
          </a:xfrm>
          <a:prstGeom prst="rightArrowCallout">
            <a:avLst>
              <a:gd name="adj1" fmla="val 25002"/>
              <a:gd name="adj2" fmla="val 25000"/>
              <a:gd name="adj3" fmla="val 40824"/>
              <a:gd name="adj4" fmla="val 66667"/>
            </a:avLst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第一环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早起通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早期呼救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43400" y="1523880"/>
            <a:ext cx="4800600" cy="1143000"/>
          </a:xfrm>
          <a:prstGeom prst="rightArrowCallout">
            <a:avLst>
              <a:gd name="adj1" fmla="val 25002"/>
              <a:gd name="adj2" fmla="val 25000"/>
              <a:gd name="adj3" fmla="val 70000"/>
              <a:gd name="adj4" fmla="val 66667"/>
            </a:avLst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第二环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早期心肺复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80880" y="3352680"/>
            <a:ext cx="3810240" cy="1143000"/>
          </a:xfrm>
          <a:prstGeom prst="rightArrowCallout">
            <a:avLst>
              <a:gd name="adj1" fmla="val 25002"/>
              <a:gd name="adj2" fmla="val 25000"/>
              <a:gd name="adj3" fmla="val 55559"/>
              <a:gd name="adj4" fmla="val 66667"/>
            </a:avLst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第三环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早期心脏除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267080" y="3352680"/>
            <a:ext cx="4876920" cy="1143000"/>
          </a:xfrm>
          <a:prstGeom prst="rightArrowCallout">
            <a:avLst>
              <a:gd name="adj1" fmla="val 25002"/>
              <a:gd name="adj2" fmla="val 25000"/>
              <a:gd name="adj3" fmla="val 71113"/>
              <a:gd name="adj4" fmla="val 66667"/>
            </a:avLst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第四环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早期高级生命支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23800" y="279360"/>
            <a:ext cx="7414920" cy="88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、基本生命支持（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BL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1371600"/>
            <a:ext cx="5943600" cy="4952880"/>
          </a:xfrm>
          <a:prstGeom prst="rightArrowCallout">
            <a:avLst>
              <a:gd name="adj1" fmla="val 23993"/>
              <a:gd name="adj2" fmla="val 21491"/>
              <a:gd name="adj3" fmla="val 14856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包括四个步骤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心跳呼吸停止判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隶书"/>
                <a:ea typeface="隶书"/>
              </a:rPr>
              <a:t>A</a:t>
            </a: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ff6600"/>
                </a:solidFill>
                <a:latin typeface="隶书"/>
                <a:ea typeface="隶书"/>
              </a:rPr>
              <a:t>Airway</a:t>
            </a: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保持呼吸道通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隶书"/>
                <a:ea typeface="隶书"/>
              </a:rPr>
              <a:t>B</a:t>
            </a: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ff6600"/>
                </a:solidFill>
                <a:latin typeface="隶书"/>
                <a:ea typeface="隶书"/>
              </a:rPr>
              <a:t>Breathing</a:t>
            </a: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）</a:t>
            </a:r>
            <a:r>
              <a:rPr b="1" lang="en-US" sz="3200" spc="-1" strike="noStrike">
                <a:solidFill>
                  <a:srgbClr val="ff6600"/>
                </a:solidFill>
                <a:latin typeface="隶书"/>
                <a:ea typeface="隶书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进行有效的人工呼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隶书"/>
                <a:ea typeface="隶书"/>
              </a:rPr>
              <a:t>C</a:t>
            </a: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ff6600"/>
                </a:solidFill>
                <a:latin typeface="隶书"/>
                <a:ea typeface="隶书"/>
              </a:rPr>
              <a:t>Circulation)</a:t>
            </a: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建立有效的人工循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943600" y="2438280"/>
            <a:ext cx="3200400" cy="3200400"/>
          </a:xfrm>
          <a:prstGeom prst="flowChartDelay">
            <a:avLst/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是对心、脑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全身重要器官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氧，延长机体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受临床死亡的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39152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操作流程</a:t>
            </a:r>
            <a:br>
              <a:rPr sz="4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759600"/>
            <a:ext cx="7619760" cy="265752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判断并启动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EM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评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围环境安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判断意识</a:t>
            </a:r>
            <a:r>
              <a:rPr b="1" lang="zh-CN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拍肩、呼叫，证实病人意识丧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检查循环体征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颈动脉搏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不要超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380880" y="3657600"/>
            <a:ext cx="4038840" cy="32004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4800600" y="3657600"/>
            <a:ext cx="403848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39152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启动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EM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4343400" cy="205740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声呼叫别人前来协助抢救及帮助打电话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并讲清楚现场地址和病人情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914400"/>
            <a:ext cx="3124080" cy="548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39116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病人体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71640" y="1220760"/>
            <a:ext cx="746748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苏体位：病人取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仰卧位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置于地面或硬板上；实施者双膝跪地与肩同宽。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头、颈躯干保持同一轴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恢复体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324000" y="3429000"/>
            <a:ext cx="3168360" cy="34290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3419640" y="3429000"/>
            <a:ext cx="2736720" cy="34290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6156360" y="3429000"/>
            <a:ext cx="288288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39116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楷体_GB2312"/>
              </a:rPr>
              <a:t>（三）人工循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71280" y="691920"/>
            <a:ext cx="73911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先判断有无心跳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法：环状软骨旁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c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，触诊时间约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         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禁止同时触摸两侧颈动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前区锤击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-25c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不超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914400" y="3352680"/>
            <a:ext cx="3505320" cy="35053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4800600" y="3429000"/>
            <a:ext cx="350532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胸外心脏按压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1828800"/>
            <a:ext cx="22860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按压部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3048120"/>
            <a:ext cx="236232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按压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4191120"/>
            <a:ext cx="236232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按压深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541008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按压频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1523880"/>
            <a:ext cx="6324480" cy="48006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胸骨下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/2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段。即两乳头连线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343400" y="3200400"/>
            <a:ext cx="3276720" cy="29005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2438280" y="1447920"/>
            <a:ext cx="6858000" cy="4800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两手十指交叉，掌根按压，手指翘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前臂伸直，肘部固定，肩部在胸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正上方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用身体的重力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垂直下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4419720" y="3429000"/>
            <a:ext cx="3733560" cy="28954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6172200" y="4648320"/>
            <a:ext cx="228600" cy="976320"/>
          </a:xfrm>
          <a:prstGeom prst="downArrow">
            <a:avLst>
              <a:gd name="adj1" fmla="val 50000"/>
              <a:gd name="adj2" fmla="val 106772"/>
            </a:avLst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438280" y="1447920"/>
            <a:ext cx="6858000" cy="541008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胸骨下陷 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—5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2743200" y="2362320"/>
            <a:ext cx="5943600" cy="41148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2514600" y="1371600"/>
            <a:ext cx="6781680" cy="5486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00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次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按压与吹气比例：</a:t>
            </a:r>
            <a:r>
              <a:rPr b="0" lang="en-US" sz="3200" spc="-1" strike="noStrike">
                <a:solidFill>
                  <a:srgbClr val="cc3300"/>
                </a:solidFill>
                <a:latin typeface="隶书"/>
                <a:ea typeface="隶书"/>
              </a:rPr>
              <a:t>30: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按压放松比例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:1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每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5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个循环或每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 min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检查及更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单次按压有效指标：颈动脉搏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424944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四）开放气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7391160" cy="184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解开衣服，松开腰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清除口鼻异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开放气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04920" y="3733920"/>
            <a:ext cx="4114800" cy="312408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4800600" y="3657600"/>
            <a:ext cx="4038480" cy="32004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 rot="20830200">
            <a:off x="5638680" y="304560"/>
            <a:ext cx="3505320" cy="2286000"/>
          </a:xfrm>
          <a:prstGeom prst="cloudCallout">
            <a:avLst>
              <a:gd name="adj1" fmla="val -38518"/>
              <a:gd name="adj2" fmla="val 136166"/>
            </a:avLst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Times New Roman"/>
                <a:ea typeface="隶书"/>
              </a:rPr>
              <a:t>舌根上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Times New Roman"/>
                <a:ea typeface="隶书"/>
              </a:rPr>
              <a:t>解除舌后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48320" y="7315200"/>
            <a:ext cx="685800" cy="533520"/>
          </a:xfrm>
          <a:prstGeom prst="rect">
            <a:avLst/>
          </a:prstGeom>
          <a:noFill/>
          <a:ln cap="sq"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752480" y="5486400"/>
            <a:ext cx="595440" cy="152280"/>
          </a:xfrm>
          <a:prstGeom prst="rightArrow">
            <a:avLst>
              <a:gd name="adj1" fmla="val 50000"/>
              <a:gd name="adj2" fmla="val 97754"/>
            </a:avLst>
          </a:prstGeom>
          <a:solidFill>
            <a:srgbClr val="00ff00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324480" y="5334120"/>
            <a:ext cx="595440" cy="152280"/>
          </a:xfrm>
          <a:prstGeom prst="rightArrow">
            <a:avLst>
              <a:gd name="adj1" fmla="val 50000"/>
              <a:gd name="adj2" fmla="val 97754"/>
            </a:avLst>
          </a:prstGeom>
          <a:solidFill>
            <a:srgbClr val="00ff00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624852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248520" y="6095880"/>
            <a:ext cx="304560" cy="381240"/>
          </a:xfrm>
          <a:prstGeom prst="upArrow">
            <a:avLst>
              <a:gd name="adj1" fmla="val 50000"/>
              <a:gd name="adj2" fmla="val 31294"/>
            </a:avLst>
          </a:pr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500"/>
                            </p:stCondLst>
                            <p:childTnLst>
                              <p:par>
                                <p:cTn id="39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4500"/>
                            </p:stCondLst>
                            <p:childTnLst>
                              <p:par>
                                <p:cTn id="3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0"/>
                            </p:stCondLst>
                            <p:childTnLst>
                              <p:par>
                                <p:cTn id="4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500"/>
                            </p:stCondLst>
                            <p:childTnLst>
                              <p:par>
                                <p:cTn id="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611280" y="2781360"/>
            <a:ext cx="7696080" cy="38862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仰头举颏法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注意手指不要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向颏下软组织，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免阻塞气道（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年国际心肺复苏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南推荐手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开放气道方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" y="1828800"/>
            <a:ext cx="2286000" cy="68580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仰头举颏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352680" y="182880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仰头抬颈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324480" y="1828800"/>
            <a:ext cx="2514600" cy="6858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托下颌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11280" y="2852640"/>
            <a:ext cx="7924680" cy="37339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仰头抬颈法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头颈部损伤患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禁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1280" y="2852640"/>
            <a:ext cx="8001000" cy="3810240"/>
          </a:xfrm>
          <a:prstGeom prst="foldedCorner">
            <a:avLst>
              <a:gd name="adj" fmla="val 12500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托下颌法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患者头保持中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适用于怀疑有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部损伤的患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-190440" y="6019920"/>
            <a:ext cx="380880" cy="7596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4648320" y="2819520"/>
            <a:ext cx="3733560" cy="35812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6629400" y="3657600"/>
            <a:ext cx="0" cy="251460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410080" y="6172200"/>
            <a:ext cx="2514600" cy="0"/>
          </a:xfrm>
          <a:prstGeom prst="line">
            <a:avLst/>
          </a:prstGeom>
          <a:ln cap="sq"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4648320" y="2971800"/>
            <a:ext cx="4038480" cy="36576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4572000" y="2895480"/>
            <a:ext cx="41148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归纳心搏骤停的临床表现、诊断、心肺脑复苏的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熟记基础生命支持和复苏后的监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释心搏骤停、心肺复苏、心肺脑复苏的概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道心搏骤停的分类、进一步生命支持和延续生命支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39152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（五）人工呼吸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--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口对口人工呼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18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隶书"/>
                <a:ea typeface="隶书"/>
              </a:rPr>
              <a:t>方法：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打开气道   捏闭鼻孔，完全包住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部  吹气历时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秒以上   松开口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连续吹气</a:t>
            </a:r>
            <a:r>
              <a:rPr b="0" lang="en-US" sz="3600" spc="-1" strike="noStrike">
                <a:solidFill>
                  <a:srgbClr val="cc0066"/>
                </a:solidFill>
                <a:latin typeface="隶书"/>
                <a:ea typeface="隶书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有效指标：看到胸廓起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隶书"/>
                <a:ea typeface="隶书"/>
              </a:rPr>
              <a:t>要点    ：持续开放气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隶书"/>
                <a:ea typeface="隶书"/>
              </a:rPr>
              <a:t>          </a:t>
            </a:r>
            <a:r>
              <a:rPr b="0" lang="zh-CN" sz="3600" spc="-1" strike="noStrike">
                <a:solidFill>
                  <a:srgbClr val="cc0066"/>
                </a:solidFill>
                <a:latin typeface="隶书"/>
                <a:ea typeface="隶书"/>
              </a:rPr>
              <a:t>有效吹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隶书"/>
                <a:ea typeface="隶书"/>
              </a:rPr>
              <a:t>          </a:t>
            </a:r>
            <a:r>
              <a:rPr b="0" lang="zh-CN" sz="3600" spc="-1" strike="noStrike">
                <a:solidFill>
                  <a:srgbClr val="cc0066"/>
                </a:solidFill>
                <a:latin typeface="隶书"/>
                <a:ea typeface="隶书"/>
              </a:rPr>
              <a:t>适量吹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05320" y="1828800"/>
            <a:ext cx="380880" cy="152280"/>
          </a:xfrm>
          <a:prstGeom prst="rightArrow">
            <a:avLst>
              <a:gd name="adj1" fmla="val 50000"/>
              <a:gd name="adj2" fmla="val 62530"/>
            </a:avLst>
          </a:prstGeom>
          <a:solidFill>
            <a:srgbClr val="cc0066"/>
          </a:solidFill>
          <a:ln cap="sq"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981080" y="2438280"/>
            <a:ext cx="381240" cy="152640"/>
          </a:xfrm>
          <a:prstGeom prst="rightArrow">
            <a:avLst>
              <a:gd name="adj1" fmla="val 50000"/>
              <a:gd name="adj2" fmla="val 62441"/>
            </a:avLst>
          </a:prstGeom>
          <a:solidFill>
            <a:srgbClr val="cc0066"/>
          </a:solidFill>
          <a:ln cap="sq"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172200" y="2514600"/>
            <a:ext cx="380880" cy="152280"/>
          </a:xfrm>
          <a:prstGeom prst="rightArrow">
            <a:avLst>
              <a:gd name="adj1" fmla="val 50000"/>
              <a:gd name="adj2" fmla="val 62530"/>
            </a:avLst>
          </a:prstGeom>
          <a:solidFill>
            <a:srgbClr val="cc0066"/>
          </a:solidFill>
          <a:ln cap="sq"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2005111821" descr="">
            <a:hlinkClick r:id="rId1" action="ppaction://hlinksldjump"/>
          </p:cNvPr>
          <p:cNvPicPr/>
          <p:nvPr/>
        </p:nvPicPr>
        <p:blipFill>
          <a:blip r:embed="rId2"/>
          <a:srcRect l="52143" t="20782" r="5125" b="23436"/>
          <a:stretch/>
        </p:blipFill>
        <p:spPr>
          <a:xfrm>
            <a:off x="5334120" y="30481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500"/>
                            </p:stCondLst>
                            <p:childTnLst>
                              <p:par>
                                <p:cTn id="4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500"/>
                            </p:stCondLst>
                            <p:childTnLst>
                              <p:par>
                                <p:cTn id="5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3000"/>
                            </p:stCondLst>
                            <p:childTnLst>
                              <p:par>
                                <p:cTn id="5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3500"/>
                            </p:stCondLst>
                            <p:childTnLst>
                              <p:par>
                                <p:cTn id="5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六）电复律（电除颤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以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室颤最有效的治疗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非同步电除颤、自动体外除颤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极：胸骨右缘锁骨下方；左乳头外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功率：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Ws-360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250920" y="3933720"/>
            <a:ext cx="4190760" cy="27432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4716360" y="3716280"/>
            <a:ext cx="410364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心肺复苏的有效指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42920" y="1412640"/>
            <a:ext cx="784872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心跳、呼吸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恢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大动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扪及搏动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。收缩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mmH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面色（口唇）甲床等转为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红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瞳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散大变小，趋于正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en-US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意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逐渐恢复、昏迷变浅，可出现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反射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挣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电图波形有改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7391520" y="4876920"/>
          <a:ext cx="1484280" cy="16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4876920"/>
                    <a:ext cx="148428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762120" y="228600"/>
            <a:ext cx="5486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143000" y="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、进一步生命支持</a:t>
            </a:r>
            <a:r>
              <a:rPr b="1" lang="zh-CN" sz="3600" spc="-1" strike="noStrike">
                <a:solidFill>
                  <a:srgbClr val="008000"/>
                </a:solidFill>
                <a:latin typeface="隶书"/>
                <a:ea typeface="隶书"/>
              </a:rPr>
              <a:t> 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1197000"/>
            <a:ext cx="891540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明确诊断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电监测、血流动力学监测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控制气道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咽气道、鼻咽气道、气管插管、环甲膜穿刺、气管造口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3213000"/>
            <a:ext cx="89154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机械人工通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简易呼吸器、呼吸机、密闭式麻醉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860640"/>
            <a:ext cx="5148360" cy="39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开胸心脏挤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药物治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、心内注射、气管内给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用药物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肾上腺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阿托品、利多卡因、碳酸氢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5148360" y="4076640"/>
            <a:ext cx="3564000" cy="22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914400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温：争取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钟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进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降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代谢降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7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颅内压降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温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亚冬眠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冬眠、脑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可配合药物降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温持续时间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-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，大脑皮层开始恢复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听觉恢复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逐渐复温，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体温提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及早降温、平稳降温、深度降温、持续降温、缓慢升温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应用：冬眠药、脱水药、激素、高压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33336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三、延续生命支持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—</a:t>
            </a:r>
            <a:r>
              <a:rPr b="1" lang="zh-CN" sz="3600" spc="-1" strike="noStrike">
                <a:solidFill>
                  <a:srgbClr val="00cc99"/>
                </a:solidFill>
                <a:latin typeface="Arial"/>
                <a:ea typeface="楷体_GB2312"/>
              </a:rPr>
              <a:t>脑复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脑功能恢复的顺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28600" y="1197000"/>
            <a:ext cx="891540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172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跳→呼吸→对光反射→吞咽反射→角膜反射→咳嗽反射→疼痛反应→头转动→四肢活动→听觉反应 →呼应→共济、视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72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7280">
              <a:lnSpc>
                <a:spcPct val="13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延髓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主呼吸（恢复时间反映脑缺氧、缺血的严重程度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7280">
              <a:lnSpc>
                <a:spcPct val="13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瞳孔对光反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7280">
              <a:lnSpc>
                <a:spcPct val="13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听觉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大脑皮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7280">
              <a:lnSpc>
                <a:spcPct val="13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唤反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7280">
              <a:lnSpc>
                <a:spcPct val="13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共济、视觉功能的恢复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7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250920" y="1268280"/>
            <a:ext cx="813744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完全恢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恢复意识，遗有智力减退、精神异常或肢体功能障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去大脑皮质综合症：无意识，但保留着呼吸和脑干功能。“植物性状态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脑死亡：持续深昏迷，对外部刺激全无反射；无自主呼吸；无自主运动，肌肉无张力；脑干运动和反射大部或全部消失、体温调节紊乱；脑电图呈等电位；排除抑制脑功能带的其他可能因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132000" y="40464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转    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80880" y="304920"/>
            <a:ext cx="85345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04920" y="1143000"/>
            <a:ext cx="7619760" cy="42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（二）维持循环功能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（三）维持呼吸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（四）防治消化道应激性溃疡和出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（五）防止肾功能衰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（六）维持水、电解质和酸碱平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7724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节 复苏后监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8839440" cy="518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 脑缺氧监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 循环系统的监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三） 呼吸系统的监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四） 肾功能监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五）酸碱平衡监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六） 加强基础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    结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搏骤停是临床最紧急的危险情况。 “时间就是生命”  早期有效的心肺复苏，可以很大程度提高抢救成功率，同时为脑复苏奠定基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章内容主要包括心搏骤停的概述、基础生命支持、进一步生命支持、延续生命支持和复苏后的监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熟练的心肺复苏技术是抢救心搏骤停患者的关键，同时也是衡量一个医院的救治水平高低的重要标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4"/>
          <p:cNvSpPr/>
          <p:nvPr/>
        </p:nvSpPr>
        <p:spPr>
          <a:xfrm>
            <a:off x="2411280" y="260280"/>
            <a:ext cx="44802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案   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324000" y="1628640"/>
            <a:ext cx="8820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4"/>
          <p:cNvSpPr/>
          <p:nvPr/>
        </p:nvSpPr>
        <p:spPr>
          <a:xfrm>
            <a:off x="324000" y="1413000"/>
            <a:ext cx="84960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，突然晕倒在地，呼之不应，家人即呼“１２０”出诊，车到现场，医护人员检查发现患者俯卧在地，意识丧失，无呼吸，大动脉搏动消失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58920" y="3933720"/>
            <a:ext cx="7235640" cy="230508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可能出现什么情况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你在现场应如何救护患者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  心搏骤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1280" y="1700280"/>
            <a:ext cx="815652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搏骤停亦称心脏骤停，是指由各种原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急性心肌缺血、电击、急性中毒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的心脏突然停止跳动，有效泵血功能消失，导致全身组织器官严重缺血、缺氧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尤其是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脑组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遭受严重损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6272280" y="4221000"/>
          <a:ext cx="2871720" cy="21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2280" y="4221000"/>
                    <a:ext cx="2871720" cy="21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619280" y="4221000"/>
            <a:ext cx="1584360" cy="5032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临床死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08720" y="4221000"/>
            <a:ext cx="1584360" cy="5032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脑死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635280" y="3933720"/>
            <a:ext cx="1440000" cy="3603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-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8360" y="1341360"/>
            <a:ext cx="820728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心肺脑复苏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针对心跳呼吸骤停的抢救措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称：复苏，回生术，起死回生术 ，救命术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635280" y="4581360"/>
            <a:ext cx="1656000" cy="142920"/>
          </a:xfrm>
          <a:prstGeom prst="rightArrow">
            <a:avLst>
              <a:gd name="adj1" fmla="val 50000"/>
              <a:gd name="adj2" fmla="val 2896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6920" y="-16200"/>
            <a:ext cx="7770960" cy="55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76400" y="380880"/>
            <a:ext cx="8067600" cy="78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5400" spc="-1" strike="noStrike">
                <a:solidFill>
                  <a:srgbClr val="008000"/>
                </a:solidFill>
                <a:latin typeface="Times New Roman"/>
                <a:ea typeface="隶书"/>
              </a:rPr>
              <a:t>安全时限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1752480"/>
            <a:ext cx="3276720" cy="41036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304920" y="1676520"/>
            <a:ext cx="533376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脑组织正常体温下所能耐受循环停止的最低时限是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-6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跳骤停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min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施行有效的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P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成功率可达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2%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 min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功率仅为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9250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_x000b__x000c_"/>
                <a:ea typeface="楷体_GB2312"/>
              </a:rPr>
              <a:t>一、心搏骤停的原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012160" cy="531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心源性原因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梗、心肌炎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非心源性原因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停止：窒息、药物中毒、头部外伤等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解质与酸碱平衡失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中毒或过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击、雷击、溺水等事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麻醉和手术意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477120" y="3100320"/>
            <a:ext cx="2666880" cy="37576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7370640" y="0"/>
            <a:ext cx="177336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834920" y="1267920"/>
            <a:ext cx="4321080" cy="331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脏完全停搏（心室静止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电机械分离 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-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心室颤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-4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372360" y="5734080"/>
            <a:ext cx="151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971640" y="3124080"/>
            <a:ext cx="7162560" cy="37339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4588920" y="184320"/>
            <a:ext cx="3895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二、心搏骤停的类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_x000b__x000c_"/>
                <a:ea typeface="楷体_GB2312"/>
              </a:rPr>
              <a:t>三、心搏骤停的临床表现与诊断</a:t>
            </a:r>
            <a:r>
              <a:rPr b="1" lang="zh-CN" sz="4400" spc="-1" strike="noStrike">
                <a:solidFill>
                  <a:srgbClr val="000000"/>
                </a:solidFill>
                <a:latin typeface="_x000b__x000c_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077320" cy="28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识突然消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脉搏触不到、血压测不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音消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呈叹息样或停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瞳孔散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面色苍白兼有青紫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112536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临床表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" y="4724280"/>
            <a:ext cx="83059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诊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意识突然丧失、大动脉搏动消失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6300720" y="836640"/>
            <a:ext cx="2705040" cy="3124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ffcc"/>
            </a:outerShdw>
          </a:effectLst>
        </p:spPr>
      </p:pic>
      <p:pic>
        <p:nvPicPr>
          <p:cNvPr id="268" name="slide0370_image115" descr=""/>
          <p:cNvPicPr/>
          <p:nvPr/>
        </p:nvPicPr>
        <p:blipFill>
          <a:blip r:embed="rId2"/>
          <a:stretch/>
        </p:blipFill>
        <p:spPr>
          <a:xfrm>
            <a:off x="6781680" y="4114800"/>
            <a:ext cx="2109960" cy="25146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</p:spTree>
  </p:cSld>
  <p:transition spd="med">
    <p:cover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59:22Z</dcterms:created>
  <dc:creator>番茄花园</dc:creator>
  <dc:description/>
  <dc:language>en-US</dc:language>
  <cp:lastModifiedBy>微软用户</cp:lastModifiedBy>
  <dcterms:modified xsi:type="dcterms:W3CDTF">2013-01-30T05:49:31Z</dcterms:modified>
  <cp:revision>902</cp:revision>
  <dc:subject/>
  <dc:title>Reading Fun</dc:title>
</cp:coreProperties>
</file>