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C212-F39F-49C2-ADCD-65E9E835A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C1E5-46DE-46DF-947F-7B56E9D1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AC53-42EC-493A-9388-799DD0B9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530A-B5FA-4DCF-8C96-E838478B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5955-9AA5-4BAF-82BE-1D3EE874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F6AC-F4DB-44C2-B952-DE559A83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608B-F40C-4117-9DB1-9CFF9670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B87B-3E33-41BC-AF56-A03EA6FD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784E-52AB-40A5-9C87-DD18C80A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5B59-1CB4-4A29-A690-667185E7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A957-DC17-4DAF-946E-DB1546B5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F19F-47FF-4337-9579-6B4EA4DD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BEA1-1442-4B3D-BF75-BD42E4C3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6ADA-3E0E-4986-BDEA-16E1A515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33FD-90AA-46AA-85E2-ED1FF77B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E481-16A8-4AB9-8D57-CE41351D7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617B-AE06-44B8-80B7-EE33502C1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0A2E-E69F-4A93-87C8-5715E280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5375-DBC6-4F9C-BBE2-7EA5D0F1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6932-2CE9-4FE0-84AA-A6B5BB62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0351-2A0F-483C-AE49-47E95B40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6F7F-F286-48BC-BF97-1F931734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FE1F-A0AE-4700-94FB-C49E4F0A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6E04-55FE-41E9-9CF5-C4D2E65C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7F1A-3DF4-4E6E-80E5-B2B65A92ADE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D254-4AF3-404F-8FDF-9A8F1FE14C5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90720" y="2971800"/>
            <a:ext cx="449568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医学节肢动物的发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2209680"/>
            <a:ext cx="5486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医学节肢动物的形态特征与主要种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04920"/>
            <a:ext cx="8991720" cy="182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第九节 医学节肢动物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733920"/>
            <a:ext cx="449604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医学节肢动物对人体的危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5181480"/>
            <a:ext cx="449604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重要医学节肢动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4343400"/>
            <a:ext cx="449568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医学节肢动物的生态与防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2362320" cy="217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276720" y="380880"/>
            <a:ext cx="2361960" cy="2063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095880" y="304920"/>
            <a:ext cx="1957680" cy="2133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90720" y="2666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2666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白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2666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228600" y="3200400"/>
            <a:ext cx="2666880" cy="1947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3429000" y="3200400"/>
            <a:ext cx="2087640" cy="2133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6095880" y="3276720"/>
            <a:ext cx="2438640" cy="1939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90720" y="5410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阴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5562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臭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5562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硬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2554200" cy="2819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048120" y="3809880"/>
            <a:ext cx="2743200" cy="2244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867280" y="304920"/>
            <a:ext cx="1862280" cy="2590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809880" y="31240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蠕形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3124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疥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3429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软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60958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恙螨幼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3886200" y="380880"/>
            <a:ext cx="9302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457200" y="380880"/>
          <a:ext cx="8229600" cy="5747040"/>
        </p:xfrm>
        <a:graphic>
          <a:graphicData uri="http://schemas.openxmlformats.org/drawingml/2006/table">
            <a:tbl>
              <a:tblPr/>
              <a:tblGrid>
                <a:gridCol w="2378160"/>
                <a:gridCol w="5851440"/>
              </a:tblGrid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宋体"/>
                          <a:ea typeface="楷体_GB2312"/>
                        </a:rPr>
                        <a:t>媒介节肢动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宋体"/>
                          <a:ea typeface="楷体_GB2312"/>
                        </a:rPr>
                        <a:t>虫媒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蚊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疟疾、丝虫病、流行性乙型脑炎、登革热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结膜吸吮线虫病；多种消化道、呼吸道、眼部、皮肤的细菌性、病毒性和寄生虫性疾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白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黑热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蚤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鼠疫、地方性斑疹伤寒、膜壳绦虫病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蟑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美丽筒线虫病、缩小膜壳绦虫病等；多种消化道的细菌性、病毒性和寄生虫性疾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流行性斑疹伤寒、虱性回归热、战壕热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森林脑炎、新疆出血热、蜱媒回归热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恙螨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恙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革螨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流行性出血热、森林脑炎、立克次体痘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2057400"/>
            <a:ext cx="777240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医学节肢动物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以直接或间接方式危害人体健康的节肢动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媒介节肢动物或传播媒介  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楷体_GB2312"/>
              </a:rPr>
              <a:t>能传播疾病的节肢动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虫媒病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由媒介节肢动物所传播的疾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2860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第九节 医学节肢动物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ahoma"/>
                <a:ea typeface="楷体_GB2312"/>
              </a:rPr>
              <a:t>医学节肢动物的形态特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身体分节，两侧对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体表由坚韧的外骨骼组成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附肢成对、分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循环系统为开放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8240" y="380880"/>
            <a:ext cx="84582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节肢动物的形态特征与主要种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cc00"/>
                </a:solidFill>
                <a:latin typeface="Tahoma"/>
                <a:ea typeface="楷体_GB2312"/>
              </a:rPr>
              <a:t>医学节肢动物的主要种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昆虫纲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蚊、蝇、蚤、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蛛形纲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蜱、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甲壳纲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蟹、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楷体_GB2312"/>
              </a:rPr>
              <a:t>蝲蛄、剑水蚤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唇足纲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蜈蚣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倍足纲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马陆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节肢动物的形态特征与主要种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变态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节肢动物由卵到成虫的发育过程中所经历的形态、生理和生活习性等一系列的改变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全变态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发育过程经历蛹期，蛹前发育期的幼虫在形态和生活习性等方面与成虫完全不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半变态或不完全变态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发育过程中无需经历蛹期，成虫前发育期的若虫在形态和生活习性等方面与成虫相似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仅表现为虫体较小，生殖器官未发育成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二、医学节肢动物的发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（一）直接危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叮刺、吸血和骚扰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蚊、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疥螨、蝇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毒害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硬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致敏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尘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三、医学节肢动物对人体的危害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（二）间接危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械性传播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病原体在节肢动物体内或体表没有发育和繁殖只是被机械性携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物性传播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病原体在节肢动物体内必须经过发育、繁殖具有感染性后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才能传播给新宿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三、医学节肢动物对人体的危害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ahoma"/>
                <a:ea typeface="楷体_GB2312"/>
              </a:rPr>
              <a:t>（一）医学节肢动物的生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指医学节肢动物与其所生存环境之间的相互关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（二）医学节肢动物的防制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环境治理、物理防制、化学防制、生物防制、遗传防制以及法规防制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四、医学节肢动物的生态与防制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560" y="2362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重要医学节肢动物的形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重要医学节肢动物与其传播的虫媒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五、重要医学节肢动物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8:11:02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