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3B88-39E3-4423-929D-14D5F55AD0D9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44D5-06A2-406D-9562-B3D0F984A6CE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4B3D-BF18-45DC-805C-C5CBBDDB8CF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54A5-70F1-4110-97EC-B3FF8C86F5C8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4795-75E5-4BBD-8CF8-04DBD61B213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E7C5-1B49-4874-857A-EE9EAAB4FB23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786D-D3E3-4DC7-A2EC-621819250E0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8CEF-081D-4B25-9474-7503D1ACE3FE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32DB-985A-4BD8-BDEC-DB2499E30C4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0AE7-B67D-42A6-9EE5-99A40D6DB060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B59D-642B-41F2-ABD7-ACA3F06B79E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35A-D3F0-40D0-8176-D5D39280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EBD6-43B6-4F9E-926C-1C8C76EC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327-5A30-4ADD-A598-1F2CCE1D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7D2-2A46-4502-87B5-C2B1570E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AD01-527C-4257-AC7D-5EC22235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1F6C-5C0C-446B-AB44-31BCBB7A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2596-5D04-4EA1-8B3E-C7DB1C57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0109-B029-4A1C-91EC-CB19E9F9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EB42-DFD3-4E26-AC03-9D958B57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7206-265D-4EB5-9BB2-CB50BB36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5FB6-A9D7-4323-BE94-C0DE4691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2FD-70FC-4507-93BE-9199C6BC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2888-B4A9-40DF-8B28-33496300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29B1-7A19-49BE-9A44-8532086B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C6C8-6B9D-4C39-AFBF-4339F874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DAAE-C34E-4FC8-9E1B-4D4B7505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FF4A-4427-4B66-A6CE-3498E684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6AD-8123-4419-9AA2-32D4D394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B5F-C605-4881-BC85-A990E760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CF6-2A5B-4942-96CC-4DD7F906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60A-39C1-4EE8-9131-BAE2C5FE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E23-F902-4462-B78B-60E43295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654-29C4-4847-AE6C-E6E638B9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2A7-C1A0-458B-BC5C-D5F0D002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9432-07FC-4AAA-9DD8-2E025C81F1C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71B9-6D46-4F50-8418-BC7285CED5F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755640" y="404640"/>
            <a:ext cx="7232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四、其他呼吸道感染细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百日咳鲍特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71640" y="2133720"/>
            <a:ext cx="7335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短杆菌，有毒株有荚膜，无鞭毛，无芽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鲍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rdet-Gengou, B-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培养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组合 11"/>
          <p:cNvGrpSpPr/>
          <p:nvPr/>
        </p:nvGrpSpPr>
        <p:grpSpPr>
          <a:xfrm>
            <a:off x="755640" y="3500280"/>
            <a:ext cx="3084480" cy="2345040"/>
            <a:chOff x="755640" y="3500280"/>
            <a:chExt cx="3084480" cy="2345040"/>
          </a:xfrm>
        </p:grpSpPr>
        <p:pic>
          <p:nvPicPr>
            <p:cNvPr id="155" name="Picture 6" descr=""/>
            <p:cNvPicPr/>
            <p:nvPr/>
          </p:nvPicPr>
          <p:blipFill>
            <a:blip r:embed="rId1"/>
            <a:stretch/>
          </p:blipFill>
          <p:spPr>
            <a:xfrm>
              <a:off x="755640" y="3500280"/>
              <a:ext cx="3084480" cy="234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"/>
            <p:cNvPicPr/>
            <p:nvPr/>
          </p:nvPicPr>
          <p:blipFill>
            <a:blip r:embed="rId2"/>
            <a:srcRect l="25705" t="19845" r="21169" b="27405"/>
            <a:stretch/>
          </p:blipFill>
          <p:spPr>
            <a:xfrm>
              <a:off x="2394000" y="4551480"/>
              <a:ext cx="1382760" cy="1235160"/>
            </a:xfrm>
            <a:prstGeom prst="rect">
              <a:avLst/>
            </a:prstGeom>
            <a:ln w="38160">
              <a:solidFill>
                <a:srgbClr val="d9d9d9"/>
              </a:solidFill>
              <a:miter/>
            </a:ln>
          </p:spPr>
        </p:pic>
      </p:grpSp>
      <p:pic>
        <p:nvPicPr>
          <p:cNvPr id="157" name="Picture 6" descr="http://brc.se.fju.edu.tw/nobelist/191x/p1919.files/image002.jpg"/>
          <p:cNvPicPr/>
          <p:nvPr/>
        </p:nvPicPr>
        <p:blipFill>
          <a:blip r:embed="rId3"/>
          <a:stretch/>
        </p:blipFill>
        <p:spPr>
          <a:xfrm>
            <a:off x="4159080" y="3786120"/>
            <a:ext cx="12160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12"/>
          <p:cNvGrpSpPr/>
          <p:nvPr/>
        </p:nvGrpSpPr>
        <p:grpSpPr>
          <a:xfrm>
            <a:off x="5867280" y="3500280"/>
            <a:ext cx="3022560" cy="2506680"/>
            <a:chOff x="5867280" y="3500280"/>
            <a:chExt cx="3022560" cy="2506680"/>
          </a:xfrm>
        </p:grpSpPr>
        <p:pic>
          <p:nvPicPr>
            <p:cNvPr id="159" name="Picture 4" descr="http://www.bmb.leeds.ac.uk/mbiology/ug/ugteach/dental/exam/exam_images/q9.jpg"/>
            <p:cNvPicPr/>
            <p:nvPr/>
          </p:nvPicPr>
          <p:blipFill>
            <a:blip r:embed="rId4"/>
            <a:srcRect l="3785" t="23810" r="3785" b="0"/>
            <a:stretch/>
          </p:blipFill>
          <p:spPr>
            <a:xfrm>
              <a:off x="5867280" y="3583440"/>
              <a:ext cx="3022560" cy="242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9"/>
            <p:cNvSpPr/>
            <p:nvPr/>
          </p:nvSpPr>
          <p:spPr>
            <a:xfrm>
              <a:off x="7121520" y="35002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细小、光滑、银灰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矩形 10"/>
          <p:cNvSpPr/>
          <p:nvPr/>
        </p:nvSpPr>
        <p:spPr>
          <a:xfrm>
            <a:off x="3216240" y="5699160"/>
            <a:ext cx="313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JULES BOR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(1870 -196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919 Nobel Prize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504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（三）微生物学检查法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2852280"/>
            <a:ext cx="511344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离培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巧克力培养基、卫星现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32000" y="2743200"/>
            <a:ext cx="5322960" cy="30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荚膜多糖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敏感抗菌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482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嗜肺军团菌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360" y="2492280"/>
            <a:ext cx="556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971640" y="1773360"/>
            <a:ext cx="6029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杆菌，有菌毛、微荚膜、鞭毛，无芽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uffered charcoal yeast extrac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CY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ga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半胱氨酸和铁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水环境中抵抗力强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与阿米巴原虫和蓝绿藻等共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形成多菌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有碳源和能源储存颗粒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蒸馏水和自来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6732720" y="981000"/>
            <a:ext cx="1904760" cy="1689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6732720" y="2908440"/>
            <a:ext cx="1968480" cy="165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6732720" y="4761000"/>
            <a:ext cx="1968480" cy="209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1052640"/>
            <a:ext cx="482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4050000" cy="377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412920" y="491976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00000" y="1197000"/>
            <a:ext cx="3672000" cy="368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胞内寄生菌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但在适宜环境中（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％相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湿度下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热水中；与原虫等共生；在多菌种生物被膜中）可较长期存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侵入营自由生活的阿米巴或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噬细胞中可繁殖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599000" y="1484280"/>
            <a:ext cx="45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嗜肺军团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的生存和繁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6108840" y="5805360"/>
            <a:ext cx="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719280" y="2205000"/>
            <a:ext cx="84247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以气溶胶方式通过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主要污染源是供水系统及和空调系统冷却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社区获得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ommunity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医源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socomial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或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ospital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的重要病原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90000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和免疫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84360" y="5516640"/>
            <a:ext cx="7618320" cy="642600"/>
          </a:xfrm>
          <a:prstGeom prst="rect">
            <a:avLst/>
          </a:prstGeom>
          <a:solidFill>
            <a:srgbClr val="b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细胞免疫在抗感染中起主要作用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62200" y="739800"/>
            <a:ext cx="15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11280" y="7650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三）所致疾病：军团菌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55640" y="1341360"/>
            <a:ext cx="7261200" cy="605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肺炎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肺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608040" y="2384280"/>
            <a:ext cx="1326960" cy="57636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感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935000" y="2673360"/>
            <a:ext cx="11574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3170160" y="2311560"/>
            <a:ext cx="1779840" cy="79344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乏力不适，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呼吸道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5877000" y="2239920"/>
            <a:ext cx="2476440" cy="86508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&gt;39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痛、咳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103720" y="2673360"/>
            <a:ext cx="6969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074320" y="2205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~10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36560" y="3613320"/>
            <a:ext cx="7593120" cy="104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非肺炎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即庞蒂阿克热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ontiac fe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轻型、自限性疾病。潜伏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~2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临床症状类似流感，病程一周，通常无需治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900000" y="907920"/>
            <a:ext cx="80647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军团菌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病是伴随着人类社会进步和经济的发展，出现的一种新的传染性疾病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7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美国费城的一次退伍军人大会期间，发生肺炎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，其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死亡，引起了人们关注。由于病因不明，且患病的人又都是退伍军人，称之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“军团菌病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一种水源微生物，在自然条件下，当水温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时可长期存活。嗜热怕冷，但人工培养却极其困难，故有苛养菌之称，这也是它迟迟未被发现的主要原因。军团菌在普通自来水中可存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天以上，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左右甚至在火山口附近的水塘里都能发现军团菌的踪迹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影响个体的易感性的因素主要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①年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发病率随年龄增长而升高，病死率亦呈同样趋势；据报道发病的多为老年人；②发病以男性多见；③吸烟组的发病率为不吸烟组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倍，随吸烟量增加危险性增加；④免疫功能受损危险性升高；⑤肿瘤、糖尿病、肾病和肺气肿患者易感性升高。军团菌病全年均可发生，而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月发病最多。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国内外公认的首选药物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霉素、阿奇霉素、克拉霉素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疗效最可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5"/>
          <p:cNvSpPr txBox="1"/>
          <p:nvPr/>
        </p:nvSpPr>
        <p:spPr>
          <a:xfrm>
            <a:off x="6300720" y="4292640"/>
            <a:ext cx="2239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5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思考题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00120" y="981000"/>
            <a:ext cx="3200400" cy="2737080"/>
          </a:xfrm>
          <a:prstGeom prst="cloudCallout">
            <a:avLst>
              <a:gd name="adj1" fmla="val 76587"/>
              <a:gd name="adj2" fmla="val 8834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脲酶分解试验可诊断何种病原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76280" y="4437000"/>
            <a:ext cx="3200400" cy="1871640"/>
          </a:xfrm>
          <a:prstGeom prst="wedgeRoundRectCallout">
            <a:avLst>
              <a:gd name="adj1" fmla="val 121472"/>
              <a:gd name="adj2" fmla="val 5046"/>
              <a:gd name="adj3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BCY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培养基可分离培养何种病原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6156360" y="1052640"/>
            <a:ext cx="2495520" cy="2305080"/>
          </a:xfrm>
          <a:prstGeom prst="wedgeEllipseCallout">
            <a:avLst>
              <a:gd name="adj1" fmla="val -27097"/>
              <a:gd name="adj2" fmla="val 9456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军团菌病的致病菌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pertussis boy"/>
          <p:cNvPicPr/>
          <p:nvPr/>
        </p:nvPicPr>
        <p:blipFill>
          <a:blip r:embed="rId1">
            <a:lum contrast="6000"/>
          </a:blip>
          <a:srcRect l="0" t="11701" r="0" b="0"/>
          <a:stretch/>
        </p:blipFill>
        <p:spPr>
          <a:xfrm>
            <a:off x="5651640" y="981000"/>
            <a:ext cx="288108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8"/>
          <p:cNvSpPr/>
          <p:nvPr/>
        </p:nvSpPr>
        <p:spPr>
          <a:xfrm>
            <a:off x="6018480" y="4941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百日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鸣样吼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5268960" cy="402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616360" cy="4041720"/>
          </a:xfrm>
          <a:prstGeom prst="rect">
            <a:avLst/>
          </a:prstGeom>
          <a:ln w="0">
            <a:noFill/>
          </a:ln>
        </p:spPr>
      </p:pic>
      <p:sp>
        <p:nvSpPr>
          <p:cNvPr id="167" name="矩形 12"/>
          <p:cNvSpPr/>
          <p:nvPr/>
        </p:nvSpPr>
        <p:spPr>
          <a:xfrm>
            <a:off x="1476360" y="5373720"/>
            <a:ext cx="6264360" cy="520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白百破三联疫苗接种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岁以下幼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1197000"/>
            <a:ext cx="64087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流感嗜血杆菌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92000" y="3212640"/>
            <a:ext cx="554364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感嗜血杆菌俗称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流感杆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是嗜血杆菌属中最常见的致病菌，曾被误认为流行性感冒的病原体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得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为流感常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继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感染性细菌，也可引起原发性感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1268280"/>
            <a:ext cx="3887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一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3284640"/>
            <a:ext cx="36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革兰阴性短小杆菌，常呈多形态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无鞭毛，不形成芽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培养必须有新鲜血液成分（主要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）才能生长，故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嗜血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413160" cy="235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505320" cy="236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87280" y="242100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形态与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培养特性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需要含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X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子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V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的新鲜血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是细菌合成过氧化氢酶、过氧化物酶、细胞色素氧化酶等呼吸酶的辅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卫星现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提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16360" y="981000"/>
          <a:ext cx="40323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981000"/>
                    <a:ext cx="40323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16360" y="386064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二）致病性  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2920" y="2349360"/>
            <a:ext cx="2521080" cy="31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g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492280"/>
            <a:ext cx="32400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致疾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鼻咽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咽喉会厌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节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8:29Z</dcterms:modified>
  <cp:revision>271</cp:revision>
  <dc:subject/>
  <dc:title>Microbiology includes:</dc:title>
</cp:coreProperties>
</file>