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16E9-9840-4F00-ABD4-21C616D9F7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3A2C-3662-4F84-A721-D79AA3C578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PD-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行分枝杆菌来源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52360" y="-458640"/>
            <a:ext cx="4824360" cy="4751280"/>
          </a:xfrm>
          <a:custGeom>
            <a:avLst/>
            <a:gdLst>
              <a:gd name="textAreaLeft" fmla="*/ 1785960 w 4824360"/>
              <a:gd name="textAreaRight" fmla="*/ 3038400 w 4824360"/>
              <a:gd name="textAreaTop" fmla="*/ 1758960 h 4751280"/>
              <a:gd name="textAreaBottom" fmla="*/ 299232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435640" y="3733920"/>
            <a:ext cx="3429000" cy="3124080"/>
          </a:xfrm>
          <a:custGeom>
            <a:avLst/>
            <a:gdLst>
              <a:gd name="textAreaLeft" fmla="*/ 1269360 w 3429000"/>
              <a:gd name="textAreaRight" fmla="*/ 2159640 w 3429000"/>
              <a:gd name="textAreaTop" fmla="*/ 1156680 h 3124080"/>
              <a:gd name="textAreaBottom" fmla="*/ 196740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b8749"/>
                </a:solidFill>
                <a:latin typeface="宋体"/>
              </a:rPr>
              <a:t>第十章  常见对人类致病病原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07920"/>
            <a:ext cx="914400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熟记各种常见对人类致病病原菌的生物学特性、致病性与防治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描述各种常见对人类致病病原菌的形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说出各种常见对人类致病病原菌的致病机制与所致疾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学会对各种常见对人类致病病原菌的实验诊断方法，并能识别各种常见对人类致病的病原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归纳各种常见人类致病病原菌的致病物质及其所致疾病，对人体的危害，防制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培养：学生认真负责的工作态度，学会对各种常见致病菌标本进行仔细检查，通过实验操作，使学生树立牢固的“无菌概念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453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原发（初次）感染：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肺结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27640" y="1125360"/>
            <a:ext cx="2665440" cy="2735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951200" cy="217332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grpSp>
        <p:nvGrpSpPr>
          <p:cNvPr id="144" name=""/>
          <p:cNvGrpSpPr/>
          <p:nvPr/>
        </p:nvGrpSpPr>
        <p:grpSpPr>
          <a:xfrm>
            <a:off x="971280" y="2205000"/>
            <a:ext cx="4810320" cy="1783440"/>
            <a:chOff x="971280" y="2205000"/>
            <a:chExt cx="4810320" cy="1783440"/>
          </a:xfrm>
        </p:grpSpPr>
        <p:grpSp>
          <p:nvGrpSpPr>
            <p:cNvPr id="145" name=""/>
            <p:cNvGrpSpPr/>
            <p:nvPr/>
          </p:nvGrpSpPr>
          <p:grpSpPr>
            <a:xfrm>
              <a:off x="1334160" y="2205000"/>
              <a:ext cx="4447440" cy="1479960"/>
              <a:chOff x="1334160" y="2205000"/>
              <a:chExt cx="4447440" cy="14799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34160" y="2205000"/>
                <a:ext cx="4102920" cy="1479960"/>
                <a:chOff x="1334160" y="2205000"/>
                <a:chExt cx="4102920" cy="1479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60720" y="2349720"/>
                  <a:ext cx="358920" cy="1295280"/>
                </a:xfrm>
                <a:custGeom>
                  <a:avLst/>
                  <a:gdLst>
                    <a:gd name="textAreaLeft" fmla="*/ 229320 w 358920"/>
                    <a:gd name="textAreaRight" fmla="*/ 359280 w 35892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48000" y="220500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原发感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48000" y="271008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淋巴管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48000" y="3286080"/>
                  <a:ext cx="20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肺门淋巴结肿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34160" y="27100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（原发综合征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5148000" y="2276640"/>
                <a:ext cx="144360" cy="1368360"/>
              </a:xfrm>
              <a:custGeom>
                <a:avLst/>
                <a:gdLst>
                  <a:gd name="textAreaLeft" fmla="*/ 0 w 144360"/>
                  <a:gd name="textAreaRight" fmla="*/ 52200 w 144360"/>
                  <a:gd name="textAreaTop" fmla="*/ 35640 h 1368360"/>
                  <a:gd name="textAreaBottom" fmla="*/ 1332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91400" y="2276640"/>
                <a:ext cx="790200" cy="13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哑铃型阴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971280" y="3284640"/>
              <a:ext cx="20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缺乏免疫力，病灶不局限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00000" y="4292640"/>
            <a:ext cx="5977080" cy="398880"/>
            <a:chOff x="900000" y="4292640"/>
            <a:chExt cx="5977080" cy="398880"/>
          </a:xfrm>
        </p:grpSpPr>
        <p:sp>
          <p:nvSpPr>
            <p:cNvPr id="156" name=""/>
            <p:cNvSpPr/>
            <p:nvPr/>
          </p:nvSpPr>
          <p:spPr>
            <a:xfrm>
              <a:off x="90000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细胞免疫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4508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872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35000" y="4797360"/>
            <a:ext cx="3695400" cy="1366920"/>
            <a:chOff x="1035000" y="4797360"/>
            <a:chExt cx="3695400" cy="1366920"/>
          </a:xfrm>
        </p:grpSpPr>
        <p:sp>
          <p:nvSpPr>
            <p:cNvPr id="160" name=""/>
            <p:cNvSpPr/>
            <p:nvPr/>
          </p:nvSpPr>
          <p:spPr>
            <a:xfrm>
              <a:off x="1035000" y="537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原发感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9280" y="4869000"/>
              <a:ext cx="144360" cy="12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52360" y="4797360"/>
              <a:ext cx="2678040" cy="1334160"/>
              <a:chOff x="2052360" y="4797360"/>
              <a:chExt cx="2678040" cy="1334160"/>
            </a:xfrm>
          </p:grpSpPr>
          <p:sp>
            <p:nvSpPr>
              <p:cNvPr id="163" name=""/>
              <p:cNvSpPr/>
              <p:nvPr/>
            </p:nvSpPr>
            <p:spPr>
              <a:xfrm>
                <a:off x="2052360" y="5732640"/>
                <a:ext cx="23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粟粒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08000" y="50846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63400" y="47973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纤维化或钙化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44760" y="4869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痊愈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63400" y="5300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活动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 rot="1377000">
            <a:off x="4642920" y="4986000"/>
            <a:ext cx="2519640" cy="1871640"/>
          </a:xfrm>
          <a:prstGeom prst="cloudCallout">
            <a:avLst>
              <a:gd name="adj1" fmla="val -18800"/>
              <a:gd name="adj2" fmla="val 1095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40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咳嗽、食欲差、体重下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777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继发（再次）感染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外感染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结核、肾结核、肠结核、结核性腹膜炎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79640" y="3645000"/>
            <a:ext cx="2879640" cy="1784880"/>
            <a:chOff x="1979640" y="3645000"/>
            <a:chExt cx="2879640" cy="1784880"/>
          </a:xfrm>
        </p:grpSpPr>
        <p:sp>
          <p:nvSpPr>
            <p:cNvPr id="171" name=""/>
            <p:cNvSpPr/>
            <p:nvPr/>
          </p:nvSpPr>
          <p:spPr>
            <a:xfrm>
              <a:off x="1979640" y="364500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54200" y="472608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空洞（开放性肺结核，传染性极强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312360" y="3393000"/>
              <a:ext cx="287640" cy="1368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2"/>
                  </a:lnTo>
                  <a:cubicBezTo>
                    <a:pt x="10800" y="9692"/>
                    <a:pt x="5400" y="10592"/>
                    <a:pt x="0" y="10592"/>
                  </a:cubicBezTo>
                  <a:cubicBezTo>
                    <a:pt x="5400" y="10592"/>
                    <a:pt x="10800" y="11492"/>
                    <a:pt x="10800" y="123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0920" y="4294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492360" y="42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860640"/>
            <a:ext cx="215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844000">
            <a:off x="5291280" y="3429720"/>
            <a:ext cx="3673440" cy="1871640"/>
          </a:xfrm>
          <a:prstGeom prst="cloudCallout">
            <a:avLst>
              <a:gd name="adj1" fmla="val -59421"/>
              <a:gd name="adj2" fmla="val 27694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25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乏力、盗汗、食欲差、体重减轻、咳嗽、咯血、胸痛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76360" y="2997360"/>
            <a:ext cx="66308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免疫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对结核分枝杆菌有较强的免疫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分枝杆菌产生的免疫为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感染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fection immun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保护作用主要依赖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细胞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1700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（三）免疫性与超敏反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1268280"/>
            <a:ext cx="67676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机体获得对结核杆菌免疫力的同时，也导致了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迟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型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当致敏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淋巴细胞再次遇到结核杆菌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即能释放出淋巴因子，引起强烈的超敏反应，形成以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核细胞浸润为主的炎症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容易发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干酪样坏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至液化形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空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83640" y="1197000"/>
            <a:ext cx="6624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菌素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结核菌素作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抗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检测受试者对结核杆菌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免疫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皮肤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将结核菌素注入皮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局部出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硬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反之为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阴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根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硬结直径大小作出判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5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：以往感染过结核杆菌并有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阴性：未曾感染过结核杆菌，无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强阳性：体内可能有活动性结核病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28"/>
          <p:cNvSpPr/>
          <p:nvPr/>
        </p:nvSpPr>
        <p:spPr>
          <a:xfrm>
            <a:off x="1136520" y="1509840"/>
            <a:ext cx="778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29"/>
          <p:cNvSpPr/>
          <p:nvPr/>
        </p:nvSpPr>
        <p:spPr>
          <a:xfrm>
            <a:off x="2117520" y="692280"/>
            <a:ext cx="48895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结核菌素试剂：旧结核菌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纯蛋白衍生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核菌素＝结核杆菌蛋白制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: PPD-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G-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030"/>
          <p:cNvGrpSpPr/>
          <p:nvPr/>
        </p:nvGrpSpPr>
        <p:grpSpPr>
          <a:xfrm>
            <a:off x="914400" y="2286000"/>
            <a:ext cx="2560680" cy="1863720"/>
            <a:chOff x="914400" y="2286000"/>
            <a:chExt cx="2560680" cy="1863720"/>
          </a:xfrm>
        </p:grpSpPr>
        <p:pic>
          <p:nvPicPr>
            <p:cNvPr id="191" name="Picture 1031" descr="DSC00007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256068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032"/>
            <p:cNvSpPr/>
            <p:nvPr/>
          </p:nvSpPr>
          <p:spPr>
            <a:xfrm>
              <a:off x="914400" y="2286000"/>
              <a:ext cx="256068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035"/>
          <p:cNvGrpSpPr/>
          <p:nvPr/>
        </p:nvGrpSpPr>
        <p:grpSpPr>
          <a:xfrm>
            <a:off x="5916600" y="2349360"/>
            <a:ext cx="2340000" cy="1943280"/>
            <a:chOff x="5916600" y="2349360"/>
            <a:chExt cx="2340000" cy="1943280"/>
          </a:xfrm>
        </p:grpSpPr>
        <p:pic>
          <p:nvPicPr>
            <p:cNvPr id="194" name="Picture 1036" descr="DSC00007"/>
            <p:cNvPicPr/>
            <p:nvPr/>
          </p:nvPicPr>
          <p:blipFill>
            <a:blip r:embed="rId2"/>
            <a:stretch/>
          </p:blipFill>
          <p:spPr>
            <a:xfrm>
              <a:off x="5916600" y="2349360"/>
              <a:ext cx="23400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037"/>
            <p:cNvSpPr/>
            <p:nvPr/>
          </p:nvSpPr>
          <p:spPr>
            <a:xfrm>
              <a:off x="5916600" y="2349360"/>
              <a:ext cx="234000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038"/>
          <p:cNvSpPr/>
          <p:nvPr/>
        </p:nvSpPr>
        <p:spPr>
          <a:xfrm>
            <a:off x="982800" y="2370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PPD-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5883840" y="2370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BCG-P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0"/>
          <p:cNvSpPr/>
          <p:nvPr/>
        </p:nvSpPr>
        <p:spPr>
          <a:xfrm>
            <a:off x="5532480" y="3286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41"/>
          <p:cNvSpPr/>
          <p:nvPr/>
        </p:nvSpPr>
        <p:spPr>
          <a:xfrm>
            <a:off x="3603600" y="3573360"/>
            <a:ext cx="19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8~72 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42" descr="Tuberculin_wheal"/>
          <p:cNvPicPr/>
          <p:nvPr/>
        </p:nvPicPr>
        <p:blipFill>
          <a:blip r:embed="rId3"/>
          <a:stretch/>
        </p:blipFill>
        <p:spPr>
          <a:xfrm>
            <a:off x="755640" y="4365720"/>
            <a:ext cx="2784600" cy="1935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43"/>
          <p:cNvSpPr/>
          <p:nvPr/>
        </p:nvSpPr>
        <p:spPr>
          <a:xfrm>
            <a:off x="3710160" y="4437000"/>
            <a:ext cx="4417920" cy="1618560"/>
          </a:xfrm>
          <a:prstGeom prst="rect">
            <a:avLst/>
          </a:prstGeom>
          <a:solidFill>
            <a:srgbClr val="ffb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肿硬节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阳性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1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强阳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g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感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l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接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B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l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阴性（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感染早期、老人、严重疾病、获得性细胞免疫低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44"/>
          <p:cNvSpPr/>
          <p:nvPr/>
        </p:nvSpPr>
        <p:spPr>
          <a:xfrm>
            <a:off x="3484440" y="3286080"/>
            <a:ext cx="243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45"/>
          <p:cNvSpPr/>
          <p:nvPr/>
        </p:nvSpPr>
        <p:spPr>
          <a:xfrm>
            <a:off x="3860640" y="266688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78680" y="1125360"/>
            <a:ext cx="458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结核菌素试验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择卡介苗接种对象和测定接种后的免疫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未接种卡介苗的人群中作结核杆菌感染的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行病学调查，了解人群自然感染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婴幼儿（未接种过卡介苗者）结核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辅助诊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测定肿瘤患者的细胞免疫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200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本：根据感染部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片镜检：抗酸染色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离培养： 罗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速诊断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C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聚合酶链反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1197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四）微生物学检查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6040" y="1268280"/>
            <a:ext cx="29052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预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接种卡介苗（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BCG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接种对象为新生儿及结核菌素试验阴性者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早期发现和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联合用药，彻底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首选药为异烟肼、利福平、链霉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4936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五）防治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00000" y="5157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耐药病例发生较高的地区，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月强化期需加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种药，链霉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或乙胺丁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812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55720" y="3357720"/>
            <a:ext cx="5047920" cy="1333800"/>
            <a:chOff x="1755720" y="3357720"/>
            <a:chExt cx="5047920" cy="1333800"/>
          </a:xfrm>
        </p:grpSpPr>
        <p:sp>
          <p:nvSpPr>
            <p:cNvPr id="218" name=""/>
            <p:cNvSpPr/>
            <p:nvPr/>
          </p:nvSpPr>
          <p:spPr>
            <a:xfrm>
              <a:off x="1755720" y="37702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国内外推行三药联合方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5640" y="3357720"/>
              <a:ext cx="12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异烟肼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6000" y="3860640"/>
              <a:ext cx="12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利福平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7480" y="429264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吡嗪酰胺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0400" y="3429000"/>
              <a:ext cx="146880" cy="115200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9880 h 1152000"/>
                <a:gd name="textAreaBottom" fmla="*/ 112212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2080" y="3429000"/>
              <a:ext cx="74160" cy="1223640"/>
            </a:xfrm>
            <a:custGeom>
              <a:avLst/>
              <a:gdLst>
                <a:gd name="textAreaLeft" fmla="*/ 0 w 74160"/>
                <a:gd name="textAreaRight" fmla="*/ 26640 w 7416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6240" y="3860640"/>
              <a:ext cx="70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主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631880" y="1484280"/>
            <a:ext cx="6175800" cy="1663920"/>
            <a:chOff x="1631880" y="1484280"/>
            <a:chExt cx="6175800" cy="1663920"/>
          </a:xfrm>
        </p:grpSpPr>
        <p:sp>
          <p:nvSpPr>
            <p:cNvPr id="226" name=""/>
            <p:cNvSpPr/>
            <p:nvPr/>
          </p:nvSpPr>
          <p:spPr>
            <a:xfrm>
              <a:off x="1631880" y="2347920"/>
              <a:ext cx="200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DOTS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方案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31400" y="277992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WHO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建议推广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6600" y="19162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直接督导下的短程化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5000" y="1484280"/>
              <a:ext cx="163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督导员在场目睹其服用规定药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98760" y="15559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医务人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1040" y="2563920"/>
              <a:ext cx="17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社区志愿者或家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7800" y="2563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疗程可缩短至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6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个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1640" y="1700280"/>
              <a:ext cx="149400" cy="122400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5840" y="1629000"/>
              <a:ext cx="225000" cy="1296720"/>
            </a:xfrm>
            <a:custGeom>
              <a:avLst/>
              <a:gdLst>
                <a:gd name="textAreaLeft" fmla="*/ 0 w 225000"/>
                <a:gd name="textAreaRight" fmla="*/ 81360 w 22500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732720" y="4292640"/>
            <a:ext cx="2160360" cy="2232000"/>
          </a:xfrm>
          <a:prstGeom prst="cloudCallout">
            <a:avLst>
              <a:gd name="adj1" fmla="val -39787"/>
              <a:gd name="adj2" fmla="val -67356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中国疾病控制中心报告，全国的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DOTS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策略覆盖率达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100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，治愈率为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91.6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52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2340000" y="2060640"/>
            <a:ext cx="5113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分枝杆菌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83664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一节  呼吸道感染细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447920"/>
            <a:ext cx="882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98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700280"/>
            <a:ext cx="80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枝杆菌属是一类细长略弯的杆菌，因有分枝生长的趋势而得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本属细菌主要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菌体含脂量高、普通染色法不易着色，加热着色后能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抵抗盐酸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醇的脱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故又名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抗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专性需氧，营养要求高，生长缓慢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无鞭毛、 无荚膜、 无芽胞、 也不产生内外毒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19280" y="4508640"/>
            <a:ext cx="4536720" cy="1799640"/>
            <a:chOff x="1619280" y="4508640"/>
            <a:chExt cx="4536720" cy="1799640"/>
          </a:xfrm>
        </p:grpSpPr>
        <p:sp>
          <p:nvSpPr>
            <p:cNvPr id="78" name=""/>
            <p:cNvSpPr/>
            <p:nvPr/>
          </p:nvSpPr>
          <p:spPr>
            <a:xfrm>
              <a:off x="1619280" y="5013360"/>
              <a:ext cx="7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分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69320" y="4508640"/>
              <a:ext cx="20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0360" y="4797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麻风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54720" y="4653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致病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6600" y="5589360"/>
              <a:ext cx="204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非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2800" y="4581360"/>
              <a:ext cx="73800" cy="1223640"/>
            </a:xfrm>
            <a:custGeom>
              <a:avLst/>
              <a:gdLst>
                <a:gd name="textAreaLeft" fmla="*/ 47160 w 73800"/>
                <a:gd name="textAreaRight" fmla="*/ 74160 w 738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4320" y="4508640"/>
              <a:ext cx="73800" cy="649080"/>
            </a:xfrm>
            <a:custGeom>
              <a:avLst/>
              <a:gdLst>
                <a:gd name="textAreaLeft" fmla="*/ 0 w 73800"/>
                <a:gd name="textAreaRight" fmla="*/ 26640 w 7380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9160" y="5084640"/>
              <a:ext cx="15368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样病变皮肤丘疹 溃疡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淋巴结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2280" y="5229000"/>
              <a:ext cx="146880" cy="107928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17002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：简称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病原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32000" y="2565360"/>
            <a:ext cx="5110200" cy="874440"/>
            <a:chOff x="1332000" y="2565360"/>
            <a:chExt cx="5110200" cy="874440"/>
          </a:xfrm>
        </p:grpSpPr>
        <p:sp>
          <p:nvSpPr>
            <p:cNvPr id="89" name=""/>
            <p:cNvSpPr/>
            <p:nvPr/>
          </p:nvSpPr>
          <p:spPr>
            <a:xfrm>
              <a:off x="1332000" y="27921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4360" y="2566800"/>
              <a:ext cx="1727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人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牛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720" y="2647800"/>
              <a:ext cx="71640" cy="792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3080" y="2565360"/>
              <a:ext cx="73080" cy="81252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20880 h 812520"/>
                <a:gd name="textAreaBottom" fmla="*/ 791640 h 81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720" y="2639880"/>
              <a:ext cx="251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可以侵犯全身各器官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肺结核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最多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3919800">
            <a:off x="6300360" y="3789360"/>
            <a:ext cx="1584360" cy="1295640"/>
          </a:xfrm>
          <a:prstGeom prst="cloudCallout">
            <a:avLst>
              <a:gd name="adj1" fmla="val -82365"/>
              <a:gd name="adj2" fmla="val 6997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曾居各种病死原因之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39956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836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、结核分枝杆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. tuberculosis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924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菌体细长微弯曲， 常聚集成团。抗酸染色法染成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红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492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378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罗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培养基培养。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pH6.5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～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种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周后形成乳白色、粗糙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似菜花样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869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于细胞壁中含大量类脂，故对理化因素的抗力强。抗结核药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链霉素、异烟肼、利福平、乙胺丁醇、卡那霉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敏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抵抗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87700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易产生毒力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CG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及耐药性变异。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变异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225360"/>
            <a:ext cx="9936360" cy="745632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结核杆菌"/>
          <p:cNvPicPr/>
          <p:nvPr/>
        </p:nvPicPr>
        <p:blipFill>
          <a:blip r:embed="rId1"/>
          <a:stretch/>
        </p:blipFill>
        <p:spPr>
          <a:xfrm>
            <a:off x="1187280" y="1484280"/>
            <a:ext cx="4104000" cy="319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结核杆菌菌落-罗氏培养基"/>
          <p:cNvPicPr/>
          <p:nvPr/>
        </p:nvPicPr>
        <p:blipFill>
          <a:blip r:embed="rId2"/>
          <a:stretch/>
        </p:blipFill>
        <p:spPr>
          <a:xfrm>
            <a:off x="4788000" y="2781360"/>
            <a:ext cx="3889440" cy="3198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4941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 抗酸染色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0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3" h="21600">
                <a:moveTo>
                  <a:pt x="18905" y="10800"/>
                </a:moveTo>
                <a:lnTo>
                  <a:pt x="32918" y="3794"/>
                </a:lnTo>
                <a:lnTo>
                  <a:pt x="3291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52472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3457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二）致病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02920" y="1773360"/>
            <a:ext cx="8028000" cy="4359600"/>
            <a:chOff x="1402920" y="1773360"/>
            <a:chExt cx="8028000" cy="4359600"/>
          </a:xfrm>
        </p:grpSpPr>
        <p:sp>
          <p:nvSpPr>
            <p:cNvPr id="121" name=""/>
            <p:cNvSpPr/>
            <p:nvPr/>
          </p:nvSpPr>
          <p:spPr>
            <a:xfrm flipH="1">
              <a:off x="1402560" y="2781360"/>
              <a:ext cx="6073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致病物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40200" y="299700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脂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81840" y="177336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荚膜：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抗吞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4840" y="2260440"/>
              <a:ext cx="218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磷脂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使单核细胞增生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结核结节、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9560" y="2692440"/>
              <a:ext cx="344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索状因子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破坏细胞线粒体膜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影响细胞呼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白细胞游走，形成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肉芽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18840" y="3411360"/>
              <a:ext cx="343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迟发型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1240" y="3933720"/>
              <a:ext cx="6259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硫酸脑苷酯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吞噬细胞中吞噬体与溶酶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结合，溶酶体中的杀菌物质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能不能进入吞噬体，致使结核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菌在吞噬细胞内生长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胞内寄生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21120" y="5373720"/>
              <a:ext cx="38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蛋白质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结核菌素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迟发型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9520" y="1989000"/>
              <a:ext cx="220320" cy="3671640"/>
            </a:xfrm>
            <a:custGeom>
              <a:avLst/>
              <a:gdLst>
                <a:gd name="textAreaLeft" fmla="*/ 140760 w 220320"/>
                <a:gd name="textAreaRight" fmla="*/ 220680 w 220320"/>
                <a:gd name="textAreaTop" fmla="*/ 95760 h 3671640"/>
                <a:gd name="textAreaBottom" fmla="*/ 3575880 h 36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3280" y="2421000"/>
              <a:ext cx="295560" cy="1728360"/>
            </a:xfrm>
            <a:custGeom>
              <a:avLst/>
              <a:gdLst>
                <a:gd name="textAreaLeft" fmla="*/ 189000 w 295560"/>
                <a:gd name="textAreaRight" fmla="*/ 295920 w 295560"/>
                <a:gd name="textAreaTop" fmla="*/ 45000 h 1728360"/>
                <a:gd name="textAreaBottom" fmla="*/ 1683360 h 172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3280" y="5734080"/>
              <a:ext cx="16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本身无毒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437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肤黏膜损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侵犯多种器官，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结核为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608360" cy="28080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971640" y="112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580536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93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染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病人、带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8720" y="37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播途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1T01:02:01Z</dcterms:created>
  <dc:creator>a</dc:creator>
  <dc:description/>
  <dc:language>en-US</dc:language>
  <cp:lastModifiedBy>微软用户</cp:lastModifiedBy>
  <dcterms:modified xsi:type="dcterms:W3CDTF">2014-04-17T16:32:45Z</dcterms:modified>
  <cp:revision>37</cp:revision>
  <dc:subject/>
  <dc:title>PowerPoint 演示文稿</dc:title>
</cp:coreProperties>
</file>