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612-8352-4EEB-B82D-F7F12B6A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30D-48D5-4D45-9D45-85D7089F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D1C-D3A3-4303-8A6E-48795562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BC9-0307-43FE-90B5-708B193B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7CA8-A04F-4BD5-8E15-8EC641C2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5B07-0D4F-4AF3-A705-C6786893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4494-956F-45B8-B100-740F62CB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A2D1-5528-4CFC-A68B-7EC93CD8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D549-F4AE-4C20-9850-F6D7DD32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B5A8-D642-4499-8DD6-B3F5D1D1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1846-5C38-469B-9B49-F1943550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B4B-1D9A-4C1F-AB8D-2AF90DD7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724B-45AE-44DF-8110-4223F05D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3864-690D-4FE4-B40B-7C032554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3850-50AF-4773-A697-DE28E56A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8284-4146-4245-A1B2-954E7B22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A71A-1264-48C9-9345-12527E3B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503A-9560-4066-8C63-7D1B668F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632-3649-4B4E-8827-A3F7F175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C30-2FA1-496D-9DE1-F6D13524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AE8-3C5D-45A6-B17C-A41E4599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F8E-8D1C-4E61-B1FE-F3EC9949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9EC-E11B-44B5-90C4-5FC99347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AC9-EC47-4545-B241-51734099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14C8-F5D0-4C44-B821-5D7B8DAAAB3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28CA-A9D0-4784-A8F5-315A7F0A83C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71800" y="480060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114800"/>
            <a:ext cx="4572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335268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259092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52280"/>
            <a:ext cx="8839080" cy="228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十四章 </a:t>
            </a:r>
            <a:br>
              <a:rPr sz="6000"/>
            </a:b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人体寄生虫学概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7840" y="2658960"/>
            <a:ext cx="5386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解释寄生关系、寄生虫、机会致病性寄生虫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宿主、中间宿主、终宿主、保虫宿主、转续宿主、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活史、感染阶段、非消除性免疫的概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说出寄生虫对人体的损害以及人体对寄生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的免疫特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知道寄生虫病流行的环节、特点和防治原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以及其实验诊断方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寄生虫病的流行状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的感染虫种和人数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食源性寄生虫病的发病率升高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会致病性寄生虫病的发病人数增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与行为方式有关的寄生虫感染普遍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重要寄生虫病的疫情还不稳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三、寄生虫病的防治原则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2988000"/>
            <a:ext cx="723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控制传染源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切断传播途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保护易感人群  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疫情监测、个人防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病原检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血液、组织液、排泄物或活组织检出寄生虫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免疫学诊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诊断早期、轻度、深部、单性寄生的寄生虫感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四节  寄生虫病的实验诊断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寄生虫感染途径与方式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途径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、食物、土壤、空气、中间宿主、昆虫媒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方式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感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感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接触感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媒介节肢动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经输血、胎盘、呼吸、乳汁及自身感染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控制传染源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17528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  <a:ea typeface="楷体_GB2312"/>
              </a:rPr>
              <a:t>普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666880"/>
            <a:ext cx="4572000" cy="838440"/>
          </a:xfrm>
          <a:prstGeom prst="roundRect">
            <a:avLst>
              <a:gd name="adj" fmla="val 22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治疗患者、带虫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886200"/>
            <a:ext cx="5715000" cy="762120"/>
          </a:xfrm>
          <a:prstGeom prst="roundRect">
            <a:avLst>
              <a:gd name="adj" fmla="val 22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治疗家畜和捕杀野生动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切断传播途径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加强粪便和水源管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注意环境和个人卫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防制媒介节肢动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控制中间宿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027160"/>
            <a:ext cx="7772400" cy="39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及其分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概念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营寄生生活的低等小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类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体外寄生虫与体内寄生虫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专性寄生虫与兼性寄生虫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机会致病性寄生虫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6094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 寄生虫与宿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宿主及其种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概念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关系中被寄生虫寄生并受害的生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类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终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中间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保虫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转续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 寄生虫与宿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396252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前三种宿主为正常宿主，转续宿主为非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常宿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三、寄生虫的生活史与感染阶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史：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完成一代生长发育繁殖的全过程及其所需要的外界环境条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感染阶段：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生活史中具有感染人体能力的发育阶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寄生虫与宿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对宿主的损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夺取营养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的共性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械性损伤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压迫、损伤、梗阻等多种形式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毒害作用与免疫病理损伤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由分泌物、排泄物等    所致，为寄生虫最严重的致病作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宿主对寄生虫的免疫作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有免疫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非特异性免疫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适应性免疫（特异性免疫）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消除性免疫    少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非消除性免疫  多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寄生虫与宿主相互作用的结果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被彻底清除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带虫感染：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为寄生虫病重要的传染源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病的流行环节与特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病的流行环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传染源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虫者、保虫宿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传播途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易感人群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病的流行特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地方性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生虫病在某一地区持续或经常发生的情况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季节性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寄生虫病的发病率与季节变换相关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人兽共患性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些寄生虫病可以在人和动物之间自然地传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5345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7:44:0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