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141B-A2F6-4190-88BB-D8590ACD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63C1-044B-47C2-B0D1-35EB1144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E613-74FB-4018-AA60-B303CC7C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9E3A-225A-476C-9781-2EF04D6A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D230-FBCD-4B30-9A40-FED6027B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C30B2-5615-432B-8108-6A9A9E6EC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D900F-F59F-4D03-B083-C0CB007A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BF8EB-44E1-442E-964E-069D3E2D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9F6D5-8B95-4879-AC42-00750736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08294-6AAF-4A4C-A88A-EA7EAA15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F4C5-50BB-4E18-A0C2-2F2736A0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DD0A1-B2CB-4AEC-A208-45E130C4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7B1B3-5BC8-4448-A8DD-60ACD875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CD1C3-E213-4726-A054-F6F874A5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D3DF5-7EE2-4A32-9A38-481666EA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83E2B-DF3D-477D-9DF9-A7ABC999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706FD-D245-4AE8-BFAE-E37ABF49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2215E-D98E-423B-8D62-F55C9C4B17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CD1A-76D4-40AD-9379-C5B352A2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93B8-A476-483A-B0E8-6822751A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9768-5739-4009-8A45-6D0A27A0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76BF-4CBB-4E1F-AA1A-185092F2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25C3-C152-4F88-8C49-1664768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18BE-4EC5-41A5-AC06-898ADA3C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57C3-C7BE-479D-8D7F-573E7F25998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601956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dddddd">
                  <a:alpha val="48235"/>
                </a:srgbClr>
              </a:gs>
              <a:gs pos="100000">
                <a:srgbClr val="ffffff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3851280" y="3500280"/>
            <a:ext cx="1582560" cy="1582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24b98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628D-D3C4-441C-971E-11532D24EA0D}" type="slidenum">
              <a:rPr b="0" lang="zh-CN" sz="1000" spc="-1" strike="noStrike">
                <a:solidFill>
                  <a:srgbClr val="124b9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5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505320" y="685800"/>
            <a:ext cx="54115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4b98"/>
                </a:solidFill>
                <a:latin typeface="Arial"/>
                <a:ea typeface="宋体"/>
              </a:rPr>
              <a:t>病原生物学与免疫学</a:t>
            </a:r>
            <a:endParaRPr b="0" lang="en-US" sz="4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主    编  陆予云  汪晓静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副主编  孙庶强  李    睿  郝   燕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编    委  曹美香  李旭文  李福玲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梅    蕾   魏桂芬 万巧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杨冬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北京大学医学出版社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70800" y="2133720"/>
            <a:ext cx="453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微生物的分布及与人类的关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医学微生物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经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实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现代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28600" y="1639800"/>
            <a:ext cx="89154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人体寄生虫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人体寄生虫学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人体寄生虫学是研究人体寄生虫的形态结构、生长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繁殖规律、致病机制、实验诊断、流行规律和防治原则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科学。人体寄生虫包括医学原虫、医学蠕虫和医学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肢动物三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蠕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原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节肢动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（二）人体寄生虫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学习目标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解释免疫的概念与功能；解释微生物、病原微生物、寄生虫的概念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说出免疫的类型；说出微生物、寄生虫的分类及其类型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知道免疫学、医学微生物学与人体寄生虫学的发展与现状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57150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495080" y="1676520"/>
            <a:ext cx="6201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免疫的概念与功能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免疫的概念  免疫是机体免疫系统识别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自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非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性异物，并通过免疫应答排除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性异物，以维持机体生理功能平衡与稳定的功能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免疫的功能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防御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稳定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监视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5920" y="1793880"/>
            <a:ext cx="95842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124b98"/>
                </a:solidFill>
                <a:latin typeface="Arial"/>
                <a:ea typeface="宋体"/>
              </a:rPr>
              <a:t>免疫的功能及其表现</a:t>
            </a:r>
            <a:endParaRPr b="0" lang="en-US" sz="32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功能     正常表现（有利）         异常表现 （有害）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------------------------------------------------------------------------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防御     抵抗病原生物入侵        过高：超敏反应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过低：免疫缺陷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稳定     清除衰老、损伤细胞    自身免疫病              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监视     清除突变细胞               恶性肿瘤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_________________________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23680" y="1828800"/>
            <a:ext cx="60332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免疫的类型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固有免疫  又称非特异性免疫或先天性免疫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是人类在长期的种系发生和进化过程中与微生物接触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逐渐建立起来的防御功能。特点：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生来就有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可以遗传，相对稳定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无特异性，对各种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异物可迅速应答，产生非特异性的抗感染免疫作用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1828800"/>
            <a:ext cx="177260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适应性免疫 又称特异性免疫或获得性免疫。是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指人出生后，在后天生活过程中与抗原性物质接触后产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的免疫。特点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是机体后天生活过程中受抗原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质刺激产生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作用特异性，即只对刺激产生该免疫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物质发生作用。适应性免疫是在固有免疫的基础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上建交起来的，主要通过抗体和效应淋巴细胞而发挥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液免疫和细胞免疫作用（见第四章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应答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。</a:t>
            </a:r>
            <a:r>
              <a:rPr b="0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5"/>
          <p:cNvSpPr/>
          <p:nvPr/>
        </p:nvSpPr>
        <p:spPr>
          <a:xfrm>
            <a:off x="7391520" y="6553080"/>
            <a:ext cx="1523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2209680"/>
            <a:ext cx="89154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免疫学的发展史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经验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科学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现代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至今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5"/>
          <p:cNvSpPr/>
          <p:nvPr/>
        </p:nvSpPr>
        <p:spPr>
          <a:xfrm>
            <a:off x="7315200" y="6477120"/>
            <a:ext cx="1523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027880" y="1981080"/>
            <a:ext cx="551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医学微生物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微生物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微生物是一群个体微小、结构简单，肉眼不能直接见到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必须借助光学或电子显微镜放大几百倍、几千倍甚至几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万倍才能看到的微小生物。微生物具有种类多、分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广、繁殖快的特点，有的种类与人类关系密切。按其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构与组成不同，可将它们分为三型八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640160" y="1752480"/>
            <a:ext cx="602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非细胞型微生物 无典型的细胞结构，仅由核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和蛋白质外壳组成，是最小的一类微生物，能通过滤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器。核心中只有单一的核酸（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或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R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，缺乏酶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统，只能在活细胞内增殖。病毒为其代表，另外，近年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发现的结构中没有核酸只有蛋白质的朊粒也归为此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原核细胞型微生物 细胞的分化程度较低，仅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原始核质，无核仁和核膜，胞质内细胞器不完整。包括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细菌、支原体、衣原体、放线菌、立克次体和螺旋体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真核细胞型微生物 细胞核分化程度较高，有核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膜、核仁和染色体，胞质内细胞器完整，真菌属此类微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物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cp:keywords/>
  <dc:language>en-US</dc:language>
  <cp:lastModifiedBy>USER</cp:lastModifiedBy>
  <cp:lastPrinted>1899-12-30T00:00:00Z</cp:lastPrinted>
  <dcterms:modified xsi:type="dcterms:W3CDTF">2014-04-16T06:42:00Z</dcterms:modified>
  <cp:revision>8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